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C522-77AC-46EC-9079-E7EBD4C1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F8E9-865B-45E6-86EB-A52B2A26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691-F4DC-4E1D-9A4D-9BBE4C30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00BE-7344-4BAC-92A9-23080BEA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3408-D591-40B2-8788-39D3650F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507-2D24-4A08-9472-24D0FAA9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7A4B-8A1D-4156-A75A-EC559CA8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AB2-B733-4670-8D9D-F905741E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7437-5B9C-4AD4-B129-1A4F5244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FE04-7AA4-419E-BC1B-4AF7AE8A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EDA1-5C67-4A40-BDD7-C14C93FE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44EA-B0B1-4FCE-8005-6296DEE0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E0DD-90B8-4C83-99F5-7C2CB9706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2285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uantum Certificate Complexit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 Berke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761760" y="914400"/>
            <a:ext cx="6858360" cy="1523880"/>
            <a:chOff x="761760" y="914400"/>
            <a:chExt cx="6858360" cy="1523880"/>
          </a:xfrm>
        </p:grpSpPr>
        <p:sp>
          <p:nvSpPr>
            <p:cNvPr id="84" name=""/>
            <p:cNvSpPr/>
            <p:nvPr/>
          </p:nvSpPr>
          <p:spPr>
            <a:xfrm>
              <a:off x="4038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761760" y="1447920"/>
              <a:ext cx="3429360" cy="990360"/>
              <a:chOff x="761760" y="1447920"/>
              <a:chExt cx="3429360" cy="990360"/>
            </a:xfrm>
          </p:grpSpPr>
          <p:sp>
            <p:nvSpPr>
              <p:cNvPr id="86" name=""/>
              <p:cNvSpPr/>
              <p:nvPr/>
            </p:nvSpPr>
            <p:spPr>
              <a:xfrm flipH="1">
                <a:off x="761760" y="1447920"/>
                <a:ext cx="3429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1067040" y="1447920"/>
                <a:ext cx="312408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1371600" y="1447920"/>
                <a:ext cx="281916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1676160" y="1447920"/>
                <a:ext cx="2514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1905120" y="1447920"/>
                <a:ext cx="2286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2133360" y="1447920"/>
                <a:ext cx="2057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362320" y="1447920"/>
                <a:ext cx="1828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590560" y="1447920"/>
                <a:ext cx="1600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2819520" y="1447920"/>
                <a:ext cx="1371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3047760" y="1447920"/>
                <a:ext cx="1143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3276720" y="1447920"/>
                <a:ext cx="914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3504960" y="1447920"/>
                <a:ext cx="685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3733920" y="1447920"/>
                <a:ext cx="457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3962160" y="1447920"/>
                <a:ext cx="228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 flipH="1">
              <a:off x="4191120" y="1447920"/>
              <a:ext cx="14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190760" y="1447920"/>
              <a:ext cx="3429360" cy="990360"/>
              <a:chOff x="4190760" y="1447920"/>
              <a:chExt cx="3429360" cy="990360"/>
            </a:xfrm>
          </p:grpSpPr>
          <p:sp>
            <p:nvSpPr>
              <p:cNvPr id="102" name=""/>
              <p:cNvSpPr/>
              <p:nvPr/>
            </p:nvSpPr>
            <p:spPr>
              <a:xfrm>
                <a:off x="4191120" y="1447920"/>
                <a:ext cx="3429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190760" y="1447920"/>
                <a:ext cx="312408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91120" y="1447920"/>
                <a:ext cx="281916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91120" y="1447920"/>
                <a:ext cx="2514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90760" y="1447920"/>
                <a:ext cx="2286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191120" y="1447920"/>
                <a:ext cx="2057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90760" y="1447920"/>
                <a:ext cx="1828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191120" y="1447920"/>
                <a:ext cx="1600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190760" y="1447920"/>
                <a:ext cx="1371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91120" y="1447920"/>
                <a:ext cx="1143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190760" y="1447920"/>
                <a:ext cx="914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91120" y="1447920"/>
                <a:ext cx="685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190760" y="1447920"/>
                <a:ext cx="457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91120" y="1447920"/>
                <a:ext cx="228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" name=""/>
          <p:cNvSpPr/>
          <p:nvPr/>
        </p:nvSpPr>
        <p:spPr>
          <a:xfrm flipH="1">
            <a:off x="1828440" y="4038480"/>
            <a:ext cx="60948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8240" y="2286000"/>
            <a:ext cx="6858360" cy="1523880"/>
            <a:chOff x="228240" y="2286000"/>
            <a:chExt cx="6858360" cy="1523880"/>
          </a:xfrm>
        </p:grpSpPr>
        <p:sp>
          <p:nvSpPr>
            <p:cNvPr id="118" name=""/>
            <p:cNvSpPr/>
            <p:nvPr/>
          </p:nvSpPr>
          <p:spPr>
            <a:xfrm>
              <a:off x="3504960" y="22860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28240" y="2819520"/>
              <a:ext cx="3429360" cy="990360"/>
              <a:chOff x="228240" y="2819520"/>
              <a:chExt cx="3429360" cy="990360"/>
            </a:xfrm>
          </p:grpSpPr>
          <p:sp>
            <p:nvSpPr>
              <p:cNvPr id="120" name=""/>
              <p:cNvSpPr/>
              <p:nvPr/>
            </p:nvSpPr>
            <p:spPr>
              <a:xfrm flipH="1">
                <a:off x="228240" y="2819520"/>
                <a:ext cx="3429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33520" y="2819520"/>
                <a:ext cx="312408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838080" y="2819520"/>
                <a:ext cx="281916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1142640" y="2819520"/>
                <a:ext cx="2514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1371600" y="2819520"/>
                <a:ext cx="2286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1599840" y="2819520"/>
                <a:ext cx="2057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1828800" y="2819520"/>
                <a:ext cx="1828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2057040" y="2819520"/>
                <a:ext cx="1600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2286000" y="2819520"/>
                <a:ext cx="1371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2514240" y="2819520"/>
                <a:ext cx="1143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2743200" y="2819520"/>
                <a:ext cx="914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2971440" y="2819520"/>
                <a:ext cx="685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3200400" y="2819520"/>
                <a:ext cx="457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3428640" y="2819520"/>
                <a:ext cx="228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>
              <a:off x="3657600" y="2819520"/>
              <a:ext cx="14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3657240" y="2819520"/>
              <a:ext cx="3429360" cy="990360"/>
              <a:chOff x="3657240" y="2819520"/>
              <a:chExt cx="3429360" cy="990360"/>
            </a:xfrm>
          </p:grpSpPr>
          <p:sp>
            <p:nvSpPr>
              <p:cNvPr id="136" name=""/>
              <p:cNvSpPr/>
              <p:nvPr/>
            </p:nvSpPr>
            <p:spPr>
              <a:xfrm>
                <a:off x="3657600" y="2819520"/>
                <a:ext cx="3429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657240" y="2819520"/>
                <a:ext cx="312408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657600" y="2819520"/>
                <a:ext cx="281916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657600" y="2819520"/>
                <a:ext cx="2514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657240" y="2819520"/>
                <a:ext cx="2286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57600" y="2819520"/>
                <a:ext cx="2057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657240" y="2819520"/>
                <a:ext cx="1828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657600" y="2819520"/>
                <a:ext cx="1600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657240" y="2819520"/>
                <a:ext cx="1371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657600" y="2819520"/>
                <a:ext cx="1143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657240" y="2819520"/>
                <a:ext cx="914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657600" y="2819520"/>
                <a:ext cx="685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657240" y="2819520"/>
                <a:ext cx="457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657600" y="2819520"/>
                <a:ext cx="228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3657600" y="4191120"/>
            <a:ext cx="5181480" cy="2514600"/>
            <a:chOff x="3657600" y="4191120"/>
            <a:chExt cx="5181480" cy="2514600"/>
          </a:xfrm>
        </p:grpSpPr>
        <p:graphicFrame>
          <p:nvGraphicFramePr>
            <p:cNvPr id="151" name=""/>
            <p:cNvGraphicFramePr/>
            <p:nvPr/>
          </p:nvGraphicFramePr>
          <p:xfrm>
            <a:off x="3657600" y="4191120"/>
            <a:ext cx="5105520" cy="24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57600" y="4191120"/>
                      <a:ext cx="5105520" cy="24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8305920" y="4495680"/>
              <a:ext cx="533160" cy="221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Example where C(f) =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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(QC(f)</a:t>
            </a:r>
            <a:r>
              <a:rPr b="1" lang="en-US" sz="4000" spc="-1" strike="noStrike" baseline="30000">
                <a:solidFill>
                  <a:srgbClr val="3333cc"/>
                </a:solidFill>
                <a:latin typeface="Arial"/>
              </a:rPr>
              <a:t>2.205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New Quantum/Classical Relation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857240" y="2149560"/>
          <a:ext cx="6066000" cy="17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149560"/>
                    <a:ext cx="606600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533520" y="1676520"/>
            <a:ext cx="8076960" cy="49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total f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ndeg(f) = min degree of poly p s.t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(X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(X)=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Previou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f) = O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de Wolf)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f) = O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Beals et al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228600"/>
            <a:ext cx="8534520" cy="66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Idea (follows Buhrman-de Wolf)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t p be s.t. p(X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f(X)=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Maxonomial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p are monomials not dominated by other monomials—i.e. maxonomials of 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re 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2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Nisan-Smolensky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For every 0-input X and maxonomial M of p, X has a sensitive block whose variables are all in 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Consequenc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Randomized 0-certificate must intersect each maxonomial w.p.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½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Randomized algorith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Keep querying a randomized 0-certificate, until either one no longer exists or p=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" y="152280"/>
            <a:ext cx="8686800" cy="72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Lemma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(ndeg(f) log n) iterations suffice w.h.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Proof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Let S be current set of monomials, a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ially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S)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ndeg(f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ndeg(f)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’re done when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S)=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8000"/>
                </a:solidFill>
                <a:latin typeface="Arial"/>
              </a:rPr>
              <a:t>Clai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Each iteration decreases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S) by expected amoun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S)/4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8000"/>
                </a:solidFill>
                <a:latin typeface="Arial"/>
              </a:rPr>
              <a:t>Reason: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1/e of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concentrated on maxonomials,  each of which decreases in degree w.p.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½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362320" y="1600200"/>
          <a:ext cx="396216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00200"/>
                    <a:ext cx="39621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ocal Proof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aced with a hard problem, analyze limitations of known techniques (Baker-Gill-Solovay, Razborov-Rudi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laim that a ‘yes’ answer would requi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global analysis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oolean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lattice of bits X, let f(X)=1 if there’s a square ‘frame’ of size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(X)=0 otherw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371600" y="2133720"/>
          <a:ext cx="3352680" cy="79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133720"/>
                    <a:ext cx="33526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066680" y="4800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50292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5257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54864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57150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5943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61722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6400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4800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50292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52578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54864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57150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5943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61722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6400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4800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50292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5257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54864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57150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5943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61722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3880" y="6400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4800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50292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5257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54864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57150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5943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61722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6400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50292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52578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54864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81080" y="57150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5943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81080" y="61722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6400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4800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50292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257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09680" y="54864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57150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5943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09680" y="61722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6400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38280" y="4800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8280" y="50292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5257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38280" y="54864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38280" y="57150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38280" y="5943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38280" y="61722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38280" y="6400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66880" y="4800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66880" y="50292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5257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66880" y="54864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57150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66880" y="5943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61722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6400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505320" y="4876920"/>
          <a:ext cx="3124080" cy="148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4876920"/>
                    <a:ext cx="3124080" cy="14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pen Problem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 we ge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752480" y="1828800"/>
          <a:ext cx="43624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828800"/>
                    <a:ext cx="43624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1752480" y="12952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752480" y="2971800"/>
          <a:ext cx="400860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2971800"/>
                    <a:ext cx="40086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114800" y="4114800"/>
          <a:ext cx="3794040" cy="184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4114800"/>
                    <a:ext cx="3794040" cy="18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04920"/>
            <a:ext cx="9144000" cy="72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0-1-N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C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#L - #L/poly - #P - #W[t] - +EXP - +L - +L/poly - +P - +SA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A</a:t>
            </a:r>
            <a:r>
              <a:rPr b="0" lang="en-US" sz="1500" spc="-1" strike="noStrike" baseline="-25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PP - AC - A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A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[m] - AC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AH - AL – AlgP/poly - AM - AM intersect coAM - AmpMP - AP - AP - APP - APP - APX - AVBPP - AvE - AvP - AW[P] - AWPP - AW[SAT] - AW[*] - AW[t] - βP - BH - BPE - BPEE - B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H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SPACE(f(n)) - BPL - BPP</a:t>
            </a:r>
            <a:r>
              <a:rPr b="0" lang="en-US" sz="1500" spc="-1" strike="noStrike" baseline="30000">
                <a:solidFill>
                  <a:srgbClr val="99ff33"/>
                </a:solidFill>
                <a:latin typeface="Times New Roman"/>
              </a:rPr>
              <a:t>KT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BPP-OBDD - BPP</a:t>
            </a:r>
            <a:r>
              <a:rPr b="0" lang="en-US" sz="1500" spc="-1" strike="noStrike" baseline="-25000">
                <a:solidFill>
                  <a:srgbClr val="99ff33"/>
                </a:solidFill>
                <a:latin typeface="Times New Roman"/>
              </a:rPr>
              <a:t>path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BPQP - BPSPACE(f(n)) - BPTIME(f(n)) - BQNC - BQNP - BQP-OBDD - BQP/log - BQP/qlog - BQTIME(f(n)) - k-BWBP - C=L - C=P - CFL - CLOG - CH - Check - 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P - CNP - coAM - coC=P - cofrIP - Coh - coMA - coMod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P - compIP - compNP -coNE - coNEXP - coNL - coNP - coNP/poly - coRE - coRNC - coRP - coUCC - CP - CSIZE(f(n)) - CSL - CZK - D#P - Δ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P - δ-BPP - δ-RP - DET - DisNP - DistNP - DP - DSPACE(f(n)) - DTIME(f(n)) - Dyn-FO - Dyn-ThC</a:t>
            </a:r>
            <a:r>
              <a:rPr b="0" lang="en-US" sz="1500" spc="-1" strike="noStrike" baseline="-25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E - EE - EEE - EESPACE - EEXP - EH - ELEMENTARY - EL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P - EPTAS - k-EQBP - EQP - EQTIME(f(n)) - ESPACE - EXP - EXP/poly - EXPSPACE - Few - FewP - FNL - FNL/poly - FNP - FO(t(n)) - FOLL – FP</a:t>
            </a:r>
            <a:r>
              <a:rPr b="0" lang="en-US" sz="1500" spc="-1" strike="noStrike" baseline="30000">
                <a:solidFill>
                  <a:srgbClr val="99ff33"/>
                </a:solidFill>
                <a:latin typeface="Times New Roman"/>
              </a:rPr>
              <a:t>NP[log]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FPR - FPRAS - FPT - FPT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nu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FPT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su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FPTAS - FQMA - frIP - F-TAPE(f(n)) - F-TIME(f(n)) - GapL - GapP - GC(s(n),C) - GPCD(r(n),q(n)) - G[t] - H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P - HVSZK - IC[log,poly] - IP - L - LIN - L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P - LOGCFL - LogFew - LogFewNL - LOGNP - LOGSNP - L/poly - LWPP - MA - MA’ - MA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MA-E - MA-EXP - mAL - MaxNP - MaxPB - MaxSNP - MaxSN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mcoNL - MinPB - MIP - MI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EXP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(M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)P - mL - mN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mNL - mNP - Mod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L - Mod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P - ModP - ModZ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L - mP - MP - MPC - mP/poly - mT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NC - N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N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N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NE - NEE - NEEE - NEEXP - NEXP - NIQSZK - NISZK - NISZK</a:t>
            </a:r>
            <a:r>
              <a:rPr b="0" lang="en-US" sz="1500" spc="-1" strike="noStrike" baseline="-25000">
                <a:solidFill>
                  <a:srgbClr val="99ff33"/>
                </a:solidFill>
                <a:latin typeface="Times New Roman"/>
              </a:rPr>
              <a:t>h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NL - NLIN - NLOG - NL/poly - NPC - N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C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NPI - NP intersect coNP - (NP intersect coNP)/poly - NPMV - NPMV-sel - NPMV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NPMV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-sel - NPO - NPOPB - NP/poly - (NP,P-samplable) - N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R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NPSPACE - NPSV - NPSV-sel - NPSV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NPSV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-sel - NQP - NSPACE(f(n)) - NT - NTIME(f(n)) - OCQ - OptP - P</a:t>
            </a:r>
            <a:r>
              <a:rPr b="0" lang="en-US" sz="1500" spc="-1" strike="noStrike" baseline="30000">
                <a:solidFill>
                  <a:srgbClr val="99ff33"/>
                </a:solidFill>
                <a:latin typeface="Times New Roman"/>
              </a:rPr>
              <a:t>#P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P</a:t>
            </a:r>
            <a:r>
              <a:rPr b="0" lang="en-US" sz="1500" spc="-1" strike="noStrike" baseline="30000">
                <a:solidFill>
                  <a:srgbClr val="99ff33"/>
                </a:solidFill>
                <a:latin typeface="Times New Roman"/>
              </a:rPr>
              <a:t>#P[1]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PBP - k-PBP - 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C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PCD(r(n),q(n)) - P-close - PCP(r(n),q(n)) - PEXP - PF - PFCHK(t(n)) - Φ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P - PhP - Π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P - P</a:t>
            </a:r>
            <a:r>
              <a:rPr b="0" lang="en-US" sz="1500" spc="-1" strike="noStrike" baseline="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PKC - PL - PL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PL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infinity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PLF - PLL - P/log - P</a:t>
            </a:r>
            <a:r>
              <a:rPr b="0" lang="en-US" sz="1500" spc="-1" strike="noStrike" baseline="30000">
                <a:solidFill>
                  <a:srgbClr val="99ff33"/>
                </a:solidFill>
                <a:latin typeface="Times New Roman"/>
              </a:rPr>
              <a:t>NP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P</a:t>
            </a:r>
            <a:r>
              <a:rPr b="0" lang="en-US" sz="1500" spc="-1" strike="noStrike" baseline="30000">
                <a:solidFill>
                  <a:srgbClr val="99ff33"/>
                </a:solidFill>
                <a:latin typeface="Times New Roman"/>
              </a:rPr>
              <a:t>NP[k]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P</a:t>
            </a:r>
            <a:r>
              <a:rPr b="0" lang="en-US" sz="1500" spc="-1" strike="noStrike" baseline="30000">
                <a:solidFill>
                  <a:srgbClr val="99ff33"/>
                </a:solidFill>
                <a:latin typeface="Times New Roman"/>
              </a:rPr>
              <a:t>NP[log]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P-OBDD - PODN - polyL - PP - PPA - PPAD - PPADS - P/poly - P</a:t>
            </a:r>
            <a:r>
              <a:rPr b="0" lang="en-US" sz="1500" spc="-1" strike="noStrike" baseline="30000">
                <a:solidFill>
                  <a:srgbClr val="99ff33"/>
                </a:solidFill>
                <a:latin typeface="Times New Roman"/>
              </a:rPr>
              <a:t>PP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PQUERY - PR - 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R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Pr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H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SPACE(f(n)) - PromiseBPP - PromiseBQP - PromiseP - PromiseRP - PrSPACE(f(n)) - P-Sel - PSK - PT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PTAPE - PTAS - PT/WK(f(n),g(n)) - PZK - QA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QA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[m] - QAC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QAM - QCFL - QH - QIP - QIP(2) - QMA+ - QMA(2) - QMA</a:t>
            </a:r>
            <a:r>
              <a:rPr b="0" lang="en-US" sz="1500" spc="-1" strike="noStrike" baseline="-25000">
                <a:solidFill>
                  <a:srgbClr val="99ff33"/>
                </a:solidFill>
                <a:latin typeface="Times New Roman"/>
              </a:rPr>
              <a:t>log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QMAM - QMIP - QMI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le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QMI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ne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QN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QN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f</a:t>
            </a:r>
            <a:r>
              <a:rPr b="0" lang="en-US" sz="1500" spc="-1" strike="noStrike" baseline="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QN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QP - QPSPACE - QSZK - R - RE - REG - RevSPACE(f(n)) - R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H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L - RL - RNC - RPP - RSPACE(f(n)) - S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P - SAC - SA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SA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SBP - SC - SEH - SF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Σ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P - SKC - SL - SLICEWISE PSPACE - SNP - SO-E - SP - span-P - SPARSE - SPL - SPP - SUBEXP - symP - SZK - SZK</a:t>
            </a:r>
            <a:r>
              <a:rPr b="0" lang="en-US" sz="1500" spc="-1" strike="noStrike" baseline="-25000">
                <a:solidFill>
                  <a:srgbClr val="99ff33"/>
                </a:solidFill>
                <a:latin typeface="Times New Roman"/>
              </a:rPr>
              <a:t>h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TALLY - T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Θ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P - TREE-REGULAR - UCC - UL - UL/poly - UP - US - VN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VN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V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VQ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W[1] - WAPP - W[P] - WPP - W[SAT] - W[*] - W[t] - W</a:t>
            </a:r>
            <a:r>
              <a:rPr b="0" lang="en-US" sz="1500" spc="-1" strike="noStrike" baseline="30000">
                <a:solidFill>
                  <a:srgbClr val="99ff33"/>
                </a:solidFill>
                <a:latin typeface="Times New Roman"/>
              </a:rPr>
              <a:t>*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[t] - XP - X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uniform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YACC - ZPE - ZP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129528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Arial"/>
              </a:rPr>
              <a:t>SHAMELESS PLUG</a:t>
            </a:r>
            <a:endParaRPr b="1" lang="en-US" sz="5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9873200">
            <a:off x="-302400" y="3187440"/>
            <a:ext cx="9704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http://www.cs.berkeley.edu/~aaronson/zoo.htm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verview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what’s known about quantum computing can be cast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ery complex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pite its simplicity, open problems a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ake progress on some of these by studying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ndomized certificate complex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C(f)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antum certificate complex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C(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results I’ll discuss tod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ne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g quantum lower bound methods (adversary method and polynomial meth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8120" y="4648320"/>
          <a:ext cx="3625920" cy="78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" y="4648320"/>
                    <a:ext cx="362592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038480" y="4648320"/>
          <a:ext cx="4865760" cy="78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4648320"/>
                    <a:ext cx="486576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447920"/>
            <a:ext cx="7696080" cy="56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:{0,1}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{0,1} is a total Boolean fun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(f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deterministic query complexity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zero-error randomized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bounded-error randomized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939"/>
              </a:spcBef>
              <a:buClr>
                <a:srgbClr val="000000"/>
              </a:buClr>
              <a:buFont typeface="Symbol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bounded-error quantum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zero-error quantum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exact quantum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ackgroun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895480" y="1600200"/>
          <a:ext cx="3316320" cy="7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600200"/>
                    <a:ext cx="331632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38080" y="2438280"/>
          <a:ext cx="3276720" cy="25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438280"/>
                    <a:ext cx="327672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952880" y="2563920"/>
          <a:ext cx="3276720" cy="234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2563920"/>
                    <a:ext cx="327672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28600"/>
            <a:ext cx="8229600" cy="64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Certificate Complex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 = min # of queries needed to distinguish X from every Y s.t. f(Y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Block Sensitiv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 = max # of disjoint blocks B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 s.t. flipping B changes f(X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Example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f=MAJ(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 letting X=11110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11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111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MAJ)=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MAJ)=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838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(f) and bs(f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5029200"/>
            <a:ext cx="914400" cy="609480"/>
          </a:xfrm>
          <a:prstGeom prst="flowChartAlternateProcess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5029200"/>
            <a:ext cx="533520" cy="609480"/>
          </a:xfrm>
          <a:prstGeom prst="flowChartAlternateProcess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5029200"/>
            <a:ext cx="533520" cy="609480"/>
          </a:xfrm>
          <a:prstGeom prst="flowChartAlternateProcess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191120" y="152280"/>
          <a:ext cx="3352680" cy="7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52280"/>
                    <a:ext cx="335268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352680" y="1676520"/>
          <a:ext cx="3484800" cy="7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676520"/>
                    <a:ext cx="348480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304920"/>
            <a:ext cx="8915400" cy="64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Randomized Certificate Complexit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f) = min # of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randomize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queries needed to distinguish X from any Y s.t. f(Y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(X) with ½ prob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Quantum Certificate Complexit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QC(f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Arial"/>
              </a:rPr>
              <a:t>Example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For f=MAJ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, letting X=00…0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MAJ) =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Arial"/>
              </a:rPr>
              <a:t>Observations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ything a prover might provide a verifier besides X, the verifier can compute for itself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-sided and two-sided error are equival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Arial"/>
              </a:rPr>
              <a:t>Different notions of nondeterministic quantum query complexity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Watrous 2000, de Wolf 200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838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C(f) and QC(f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715000" y="228600"/>
          <a:ext cx="32767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28600"/>
                    <a:ext cx="32767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1828800"/>
            <a:ext cx="83059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distributions over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0),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s.t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ks “locally similar” to every 1-input,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ks “locally similar” to every 0-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mbainis’ Adversary Method</a:t>
            </a:r>
            <a:br>
              <a:rPr sz="4000"/>
            </a:b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(special case)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3352680"/>
          <a:ext cx="5943600" cy="28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5943600" cy="28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533520"/>
            <a:ext cx="7924680" cy="52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Claim: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randomized certificate for input X can be mad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onadaptiv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constant blowu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minimax theorem, exists distribution over {Y:f(Y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} s.t. for all i,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.p. O(1/RC(f)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ersary method then yield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upper bound, use “weighted Grover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362320" y="457200"/>
          <a:ext cx="411480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4114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6095880" y="4114800"/>
          <a:ext cx="2362320" cy="90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4114800"/>
                    <a:ext cx="23623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21:35:12Z</dcterms:created>
  <dc:creator>Avaya User</dc:creator>
  <dc:description/>
  <dc:language>en-US</dc:language>
  <cp:lastModifiedBy>Avaya User</cp:lastModifiedBy>
  <dcterms:modified xsi:type="dcterms:W3CDTF">2003-07-08T14:13:11Z</dcterms:modified>
  <cp:revision>8</cp:revision>
  <dc:subject/>
  <dc:title>Quantum Certificate Complexity</dc:title>
</cp:coreProperties>
</file>