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DDA6-0DB6-4EF6-977E-A61595AA1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4E1B-586B-4D97-96F9-600C9ADBB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C215-0B97-44AA-977B-76F3C9F9D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133A-609F-4635-ABEE-629D12483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B402-5759-4621-BE02-EFBD03D5D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6F5C-DA20-4431-A34E-01A448079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FE3A-7551-449A-AB73-DD9982095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F146-9FFA-438E-A958-6A804226D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D572-9314-4920-BABD-693E2C6CD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8604-5CC0-4C8C-9897-A12638A2C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19ED-5F5A-4967-B99D-20E61E7CB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4A46-069E-4398-A45C-9CE5B19E9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BBAF3-93EB-458C-BBC3-AED4E633B4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22856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Quantum Certificate Complexity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tt Aaron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C Berke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761760" y="914400"/>
            <a:ext cx="6858360" cy="1523880"/>
            <a:chOff x="761760" y="914400"/>
            <a:chExt cx="6858360" cy="1523880"/>
          </a:xfrm>
        </p:grpSpPr>
        <p:sp>
          <p:nvSpPr>
            <p:cNvPr id="84" name=""/>
            <p:cNvSpPr/>
            <p:nvPr/>
          </p:nvSpPr>
          <p:spPr>
            <a:xfrm>
              <a:off x="4038480" y="9144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80"/>
                  </a:solidFill>
                  <a:latin typeface="Arial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761760" y="1447920"/>
              <a:ext cx="3429360" cy="990360"/>
              <a:chOff x="761760" y="1447920"/>
              <a:chExt cx="3429360" cy="990360"/>
            </a:xfrm>
          </p:grpSpPr>
          <p:sp>
            <p:nvSpPr>
              <p:cNvPr id="86" name=""/>
              <p:cNvSpPr/>
              <p:nvPr/>
            </p:nvSpPr>
            <p:spPr>
              <a:xfrm flipH="1">
                <a:off x="761760" y="1447920"/>
                <a:ext cx="34290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>
                <a:off x="1067040" y="1447920"/>
                <a:ext cx="312408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H="1">
                <a:off x="1371600" y="1447920"/>
                <a:ext cx="281916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H="1">
                <a:off x="1676160" y="1447920"/>
                <a:ext cx="25146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1905120" y="1447920"/>
                <a:ext cx="22860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>
                <a:off x="2133360" y="1447920"/>
                <a:ext cx="20574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>
                <a:off x="2362320" y="1447920"/>
                <a:ext cx="18288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>
                <a:off x="2590560" y="1447920"/>
                <a:ext cx="16002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>
                <a:off x="2819520" y="1447920"/>
                <a:ext cx="13716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H="1">
                <a:off x="3047760" y="1447920"/>
                <a:ext cx="11430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H="1">
                <a:off x="3276720" y="1447920"/>
                <a:ext cx="9144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3504960" y="1447920"/>
                <a:ext cx="6858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>
                <a:off x="3733920" y="1447920"/>
                <a:ext cx="4572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>
                <a:off x="3962160" y="1447920"/>
                <a:ext cx="2286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 flipH="1">
              <a:off x="4191120" y="1447920"/>
              <a:ext cx="144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4190760" y="1447920"/>
              <a:ext cx="3429360" cy="990360"/>
              <a:chOff x="4190760" y="1447920"/>
              <a:chExt cx="3429360" cy="990360"/>
            </a:xfrm>
          </p:grpSpPr>
          <p:sp>
            <p:nvSpPr>
              <p:cNvPr id="102" name=""/>
              <p:cNvSpPr/>
              <p:nvPr/>
            </p:nvSpPr>
            <p:spPr>
              <a:xfrm>
                <a:off x="4191120" y="1447920"/>
                <a:ext cx="34290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190760" y="1447920"/>
                <a:ext cx="312408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191120" y="1447920"/>
                <a:ext cx="281916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191120" y="1447920"/>
                <a:ext cx="25146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190760" y="1447920"/>
                <a:ext cx="22860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191120" y="1447920"/>
                <a:ext cx="20574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190760" y="1447920"/>
                <a:ext cx="18288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191120" y="1447920"/>
                <a:ext cx="16002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190760" y="1447920"/>
                <a:ext cx="13716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191120" y="1447920"/>
                <a:ext cx="11430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190760" y="1447920"/>
                <a:ext cx="9144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191120" y="1447920"/>
                <a:ext cx="6858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190760" y="1447920"/>
                <a:ext cx="4572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191120" y="1447920"/>
                <a:ext cx="2286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6" name=""/>
          <p:cNvSpPr/>
          <p:nvPr/>
        </p:nvSpPr>
        <p:spPr>
          <a:xfrm flipH="1">
            <a:off x="1828440" y="4038480"/>
            <a:ext cx="609480" cy="83844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28240" y="2286000"/>
            <a:ext cx="6858360" cy="1523880"/>
            <a:chOff x="228240" y="2286000"/>
            <a:chExt cx="6858360" cy="1523880"/>
          </a:xfrm>
        </p:grpSpPr>
        <p:sp>
          <p:nvSpPr>
            <p:cNvPr id="118" name=""/>
            <p:cNvSpPr/>
            <p:nvPr/>
          </p:nvSpPr>
          <p:spPr>
            <a:xfrm>
              <a:off x="3504960" y="22860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80"/>
                  </a:solidFill>
                  <a:latin typeface="Arial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228240" y="2819520"/>
              <a:ext cx="3429360" cy="990360"/>
              <a:chOff x="228240" y="2819520"/>
              <a:chExt cx="3429360" cy="990360"/>
            </a:xfrm>
          </p:grpSpPr>
          <p:sp>
            <p:nvSpPr>
              <p:cNvPr id="120" name=""/>
              <p:cNvSpPr/>
              <p:nvPr/>
            </p:nvSpPr>
            <p:spPr>
              <a:xfrm flipH="1">
                <a:off x="228240" y="2819520"/>
                <a:ext cx="34290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>
                <a:off x="533520" y="2819520"/>
                <a:ext cx="312408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>
                <a:off x="838080" y="2819520"/>
                <a:ext cx="281916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1142640" y="2819520"/>
                <a:ext cx="25146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1371600" y="2819520"/>
                <a:ext cx="22860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1599840" y="2819520"/>
                <a:ext cx="20574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>
                <a:off x="1828800" y="2819520"/>
                <a:ext cx="18288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2057040" y="2819520"/>
                <a:ext cx="16002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2286000" y="2819520"/>
                <a:ext cx="13716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2514240" y="2819520"/>
                <a:ext cx="11430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>
                <a:off x="2743200" y="2819520"/>
                <a:ext cx="9144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2971440" y="2819520"/>
                <a:ext cx="6858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>
                <a:off x="3200400" y="2819520"/>
                <a:ext cx="4572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>
                <a:off x="3428640" y="2819520"/>
                <a:ext cx="2286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 flipH="1">
              <a:off x="3657600" y="2819520"/>
              <a:ext cx="144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3657240" y="2819520"/>
              <a:ext cx="3429360" cy="990360"/>
              <a:chOff x="3657240" y="2819520"/>
              <a:chExt cx="3429360" cy="990360"/>
            </a:xfrm>
          </p:grpSpPr>
          <p:sp>
            <p:nvSpPr>
              <p:cNvPr id="136" name=""/>
              <p:cNvSpPr/>
              <p:nvPr/>
            </p:nvSpPr>
            <p:spPr>
              <a:xfrm>
                <a:off x="3657600" y="2819520"/>
                <a:ext cx="34290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657240" y="2819520"/>
                <a:ext cx="312408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657600" y="2819520"/>
                <a:ext cx="281916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657600" y="2819520"/>
                <a:ext cx="25146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657240" y="2819520"/>
                <a:ext cx="22860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657600" y="2819520"/>
                <a:ext cx="20574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657240" y="2819520"/>
                <a:ext cx="18288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657600" y="2819520"/>
                <a:ext cx="16002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657240" y="2819520"/>
                <a:ext cx="13716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657600" y="2819520"/>
                <a:ext cx="11430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657240" y="2819520"/>
                <a:ext cx="9144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657600" y="2819520"/>
                <a:ext cx="6858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657240" y="2819520"/>
                <a:ext cx="4572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657600" y="2819520"/>
                <a:ext cx="2286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0" name=""/>
          <p:cNvGrpSpPr/>
          <p:nvPr/>
        </p:nvGrpSpPr>
        <p:grpSpPr>
          <a:xfrm>
            <a:off x="3657600" y="4191120"/>
            <a:ext cx="5181480" cy="2514600"/>
            <a:chOff x="3657600" y="4191120"/>
            <a:chExt cx="5181480" cy="2514600"/>
          </a:xfrm>
        </p:grpSpPr>
        <p:graphicFrame>
          <p:nvGraphicFramePr>
            <p:cNvPr id="151" name=""/>
            <p:cNvGraphicFramePr/>
            <p:nvPr/>
          </p:nvGraphicFramePr>
          <p:xfrm>
            <a:off x="3657600" y="4191120"/>
            <a:ext cx="5105520" cy="2452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657600" y="4191120"/>
                      <a:ext cx="5105520" cy="24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3" name=""/>
            <p:cNvSpPr/>
            <p:nvPr/>
          </p:nvSpPr>
          <p:spPr>
            <a:xfrm>
              <a:off x="8305920" y="4495680"/>
              <a:ext cx="533160" cy="221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Example where C(f) = </a:t>
            </a: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</a:t>
            </a: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(QC(f)</a:t>
            </a:r>
            <a:r>
              <a:rPr b="1" lang="en-US" sz="4000" spc="-1" strike="noStrike" baseline="30000">
                <a:solidFill>
                  <a:srgbClr val="3333cc"/>
                </a:solidFill>
                <a:latin typeface="Arial"/>
              </a:rPr>
              <a:t>2.205</a:t>
            </a: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)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New Quantum/Classical Relation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857240" y="2149560"/>
          <a:ext cx="6066000" cy="17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7240" y="2149560"/>
                    <a:ext cx="6066000" cy="17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533520" y="1676520"/>
            <a:ext cx="8076960" cy="49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total f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re ndeg(f) = min degree of poly p s.t.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(X)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(X)=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Previou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(f) = O(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(de Wolf)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(f) = O(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(Beals et al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28600" y="228600"/>
            <a:ext cx="8534520" cy="66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Idea (follows Buhrman-de Wolf)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3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et p be s.t. p(X)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f(X)=1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3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Maxonomial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of p are monomials not dominated by other monomials—i.e. maxonomials of x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– x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+ 2x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are x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, 2x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3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3300"/>
                </a:solidFill>
                <a:latin typeface="Arial"/>
              </a:rPr>
              <a:t>Nisan-Smolensky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For every 0-input X and maxonomial M of p, X has a sensitive block whose variables are all in M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3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3300"/>
                </a:solidFill>
                <a:latin typeface="Arial"/>
              </a:rPr>
              <a:t>Consequence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Randomized 0-certificate must intersect each maxonomial w.p.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½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3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3300"/>
                </a:solidFill>
                <a:latin typeface="Arial"/>
              </a:rPr>
              <a:t>Randomized algorithm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Keep querying a randomized 0-certificate, until either one no longer exists or p=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28600" y="152280"/>
            <a:ext cx="8686800" cy="72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3300"/>
                </a:solidFill>
                <a:latin typeface="Arial"/>
              </a:rPr>
              <a:t>Lemma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O(ndeg(f) log n) iterations suffice w.h.p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3300"/>
                </a:solidFill>
                <a:latin typeface="Arial"/>
              </a:rPr>
              <a:t>Proof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Let S be current set of monomials, an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ially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S)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</a:rPr>
              <a:t>ndeg(f)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ndeg(f)!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e’re done when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S)=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8000"/>
                </a:solidFill>
                <a:latin typeface="Arial"/>
              </a:rPr>
              <a:t>Claim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Each iteration decreases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S) by expected amount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S)/4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8000"/>
                </a:solidFill>
                <a:latin typeface="Arial"/>
              </a:rPr>
              <a:t>Reason: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1/e of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concentrated on maxonomials,  each of which decreases in degree w.p.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½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362320" y="1600200"/>
          <a:ext cx="3962160" cy="103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600200"/>
                    <a:ext cx="396216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Local Proof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faced with a hard problem, analyze limitations of known techniques (Baker-Gill-Solovay, Razborov-Rudi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claim that a ‘yes’ answer would requi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“global analysis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Boolean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lattice of bits X, let f(X)=1 if there’s a square ‘frame’ of size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f(X)=0 otherw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371600" y="2133720"/>
          <a:ext cx="3352680" cy="79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133720"/>
                    <a:ext cx="335268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1066680" y="4800600"/>
            <a:ext cx="22860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66680" y="5029200"/>
            <a:ext cx="22860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5257800"/>
            <a:ext cx="22860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5486400"/>
            <a:ext cx="22860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66680" y="5715000"/>
            <a:ext cx="22860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66680" y="5943600"/>
            <a:ext cx="22860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066680" y="6172200"/>
            <a:ext cx="22860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6400800"/>
            <a:ext cx="22860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95280" y="4800600"/>
            <a:ext cx="22860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95280" y="502920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95280" y="525780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295280" y="548640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95280" y="571500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95280" y="5943600"/>
            <a:ext cx="22860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95280" y="6172200"/>
            <a:ext cx="22860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6400800"/>
            <a:ext cx="22860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23880" y="4800600"/>
            <a:ext cx="22860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523880" y="502920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523880" y="5257800"/>
            <a:ext cx="22860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23880" y="5486400"/>
            <a:ext cx="22860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523880" y="571500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23880" y="5943600"/>
            <a:ext cx="22860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23880" y="6172200"/>
            <a:ext cx="22860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23880" y="6400800"/>
            <a:ext cx="22860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752480" y="4800600"/>
            <a:ext cx="22860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752480" y="502920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752480" y="5257800"/>
            <a:ext cx="22860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5486400"/>
            <a:ext cx="22860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52480" y="571500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752480" y="5943600"/>
            <a:ext cx="22860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752480" y="6172200"/>
            <a:ext cx="22860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752480" y="6400800"/>
            <a:ext cx="22860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981080" y="4800600"/>
            <a:ext cx="22860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981080" y="502920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981080" y="525780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981080" y="548640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981080" y="571500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81080" y="5943600"/>
            <a:ext cx="22860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981080" y="6172200"/>
            <a:ext cx="22860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81080" y="6400800"/>
            <a:ext cx="22860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09680" y="4800600"/>
            <a:ext cx="22860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09680" y="5029200"/>
            <a:ext cx="22860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09680" y="5257800"/>
            <a:ext cx="22860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209680" y="5486400"/>
            <a:ext cx="22860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09680" y="5715000"/>
            <a:ext cx="22860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09680" y="5943600"/>
            <a:ext cx="22860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09680" y="6172200"/>
            <a:ext cx="22860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09680" y="6400800"/>
            <a:ext cx="22860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438280" y="4800600"/>
            <a:ext cx="22860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438280" y="5029200"/>
            <a:ext cx="22860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438280" y="5257800"/>
            <a:ext cx="22860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438280" y="5486400"/>
            <a:ext cx="22860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438280" y="5715000"/>
            <a:ext cx="22860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438280" y="5943600"/>
            <a:ext cx="22860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438280" y="6172200"/>
            <a:ext cx="22860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438280" y="6400800"/>
            <a:ext cx="22860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666880" y="4800600"/>
            <a:ext cx="22860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666880" y="5029200"/>
            <a:ext cx="22860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666880" y="5257800"/>
            <a:ext cx="22860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666880" y="5486400"/>
            <a:ext cx="22860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666880" y="5715000"/>
            <a:ext cx="22860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666880" y="5943600"/>
            <a:ext cx="22860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666880" y="6172200"/>
            <a:ext cx="22860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666880" y="6400800"/>
            <a:ext cx="22860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3505320" y="4876920"/>
          <a:ext cx="3124080" cy="148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4876920"/>
                    <a:ext cx="3124080" cy="148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Open Problem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so we ge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1752480" y="1828800"/>
          <a:ext cx="4362480" cy="92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828800"/>
                    <a:ext cx="436248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1752480" y="129528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752480" y="2971800"/>
          <a:ext cx="4008600" cy="92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2971800"/>
                    <a:ext cx="400860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4114800" y="4114800"/>
          <a:ext cx="3794040" cy="1844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14800" y="4114800"/>
                    <a:ext cx="3794040" cy="18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304920"/>
            <a:ext cx="9144000" cy="72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0-1-NP</a:t>
            </a:r>
            <a:r>
              <a:rPr b="0" lang="en-US" sz="1500" spc="-1" strike="noStrike" baseline="-30000">
                <a:solidFill>
                  <a:srgbClr val="99ff33"/>
                </a:solidFill>
                <a:latin typeface="Times New Roman"/>
              </a:rPr>
              <a:t>C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 - #L - #L/poly - #P - #W[t] - +EXP - +L - +L/poly - +P - +SAC</a:t>
            </a:r>
            <a:r>
              <a:rPr b="0" lang="en-US" sz="1500" spc="-1" strike="noStrike" baseline="-30000">
                <a:solidFill>
                  <a:srgbClr val="99ff33"/>
                </a:solidFill>
                <a:latin typeface="Times New Roman"/>
              </a:rPr>
              <a:t>1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 - A</a:t>
            </a:r>
            <a:r>
              <a:rPr b="0" lang="en-US" sz="1500" spc="-1" strike="noStrike" baseline="-25000">
                <a:solidFill>
                  <a:srgbClr val="99ff33"/>
                </a:solidFill>
                <a:latin typeface="Times New Roman"/>
              </a:rPr>
              <a:t>0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PP - AC - AC</a:t>
            </a:r>
            <a:r>
              <a:rPr b="0" lang="en-US" sz="1500" spc="-1" strike="noStrike" baseline="-30000">
                <a:solidFill>
                  <a:srgbClr val="99ff33"/>
                </a:solidFill>
                <a:latin typeface="Times New Roman"/>
              </a:rPr>
              <a:t>0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 - AC</a:t>
            </a:r>
            <a:r>
              <a:rPr b="0" lang="en-US" sz="1500" spc="-1" strike="noStrike" baseline="-30000">
                <a:solidFill>
                  <a:srgbClr val="99ff33"/>
                </a:solidFill>
                <a:latin typeface="Times New Roman"/>
              </a:rPr>
              <a:t>0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[m] - ACC</a:t>
            </a:r>
            <a:r>
              <a:rPr b="0" lang="en-US" sz="1500" spc="-1" strike="noStrike" baseline="-30000">
                <a:solidFill>
                  <a:srgbClr val="99ff33"/>
                </a:solidFill>
                <a:latin typeface="Times New Roman"/>
              </a:rPr>
              <a:t>0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 - AH - AL – AlgP/poly - AM - AM intersect coAM - AmpMP - AP - AP - APP - APP - APX - AVBPP - AvE - AvP - AW[P] - AWPP - AW[SAT] - AW[*] - AW[t] - βP - BH - BPE - BPEE - BP</a:t>
            </a:r>
            <a:r>
              <a:rPr b="0" lang="en-US" sz="1500" spc="-1" strike="noStrike" baseline="-30000">
                <a:solidFill>
                  <a:srgbClr val="99ff33"/>
                </a:solidFill>
                <a:latin typeface="Times New Roman"/>
              </a:rPr>
              <a:t>H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SPACE(f(n)) - BPL - BPP</a:t>
            </a:r>
            <a:r>
              <a:rPr b="0" lang="en-US" sz="1500" spc="-1" strike="noStrike" baseline="30000">
                <a:solidFill>
                  <a:srgbClr val="99ff33"/>
                </a:solidFill>
                <a:latin typeface="Times New Roman"/>
              </a:rPr>
              <a:t>KT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 - BPP-OBDD - BPP</a:t>
            </a:r>
            <a:r>
              <a:rPr b="0" lang="en-US" sz="1500" spc="-1" strike="noStrike" baseline="-25000">
                <a:solidFill>
                  <a:srgbClr val="99ff33"/>
                </a:solidFill>
                <a:latin typeface="Times New Roman"/>
              </a:rPr>
              <a:t>path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 - BPQP - BPSPACE(f(n)) - BPTIME(f(n)) - BQNC - BQNP - BQP-OBDD - BQP/log - BQP/qlog - BQTIME(f(n)) - k-BWBP - C=L - C=P - CFL - CLOG - CH - Check - C</a:t>
            </a:r>
            <a:r>
              <a:rPr b="0" lang="en-US" sz="1500" spc="-1" strike="noStrike" baseline="-30000">
                <a:solidFill>
                  <a:srgbClr val="99ff33"/>
                </a:solidFill>
                <a:latin typeface="Times New Roman"/>
              </a:rPr>
              <a:t>k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P - CNP - coAM - coC=P - cofrIP - Coh - coMA - coMod</a:t>
            </a:r>
            <a:r>
              <a:rPr b="0" lang="en-US" sz="1500" spc="-1" strike="noStrike" baseline="-30000">
                <a:solidFill>
                  <a:srgbClr val="99ff33"/>
                </a:solidFill>
                <a:latin typeface="Times New Roman"/>
              </a:rPr>
              <a:t>k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P - compIP - compNP -coNE - coNEXP - coNL - coNP - coNP/poly - coRE - coRNC - coRP - coUCC - CP - CSIZE(f(n)) - CSL - CZK - D#P - Δ</a:t>
            </a:r>
            <a:r>
              <a:rPr b="0" lang="en-US" sz="1500" spc="-1" strike="noStrike" baseline="-30000">
                <a:solidFill>
                  <a:srgbClr val="99ff33"/>
                </a:solidFill>
                <a:latin typeface="Times New Roman"/>
              </a:rPr>
              <a:t>2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P - δ-BPP - δ-RP - DET - DisNP - DistNP - DP - DSPACE(f(n)) - DTIME(f(n)) - Dyn-FO - Dyn-ThC</a:t>
            </a:r>
            <a:r>
              <a:rPr b="0" lang="en-US" sz="1500" spc="-1" strike="noStrike" baseline="-25000">
                <a:solidFill>
                  <a:srgbClr val="99ff33"/>
                </a:solidFill>
                <a:latin typeface="Times New Roman"/>
              </a:rPr>
              <a:t>0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 - E - EE - EEE - EESPACE - EEXP - EH - ELEMENTARY - EL</a:t>
            </a:r>
            <a:r>
              <a:rPr b="0" lang="en-US" sz="1500" spc="-1" strike="noStrike" baseline="-30000">
                <a:solidFill>
                  <a:srgbClr val="99ff33"/>
                </a:solidFill>
                <a:latin typeface="Times New Roman"/>
              </a:rPr>
              <a:t>k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P - EPTAS - k-EQBP - EQP - EQTIME(f(n)) - ESPACE - EXP - EXP/poly - EXPSPACE - Few - FewP - FNL - FNL/poly - FNP - FO(t(n)) - FOLL – FP</a:t>
            </a:r>
            <a:r>
              <a:rPr b="0" lang="en-US" sz="1500" spc="-1" strike="noStrike" baseline="30000">
                <a:solidFill>
                  <a:srgbClr val="99ff33"/>
                </a:solidFill>
                <a:latin typeface="Times New Roman"/>
              </a:rPr>
              <a:t>NP[log]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 - FPR - FPRAS - FPT - FPT</a:t>
            </a:r>
            <a:r>
              <a:rPr b="0" lang="en-US" sz="1500" spc="-1" strike="noStrike" baseline="-30000">
                <a:solidFill>
                  <a:srgbClr val="99ff33"/>
                </a:solidFill>
                <a:latin typeface="Times New Roman"/>
              </a:rPr>
              <a:t>nu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 - FPT</a:t>
            </a:r>
            <a:r>
              <a:rPr b="0" lang="en-US" sz="1500" spc="-1" strike="noStrike" baseline="-30000">
                <a:solidFill>
                  <a:srgbClr val="99ff33"/>
                </a:solidFill>
                <a:latin typeface="Times New Roman"/>
              </a:rPr>
              <a:t>su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 - FPTAS - FQMA - frIP - F-TAPE(f(n)) - F-TIME(f(n)) - GapL - GapP - GC(s(n),C) - GPCD(r(n),q(n)) - G[t] - H</a:t>
            </a:r>
            <a:r>
              <a:rPr b="0" lang="en-US" sz="1500" spc="-1" strike="noStrike" baseline="-30000">
                <a:solidFill>
                  <a:srgbClr val="99ff33"/>
                </a:solidFill>
                <a:latin typeface="Times New Roman"/>
              </a:rPr>
              <a:t>k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P - HVSZK - IC[log,poly] - IP - L - LIN - L</a:t>
            </a:r>
            <a:r>
              <a:rPr b="0" lang="en-US" sz="1500" spc="-1" strike="noStrike" baseline="-30000">
                <a:solidFill>
                  <a:srgbClr val="99ff33"/>
                </a:solidFill>
                <a:latin typeface="Times New Roman"/>
              </a:rPr>
              <a:t>k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P - LOGCFL - LogFew - LogFewNL - LOGNP - LOGSNP - L/poly - LWPP - MA - MA’ - MAC</a:t>
            </a:r>
            <a:r>
              <a:rPr b="0" lang="en-US" sz="1500" spc="-1" strike="noStrike" baseline="-30000">
                <a:solidFill>
                  <a:srgbClr val="99ff33"/>
                </a:solidFill>
                <a:latin typeface="Times New Roman"/>
              </a:rPr>
              <a:t>0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 - MA-E - MA-EXP - mAL - MaxNP - MaxPB - MaxSNP - MaxSNP</a:t>
            </a:r>
            <a:r>
              <a:rPr b="0" lang="en-US" sz="1500" spc="-1" strike="noStrike" baseline="-30000">
                <a:solidFill>
                  <a:srgbClr val="99ff33"/>
                </a:solidFill>
                <a:latin typeface="Times New Roman"/>
              </a:rPr>
              <a:t>0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 - mcoNL - MinPB - MIP - MIP</a:t>
            </a:r>
            <a:r>
              <a:rPr b="0" lang="en-US" sz="1500" spc="-1" strike="noStrike" baseline="-30000">
                <a:solidFill>
                  <a:srgbClr val="99ff33"/>
                </a:solidFill>
                <a:latin typeface="Times New Roman"/>
              </a:rPr>
              <a:t>EXP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 - (M</a:t>
            </a:r>
            <a:r>
              <a:rPr b="0" lang="en-US" sz="1500" spc="-1" strike="noStrike" baseline="-30000">
                <a:solidFill>
                  <a:srgbClr val="99ff33"/>
                </a:solidFill>
                <a:latin typeface="Times New Roman"/>
              </a:rPr>
              <a:t>k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)P - mL - mNC</a:t>
            </a:r>
            <a:r>
              <a:rPr b="0" lang="en-US" sz="1500" spc="-1" strike="noStrike" baseline="-30000">
                <a:solidFill>
                  <a:srgbClr val="99ff33"/>
                </a:solidFill>
                <a:latin typeface="Times New Roman"/>
              </a:rPr>
              <a:t>1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 - mNL - mNP - Mod</a:t>
            </a:r>
            <a:r>
              <a:rPr b="0" lang="en-US" sz="1500" spc="-1" strike="noStrike" baseline="-30000">
                <a:solidFill>
                  <a:srgbClr val="99ff33"/>
                </a:solidFill>
                <a:latin typeface="Times New Roman"/>
              </a:rPr>
              <a:t>k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L - Mod</a:t>
            </a:r>
            <a:r>
              <a:rPr b="0" lang="en-US" sz="1500" spc="-1" strike="noStrike" baseline="-30000">
                <a:solidFill>
                  <a:srgbClr val="99ff33"/>
                </a:solidFill>
                <a:latin typeface="Times New Roman"/>
              </a:rPr>
              <a:t>k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P - ModP - ModZ</a:t>
            </a:r>
            <a:r>
              <a:rPr b="0" lang="en-US" sz="1500" spc="-1" strike="noStrike" baseline="-30000">
                <a:solidFill>
                  <a:srgbClr val="99ff33"/>
                </a:solidFill>
                <a:latin typeface="Times New Roman"/>
              </a:rPr>
              <a:t>k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L - mP - MP - MPC - mP/poly - mTC</a:t>
            </a:r>
            <a:r>
              <a:rPr b="0" lang="en-US" sz="1500" spc="-1" strike="noStrike" baseline="-30000">
                <a:solidFill>
                  <a:srgbClr val="99ff33"/>
                </a:solidFill>
                <a:latin typeface="Times New Roman"/>
              </a:rPr>
              <a:t>0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 - NC - NC</a:t>
            </a:r>
            <a:r>
              <a:rPr b="0" lang="en-US" sz="1500" spc="-1" strike="noStrike" baseline="-30000">
                <a:solidFill>
                  <a:srgbClr val="99ff33"/>
                </a:solidFill>
                <a:latin typeface="Times New Roman"/>
              </a:rPr>
              <a:t>0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 - NC</a:t>
            </a:r>
            <a:r>
              <a:rPr b="0" lang="en-US" sz="1500" spc="-1" strike="noStrike" baseline="-30000">
                <a:solidFill>
                  <a:srgbClr val="99ff33"/>
                </a:solidFill>
                <a:latin typeface="Times New Roman"/>
              </a:rPr>
              <a:t>1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 - NC</a:t>
            </a:r>
            <a:r>
              <a:rPr b="0" lang="en-US" sz="1500" spc="-1" strike="noStrike" baseline="-30000">
                <a:solidFill>
                  <a:srgbClr val="99ff33"/>
                </a:solidFill>
                <a:latin typeface="Times New Roman"/>
              </a:rPr>
              <a:t>2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 - NE - NEE - NEEE - NEEXP - NEXP - NIQSZK - NISZK - NISZK</a:t>
            </a:r>
            <a:r>
              <a:rPr b="0" lang="en-US" sz="1500" spc="-1" strike="noStrike" baseline="-25000">
                <a:solidFill>
                  <a:srgbClr val="99ff33"/>
                </a:solidFill>
                <a:latin typeface="Times New Roman"/>
              </a:rPr>
              <a:t>h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 - NL - NLIN - NLOG - NL/poly - NPC - NP</a:t>
            </a:r>
            <a:r>
              <a:rPr b="0" lang="en-US" sz="1500" spc="-1" strike="noStrike" baseline="-30000">
                <a:solidFill>
                  <a:srgbClr val="99ff33"/>
                </a:solidFill>
                <a:latin typeface="Times New Roman"/>
              </a:rPr>
              <a:t>C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 - NPI - NP intersect coNP - (NP intersect coNP)/poly - NPMV - NPMV-sel - NPMV</a:t>
            </a:r>
            <a:r>
              <a:rPr b="0" lang="en-US" sz="1500" spc="-1" strike="noStrike" baseline="-30000">
                <a:solidFill>
                  <a:srgbClr val="99ff33"/>
                </a:solidFill>
                <a:latin typeface="Times New Roman"/>
              </a:rPr>
              <a:t>t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 - NPMV</a:t>
            </a:r>
            <a:r>
              <a:rPr b="0" lang="en-US" sz="1500" spc="-1" strike="noStrike" baseline="-30000">
                <a:solidFill>
                  <a:srgbClr val="99ff33"/>
                </a:solidFill>
                <a:latin typeface="Times New Roman"/>
              </a:rPr>
              <a:t>t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-sel - NPO - NPOPB - NP/poly - (NP,P-samplable) - NP</a:t>
            </a:r>
            <a:r>
              <a:rPr b="0" lang="en-US" sz="1500" spc="-1" strike="noStrike" baseline="-30000">
                <a:solidFill>
                  <a:srgbClr val="99ff33"/>
                </a:solidFill>
                <a:latin typeface="Times New Roman"/>
              </a:rPr>
              <a:t>R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 - NPSPACE - NPSV - NPSV-sel - NPSV</a:t>
            </a:r>
            <a:r>
              <a:rPr b="0" lang="en-US" sz="1500" spc="-1" strike="noStrike" baseline="-30000">
                <a:solidFill>
                  <a:srgbClr val="99ff33"/>
                </a:solidFill>
                <a:latin typeface="Times New Roman"/>
              </a:rPr>
              <a:t>t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 - NPSV</a:t>
            </a:r>
            <a:r>
              <a:rPr b="0" lang="en-US" sz="1500" spc="-1" strike="noStrike" baseline="-30000">
                <a:solidFill>
                  <a:srgbClr val="99ff33"/>
                </a:solidFill>
                <a:latin typeface="Times New Roman"/>
              </a:rPr>
              <a:t>t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-sel - NQP - NSPACE(f(n)) - NT - NTIME(f(n)) - OCQ - OptP - P</a:t>
            </a:r>
            <a:r>
              <a:rPr b="0" lang="en-US" sz="1500" spc="-1" strike="noStrike" baseline="30000">
                <a:solidFill>
                  <a:srgbClr val="99ff33"/>
                </a:solidFill>
                <a:latin typeface="Times New Roman"/>
              </a:rPr>
              <a:t>#P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 - P</a:t>
            </a:r>
            <a:r>
              <a:rPr b="0" lang="en-US" sz="1500" spc="-1" strike="noStrike" baseline="30000">
                <a:solidFill>
                  <a:srgbClr val="99ff33"/>
                </a:solidFill>
                <a:latin typeface="Times New Roman"/>
              </a:rPr>
              <a:t>#P[1]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 - PBP - k-PBP - P</a:t>
            </a:r>
            <a:r>
              <a:rPr b="0" lang="en-US" sz="1500" spc="-1" strike="noStrike" baseline="-30000">
                <a:solidFill>
                  <a:srgbClr val="99ff33"/>
                </a:solidFill>
                <a:latin typeface="Times New Roman"/>
              </a:rPr>
              <a:t>C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 - PCD(r(n),q(n)) - P-close - PCP(r(n),q(n)) - PEXP - PF - PFCHK(t(n)) - Φ</a:t>
            </a:r>
            <a:r>
              <a:rPr b="0" lang="en-US" sz="1500" spc="-1" strike="noStrike" baseline="-30000">
                <a:solidFill>
                  <a:srgbClr val="99ff33"/>
                </a:solidFill>
                <a:latin typeface="Times New Roman"/>
              </a:rPr>
              <a:t>2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P - PhP - Π</a:t>
            </a:r>
            <a:r>
              <a:rPr b="0" lang="en-US" sz="1500" spc="-1" strike="noStrike" baseline="-30000">
                <a:solidFill>
                  <a:srgbClr val="99ff33"/>
                </a:solidFill>
                <a:latin typeface="Times New Roman"/>
              </a:rPr>
              <a:t>2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P - P</a:t>
            </a:r>
            <a:r>
              <a:rPr b="0" lang="en-US" sz="1500" spc="-1" strike="noStrike" baseline="30000">
                <a:solidFill>
                  <a:srgbClr val="99ff33"/>
                </a:solidFill>
                <a:latin typeface="Times New Roman"/>
              </a:rPr>
              <a:t>K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 - PKC - PL - PL</a:t>
            </a:r>
            <a:r>
              <a:rPr b="0" lang="en-US" sz="1500" spc="-1" strike="noStrike" baseline="-30000">
                <a:solidFill>
                  <a:srgbClr val="99ff33"/>
                </a:solidFill>
                <a:latin typeface="Times New Roman"/>
              </a:rPr>
              <a:t>1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 - PL</a:t>
            </a:r>
            <a:r>
              <a:rPr b="0" lang="en-US" sz="1500" spc="-1" strike="noStrike" baseline="-30000">
                <a:solidFill>
                  <a:srgbClr val="99ff33"/>
                </a:solidFill>
                <a:latin typeface="Times New Roman"/>
              </a:rPr>
              <a:t>infinity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 - PLF - PLL - P/log - P</a:t>
            </a:r>
            <a:r>
              <a:rPr b="0" lang="en-US" sz="1500" spc="-1" strike="noStrike" baseline="30000">
                <a:solidFill>
                  <a:srgbClr val="99ff33"/>
                </a:solidFill>
                <a:latin typeface="Times New Roman"/>
              </a:rPr>
              <a:t>NP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 - P</a:t>
            </a:r>
            <a:r>
              <a:rPr b="0" lang="en-US" sz="1500" spc="-1" strike="noStrike" baseline="30000">
                <a:solidFill>
                  <a:srgbClr val="99ff33"/>
                </a:solidFill>
                <a:latin typeface="Times New Roman"/>
              </a:rPr>
              <a:t>NP[k]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 - P</a:t>
            </a:r>
            <a:r>
              <a:rPr b="0" lang="en-US" sz="1500" spc="-1" strike="noStrike" baseline="30000">
                <a:solidFill>
                  <a:srgbClr val="99ff33"/>
                </a:solidFill>
                <a:latin typeface="Times New Roman"/>
              </a:rPr>
              <a:t>NP[log]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 - P-OBDD - PODN - polyL - PP - PPA - PPAD - PPADS - P/poly - P</a:t>
            </a:r>
            <a:r>
              <a:rPr b="0" lang="en-US" sz="1500" spc="-1" strike="noStrike" baseline="30000">
                <a:solidFill>
                  <a:srgbClr val="99ff33"/>
                </a:solidFill>
                <a:latin typeface="Times New Roman"/>
              </a:rPr>
              <a:t>PP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 - PQUERY - PR - P</a:t>
            </a:r>
            <a:r>
              <a:rPr b="0" lang="en-US" sz="1500" spc="-1" strike="noStrike" baseline="-30000">
                <a:solidFill>
                  <a:srgbClr val="99ff33"/>
                </a:solidFill>
                <a:latin typeface="Times New Roman"/>
              </a:rPr>
              <a:t>R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 - Pr</a:t>
            </a:r>
            <a:r>
              <a:rPr b="0" lang="en-US" sz="1500" spc="-1" strike="noStrike" baseline="-30000">
                <a:solidFill>
                  <a:srgbClr val="99ff33"/>
                </a:solidFill>
                <a:latin typeface="Times New Roman"/>
              </a:rPr>
              <a:t>H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SPACE(f(n)) - PromiseBPP - PromiseBQP - PromiseP - PromiseRP - PrSPACE(f(n)) - P-Sel - PSK - PT</a:t>
            </a:r>
            <a:r>
              <a:rPr b="0" lang="en-US" sz="1500" spc="-1" strike="noStrike" baseline="-30000">
                <a:solidFill>
                  <a:srgbClr val="99ff33"/>
                </a:solidFill>
                <a:latin typeface="Times New Roman"/>
              </a:rPr>
              <a:t>1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 - PTAPE - PTAS - PT/WK(f(n),g(n)) - PZK - QAC</a:t>
            </a:r>
            <a:r>
              <a:rPr b="0" lang="en-US" sz="1500" spc="-1" strike="noStrike" baseline="-30000">
                <a:solidFill>
                  <a:srgbClr val="99ff33"/>
                </a:solidFill>
                <a:latin typeface="Times New Roman"/>
              </a:rPr>
              <a:t>0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 - QAC</a:t>
            </a:r>
            <a:r>
              <a:rPr b="0" lang="en-US" sz="1500" spc="-1" strike="noStrike" baseline="-30000">
                <a:solidFill>
                  <a:srgbClr val="99ff33"/>
                </a:solidFill>
                <a:latin typeface="Times New Roman"/>
              </a:rPr>
              <a:t>0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[m] - QACC</a:t>
            </a:r>
            <a:r>
              <a:rPr b="0" lang="en-US" sz="1500" spc="-1" strike="noStrike" baseline="-30000">
                <a:solidFill>
                  <a:srgbClr val="99ff33"/>
                </a:solidFill>
                <a:latin typeface="Times New Roman"/>
              </a:rPr>
              <a:t>0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 - QAM - QCFL - QH - QIP - QIP(2) - QMA+ - QMA(2) - QMA</a:t>
            </a:r>
            <a:r>
              <a:rPr b="0" lang="en-US" sz="1500" spc="-1" strike="noStrike" baseline="-25000">
                <a:solidFill>
                  <a:srgbClr val="99ff33"/>
                </a:solidFill>
                <a:latin typeface="Times New Roman"/>
              </a:rPr>
              <a:t>log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 - QMAM - QMIP - QMIP</a:t>
            </a:r>
            <a:r>
              <a:rPr b="0" lang="en-US" sz="1500" spc="-1" strike="noStrike" baseline="-30000">
                <a:solidFill>
                  <a:srgbClr val="99ff33"/>
                </a:solidFill>
                <a:latin typeface="Times New Roman"/>
              </a:rPr>
              <a:t>le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 - QMIP</a:t>
            </a:r>
            <a:r>
              <a:rPr b="0" lang="en-US" sz="1500" spc="-1" strike="noStrike" baseline="-30000">
                <a:solidFill>
                  <a:srgbClr val="99ff33"/>
                </a:solidFill>
                <a:latin typeface="Times New Roman"/>
              </a:rPr>
              <a:t>ne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 - QNC</a:t>
            </a:r>
            <a:r>
              <a:rPr b="0" lang="en-US" sz="1500" spc="-1" strike="noStrike" baseline="-30000">
                <a:solidFill>
                  <a:srgbClr val="99ff33"/>
                </a:solidFill>
                <a:latin typeface="Times New Roman"/>
              </a:rPr>
              <a:t>0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 - QNC</a:t>
            </a:r>
            <a:r>
              <a:rPr b="0" lang="en-US" sz="1500" spc="-1" strike="noStrike" baseline="-30000">
                <a:solidFill>
                  <a:srgbClr val="99ff33"/>
                </a:solidFill>
                <a:latin typeface="Times New Roman"/>
              </a:rPr>
              <a:t>f</a:t>
            </a:r>
            <a:r>
              <a:rPr b="0" lang="en-US" sz="1500" spc="-1" strike="noStrike" baseline="30000">
                <a:solidFill>
                  <a:srgbClr val="99ff33"/>
                </a:solidFill>
                <a:latin typeface="Times New Roman"/>
              </a:rPr>
              <a:t>0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 - QNC</a:t>
            </a:r>
            <a:r>
              <a:rPr b="0" lang="en-US" sz="1500" spc="-1" strike="noStrike" baseline="-30000">
                <a:solidFill>
                  <a:srgbClr val="99ff33"/>
                </a:solidFill>
                <a:latin typeface="Times New Roman"/>
              </a:rPr>
              <a:t>1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 - QP - QPSPACE - QSZK - R - RE - REG - RevSPACE(f(n)) - R</a:t>
            </a:r>
            <a:r>
              <a:rPr b="0" lang="en-US" sz="1500" spc="-1" strike="noStrike" baseline="-30000">
                <a:solidFill>
                  <a:srgbClr val="99ff33"/>
                </a:solidFill>
                <a:latin typeface="Times New Roman"/>
              </a:rPr>
              <a:t>H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L - RL - RNC - RPP - RSPACE(f(n)) - S</a:t>
            </a:r>
            <a:r>
              <a:rPr b="0" lang="en-US" sz="1500" spc="-1" strike="noStrike" baseline="-30000">
                <a:solidFill>
                  <a:srgbClr val="99ff33"/>
                </a:solidFill>
                <a:latin typeface="Times New Roman"/>
              </a:rPr>
              <a:t>2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P - SAC - SAC</a:t>
            </a:r>
            <a:r>
              <a:rPr b="0" lang="en-US" sz="1500" spc="-1" strike="noStrike" baseline="-30000">
                <a:solidFill>
                  <a:srgbClr val="99ff33"/>
                </a:solidFill>
                <a:latin typeface="Times New Roman"/>
              </a:rPr>
              <a:t>0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 - SAC</a:t>
            </a:r>
            <a:r>
              <a:rPr b="0" lang="en-US" sz="1500" spc="-1" strike="noStrike" baseline="-30000">
                <a:solidFill>
                  <a:srgbClr val="99ff33"/>
                </a:solidFill>
                <a:latin typeface="Times New Roman"/>
              </a:rPr>
              <a:t>1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 - SBP - SC - SEH - SF</a:t>
            </a:r>
            <a:r>
              <a:rPr b="0" lang="en-US" sz="1500" spc="-1" strike="noStrike" baseline="-30000">
                <a:solidFill>
                  <a:srgbClr val="99ff33"/>
                </a:solidFill>
                <a:latin typeface="Times New Roman"/>
              </a:rPr>
              <a:t>k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 - Σ</a:t>
            </a:r>
            <a:r>
              <a:rPr b="0" lang="en-US" sz="1500" spc="-1" strike="noStrike" baseline="-30000">
                <a:solidFill>
                  <a:srgbClr val="99ff33"/>
                </a:solidFill>
                <a:latin typeface="Times New Roman"/>
              </a:rPr>
              <a:t>2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P - SKC - SL - SLICEWISE PSPACE - SNP - SO-E - SP - span-P - SPARSE - SPL - SPP - SUBEXP - symP - SZK - SZK</a:t>
            </a:r>
            <a:r>
              <a:rPr b="0" lang="en-US" sz="1500" spc="-1" strike="noStrike" baseline="-25000">
                <a:solidFill>
                  <a:srgbClr val="99ff33"/>
                </a:solidFill>
                <a:latin typeface="Times New Roman"/>
              </a:rPr>
              <a:t>h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 - TALLY - TC</a:t>
            </a:r>
            <a:r>
              <a:rPr b="0" lang="en-US" sz="1500" spc="-1" strike="noStrike" baseline="-30000">
                <a:solidFill>
                  <a:srgbClr val="99ff33"/>
                </a:solidFill>
                <a:latin typeface="Times New Roman"/>
              </a:rPr>
              <a:t>0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 - Θ</a:t>
            </a:r>
            <a:r>
              <a:rPr b="0" lang="en-US" sz="1500" spc="-1" strike="noStrike" baseline="-30000">
                <a:solidFill>
                  <a:srgbClr val="99ff33"/>
                </a:solidFill>
                <a:latin typeface="Times New Roman"/>
              </a:rPr>
              <a:t>2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P - TREE-REGULAR - UCC - UL - UL/poly - UP - US - VNC</a:t>
            </a:r>
            <a:r>
              <a:rPr b="0" lang="en-US" sz="1500" spc="-1" strike="noStrike" baseline="-30000">
                <a:solidFill>
                  <a:srgbClr val="99ff33"/>
                </a:solidFill>
                <a:latin typeface="Times New Roman"/>
              </a:rPr>
              <a:t>k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 - VNP</a:t>
            </a:r>
            <a:r>
              <a:rPr b="0" lang="en-US" sz="1500" spc="-1" strike="noStrike" baseline="-30000">
                <a:solidFill>
                  <a:srgbClr val="99ff33"/>
                </a:solidFill>
                <a:latin typeface="Times New Roman"/>
              </a:rPr>
              <a:t>k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 - VP</a:t>
            </a:r>
            <a:r>
              <a:rPr b="0" lang="en-US" sz="1500" spc="-1" strike="noStrike" baseline="-30000">
                <a:solidFill>
                  <a:srgbClr val="99ff33"/>
                </a:solidFill>
                <a:latin typeface="Times New Roman"/>
              </a:rPr>
              <a:t>k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 - VQP</a:t>
            </a:r>
            <a:r>
              <a:rPr b="0" lang="en-US" sz="1500" spc="-1" strike="noStrike" baseline="-30000">
                <a:solidFill>
                  <a:srgbClr val="99ff33"/>
                </a:solidFill>
                <a:latin typeface="Times New Roman"/>
              </a:rPr>
              <a:t>k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 - W[1] - WAPP - W[P] - WPP - W[SAT] - W[*] - W[t] - W</a:t>
            </a:r>
            <a:r>
              <a:rPr b="0" lang="en-US" sz="1500" spc="-1" strike="noStrike" baseline="30000">
                <a:solidFill>
                  <a:srgbClr val="99ff33"/>
                </a:solidFill>
                <a:latin typeface="Times New Roman"/>
              </a:rPr>
              <a:t>*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[t] - XP - XP</a:t>
            </a:r>
            <a:r>
              <a:rPr b="0" lang="en-US" sz="1500" spc="-1" strike="noStrike" baseline="-30000">
                <a:solidFill>
                  <a:srgbClr val="99ff33"/>
                </a:solidFill>
                <a:latin typeface="Times New Roman"/>
              </a:rPr>
              <a:t>uniform</a:t>
            </a:r>
            <a:r>
              <a:rPr b="0" lang="en-US" sz="1500" spc="-1" strike="noStrike">
                <a:solidFill>
                  <a:srgbClr val="99ff33"/>
                </a:solidFill>
                <a:latin typeface="Times New Roman"/>
              </a:rPr>
              <a:t> - YACC - ZPE - ZP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1295280"/>
            <a:ext cx="480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33cc"/>
                </a:solidFill>
                <a:latin typeface="Arial"/>
              </a:rPr>
              <a:t>SHAMELESS PLUG</a:t>
            </a:r>
            <a:endParaRPr b="1" lang="en-US" sz="5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9873200">
            <a:off x="-302400" y="3187440"/>
            <a:ext cx="97041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c0000"/>
                </a:solidFill>
                <a:latin typeface="Arial"/>
              </a:rPr>
              <a:t>http://www.cs.berkeley.edu/~aaronson/zoo.htm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Overview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of what’s known about quantum computing can be cast i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query complex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pite its simplicity, open problems ab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make progress on some of these by studying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andomized certificate complex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C(f) an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quantum certificate complex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C(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 results I’ll discuss toda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’ll nee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o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g quantum lower bound methods (adversary method and polynomial meth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68120" y="4648320"/>
          <a:ext cx="3625920" cy="78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120" y="4648320"/>
                    <a:ext cx="3625920" cy="78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4038480" y="4648320"/>
          <a:ext cx="4865760" cy="785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8480" y="4648320"/>
                    <a:ext cx="4865760" cy="78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1447920"/>
            <a:ext cx="7696080" cy="56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:{0,1}</a:t>
            </a:r>
            <a:r>
              <a:rPr b="0" lang="en-US" sz="31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{0,1} is a total Boolean functio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(f)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(deterministic query complexity)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(f)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(zero-error randomized)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(f)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(bounded-error randomized)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939"/>
              </a:spcBef>
              <a:buClr>
                <a:srgbClr val="000000"/>
              </a:buClr>
              <a:buFont typeface="Symbol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(f)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(bounded-error quantum)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(f)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(zero-error quantum)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(f)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(exact quantum)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Background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2895480" y="1600200"/>
          <a:ext cx="3316320" cy="72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1600200"/>
                    <a:ext cx="3316320" cy="7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Example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838080" y="2438280"/>
          <a:ext cx="3276720" cy="259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2438280"/>
                    <a:ext cx="3276720" cy="25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4952880" y="2563920"/>
          <a:ext cx="3276720" cy="2340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52880" y="2563920"/>
                    <a:ext cx="3276720" cy="23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228600"/>
            <a:ext cx="8229600" cy="64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Certificate Complex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f) = min # of queries needed to distinguish X from every Y s.t. f(Y)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(X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Block Sensitivit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s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f) = max # of disjoint blocks B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{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…,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} s.t. flipping B changes f(X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Arial"/>
              </a:rPr>
              <a:t>Example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f=MAJ(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, letting X=11110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111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111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MAJ)=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s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MAJ)=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8380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C(f) and bs(f)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5029200"/>
            <a:ext cx="914400" cy="609480"/>
          </a:xfrm>
          <a:prstGeom prst="flowChartAlternateProcess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257800" y="5029200"/>
            <a:ext cx="533520" cy="609480"/>
          </a:xfrm>
          <a:prstGeom prst="flowChartAlternateProcess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867280" y="5029200"/>
            <a:ext cx="533520" cy="609480"/>
          </a:xfrm>
          <a:prstGeom prst="flowChartAlternateProcess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191120" y="152280"/>
          <a:ext cx="3352680" cy="76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152280"/>
                    <a:ext cx="3352680" cy="7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3352680" y="1676520"/>
          <a:ext cx="3484800" cy="76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2680" y="1676520"/>
                    <a:ext cx="3484800" cy="7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8600" y="304920"/>
            <a:ext cx="8915400" cy="64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3300"/>
                </a:solidFill>
                <a:latin typeface="Arial"/>
              </a:rPr>
              <a:t>Randomized Certificate Complexity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C</a:t>
            </a:r>
            <a:r>
              <a:rPr b="0" lang="en-US" sz="25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(f) = min # of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randomized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queries needed to distinguish X from any Y s.t. f(Y)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(X) with ½ prob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3300"/>
                </a:solidFill>
                <a:latin typeface="Arial"/>
              </a:rPr>
              <a:t>Quantum Certificate Complexity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QC(f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8000"/>
                </a:solidFill>
                <a:latin typeface="Arial"/>
              </a:rPr>
              <a:t>Example: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For f=MAJ(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,…,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), letting X=00…0,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C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MAJ) = 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8000"/>
                </a:solidFill>
                <a:latin typeface="Arial"/>
              </a:rPr>
              <a:t>Observations: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nything a prover might provide a verifier besides X, the verifier can compute for itself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ne-sided and two-sided error are equivalen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0080"/>
                </a:solidFill>
                <a:latin typeface="Arial"/>
              </a:rPr>
              <a:t>Different notions of nondeterministic quantum query complexity: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Watrous 2000, de Wolf 200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8380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RC(f) and QC(f)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5715000" y="228600"/>
          <a:ext cx="3276720" cy="64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228600"/>
                    <a:ext cx="327672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57200" y="1828800"/>
            <a:ext cx="8305920" cy="41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 distributions over 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0), 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) s.t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ooks “locally similar” to every 1-input,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ooks “locally similar” to every 0-in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Ambainis’ Adversary Method</a:t>
            </a:r>
            <a:br>
              <a:rPr sz="4000"/>
            </a:br>
            <a:r>
              <a:rPr b="1" lang="en-US" sz="3000" spc="-1" strike="noStrike">
                <a:solidFill>
                  <a:srgbClr val="3333cc"/>
                </a:solidFill>
                <a:latin typeface="Arial"/>
              </a:rPr>
              <a:t>(special case)</a:t>
            </a:r>
            <a:endParaRPr b="1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295280" y="3352680"/>
          <a:ext cx="5943600" cy="284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352680"/>
                    <a:ext cx="5943600" cy="28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33520" y="533520"/>
            <a:ext cx="7924680" cy="52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3300"/>
                </a:solidFill>
                <a:latin typeface="Arial"/>
              </a:rPr>
              <a:t>Claim: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y randomized certificate for input X can be mad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nonadaptiv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constant blowup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y minimax theorem, exists distribution over {Y:f(Y)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(X)} s.t. for all i, 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w.p. O(1/RC(f)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versary method then yield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upper bound, use “weighted Grover”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362320" y="457200"/>
          <a:ext cx="4114800" cy="92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457200"/>
                    <a:ext cx="411480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6095880" y="4114800"/>
          <a:ext cx="2362320" cy="90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5880" y="4114800"/>
                    <a:ext cx="236232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1T21:35:12Z</dcterms:created>
  <dc:creator>Avaya User</dc:creator>
  <dc:description/>
  <dc:language>en-US</dc:language>
  <cp:lastModifiedBy>Avaya User</cp:lastModifiedBy>
  <dcterms:modified xsi:type="dcterms:W3CDTF">2003-07-08T14:13:11Z</dcterms:modified>
  <cp:revision>8</cp:revision>
  <dc:subject/>
  <dc:title>Quantum Certificate Complexity</dc:title>
</cp:coreProperties>
</file>