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798-B452-4F4E-A8B7-A92AAD93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CDB-B8B8-4E5E-A7F5-8CBBF50B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805-6A24-42CF-A42E-B78B195F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608-3B93-4CBC-9999-613C5A39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B7E-549D-492A-A1C6-CBC62674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771-DF6C-4BDF-A3DA-4DECE172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593-B0FE-47A4-A794-3E09D35C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C43-18C0-4016-A402-12687EAC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9A3-032A-4ECB-A8BD-8575B214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134-1FA0-4F49-85E4-EEBA162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2B7-28C6-42FE-A0C8-49232F8E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138-3C00-4D81-83B1-366A1016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D15F-150F-4134-AF68-D08FCE68B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y Wild &amp; Crazy Idea: Causal Computational Learning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80880" y="2743200"/>
            <a:ext cx="8001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irst: what ever happened to my WACI from a few years ago: a Web 2.0 mathematics discussion site and conjecture/theorem reposi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38080" y="4267080"/>
            <a:ext cx="7848720" cy="2226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now exists such a site, Mathoverflow.net, which is everything I hoped for and m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ust ~2 years, it’s noticeably changed the practice of mathema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had nothing to do with its cre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C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(Probabilistically Approximately Correct)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228600" y="190512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Computational complexity theory meets statistic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04920" y="51814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C-learning is a hugely successful model—but like most statistics, it doesn’t care about the distinction between correlation and ca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23"/>
          <p:cNvGrpSpPr/>
          <p:nvPr/>
        </p:nvGrpSpPr>
        <p:grpSpPr>
          <a:xfrm>
            <a:off x="457200" y="2666160"/>
            <a:ext cx="8381880" cy="2363040"/>
            <a:chOff x="457200" y="2666160"/>
            <a:chExt cx="8381880" cy="2363040"/>
          </a:xfrm>
        </p:grpSpPr>
        <p:sp>
          <p:nvSpPr>
            <p:cNvPr id="50" name="TextBox 8"/>
            <p:cNvSpPr/>
            <p:nvPr/>
          </p:nvSpPr>
          <p:spPr>
            <a:xfrm>
              <a:off x="3962160" y="2666880"/>
              <a:ext cx="4876920" cy="2338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Given a collection of labeled examples 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,f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),…,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,f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) drawn independently from some unknown distribution D, problem is to output a hypothesis h such that h(x)=f(x) for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most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x~D with high probabili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Donut 10"/>
            <p:cNvSpPr/>
            <p:nvPr/>
          </p:nvSpPr>
          <p:spPr>
            <a:xfrm>
              <a:off x="457200" y="304776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Donut 11"/>
            <p:cNvSpPr/>
            <p:nvPr/>
          </p:nvSpPr>
          <p:spPr>
            <a:xfrm>
              <a:off x="1143000" y="266688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Donut 12"/>
            <p:cNvSpPr/>
            <p:nvPr/>
          </p:nvSpPr>
          <p:spPr>
            <a:xfrm>
              <a:off x="2209680" y="289548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Donut 13"/>
            <p:cNvSpPr/>
            <p:nvPr/>
          </p:nvSpPr>
          <p:spPr>
            <a:xfrm>
              <a:off x="2895480" y="449604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Donut 14"/>
            <p:cNvSpPr/>
            <p:nvPr/>
          </p:nvSpPr>
          <p:spPr>
            <a:xfrm>
              <a:off x="761760" y="373356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Cross 15"/>
            <p:cNvSpPr/>
            <p:nvPr/>
          </p:nvSpPr>
          <p:spPr>
            <a:xfrm>
              <a:off x="1752480" y="457200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Cross 16"/>
            <p:cNvSpPr/>
            <p:nvPr/>
          </p:nvSpPr>
          <p:spPr>
            <a:xfrm>
              <a:off x="3124080" y="358128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Cross 17"/>
            <p:cNvSpPr/>
            <p:nvPr/>
          </p:nvSpPr>
          <p:spPr>
            <a:xfrm>
              <a:off x="1218960" y="320004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Cross 18"/>
            <p:cNvSpPr/>
            <p:nvPr/>
          </p:nvSpPr>
          <p:spPr>
            <a:xfrm>
              <a:off x="2361960" y="365760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Cross 19"/>
            <p:cNvSpPr/>
            <p:nvPr/>
          </p:nvSpPr>
          <p:spPr>
            <a:xfrm>
              <a:off x="2286000" y="434340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22"/>
            <p:cNvSpPr/>
            <p:nvPr/>
          </p:nvSpPr>
          <p:spPr>
            <a:xfrm flipH="1">
              <a:off x="533160" y="2666160"/>
              <a:ext cx="3124080" cy="221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9"/>
          <p:cNvSpPr/>
          <p:nvPr/>
        </p:nvSpPr>
        <p:spPr>
          <a:xfrm>
            <a:off x="4876920" y="3049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: PAC explains how banks predict who will repay their loans, but not how Einstein predicted the bending of starlight by the s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2438280" cy="1743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1343160" cy="1489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1"/>
          <p:cNvSpPr/>
          <p:nvPr/>
        </p:nvSpPr>
        <p:spPr>
          <a:xfrm>
            <a:off x="2362320" y="685800"/>
            <a:ext cx="99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v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304920" y="22860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edict what will happen in novel situations, you need to know something abou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ausal mechanis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which often require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trolled experi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ogether with prior knowledge about temporal direction, autonomy of subsystem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28"/>
          <p:cNvGrpSpPr/>
          <p:nvPr/>
        </p:nvGrpSpPr>
        <p:grpSpPr>
          <a:xfrm>
            <a:off x="0" y="4038480"/>
            <a:ext cx="9286920" cy="2819520"/>
            <a:chOff x="0" y="4038480"/>
            <a:chExt cx="9286920" cy="2819520"/>
          </a:xfrm>
        </p:grpSpPr>
        <p:sp>
          <p:nvSpPr>
            <p:cNvPr id="68" name="TextBox 24"/>
            <p:cNvSpPr/>
            <p:nvPr/>
          </p:nvSpPr>
          <p:spPr>
            <a:xfrm>
              <a:off x="228600" y="4190760"/>
              <a:ext cx="815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est theory of causality we currently have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Judea Pearl’s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“do-calculus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Object 4"/>
                <p:cNvSpPr txBox="1"/>
                <p:nvPr/>
              </p:nvSpPr>
              <p:spPr>
                <a:xfrm>
                  <a:off x="2286000" y="5333760"/>
                  <a:ext cx="406692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in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rass</m:t>
                              </m:r>
                            </m:e>
                          </m:d>
                        </m:e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in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t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rass</m:t>
                                  </m:r>
                                </m:e>
                              </m:d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" name="Straight Connector 27"/>
            <p:cNvSpPr/>
            <p:nvPr/>
          </p:nvSpPr>
          <p:spPr>
            <a:xfrm>
              <a:off x="0" y="4038480"/>
              <a:ext cx="914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876560"/>
              <a:ext cx="199692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"/>
            <p:cNvPicPr/>
            <p:nvPr/>
          </p:nvPicPr>
          <p:blipFill>
            <a:blip r:embed="rId4"/>
            <a:stretch/>
          </p:blipFill>
          <p:spPr>
            <a:xfrm>
              <a:off x="6324840" y="4783320"/>
              <a:ext cx="2962080" cy="207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9"/>
          <p:cNvSpPr/>
          <p:nvPr/>
        </p:nvSpPr>
        <p:spPr>
          <a:xfrm>
            <a:off x="304920" y="304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y WACI Challenge for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533520" y="11430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ditional statistics : PAC-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: Pearl’s do-calculus 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380880" y="2666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otential applic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bugging, reconstructing gene regulatory network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380880" y="388620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isting work in the direction I’m talking abou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C-learning with membership and equivalence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ngluin, Aspnes, Chen, Wu: “Learning a circuit by injecting values,” STOC’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earl’s IC algorit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Leakage-resilience in crypt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20:56:17Z</dcterms:created>
  <dc:creator>owner</dc:creator>
  <dc:description/>
  <dc:language>en-US</dc:language>
  <cp:lastModifiedBy>owner</cp:lastModifiedBy>
  <dcterms:modified xsi:type="dcterms:W3CDTF">2011-06-21T13:24:07Z</dcterms:modified>
  <cp:revision>68</cp:revision>
  <dc:subject/>
  <dc:title>My Wild &amp; Crazy Idea: Causal Computational Learning Theory</dc:title>
</cp:coreProperties>
</file>