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8DD-5075-4E39-8F81-DCD41F2E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450-4A71-4AA8-B1A7-64E1A049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16B-00D3-497B-89DA-ABACD9B1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A06-6058-466D-A2B3-D20F24C2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05C-6E1C-4910-9409-CC18F0A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CEA-7C7A-444C-ACA5-B03F094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46-23EF-405E-9B31-31B072C1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EFA-9039-4BD1-955C-FB0E52C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F7A-9F72-435D-92BE-C6BC15BC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A52-D345-48CA-85A5-09C6577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1E0-6611-43DD-86BB-99F90B7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646-2D47-4B16-BAE7-5C9E4C6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551E-AB85-4D10-ABEA-A76C2993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y Wild &amp; Crazy Idea: Causal Computational Learning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80880" y="2743200"/>
            <a:ext cx="8001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irst: what ever happened to my WACI from a few years ago: a Web 2.0 mathematics discussion site and conjecture/theorem reposi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38080" y="4267080"/>
            <a:ext cx="7848720" cy="2226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now exists such a site, Mathoverflow.net, which is everything I hoped for and mo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ust ~2 years, it’s noticeably changed the practice of mathema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had nothing to do with its cre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C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(Probabilistically Approximately Correct)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228600" y="190512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Computational complexity theory meets statistic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-learning is a hugely successful model—but like most statistics, it doesn’t care about the distinction between correlation and ca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23"/>
          <p:cNvGrpSpPr/>
          <p:nvPr/>
        </p:nvGrpSpPr>
        <p:grpSpPr>
          <a:xfrm>
            <a:off x="457200" y="2666160"/>
            <a:ext cx="8381880" cy="2363040"/>
            <a:chOff x="457200" y="2666160"/>
            <a:chExt cx="8381880" cy="2363040"/>
          </a:xfrm>
        </p:grpSpPr>
        <p:sp>
          <p:nvSpPr>
            <p:cNvPr id="50" name="TextBox 8"/>
            <p:cNvSpPr/>
            <p:nvPr/>
          </p:nvSpPr>
          <p:spPr>
            <a:xfrm>
              <a:off x="3962160" y="2666880"/>
              <a:ext cx="4876920" cy="2338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Given a collection of labeled examples 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,f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),…,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,f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)) drawn independently from some unknown distribution D, problem is to output a hypothesis h such that h(x)=f(x) for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most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x~D with high probabili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Donut 10"/>
            <p:cNvSpPr/>
            <p:nvPr/>
          </p:nvSpPr>
          <p:spPr>
            <a:xfrm>
              <a:off x="457200" y="304776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Donut 11"/>
            <p:cNvSpPr/>
            <p:nvPr/>
          </p:nvSpPr>
          <p:spPr>
            <a:xfrm>
              <a:off x="1143000" y="266688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Donut 12"/>
            <p:cNvSpPr/>
            <p:nvPr/>
          </p:nvSpPr>
          <p:spPr>
            <a:xfrm>
              <a:off x="2209680" y="289548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Donut 13"/>
            <p:cNvSpPr/>
            <p:nvPr/>
          </p:nvSpPr>
          <p:spPr>
            <a:xfrm>
              <a:off x="2895480" y="449604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Donut 14"/>
            <p:cNvSpPr/>
            <p:nvPr/>
          </p:nvSpPr>
          <p:spPr>
            <a:xfrm>
              <a:off x="761760" y="3733560"/>
              <a:ext cx="380880" cy="380880"/>
            </a:xfrm>
            <a:custGeom>
              <a:avLst/>
              <a:gdLst>
                <a:gd name="textAreaLeft" fmla="*/ 55800 w 380880"/>
                <a:gd name="textAreaRight" fmla="*/ 325080 w 380880"/>
                <a:gd name="textAreaTop" fmla="*/ 55800 h 380880"/>
                <a:gd name="textAreaBottom" fmla="*/ 325080 h 380880"/>
              </a:gdLst>
              <a:ahLst/>
              <a:rect l="textAreaLeft" t="textAreaTop" r="textAreaRight" b="textAreaBottom"/>
              <a:pathLst>
                <a:path w="381000" h="381000">
                  <a:moveTo>
                    <a:pt x="0" y="190500"/>
                  </a:moveTo>
                  <a:lnTo>
                    <a:pt x="0" y="190500"/>
                  </a:lnTo>
                  <a:arcTo wR="190500" hR="190500" stAng="10800000" swAng="5400000"/>
                  <a:lnTo>
                    <a:pt x="190500" y="0"/>
                  </a:lnTo>
                  <a:arcTo wR="190500" hR="190500" stAng="-5400000" swAng="5400000"/>
                  <a:lnTo>
                    <a:pt x="381000" y="190500"/>
                  </a:lnTo>
                  <a:arcTo wR="190500" hR="190500" stAng="0" swAng="5400000"/>
                  <a:lnTo>
                    <a:pt x="190500" y="381000"/>
                  </a:lnTo>
                  <a:arcTo wR="190500" hR="190500" stAng="5400000" swAng="5400000"/>
                  <a:close/>
                  <a:moveTo>
                    <a:pt x="95250" y="190500"/>
                  </a:moveTo>
                  <a:lnTo>
                    <a:pt x="95250" y="190500"/>
                  </a:lnTo>
                  <a:arcTo wR="95250" hR="95250" stAng="10800000" swAng="-5400000"/>
                  <a:lnTo>
                    <a:pt x="190500" y="285750"/>
                  </a:lnTo>
                  <a:arcTo wR="95250" hR="95250" stAng="5400000" swAng="-5400000"/>
                  <a:lnTo>
                    <a:pt x="285750" y="190500"/>
                  </a:lnTo>
                  <a:arcTo wR="95250" hR="95250" stAng="0" swAng="-5400000"/>
                  <a:lnTo>
                    <a:pt x="190500" y="95250"/>
                  </a:lnTo>
                  <a:arcTo wR="95250" hR="95250" stAng="-5400000" swAng="-540000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Cross 15"/>
            <p:cNvSpPr/>
            <p:nvPr/>
          </p:nvSpPr>
          <p:spPr>
            <a:xfrm>
              <a:off x="1752480" y="45720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Cross 16"/>
            <p:cNvSpPr/>
            <p:nvPr/>
          </p:nvSpPr>
          <p:spPr>
            <a:xfrm>
              <a:off x="3124080" y="358128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Cross 17"/>
            <p:cNvSpPr/>
            <p:nvPr/>
          </p:nvSpPr>
          <p:spPr>
            <a:xfrm>
              <a:off x="1218960" y="320004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ross 18"/>
            <p:cNvSpPr/>
            <p:nvPr/>
          </p:nvSpPr>
          <p:spPr>
            <a:xfrm>
              <a:off x="2361960" y="36576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ross 19"/>
            <p:cNvSpPr/>
            <p:nvPr/>
          </p:nvSpPr>
          <p:spPr>
            <a:xfrm>
              <a:off x="2286000" y="4343400"/>
              <a:ext cx="457200" cy="457200"/>
            </a:xfrm>
            <a:prstGeom prst="plus">
              <a:avLst>
                <a:gd name="adj" fmla="val 36431"/>
              </a:avLst>
            </a:prstGeom>
            <a:solidFill>
              <a:srgbClr val="d99694"/>
            </a:solidFill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22"/>
            <p:cNvSpPr/>
            <p:nvPr/>
          </p:nvSpPr>
          <p:spPr>
            <a:xfrm flipH="1">
              <a:off x="533160" y="2666160"/>
              <a:ext cx="3124080" cy="221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9"/>
          <p:cNvSpPr/>
          <p:nvPr/>
        </p:nvSpPr>
        <p:spPr>
          <a:xfrm>
            <a:off x="4876920" y="3049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: PAC explains how banks predict who will repay their loans, but not how Einstein predicted the bending of starlight by the s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1343160" cy="1489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1"/>
          <p:cNvSpPr/>
          <p:nvPr/>
        </p:nvSpPr>
        <p:spPr>
          <a:xfrm>
            <a:off x="2362320" y="685800"/>
            <a:ext cx="99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v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304920" y="22860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dict what will happen in novel situations, you need to know something abou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usal mechanis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which often requir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rolled experi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ogether with prior knowledge about temporal direction, autonomy of subsystem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28"/>
          <p:cNvGrpSpPr/>
          <p:nvPr/>
        </p:nvGrpSpPr>
        <p:grpSpPr>
          <a:xfrm>
            <a:off x="0" y="4038480"/>
            <a:ext cx="9286920" cy="2819520"/>
            <a:chOff x="0" y="4038480"/>
            <a:chExt cx="9286920" cy="2819520"/>
          </a:xfrm>
        </p:grpSpPr>
        <p:sp>
          <p:nvSpPr>
            <p:cNvPr id="68" name="TextBox 24"/>
            <p:cNvSpPr/>
            <p:nvPr/>
          </p:nvSpPr>
          <p:spPr>
            <a:xfrm>
              <a:off x="228600" y="4190760"/>
              <a:ext cx="815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est theory of causality we currently have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Judea Pearl’s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“do-calculus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2286000" y="5333760"/>
                  <a:ext cx="406692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in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wet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grass</m:t>
                              </m:r>
                            </m:e>
                          </m:d>
                        </m:e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in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t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rass</m:t>
                                  </m:r>
                                </m:e>
                              </m:d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Straight Connector 27"/>
            <p:cNvSpPr/>
            <p:nvPr/>
          </p:nvSpPr>
          <p:spPr>
            <a:xfrm>
              <a:off x="0" y="4038480"/>
              <a:ext cx="9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876560"/>
              <a:ext cx="199692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"/>
            <p:cNvPicPr/>
            <p:nvPr/>
          </p:nvPicPr>
          <p:blipFill>
            <a:blip r:embed="rId4"/>
            <a:stretch/>
          </p:blipFill>
          <p:spPr>
            <a:xfrm>
              <a:off x="6324840" y="4783320"/>
              <a:ext cx="2962080" cy="207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9"/>
          <p:cNvSpPr/>
          <p:nvPr/>
        </p:nvSpPr>
        <p:spPr>
          <a:xfrm>
            <a:off x="304920" y="304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y WACI Challenge for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533520" y="11430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ditional statistics : PAC-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: Pearl’s do-calculus :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380880" y="2666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tential applic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bugging, reconstructing gene regulatory network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380880" y="38862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isting work in the direction I’m talking abou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C-learning with membership and equivalenc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ngluin, Aspnes, Chen, Wu: “Learning a circuit by injecting values,” STOC’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earl’s IC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Leakage-resilience in crypt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20:56:17Z</dcterms:created>
  <dc:creator>owner</dc:creator>
  <dc:description/>
  <dc:language>en-US</dc:language>
  <cp:lastModifiedBy>owner</cp:lastModifiedBy>
  <dcterms:modified xsi:type="dcterms:W3CDTF">2011-06-21T13:24:07Z</dcterms:modified>
  <cp:revision>68</cp:revision>
  <dc:subject/>
  <dc:title>My Wild &amp; Crazy Idea: Causal Computational Learning Theory</dc:title>
</cp:coreProperties>
</file>