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6.png" ContentType="image/png"/>
  <Override PartName="/ppt/media/image54.wmf" ContentType="image/x-wmf"/>
  <Override PartName="/ppt/media/image51.wmf" ContentType="image/x-wmf"/>
  <Override PartName="/ppt/media/image49.wmf" ContentType="image/x-wmf"/>
  <Override PartName="/ppt/media/image46.wmf" ContentType="image/x-wmf"/>
  <Override PartName="/ppt/media/image4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64.png" ContentType="image/png"/>
  <Override PartName="/ppt/media/image2.jpeg" ContentType="image/jpeg"/>
  <Override PartName="/ppt/media/image60.wmf" ContentType="image/x-wmf"/>
  <Override PartName="/ppt/media/image22.png" ContentType="image/png"/>
  <Override PartName="/ppt/media/image1.jpeg" ContentType="image/jpeg"/>
  <Override PartName="/ppt/media/image50.wmf" ContentType="image/x-wmf"/>
  <Override PartName="/ppt/media/image35.jpeg" ContentType="image/jpeg"/>
  <Override PartName="/ppt/media/image36.jpeg" ContentType="image/jpeg"/>
  <Override PartName="/ppt/media/image10.png" ContentType="image/png"/>
  <Override PartName="/ppt/media/image59.png" ContentType="image/png"/>
  <Override PartName="/ppt/media/image4.wmf" ContentType="image/x-wmf"/>
  <Override PartName="/ppt/media/image27.wmf" ContentType="image/x-wmf"/>
  <Override PartName="/ppt/media/image63.png" ContentType="image/png"/>
  <Override PartName="/ppt/media/image24.wmf" ContentType="image/x-wmf"/>
  <Override PartName="/ppt/media/image16.jpeg" ContentType="image/jpeg"/>
  <Override PartName="/ppt/media/image5.wmf" ContentType="image/x-wmf"/>
  <Override PartName="/ppt/media/image62.png" ContentType="image/png"/>
  <Override PartName="/ppt/media/image66.png" ContentType="image/png"/>
  <Override PartName="/ppt/media/image41.jpeg" ContentType="image/jpeg"/>
  <Override PartName="/ppt/media/image23.wmf" ContentType="image/x-wmf"/>
  <Override PartName="/ppt/media/image61.wmf" ContentType="image/x-wmf"/>
  <Override PartName="/ppt/media/image65.png" ContentType="image/png"/>
  <Override PartName="/ppt/media/image21.jpeg" ContentType="image/jpeg"/>
  <Override PartName="/ppt/media/image18.jpeg" ContentType="image/jpeg"/>
  <Override PartName="/ppt/media/image55.wmf" ContentType="image/x-wmf"/>
  <Override PartName="/ppt/media/image29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11.wmf" ContentType="image/x-wmf"/>
  <Override PartName="/ppt/media/image48.wmf" ContentType="image/x-wmf"/>
  <Override PartName="/ppt/media/image20.jpeg" ContentType="image/jpeg"/>
  <Override PartName="/ppt/media/image12.png" ContentType="image/png"/>
  <Override PartName="/ppt/media/image52.wmf" ContentType="image/x-wmf"/>
  <Override PartName="/ppt/media/image7.wmf" ContentType="image/x-wmf"/>
  <Override PartName="/ppt/media/image30.jpeg" ContentType="image/jpeg"/>
  <Override PartName="/ppt/media/image6.wmf" ContentType="image/x-wmf"/>
  <Override PartName="/ppt/media/image13.png" ContentType="image/png"/>
  <Override PartName="/ppt/media/image53.wmf" ContentType="image/x-wmf"/>
  <Override PartName="/ppt/media/image8.wmf" ContentType="image/x-wmf"/>
  <Override PartName="/ppt/media/image42.wmf" ContentType="image/x-wmf"/>
  <Override PartName="/ppt/media/image28.wmf" ContentType="image/x-wmf"/>
  <Override PartName="/ppt/media/image31.jpeg" ContentType="image/jpeg"/>
  <Override PartName="/ppt/media/image47.wmf" ContentType="image/x-wmf"/>
  <Override PartName="/ppt/media/image38.wmf" ContentType="image/x-wmf"/>
  <Override PartName="/ppt/media/image32.jpeg" ContentType="image/jpeg"/>
  <Override PartName="/ppt/media/image14.jpeg" ContentType="image/jpeg"/>
  <Override PartName="/ppt/media/image57.wmf" ContentType="image/x-wmf"/>
  <Override PartName="/ppt/media/image33.gif" ContentType="image/gif"/>
  <Override PartName="/ppt/media/image34.png" ContentType="image/png"/>
  <Override PartName="/ppt/media/image37.png" ContentType="image/png"/>
  <Override PartName="/ppt/media/image40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B56-07D9-4C9A-A4C3-898273CC50F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3804-344C-4B28-B6F6-EDE2D71F7FD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212-9975-4567-A7E9-1C927867997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07DD-C62E-4DBA-9B94-4B7D21EA4D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7F8-B3F4-47D1-8D49-49B1DEC148A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C13-9207-40B9-AC74-6461F58DAE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30A-4EF1-4D24-AE16-9E9F78101EB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0097-A552-47F9-8818-96D64F7CB3B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C8C-440B-4ED3-B429-75CD0527FEB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2E9-E482-4A54-B388-2A087792F61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2DF-2A85-408B-92C6-ABC8FD71A8B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FBC-8C1A-4BF1-8C13-2225AB9873A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F72-0553-4AE0-BB2E-F99B573D6FB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E65-F44E-4558-942E-043C3B81A76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6179-BD04-48BD-B11E-4AB2055E87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FBB9-C2CD-4A12-A20F-72CA081EC5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C2A-2077-452B-AB3D-208069BF8B7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4C2-0BAF-4591-BB73-B5A49357C0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2785-921A-45F8-8B4D-C05BC8A9224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CC0B-A615-4F09-B46F-840A1D9D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A12A-294E-47AE-9CAE-493E9364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C5E-8D47-42E8-84B2-4F9519BCD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664-F2BC-4D28-84D1-A61C804C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EB37-47BA-4D27-B1AA-025D8CF5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A80-7C86-46E2-9B59-B5199ED8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988-D7CB-4BC6-B81D-1FA503D09F4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B38-8ED5-49A3-864B-981A4185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BE4-A63D-476F-8567-B6E3BBC1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FF9-7FAC-44B8-8523-5FA22D12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AD9-7A18-467A-AB57-458F1E91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8F8-C47F-46BA-BC8D-634C482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DCA-B0AE-4B6A-93B1-4043938A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E4E-B026-4480-B62D-474FDA4F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29F-1669-4FEC-8CB8-9BB0212C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5C3-A13B-4F58-95CA-344AFCEE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2D8-FB3D-4771-960B-7752C9D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552E-12BA-442B-92A9-67790D8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CB0-F1C0-4506-8185-F5F4EE4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B93-C5DF-457C-956D-82FDA9836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image" Target="../media/image30.jpeg"/><Relationship Id="rId14" Type="http://schemas.openxmlformats.org/officeDocument/2006/relationships/image" Target="../media/image3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image" Target="../media/image5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7.wmf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5438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So You Think Quantum Computing Is Bunk?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54860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spe.fotolog.com/photo/30/57/72/long_live_80s/1354099121716_f.jpg"/>
          <p:cNvPicPr/>
          <p:nvPr/>
        </p:nvPicPr>
        <p:blipFill>
          <a:blip r:embed="rId1"/>
          <a:srcRect l="64805" t="0" r="4320" b="25533"/>
          <a:stretch/>
        </p:blipFill>
        <p:spPr>
          <a:xfrm>
            <a:off x="3886200" y="2971800"/>
            <a:ext cx="128916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895480" y="2438280"/>
            <a:ext cx="335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|   </a:t>
            </a:r>
            <a:r>
              <a:rPr b="0" lang="en-US" sz="1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Callout 6"/>
          <p:cNvSpPr/>
          <p:nvPr/>
        </p:nvSpPr>
        <p:spPr>
          <a:xfrm>
            <a:off x="5715000" y="1828800"/>
            <a:ext cx="3048120" cy="1371600"/>
          </a:xfrm>
          <a:prstGeom prst="wedgeEllipseCallout">
            <a:avLst>
              <a:gd name="adj1" fmla="val -51152"/>
              <a:gd name="adj2" fmla="val 56990"/>
            </a:avLst>
          </a:prstGeom>
          <a:solidFill>
            <a:srgbClr val="ddf2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943600" y="2057400"/>
            <a:ext cx="259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measurin’ 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3 “Skeptical Positions” and My Respons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04920" y="72421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e/Shor sepa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304920" y="1143000"/>
            <a:ext cx="861048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ifficulties a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mmen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  QC might not be practical for a very long tim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d will have limited applications even if bui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C will fail because quantum mechanics itself is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wesome!  A revolution in physics—even better than QC.  Count me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mechanics is fine, but QC won’t work because of some “principle of unavoidable noise” (?) on top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My response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Also wonderful!  Explain your principle, why it’s true, and why it kills QC. 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Does it imply a fast classical simulation of “realistic” quantum system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2438280" y="2590920"/>
            <a:ext cx="457200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ptical position I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o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ddress in this talk: BPP=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Common Reasons for QC Skepticis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04920" y="72421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re/Shor sepa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04920" y="914400"/>
            <a:ext cx="861048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unds too good to be true / like science fic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Would any science-fiction writer have imagined a computer that solved factoring, discrete log, and a few other special problems, but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not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NP-complet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noyance at hype/misrepresentations in popular 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Tell me about 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tended Church-Turing Thes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ules out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Response: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The ECT was a CS encroachment onto physics’ turf …  we can’t cry foul if physics counterattacks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qubits couldn’t possibly encod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lying skepticism of QM itsel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or modern physics in general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ight Brace 4"/>
          <p:cNvSpPr/>
          <p:nvPr/>
        </p:nvSpPr>
        <p:spPr>
          <a:xfrm>
            <a:off x="8534520" y="548640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066680"/>
              <a:gd name="textAreaBottom" fmla="*/ 1056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he “2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alibri"/>
                <a:ea typeface="Calibri"/>
              </a:rPr>
              <a:t>n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Bits Is Too Many” Argumen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04920" y="1066680"/>
            <a:ext cx="86868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n’t we search for a more “reasonable” theory that agrees with QM on existing experiments, b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ts us feasibly prepare only a singly-exponential number of states, not a doubly-exponential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dicts that in a volume of size n, only poly(n) bits can be reliably stored and retrieved, not exp(n)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ets us summarize the results of exp(n) possible measurements on an n-qubit state using only poly(n) classical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dicts that n-qubit states should be “PAC-learnable” with only poly(n) samples, not exp(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57200" y="5867280"/>
            <a:ext cx="8305920" cy="520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h a theory exists!  It’s called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Brace 6"/>
          <p:cNvSpPr/>
          <p:nvPr/>
        </p:nvSpPr>
        <p:spPr>
          <a:xfrm flipH="1">
            <a:off x="304920" y="2057400"/>
            <a:ext cx="457200" cy="35053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505320"/>
              <a:gd name="textAreaBottom" fmla="*/ 34934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"/>
                  <a:pt x="10800" y="235"/>
                </a:cubicBezTo>
                <a:lnTo>
                  <a:pt x="10800" y="9953"/>
                </a:lnTo>
                <a:cubicBezTo>
                  <a:pt x="10800" y="10071"/>
                  <a:pt x="16200" y="10188"/>
                  <a:pt x="21600" y="10188"/>
                </a:cubicBezTo>
                <a:cubicBezTo>
                  <a:pt x="16200" y="10188"/>
                  <a:pt x="10800" y="10306"/>
                  <a:pt x="10800" y="10423"/>
                </a:cubicBezTo>
                <a:lnTo>
                  <a:pt x="10800" y="21365"/>
                </a:lnTo>
                <a:cubicBezTo>
                  <a:pt x="10800" y="2148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OK, but suppose QC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is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 impossible.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Obvious question: What’s the criterion that tells us which quantum-mechanical experiments can be done, and which ones can’t?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04920" y="2057400"/>
            <a:ext cx="769608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1: Precision in Amplitudes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jor problem is the requirement that basic quantum equations hold to multi-hundredth if not millionth decimal positions where the significant digits of the relevant quantum amplitudes reside.  We have never seen a physical law valid to over a dozen decimals … Are quantum amplitudes still complex numbers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curacies or do they become quaternions, colored graphs, or sick-humored gremlins?” —Leonid L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04920" y="46483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vious Respon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"/>
          <p:cNvGraphicFramePr/>
          <p:nvPr/>
        </p:nvGraphicFramePr>
        <p:xfrm>
          <a:off x="1077840" y="5257800"/>
          <a:ext cx="72579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5257800"/>
                    <a:ext cx="72579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Picture 17" descr="https://encrypted-tbn0.gstatic.com/images?q=tbn:ANd9GcTZt4fNWiM8GgoG_dNyXuec1Da-u8hGHJhVTf7x-JQjKcwDgm--"/>
          <p:cNvPicPr/>
          <p:nvPr/>
        </p:nvPicPr>
        <p:blipFill>
          <a:blip r:embed="rId3"/>
          <a:stretch/>
        </p:blipFill>
        <p:spPr>
          <a:xfrm>
            <a:off x="8001000" y="2666880"/>
            <a:ext cx="863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3808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2: OK, small amplitudes might be fine for separable states—bu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entanglement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 is an illu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04920" y="14479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vious Respons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Bell Inequa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its experimental vi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380880" y="2743200"/>
            <a:ext cx="8423280" cy="3124080"/>
            <a:chOff x="380880" y="2743200"/>
            <a:chExt cx="8423280" cy="3124080"/>
          </a:xfrm>
        </p:grpSpPr>
        <p:grpSp>
          <p:nvGrpSpPr>
            <p:cNvPr id="214" name="Group 69"/>
            <p:cNvGrpSpPr/>
            <p:nvPr/>
          </p:nvGrpSpPr>
          <p:grpSpPr>
            <a:xfrm>
              <a:off x="2133360" y="3504960"/>
              <a:ext cx="4495680" cy="709560"/>
              <a:chOff x="2133360" y="3504960"/>
              <a:chExt cx="4495680" cy="709560"/>
            </a:xfrm>
          </p:grpSpPr>
          <p:sp>
            <p:nvSpPr>
              <p:cNvPr id="215" name="Freeform 13"/>
              <p:cNvSpPr/>
              <p:nvPr/>
            </p:nvSpPr>
            <p:spPr>
              <a:xfrm rot="5400000">
                <a:off x="4026240" y="1611720"/>
                <a:ext cx="709560" cy="449568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4495680"/>
                  <a:gd name="textAreaBottom" fmla="*/ 4496040 h 4495680"/>
                </a:gdLst>
                <a:ahLst/>
                <a:rect l="textAreaLeft" t="textAreaTop" r="textAreaRight" b="textAreaBottom"/>
                <a:pathLst>
                  <a:path w="499" h="5764">
                    <a:moveTo>
                      <a:pt x="249" y="5616"/>
                    </a:moveTo>
                    <a:lnTo>
                      <a:pt x="249" y="5764"/>
                    </a:lnTo>
                    <a:lnTo>
                      <a:pt x="358" y="5725"/>
                    </a:lnTo>
                    <a:lnTo>
                      <a:pt x="435" y="5630"/>
                    </a:lnTo>
                    <a:lnTo>
                      <a:pt x="482" y="5494"/>
                    </a:lnTo>
                    <a:lnTo>
                      <a:pt x="499" y="5338"/>
                    </a:lnTo>
                    <a:lnTo>
                      <a:pt x="482" y="5181"/>
                    </a:lnTo>
                    <a:lnTo>
                      <a:pt x="435" y="5044"/>
                    </a:lnTo>
                    <a:lnTo>
                      <a:pt x="358" y="4948"/>
                    </a:lnTo>
                    <a:lnTo>
                      <a:pt x="249" y="4913"/>
                    </a:lnTo>
                    <a:lnTo>
                      <a:pt x="178" y="4889"/>
                    </a:lnTo>
                    <a:lnTo>
                      <a:pt x="127" y="4826"/>
                    </a:lnTo>
                    <a:lnTo>
                      <a:pt x="97" y="4738"/>
                    </a:lnTo>
                    <a:lnTo>
                      <a:pt x="88" y="4637"/>
                    </a:lnTo>
                    <a:lnTo>
                      <a:pt x="97" y="4534"/>
                    </a:lnTo>
                    <a:lnTo>
                      <a:pt x="127" y="4447"/>
                    </a:lnTo>
                    <a:lnTo>
                      <a:pt x="178" y="4385"/>
                    </a:lnTo>
                    <a:lnTo>
                      <a:pt x="249" y="4362"/>
                    </a:lnTo>
                    <a:lnTo>
                      <a:pt x="358" y="4324"/>
                    </a:lnTo>
                    <a:lnTo>
                      <a:pt x="435" y="4227"/>
                    </a:lnTo>
                    <a:lnTo>
                      <a:pt x="482" y="4091"/>
                    </a:lnTo>
                    <a:lnTo>
                      <a:pt x="499" y="3935"/>
                    </a:lnTo>
                    <a:lnTo>
                      <a:pt x="482" y="3778"/>
                    </a:lnTo>
                    <a:lnTo>
                      <a:pt x="435" y="3642"/>
                    </a:lnTo>
                    <a:lnTo>
                      <a:pt x="358" y="3545"/>
                    </a:lnTo>
                    <a:lnTo>
                      <a:pt x="249" y="3510"/>
                    </a:lnTo>
                    <a:lnTo>
                      <a:pt x="178" y="3486"/>
                    </a:lnTo>
                    <a:lnTo>
                      <a:pt x="127" y="3423"/>
                    </a:lnTo>
                    <a:lnTo>
                      <a:pt x="97" y="3335"/>
                    </a:lnTo>
                    <a:lnTo>
                      <a:pt x="88" y="3234"/>
                    </a:lnTo>
                    <a:lnTo>
                      <a:pt x="97" y="3131"/>
                    </a:lnTo>
                    <a:lnTo>
                      <a:pt x="127" y="3043"/>
                    </a:lnTo>
                    <a:lnTo>
                      <a:pt x="178" y="2980"/>
                    </a:lnTo>
                    <a:lnTo>
                      <a:pt x="249" y="2958"/>
                    </a:lnTo>
                    <a:lnTo>
                      <a:pt x="358" y="2919"/>
                    </a:lnTo>
                    <a:lnTo>
                      <a:pt x="435" y="2825"/>
                    </a:lnTo>
                    <a:lnTo>
                      <a:pt x="482" y="2688"/>
                    </a:lnTo>
                    <a:lnTo>
                      <a:pt x="499" y="2532"/>
                    </a:lnTo>
                    <a:lnTo>
                      <a:pt x="482" y="2375"/>
                    </a:lnTo>
                    <a:lnTo>
                      <a:pt x="435" y="2239"/>
                    </a:lnTo>
                    <a:lnTo>
                      <a:pt x="358" y="2142"/>
                    </a:lnTo>
                    <a:lnTo>
                      <a:pt x="249" y="2107"/>
                    </a:lnTo>
                    <a:lnTo>
                      <a:pt x="178" y="2081"/>
                    </a:lnTo>
                    <a:lnTo>
                      <a:pt x="127" y="2019"/>
                    </a:lnTo>
                    <a:lnTo>
                      <a:pt x="97" y="1931"/>
                    </a:lnTo>
                    <a:lnTo>
                      <a:pt x="88" y="1829"/>
                    </a:lnTo>
                    <a:lnTo>
                      <a:pt x="97" y="1727"/>
                    </a:lnTo>
                    <a:lnTo>
                      <a:pt x="127" y="1638"/>
                    </a:lnTo>
                    <a:lnTo>
                      <a:pt x="178" y="1576"/>
                    </a:lnTo>
                    <a:lnTo>
                      <a:pt x="249" y="1553"/>
                    </a:lnTo>
                    <a:lnTo>
                      <a:pt x="358" y="1515"/>
                    </a:lnTo>
                    <a:lnTo>
                      <a:pt x="435" y="1420"/>
                    </a:lnTo>
                    <a:lnTo>
                      <a:pt x="482" y="1284"/>
                    </a:lnTo>
                    <a:lnTo>
                      <a:pt x="499" y="1128"/>
                    </a:lnTo>
                    <a:lnTo>
                      <a:pt x="482" y="971"/>
                    </a:lnTo>
                    <a:lnTo>
                      <a:pt x="435" y="834"/>
                    </a:lnTo>
                    <a:lnTo>
                      <a:pt x="358" y="738"/>
                    </a:lnTo>
                    <a:lnTo>
                      <a:pt x="249" y="703"/>
                    </a:lnTo>
                    <a:lnTo>
                      <a:pt x="178" y="677"/>
                    </a:lnTo>
                    <a:lnTo>
                      <a:pt x="127" y="614"/>
                    </a:lnTo>
                    <a:lnTo>
                      <a:pt x="97" y="526"/>
                    </a:lnTo>
                    <a:lnTo>
                      <a:pt x="88" y="425"/>
                    </a:lnTo>
                    <a:lnTo>
                      <a:pt x="97" y="322"/>
                    </a:lnTo>
                    <a:lnTo>
                      <a:pt x="127" y="234"/>
                    </a:lnTo>
                    <a:lnTo>
                      <a:pt x="178" y="171"/>
                    </a:lnTo>
                    <a:lnTo>
                      <a:pt x="249" y="149"/>
                    </a:lnTo>
                    <a:lnTo>
                      <a:pt x="249" y="0"/>
                    </a:lnTo>
                    <a:lnTo>
                      <a:pt x="139" y="35"/>
                    </a:lnTo>
                    <a:lnTo>
                      <a:pt x="62" y="131"/>
                    </a:lnTo>
                    <a:lnTo>
                      <a:pt x="15" y="268"/>
                    </a:lnTo>
                    <a:lnTo>
                      <a:pt x="0" y="425"/>
                    </a:lnTo>
                    <a:lnTo>
                      <a:pt x="15" y="581"/>
                    </a:lnTo>
                    <a:lnTo>
                      <a:pt x="62" y="717"/>
                    </a:lnTo>
                    <a:lnTo>
                      <a:pt x="139" y="813"/>
                    </a:lnTo>
                    <a:lnTo>
                      <a:pt x="249" y="852"/>
                    </a:lnTo>
                    <a:lnTo>
                      <a:pt x="319" y="874"/>
                    </a:lnTo>
                    <a:lnTo>
                      <a:pt x="370" y="937"/>
                    </a:lnTo>
                    <a:lnTo>
                      <a:pt x="400" y="1025"/>
                    </a:lnTo>
                    <a:lnTo>
                      <a:pt x="411" y="1128"/>
                    </a:lnTo>
                    <a:lnTo>
                      <a:pt x="400" y="1229"/>
                    </a:lnTo>
                    <a:lnTo>
                      <a:pt x="370" y="1317"/>
                    </a:lnTo>
                    <a:lnTo>
                      <a:pt x="319" y="1380"/>
                    </a:lnTo>
                    <a:lnTo>
                      <a:pt x="249" y="1404"/>
                    </a:lnTo>
                    <a:lnTo>
                      <a:pt x="139" y="1439"/>
                    </a:lnTo>
                    <a:lnTo>
                      <a:pt x="62" y="1536"/>
                    </a:lnTo>
                    <a:lnTo>
                      <a:pt x="15" y="1672"/>
                    </a:lnTo>
                    <a:lnTo>
                      <a:pt x="0" y="1829"/>
                    </a:lnTo>
                    <a:lnTo>
                      <a:pt x="15" y="1985"/>
                    </a:lnTo>
                    <a:lnTo>
                      <a:pt x="62" y="2122"/>
                    </a:lnTo>
                    <a:lnTo>
                      <a:pt x="139" y="2216"/>
                    </a:lnTo>
                    <a:lnTo>
                      <a:pt x="249" y="2255"/>
                    </a:lnTo>
                    <a:lnTo>
                      <a:pt x="319" y="2277"/>
                    </a:lnTo>
                    <a:lnTo>
                      <a:pt x="370" y="2340"/>
                    </a:lnTo>
                    <a:lnTo>
                      <a:pt x="400" y="2428"/>
                    </a:lnTo>
                    <a:lnTo>
                      <a:pt x="411" y="2531"/>
                    </a:lnTo>
                    <a:lnTo>
                      <a:pt x="400" y="2632"/>
                    </a:lnTo>
                    <a:lnTo>
                      <a:pt x="370" y="2720"/>
                    </a:lnTo>
                    <a:lnTo>
                      <a:pt x="319" y="2783"/>
                    </a:lnTo>
                    <a:lnTo>
                      <a:pt x="249" y="2809"/>
                    </a:lnTo>
                    <a:lnTo>
                      <a:pt x="139" y="2844"/>
                    </a:lnTo>
                    <a:lnTo>
                      <a:pt x="62" y="2940"/>
                    </a:lnTo>
                    <a:lnTo>
                      <a:pt x="15" y="3077"/>
                    </a:lnTo>
                    <a:lnTo>
                      <a:pt x="0" y="3232"/>
                    </a:lnTo>
                    <a:lnTo>
                      <a:pt x="15" y="3388"/>
                    </a:lnTo>
                    <a:lnTo>
                      <a:pt x="62" y="3524"/>
                    </a:lnTo>
                    <a:lnTo>
                      <a:pt x="139" y="3619"/>
                    </a:lnTo>
                    <a:lnTo>
                      <a:pt x="249" y="3658"/>
                    </a:lnTo>
                    <a:lnTo>
                      <a:pt x="319" y="3680"/>
                    </a:lnTo>
                    <a:lnTo>
                      <a:pt x="370" y="3743"/>
                    </a:lnTo>
                    <a:lnTo>
                      <a:pt x="400" y="3831"/>
                    </a:lnTo>
                    <a:lnTo>
                      <a:pt x="411" y="3935"/>
                    </a:lnTo>
                    <a:lnTo>
                      <a:pt x="400" y="4036"/>
                    </a:lnTo>
                    <a:lnTo>
                      <a:pt x="370" y="4125"/>
                    </a:lnTo>
                    <a:lnTo>
                      <a:pt x="319" y="4187"/>
                    </a:lnTo>
                    <a:lnTo>
                      <a:pt x="249" y="4213"/>
                    </a:lnTo>
                    <a:lnTo>
                      <a:pt x="139" y="4248"/>
                    </a:lnTo>
                    <a:lnTo>
                      <a:pt x="62" y="4345"/>
                    </a:lnTo>
                    <a:lnTo>
                      <a:pt x="15" y="4481"/>
                    </a:lnTo>
                    <a:lnTo>
                      <a:pt x="0" y="4637"/>
                    </a:lnTo>
                    <a:lnTo>
                      <a:pt x="15" y="4792"/>
                    </a:lnTo>
                    <a:lnTo>
                      <a:pt x="62" y="4929"/>
                    </a:lnTo>
                    <a:lnTo>
                      <a:pt x="139" y="5024"/>
                    </a:lnTo>
                    <a:lnTo>
                      <a:pt x="249" y="5062"/>
                    </a:lnTo>
                    <a:lnTo>
                      <a:pt x="319" y="5085"/>
                    </a:lnTo>
                    <a:lnTo>
                      <a:pt x="370" y="5147"/>
                    </a:lnTo>
                    <a:lnTo>
                      <a:pt x="400" y="5235"/>
                    </a:lnTo>
                    <a:lnTo>
                      <a:pt x="411" y="5338"/>
                    </a:lnTo>
                    <a:lnTo>
                      <a:pt x="400" y="5439"/>
                    </a:lnTo>
                    <a:lnTo>
                      <a:pt x="370" y="5528"/>
                    </a:lnTo>
                    <a:lnTo>
                      <a:pt x="319" y="5590"/>
                    </a:lnTo>
                    <a:lnTo>
                      <a:pt x="249" y="5616"/>
                    </a:lnTo>
                    <a:close/>
                  </a:path>
                </a:pathLst>
              </a:custGeom>
              <a:solidFill>
                <a:srgbClr val="7a451f"/>
              </a:solidFill>
              <a:ln w="19080">
                <a:solidFill>
                  <a:srgbClr val="6b360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 rot="5400000">
                <a:off x="4047120" y="1627920"/>
                <a:ext cx="669960" cy="4462920"/>
              </a:xfrm>
              <a:custGeom>
                <a:avLst/>
                <a:gdLst>
                  <a:gd name="textAreaLeft" fmla="*/ 0 w 669960"/>
                  <a:gd name="textAreaRight" fmla="*/ 670320 w 669960"/>
                  <a:gd name="textAreaTop" fmla="*/ 0 h 4462920"/>
                  <a:gd name="textAreaBottom" fmla="*/ 4463280 h 4462920"/>
                </a:gdLst>
                <a:ahLst/>
                <a:rect l="textAreaLeft" t="textAreaTop" r="textAreaRight" b="textAreaBottom"/>
                <a:pathLst>
                  <a:path w="471" h="5723">
                    <a:moveTo>
                      <a:pt x="235" y="5618"/>
                    </a:moveTo>
                    <a:lnTo>
                      <a:pt x="235" y="5631"/>
                    </a:lnTo>
                    <a:lnTo>
                      <a:pt x="235" y="5644"/>
                    </a:lnTo>
                    <a:lnTo>
                      <a:pt x="235" y="5657"/>
                    </a:lnTo>
                    <a:lnTo>
                      <a:pt x="235" y="5670"/>
                    </a:lnTo>
                    <a:lnTo>
                      <a:pt x="235" y="5683"/>
                    </a:lnTo>
                    <a:lnTo>
                      <a:pt x="235" y="5695"/>
                    </a:lnTo>
                    <a:lnTo>
                      <a:pt x="235" y="5708"/>
                    </a:lnTo>
                    <a:lnTo>
                      <a:pt x="235" y="5723"/>
                    </a:lnTo>
                    <a:lnTo>
                      <a:pt x="337" y="5687"/>
                    </a:lnTo>
                    <a:lnTo>
                      <a:pt x="411" y="5596"/>
                    </a:lnTo>
                    <a:lnTo>
                      <a:pt x="455" y="5467"/>
                    </a:lnTo>
                    <a:lnTo>
                      <a:pt x="471" y="5321"/>
                    </a:lnTo>
                    <a:lnTo>
                      <a:pt x="455" y="5174"/>
                    </a:lnTo>
                    <a:lnTo>
                      <a:pt x="411" y="5045"/>
                    </a:lnTo>
                    <a:lnTo>
                      <a:pt x="337" y="4955"/>
                    </a:lnTo>
                    <a:lnTo>
                      <a:pt x="235" y="4922"/>
                    </a:lnTo>
                    <a:lnTo>
                      <a:pt x="157" y="4894"/>
                    </a:lnTo>
                    <a:lnTo>
                      <a:pt x="102" y="4825"/>
                    </a:lnTo>
                    <a:lnTo>
                      <a:pt x="68" y="4729"/>
                    </a:lnTo>
                    <a:lnTo>
                      <a:pt x="57" y="4618"/>
                    </a:lnTo>
                    <a:lnTo>
                      <a:pt x="68" y="4506"/>
                    </a:lnTo>
                    <a:lnTo>
                      <a:pt x="102" y="4410"/>
                    </a:lnTo>
                    <a:lnTo>
                      <a:pt x="157" y="4341"/>
                    </a:lnTo>
                    <a:lnTo>
                      <a:pt x="235" y="4317"/>
                    </a:lnTo>
                    <a:lnTo>
                      <a:pt x="337" y="4281"/>
                    </a:lnTo>
                    <a:lnTo>
                      <a:pt x="411" y="4190"/>
                    </a:lnTo>
                    <a:lnTo>
                      <a:pt x="455" y="4061"/>
                    </a:lnTo>
                    <a:lnTo>
                      <a:pt x="471" y="3915"/>
                    </a:lnTo>
                    <a:lnTo>
                      <a:pt x="455" y="3768"/>
                    </a:lnTo>
                    <a:lnTo>
                      <a:pt x="411" y="3639"/>
                    </a:lnTo>
                    <a:lnTo>
                      <a:pt x="337" y="3549"/>
                    </a:lnTo>
                    <a:lnTo>
                      <a:pt x="235" y="3516"/>
                    </a:lnTo>
                    <a:lnTo>
                      <a:pt x="157" y="3488"/>
                    </a:lnTo>
                    <a:lnTo>
                      <a:pt x="102" y="3421"/>
                    </a:lnTo>
                    <a:lnTo>
                      <a:pt x="68" y="3325"/>
                    </a:lnTo>
                    <a:lnTo>
                      <a:pt x="57" y="3214"/>
                    </a:lnTo>
                    <a:lnTo>
                      <a:pt x="68" y="3102"/>
                    </a:lnTo>
                    <a:lnTo>
                      <a:pt x="102" y="3005"/>
                    </a:lnTo>
                    <a:lnTo>
                      <a:pt x="157" y="2936"/>
                    </a:lnTo>
                    <a:lnTo>
                      <a:pt x="235" y="2912"/>
                    </a:lnTo>
                    <a:lnTo>
                      <a:pt x="337" y="2877"/>
                    </a:lnTo>
                    <a:lnTo>
                      <a:pt x="411" y="2785"/>
                    </a:lnTo>
                    <a:lnTo>
                      <a:pt x="455" y="2657"/>
                    </a:lnTo>
                    <a:lnTo>
                      <a:pt x="471" y="2511"/>
                    </a:lnTo>
                    <a:lnTo>
                      <a:pt x="455" y="2363"/>
                    </a:lnTo>
                    <a:lnTo>
                      <a:pt x="411" y="2235"/>
                    </a:lnTo>
                    <a:lnTo>
                      <a:pt x="337" y="2145"/>
                    </a:lnTo>
                    <a:lnTo>
                      <a:pt x="235" y="2111"/>
                    </a:lnTo>
                    <a:lnTo>
                      <a:pt x="157" y="2084"/>
                    </a:lnTo>
                    <a:lnTo>
                      <a:pt x="102" y="2016"/>
                    </a:lnTo>
                    <a:lnTo>
                      <a:pt x="68" y="1920"/>
                    </a:lnTo>
                    <a:lnTo>
                      <a:pt x="57" y="1809"/>
                    </a:lnTo>
                    <a:lnTo>
                      <a:pt x="68" y="1699"/>
                    </a:lnTo>
                    <a:lnTo>
                      <a:pt x="102" y="1602"/>
                    </a:lnTo>
                    <a:lnTo>
                      <a:pt x="157" y="1533"/>
                    </a:lnTo>
                    <a:lnTo>
                      <a:pt x="235" y="1509"/>
                    </a:lnTo>
                    <a:lnTo>
                      <a:pt x="337" y="1474"/>
                    </a:lnTo>
                    <a:lnTo>
                      <a:pt x="411" y="1382"/>
                    </a:lnTo>
                    <a:lnTo>
                      <a:pt x="455" y="1252"/>
                    </a:lnTo>
                    <a:lnTo>
                      <a:pt x="471" y="1106"/>
                    </a:lnTo>
                    <a:lnTo>
                      <a:pt x="455" y="959"/>
                    </a:lnTo>
                    <a:lnTo>
                      <a:pt x="411" y="830"/>
                    </a:lnTo>
                    <a:lnTo>
                      <a:pt x="337" y="739"/>
                    </a:lnTo>
                    <a:lnTo>
                      <a:pt x="235" y="705"/>
                    </a:lnTo>
                    <a:lnTo>
                      <a:pt x="157" y="678"/>
                    </a:lnTo>
                    <a:lnTo>
                      <a:pt x="102" y="610"/>
                    </a:lnTo>
                    <a:lnTo>
                      <a:pt x="68" y="514"/>
                    </a:lnTo>
                    <a:lnTo>
                      <a:pt x="57" y="403"/>
                    </a:lnTo>
                    <a:lnTo>
                      <a:pt x="68" y="291"/>
                    </a:lnTo>
                    <a:lnTo>
                      <a:pt x="102" y="195"/>
                    </a:lnTo>
                    <a:lnTo>
                      <a:pt x="157" y="126"/>
                    </a:lnTo>
                    <a:lnTo>
                      <a:pt x="235" y="102"/>
                    </a:lnTo>
                    <a:lnTo>
                      <a:pt x="235" y="87"/>
                    </a:lnTo>
                    <a:lnTo>
                      <a:pt x="235" y="74"/>
                    </a:lnTo>
                    <a:lnTo>
                      <a:pt x="235" y="61"/>
                    </a:lnTo>
                    <a:lnTo>
                      <a:pt x="235" y="50"/>
                    </a:lnTo>
                    <a:lnTo>
                      <a:pt x="235" y="36"/>
                    </a:lnTo>
                    <a:lnTo>
                      <a:pt x="235" y="25"/>
                    </a:lnTo>
                    <a:lnTo>
                      <a:pt x="235" y="12"/>
                    </a:lnTo>
                    <a:lnTo>
                      <a:pt x="235" y="0"/>
                    </a:lnTo>
                    <a:lnTo>
                      <a:pt x="131" y="34"/>
                    </a:lnTo>
                    <a:lnTo>
                      <a:pt x="58" y="124"/>
                    </a:lnTo>
                    <a:lnTo>
                      <a:pt x="14" y="252"/>
                    </a:lnTo>
                    <a:lnTo>
                      <a:pt x="0" y="400"/>
                    </a:lnTo>
                    <a:lnTo>
                      <a:pt x="14" y="546"/>
                    </a:lnTo>
                    <a:lnTo>
                      <a:pt x="58" y="675"/>
                    </a:lnTo>
                    <a:lnTo>
                      <a:pt x="131" y="766"/>
                    </a:lnTo>
                    <a:lnTo>
                      <a:pt x="235" y="801"/>
                    </a:lnTo>
                    <a:lnTo>
                      <a:pt x="311" y="825"/>
                    </a:lnTo>
                    <a:lnTo>
                      <a:pt x="368" y="894"/>
                    </a:lnTo>
                    <a:lnTo>
                      <a:pt x="401" y="991"/>
                    </a:lnTo>
                    <a:lnTo>
                      <a:pt x="413" y="1103"/>
                    </a:lnTo>
                    <a:lnTo>
                      <a:pt x="401" y="1214"/>
                    </a:lnTo>
                    <a:lnTo>
                      <a:pt x="368" y="1310"/>
                    </a:lnTo>
                    <a:lnTo>
                      <a:pt x="311" y="1378"/>
                    </a:lnTo>
                    <a:lnTo>
                      <a:pt x="235" y="1405"/>
                    </a:lnTo>
                    <a:lnTo>
                      <a:pt x="131" y="1439"/>
                    </a:lnTo>
                    <a:lnTo>
                      <a:pt x="58" y="1529"/>
                    </a:lnTo>
                    <a:lnTo>
                      <a:pt x="14" y="1657"/>
                    </a:lnTo>
                    <a:lnTo>
                      <a:pt x="0" y="1805"/>
                    </a:lnTo>
                    <a:lnTo>
                      <a:pt x="14" y="1951"/>
                    </a:lnTo>
                    <a:lnTo>
                      <a:pt x="58" y="2079"/>
                    </a:lnTo>
                    <a:lnTo>
                      <a:pt x="131" y="2171"/>
                    </a:lnTo>
                    <a:lnTo>
                      <a:pt x="235" y="2206"/>
                    </a:lnTo>
                    <a:lnTo>
                      <a:pt x="311" y="2230"/>
                    </a:lnTo>
                    <a:lnTo>
                      <a:pt x="368" y="2299"/>
                    </a:lnTo>
                    <a:lnTo>
                      <a:pt x="401" y="2395"/>
                    </a:lnTo>
                    <a:lnTo>
                      <a:pt x="413" y="2506"/>
                    </a:lnTo>
                    <a:lnTo>
                      <a:pt x="401" y="2617"/>
                    </a:lnTo>
                    <a:lnTo>
                      <a:pt x="368" y="2713"/>
                    </a:lnTo>
                    <a:lnTo>
                      <a:pt x="311" y="2781"/>
                    </a:lnTo>
                    <a:lnTo>
                      <a:pt x="235" y="2808"/>
                    </a:lnTo>
                    <a:lnTo>
                      <a:pt x="131" y="2842"/>
                    </a:lnTo>
                    <a:lnTo>
                      <a:pt x="58" y="2933"/>
                    </a:lnTo>
                    <a:lnTo>
                      <a:pt x="14" y="3061"/>
                    </a:lnTo>
                    <a:lnTo>
                      <a:pt x="0" y="3209"/>
                    </a:lnTo>
                    <a:lnTo>
                      <a:pt x="14" y="3355"/>
                    </a:lnTo>
                    <a:lnTo>
                      <a:pt x="58" y="3485"/>
                    </a:lnTo>
                    <a:lnTo>
                      <a:pt x="131" y="3577"/>
                    </a:lnTo>
                    <a:lnTo>
                      <a:pt x="235" y="3612"/>
                    </a:lnTo>
                    <a:lnTo>
                      <a:pt x="311" y="3636"/>
                    </a:lnTo>
                    <a:lnTo>
                      <a:pt x="368" y="3705"/>
                    </a:lnTo>
                    <a:lnTo>
                      <a:pt x="401" y="3801"/>
                    </a:lnTo>
                    <a:lnTo>
                      <a:pt x="413" y="3914"/>
                    </a:lnTo>
                    <a:lnTo>
                      <a:pt x="401" y="4024"/>
                    </a:lnTo>
                    <a:lnTo>
                      <a:pt x="368" y="4121"/>
                    </a:lnTo>
                    <a:lnTo>
                      <a:pt x="311" y="4188"/>
                    </a:lnTo>
                    <a:lnTo>
                      <a:pt x="235" y="4215"/>
                    </a:lnTo>
                    <a:lnTo>
                      <a:pt x="131" y="4249"/>
                    </a:lnTo>
                    <a:lnTo>
                      <a:pt x="58" y="4339"/>
                    </a:lnTo>
                    <a:lnTo>
                      <a:pt x="14" y="4468"/>
                    </a:lnTo>
                    <a:lnTo>
                      <a:pt x="0" y="4615"/>
                    </a:lnTo>
                    <a:lnTo>
                      <a:pt x="14" y="4761"/>
                    </a:lnTo>
                    <a:lnTo>
                      <a:pt x="58" y="4890"/>
                    </a:lnTo>
                    <a:lnTo>
                      <a:pt x="131" y="4981"/>
                    </a:lnTo>
                    <a:lnTo>
                      <a:pt x="235" y="5016"/>
                    </a:lnTo>
                    <a:lnTo>
                      <a:pt x="311" y="5041"/>
                    </a:lnTo>
                    <a:lnTo>
                      <a:pt x="368" y="5110"/>
                    </a:lnTo>
                    <a:lnTo>
                      <a:pt x="401" y="5206"/>
                    </a:lnTo>
                    <a:lnTo>
                      <a:pt x="413" y="5317"/>
                    </a:lnTo>
                    <a:lnTo>
                      <a:pt x="401" y="5427"/>
                    </a:lnTo>
                    <a:lnTo>
                      <a:pt x="368" y="5524"/>
                    </a:lnTo>
                    <a:lnTo>
                      <a:pt x="311" y="5591"/>
                    </a:lnTo>
                    <a:lnTo>
                      <a:pt x="235" y="5618"/>
                    </a:lnTo>
                    <a:close/>
                  </a:path>
                </a:pathLst>
              </a:custGeom>
              <a:solidFill>
                <a:srgbClr val="b58059"/>
              </a:solidFill>
              <a:ln w="17640">
                <a:solidFill>
                  <a:srgbClr val="9e69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 rot="5400000">
                <a:off x="4065480" y="1641960"/>
                <a:ext cx="632880" cy="443484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4434840"/>
                  <a:gd name="textAreaBottom" fmla="*/ 4435200 h 4434840"/>
                </a:gdLst>
                <a:ahLst/>
                <a:rect l="textAreaLeft" t="textAreaTop" r="textAreaRight" b="textAreaBottom"/>
                <a:pathLst>
                  <a:path w="445" h="5685">
                    <a:moveTo>
                      <a:pt x="222" y="5626"/>
                    </a:moveTo>
                    <a:lnTo>
                      <a:pt x="222" y="5641"/>
                    </a:lnTo>
                    <a:lnTo>
                      <a:pt x="222" y="5655"/>
                    </a:lnTo>
                    <a:lnTo>
                      <a:pt x="222" y="5669"/>
                    </a:lnTo>
                    <a:lnTo>
                      <a:pt x="222" y="5685"/>
                    </a:lnTo>
                    <a:lnTo>
                      <a:pt x="319" y="5652"/>
                    </a:lnTo>
                    <a:lnTo>
                      <a:pt x="388" y="5567"/>
                    </a:lnTo>
                    <a:lnTo>
                      <a:pt x="431" y="5445"/>
                    </a:lnTo>
                    <a:lnTo>
                      <a:pt x="445" y="5308"/>
                    </a:lnTo>
                    <a:lnTo>
                      <a:pt x="431" y="5169"/>
                    </a:lnTo>
                    <a:lnTo>
                      <a:pt x="388" y="5048"/>
                    </a:lnTo>
                    <a:lnTo>
                      <a:pt x="319" y="4963"/>
                    </a:lnTo>
                    <a:lnTo>
                      <a:pt x="222" y="4931"/>
                    </a:lnTo>
                    <a:lnTo>
                      <a:pt x="137" y="4902"/>
                    </a:lnTo>
                    <a:lnTo>
                      <a:pt x="77" y="4828"/>
                    </a:lnTo>
                    <a:lnTo>
                      <a:pt x="41" y="4722"/>
                    </a:lnTo>
                    <a:lnTo>
                      <a:pt x="29" y="4604"/>
                    </a:lnTo>
                    <a:lnTo>
                      <a:pt x="41" y="4483"/>
                    </a:lnTo>
                    <a:lnTo>
                      <a:pt x="77" y="4377"/>
                    </a:lnTo>
                    <a:lnTo>
                      <a:pt x="137" y="4303"/>
                    </a:lnTo>
                    <a:lnTo>
                      <a:pt x="222" y="4276"/>
                    </a:lnTo>
                    <a:lnTo>
                      <a:pt x="319" y="4242"/>
                    </a:lnTo>
                    <a:lnTo>
                      <a:pt x="388" y="4157"/>
                    </a:lnTo>
                    <a:lnTo>
                      <a:pt x="431" y="4037"/>
                    </a:lnTo>
                    <a:lnTo>
                      <a:pt x="445" y="3901"/>
                    </a:lnTo>
                    <a:lnTo>
                      <a:pt x="431" y="3761"/>
                    </a:lnTo>
                    <a:lnTo>
                      <a:pt x="388" y="3642"/>
                    </a:lnTo>
                    <a:lnTo>
                      <a:pt x="319" y="3557"/>
                    </a:lnTo>
                    <a:lnTo>
                      <a:pt x="222" y="3525"/>
                    </a:lnTo>
                    <a:lnTo>
                      <a:pt x="137" y="3496"/>
                    </a:lnTo>
                    <a:lnTo>
                      <a:pt x="77" y="3422"/>
                    </a:lnTo>
                    <a:lnTo>
                      <a:pt x="41" y="3316"/>
                    </a:lnTo>
                    <a:lnTo>
                      <a:pt x="29" y="3198"/>
                    </a:lnTo>
                    <a:lnTo>
                      <a:pt x="41" y="3077"/>
                    </a:lnTo>
                    <a:lnTo>
                      <a:pt x="77" y="2971"/>
                    </a:lnTo>
                    <a:lnTo>
                      <a:pt x="137" y="2897"/>
                    </a:lnTo>
                    <a:lnTo>
                      <a:pt x="222" y="2870"/>
                    </a:lnTo>
                    <a:lnTo>
                      <a:pt x="319" y="2836"/>
                    </a:lnTo>
                    <a:lnTo>
                      <a:pt x="388" y="2751"/>
                    </a:lnTo>
                    <a:lnTo>
                      <a:pt x="431" y="2629"/>
                    </a:lnTo>
                    <a:lnTo>
                      <a:pt x="445" y="2493"/>
                    </a:lnTo>
                    <a:lnTo>
                      <a:pt x="431" y="2353"/>
                    </a:lnTo>
                    <a:lnTo>
                      <a:pt x="388" y="2234"/>
                    </a:lnTo>
                    <a:lnTo>
                      <a:pt x="319" y="2149"/>
                    </a:lnTo>
                    <a:lnTo>
                      <a:pt x="222" y="2117"/>
                    </a:lnTo>
                    <a:lnTo>
                      <a:pt x="137" y="2088"/>
                    </a:lnTo>
                    <a:lnTo>
                      <a:pt x="77" y="2015"/>
                    </a:lnTo>
                    <a:lnTo>
                      <a:pt x="41" y="1909"/>
                    </a:lnTo>
                    <a:lnTo>
                      <a:pt x="29" y="1790"/>
                    </a:lnTo>
                    <a:lnTo>
                      <a:pt x="41" y="1669"/>
                    </a:lnTo>
                    <a:lnTo>
                      <a:pt x="77" y="1565"/>
                    </a:lnTo>
                    <a:lnTo>
                      <a:pt x="137" y="1491"/>
                    </a:lnTo>
                    <a:lnTo>
                      <a:pt x="222" y="1464"/>
                    </a:lnTo>
                    <a:lnTo>
                      <a:pt x="319" y="1430"/>
                    </a:lnTo>
                    <a:lnTo>
                      <a:pt x="388" y="1345"/>
                    </a:lnTo>
                    <a:lnTo>
                      <a:pt x="431" y="1223"/>
                    </a:lnTo>
                    <a:lnTo>
                      <a:pt x="445" y="1087"/>
                    </a:lnTo>
                    <a:lnTo>
                      <a:pt x="431" y="947"/>
                    </a:lnTo>
                    <a:lnTo>
                      <a:pt x="388" y="828"/>
                    </a:lnTo>
                    <a:lnTo>
                      <a:pt x="319" y="743"/>
                    </a:lnTo>
                    <a:lnTo>
                      <a:pt x="222" y="711"/>
                    </a:lnTo>
                    <a:lnTo>
                      <a:pt x="137" y="682"/>
                    </a:lnTo>
                    <a:lnTo>
                      <a:pt x="77" y="608"/>
                    </a:lnTo>
                    <a:lnTo>
                      <a:pt x="41" y="502"/>
                    </a:lnTo>
                    <a:lnTo>
                      <a:pt x="29" y="384"/>
                    </a:lnTo>
                    <a:lnTo>
                      <a:pt x="41" y="263"/>
                    </a:lnTo>
                    <a:lnTo>
                      <a:pt x="77" y="159"/>
                    </a:lnTo>
                    <a:lnTo>
                      <a:pt x="137" y="85"/>
                    </a:lnTo>
                    <a:lnTo>
                      <a:pt x="222" y="58"/>
                    </a:lnTo>
                    <a:lnTo>
                      <a:pt x="222" y="43"/>
                    </a:lnTo>
                    <a:lnTo>
                      <a:pt x="222" y="29"/>
                    </a:lnTo>
                    <a:lnTo>
                      <a:pt x="222" y="15"/>
                    </a:lnTo>
                    <a:lnTo>
                      <a:pt x="222" y="0"/>
                    </a:lnTo>
                    <a:lnTo>
                      <a:pt x="124" y="32"/>
                    </a:lnTo>
                    <a:lnTo>
                      <a:pt x="55" y="117"/>
                    </a:lnTo>
                    <a:lnTo>
                      <a:pt x="12" y="236"/>
                    </a:lnTo>
                    <a:lnTo>
                      <a:pt x="0" y="376"/>
                    </a:lnTo>
                    <a:lnTo>
                      <a:pt x="12" y="512"/>
                    </a:lnTo>
                    <a:lnTo>
                      <a:pt x="55" y="634"/>
                    </a:lnTo>
                    <a:lnTo>
                      <a:pt x="124" y="719"/>
                    </a:lnTo>
                    <a:lnTo>
                      <a:pt x="222" y="753"/>
                    </a:lnTo>
                    <a:lnTo>
                      <a:pt x="306" y="780"/>
                    </a:lnTo>
                    <a:lnTo>
                      <a:pt x="366" y="854"/>
                    </a:lnTo>
                    <a:lnTo>
                      <a:pt x="403" y="958"/>
                    </a:lnTo>
                    <a:lnTo>
                      <a:pt x="415" y="1079"/>
                    </a:lnTo>
                    <a:lnTo>
                      <a:pt x="403" y="1198"/>
                    </a:lnTo>
                    <a:lnTo>
                      <a:pt x="366" y="1303"/>
                    </a:lnTo>
                    <a:lnTo>
                      <a:pt x="306" y="1377"/>
                    </a:lnTo>
                    <a:lnTo>
                      <a:pt x="222" y="1406"/>
                    </a:lnTo>
                    <a:lnTo>
                      <a:pt x="124" y="1438"/>
                    </a:lnTo>
                    <a:lnTo>
                      <a:pt x="55" y="1523"/>
                    </a:lnTo>
                    <a:lnTo>
                      <a:pt x="12" y="1642"/>
                    </a:lnTo>
                    <a:lnTo>
                      <a:pt x="0" y="1782"/>
                    </a:lnTo>
                    <a:lnTo>
                      <a:pt x="12" y="1918"/>
                    </a:lnTo>
                    <a:lnTo>
                      <a:pt x="55" y="2040"/>
                    </a:lnTo>
                    <a:lnTo>
                      <a:pt x="124" y="2125"/>
                    </a:lnTo>
                    <a:lnTo>
                      <a:pt x="222" y="2159"/>
                    </a:lnTo>
                    <a:lnTo>
                      <a:pt x="306" y="2186"/>
                    </a:lnTo>
                    <a:lnTo>
                      <a:pt x="366" y="2260"/>
                    </a:lnTo>
                    <a:lnTo>
                      <a:pt x="403" y="2364"/>
                    </a:lnTo>
                    <a:lnTo>
                      <a:pt x="415" y="2485"/>
                    </a:lnTo>
                    <a:lnTo>
                      <a:pt x="403" y="2604"/>
                    </a:lnTo>
                    <a:lnTo>
                      <a:pt x="366" y="2710"/>
                    </a:lnTo>
                    <a:lnTo>
                      <a:pt x="306" y="2783"/>
                    </a:lnTo>
                    <a:lnTo>
                      <a:pt x="222" y="2812"/>
                    </a:lnTo>
                    <a:lnTo>
                      <a:pt x="124" y="2844"/>
                    </a:lnTo>
                    <a:lnTo>
                      <a:pt x="55" y="2929"/>
                    </a:lnTo>
                    <a:lnTo>
                      <a:pt x="12" y="3048"/>
                    </a:lnTo>
                    <a:lnTo>
                      <a:pt x="0" y="3188"/>
                    </a:lnTo>
                    <a:lnTo>
                      <a:pt x="12" y="3324"/>
                    </a:lnTo>
                    <a:lnTo>
                      <a:pt x="55" y="3446"/>
                    </a:lnTo>
                    <a:lnTo>
                      <a:pt x="124" y="3531"/>
                    </a:lnTo>
                    <a:lnTo>
                      <a:pt x="222" y="3565"/>
                    </a:lnTo>
                    <a:lnTo>
                      <a:pt x="306" y="3592"/>
                    </a:lnTo>
                    <a:lnTo>
                      <a:pt x="366" y="3666"/>
                    </a:lnTo>
                    <a:lnTo>
                      <a:pt x="403" y="3772"/>
                    </a:lnTo>
                    <a:lnTo>
                      <a:pt x="415" y="3893"/>
                    </a:lnTo>
                    <a:lnTo>
                      <a:pt x="403" y="4011"/>
                    </a:lnTo>
                    <a:lnTo>
                      <a:pt x="366" y="4117"/>
                    </a:lnTo>
                    <a:lnTo>
                      <a:pt x="306" y="4191"/>
                    </a:lnTo>
                    <a:lnTo>
                      <a:pt x="222" y="4220"/>
                    </a:lnTo>
                    <a:lnTo>
                      <a:pt x="124" y="4252"/>
                    </a:lnTo>
                    <a:lnTo>
                      <a:pt x="55" y="4337"/>
                    </a:lnTo>
                    <a:lnTo>
                      <a:pt x="12" y="4456"/>
                    </a:lnTo>
                    <a:lnTo>
                      <a:pt x="0" y="4596"/>
                    </a:lnTo>
                    <a:lnTo>
                      <a:pt x="12" y="4732"/>
                    </a:lnTo>
                    <a:lnTo>
                      <a:pt x="55" y="4852"/>
                    </a:lnTo>
                    <a:lnTo>
                      <a:pt x="124" y="4937"/>
                    </a:lnTo>
                    <a:lnTo>
                      <a:pt x="222" y="4971"/>
                    </a:lnTo>
                    <a:lnTo>
                      <a:pt x="306" y="4998"/>
                    </a:lnTo>
                    <a:lnTo>
                      <a:pt x="366" y="5072"/>
                    </a:lnTo>
                    <a:lnTo>
                      <a:pt x="403" y="5178"/>
                    </a:lnTo>
                    <a:lnTo>
                      <a:pt x="415" y="5299"/>
                    </a:lnTo>
                    <a:lnTo>
                      <a:pt x="403" y="5417"/>
                    </a:lnTo>
                    <a:lnTo>
                      <a:pt x="366" y="5523"/>
                    </a:lnTo>
                    <a:lnTo>
                      <a:pt x="306" y="5597"/>
                    </a:lnTo>
                    <a:lnTo>
                      <a:pt x="222" y="5626"/>
                    </a:lnTo>
                    <a:close/>
                  </a:path>
                </a:pathLst>
              </a:custGeom>
              <a:solidFill>
                <a:srgbClr val="f0ba94"/>
              </a:solidFill>
              <a:ln w="11160">
                <a:solidFill>
                  <a:srgbClr val="d49e7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 rot="5400000">
                <a:off x="4084920" y="1658520"/>
                <a:ext cx="597240" cy="440064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400640"/>
                  <a:gd name="textAreaBottom" fmla="*/ 4401000 h 4400640"/>
                </a:gdLst>
                <a:ahLst/>
                <a:rect l="textAreaLeft" t="textAreaTop" r="textAreaRight" b="textAreaBottom"/>
                <a:pathLst>
                  <a:path w="420" h="5644">
                    <a:moveTo>
                      <a:pt x="210" y="5631"/>
                    </a:moveTo>
                    <a:lnTo>
                      <a:pt x="210" y="5644"/>
                    </a:lnTo>
                    <a:lnTo>
                      <a:pt x="300" y="5612"/>
                    </a:lnTo>
                    <a:lnTo>
                      <a:pt x="367" y="5533"/>
                    </a:lnTo>
                    <a:lnTo>
                      <a:pt x="406" y="5419"/>
                    </a:lnTo>
                    <a:lnTo>
                      <a:pt x="420" y="5292"/>
                    </a:lnTo>
                    <a:lnTo>
                      <a:pt x="406" y="5162"/>
                    </a:lnTo>
                    <a:lnTo>
                      <a:pt x="367" y="5050"/>
                    </a:lnTo>
                    <a:lnTo>
                      <a:pt x="300" y="4970"/>
                    </a:lnTo>
                    <a:lnTo>
                      <a:pt x="210" y="4941"/>
                    </a:lnTo>
                    <a:lnTo>
                      <a:pt x="118" y="4909"/>
                    </a:lnTo>
                    <a:lnTo>
                      <a:pt x="52" y="4830"/>
                    </a:lnTo>
                    <a:lnTo>
                      <a:pt x="13" y="4716"/>
                    </a:lnTo>
                    <a:lnTo>
                      <a:pt x="0" y="4588"/>
                    </a:lnTo>
                    <a:lnTo>
                      <a:pt x="13" y="4458"/>
                    </a:lnTo>
                    <a:lnTo>
                      <a:pt x="52" y="4344"/>
                    </a:lnTo>
                    <a:lnTo>
                      <a:pt x="118" y="4264"/>
                    </a:lnTo>
                    <a:lnTo>
                      <a:pt x="210" y="4235"/>
                    </a:lnTo>
                    <a:lnTo>
                      <a:pt x="300" y="4203"/>
                    </a:lnTo>
                    <a:lnTo>
                      <a:pt x="367" y="4124"/>
                    </a:lnTo>
                    <a:lnTo>
                      <a:pt x="406" y="4010"/>
                    </a:lnTo>
                    <a:lnTo>
                      <a:pt x="420" y="3883"/>
                    </a:lnTo>
                    <a:lnTo>
                      <a:pt x="406" y="3753"/>
                    </a:lnTo>
                    <a:lnTo>
                      <a:pt x="367" y="3641"/>
                    </a:lnTo>
                    <a:lnTo>
                      <a:pt x="300" y="3561"/>
                    </a:lnTo>
                    <a:lnTo>
                      <a:pt x="210" y="3532"/>
                    </a:lnTo>
                    <a:lnTo>
                      <a:pt x="118" y="3500"/>
                    </a:lnTo>
                    <a:lnTo>
                      <a:pt x="52" y="3421"/>
                    </a:lnTo>
                    <a:lnTo>
                      <a:pt x="13" y="3307"/>
                    </a:lnTo>
                    <a:lnTo>
                      <a:pt x="0" y="3180"/>
                    </a:lnTo>
                    <a:lnTo>
                      <a:pt x="13" y="3050"/>
                    </a:lnTo>
                    <a:lnTo>
                      <a:pt x="52" y="2938"/>
                    </a:lnTo>
                    <a:lnTo>
                      <a:pt x="118" y="2857"/>
                    </a:lnTo>
                    <a:lnTo>
                      <a:pt x="210" y="2829"/>
                    </a:lnTo>
                    <a:lnTo>
                      <a:pt x="300" y="2796"/>
                    </a:lnTo>
                    <a:lnTo>
                      <a:pt x="367" y="2718"/>
                    </a:lnTo>
                    <a:lnTo>
                      <a:pt x="406" y="2604"/>
                    </a:lnTo>
                    <a:lnTo>
                      <a:pt x="420" y="2475"/>
                    </a:lnTo>
                    <a:lnTo>
                      <a:pt x="406" y="2345"/>
                    </a:lnTo>
                    <a:lnTo>
                      <a:pt x="367" y="2233"/>
                    </a:lnTo>
                    <a:lnTo>
                      <a:pt x="300" y="2153"/>
                    </a:lnTo>
                    <a:lnTo>
                      <a:pt x="210" y="2124"/>
                    </a:lnTo>
                    <a:lnTo>
                      <a:pt x="118" y="2092"/>
                    </a:lnTo>
                    <a:lnTo>
                      <a:pt x="52" y="2013"/>
                    </a:lnTo>
                    <a:lnTo>
                      <a:pt x="13" y="1899"/>
                    </a:lnTo>
                    <a:lnTo>
                      <a:pt x="0" y="1772"/>
                    </a:lnTo>
                    <a:lnTo>
                      <a:pt x="13" y="1642"/>
                    </a:lnTo>
                    <a:lnTo>
                      <a:pt x="52" y="1530"/>
                    </a:lnTo>
                    <a:lnTo>
                      <a:pt x="118" y="1450"/>
                    </a:lnTo>
                    <a:lnTo>
                      <a:pt x="210" y="1421"/>
                    </a:lnTo>
                    <a:lnTo>
                      <a:pt x="300" y="1389"/>
                    </a:lnTo>
                    <a:lnTo>
                      <a:pt x="367" y="1310"/>
                    </a:lnTo>
                    <a:lnTo>
                      <a:pt x="406" y="1196"/>
                    </a:lnTo>
                    <a:lnTo>
                      <a:pt x="420" y="1069"/>
                    </a:lnTo>
                    <a:lnTo>
                      <a:pt x="406" y="939"/>
                    </a:lnTo>
                    <a:lnTo>
                      <a:pt x="367" y="827"/>
                    </a:lnTo>
                    <a:lnTo>
                      <a:pt x="300" y="747"/>
                    </a:lnTo>
                    <a:lnTo>
                      <a:pt x="210" y="718"/>
                    </a:lnTo>
                    <a:lnTo>
                      <a:pt x="118" y="686"/>
                    </a:lnTo>
                    <a:lnTo>
                      <a:pt x="52" y="607"/>
                    </a:lnTo>
                    <a:lnTo>
                      <a:pt x="13" y="493"/>
                    </a:lnTo>
                    <a:lnTo>
                      <a:pt x="0" y="365"/>
                    </a:lnTo>
                    <a:lnTo>
                      <a:pt x="13" y="235"/>
                    </a:lnTo>
                    <a:lnTo>
                      <a:pt x="52" y="121"/>
                    </a:lnTo>
                    <a:lnTo>
                      <a:pt x="118" y="40"/>
                    </a:lnTo>
                    <a:lnTo>
                      <a:pt x="210" y="12"/>
                    </a:lnTo>
                    <a:lnTo>
                      <a:pt x="210" y="0"/>
                    </a:lnTo>
                    <a:lnTo>
                      <a:pt x="118" y="29"/>
                    </a:lnTo>
                    <a:lnTo>
                      <a:pt x="52" y="110"/>
                    </a:lnTo>
                    <a:lnTo>
                      <a:pt x="13" y="222"/>
                    </a:lnTo>
                    <a:lnTo>
                      <a:pt x="0" y="352"/>
                    </a:lnTo>
                    <a:lnTo>
                      <a:pt x="13" y="479"/>
                    </a:lnTo>
                    <a:lnTo>
                      <a:pt x="52" y="593"/>
                    </a:lnTo>
                    <a:lnTo>
                      <a:pt x="118" y="671"/>
                    </a:lnTo>
                    <a:lnTo>
                      <a:pt x="210" y="703"/>
                    </a:lnTo>
                    <a:lnTo>
                      <a:pt x="300" y="732"/>
                    </a:lnTo>
                    <a:lnTo>
                      <a:pt x="367" y="813"/>
                    </a:lnTo>
                    <a:lnTo>
                      <a:pt x="406" y="925"/>
                    </a:lnTo>
                    <a:lnTo>
                      <a:pt x="420" y="1055"/>
                    </a:lnTo>
                    <a:lnTo>
                      <a:pt x="406" y="1183"/>
                    </a:lnTo>
                    <a:lnTo>
                      <a:pt x="367" y="1297"/>
                    </a:lnTo>
                    <a:lnTo>
                      <a:pt x="300" y="1376"/>
                    </a:lnTo>
                    <a:lnTo>
                      <a:pt x="210" y="1408"/>
                    </a:lnTo>
                    <a:lnTo>
                      <a:pt x="118" y="1437"/>
                    </a:lnTo>
                    <a:lnTo>
                      <a:pt x="52" y="1517"/>
                    </a:lnTo>
                    <a:lnTo>
                      <a:pt x="13" y="1630"/>
                    </a:lnTo>
                    <a:lnTo>
                      <a:pt x="0" y="1760"/>
                    </a:lnTo>
                    <a:lnTo>
                      <a:pt x="13" y="1886"/>
                    </a:lnTo>
                    <a:lnTo>
                      <a:pt x="52" y="2000"/>
                    </a:lnTo>
                    <a:lnTo>
                      <a:pt x="118" y="2079"/>
                    </a:lnTo>
                    <a:lnTo>
                      <a:pt x="210" y="2111"/>
                    </a:lnTo>
                    <a:lnTo>
                      <a:pt x="300" y="2140"/>
                    </a:lnTo>
                    <a:lnTo>
                      <a:pt x="367" y="2220"/>
                    </a:lnTo>
                    <a:lnTo>
                      <a:pt x="406" y="2333"/>
                    </a:lnTo>
                    <a:lnTo>
                      <a:pt x="420" y="2463"/>
                    </a:lnTo>
                    <a:lnTo>
                      <a:pt x="406" y="2591"/>
                    </a:lnTo>
                    <a:lnTo>
                      <a:pt x="367" y="2705"/>
                    </a:lnTo>
                    <a:lnTo>
                      <a:pt x="300" y="2784"/>
                    </a:lnTo>
                    <a:lnTo>
                      <a:pt x="210" y="2816"/>
                    </a:lnTo>
                    <a:lnTo>
                      <a:pt x="118" y="2845"/>
                    </a:lnTo>
                    <a:lnTo>
                      <a:pt x="52" y="2925"/>
                    </a:lnTo>
                    <a:lnTo>
                      <a:pt x="13" y="3037"/>
                    </a:lnTo>
                    <a:lnTo>
                      <a:pt x="0" y="3167"/>
                    </a:lnTo>
                    <a:lnTo>
                      <a:pt x="13" y="3296"/>
                    </a:lnTo>
                    <a:lnTo>
                      <a:pt x="52" y="3410"/>
                    </a:lnTo>
                    <a:lnTo>
                      <a:pt x="118" y="3488"/>
                    </a:lnTo>
                    <a:lnTo>
                      <a:pt x="210" y="3520"/>
                    </a:lnTo>
                    <a:lnTo>
                      <a:pt x="300" y="3549"/>
                    </a:lnTo>
                    <a:lnTo>
                      <a:pt x="367" y="3630"/>
                    </a:lnTo>
                    <a:lnTo>
                      <a:pt x="406" y="3742"/>
                    </a:lnTo>
                    <a:lnTo>
                      <a:pt x="420" y="3872"/>
                    </a:lnTo>
                    <a:lnTo>
                      <a:pt x="406" y="3999"/>
                    </a:lnTo>
                    <a:lnTo>
                      <a:pt x="367" y="4113"/>
                    </a:lnTo>
                    <a:lnTo>
                      <a:pt x="300" y="4191"/>
                    </a:lnTo>
                    <a:lnTo>
                      <a:pt x="210" y="4223"/>
                    </a:lnTo>
                    <a:lnTo>
                      <a:pt x="118" y="4252"/>
                    </a:lnTo>
                    <a:lnTo>
                      <a:pt x="52" y="4333"/>
                    </a:lnTo>
                    <a:lnTo>
                      <a:pt x="13" y="4445"/>
                    </a:lnTo>
                    <a:lnTo>
                      <a:pt x="0" y="4575"/>
                    </a:lnTo>
                    <a:lnTo>
                      <a:pt x="13" y="4703"/>
                    </a:lnTo>
                    <a:lnTo>
                      <a:pt x="52" y="4817"/>
                    </a:lnTo>
                    <a:lnTo>
                      <a:pt x="118" y="4896"/>
                    </a:lnTo>
                    <a:lnTo>
                      <a:pt x="210" y="4928"/>
                    </a:lnTo>
                    <a:lnTo>
                      <a:pt x="300" y="4957"/>
                    </a:lnTo>
                    <a:lnTo>
                      <a:pt x="367" y="5037"/>
                    </a:lnTo>
                    <a:lnTo>
                      <a:pt x="406" y="5150"/>
                    </a:lnTo>
                    <a:lnTo>
                      <a:pt x="420" y="5280"/>
                    </a:lnTo>
                    <a:lnTo>
                      <a:pt x="406" y="5406"/>
                    </a:lnTo>
                    <a:lnTo>
                      <a:pt x="367" y="5520"/>
                    </a:lnTo>
                    <a:lnTo>
                      <a:pt x="300" y="5599"/>
                    </a:lnTo>
                    <a:lnTo>
                      <a:pt x="210" y="5631"/>
                    </a:lnTo>
                    <a:close/>
                  </a:path>
                </a:pathLst>
              </a:custGeom>
              <a:solidFill>
                <a:srgbClr val="fff5cf"/>
              </a:solidFill>
              <a:ln w="9360">
                <a:solidFill>
                  <a:srgbClr val="ffd4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19" name="Object 69"/>
            <p:cNvGraphicFramePr/>
            <p:nvPr/>
          </p:nvGraphicFramePr>
          <p:xfrm>
            <a:off x="1904760" y="5257800"/>
            <a:ext cx="5334120" cy="51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6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4760" y="5257800"/>
                      <a:ext cx="53341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Object 69"/>
            <p:cNvGraphicFramePr/>
            <p:nvPr/>
          </p:nvGraphicFramePr>
          <p:xfrm>
            <a:off x="380880" y="4876920"/>
            <a:ext cx="1371600" cy="38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Object 6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76920"/>
                      <a:ext cx="137160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Object 69"/>
            <p:cNvGraphicFramePr/>
            <p:nvPr/>
          </p:nvGraphicFramePr>
          <p:xfrm>
            <a:off x="380880" y="2743200"/>
            <a:ext cx="144756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4" name="Object 6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2743200"/>
                      <a:ext cx="144756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6"/>
            <p:cNvGraphicFramePr/>
            <p:nvPr/>
          </p:nvGraphicFramePr>
          <p:xfrm>
            <a:off x="3504960" y="3429000"/>
            <a:ext cx="1803240" cy="99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6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4960" y="3429000"/>
                      <a:ext cx="180324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69"/>
            <p:cNvGraphicFramePr/>
            <p:nvPr/>
          </p:nvGraphicFramePr>
          <p:xfrm>
            <a:off x="7467480" y="5029200"/>
            <a:ext cx="1336680" cy="38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8" name="Object 6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5029200"/>
                      <a:ext cx="133668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69"/>
            <p:cNvGraphicFramePr/>
            <p:nvPr/>
          </p:nvGraphicFramePr>
          <p:xfrm>
            <a:off x="7315200" y="2743200"/>
            <a:ext cx="1430280" cy="404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0" name="Object 6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15200" y="2743200"/>
                      <a:ext cx="14302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31" name="Straight Arrow Connector 14"/>
            <p:cNvCxnSpPr/>
            <p:nvPr/>
          </p:nvCxnSpPr>
          <p:spPr>
            <a:xfrm>
              <a:off x="761760" y="3200040"/>
              <a:ext cx="30528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2" name="Straight Arrow Connector 15"/>
            <p:cNvCxnSpPr/>
            <p:nvPr/>
          </p:nvCxnSpPr>
          <p:spPr>
            <a:xfrm flipH="1">
              <a:off x="685080" y="4343400"/>
              <a:ext cx="381600" cy="457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3" name="Straight Arrow Connector 16"/>
            <p:cNvCxnSpPr/>
            <p:nvPr/>
          </p:nvCxnSpPr>
          <p:spPr>
            <a:xfrm flipH="1">
              <a:off x="7848000" y="3200040"/>
              <a:ext cx="22932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34" name="Straight Arrow Connector 17"/>
            <p:cNvCxnSpPr/>
            <p:nvPr/>
          </p:nvCxnSpPr>
          <p:spPr>
            <a:xfrm>
              <a:off x="7848360" y="4495320"/>
              <a:ext cx="229320" cy="533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  <p:sp>
          <p:nvSpPr>
            <p:cNvPr id="235" name="Rectangle 18"/>
            <p:cNvSpPr/>
            <p:nvPr/>
          </p:nvSpPr>
          <p:spPr>
            <a:xfrm>
              <a:off x="1828440" y="5181480"/>
              <a:ext cx="5486400" cy="68580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1" descr="https://encrypted-tbn0.gstatic.com/images?q=tbn:ANd9GcSuCVeKVvmGs7RVRads406vrAUkrSZzUAdw6MbyUOfMO2e6brin670_AL8"/>
            <p:cNvPicPr/>
            <p:nvPr/>
          </p:nvPicPr>
          <p:blipFill>
            <a:blip r:embed="rId13"/>
            <a:stretch/>
          </p:blipFill>
          <p:spPr>
            <a:xfrm>
              <a:off x="1142640" y="3276360"/>
              <a:ext cx="10314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3" descr="http://research.microsoft.com/en-us/press/christian_borgs110x142.jpg"/>
            <p:cNvPicPr/>
            <p:nvPr/>
          </p:nvPicPr>
          <p:blipFill>
            <a:blip r:embed="rId14"/>
            <a:stretch/>
          </p:blipFill>
          <p:spPr>
            <a:xfrm>
              <a:off x="6705720" y="3352680"/>
              <a:ext cx="1047600" cy="135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304920" y="3808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ossibility 3: Fine, 2 or 3 particles might be entangled, but a thousand particles could never be entangl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science.kqed.org/quest/files/2009/04/superconducting.jpg"/>
          <p:cNvPicPr/>
          <p:nvPr/>
        </p:nvPicPr>
        <p:blipFill>
          <a:blip r:embed="rId1"/>
          <a:stretch/>
        </p:blipFill>
        <p:spPr>
          <a:xfrm>
            <a:off x="5105520" y="350532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2362320" y="152388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doesn’t work eithe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http://upload.wikimedia.org/wikipedia/commons/1/1f/Young_experiment.gif"/>
          <p:cNvPicPr/>
          <p:nvPr/>
        </p:nvPicPr>
        <p:blipFill>
          <a:blip r:embed="rId2"/>
          <a:stretch/>
        </p:blipFill>
        <p:spPr>
          <a:xfrm>
            <a:off x="838080" y="2514600"/>
            <a:ext cx="3041640" cy="2957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4572000" y="563868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-temperature supercondu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533520" y="571500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ckyball double-slit experi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304920" y="304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eeded: A “Sure/Shor separator”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(A. 2004)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, between the many-particle quantum states we’re sure we can create and those that suffice for things like Shor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science"/>
          <p:cNvPicPr/>
          <p:nvPr/>
        </p:nvPicPr>
        <p:blipFill>
          <a:blip r:embed="rId1"/>
          <a:stretch/>
        </p:blipFill>
        <p:spPr>
          <a:xfrm>
            <a:off x="609480" y="3962520"/>
            <a:ext cx="1440000" cy="246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nature"/>
          <p:cNvPicPr/>
          <p:nvPr/>
        </p:nvPicPr>
        <p:blipFill>
          <a:blip r:embed="rId2"/>
          <a:stretch/>
        </p:blipFill>
        <p:spPr>
          <a:xfrm>
            <a:off x="2133720" y="3429000"/>
            <a:ext cx="1277640" cy="1676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shor"/>
          <p:cNvPicPr/>
          <p:nvPr/>
        </p:nvPicPr>
        <p:blipFill>
          <a:blip r:embed="rId3"/>
          <a:stretch/>
        </p:blipFill>
        <p:spPr>
          <a:xfrm>
            <a:off x="6477120" y="3200400"/>
            <a:ext cx="2133360" cy="320040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15"/>
          <p:cNvSpPr/>
          <p:nvPr/>
        </p:nvSpPr>
        <p:spPr>
          <a:xfrm>
            <a:off x="4191120" y="2971800"/>
            <a:ext cx="533160" cy="3809880"/>
          </a:xfrm>
          <a:custGeom>
            <a:avLst/>
            <a:gdLst>
              <a:gd name="textAreaLeft" fmla="*/ 0 w 533160"/>
              <a:gd name="textAreaRight" fmla="*/ 533520 w 53316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336" h="2400">
                <a:moveTo>
                  <a:pt x="0" y="2400"/>
                </a:moveTo>
                <a:lnTo>
                  <a:pt x="240" y="2304"/>
                </a:lnTo>
                <a:lnTo>
                  <a:pt x="48" y="2160"/>
                </a:lnTo>
                <a:lnTo>
                  <a:pt x="240" y="2016"/>
                </a:lnTo>
                <a:lnTo>
                  <a:pt x="48" y="1920"/>
                </a:lnTo>
                <a:lnTo>
                  <a:pt x="288" y="1824"/>
                </a:lnTo>
                <a:lnTo>
                  <a:pt x="48" y="1680"/>
                </a:lnTo>
                <a:lnTo>
                  <a:pt x="288" y="1536"/>
                </a:lnTo>
                <a:lnTo>
                  <a:pt x="0" y="1440"/>
                </a:lnTo>
                <a:lnTo>
                  <a:pt x="240" y="1296"/>
                </a:lnTo>
                <a:lnTo>
                  <a:pt x="0" y="1200"/>
                </a:lnTo>
                <a:lnTo>
                  <a:pt x="336" y="1008"/>
                </a:lnTo>
                <a:lnTo>
                  <a:pt x="0" y="960"/>
                </a:lnTo>
                <a:lnTo>
                  <a:pt x="240" y="864"/>
                </a:lnTo>
                <a:lnTo>
                  <a:pt x="48" y="768"/>
                </a:lnTo>
                <a:lnTo>
                  <a:pt x="288" y="624"/>
                </a:lnTo>
                <a:lnTo>
                  <a:pt x="48" y="480"/>
                </a:lnTo>
                <a:lnTo>
                  <a:pt x="336" y="432"/>
                </a:lnTo>
                <a:lnTo>
                  <a:pt x="0" y="288"/>
                </a:lnTo>
                <a:lnTo>
                  <a:pt x="336" y="192"/>
                </a:lnTo>
                <a:lnTo>
                  <a:pt x="0" y="96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 rot="5400000">
            <a:off x="3218400" y="45554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alibri"/>
              </a:rPr>
              <a:t>PRINCIPLED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59"/>
          <p:cNvGrpSpPr/>
          <p:nvPr/>
        </p:nvGrpSpPr>
        <p:grpSpPr>
          <a:xfrm>
            <a:off x="1066680" y="685800"/>
            <a:ext cx="7010280" cy="3478680"/>
            <a:chOff x="1066680" y="685800"/>
            <a:chExt cx="7010280" cy="3478680"/>
          </a:xfrm>
        </p:grpSpPr>
        <p:sp>
          <p:nvSpPr>
            <p:cNvPr id="252" name="Text Box 27"/>
            <p:cNvSpPr/>
            <p:nvPr/>
          </p:nvSpPr>
          <p:spPr>
            <a:xfrm>
              <a:off x="4876560" y="685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8"/>
            <p:cNvSpPr/>
            <p:nvPr/>
          </p:nvSpPr>
          <p:spPr>
            <a:xfrm>
              <a:off x="6629040" y="1691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9"/>
            <p:cNvSpPr/>
            <p:nvPr/>
          </p:nvSpPr>
          <p:spPr>
            <a:xfrm>
              <a:off x="5867280" y="262944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0"/>
            <p:cNvSpPr/>
            <p:nvPr/>
          </p:nvSpPr>
          <p:spPr>
            <a:xfrm>
              <a:off x="7238880" y="262944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1"/>
            <p:cNvSpPr/>
            <p:nvPr/>
          </p:nvSpPr>
          <p:spPr>
            <a:xfrm>
              <a:off x="3047760" y="1691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2"/>
            <p:cNvSpPr/>
            <p:nvPr/>
          </p:nvSpPr>
          <p:spPr>
            <a:xfrm>
              <a:off x="4343040" y="2629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3"/>
            <p:cNvSpPr/>
            <p:nvPr/>
          </p:nvSpPr>
          <p:spPr>
            <a:xfrm>
              <a:off x="1828440" y="2629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106668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236196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6"/>
            <p:cNvSpPr/>
            <p:nvPr/>
          </p:nvSpPr>
          <p:spPr>
            <a:xfrm>
              <a:off x="358128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7"/>
            <p:cNvSpPr/>
            <p:nvPr/>
          </p:nvSpPr>
          <p:spPr>
            <a:xfrm>
              <a:off x="4876560" y="35679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9"/>
            <p:cNvSpPr/>
            <p:nvPr/>
          </p:nvSpPr>
          <p:spPr>
            <a:xfrm>
              <a:off x="472428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0"/>
            <p:cNvSpPr/>
            <p:nvPr/>
          </p:nvSpPr>
          <p:spPr>
            <a:xfrm flipH="1">
              <a:off x="396216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1"/>
            <p:cNvSpPr/>
            <p:nvPr/>
          </p:nvSpPr>
          <p:spPr>
            <a:xfrm>
              <a:off x="220968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2"/>
            <p:cNvSpPr/>
            <p:nvPr/>
          </p:nvSpPr>
          <p:spPr>
            <a:xfrm flipH="1">
              <a:off x="1447560" y="303192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5"/>
            <p:cNvSpPr/>
            <p:nvPr/>
          </p:nvSpPr>
          <p:spPr>
            <a:xfrm flipH="1">
              <a:off x="3428640" y="102060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6"/>
            <p:cNvSpPr/>
            <p:nvPr/>
          </p:nvSpPr>
          <p:spPr>
            <a:xfrm>
              <a:off x="5257440" y="102060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7086240" y="209340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 flipH="1">
              <a:off x="6248160" y="209340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 flipH="1">
              <a:off x="2057040" y="209340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3504960" y="209340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Object 2"/>
            <p:cNvGraphicFramePr/>
            <p:nvPr/>
          </p:nvGraphicFramePr>
          <p:xfrm>
            <a:off x="1295280" y="2830680"/>
            <a:ext cx="436320" cy="60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Object 3"/>
            <p:cNvGraphicFramePr/>
            <p:nvPr/>
          </p:nvGraphicFramePr>
          <p:xfrm>
            <a:off x="2438280" y="2830680"/>
            <a:ext cx="43632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4"/>
            <p:cNvGraphicFramePr/>
            <p:nvPr/>
          </p:nvGraphicFramePr>
          <p:xfrm>
            <a:off x="3809880" y="2830680"/>
            <a:ext cx="43632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5"/>
            <p:cNvGraphicFramePr/>
            <p:nvPr/>
          </p:nvGraphicFramePr>
          <p:xfrm>
            <a:off x="4952880" y="2830680"/>
            <a:ext cx="43632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0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283068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6"/>
            <p:cNvGraphicFramePr/>
            <p:nvPr/>
          </p:nvGraphicFramePr>
          <p:xfrm>
            <a:off x="3885840" y="819720"/>
            <a:ext cx="43668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85840" y="81972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7"/>
            <p:cNvGraphicFramePr/>
            <p:nvPr/>
          </p:nvGraphicFramePr>
          <p:xfrm>
            <a:off x="5860800" y="819720"/>
            <a:ext cx="601560" cy="60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60800" y="819720"/>
                      <a:ext cx="60156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Candidate: “Tree Size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28600" y="4241880"/>
            <a:ext cx="853452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metrized states of n identical fermions/bosons can be shown to have tree siz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Using the breakthrough lower bound of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[Raz 2004]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n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ultilinear formula 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of the permanent and determ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wer bound probably also holds for 2D and 3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 latti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Indeed, in all these cases, the true tree size is probably exp(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666880" y="2286000"/>
            <a:ext cx="4038840" cy="489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doesn’t work eith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838080"/>
            <a:ext cx="6248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od, Dice, Yadda Yadda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9" name="Picture 7" descr="File:Albert Einstein Head.jpg"/>
          <p:cNvPicPr/>
          <p:nvPr/>
        </p:nvPicPr>
        <p:blipFill>
          <a:blip r:embed="rId1"/>
          <a:stretch/>
        </p:blipFill>
        <p:spPr>
          <a:xfrm>
            <a:off x="685800" y="228600"/>
            <a:ext cx="1600200" cy="20844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2"/>
          <p:cNvSpPr/>
          <p:nvPr/>
        </p:nvSpPr>
        <p:spPr>
          <a:xfrm>
            <a:off x="380880" y="2514600"/>
            <a:ext cx="8382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 completely different way quantum mechanics might be “not the whole story”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f there were “deeper, underlying” physical laws, and quantum mechanics was “merely a statistical tool” derivable from those law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80880" y="56386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ently, I became interested in </a:t>
            </a:r>
            <a:r>
              <a:rPr b="1" lang="en-US" sz="2600" spc="-1" strike="noStrike">
                <a:solidFill>
                  <a:srgbClr val="c00000"/>
                </a:solidFill>
                <a:latin typeface="Symbol"/>
                <a:ea typeface="Symbol"/>
              </a:rPr>
              <a:t>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-epistemic theori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 attempt to formalize the above “Einsteinian impulse”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1752480" y="4343400"/>
            <a:ext cx="5867640" cy="1144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Note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f quantum mechanics were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exactl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derivable, this </a:t>
            </a: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still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wouldn’t kill QC!  But maybe it could tell us where to look for a breakdow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380880" y="990720"/>
            <a:ext cx="8305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“ontic states”  </a:t>
            </a:r>
            <a:r>
              <a:rPr b="1" lang="en-US" sz="2300" spc="-1" strike="noStrike">
                <a:solidFill>
                  <a:srgbClr val="009900"/>
                </a:solidFill>
                <a:latin typeface="Calibri"/>
              </a:rPr>
              <a:t>(ontic = philosopher-speak for “real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pure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 probability measu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 ontic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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orthonormal basis B=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nd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d], a “response function”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0,1], satisf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A d-dimensional </a:t>
            </a:r>
            <a:r>
              <a:rPr b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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-Epistemic Theory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 is defined by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95" name="Object 1"/>
          <p:cNvGraphicFramePr/>
          <p:nvPr/>
        </p:nvGraphicFramePr>
        <p:xfrm>
          <a:off x="500040" y="3581280"/>
          <a:ext cx="3198960" cy="9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81280"/>
                    <a:ext cx="31989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"/>
          <p:cNvGraphicFramePr/>
          <p:nvPr/>
        </p:nvGraphicFramePr>
        <p:xfrm>
          <a:off x="380880" y="5181480"/>
          <a:ext cx="54244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5424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Freeform 8"/>
          <p:cNvSpPr/>
          <p:nvPr/>
        </p:nvSpPr>
        <p:spPr>
          <a:xfrm>
            <a:off x="5943600" y="4800600"/>
            <a:ext cx="2846520" cy="1727280"/>
          </a:xfrm>
          <a:custGeom>
            <a:avLst/>
            <a:gdLst/>
            <a:ahLst/>
            <a:rect l="l" t="t" r="r" b="b"/>
            <a:pathLst>
              <a:path w="2846815" h="1727200">
                <a:moveTo>
                  <a:pt x="1239217" y="341086"/>
                </a:moveTo>
                <a:lnTo>
                  <a:pt x="1239217" y="341086"/>
                </a:lnTo>
                <a:cubicBezTo>
                  <a:pt x="1215027" y="345924"/>
                  <a:pt x="1191302" y="354778"/>
                  <a:pt x="1166646" y="355600"/>
                </a:cubicBezTo>
                <a:cubicBezTo>
                  <a:pt x="1142245" y="356413"/>
                  <a:pt x="1028145" y="353632"/>
                  <a:pt x="977960" y="341086"/>
                </a:cubicBezTo>
                <a:cubicBezTo>
                  <a:pt x="963117" y="337375"/>
                  <a:pt x="949200" y="330514"/>
                  <a:pt x="934417" y="326572"/>
                </a:cubicBezTo>
                <a:cubicBezTo>
                  <a:pt x="881849" y="312554"/>
                  <a:pt x="868598" y="311986"/>
                  <a:pt x="818303" y="304800"/>
                </a:cubicBezTo>
                <a:cubicBezTo>
                  <a:pt x="711133" y="269077"/>
                  <a:pt x="844394" y="314836"/>
                  <a:pt x="723960" y="268515"/>
                </a:cubicBezTo>
                <a:cubicBezTo>
                  <a:pt x="709680" y="263023"/>
                  <a:pt x="694697" y="259492"/>
                  <a:pt x="680417" y="254000"/>
                </a:cubicBezTo>
                <a:cubicBezTo>
                  <a:pt x="663222" y="247387"/>
                  <a:pt x="646389" y="239852"/>
                  <a:pt x="629617" y="232229"/>
                </a:cubicBezTo>
                <a:cubicBezTo>
                  <a:pt x="619769" y="227752"/>
                  <a:pt x="610633" y="221733"/>
                  <a:pt x="600589" y="217715"/>
                </a:cubicBezTo>
                <a:cubicBezTo>
                  <a:pt x="586384" y="212033"/>
                  <a:pt x="570020" y="211309"/>
                  <a:pt x="557046" y="203200"/>
                </a:cubicBezTo>
                <a:cubicBezTo>
                  <a:pt x="537694" y="191105"/>
                  <a:pt x="515126" y="183052"/>
                  <a:pt x="498989" y="166915"/>
                </a:cubicBezTo>
                <a:cubicBezTo>
                  <a:pt x="485489" y="153415"/>
                  <a:pt x="481012" y="147040"/>
                  <a:pt x="462703" y="137886"/>
                </a:cubicBezTo>
                <a:cubicBezTo>
                  <a:pt x="455861" y="134465"/>
                  <a:pt x="448188" y="133048"/>
                  <a:pt x="440931" y="130629"/>
                </a:cubicBezTo>
                <a:cubicBezTo>
                  <a:pt x="433674" y="123372"/>
                  <a:pt x="427699" y="114551"/>
                  <a:pt x="419160" y="108858"/>
                </a:cubicBezTo>
                <a:cubicBezTo>
                  <a:pt x="353698" y="65215"/>
                  <a:pt x="444136" y="144184"/>
                  <a:pt x="375617" y="87086"/>
                </a:cubicBezTo>
                <a:cubicBezTo>
                  <a:pt x="360775" y="74718"/>
                  <a:pt x="351255" y="57775"/>
                  <a:pt x="332074" y="50800"/>
                </a:cubicBezTo>
                <a:cubicBezTo>
                  <a:pt x="313327" y="43983"/>
                  <a:pt x="274017" y="36286"/>
                  <a:pt x="274017" y="36286"/>
                </a:cubicBezTo>
                <a:cubicBezTo>
                  <a:pt x="211122" y="38705"/>
                  <a:pt x="148124" y="39213"/>
                  <a:pt x="85331" y="43543"/>
                </a:cubicBezTo>
                <a:cubicBezTo>
                  <a:pt x="58903" y="45366"/>
                  <a:pt x="59052" y="56482"/>
                  <a:pt x="49046" y="79829"/>
                </a:cubicBezTo>
                <a:cubicBezTo>
                  <a:pt x="22186" y="142503"/>
                  <a:pt x="68609" y="47012"/>
                  <a:pt x="34531" y="137886"/>
                </a:cubicBezTo>
                <a:cubicBezTo>
                  <a:pt x="31468" y="146053"/>
                  <a:pt x="23918" y="151857"/>
                  <a:pt x="20017" y="159658"/>
                </a:cubicBezTo>
                <a:cubicBezTo>
                  <a:pt x="16596" y="166500"/>
                  <a:pt x="15179" y="174172"/>
                  <a:pt x="12760" y="181429"/>
                </a:cubicBezTo>
                <a:cubicBezTo>
                  <a:pt x="0" y="257992"/>
                  <a:pt x="1086" y="231601"/>
                  <a:pt x="12760" y="348343"/>
                </a:cubicBezTo>
                <a:cubicBezTo>
                  <a:pt x="13521" y="355955"/>
                  <a:pt x="16596" y="363273"/>
                  <a:pt x="20017" y="370115"/>
                </a:cubicBezTo>
                <a:cubicBezTo>
                  <a:pt x="26363" y="382806"/>
                  <a:pt x="41006" y="410717"/>
                  <a:pt x="56303" y="420915"/>
                </a:cubicBezTo>
                <a:cubicBezTo>
                  <a:pt x="65304" y="426916"/>
                  <a:pt x="75655" y="430591"/>
                  <a:pt x="85331" y="435429"/>
                </a:cubicBezTo>
                <a:cubicBezTo>
                  <a:pt x="99954" y="479291"/>
                  <a:pt x="81854" y="443076"/>
                  <a:pt x="143389" y="478972"/>
                </a:cubicBezTo>
                <a:cubicBezTo>
                  <a:pt x="222275" y="524989"/>
                  <a:pt x="146890" y="497071"/>
                  <a:pt x="201446" y="515258"/>
                </a:cubicBezTo>
                <a:cubicBezTo>
                  <a:pt x="206284" y="522515"/>
                  <a:pt x="209793" y="530862"/>
                  <a:pt x="215960" y="537029"/>
                </a:cubicBezTo>
                <a:cubicBezTo>
                  <a:pt x="233394" y="554463"/>
                  <a:pt x="238843" y="549946"/>
                  <a:pt x="259503" y="558800"/>
                </a:cubicBezTo>
                <a:cubicBezTo>
                  <a:pt x="269446" y="563062"/>
                  <a:pt x="278855" y="568477"/>
                  <a:pt x="288531" y="573315"/>
                </a:cubicBezTo>
                <a:cubicBezTo>
                  <a:pt x="290950" y="580572"/>
                  <a:pt x="289564" y="590640"/>
                  <a:pt x="295789" y="595086"/>
                </a:cubicBezTo>
                <a:cubicBezTo>
                  <a:pt x="308238" y="603978"/>
                  <a:pt x="339331" y="609600"/>
                  <a:pt x="339331" y="609600"/>
                </a:cubicBezTo>
                <a:cubicBezTo>
                  <a:pt x="356264" y="626533"/>
                  <a:pt x="367413" y="652827"/>
                  <a:pt x="390131" y="660400"/>
                </a:cubicBezTo>
                <a:cubicBezTo>
                  <a:pt x="420177" y="670416"/>
                  <a:pt x="405538" y="663415"/>
                  <a:pt x="433674" y="682172"/>
                </a:cubicBezTo>
                <a:cubicBezTo>
                  <a:pt x="449688" y="762246"/>
                  <a:pt x="425685" y="686701"/>
                  <a:pt x="462703" y="732972"/>
                </a:cubicBezTo>
                <a:cubicBezTo>
                  <a:pt x="467482" y="738945"/>
                  <a:pt x="466024" y="748184"/>
                  <a:pt x="469960" y="754743"/>
                </a:cubicBezTo>
                <a:cubicBezTo>
                  <a:pt x="473480" y="760610"/>
                  <a:pt x="480094" y="764002"/>
                  <a:pt x="484474" y="769258"/>
                </a:cubicBezTo>
                <a:cubicBezTo>
                  <a:pt x="492217" y="778550"/>
                  <a:pt x="498989" y="788610"/>
                  <a:pt x="506246" y="798286"/>
                </a:cubicBezTo>
                <a:cubicBezTo>
                  <a:pt x="529203" y="867159"/>
                  <a:pt x="517142" y="821185"/>
                  <a:pt x="498989" y="972458"/>
                </a:cubicBezTo>
                <a:cubicBezTo>
                  <a:pt x="497801" y="982361"/>
                  <a:pt x="495660" y="992319"/>
                  <a:pt x="491731" y="1001486"/>
                </a:cubicBezTo>
                <a:cubicBezTo>
                  <a:pt x="488295" y="1009503"/>
                  <a:pt x="483012" y="1016739"/>
                  <a:pt x="477217" y="1023258"/>
                </a:cubicBezTo>
                <a:cubicBezTo>
                  <a:pt x="463580" y="1038599"/>
                  <a:pt x="433674" y="1066800"/>
                  <a:pt x="433674" y="1066800"/>
                </a:cubicBezTo>
                <a:cubicBezTo>
                  <a:pt x="428836" y="1076476"/>
                  <a:pt x="426086" y="1087518"/>
                  <a:pt x="419160" y="1095829"/>
                </a:cubicBezTo>
                <a:cubicBezTo>
                  <a:pt x="413576" y="1102529"/>
                  <a:pt x="403953" y="1104600"/>
                  <a:pt x="397389" y="1110343"/>
                </a:cubicBezTo>
                <a:cubicBezTo>
                  <a:pt x="384516" y="1121607"/>
                  <a:pt x="375336" y="1137141"/>
                  <a:pt x="361103" y="1146629"/>
                </a:cubicBezTo>
                <a:cubicBezTo>
                  <a:pt x="353846" y="1151467"/>
                  <a:pt x="346031" y="1155559"/>
                  <a:pt x="339331" y="1161143"/>
                </a:cubicBezTo>
                <a:cubicBezTo>
                  <a:pt x="331447" y="1167713"/>
                  <a:pt x="325661" y="1176614"/>
                  <a:pt x="317560" y="1182915"/>
                </a:cubicBezTo>
                <a:cubicBezTo>
                  <a:pt x="303791" y="1193625"/>
                  <a:pt x="286351" y="1199608"/>
                  <a:pt x="274017" y="1211943"/>
                </a:cubicBezTo>
                <a:cubicBezTo>
                  <a:pt x="210221" y="1275744"/>
                  <a:pt x="318258" y="1165801"/>
                  <a:pt x="244989" y="1248229"/>
                </a:cubicBezTo>
                <a:cubicBezTo>
                  <a:pt x="208835" y="1288902"/>
                  <a:pt x="212765" y="1284226"/>
                  <a:pt x="179674" y="1306286"/>
                </a:cubicBezTo>
                <a:cubicBezTo>
                  <a:pt x="177255" y="1313543"/>
                  <a:pt x="176132" y="1321371"/>
                  <a:pt x="172417" y="1328058"/>
                </a:cubicBezTo>
                <a:cubicBezTo>
                  <a:pt x="126388" y="1410912"/>
                  <a:pt x="160904" y="1346078"/>
                  <a:pt x="128874" y="1386115"/>
                </a:cubicBezTo>
                <a:cubicBezTo>
                  <a:pt x="123425" y="1392926"/>
                  <a:pt x="119198" y="1400629"/>
                  <a:pt x="114360" y="1407886"/>
                </a:cubicBezTo>
                <a:cubicBezTo>
                  <a:pt x="111941" y="1415143"/>
                  <a:pt x="109205" y="1422302"/>
                  <a:pt x="107103" y="1429658"/>
                </a:cubicBezTo>
                <a:cubicBezTo>
                  <a:pt x="104363" y="1439248"/>
                  <a:pt x="103775" y="1449519"/>
                  <a:pt x="99846" y="1458686"/>
                </a:cubicBezTo>
                <a:cubicBezTo>
                  <a:pt x="96410" y="1466703"/>
                  <a:pt x="90169" y="1473201"/>
                  <a:pt x="85331" y="1480458"/>
                </a:cubicBezTo>
                <a:cubicBezTo>
                  <a:pt x="75555" y="1548889"/>
                  <a:pt x="73535" y="1520358"/>
                  <a:pt x="92589" y="1596572"/>
                </a:cubicBezTo>
                <a:cubicBezTo>
                  <a:pt x="96136" y="1610759"/>
                  <a:pt x="99691" y="1625523"/>
                  <a:pt x="114360" y="1632858"/>
                </a:cubicBezTo>
                <a:cubicBezTo>
                  <a:pt x="123281" y="1637319"/>
                  <a:pt x="133713" y="1637696"/>
                  <a:pt x="143389" y="1640115"/>
                </a:cubicBezTo>
                <a:cubicBezTo>
                  <a:pt x="145808" y="1647372"/>
                  <a:pt x="145867" y="1655913"/>
                  <a:pt x="150646" y="1661886"/>
                </a:cubicBezTo>
                <a:cubicBezTo>
                  <a:pt x="164237" y="1678875"/>
                  <a:pt x="200822" y="1684187"/>
                  <a:pt x="215960" y="1690915"/>
                </a:cubicBezTo>
                <a:cubicBezTo>
                  <a:pt x="223930" y="1694457"/>
                  <a:pt x="229930" y="1701529"/>
                  <a:pt x="237731" y="1705429"/>
                </a:cubicBezTo>
                <a:cubicBezTo>
                  <a:pt x="244573" y="1708850"/>
                  <a:pt x="252147" y="1710584"/>
                  <a:pt x="259503" y="1712686"/>
                </a:cubicBezTo>
                <a:cubicBezTo>
                  <a:pt x="296798" y="1723342"/>
                  <a:pt x="299467" y="1721310"/>
                  <a:pt x="346589" y="1727200"/>
                </a:cubicBezTo>
                <a:cubicBezTo>
                  <a:pt x="421579" y="1724781"/>
                  <a:pt x="496640" y="1723993"/>
                  <a:pt x="571560" y="1719943"/>
                </a:cubicBezTo>
                <a:cubicBezTo>
                  <a:pt x="586253" y="1719149"/>
                  <a:pt x="601144" y="1717339"/>
                  <a:pt x="615103" y="1712686"/>
                </a:cubicBezTo>
                <a:cubicBezTo>
                  <a:pt x="623377" y="1709928"/>
                  <a:pt x="629073" y="1702072"/>
                  <a:pt x="636874" y="1698172"/>
                </a:cubicBezTo>
                <a:cubicBezTo>
                  <a:pt x="643716" y="1694751"/>
                  <a:pt x="651389" y="1693334"/>
                  <a:pt x="658646" y="1690915"/>
                </a:cubicBezTo>
                <a:cubicBezTo>
                  <a:pt x="673160" y="1681239"/>
                  <a:pt x="688419" y="1672596"/>
                  <a:pt x="702189" y="1661886"/>
                </a:cubicBezTo>
                <a:cubicBezTo>
                  <a:pt x="710290" y="1655585"/>
                  <a:pt x="716076" y="1646685"/>
                  <a:pt x="723960" y="1640115"/>
                </a:cubicBezTo>
                <a:cubicBezTo>
                  <a:pt x="730660" y="1634531"/>
                  <a:pt x="738634" y="1630670"/>
                  <a:pt x="745731" y="1625600"/>
                </a:cubicBezTo>
                <a:cubicBezTo>
                  <a:pt x="755573" y="1618570"/>
                  <a:pt x="764918" y="1610859"/>
                  <a:pt x="774760" y="1603829"/>
                </a:cubicBezTo>
                <a:cubicBezTo>
                  <a:pt x="781857" y="1598760"/>
                  <a:pt x="789720" y="1594764"/>
                  <a:pt x="796531" y="1589315"/>
                </a:cubicBezTo>
                <a:cubicBezTo>
                  <a:pt x="801874" y="1585041"/>
                  <a:pt x="804926" y="1577860"/>
                  <a:pt x="811046" y="1574800"/>
                </a:cubicBezTo>
                <a:cubicBezTo>
                  <a:pt x="824730" y="1567958"/>
                  <a:pt x="854589" y="1560286"/>
                  <a:pt x="854589" y="1560286"/>
                </a:cubicBezTo>
                <a:cubicBezTo>
                  <a:pt x="882832" y="1517922"/>
                  <a:pt x="851269" y="1554690"/>
                  <a:pt x="898131" y="1531258"/>
                </a:cubicBezTo>
                <a:cubicBezTo>
                  <a:pt x="904251" y="1528198"/>
                  <a:pt x="907303" y="1521017"/>
                  <a:pt x="912646" y="1516743"/>
                </a:cubicBezTo>
                <a:cubicBezTo>
                  <a:pt x="919457" y="1511294"/>
                  <a:pt x="927320" y="1507298"/>
                  <a:pt x="934417" y="1502229"/>
                </a:cubicBezTo>
                <a:cubicBezTo>
                  <a:pt x="944259" y="1495199"/>
                  <a:pt x="952944" y="1486459"/>
                  <a:pt x="963446" y="1480458"/>
                </a:cubicBezTo>
                <a:cubicBezTo>
                  <a:pt x="970088" y="1476663"/>
                  <a:pt x="978375" y="1476621"/>
                  <a:pt x="985217" y="1473200"/>
                </a:cubicBezTo>
                <a:cubicBezTo>
                  <a:pt x="1041482" y="1445067"/>
                  <a:pt x="974046" y="1469667"/>
                  <a:pt x="1028760" y="1451429"/>
                </a:cubicBezTo>
                <a:cubicBezTo>
                  <a:pt x="1069884" y="1453848"/>
                  <a:pt x="1111440" y="1452261"/>
                  <a:pt x="1152131" y="1458686"/>
                </a:cubicBezTo>
                <a:cubicBezTo>
                  <a:pt x="1158889" y="1459753"/>
                  <a:pt x="1160779" y="1469680"/>
                  <a:pt x="1166646" y="1473200"/>
                </a:cubicBezTo>
                <a:cubicBezTo>
                  <a:pt x="1173205" y="1477136"/>
                  <a:pt x="1181160" y="1478039"/>
                  <a:pt x="1188417" y="1480458"/>
                </a:cubicBezTo>
                <a:cubicBezTo>
                  <a:pt x="1198093" y="1487715"/>
                  <a:pt x="1206628" y="1496820"/>
                  <a:pt x="1217446" y="1502229"/>
                </a:cubicBezTo>
                <a:cubicBezTo>
                  <a:pt x="1226367" y="1506689"/>
                  <a:pt x="1236884" y="1506746"/>
                  <a:pt x="1246474" y="1509486"/>
                </a:cubicBezTo>
                <a:cubicBezTo>
                  <a:pt x="1253830" y="1511588"/>
                  <a:pt x="1260989" y="1514324"/>
                  <a:pt x="1268246" y="1516743"/>
                </a:cubicBezTo>
                <a:cubicBezTo>
                  <a:pt x="1312006" y="1560505"/>
                  <a:pt x="1263284" y="1520218"/>
                  <a:pt x="1333560" y="1545772"/>
                </a:cubicBezTo>
                <a:cubicBezTo>
                  <a:pt x="1439075" y="1584140"/>
                  <a:pt x="1283253" y="1556719"/>
                  <a:pt x="1427903" y="1574800"/>
                </a:cubicBezTo>
                <a:cubicBezTo>
                  <a:pt x="1444836" y="1579638"/>
                  <a:pt x="1461543" y="1585355"/>
                  <a:pt x="1478703" y="1589315"/>
                </a:cubicBezTo>
                <a:cubicBezTo>
                  <a:pt x="1493041" y="1592624"/>
                  <a:pt x="1507561" y="1595635"/>
                  <a:pt x="1522246" y="1596572"/>
                </a:cubicBezTo>
                <a:cubicBezTo>
                  <a:pt x="1621343" y="1602897"/>
                  <a:pt x="1720608" y="1606248"/>
                  <a:pt x="1819789" y="1611086"/>
                </a:cubicBezTo>
                <a:cubicBezTo>
                  <a:pt x="1843979" y="1613505"/>
                  <a:pt x="1868521" y="1613575"/>
                  <a:pt x="1892360" y="1618343"/>
                </a:cubicBezTo>
                <a:cubicBezTo>
                  <a:pt x="1905134" y="1620898"/>
                  <a:pt x="1915627" y="1632393"/>
                  <a:pt x="1928646" y="1632858"/>
                </a:cubicBezTo>
                <a:lnTo>
                  <a:pt x="2095560" y="1625600"/>
                </a:lnTo>
                <a:cubicBezTo>
                  <a:pt x="2102817" y="1623181"/>
                  <a:pt x="2109830" y="1619843"/>
                  <a:pt x="2117331" y="1618343"/>
                </a:cubicBezTo>
                <a:cubicBezTo>
                  <a:pt x="2134104" y="1614988"/>
                  <a:pt x="2151225" y="1613687"/>
                  <a:pt x="2168131" y="1611086"/>
                </a:cubicBezTo>
                <a:cubicBezTo>
                  <a:pt x="2182674" y="1608849"/>
                  <a:pt x="2197160" y="1606248"/>
                  <a:pt x="2211674" y="1603829"/>
                </a:cubicBezTo>
                <a:cubicBezTo>
                  <a:pt x="2216512" y="1598991"/>
                  <a:pt x="2219480" y="1590657"/>
                  <a:pt x="2226189" y="1589315"/>
                </a:cubicBezTo>
                <a:cubicBezTo>
                  <a:pt x="2243693" y="1585814"/>
                  <a:pt x="2261338" y="1609950"/>
                  <a:pt x="2269731" y="1618343"/>
                </a:cubicBezTo>
                <a:cubicBezTo>
                  <a:pt x="2290571" y="1701694"/>
                  <a:pt x="2261430" y="1598970"/>
                  <a:pt x="2291503" y="1669143"/>
                </a:cubicBezTo>
                <a:cubicBezTo>
                  <a:pt x="2295432" y="1678311"/>
                  <a:pt x="2293227" y="1689873"/>
                  <a:pt x="2298760" y="1698172"/>
                </a:cubicBezTo>
                <a:cubicBezTo>
                  <a:pt x="2306799" y="1710231"/>
                  <a:pt x="2329884" y="1715803"/>
                  <a:pt x="2342303" y="1719943"/>
                </a:cubicBezTo>
                <a:cubicBezTo>
                  <a:pt x="2378589" y="1717524"/>
                  <a:pt x="2415500" y="1719818"/>
                  <a:pt x="2451160" y="1712686"/>
                </a:cubicBezTo>
                <a:cubicBezTo>
                  <a:pt x="2464991" y="1709920"/>
                  <a:pt x="2474556" y="1696644"/>
                  <a:pt x="2487446" y="1690915"/>
                </a:cubicBezTo>
                <a:cubicBezTo>
                  <a:pt x="2496560" y="1686864"/>
                  <a:pt x="2506798" y="1686077"/>
                  <a:pt x="2516474" y="1683658"/>
                </a:cubicBezTo>
                <a:cubicBezTo>
                  <a:pt x="2523731" y="1676401"/>
                  <a:pt x="2529706" y="1667579"/>
                  <a:pt x="2538246" y="1661886"/>
                </a:cubicBezTo>
                <a:cubicBezTo>
                  <a:pt x="2544611" y="1657643"/>
                  <a:pt x="2554044" y="1659408"/>
                  <a:pt x="2560017" y="1654629"/>
                </a:cubicBezTo>
                <a:cubicBezTo>
                  <a:pt x="2584484" y="1635056"/>
                  <a:pt x="2566765" y="1633622"/>
                  <a:pt x="2581789" y="1611086"/>
                </a:cubicBezTo>
                <a:cubicBezTo>
                  <a:pt x="2587482" y="1602547"/>
                  <a:pt x="2596303" y="1596572"/>
                  <a:pt x="2603560" y="1589315"/>
                </a:cubicBezTo>
                <a:cubicBezTo>
                  <a:pt x="2618606" y="1529130"/>
                  <a:pt x="2598945" y="1591817"/>
                  <a:pt x="2632589" y="1531258"/>
                </a:cubicBezTo>
                <a:cubicBezTo>
                  <a:pt x="2638916" y="1519870"/>
                  <a:pt x="2641277" y="1506624"/>
                  <a:pt x="2647103" y="1494972"/>
                </a:cubicBezTo>
                <a:cubicBezTo>
                  <a:pt x="2651004" y="1487171"/>
                  <a:pt x="2657290" y="1480773"/>
                  <a:pt x="2661617" y="1473200"/>
                </a:cubicBezTo>
                <a:cubicBezTo>
                  <a:pt x="2666984" y="1463807"/>
                  <a:pt x="2671869" y="1454115"/>
                  <a:pt x="2676131" y="1444172"/>
                </a:cubicBezTo>
                <a:cubicBezTo>
                  <a:pt x="2679145" y="1437141"/>
                  <a:pt x="2679968" y="1429242"/>
                  <a:pt x="2683389" y="1422400"/>
                </a:cubicBezTo>
                <a:cubicBezTo>
                  <a:pt x="2687290" y="1414599"/>
                  <a:pt x="2693576" y="1408202"/>
                  <a:pt x="2697903" y="1400629"/>
                </a:cubicBezTo>
                <a:cubicBezTo>
                  <a:pt x="2712250" y="1375521"/>
                  <a:pt x="2711533" y="1374253"/>
                  <a:pt x="2719674" y="1349829"/>
                </a:cubicBezTo>
                <a:cubicBezTo>
                  <a:pt x="2722093" y="1330477"/>
                  <a:pt x="2724038" y="1311059"/>
                  <a:pt x="2726931" y="1291772"/>
                </a:cubicBezTo>
                <a:cubicBezTo>
                  <a:pt x="2731297" y="1262668"/>
                  <a:pt x="2741446" y="1234115"/>
                  <a:pt x="2741446" y="1204686"/>
                </a:cubicBezTo>
                <a:cubicBezTo>
                  <a:pt x="2741446" y="1148838"/>
                  <a:pt x="2733858" y="1093189"/>
                  <a:pt x="2726931" y="1037772"/>
                </a:cubicBezTo>
                <a:cubicBezTo>
                  <a:pt x="2719359" y="977195"/>
                  <a:pt x="2721333" y="985833"/>
                  <a:pt x="2697903" y="950686"/>
                </a:cubicBezTo>
                <a:cubicBezTo>
                  <a:pt x="2688748" y="877446"/>
                  <a:pt x="2696814" y="911133"/>
                  <a:pt x="2676131" y="849086"/>
                </a:cubicBezTo>
                <a:cubicBezTo>
                  <a:pt x="2673712" y="841829"/>
                  <a:pt x="2674283" y="832724"/>
                  <a:pt x="2668874" y="827315"/>
                </a:cubicBezTo>
                <a:lnTo>
                  <a:pt x="2654360" y="812800"/>
                </a:lnTo>
                <a:cubicBezTo>
                  <a:pt x="2651941" y="798286"/>
                  <a:pt x="2646558" y="783962"/>
                  <a:pt x="2647103" y="769258"/>
                </a:cubicBezTo>
                <a:cubicBezTo>
                  <a:pt x="2648992" y="718263"/>
                  <a:pt x="2655768" y="667552"/>
                  <a:pt x="2661617" y="616858"/>
                </a:cubicBezTo>
                <a:cubicBezTo>
                  <a:pt x="2663031" y="604604"/>
                  <a:pt x="2665330" y="592387"/>
                  <a:pt x="2668874" y="580572"/>
                </a:cubicBezTo>
                <a:cubicBezTo>
                  <a:pt x="2672617" y="568094"/>
                  <a:pt x="2678551" y="556381"/>
                  <a:pt x="2683389" y="544286"/>
                </a:cubicBezTo>
                <a:cubicBezTo>
                  <a:pt x="2700474" y="441772"/>
                  <a:pt x="2674563" y="545218"/>
                  <a:pt x="2712417" y="478972"/>
                </a:cubicBezTo>
                <a:cubicBezTo>
                  <a:pt x="2717365" y="470312"/>
                  <a:pt x="2716808" y="459496"/>
                  <a:pt x="2719674" y="449943"/>
                </a:cubicBezTo>
                <a:cubicBezTo>
                  <a:pt x="2739682" y="383253"/>
                  <a:pt x="2724144" y="427609"/>
                  <a:pt x="2748703" y="384629"/>
                </a:cubicBezTo>
                <a:cubicBezTo>
                  <a:pt x="2754070" y="375236"/>
                  <a:pt x="2754562" y="362091"/>
                  <a:pt x="2763217" y="355600"/>
                </a:cubicBezTo>
                <a:cubicBezTo>
                  <a:pt x="2775457" y="346420"/>
                  <a:pt x="2806760" y="341086"/>
                  <a:pt x="2806760" y="341086"/>
                </a:cubicBezTo>
                <a:cubicBezTo>
                  <a:pt x="2826433" y="311576"/>
                  <a:pt x="2828531" y="315214"/>
                  <a:pt x="2828531" y="268515"/>
                </a:cubicBezTo>
                <a:cubicBezTo>
                  <a:pt x="2828531" y="189094"/>
                  <a:pt x="2846815" y="148912"/>
                  <a:pt x="2799503" y="101600"/>
                </a:cubicBezTo>
                <a:cubicBezTo>
                  <a:pt x="2793336" y="95433"/>
                  <a:pt x="2785532" y="90987"/>
                  <a:pt x="2777731" y="87086"/>
                </a:cubicBezTo>
                <a:cubicBezTo>
                  <a:pt x="2770889" y="83665"/>
                  <a:pt x="2763217" y="82248"/>
                  <a:pt x="2755960" y="79829"/>
                </a:cubicBezTo>
                <a:cubicBezTo>
                  <a:pt x="2746284" y="72572"/>
                  <a:pt x="2736223" y="65801"/>
                  <a:pt x="2726931" y="58058"/>
                </a:cubicBezTo>
                <a:cubicBezTo>
                  <a:pt x="2721675" y="53678"/>
                  <a:pt x="2718284" y="47063"/>
                  <a:pt x="2712417" y="43543"/>
                </a:cubicBezTo>
                <a:cubicBezTo>
                  <a:pt x="2698675" y="35298"/>
                  <a:pt x="2655895" y="30494"/>
                  <a:pt x="2647103" y="29029"/>
                </a:cubicBezTo>
                <a:cubicBezTo>
                  <a:pt x="2637427" y="24191"/>
                  <a:pt x="2628204" y="18314"/>
                  <a:pt x="2618074" y="14515"/>
                </a:cubicBezTo>
                <a:cubicBezTo>
                  <a:pt x="2597019" y="6619"/>
                  <a:pt x="2556786" y="2649"/>
                  <a:pt x="2538246" y="0"/>
                </a:cubicBezTo>
                <a:cubicBezTo>
                  <a:pt x="2480189" y="2419"/>
                  <a:pt x="2422023" y="2965"/>
                  <a:pt x="2364074" y="7258"/>
                </a:cubicBezTo>
                <a:cubicBezTo>
                  <a:pt x="2356445" y="7823"/>
                  <a:pt x="2348668" y="10272"/>
                  <a:pt x="2342303" y="14515"/>
                </a:cubicBezTo>
                <a:cubicBezTo>
                  <a:pt x="2287942" y="50755"/>
                  <a:pt x="2350526" y="26288"/>
                  <a:pt x="2298760" y="43543"/>
                </a:cubicBezTo>
                <a:cubicBezTo>
                  <a:pt x="2291503" y="48381"/>
                  <a:pt x="2284385" y="53435"/>
                  <a:pt x="2276989" y="58058"/>
                </a:cubicBezTo>
                <a:cubicBezTo>
                  <a:pt x="2260605" y="68298"/>
                  <a:pt x="2235508" y="81910"/>
                  <a:pt x="2218931" y="94343"/>
                </a:cubicBezTo>
                <a:cubicBezTo>
                  <a:pt x="2206540" y="103637"/>
                  <a:pt x="2193599" y="112419"/>
                  <a:pt x="2182646" y="123372"/>
                </a:cubicBezTo>
                <a:cubicBezTo>
                  <a:pt x="2149822" y="156196"/>
                  <a:pt x="2188742" y="138273"/>
                  <a:pt x="2146360" y="152400"/>
                </a:cubicBezTo>
                <a:cubicBezTo>
                  <a:pt x="2141522" y="157238"/>
                  <a:pt x="2137189" y="162641"/>
                  <a:pt x="2131846" y="166915"/>
                </a:cubicBezTo>
                <a:cubicBezTo>
                  <a:pt x="2125035" y="172364"/>
                  <a:pt x="2117052" y="176196"/>
                  <a:pt x="2110074" y="181429"/>
                </a:cubicBezTo>
                <a:cubicBezTo>
                  <a:pt x="2094722" y="192943"/>
                  <a:pt x="2073135" y="209131"/>
                  <a:pt x="2059274" y="224972"/>
                </a:cubicBezTo>
                <a:cubicBezTo>
                  <a:pt x="2046833" y="239191"/>
                  <a:pt x="2034325" y="253400"/>
                  <a:pt x="2022989" y="268515"/>
                </a:cubicBezTo>
                <a:cubicBezTo>
                  <a:pt x="1970910" y="337955"/>
                  <a:pt x="2016507" y="289511"/>
                  <a:pt x="1972189" y="333829"/>
                </a:cubicBezTo>
                <a:cubicBezTo>
                  <a:pt x="1966286" y="351534"/>
                  <a:pt x="1964483" y="363305"/>
                  <a:pt x="1950417" y="377372"/>
                </a:cubicBezTo>
                <a:cubicBezTo>
                  <a:pt x="1944250" y="383539"/>
                  <a:pt x="1935903" y="387048"/>
                  <a:pt x="1928646" y="391886"/>
                </a:cubicBezTo>
                <a:cubicBezTo>
                  <a:pt x="1926227" y="399143"/>
                  <a:pt x="1926086" y="407620"/>
                  <a:pt x="1921389" y="413658"/>
                </a:cubicBezTo>
                <a:cubicBezTo>
                  <a:pt x="1913647" y="423612"/>
                  <a:pt x="1877091" y="462708"/>
                  <a:pt x="1856074" y="471715"/>
                </a:cubicBezTo>
                <a:cubicBezTo>
                  <a:pt x="1846907" y="475644"/>
                  <a:pt x="1836722" y="476553"/>
                  <a:pt x="1827046" y="478972"/>
                </a:cubicBezTo>
                <a:cubicBezTo>
                  <a:pt x="1773827" y="476553"/>
                  <a:pt x="1720493" y="475963"/>
                  <a:pt x="1667389" y="471715"/>
                </a:cubicBezTo>
                <a:cubicBezTo>
                  <a:pt x="1659763" y="471105"/>
                  <a:pt x="1651591" y="469237"/>
                  <a:pt x="1645617" y="464458"/>
                </a:cubicBezTo>
                <a:cubicBezTo>
                  <a:pt x="1638806" y="459009"/>
                  <a:pt x="1637803" y="448270"/>
                  <a:pt x="1631103" y="442686"/>
                </a:cubicBezTo>
                <a:cubicBezTo>
                  <a:pt x="1622792" y="435760"/>
                  <a:pt x="1611467" y="433539"/>
                  <a:pt x="1602074" y="428172"/>
                </a:cubicBezTo>
                <a:cubicBezTo>
                  <a:pt x="1584972" y="418399"/>
                  <a:pt x="1566849" y="403011"/>
                  <a:pt x="1551274" y="391886"/>
                </a:cubicBezTo>
                <a:cubicBezTo>
                  <a:pt x="1544177" y="386817"/>
                  <a:pt x="1537160" y="381548"/>
                  <a:pt x="1529503" y="377372"/>
                </a:cubicBezTo>
                <a:cubicBezTo>
                  <a:pt x="1510508" y="367011"/>
                  <a:pt x="1471446" y="348343"/>
                  <a:pt x="1471446" y="348343"/>
                </a:cubicBezTo>
                <a:cubicBezTo>
                  <a:pt x="1456932" y="350762"/>
                  <a:pt x="1442618" y="355600"/>
                  <a:pt x="1427903" y="355600"/>
                </a:cubicBezTo>
                <a:cubicBezTo>
                  <a:pt x="1264978" y="355600"/>
                  <a:pt x="1270665" y="343505"/>
                  <a:pt x="1239217" y="341086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6629400" y="5334120"/>
            <a:ext cx="990720" cy="761760"/>
          </a:xfrm>
          <a:prstGeom prst="ellipse">
            <a:avLst/>
          </a:prstGeom>
          <a:solidFill>
            <a:srgbClr val="c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2"/>
          <p:cNvSpPr/>
          <p:nvPr/>
        </p:nvSpPr>
        <p:spPr>
          <a:xfrm>
            <a:off x="6705720" y="5410080"/>
            <a:ext cx="838080" cy="586080"/>
          </a:xfrm>
          <a:prstGeom prst="ellipse">
            <a:avLst/>
          </a:prstGeom>
          <a:solidFill>
            <a:srgbClr val="c0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3"/>
          <p:cNvSpPr/>
          <p:nvPr/>
        </p:nvSpPr>
        <p:spPr>
          <a:xfrm>
            <a:off x="6858000" y="5562720"/>
            <a:ext cx="512640" cy="304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C:\Users\owner\AppData\Local\Microsoft\Windows\Temporary Internet Files\Content.IE5\O9G5BS5W\MC900048285[1].wmf"/>
          <p:cNvPicPr/>
          <p:nvPr/>
        </p:nvPicPr>
        <p:blipFill>
          <a:blip r:embed="rId5"/>
          <a:stretch/>
        </p:blipFill>
        <p:spPr>
          <a:xfrm>
            <a:off x="6553080" y="32004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304" name="Oval 15"/>
          <p:cNvSpPr/>
          <p:nvPr/>
        </p:nvSpPr>
        <p:spPr>
          <a:xfrm>
            <a:off x="7315200" y="41911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1295280" y="4419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Conservation of Prob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952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Born 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 flipH="1">
            <a:off x="7162560" y="4343400"/>
            <a:ext cx="152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7"/>
          <p:cNvGraphicFramePr/>
          <p:nvPr/>
        </p:nvGraphicFramePr>
        <p:xfrm>
          <a:off x="6781680" y="3429000"/>
          <a:ext cx="540000" cy="45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81680" y="3429000"/>
                    <a:ext cx="5400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7391520" y="3962520"/>
          <a:ext cx="539640" cy="53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3962520"/>
                    <a:ext cx="539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7"/>
          <p:cNvGraphicFramePr/>
          <p:nvPr/>
        </p:nvGraphicFramePr>
        <p:xfrm>
          <a:off x="8229600" y="4952880"/>
          <a:ext cx="30960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229600" y="4952880"/>
                    <a:ext cx="3096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7"/>
          <p:cNvGraphicFramePr/>
          <p:nvPr/>
        </p:nvGraphicFramePr>
        <p:xfrm>
          <a:off x="7391520" y="5715000"/>
          <a:ext cx="482400" cy="38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91520" y="5715000"/>
                    <a:ext cx="4824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Box 18"/>
          <p:cNvSpPr/>
          <p:nvPr/>
        </p:nvSpPr>
        <p:spPr>
          <a:xfrm>
            <a:off x="1295280" y="2057400"/>
            <a:ext cx="6629400" cy="2975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trivially satisfy these axioms by set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he point measure concentrated o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tself, and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s a completely uninteresting restatement of quantum mechanics (called the “Beltrametti-Bugajski theor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77180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838080" y="480060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first heard about QC (around 1996), I w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rta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t was bun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838080" y="579132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o find the “catch,” I’d first have to figure out what the deal was with quantum mechanics itsel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 22"/>
          <p:cNvSpPr/>
          <p:nvPr/>
        </p:nvSpPr>
        <p:spPr>
          <a:xfrm rot="5400000">
            <a:off x="151920" y="1904760"/>
            <a:ext cx="3200400" cy="228600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>
            <a:off x="685800" y="2438280"/>
            <a:ext cx="3200400" cy="228600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8"/>
          <p:cNvSpPr/>
          <p:nvPr/>
        </p:nvSpPr>
        <p:spPr>
          <a:xfrm rot="18900000">
            <a:off x="568440" y="2015640"/>
            <a:ext cx="3200400" cy="228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4800600" y="3733920"/>
            <a:ext cx="411480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ounts beautifully for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ne qub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al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One qutrit: Already a problem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Calibri"/>
              </a:rPr>
              <a:t>More Interesting Example: Kochen-Specker Theo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Oval 4"/>
          <p:cNvSpPr/>
          <p:nvPr/>
        </p:nvSpPr>
        <p:spPr>
          <a:xfrm>
            <a:off x="237960" y="2057400"/>
            <a:ext cx="3048120" cy="3048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237960" y="3581280"/>
            <a:ext cx="3048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1762200" y="205740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 flipH="1">
            <a:off x="686520" y="2514960"/>
            <a:ext cx="2154240" cy="215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686160" y="2515320"/>
            <a:ext cx="2156760" cy="21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0"/>
          <p:cNvGraphicFramePr/>
          <p:nvPr/>
        </p:nvGraphicFramePr>
        <p:xfrm>
          <a:off x="2819520" y="3276720"/>
          <a:ext cx="4554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455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0"/>
          <p:cNvGraphicFramePr/>
          <p:nvPr/>
        </p:nvGraphicFramePr>
        <p:xfrm>
          <a:off x="1600200" y="2057400"/>
          <a:ext cx="4557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0574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2313000" y="2514600"/>
          <a:ext cx="5731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3000" y="2514600"/>
                    <a:ext cx="573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0"/>
          <p:cNvGraphicFramePr/>
          <p:nvPr/>
        </p:nvGraphicFramePr>
        <p:xfrm>
          <a:off x="2219400" y="4191120"/>
          <a:ext cx="5824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9400" y="4191120"/>
                    <a:ext cx="5824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10"/>
          <p:cNvGraphicFramePr/>
          <p:nvPr/>
        </p:nvGraphicFramePr>
        <p:xfrm>
          <a:off x="3962520" y="3276720"/>
          <a:ext cx="62388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276720"/>
                    <a:ext cx="62388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419120" y="1031760"/>
          <a:ext cx="62388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1031760"/>
                    <a:ext cx="623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10"/>
          <p:cNvGraphicFramePr/>
          <p:nvPr/>
        </p:nvGraphicFramePr>
        <p:xfrm>
          <a:off x="3200400" y="1523880"/>
          <a:ext cx="712800" cy="42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0400" y="1523880"/>
                    <a:ext cx="71280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Picture 20" descr=""/>
          <p:cNvPicPr/>
          <p:nvPr/>
        </p:nvPicPr>
        <p:blipFill>
          <a:blip r:embed="rId15"/>
          <a:stretch/>
        </p:blipFill>
        <p:spPr>
          <a:xfrm>
            <a:off x="4876920" y="1538280"/>
            <a:ext cx="413388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Object 10"/>
          <p:cNvGraphicFramePr/>
          <p:nvPr/>
        </p:nvGraphicFramePr>
        <p:xfrm>
          <a:off x="4876920" y="914400"/>
          <a:ext cx="1420560" cy="466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3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76920" y="914400"/>
                    <a:ext cx="14205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"/>
          <p:cNvSpPr/>
          <p:nvPr/>
        </p:nvSpPr>
        <p:spPr>
          <a:xfrm>
            <a:off x="380880" y="5257800"/>
            <a:ext cx="8382240" cy="1597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0, th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overl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l the theory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maximally nontrivi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s above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lap whenever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thog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800600" y="2438280"/>
            <a:ext cx="41148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ponse functions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,B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 deterministically return basis vector closest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4"/>
          <p:cNvSpPr/>
          <p:nvPr/>
        </p:nvSpPr>
        <p:spPr>
          <a:xfrm flipV="1">
            <a:off x="4648320" y="837720"/>
            <a:ext cx="7596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457200" y="1066680"/>
            <a:ext cx="822960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se we assu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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“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-epistemic theories must behave well under tensor produc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there’s a 2-qubit entangled measurement M, such that the only way to explain M’s behavior on the 4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BR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  <a:ea typeface="Calibri"/>
              </a:rPr>
              <a:t>(Pusey-Barrett-Rudolph 2011)</a:t>
            </a:r>
            <a:r>
              <a:rPr b="1" lang="en-US" sz="22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No-Go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057400" y="2971800"/>
          <a:ext cx="426096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971800"/>
                    <a:ext cx="4260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2"/>
          <p:cNvSpPr/>
          <p:nvPr/>
        </p:nvSpPr>
        <p:spPr>
          <a:xfrm>
            <a:off x="457200" y="3368520"/>
            <a:ext cx="82296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using a “trivial” theory that doesn’t mi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an be generalized to any pair of states, not just |0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and |+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914400" y="4648320"/>
            <a:ext cx="77724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Bell’s 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’t “locally” simulate all separable measurements on a fixed entangl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BR Theor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’t “locally” simulate a fixed entangled measurement on all separable stat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at least nontrivially 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eft Brace 6"/>
          <p:cNvSpPr/>
          <p:nvPr/>
        </p:nvSpPr>
        <p:spPr>
          <a:xfrm>
            <a:off x="457200" y="4741920"/>
            <a:ext cx="380880" cy="1752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752480"/>
              <a:gd name="textAreaBottom" fmla="*/ 17427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1"/>
                </a:cubicBezTo>
                <a:lnTo>
                  <a:pt x="10800" y="10409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1"/>
                </a:cubicBezTo>
                <a:lnTo>
                  <a:pt x="10800" y="21209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Calibri"/>
              </a:rPr>
              <a:t>But suppose we drop PBR’s tensor assumption.  Then: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228600" y="685800"/>
            <a:ext cx="8686800" cy="128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 (A.-Bouland-Chua-Lowther ‘13)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a maximally-nontrivia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 theory in any finite dimension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3809880" y="3103560"/>
            <a:ext cx="518184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ver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ets, for al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1/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x the states in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airs of small ball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wher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th belong to so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(“Mix” = make their ontic distributions over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mix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n-orthogonal states, take a “convex combination” of countably many such the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228600" y="1600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Albeit an extremely weird one!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olves the main open problem of Lewis et al. ‘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3809880" y="2590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as of the co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2"/>
          <p:cNvGrpSpPr/>
          <p:nvPr/>
        </p:nvGrpSpPr>
        <p:grpSpPr>
          <a:xfrm>
            <a:off x="228600" y="2895480"/>
            <a:ext cx="3429000" cy="3429000"/>
            <a:chOff x="228600" y="2895480"/>
            <a:chExt cx="3429000" cy="3429000"/>
          </a:xfrm>
        </p:grpSpPr>
        <p:pic>
          <p:nvPicPr>
            <p:cNvPr id="360" name="Picture 7" descr="C:\Users\owner\AppData\Local\Microsoft\Windows\Temporary Internet Files\Content.IE5\TZX6SZ8L\MC900048285[1].wmf"/>
            <p:cNvPicPr/>
            <p:nvPr/>
          </p:nvPicPr>
          <p:blipFill>
            <a:blip r:embed="rId1"/>
            <a:stretch/>
          </p:blipFill>
          <p:spPr>
            <a:xfrm>
              <a:off x="228600" y="2895480"/>
              <a:ext cx="3429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Oval 11"/>
            <p:cNvSpPr/>
            <p:nvPr/>
          </p:nvSpPr>
          <p:spPr>
            <a:xfrm>
              <a:off x="2133720" y="3276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2286000" y="4419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371600" y="46479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2133720" y="579132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5"/>
            <p:cNvSpPr/>
            <p:nvPr/>
          </p:nvSpPr>
          <p:spPr>
            <a:xfrm>
              <a:off x="990360" y="571500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6"/>
            <p:cNvSpPr/>
            <p:nvPr/>
          </p:nvSpPr>
          <p:spPr>
            <a:xfrm>
              <a:off x="990360" y="335268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7"/>
            <p:cNvSpPr/>
            <p:nvPr/>
          </p:nvSpPr>
          <p:spPr>
            <a:xfrm>
              <a:off x="609480" y="44193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8"/>
            <p:cNvSpPr/>
            <p:nvPr/>
          </p:nvSpPr>
          <p:spPr>
            <a:xfrm>
              <a:off x="3048120" y="502920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9"/>
            <p:cNvSpPr/>
            <p:nvPr/>
          </p:nvSpPr>
          <p:spPr>
            <a:xfrm>
              <a:off x="3048120" y="3733560"/>
              <a:ext cx="228600" cy="228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0"/>
            <p:cNvSpPr/>
            <p:nvPr/>
          </p:nvSpPr>
          <p:spPr>
            <a:xfrm>
              <a:off x="1828800" y="4038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190512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80880" y="4876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838080" y="4190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1066680" y="3809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5"/>
            <p:cNvSpPr/>
            <p:nvPr/>
          </p:nvSpPr>
          <p:spPr>
            <a:xfrm>
              <a:off x="144792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205740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2590920" y="3657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8"/>
            <p:cNvSpPr/>
            <p:nvPr/>
          </p:nvSpPr>
          <p:spPr>
            <a:xfrm>
              <a:off x="2362320" y="4038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9"/>
            <p:cNvSpPr/>
            <p:nvPr/>
          </p:nvSpPr>
          <p:spPr>
            <a:xfrm>
              <a:off x="2819520" y="42670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0"/>
            <p:cNvSpPr/>
            <p:nvPr/>
          </p:nvSpPr>
          <p:spPr>
            <a:xfrm>
              <a:off x="3276720" y="4190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2590920" y="3200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2"/>
            <p:cNvSpPr/>
            <p:nvPr/>
          </p:nvSpPr>
          <p:spPr>
            <a:xfrm>
              <a:off x="1828800" y="2971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3"/>
            <p:cNvSpPr/>
            <p:nvPr/>
          </p:nvSpPr>
          <p:spPr>
            <a:xfrm>
              <a:off x="1752480" y="33526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4"/>
            <p:cNvSpPr/>
            <p:nvPr/>
          </p:nvSpPr>
          <p:spPr>
            <a:xfrm>
              <a:off x="1218960" y="30477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5"/>
            <p:cNvSpPr/>
            <p:nvPr/>
          </p:nvSpPr>
          <p:spPr>
            <a:xfrm>
              <a:off x="685800" y="3581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457200" y="3962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1295280" y="41148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8"/>
            <p:cNvSpPr/>
            <p:nvPr/>
          </p:nvSpPr>
          <p:spPr>
            <a:xfrm>
              <a:off x="1523880" y="44193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9"/>
            <p:cNvSpPr/>
            <p:nvPr/>
          </p:nvSpPr>
          <p:spPr>
            <a:xfrm>
              <a:off x="99036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2057400" y="4952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1"/>
            <p:cNvSpPr/>
            <p:nvPr/>
          </p:nvSpPr>
          <p:spPr>
            <a:xfrm>
              <a:off x="30481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42"/>
            <p:cNvSpPr/>
            <p:nvPr/>
          </p:nvSpPr>
          <p:spPr>
            <a:xfrm>
              <a:off x="3429000" y="502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43"/>
            <p:cNvSpPr/>
            <p:nvPr/>
          </p:nvSpPr>
          <p:spPr>
            <a:xfrm>
              <a:off x="3429000" y="4572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4"/>
            <p:cNvSpPr/>
            <p:nvPr/>
          </p:nvSpPr>
          <p:spPr>
            <a:xfrm>
              <a:off x="3048120" y="46479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5"/>
            <p:cNvSpPr/>
            <p:nvPr/>
          </p:nvSpPr>
          <p:spPr>
            <a:xfrm>
              <a:off x="2971800" y="33526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6"/>
            <p:cNvSpPr/>
            <p:nvPr/>
          </p:nvSpPr>
          <p:spPr>
            <a:xfrm>
              <a:off x="2590920" y="4724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47"/>
            <p:cNvSpPr/>
            <p:nvPr/>
          </p:nvSpPr>
          <p:spPr>
            <a:xfrm>
              <a:off x="1752480" y="6095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48"/>
            <p:cNvSpPr/>
            <p:nvPr/>
          </p:nvSpPr>
          <p:spPr>
            <a:xfrm>
              <a:off x="1600200" y="57150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49"/>
            <p:cNvSpPr/>
            <p:nvPr/>
          </p:nvSpPr>
          <p:spPr>
            <a:xfrm>
              <a:off x="1752480" y="54100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50"/>
            <p:cNvSpPr/>
            <p:nvPr/>
          </p:nvSpPr>
          <p:spPr>
            <a:xfrm>
              <a:off x="16002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51"/>
            <p:cNvSpPr/>
            <p:nvPr/>
          </p:nvSpPr>
          <p:spPr>
            <a:xfrm>
              <a:off x="21337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52"/>
            <p:cNvSpPr/>
            <p:nvPr/>
          </p:nvSpPr>
          <p:spPr>
            <a:xfrm>
              <a:off x="2362320" y="51814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3"/>
            <p:cNvSpPr/>
            <p:nvPr/>
          </p:nvSpPr>
          <p:spPr>
            <a:xfrm>
              <a:off x="27432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54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55"/>
            <p:cNvSpPr/>
            <p:nvPr/>
          </p:nvSpPr>
          <p:spPr>
            <a:xfrm>
              <a:off x="2590920" y="58672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56"/>
            <p:cNvSpPr/>
            <p:nvPr/>
          </p:nvSpPr>
          <p:spPr>
            <a:xfrm>
              <a:off x="1295280" y="6019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57"/>
            <p:cNvSpPr/>
            <p:nvPr/>
          </p:nvSpPr>
          <p:spPr>
            <a:xfrm>
              <a:off x="121896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58"/>
            <p:cNvSpPr/>
            <p:nvPr/>
          </p:nvSpPr>
          <p:spPr>
            <a:xfrm>
              <a:off x="60948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59"/>
            <p:cNvSpPr/>
            <p:nvPr/>
          </p:nvSpPr>
          <p:spPr>
            <a:xfrm>
              <a:off x="1143000" y="495288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0"/>
            <p:cNvSpPr/>
            <p:nvPr/>
          </p:nvSpPr>
          <p:spPr>
            <a:xfrm>
              <a:off x="685800" y="51051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61"/>
            <p:cNvSpPr/>
            <p:nvPr/>
          </p:nvSpPr>
          <p:spPr>
            <a:xfrm>
              <a:off x="304560" y="44193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Straight Connector 63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9" descr="logo homepage"/>
          <p:cNvPicPr/>
          <p:nvPr/>
        </p:nvPicPr>
        <p:blipFill>
          <a:blip r:embed="rId2"/>
          <a:stretch/>
        </p:blipFill>
        <p:spPr>
          <a:xfrm>
            <a:off x="6553080" y="1752480"/>
            <a:ext cx="23814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4572000" y="2209680"/>
            <a:ext cx="4343400" cy="1677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 (ABCL’13):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no symmetric, maximally-nontrivia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pistemic theory in dimensions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4572000" y="4114800"/>
            <a:ext cx="4341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proof, in the general case, uses some measure theory and differential geometry 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and strangely, currently works only with complex amplitudes, not real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380880" y="2286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suppose we want our theory to be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symmetr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—meaning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2"/>
          <p:cNvGraphicFramePr/>
          <p:nvPr/>
        </p:nvGraphicFramePr>
        <p:xfrm>
          <a:off x="3657600" y="1219320"/>
          <a:ext cx="50562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50562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2"/>
          <p:cNvGraphicFramePr/>
          <p:nvPr/>
        </p:nvGraphicFramePr>
        <p:xfrm>
          <a:off x="380880" y="1295280"/>
          <a:ext cx="194472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95280"/>
                    <a:ext cx="19447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2"/>
          <p:cNvSpPr/>
          <p:nvPr/>
        </p:nvSpPr>
        <p:spPr>
          <a:xfrm>
            <a:off x="2514600" y="12952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C:\Users\owner\AppData\Local\Microsoft\Windows\Temporary Internet Files\Content.IE5\TZX6SZ8L\MC900048285[1].wmf"/>
          <p:cNvPicPr/>
          <p:nvPr/>
        </p:nvPicPr>
        <p:blipFill>
          <a:blip r:embed="rId5"/>
          <a:stretch/>
        </p:blipFill>
        <p:spPr>
          <a:xfrm>
            <a:off x="228600" y="2286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23" name="Donut 12"/>
          <p:cNvSpPr/>
          <p:nvPr/>
        </p:nvSpPr>
        <p:spPr>
          <a:xfrm>
            <a:off x="762120" y="2971800"/>
            <a:ext cx="2971800" cy="2971800"/>
          </a:xfrm>
          <a:custGeom>
            <a:avLst/>
            <a:gdLst>
              <a:gd name="textAreaLeft" fmla="*/ 435240 w 2971800"/>
              <a:gd name="textAreaRight" fmla="*/ 2536560 w 2971800"/>
              <a:gd name="textAreaTop" fmla="*/ 435240 h 2971800"/>
              <a:gd name="textAreaBottom" fmla="*/ 2536560 h 2971800"/>
            </a:gdLst>
            <a:ahLst/>
            <a:rect l="textAreaLeft" t="textAreaTop" r="textAreaRight" b="textAreaBottom"/>
            <a:pathLst>
              <a:path w="2971800" h="2971800">
                <a:moveTo>
                  <a:pt x="0" y="1485900"/>
                </a:moveTo>
                <a:lnTo>
                  <a:pt x="0" y="1485900"/>
                </a:lnTo>
                <a:arcTo wR="1485900" hR="1485900" stAng="-10799995" swAng="5400002"/>
                <a:lnTo>
                  <a:pt x="1485903" y="2"/>
                </a:lnTo>
                <a:arcTo wR="1485900" hR="1485900" stAng="-5399995" swAng="5400002"/>
                <a:lnTo>
                  <a:pt x="2971801" y="1485905"/>
                </a:lnTo>
                <a:arcTo wR="1485900" hR="1485900" stAng="0" swAng="5400002"/>
                <a:lnTo>
                  <a:pt x="1485900" y="2971805"/>
                </a:lnTo>
                <a:arcTo wR="1485900" hR="1485900" stAng="5400002" swAng="5400002"/>
                <a:close/>
                <a:moveTo>
                  <a:pt x="215307" y="1485900"/>
                </a:moveTo>
                <a:lnTo>
                  <a:pt x="215307" y="1485900"/>
                </a:lnTo>
                <a:arcTo wR="1270593" hR="1270593" stAng="-10799997" swAng="-5400000"/>
                <a:lnTo>
                  <a:pt x="1485899" y="2756494"/>
                </a:lnTo>
                <a:arcTo wR="1270593" hR="1270593" stAng="5400003" swAng="-5400000"/>
                <a:lnTo>
                  <a:pt x="2756493" y="1485902"/>
                </a:lnTo>
                <a:arcTo wR="1270593" hR="1270593" stAng="0" swAng="-5400000"/>
                <a:lnTo>
                  <a:pt x="1485900" y="215309"/>
                </a:lnTo>
                <a:arcTo wR="1270593" hR="1270593" stAng="-5399997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1905120" y="4038480"/>
          <a:ext cx="69840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4038480"/>
                    <a:ext cx="698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Donut 15"/>
          <p:cNvSpPr/>
          <p:nvPr/>
        </p:nvSpPr>
        <p:spPr>
          <a:xfrm>
            <a:off x="1219320" y="3429000"/>
            <a:ext cx="2057400" cy="205740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057400" h="2057400">
                <a:moveTo>
                  <a:pt x="0" y="1028700"/>
                </a:moveTo>
                <a:lnTo>
                  <a:pt x="0" y="1028700"/>
                </a:lnTo>
                <a:arcTo wR="1028700" hR="1028700" stAng="-10799997" swAng="5400003"/>
                <a:lnTo>
                  <a:pt x="1028702" y="1"/>
                </a:lnTo>
                <a:arcTo wR="1028700" hR="1028700" stAng="-5399997" swAng="5400003"/>
                <a:lnTo>
                  <a:pt x="2057401" y="1028703"/>
                </a:lnTo>
                <a:arcTo wR="1028700" hR="1028700" stAng="0" swAng="5400003"/>
                <a:lnTo>
                  <a:pt x="1028700" y="2057403"/>
                </a:lnTo>
                <a:arcTo wR="1028700" hR="1028700" stAng="5400003" swAng="5400000"/>
                <a:close/>
                <a:moveTo>
                  <a:pt x="139800" y="1028700"/>
                </a:moveTo>
                <a:lnTo>
                  <a:pt x="139800" y="1028700"/>
                </a:lnTo>
                <a:arcTo wR="888900" hR="888900" stAng="-10799996" swAng="-5400000"/>
                <a:lnTo>
                  <a:pt x="1028699" y="1917601"/>
                </a:lnTo>
                <a:arcTo wR="888900" hR="888900" stAng="5400004" swAng="-5400000"/>
                <a:lnTo>
                  <a:pt x="1917600" y="1028702"/>
                </a:lnTo>
                <a:arcTo wR="888900" hR="888900" stAng="0" swAng="-5400000"/>
                <a:lnTo>
                  <a:pt x="1028700" y="139802"/>
                </a:lnTo>
                <a:arcTo wR="888900" hR="888900" stAng="-5399996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Donut 16"/>
          <p:cNvSpPr/>
          <p:nvPr/>
        </p:nvSpPr>
        <p:spPr>
          <a:xfrm>
            <a:off x="1600200" y="3809880"/>
            <a:ext cx="1295280" cy="12956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1295640"/>
              <a:gd name="textAreaBottom" fmla="*/ 1105920 h 1295640"/>
            </a:gdLst>
            <a:ahLst/>
            <a:rect l="textAreaLeft" t="textAreaTop" r="textAreaRight" b="textAreaBottom"/>
            <a:pathLst>
              <a:path w="1295400" h="1295400">
                <a:moveTo>
                  <a:pt x="0" y="647700"/>
                </a:moveTo>
                <a:lnTo>
                  <a:pt x="0" y="647700"/>
                </a:lnTo>
                <a:arcTo wR="647700" hR="647700" stAng="-10799995" swAng="5400000"/>
                <a:lnTo>
                  <a:pt x="647701" y="1"/>
                </a:lnTo>
                <a:arcTo wR="647700" hR="647700" stAng="-5399995" swAng="5400000"/>
                <a:lnTo>
                  <a:pt x="1295400" y="647702"/>
                </a:lnTo>
                <a:arcTo wR="647700" hR="647700" stAng="0" swAng="5400000"/>
                <a:lnTo>
                  <a:pt x="647700" y="1295402"/>
                </a:lnTo>
                <a:arcTo wR="647700" hR="647700" stAng="5400000" swAng="5400005"/>
                <a:close/>
                <a:moveTo>
                  <a:pt x="88022" y="647700"/>
                </a:moveTo>
                <a:lnTo>
                  <a:pt x="88022" y="647700"/>
                </a:lnTo>
                <a:arcTo wR="559678" hR="559678" stAng="-10799994" swAng="-5400000"/>
                <a:lnTo>
                  <a:pt x="647699" y="1207379"/>
                </a:lnTo>
                <a:arcTo wR="559678" hR="559678" stAng="5400000" swAng="-5400000"/>
                <a:lnTo>
                  <a:pt x="1207377" y="647701"/>
                </a:lnTo>
                <a:arcTo wR="559678" hR="559678" stAng="0" swAng="-5400000"/>
                <a:lnTo>
                  <a:pt x="647699" y="88023"/>
                </a:lnTo>
                <a:arcTo wR="559678" hR="559678" stAng="-5399994" swAng="-5400000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2"/>
          <p:cNvGraphicFramePr/>
          <p:nvPr/>
        </p:nvGraphicFramePr>
        <p:xfrm>
          <a:off x="2438280" y="2590920"/>
          <a:ext cx="625680" cy="49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2590920"/>
                    <a:ext cx="62568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80880" y="304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scalable QC is indeed possible, are there any experiments that could help demonstrate that—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hort of actually build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 general-purpos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380880" y="1828800"/>
            <a:ext cx="7848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me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1 qubit coherent for an extremely long tim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~15 minutes in ion tr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adiabatic optimiz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the “D-Wave approach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sonSampl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and other restricted QC propos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147780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6172200" y="5181480"/>
            <a:ext cx="1689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[A.-Arkhipov 2011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“For when you only need your QC to overthrow the Extended Church-Turing Thesis, not do anything usefu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304920" y="1828800"/>
            <a:ext cx="86104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identical photons are generated, sent through a network of beamsplitters, then measured to see where they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 resul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sample from a distribution {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, such that each probability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quals |Per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for some known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 complex matrix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(Permanent: Famous #P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classical computer can’t sample the same distribution in polynomial time, unless 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BP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onje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that this extends even to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  <a:ea typeface="Arial"/>
              </a:rPr>
              <a:t>approximate/noi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s.  Leads to a beautiful complexity-theoretic open problem!  Is it #P-complete to approximate Per(A), with high probability over an 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 matrix A of independent N(0,1) Gaussi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 BosonSampling demonstrations with 3-4 photons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[Broome et al., Tillmann et al., Walmsley et al., Crespi et al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5360" cy="24955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"/>
          <p:cNvSpPr/>
          <p:nvPr/>
        </p:nvSpPr>
        <p:spPr>
          <a:xfrm>
            <a:off x="304920" y="4419720"/>
            <a:ext cx="83818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is could be scaled to ~20-30 photons, it would probably BosonSample faster than a classical simulation of itself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Main engineering 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terministic generation of single photons, for synchronized arrival at the det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4181760" cy="1247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267840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80880" y="1219320"/>
            <a:ext cx="838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don’t know for sure that scalable QC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 that the popula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a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question gets it exactly back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eliev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QC can work doesn’t make you a starry-eyed visionary, but a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cientific conser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Doub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QC can work doesn’t make you a cautious realist, but a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cientific ra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eft Brace 8"/>
          <p:cNvSpPr/>
          <p:nvPr/>
        </p:nvSpPr>
        <p:spPr>
          <a:xfrm>
            <a:off x="380880" y="289548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2057400"/>
              <a:gd name="textAreaBottom" fmla="*/ 20455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1"/>
          <p:cNvSpPr/>
          <p:nvPr/>
        </p:nvSpPr>
        <p:spPr>
          <a:xfrm>
            <a:off x="22860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ke probability theory, but over the complex number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Mechanics in 1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4724280" y="1600200"/>
            <a:ext cx="4043520" cy="5229720"/>
            <a:chOff x="4724280" y="1600200"/>
            <a:chExt cx="4043520" cy="5229720"/>
          </a:xfrm>
        </p:grpSpPr>
        <mc:AlternateContent>
          <mc:Choice xmlns:a14="http://schemas.microsoft.com/office/drawing/2010/main" Requires="a14">
            <p:sp>
              <p:nvSpPr>
                <p:cNvPr id="61" name="Object 13"/>
                <p:cNvSpPr txBox="1"/>
                <p:nvPr/>
              </p:nvSpPr>
              <p:spPr>
                <a:xfrm>
                  <a:off x="6934320" y="228600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14"/>
                <p:cNvSpPr txBox="1"/>
                <p:nvPr/>
              </p:nvSpPr>
              <p:spPr>
                <a:xfrm>
                  <a:off x="4848120" y="2286000"/>
                  <a:ext cx="21700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Object 15"/>
                <p:cNvSpPr txBox="1"/>
                <p:nvPr/>
              </p:nvSpPr>
              <p:spPr>
                <a:xfrm>
                  <a:off x="7696440" y="2286000"/>
                  <a:ext cx="107136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1"/>
                <p:cNvSpPr txBox="1"/>
                <p:nvPr/>
              </p:nvSpPr>
              <p:spPr>
                <a:xfrm>
                  <a:off x="5520960" y="3962520"/>
                  <a:ext cx="283536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C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Rectangle 41"/>
            <p:cNvSpPr/>
            <p:nvPr/>
          </p:nvSpPr>
          <p:spPr>
            <a:xfrm>
              <a:off x="4876560" y="1600200"/>
              <a:ext cx="388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Quantum Mechanics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1"/>
            <p:cNvSpPr/>
            <p:nvPr/>
          </p:nvSpPr>
          <p:spPr>
            <a:xfrm>
              <a:off x="4724280" y="5029560"/>
              <a:ext cx="3962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inear transformations that conserve 2-norm of amplitude vectors: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Unitary matr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457200" y="1600200"/>
            <a:ext cx="3984480" cy="5229720"/>
            <a:chOff x="457200" y="1600200"/>
            <a:chExt cx="3984480" cy="5229720"/>
          </a:xfrm>
        </p:grpSpPr>
        <mc:AlternateContent>
          <mc:Choice xmlns:a14="http://schemas.microsoft.com/office/drawing/2010/main" Requires="a14">
            <p:sp>
              <p:nvSpPr>
                <p:cNvPr id="68" name="Object 1"/>
                <p:cNvSpPr txBox="1"/>
                <p:nvPr/>
              </p:nvSpPr>
              <p:spPr>
                <a:xfrm>
                  <a:off x="2666880" y="2286000"/>
                  <a:ext cx="78084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Object 11"/>
                <p:cNvSpPr txBox="1"/>
                <p:nvPr/>
              </p:nvSpPr>
              <p:spPr>
                <a:xfrm>
                  <a:off x="609480" y="2286000"/>
                  <a:ext cx="211140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  <m:e>
                                <m:r>
                                  <m:t xml:space="preserve">⋱</m:t>
                                </m:r>
                              </m:e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⋯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2"/>
                <p:cNvSpPr txBox="1"/>
                <p:nvPr/>
              </p:nvSpPr>
              <p:spPr>
                <a:xfrm>
                  <a:off x="3429000" y="2286000"/>
                  <a:ext cx="1012680" cy="16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1"/>
                <p:cNvSpPr txBox="1"/>
                <p:nvPr/>
              </p:nvSpPr>
              <p:spPr>
                <a:xfrm>
                  <a:off x="1600200" y="3962520"/>
                  <a:ext cx="257472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Rectangle 41"/>
            <p:cNvSpPr/>
            <p:nvPr/>
          </p:nvSpPr>
          <p:spPr>
            <a:xfrm>
              <a:off x="761760" y="1600200"/>
              <a:ext cx="350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00000"/>
                  </a:solidFill>
                  <a:latin typeface="Calibri"/>
                </a:rPr>
                <a:t>Probability Theory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1"/>
            <p:cNvSpPr/>
            <p:nvPr/>
          </p:nvSpPr>
          <p:spPr>
            <a:xfrm>
              <a:off x="457200" y="502956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inear transformations that conserve 1-norm of probability vectors: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Stochastic matr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6"/>
          <p:cNvSpPr/>
          <p:nvPr/>
        </p:nvSpPr>
        <p:spPr>
          <a:xfrm>
            <a:off x="4648320" y="1600200"/>
            <a:ext cx="0" cy="5257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1"/>
          <p:cNvSpPr/>
          <p:nvPr/>
        </p:nvSpPr>
        <p:spPr>
          <a:xfrm>
            <a:off x="609480" y="83808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ource of all quantum weird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457200" y="1600200"/>
          <a:ext cx="3578400" cy="19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35784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3"/>
          <p:cNvGrpSpPr/>
          <p:nvPr/>
        </p:nvGrpSpPr>
        <p:grpSpPr>
          <a:xfrm>
            <a:off x="4572000" y="2743200"/>
            <a:ext cx="4138560" cy="3657600"/>
            <a:chOff x="4572000" y="2743200"/>
            <a:chExt cx="4138560" cy="3657600"/>
          </a:xfrm>
        </p:grpSpPr>
        <p:sp>
          <p:nvSpPr>
            <p:cNvPr id="80" name="Oval 4"/>
            <p:cNvSpPr/>
            <p:nvPr/>
          </p:nvSpPr>
          <p:spPr>
            <a:xfrm>
              <a:off x="5114880" y="335268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"/>
            <p:cNvSpPr/>
            <p:nvPr/>
          </p:nvSpPr>
          <p:spPr>
            <a:xfrm>
              <a:off x="5114880" y="487692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6638760" y="335268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Object 7"/>
            <p:cNvGraphicFramePr/>
            <p:nvPr/>
          </p:nvGraphicFramePr>
          <p:xfrm>
            <a:off x="8162640" y="449568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62640" y="449568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" name="Object 8"/>
            <p:cNvGraphicFramePr/>
            <p:nvPr/>
          </p:nvGraphicFramePr>
          <p:xfrm>
            <a:off x="6427800" y="274320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27800" y="274320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Object 9"/>
            <p:cNvGraphicFramePr/>
            <p:nvPr/>
          </p:nvGraphicFramePr>
          <p:xfrm>
            <a:off x="7553160" y="320040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53160" y="320040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Object 10"/>
            <p:cNvGraphicFramePr/>
            <p:nvPr/>
          </p:nvGraphicFramePr>
          <p:xfrm>
            <a:off x="4572000" y="318924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0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2000" y="318924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" name="Group 11"/>
          <p:cNvGrpSpPr/>
          <p:nvPr/>
        </p:nvGrpSpPr>
        <p:grpSpPr>
          <a:xfrm>
            <a:off x="5114880" y="4800600"/>
            <a:ext cx="3047760" cy="228600"/>
            <a:chOff x="5114880" y="4800600"/>
            <a:chExt cx="3047760" cy="228600"/>
          </a:xfrm>
        </p:grpSpPr>
        <p:sp>
          <p:nvSpPr>
            <p:cNvPr id="92" name="Line 12"/>
            <p:cNvSpPr/>
            <p:nvPr/>
          </p:nvSpPr>
          <p:spPr>
            <a:xfrm>
              <a:off x="6638760" y="487692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5114880" y="480060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Object 14"/>
          <p:cNvGraphicFramePr/>
          <p:nvPr/>
        </p:nvGraphicFramePr>
        <p:xfrm>
          <a:off x="457200" y="1600200"/>
          <a:ext cx="3578400" cy="195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600200"/>
                    <a:ext cx="35784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Picture 18" descr="http://www.scottaaronson.com/democritus/interfere.gif"/>
          <p:cNvPicPr/>
          <p:nvPr/>
        </p:nvPicPr>
        <p:blipFill>
          <a:blip r:embed="rId13"/>
          <a:stretch/>
        </p:blipFill>
        <p:spPr>
          <a:xfrm>
            <a:off x="533520" y="3733920"/>
            <a:ext cx="3983040" cy="2743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1"/>
          <p:cNvSpPr/>
          <p:nvPr/>
        </p:nvSpPr>
        <p:spPr>
          <a:xfrm>
            <a:off x="4343400" y="1600200"/>
            <a:ext cx="4495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ible states of a single quantum bit, or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qubi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1"/>
          <p:cNvSpPr/>
          <p:nvPr/>
        </p:nvSpPr>
        <p:spPr>
          <a:xfrm>
            <a:off x="380880" y="91440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s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ther it’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t answer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t sticks with its answer from then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0"/>
          <p:cNvGrpSpPr/>
          <p:nvPr/>
        </p:nvGrpSpPr>
        <p:grpSpPr>
          <a:xfrm>
            <a:off x="1828800" y="4191120"/>
            <a:ext cx="2666880" cy="1371600"/>
            <a:chOff x="1828800" y="4191120"/>
            <a:chExt cx="2666880" cy="1371600"/>
          </a:xfrm>
        </p:grpSpPr>
        <p:sp>
          <p:nvSpPr>
            <p:cNvPr id="101" name="Line 12"/>
            <p:cNvSpPr/>
            <p:nvPr/>
          </p:nvSpPr>
          <p:spPr>
            <a:xfrm flipV="1">
              <a:off x="1828800" y="4191120"/>
              <a:ext cx="26668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3"/>
            <p:cNvSpPr/>
            <p:nvPr/>
          </p:nvSpPr>
          <p:spPr>
            <a:xfrm>
              <a:off x="1828800" y="5029200"/>
              <a:ext cx="259092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16"/>
          <p:cNvSpPr/>
          <p:nvPr/>
        </p:nvSpPr>
        <p:spPr>
          <a:xfrm>
            <a:off x="6172200" y="3200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9"/>
          <p:cNvGrpSpPr/>
          <p:nvPr/>
        </p:nvGrpSpPr>
        <p:grpSpPr>
          <a:xfrm>
            <a:off x="4876920" y="3276720"/>
            <a:ext cx="990360" cy="2895480"/>
            <a:chOff x="4876920" y="3276720"/>
            <a:chExt cx="990360" cy="2895480"/>
          </a:xfrm>
        </p:grpSpPr>
        <p:sp>
          <p:nvSpPr>
            <p:cNvPr id="105" name="Line 20"/>
            <p:cNvSpPr/>
            <p:nvPr/>
          </p:nvSpPr>
          <p:spPr>
            <a:xfrm>
              <a:off x="4952880" y="411480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4952880" y="434340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 flipV="1">
              <a:off x="4952880" y="373356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3"/>
            <p:cNvSpPr/>
            <p:nvPr/>
          </p:nvSpPr>
          <p:spPr>
            <a:xfrm flipV="1">
              <a:off x="4876920" y="327672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5"/>
            <p:cNvSpPr/>
            <p:nvPr/>
          </p:nvSpPr>
          <p:spPr>
            <a:xfrm>
              <a:off x="4952880" y="5562720"/>
              <a:ext cx="914400" cy="22860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6"/>
            <p:cNvSpPr/>
            <p:nvPr/>
          </p:nvSpPr>
          <p:spPr>
            <a:xfrm>
              <a:off x="4952880" y="5791320"/>
              <a:ext cx="68580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7"/>
            <p:cNvSpPr/>
            <p:nvPr/>
          </p:nvSpPr>
          <p:spPr>
            <a:xfrm flipV="1">
              <a:off x="4952880" y="5181480"/>
              <a:ext cx="838080" cy="7596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8"/>
            <p:cNvSpPr/>
            <p:nvPr/>
          </p:nvSpPr>
          <p:spPr>
            <a:xfrm flipV="1">
              <a:off x="4876920" y="4724280"/>
              <a:ext cx="838080" cy="38088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7" descr=""/>
          <p:cNvPicPr/>
          <p:nvPr/>
        </p:nvPicPr>
        <p:blipFill>
          <a:blip r:embed="rId1"/>
          <a:srcRect l="0" t="6720" r="0" b="6720"/>
          <a:stretch/>
        </p:blipFill>
        <p:spPr>
          <a:xfrm>
            <a:off x="6248520" y="3048120"/>
            <a:ext cx="1805040" cy="3627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380880" y="23623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easurement is a “destructive”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2"/>
          <p:cNvGrpSpPr/>
          <p:nvPr/>
        </p:nvGrpSpPr>
        <p:grpSpPr>
          <a:xfrm>
            <a:off x="4572000" y="3200400"/>
            <a:ext cx="0" cy="3352680"/>
            <a:chOff x="4572000" y="3200400"/>
            <a:chExt cx="0" cy="3352680"/>
          </a:xfrm>
        </p:grpSpPr>
        <p:sp>
          <p:nvSpPr>
            <p:cNvPr id="116" name="Line 9"/>
            <p:cNvSpPr/>
            <p:nvPr/>
          </p:nvSpPr>
          <p:spPr>
            <a:xfrm>
              <a:off x="4572000" y="4419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4572000" y="5791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4572000" y="3200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6"/>
          <p:cNvGrpSpPr/>
          <p:nvPr/>
        </p:nvGrpSpPr>
        <p:grpSpPr>
          <a:xfrm>
            <a:off x="1143000" y="4572000"/>
            <a:ext cx="609480" cy="609480"/>
            <a:chOff x="1143000" y="4572000"/>
            <a:chExt cx="609480" cy="609480"/>
          </a:xfrm>
        </p:grpSpPr>
        <p:pic>
          <p:nvPicPr>
            <p:cNvPr id="120" name="Picture 44" descr="MCDD01775_0000[1]"/>
            <p:cNvPicPr/>
            <p:nvPr/>
          </p:nvPicPr>
          <p:blipFill>
            <a:blip r:embed="rId2"/>
            <a:stretch/>
          </p:blipFill>
          <p:spPr>
            <a:xfrm>
              <a:off x="1143000" y="4572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45"/>
            <p:cNvSpPr/>
            <p:nvPr/>
          </p:nvSpPr>
          <p:spPr>
            <a:xfrm rot="16200000">
              <a:off x="1357200" y="4830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64"/>
            <p:cNvGrpSpPr/>
            <p:nvPr/>
          </p:nvGrpSpPr>
          <p:grpSpPr>
            <a:xfrm>
              <a:off x="1200960" y="4728960"/>
              <a:ext cx="235800" cy="144000"/>
              <a:chOff x="1200960" y="4728960"/>
              <a:chExt cx="235800" cy="144000"/>
            </a:xfrm>
          </p:grpSpPr>
          <p:sp>
            <p:nvSpPr>
              <p:cNvPr id="123" name="Freeform 47"/>
              <p:cNvSpPr/>
              <p:nvPr/>
            </p:nvSpPr>
            <p:spPr>
              <a:xfrm>
                <a:off x="120096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8"/>
              <p:cNvSpPr/>
              <p:nvPr/>
            </p:nvSpPr>
            <p:spPr>
              <a:xfrm>
                <a:off x="121860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9"/>
              <p:cNvSpPr/>
              <p:nvPr/>
            </p:nvSpPr>
            <p:spPr>
              <a:xfrm>
                <a:off x="126900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0"/>
              <p:cNvSpPr/>
              <p:nvPr/>
            </p:nvSpPr>
            <p:spPr>
              <a:xfrm>
                <a:off x="132444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65"/>
            <p:cNvGrpSpPr/>
            <p:nvPr/>
          </p:nvGrpSpPr>
          <p:grpSpPr>
            <a:xfrm>
              <a:off x="1488600" y="4728960"/>
              <a:ext cx="235800" cy="144000"/>
              <a:chOff x="1488600" y="4728960"/>
              <a:chExt cx="235800" cy="144000"/>
            </a:xfrm>
          </p:grpSpPr>
          <p:sp>
            <p:nvSpPr>
              <p:cNvPr id="128" name="Freeform 59"/>
              <p:cNvSpPr/>
              <p:nvPr/>
            </p:nvSpPr>
            <p:spPr>
              <a:xfrm>
                <a:off x="1488600" y="4728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0"/>
              <p:cNvSpPr/>
              <p:nvPr/>
            </p:nvSpPr>
            <p:spPr>
              <a:xfrm>
                <a:off x="1506240" y="4744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1"/>
              <p:cNvSpPr/>
              <p:nvPr/>
            </p:nvSpPr>
            <p:spPr>
              <a:xfrm>
                <a:off x="1556640" y="4753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2"/>
              <p:cNvSpPr/>
              <p:nvPr/>
            </p:nvSpPr>
            <p:spPr>
              <a:xfrm>
                <a:off x="1612080" y="4781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46"/>
          <p:cNvGrpSpPr/>
          <p:nvPr/>
        </p:nvGrpSpPr>
        <p:grpSpPr>
          <a:xfrm>
            <a:off x="2895480" y="2895480"/>
            <a:ext cx="1426680" cy="1109160"/>
            <a:chOff x="2895480" y="2895480"/>
            <a:chExt cx="1426680" cy="1109160"/>
          </a:xfrm>
        </p:grpSpPr>
        <p:sp>
          <p:nvSpPr>
            <p:cNvPr id="133" name="Freeform 47"/>
            <p:cNvSpPr/>
            <p:nvPr/>
          </p:nvSpPr>
          <p:spPr>
            <a:xfrm>
              <a:off x="2940840" y="3198960"/>
              <a:ext cx="1320840" cy="805680"/>
            </a:xfrm>
            <a:custGeom>
              <a:avLst/>
              <a:gdLst>
                <a:gd name="textAreaLeft" fmla="*/ 0 w 1320840"/>
                <a:gd name="textAreaRight" fmla="*/ 1321200 w 1320840"/>
                <a:gd name="textAreaTop" fmla="*/ 0 h 805680"/>
                <a:gd name="textAreaBottom" fmla="*/ 806040 h 805680"/>
              </a:gdLst>
              <a:ahLst/>
              <a:rect l="textAreaLeft" t="textAreaTop" r="textAreaRight" b="textAreaBottom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"/>
            <p:cNvSpPr/>
            <p:nvPr/>
          </p:nvSpPr>
          <p:spPr>
            <a:xfrm>
              <a:off x="3040920" y="3288960"/>
              <a:ext cx="1119960" cy="629640"/>
            </a:xfrm>
            <a:custGeom>
              <a:avLst/>
              <a:gdLst>
                <a:gd name="textAreaLeft" fmla="*/ 0 w 1119960"/>
                <a:gd name="textAreaRight" fmla="*/ 1120320 w 111996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9"/>
            <p:cNvSpPr/>
            <p:nvPr/>
          </p:nvSpPr>
          <p:spPr>
            <a:xfrm>
              <a:off x="3321360" y="3336480"/>
              <a:ext cx="539280" cy="53316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0"/>
            <p:cNvSpPr/>
            <p:nvPr/>
          </p:nvSpPr>
          <p:spPr>
            <a:xfrm>
              <a:off x="3632040" y="34966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1"/>
            <p:cNvSpPr/>
            <p:nvPr/>
          </p:nvSpPr>
          <p:spPr>
            <a:xfrm>
              <a:off x="2895480" y="3148200"/>
              <a:ext cx="187200" cy="2041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2"/>
            <p:cNvSpPr/>
            <p:nvPr/>
          </p:nvSpPr>
          <p:spPr>
            <a:xfrm>
              <a:off x="3105360" y="3014280"/>
              <a:ext cx="144720" cy="2232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3"/>
            <p:cNvSpPr/>
            <p:nvPr/>
          </p:nvSpPr>
          <p:spPr>
            <a:xfrm>
              <a:off x="3337560" y="293076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4"/>
            <p:cNvSpPr/>
            <p:nvPr/>
          </p:nvSpPr>
          <p:spPr>
            <a:xfrm>
              <a:off x="4132080" y="3166920"/>
              <a:ext cx="190080" cy="2012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5"/>
            <p:cNvSpPr/>
            <p:nvPr/>
          </p:nvSpPr>
          <p:spPr>
            <a:xfrm>
              <a:off x="3970800" y="3026520"/>
              <a:ext cx="148320" cy="220680"/>
            </a:xfrm>
            <a:custGeom>
              <a:avLst/>
              <a:gdLst>
                <a:gd name="textAreaLeft" fmla="*/ 0 w 148320"/>
                <a:gd name="textAreaRight" fmla="*/ 148320 w 148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3786480" y="2937240"/>
              <a:ext cx="100080" cy="229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57"/>
            <p:cNvSpPr/>
            <p:nvPr/>
          </p:nvSpPr>
          <p:spPr>
            <a:xfrm>
              <a:off x="3560760" y="2895480"/>
              <a:ext cx="80280" cy="2304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2"/>
          <p:cNvGrpSpPr/>
          <p:nvPr/>
        </p:nvGrpSpPr>
        <p:grpSpPr>
          <a:xfrm>
            <a:off x="2895480" y="5715000"/>
            <a:ext cx="1285920" cy="914040"/>
            <a:chOff x="2895480" y="5715000"/>
            <a:chExt cx="1285920" cy="914040"/>
          </a:xfrm>
        </p:grpSpPr>
        <p:sp>
          <p:nvSpPr>
            <p:cNvPr id="146" name="Rectangle 31"/>
            <p:cNvSpPr/>
            <p:nvPr/>
          </p:nvSpPr>
          <p:spPr>
            <a:xfrm>
              <a:off x="3025080" y="5715000"/>
              <a:ext cx="1024200" cy="744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8"/>
            <p:cNvSpPr/>
            <p:nvPr/>
          </p:nvSpPr>
          <p:spPr>
            <a:xfrm flipV="1">
              <a:off x="2895480" y="6464160"/>
              <a:ext cx="1285920" cy="164520"/>
            </a:xfrm>
            <a:custGeom>
              <a:avLst/>
              <a:gdLst>
                <a:gd name="textAreaLeft" fmla="*/ 176040 w 1285920"/>
                <a:gd name="textAreaRight" fmla="*/ 1109880 w 1285920"/>
                <a:gd name="textAreaTop" fmla="*/ 22320 h 164520"/>
                <a:gd name="textAreaBottom" fmla="*/ 142200 h 1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321" y="21600"/>
                  </a:lnTo>
                  <a:lnTo>
                    <a:pt x="1927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079080" y="5763960"/>
              <a:ext cx="925920" cy="65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1" descr=""/>
          <p:cNvPicPr/>
          <p:nvPr/>
        </p:nvPicPr>
        <p:blipFill>
          <a:blip r:embed="rId4"/>
          <a:stretch/>
        </p:blipFill>
        <p:spPr>
          <a:xfrm>
            <a:off x="6400800" y="54100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5143E-006 L 0.48333 -0.14431 E">
                                      <p:cBhvr>
                                        <p:cTn id="74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84E-006 L 0.49167 0.15541 E">
                                      <p:cBhvr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84E-006 L 0.48334 -0.14431 E">
                                      <p:cBhvr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284E-006 L 0.47501 0.15541 E">
                                      <p:cBhvr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304920" y="28954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 “deep mystery” of Q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o decides when a “measurement” happens?  An “outsider’s view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04920" y="3886200"/>
                <a:ext cx="8534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⟩</m:t>
                    </m:r>
                    <m:limUpp>
                      <m:e>
                        <m:r>
                          <m:t xml:space="preserve">→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Unitary</m:t>
                        </m:r>
                      </m:lim>
                    </m:limUpp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orl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orl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41"/>
          <p:cNvSpPr/>
          <p:nvPr/>
        </p:nvSpPr>
        <p:spPr>
          <a:xfrm>
            <a:off x="304920" y="60199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Worlds?  Or Many Words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457200" y="22860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Product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wo qub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380880" y="838080"/>
                <a:ext cx="442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5" name="Group 13"/>
          <p:cNvGrpSpPr/>
          <p:nvPr/>
        </p:nvGrpSpPr>
        <p:grpSpPr>
          <a:xfrm>
            <a:off x="5410080" y="152280"/>
            <a:ext cx="3581640" cy="2362320"/>
            <a:chOff x="5410080" y="152280"/>
            <a:chExt cx="3581640" cy="2362320"/>
          </a:xfrm>
        </p:grpSpPr>
        <p:sp>
          <p:nvSpPr>
            <p:cNvPr id="156" name="Rectangle 41"/>
            <p:cNvSpPr/>
            <p:nvPr/>
          </p:nvSpPr>
          <p:spPr>
            <a:xfrm>
              <a:off x="5410080" y="152280"/>
              <a:ext cx="35816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00000"/>
                  </a:solidFill>
                  <a:latin typeface="Calibri"/>
                </a:rPr>
                <a:t>Entangled state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(can’t be written as product state)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2"/>
                <p:cNvSpPr txBox="1"/>
                <p:nvPr/>
              </p:nvSpPr>
              <p:spPr>
                <a:xfrm>
                  <a:off x="5867280" y="1066680"/>
                  <a:ext cx="26481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|</m:t>
                          </m:r>
                          <m:r>
                            <m:t xml:space="preserve">0</m:t>
                          </m:r>
                          <m:r>
                            <m:t xml:space="preserve">⟩</m:t>
                          </m:r>
                          <m:r>
                            <m:t xml:space="preserve">|</m:t>
                          </m:r>
                          <m:r>
                            <m:t xml:space="preserve">0</m:t>
                          </m:r>
                          <m:r>
                            <m:t xml:space="preserve">⟩</m:t>
                          </m:r>
                          <m:r>
                            <m:t xml:space="preserve">+</m:t>
                          </m:r>
                          <m:r>
                            <m:t xml:space="preserve">|</m:t>
                          </m:r>
                          <m:r>
                            <m:t xml:space="preserve">1</m:t>
                          </m:r>
                          <m:r>
                            <m:t xml:space="preserve">⟩</m:t>
                          </m:r>
                          <m:r>
                            <m:t xml:space="preserve">|</m:t>
                          </m:r>
                          <m:r>
                            <m:t xml:space="preserve">1</m:t>
                          </m:r>
                          <m:r>
                            <m:t xml:space="preserve">⟩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80880" y="1600200"/>
                <a:ext cx="4929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γ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αδ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βγ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βδ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1"/>
          <p:cNvSpPr/>
          <p:nvPr/>
        </p:nvSpPr>
        <p:spPr>
          <a:xfrm>
            <a:off x="380880" y="4952880"/>
            <a:ext cx="861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qubit simply gets entangled with your own body 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and lots of other stuff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that it collapses to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relative to you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1"/>
          <p:cNvSpPr/>
          <p:nvPr/>
        </p:nvSpPr>
        <p:spPr>
          <a:xfrm>
            <a:off x="380880" y="175248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general entangled state of n qubits requir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mplitudes to specif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228600"/>
            <a:ext cx="685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Quantum Computing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“Quantum Mechanics on Steroi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2286000" y="2209680"/>
                <a:ext cx="34844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" name="Rectangle 41"/>
          <p:cNvSpPr/>
          <p:nvPr/>
        </p:nvSpPr>
        <p:spPr>
          <a:xfrm>
            <a:off x="380880" y="35053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ents an obvious practical problem when using conventional computers to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simul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80880" y="45720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eynman 198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 then why not turn things around, and build computers tha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hemselv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ploit superposi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1927080" cy="1416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1"/>
          <p:cNvSpPr/>
          <p:nvPr/>
        </p:nvSpPr>
        <p:spPr>
          <a:xfrm>
            <a:off x="380880" y="55627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hor 199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a computer could do more than simulate QM—e.g., it could factor integer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6"/>
          <p:cNvGrpSpPr/>
          <p:nvPr/>
        </p:nvGrpSpPr>
        <p:grpSpPr>
          <a:xfrm>
            <a:off x="4888080" y="4173480"/>
            <a:ext cx="4255920" cy="2684520"/>
            <a:chOff x="4888080" y="4173480"/>
            <a:chExt cx="4255920" cy="2684520"/>
          </a:xfrm>
        </p:grpSpPr>
        <p:pic>
          <p:nvPicPr>
            <p:cNvPr id="16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48225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15"/>
            <p:cNvSpPr/>
            <p:nvPr/>
          </p:nvSpPr>
          <p:spPr>
            <a:xfrm>
              <a:off x="4888080" y="41734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1"/>
          <p:cNvSpPr/>
          <p:nvPr/>
        </p:nvSpPr>
        <p:spPr>
          <a:xfrm>
            <a:off x="304920" y="228600"/>
            <a:ext cx="838188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Where we a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has now factored 21 into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, with high probability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Martín-López et al. 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is scaling up so hard?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Decoher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mou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Fault-Tolerance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ggests we only need to get decoherence down to some finite level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~1% per qubit per gate time?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o arbitrarily lo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iscussions of the feasibility of QC focu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the Fault-Tolerance Theorem and its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focus is different!  For I take it as obvious that, if QC is impossible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re must exist a deeper explan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“such-and-such error-correction schemes might not work against every conceivable kind of noi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Calibri"/>
              </a:rPr>
              <a:t>A few physicists and computer scientists remain vocally skeptical that scalable QC is possible…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80880" y="358128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(And perhaps a much larger number are “silently skeptical”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8"/>
          <p:cNvGrpSpPr/>
          <p:nvPr/>
        </p:nvGrpSpPr>
        <p:grpSpPr>
          <a:xfrm>
            <a:off x="228600" y="914400"/>
            <a:ext cx="8686800" cy="2057400"/>
            <a:chOff x="228600" y="914400"/>
            <a:chExt cx="8686800" cy="2057400"/>
          </a:xfrm>
        </p:grpSpPr>
        <p:sp>
          <p:nvSpPr>
            <p:cNvPr id="175" name="Text Box 2"/>
            <p:cNvSpPr/>
            <p:nvPr/>
          </p:nvSpPr>
          <p:spPr>
            <a:xfrm>
              <a:off x="228600" y="914400"/>
              <a:ext cx="868680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7" descr="https://encrypted-tbn0.gstatic.com/images?q=tbn:ANd9GcTs3fQQMqC8LQ9meCmHlvwWQpzUCymdTUoMieFZKMWv4OovSJZwgm6Rmlc"/>
            <p:cNvPicPr/>
            <p:nvPr/>
          </p:nvPicPr>
          <p:blipFill>
            <a:blip r:embed="rId1"/>
            <a:stretch/>
          </p:blipFill>
          <p:spPr>
            <a:xfrm>
              <a:off x="380880" y="1447560"/>
              <a:ext cx="11523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https://encrypted-tbn0.gstatic.com/images?q=tbn:ANd9GcSTJ4SLCGxaLoSVSKeA95FNM2wzzxwrSl8l5QXWJvYIKiCkvPQF"/>
            <p:cNvPicPr/>
            <p:nvPr/>
          </p:nvPicPr>
          <p:blipFill>
            <a:blip r:embed="rId2"/>
            <a:stretch/>
          </p:blipFill>
          <p:spPr>
            <a:xfrm>
              <a:off x="1523880" y="144756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https://encrypted-tbn2.gstatic.com/images?q=tbn:ANd9GcTzUq4qQAA5gF7mKo_wLMmdqNbgZC_sGn8NePhhyAMY3frLIjJ5sg"/>
            <p:cNvPicPr/>
            <p:nvPr/>
          </p:nvPicPr>
          <p:blipFill>
            <a:blip r:embed="rId3"/>
            <a:stretch/>
          </p:blipFill>
          <p:spPr>
            <a:xfrm>
              <a:off x="3809880" y="1447560"/>
              <a:ext cx="13251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https://encrypted-tbn0.gstatic.com/images?q=tbn:ANd9GcRB6Zi5FcY-DmCvgMWBO9tMe4Hk2YhAXNdIq-2trlna204zdqpN"/>
            <p:cNvPicPr/>
            <p:nvPr/>
          </p:nvPicPr>
          <p:blipFill>
            <a:blip r:embed="rId4"/>
            <a:stretch/>
          </p:blipFill>
          <p:spPr>
            <a:xfrm>
              <a:off x="5105520" y="1447560"/>
              <a:ext cx="15238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5" descr="https://encrypted-tbn3.gstatic.com/images?q=tbn:ANd9GcQw3CUkm6Q1FbFPyY0607yvWe4vlOssfs9n2F_i4JYQNEqgoqoE_A"/>
            <p:cNvPicPr/>
            <p:nvPr/>
          </p:nvPicPr>
          <p:blipFill>
            <a:blip r:embed="rId5"/>
            <a:stretch/>
          </p:blipFill>
          <p:spPr>
            <a:xfrm>
              <a:off x="6629400" y="1447560"/>
              <a:ext cx="11833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7" descr="https://encrypted-tbn0.gstatic.com/images?q=tbn:ANd9GcTZt4fNWiM8GgoG_dNyXuec1Da-u8hGHJhVTf7x-JQjKcwDgm--"/>
            <p:cNvPicPr/>
            <p:nvPr/>
          </p:nvPicPr>
          <p:blipFill>
            <a:blip r:embed="rId6"/>
            <a:stretch/>
          </p:blipFill>
          <p:spPr>
            <a:xfrm>
              <a:off x="7772400" y="1447560"/>
              <a:ext cx="101592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9" descr="https://encrypted-tbn3.gstatic.com/images?q=tbn:ANd9GcRIT98Ox_EkTokc_S3NHQHk4mHG9_Lv0Up6idkYjs8mR8ICRMrn"/>
            <p:cNvPicPr/>
            <p:nvPr/>
          </p:nvPicPr>
          <p:blipFill>
            <a:blip r:embed="rId7"/>
            <a:stretch/>
          </p:blipFill>
          <p:spPr>
            <a:xfrm>
              <a:off x="2895480" y="1447560"/>
              <a:ext cx="1009440" cy="15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 Box 2"/>
          <p:cNvSpPr/>
          <p:nvPr/>
        </p:nvSpPr>
        <p:spPr>
          <a:xfrm>
            <a:off x="30492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60020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819520" y="30481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038480" y="3048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334120" y="3048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ic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6294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ak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7848720" y="3048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"/>
          <p:cNvPicPr/>
          <p:nvPr/>
        </p:nvPicPr>
        <p:blipFill>
          <a:blip r:embed="rId8"/>
          <a:stretch/>
        </p:blipFill>
        <p:spPr>
          <a:xfrm>
            <a:off x="457200" y="4572000"/>
            <a:ext cx="1787400" cy="20955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2438280" y="4648320"/>
            <a:ext cx="64771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One historical 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ople thought Charles Babbage’s idea was cute but would never work in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y were right—for ~130 yea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owner</cp:lastModifiedBy>
  <dcterms:modified xsi:type="dcterms:W3CDTF">2013-04-10T11:47:22Z</dcterms:modified>
  <cp:revision>3662</cp:revision>
  <dc:subject/>
  <dc:title>Slide 1</dc:title>
</cp:coreProperties>
</file>