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wmf" ContentType="image/x-wmf"/>
  <Override PartName="/ppt/media/image56.png" ContentType="image/png"/>
  <Override PartName="/ppt/media/image54.wmf" ContentType="image/x-wmf"/>
  <Override PartName="/ppt/media/image51.wmf" ContentType="image/x-wmf"/>
  <Override PartName="/ppt/media/image49.wmf" ContentType="image/x-wmf"/>
  <Override PartName="/ppt/media/image46.wmf" ContentType="image/x-wmf"/>
  <Override PartName="/ppt/media/image44.wmf" ContentType="image/x-wmf"/>
  <Override PartName="/ppt/media/image3.wmf" ContentType="image/x-wmf"/>
  <Override PartName="/ppt/media/image26.wmf" ContentType="image/x-wmf"/>
  <Override PartName="/ppt/media/image15.jpeg" ContentType="image/jpeg"/>
  <Override PartName="/ppt/media/image25.wmf" ContentType="image/x-wmf"/>
  <Override PartName="/ppt/media/image64.png" ContentType="image/png"/>
  <Override PartName="/ppt/media/image2.jpeg" ContentType="image/jpeg"/>
  <Override PartName="/ppt/media/image60.wmf" ContentType="image/x-wmf"/>
  <Override PartName="/ppt/media/image22.png" ContentType="image/png"/>
  <Override PartName="/ppt/media/image1.jpeg" ContentType="image/jpeg"/>
  <Override PartName="/ppt/media/image50.wmf" ContentType="image/x-wmf"/>
  <Override PartName="/ppt/media/image35.jpeg" ContentType="image/jpeg"/>
  <Override PartName="/ppt/media/image36.jpeg" ContentType="image/jpeg"/>
  <Override PartName="/ppt/media/image10.png" ContentType="image/png"/>
  <Override PartName="/ppt/media/image59.png" ContentType="image/png"/>
  <Override PartName="/ppt/media/image4.wmf" ContentType="image/x-wmf"/>
  <Override PartName="/ppt/media/image27.wmf" ContentType="image/x-wmf"/>
  <Override PartName="/ppt/media/image63.png" ContentType="image/png"/>
  <Override PartName="/ppt/media/image24.wmf" ContentType="image/x-wmf"/>
  <Override PartName="/ppt/media/image16.jpeg" ContentType="image/jpeg"/>
  <Override PartName="/ppt/media/image5.wmf" ContentType="image/x-wmf"/>
  <Override PartName="/ppt/media/image62.png" ContentType="image/png"/>
  <Override PartName="/ppt/media/image66.png" ContentType="image/png"/>
  <Override PartName="/ppt/media/image41.jpeg" ContentType="image/jpeg"/>
  <Override PartName="/ppt/media/image23.wmf" ContentType="image/x-wmf"/>
  <Override PartName="/ppt/media/image61.wmf" ContentType="image/x-wmf"/>
  <Override PartName="/ppt/media/image65.png" ContentType="image/png"/>
  <Override PartName="/ppt/media/image21.jpeg" ContentType="image/jpeg"/>
  <Override PartName="/ppt/media/image18.jpeg" ContentType="image/jpeg"/>
  <Override PartName="/ppt/media/image55.wmf" ContentType="image/x-wmf"/>
  <Override PartName="/ppt/media/image29.wmf" ContentType="image/x-wmf"/>
  <Override PartName="/ppt/media/image19.jpeg" ContentType="image/jpeg"/>
  <Override PartName="/ppt/media/image17.jpeg" ContentType="image/jpeg"/>
  <Override PartName="/ppt/media/image45.wmf" ContentType="image/x-wmf"/>
  <Override PartName="/ppt/media/image11.wmf" ContentType="image/x-wmf"/>
  <Override PartName="/ppt/media/image48.wmf" ContentType="image/x-wmf"/>
  <Override PartName="/ppt/media/image20.jpeg" ContentType="image/jpeg"/>
  <Override PartName="/ppt/media/image12.png" ContentType="image/png"/>
  <Override PartName="/ppt/media/image52.wmf" ContentType="image/x-wmf"/>
  <Override PartName="/ppt/media/image7.wmf" ContentType="image/x-wmf"/>
  <Override PartName="/ppt/media/image30.jpeg" ContentType="image/jpeg"/>
  <Override PartName="/ppt/media/image6.wmf" ContentType="image/x-wmf"/>
  <Override PartName="/ppt/media/image13.png" ContentType="image/png"/>
  <Override PartName="/ppt/media/image53.wmf" ContentType="image/x-wmf"/>
  <Override PartName="/ppt/media/image8.wmf" ContentType="image/x-wmf"/>
  <Override PartName="/ppt/media/image42.wmf" ContentType="image/x-wmf"/>
  <Override PartName="/ppt/media/image28.wmf" ContentType="image/x-wmf"/>
  <Override PartName="/ppt/media/image31.jpeg" ContentType="image/jpeg"/>
  <Override PartName="/ppt/media/image47.wmf" ContentType="image/x-wmf"/>
  <Override PartName="/ppt/media/image38.wmf" ContentType="image/x-wmf"/>
  <Override PartName="/ppt/media/image32.jpeg" ContentType="image/jpeg"/>
  <Override PartName="/ppt/media/image14.jpeg" ContentType="image/jpeg"/>
  <Override PartName="/ppt/media/image57.wmf" ContentType="image/x-wmf"/>
  <Override PartName="/ppt/media/image33.gif" ContentType="image/gif"/>
  <Override PartName="/ppt/media/image34.png" ContentType="image/png"/>
  <Override PartName="/ppt/media/image37.png" ContentType="image/png"/>
  <Override PartName="/ppt/media/image40.wmf" ContentType="image/x-wmf"/>
  <Override PartName="/ppt/media/image39.wmf" ContentType="image/x-wmf"/>
  <Override PartName="/ppt/media/image9.png" ContentType="image/png"/>
  <Override PartName="/ppt/media/image4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04D6-4BBA-4B60-BD70-AEF42EF24C8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778F-4211-4366-A196-7954A8FF7DA4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5F7A-5EDE-4CAB-8FE1-CE54D10F331A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6178-555B-49FB-A923-D0C339B6834F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3772-53DD-435D-84A0-BB80C8C95C9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609A-9664-4274-8549-FF726FA2F72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C387-EF52-4677-91AA-62EBF3B8B2A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DD24-89F8-427F-96C3-1E6D30B82E6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E4AB-358D-4EE7-A4EA-CC1206F75FD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B80C-A957-4A53-ACAA-1CE15F956CC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BB8E-A6F3-4613-961B-3124625478EE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A856-5049-46D9-90FD-7E841D771E91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9087-C769-42B3-BF66-2A51043FEBD4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3514-F167-41AC-9D78-B216866554A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98BB-C215-4D73-B651-EB7318DFD41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644F-5BC9-4E59-B1A4-7DBF314F557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D8AA-D34C-4808-9A90-003D1B45259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BC4B-4C49-4489-B6A9-77E0F2B0EF4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E1D9-661F-43EC-95B4-E6E91663A6CA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ADFC-7D6A-40B9-837E-2EDC58A1A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AF56-AFB7-4388-AED8-A0941C673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8437-2412-47BB-80A6-6C18C154A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2723-4617-4588-8240-2FEA982F3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40AF-0457-4798-9AD6-0BCE45016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E02C-CB6C-4BC9-A2B9-E35C26835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16B0-32BC-4C8F-A880-BEFE022F7831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6DAE-04A2-4870-B6FA-04E2C032B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1A69-163E-4481-965D-4155AD59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5D99-6B0A-4808-8C58-2FBDBB378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CE02-7A85-443A-84E3-9046A7572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0831-9D7E-4262-A5DD-CEBB6A04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8E20-7C4F-484A-B2B0-80D58593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BEEA-CF1F-4666-B3C5-775667F3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F49F-B997-479A-9305-90FE2EF3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38CC-3313-4F96-928F-CCDEF4F9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949D-654E-453A-B381-39AAC8D9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E22F-A547-4979-B5A8-EBFC0045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5C9A-010F-442F-A5C2-02AEF6FB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F9A6-0002-4BF5-8853-B630B2757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.wmf"/><Relationship Id="rId13" Type="http://schemas.openxmlformats.org/officeDocument/2006/relationships/image" Target="../media/image30.jpeg"/><Relationship Id="rId14" Type="http://schemas.openxmlformats.org/officeDocument/2006/relationships/image" Target="../media/image31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gif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image" Target="../media/image4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8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5.wmf"/><Relationship Id="rId15" Type="http://schemas.openxmlformats.org/officeDocument/2006/relationships/image" Target="../media/image56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57.wmf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image" Target="../media/image4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8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5438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  <a:ea typeface="Calibri"/>
              </a:rPr>
              <a:t>So You Think Quantum Computing Is Bunk?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54860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cott Aaronson (M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http://spe.fotolog.com/photo/30/57/72/long_live_80s/1354099121716_f.jpg"/>
          <p:cNvPicPr/>
          <p:nvPr/>
        </p:nvPicPr>
        <p:blipFill>
          <a:blip r:embed="rId1"/>
          <a:srcRect l="64805" t="0" r="4320" b="25533"/>
          <a:stretch/>
        </p:blipFill>
        <p:spPr>
          <a:xfrm>
            <a:off x="3886200" y="2971800"/>
            <a:ext cx="1289160" cy="175248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2895480" y="2438280"/>
            <a:ext cx="3353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|   </a:t>
            </a:r>
            <a:r>
              <a:rPr b="0" lang="en-US" sz="15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Callout 6"/>
          <p:cNvSpPr/>
          <p:nvPr/>
        </p:nvSpPr>
        <p:spPr>
          <a:xfrm>
            <a:off x="5715000" y="1828800"/>
            <a:ext cx="3048120" cy="1371600"/>
          </a:xfrm>
          <a:prstGeom prst="wedgeEllipseCallout">
            <a:avLst>
              <a:gd name="adj1" fmla="val -51152"/>
              <a:gd name="adj2" fmla="val 56990"/>
            </a:avLst>
          </a:prstGeom>
          <a:solidFill>
            <a:srgbClr val="ddf2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5943600" y="2057400"/>
            <a:ext cx="2590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You measurin’ M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  <a:ea typeface="Calibri"/>
              </a:rPr>
              <a:t>3 “Skeptical Positions” and My Response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304920" y="724212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re/Shor separa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"/>
          <p:cNvSpPr/>
          <p:nvPr/>
        </p:nvSpPr>
        <p:spPr>
          <a:xfrm>
            <a:off x="304920" y="1143000"/>
            <a:ext cx="8610480" cy="54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difficulties are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immens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!  QC might not be practical for a very long tim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and will have limited applications even if buil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600" spc="-1" strike="noStrike">
                <a:solidFill>
                  <a:srgbClr val="008000"/>
                </a:solidFill>
                <a:latin typeface="Calibri"/>
                <a:ea typeface="Arial"/>
              </a:rPr>
              <a:t>My response: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  <a:ea typeface="Arial"/>
              </a:rPr>
              <a:t> Agre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QC will fail because quantum mechanics itself is wro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600" spc="-1" strike="noStrike">
                <a:solidFill>
                  <a:srgbClr val="008000"/>
                </a:solidFill>
                <a:latin typeface="Calibri"/>
                <a:ea typeface="Arial"/>
              </a:rPr>
              <a:t>My response: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  <a:ea typeface="Arial"/>
              </a:rPr>
              <a:t> Awesome!  A revolution in physics—even better than QC.  Count me 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Quantum mechanics is fine, but QC won’t work because of some “principle of unavoidable noise” (?) on top of Q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600" spc="-1" strike="noStrike">
                <a:solidFill>
                  <a:srgbClr val="008000"/>
                </a:solidFill>
                <a:latin typeface="Calibri"/>
                <a:ea typeface="Arial"/>
              </a:rPr>
              <a:t>My response: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  <a:ea typeface="Arial"/>
              </a:rPr>
              <a:t> Also wonderful!  Explain your principle, why it’s true, and why it kills QC. 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Arial"/>
              </a:rPr>
              <a:t>Does it imply a fast classical simulation of “realistic” quantum system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4"/>
          <p:cNvSpPr/>
          <p:nvPr/>
        </p:nvSpPr>
        <p:spPr>
          <a:xfrm>
            <a:off x="2438280" y="2590920"/>
            <a:ext cx="4572000" cy="9471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eptical position I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won’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ddress in this talk: BPP=BQ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  <a:ea typeface="Calibri"/>
              </a:rPr>
              <a:t>Common Reasons for QC Skepticism</a:t>
            </a:r>
            <a:endParaRPr b="1" lang="en-US" sz="4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304920" y="724212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re/Shor separa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304920" y="914400"/>
            <a:ext cx="8610480" cy="60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unds too good to be true / like science fiction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Response: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 Would any science-fiction writer have imagined a computer that solved factoring, discrete log, and a few other special problems, but </a:t>
            </a: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not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 NP-complete proble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noyance at hype/misrepresentations in popular 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Response: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Tell me about i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Extended Church-Turing Thesi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rules out Q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Response: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The ECT was a CS encroachment onto physics’ turf …  we can’t cry foul if physics counterattacks u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 qubits couldn’t possibly encode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it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nderlying skepticism of QM itself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or modern physics in general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ight Brace 4"/>
          <p:cNvSpPr/>
          <p:nvPr/>
        </p:nvSpPr>
        <p:spPr>
          <a:xfrm>
            <a:off x="8534520" y="5486400"/>
            <a:ext cx="380880" cy="106668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1066680"/>
              <a:gd name="textAreaBottom" fmla="*/ 1056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22"/>
                  <a:pt x="10800" y="643"/>
                </a:cubicBezTo>
                <a:lnTo>
                  <a:pt x="10800" y="10157"/>
                </a:lnTo>
                <a:cubicBezTo>
                  <a:pt x="10800" y="10479"/>
                  <a:pt x="16200" y="10800"/>
                  <a:pt x="21600" y="10800"/>
                </a:cubicBezTo>
                <a:cubicBezTo>
                  <a:pt x="16200" y="10800"/>
                  <a:pt x="10800" y="11122"/>
                  <a:pt x="10800" y="11443"/>
                </a:cubicBezTo>
                <a:lnTo>
                  <a:pt x="10800" y="20957"/>
                </a:lnTo>
                <a:cubicBezTo>
                  <a:pt x="10800" y="21279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  <a:ea typeface="Calibri"/>
              </a:rPr>
              <a:t>The “2</a:t>
            </a:r>
            <a:r>
              <a:rPr b="1" lang="en-US" sz="4000" spc="-1" strike="noStrike" baseline="30000">
                <a:solidFill>
                  <a:srgbClr val="333399"/>
                </a:solidFill>
                <a:latin typeface="Calibri"/>
                <a:ea typeface="Calibri"/>
              </a:rPr>
              <a:t>n</a:t>
            </a:r>
            <a:r>
              <a:rPr b="1" lang="en-US" sz="4000" spc="-1" strike="noStrike">
                <a:solidFill>
                  <a:srgbClr val="333399"/>
                </a:solidFill>
                <a:latin typeface="Calibri"/>
                <a:ea typeface="Calibri"/>
              </a:rPr>
              <a:t> Bits Is Too Many” Argument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304920" y="1066680"/>
            <a:ext cx="868680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houldn’t we search for a more “reasonable” theory that agrees with QM on existing experiments, bu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Lets us feasibly prepare only a singly-exponential number of states, not a doubly-exponential numb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redicts that in a volume of size n, only poly(n) bits can be reliably stored and retrieved, not exp(n) bi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Lets us summarize the results of exp(n) possible measurements on an n-qubit state using only poly(n) classical bi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redicts that n-qubit states should be “PAC-learnable” with only poly(n) samples, not exp(n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457200" y="5867280"/>
            <a:ext cx="8305920" cy="5205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uch a theory exists!  It’s called quantum mecha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ight Brace 6"/>
          <p:cNvSpPr/>
          <p:nvPr/>
        </p:nvSpPr>
        <p:spPr>
          <a:xfrm flipH="1">
            <a:off x="304920" y="2057400"/>
            <a:ext cx="457200" cy="3505320"/>
          </a:xfrm>
          <a:custGeom>
            <a:avLst/>
            <a:gdLst>
              <a:gd name="textAreaLeft" fmla="*/ 0 w 457200"/>
              <a:gd name="textAreaRight" fmla="*/ 164880 w 457200"/>
              <a:gd name="textAreaTop" fmla="*/ 11880 h 3505320"/>
              <a:gd name="textAreaBottom" fmla="*/ 3493440 h 350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8"/>
                  <a:pt x="10800" y="235"/>
                </a:cubicBezTo>
                <a:lnTo>
                  <a:pt x="10800" y="9953"/>
                </a:lnTo>
                <a:cubicBezTo>
                  <a:pt x="10800" y="10071"/>
                  <a:pt x="16200" y="10188"/>
                  <a:pt x="21600" y="10188"/>
                </a:cubicBezTo>
                <a:cubicBezTo>
                  <a:pt x="16200" y="10188"/>
                  <a:pt x="10800" y="10306"/>
                  <a:pt x="10800" y="10423"/>
                </a:cubicBezTo>
                <a:lnTo>
                  <a:pt x="10800" y="21365"/>
                </a:lnTo>
                <a:cubicBezTo>
                  <a:pt x="10800" y="21483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Calibri"/>
                <a:ea typeface="Calibri"/>
              </a:rPr>
              <a:t>OK, but suppose QC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is</a:t>
            </a:r>
            <a:r>
              <a:rPr b="1" lang="en-US" sz="3000" spc="-1" strike="noStrike">
                <a:solidFill>
                  <a:srgbClr val="333399"/>
                </a:solidFill>
                <a:latin typeface="Calibri"/>
                <a:ea typeface="Calibri"/>
              </a:rPr>
              <a:t> impossible.</a:t>
            </a:r>
            <a:br>
              <a:rPr sz="3000"/>
            </a:br>
            <a:r>
              <a:rPr b="1" lang="en-US" sz="3000" spc="-1" strike="noStrike">
                <a:solidFill>
                  <a:srgbClr val="333399"/>
                </a:solidFill>
                <a:latin typeface="Calibri"/>
                <a:ea typeface="Calibri"/>
              </a:rPr>
              <a:t>Obvious question: What’s the criterion that tells us which quantum-mechanical experiments can be done, and which ones can’t?</a:t>
            </a: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304920" y="2057400"/>
            <a:ext cx="7696080" cy="24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Possibility 1: Precision in Amplitudes.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major problem is the requirement that basic quantum equations hold to multi-hundredth if not millionth decimal positions where the significant digits of the relevant quantum amplitudes reside.  We have never seen a physical law valid to over a dozen decimals … Are quantum amplitudes still complex numbers to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uc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ccuracies or do they become quaternions, colored graphs, or sick-humored gremlins?” —Leonid Lev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304920" y="4648320"/>
            <a:ext cx="289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Obvious Respons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Object 1"/>
          <p:cNvGraphicFramePr/>
          <p:nvPr/>
        </p:nvGraphicFramePr>
        <p:xfrm>
          <a:off x="1077840" y="5257800"/>
          <a:ext cx="7257960" cy="12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7840" y="5257800"/>
                    <a:ext cx="725796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0" name="Picture 17" descr="https://encrypted-tbn0.gstatic.com/images?q=tbn:ANd9GcTZt4fNWiM8GgoG_dNyXuec1Da-u8hGHJhVTf7x-JQjKcwDgm--"/>
          <p:cNvPicPr/>
          <p:nvPr/>
        </p:nvPicPr>
        <p:blipFill>
          <a:blip r:embed="rId3"/>
          <a:stretch/>
        </p:blipFill>
        <p:spPr>
          <a:xfrm>
            <a:off x="8001000" y="2666880"/>
            <a:ext cx="86364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304920" y="380880"/>
            <a:ext cx="8534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Possibility 2: OK, small amplitudes might be fine for separable states—but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entanglement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 is an illus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304920" y="1447920"/>
            <a:ext cx="8229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Obvious Response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he Bell Inequalit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nd its experimental viol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27"/>
          <p:cNvGrpSpPr/>
          <p:nvPr/>
        </p:nvGrpSpPr>
        <p:grpSpPr>
          <a:xfrm>
            <a:off x="380880" y="2743200"/>
            <a:ext cx="8423280" cy="3124080"/>
            <a:chOff x="380880" y="2743200"/>
            <a:chExt cx="8423280" cy="3124080"/>
          </a:xfrm>
        </p:grpSpPr>
        <p:grpSp>
          <p:nvGrpSpPr>
            <p:cNvPr id="214" name="Group 69"/>
            <p:cNvGrpSpPr/>
            <p:nvPr/>
          </p:nvGrpSpPr>
          <p:grpSpPr>
            <a:xfrm>
              <a:off x="2133360" y="3504960"/>
              <a:ext cx="4495680" cy="709560"/>
              <a:chOff x="2133360" y="3504960"/>
              <a:chExt cx="4495680" cy="709560"/>
            </a:xfrm>
          </p:grpSpPr>
          <p:sp>
            <p:nvSpPr>
              <p:cNvPr id="215" name="Freeform 13"/>
              <p:cNvSpPr/>
              <p:nvPr/>
            </p:nvSpPr>
            <p:spPr>
              <a:xfrm rot="5400000">
                <a:off x="4026240" y="1611720"/>
                <a:ext cx="709560" cy="4495680"/>
              </a:xfrm>
              <a:custGeom>
                <a:avLst/>
                <a:gdLst>
                  <a:gd name="textAreaLeft" fmla="*/ 0 w 709560"/>
                  <a:gd name="textAreaRight" fmla="*/ 709920 w 709560"/>
                  <a:gd name="textAreaTop" fmla="*/ 0 h 4495680"/>
                  <a:gd name="textAreaBottom" fmla="*/ 4496040 h 4495680"/>
                </a:gdLst>
                <a:ahLst/>
                <a:rect l="textAreaLeft" t="textAreaTop" r="textAreaRight" b="textAreaBottom"/>
                <a:pathLst>
                  <a:path w="499" h="5764">
                    <a:moveTo>
                      <a:pt x="249" y="5616"/>
                    </a:moveTo>
                    <a:lnTo>
                      <a:pt x="249" y="5764"/>
                    </a:lnTo>
                    <a:lnTo>
                      <a:pt x="358" y="5725"/>
                    </a:lnTo>
                    <a:lnTo>
                      <a:pt x="435" y="5630"/>
                    </a:lnTo>
                    <a:lnTo>
                      <a:pt x="482" y="5494"/>
                    </a:lnTo>
                    <a:lnTo>
                      <a:pt x="499" y="5338"/>
                    </a:lnTo>
                    <a:lnTo>
                      <a:pt x="482" y="5181"/>
                    </a:lnTo>
                    <a:lnTo>
                      <a:pt x="435" y="5044"/>
                    </a:lnTo>
                    <a:lnTo>
                      <a:pt x="358" y="4948"/>
                    </a:lnTo>
                    <a:lnTo>
                      <a:pt x="249" y="4913"/>
                    </a:lnTo>
                    <a:lnTo>
                      <a:pt x="178" y="4889"/>
                    </a:lnTo>
                    <a:lnTo>
                      <a:pt x="127" y="4826"/>
                    </a:lnTo>
                    <a:lnTo>
                      <a:pt x="97" y="4738"/>
                    </a:lnTo>
                    <a:lnTo>
                      <a:pt x="88" y="4637"/>
                    </a:lnTo>
                    <a:lnTo>
                      <a:pt x="97" y="4534"/>
                    </a:lnTo>
                    <a:lnTo>
                      <a:pt x="127" y="4447"/>
                    </a:lnTo>
                    <a:lnTo>
                      <a:pt x="178" y="4385"/>
                    </a:lnTo>
                    <a:lnTo>
                      <a:pt x="249" y="4362"/>
                    </a:lnTo>
                    <a:lnTo>
                      <a:pt x="358" y="4324"/>
                    </a:lnTo>
                    <a:lnTo>
                      <a:pt x="435" y="4227"/>
                    </a:lnTo>
                    <a:lnTo>
                      <a:pt x="482" y="4091"/>
                    </a:lnTo>
                    <a:lnTo>
                      <a:pt x="499" y="3935"/>
                    </a:lnTo>
                    <a:lnTo>
                      <a:pt x="482" y="3778"/>
                    </a:lnTo>
                    <a:lnTo>
                      <a:pt x="435" y="3642"/>
                    </a:lnTo>
                    <a:lnTo>
                      <a:pt x="358" y="3545"/>
                    </a:lnTo>
                    <a:lnTo>
                      <a:pt x="249" y="3510"/>
                    </a:lnTo>
                    <a:lnTo>
                      <a:pt x="178" y="3486"/>
                    </a:lnTo>
                    <a:lnTo>
                      <a:pt x="127" y="3423"/>
                    </a:lnTo>
                    <a:lnTo>
                      <a:pt x="97" y="3335"/>
                    </a:lnTo>
                    <a:lnTo>
                      <a:pt x="88" y="3234"/>
                    </a:lnTo>
                    <a:lnTo>
                      <a:pt x="97" y="3131"/>
                    </a:lnTo>
                    <a:lnTo>
                      <a:pt x="127" y="3043"/>
                    </a:lnTo>
                    <a:lnTo>
                      <a:pt x="178" y="2980"/>
                    </a:lnTo>
                    <a:lnTo>
                      <a:pt x="249" y="2958"/>
                    </a:lnTo>
                    <a:lnTo>
                      <a:pt x="358" y="2919"/>
                    </a:lnTo>
                    <a:lnTo>
                      <a:pt x="435" y="2825"/>
                    </a:lnTo>
                    <a:lnTo>
                      <a:pt x="482" y="2688"/>
                    </a:lnTo>
                    <a:lnTo>
                      <a:pt x="499" y="2532"/>
                    </a:lnTo>
                    <a:lnTo>
                      <a:pt x="482" y="2375"/>
                    </a:lnTo>
                    <a:lnTo>
                      <a:pt x="435" y="2239"/>
                    </a:lnTo>
                    <a:lnTo>
                      <a:pt x="358" y="2142"/>
                    </a:lnTo>
                    <a:lnTo>
                      <a:pt x="249" y="2107"/>
                    </a:lnTo>
                    <a:lnTo>
                      <a:pt x="178" y="2081"/>
                    </a:lnTo>
                    <a:lnTo>
                      <a:pt x="127" y="2019"/>
                    </a:lnTo>
                    <a:lnTo>
                      <a:pt x="97" y="1931"/>
                    </a:lnTo>
                    <a:lnTo>
                      <a:pt x="88" y="1829"/>
                    </a:lnTo>
                    <a:lnTo>
                      <a:pt x="97" y="1727"/>
                    </a:lnTo>
                    <a:lnTo>
                      <a:pt x="127" y="1638"/>
                    </a:lnTo>
                    <a:lnTo>
                      <a:pt x="178" y="1576"/>
                    </a:lnTo>
                    <a:lnTo>
                      <a:pt x="249" y="1553"/>
                    </a:lnTo>
                    <a:lnTo>
                      <a:pt x="358" y="1515"/>
                    </a:lnTo>
                    <a:lnTo>
                      <a:pt x="435" y="1420"/>
                    </a:lnTo>
                    <a:lnTo>
                      <a:pt x="482" y="1284"/>
                    </a:lnTo>
                    <a:lnTo>
                      <a:pt x="499" y="1128"/>
                    </a:lnTo>
                    <a:lnTo>
                      <a:pt x="482" y="971"/>
                    </a:lnTo>
                    <a:lnTo>
                      <a:pt x="435" y="834"/>
                    </a:lnTo>
                    <a:lnTo>
                      <a:pt x="358" y="738"/>
                    </a:lnTo>
                    <a:lnTo>
                      <a:pt x="249" y="703"/>
                    </a:lnTo>
                    <a:lnTo>
                      <a:pt x="178" y="677"/>
                    </a:lnTo>
                    <a:lnTo>
                      <a:pt x="127" y="614"/>
                    </a:lnTo>
                    <a:lnTo>
                      <a:pt x="97" y="526"/>
                    </a:lnTo>
                    <a:lnTo>
                      <a:pt x="88" y="425"/>
                    </a:lnTo>
                    <a:lnTo>
                      <a:pt x="97" y="322"/>
                    </a:lnTo>
                    <a:lnTo>
                      <a:pt x="127" y="234"/>
                    </a:lnTo>
                    <a:lnTo>
                      <a:pt x="178" y="171"/>
                    </a:lnTo>
                    <a:lnTo>
                      <a:pt x="249" y="149"/>
                    </a:lnTo>
                    <a:lnTo>
                      <a:pt x="249" y="0"/>
                    </a:lnTo>
                    <a:lnTo>
                      <a:pt x="139" y="35"/>
                    </a:lnTo>
                    <a:lnTo>
                      <a:pt x="62" y="131"/>
                    </a:lnTo>
                    <a:lnTo>
                      <a:pt x="15" y="268"/>
                    </a:lnTo>
                    <a:lnTo>
                      <a:pt x="0" y="425"/>
                    </a:lnTo>
                    <a:lnTo>
                      <a:pt x="15" y="581"/>
                    </a:lnTo>
                    <a:lnTo>
                      <a:pt x="62" y="717"/>
                    </a:lnTo>
                    <a:lnTo>
                      <a:pt x="139" y="813"/>
                    </a:lnTo>
                    <a:lnTo>
                      <a:pt x="249" y="852"/>
                    </a:lnTo>
                    <a:lnTo>
                      <a:pt x="319" y="874"/>
                    </a:lnTo>
                    <a:lnTo>
                      <a:pt x="370" y="937"/>
                    </a:lnTo>
                    <a:lnTo>
                      <a:pt x="400" y="1025"/>
                    </a:lnTo>
                    <a:lnTo>
                      <a:pt x="411" y="1128"/>
                    </a:lnTo>
                    <a:lnTo>
                      <a:pt x="400" y="1229"/>
                    </a:lnTo>
                    <a:lnTo>
                      <a:pt x="370" y="1317"/>
                    </a:lnTo>
                    <a:lnTo>
                      <a:pt x="319" y="1380"/>
                    </a:lnTo>
                    <a:lnTo>
                      <a:pt x="249" y="1404"/>
                    </a:lnTo>
                    <a:lnTo>
                      <a:pt x="139" y="1439"/>
                    </a:lnTo>
                    <a:lnTo>
                      <a:pt x="62" y="1536"/>
                    </a:lnTo>
                    <a:lnTo>
                      <a:pt x="15" y="1672"/>
                    </a:lnTo>
                    <a:lnTo>
                      <a:pt x="0" y="1829"/>
                    </a:lnTo>
                    <a:lnTo>
                      <a:pt x="15" y="1985"/>
                    </a:lnTo>
                    <a:lnTo>
                      <a:pt x="62" y="2122"/>
                    </a:lnTo>
                    <a:lnTo>
                      <a:pt x="139" y="2216"/>
                    </a:lnTo>
                    <a:lnTo>
                      <a:pt x="249" y="2255"/>
                    </a:lnTo>
                    <a:lnTo>
                      <a:pt x="319" y="2277"/>
                    </a:lnTo>
                    <a:lnTo>
                      <a:pt x="370" y="2340"/>
                    </a:lnTo>
                    <a:lnTo>
                      <a:pt x="400" y="2428"/>
                    </a:lnTo>
                    <a:lnTo>
                      <a:pt x="411" y="2531"/>
                    </a:lnTo>
                    <a:lnTo>
                      <a:pt x="400" y="2632"/>
                    </a:lnTo>
                    <a:lnTo>
                      <a:pt x="370" y="2720"/>
                    </a:lnTo>
                    <a:lnTo>
                      <a:pt x="319" y="2783"/>
                    </a:lnTo>
                    <a:lnTo>
                      <a:pt x="249" y="2809"/>
                    </a:lnTo>
                    <a:lnTo>
                      <a:pt x="139" y="2844"/>
                    </a:lnTo>
                    <a:lnTo>
                      <a:pt x="62" y="2940"/>
                    </a:lnTo>
                    <a:lnTo>
                      <a:pt x="15" y="3077"/>
                    </a:lnTo>
                    <a:lnTo>
                      <a:pt x="0" y="3232"/>
                    </a:lnTo>
                    <a:lnTo>
                      <a:pt x="15" y="3388"/>
                    </a:lnTo>
                    <a:lnTo>
                      <a:pt x="62" y="3524"/>
                    </a:lnTo>
                    <a:lnTo>
                      <a:pt x="139" y="3619"/>
                    </a:lnTo>
                    <a:lnTo>
                      <a:pt x="249" y="3658"/>
                    </a:lnTo>
                    <a:lnTo>
                      <a:pt x="319" y="3680"/>
                    </a:lnTo>
                    <a:lnTo>
                      <a:pt x="370" y="3743"/>
                    </a:lnTo>
                    <a:lnTo>
                      <a:pt x="400" y="3831"/>
                    </a:lnTo>
                    <a:lnTo>
                      <a:pt x="411" y="3935"/>
                    </a:lnTo>
                    <a:lnTo>
                      <a:pt x="400" y="4036"/>
                    </a:lnTo>
                    <a:lnTo>
                      <a:pt x="370" y="4125"/>
                    </a:lnTo>
                    <a:lnTo>
                      <a:pt x="319" y="4187"/>
                    </a:lnTo>
                    <a:lnTo>
                      <a:pt x="249" y="4213"/>
                    </a:lnTo>
                    <a:lnTo>
                      <a:pt x="139" y="4248"/>
                    </a:lnTo>
                    <a:lnTo>
                      <a:pt x="62" y="4345"/>
                    </a:lnTo>
                    <a:lnTo>
                      <a:pt x="15" y="4481"/>
                    </a:lnTo>
                    <a:lnTo>
                      <a:pt x="0" y="4637"/>
                    </a:lnTo>
                    <a:lnTo>
                      <a:pt x="15" y="4792"/>
                    </a:lnTo>
                    <a:lnTo>
                      <a:pt x="62" y="4929"/>
                    </a:lnTo>
                    <a:lnTo>
                      <a:pt x="139" y="5024"/>
                    </a:lnTo>
                    <a:lnTo>
                      <a:pt x="249" y="5062"/>
                    </a:lnTo>
                    <a:lnTo>
                      <a:pt x="319" y="5085"/>
                    </a:lnTo>
                    <a:lnTo>
                      <a:pt x="370" y="5147"/>
                    </a:lnTo>
                    <a:lnTo>
                      <a:pt x="400" y="5235"/>
                    </a:lnTo>
                    <a:lnTo>
                      <a:pt x="411" y="5338"/>
                    </a:lnTo>
                    <a:lnTo>
                      <a:pt x="400" y="5439"/>
                    </a:lnTo>
                    <a:lnTo>
                      <a:pt x="370" y="5528"/>
                    </a:lnTo>
                    <a:lnTo>
                      <a:pt x="319" y="5590"/>
                    </a:lnTo>
                    <a:lnTo>
                      <a:pt x="249" y="5616"/>
                    </a:lnTo>
                    <a:close/>
                  </a:path>
                </a:pathLst>
              </a:custGeom>
              <a:solidFill>
                <a:srgbClr val="7a451f"/>
              </a:solidFill>
              <a:ln w="19080">
                <a:solidFill>
                  <a:srgbClr val="6b360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4"/>
              <p:cNvSpPr/>
              <p:nvPr/>
            </p:nvSpPr>
            <p:spPr>
              <a:xfrm rot="5400000">
                <a:off x="4047120" y="1627920"/>
                <a:ext cx="669960" cy="4462920"/>
              </a:xfrm>
              <a:custGeom>
                <a:avLst/>
                <a:gdLst>
                  <a:gd name="textAreaLeft" fmla="*/ 0 w 669960"/>
                  <a:gd name="textAreaRight" fmla="*/ 670320 w 669960"/>
                  <a:gd name="textAreaTop" fmla="*/ 0 h 4462920"/>
                  <a:gd name="textAreaBottom" fmla="*/ 4463280 h 4462920"/>
                </a:gdLst>
                <a:ahLst/>
                <a:rect l="textAreaLeft" t="textAreaTop" r="textAreaRight" b="textAreaBottom"/>
                <a:pathLst>
                  <a:path w="471" h="5723">
                    <a:moveTo>
                      <a:pt x="235" y="5618"/>
                    </a:moveTo>
                    <a:lnTo>
                      <a:pt x="235" y="5631"/>
                    </a:lnTo>
                    <a:lnTo>
                      <a:pt x="235" y="5644"/>
                    </a:lnTo>
                    <a:lnTo>
                      <a:pt x="235" y="5657"/>
                    </a:lnTo>
                    <a:lnTo>
                      <a:pt x="235" y="5670"/>
                    </a:lnTo>
                    <a:lnTo>
                      <a:pt x="235" y="5683"/>
                    </a:lnTo>
                    <a:lnTo>
                      <a:pt x="235" y="5695"/>
                    </a:lnTo>
                    <a:lnTo>
                      <a:pt x="235" y="5708"/>
                    </a:lnTo>
                    <a:lnTo>
                      <a:pt x="235" y="5723"/>
                    </a:lnTo>
                    <a:lnTo>
                      <a:pt x="337" y="5687"/>
                    </a:lnTo>
                    <a:lnTo>
                      <a:pt x="411" y="5596"/>
                    </a:lnTo>
                    <a:lnTo>
                      <a:pt x="455" y="5467"/>
                    </a:lnTo>
                    <a:lnTo>
                      <a:pt x="471" y="5321"/>
                    </a:lnTo>
                    <a:lnTo>
                      <a:pt x="455" y="5174"/>
                    </a:lnTo>
                    <a:lnTo>
                      <a:pt x="411" y="5045"/>
                    </a:lnTo>
                    <a:lnTo>
                      <a:pt x="337" y="4955"/>
                    </a:lnTo>
                    <a:lnTo>
                      <a:pt x="235" y="4922"/>
                    </a:lnTo>
                    <a:lnTo>
                      <a:pt x="157" y="4894"/>
                    </a:lnTo>
                    <a:lnTo>
                      <a:pt x="102" y="4825"/>
                    </a:lnTo>
                    <a:lnTo>
                      <a:pt x="68" y="4729"/>
                    </a:lnTo>
                    <a:lnTo>
                      <a:pt x="57" y="4618"/>
                    </a:lnTo>
                    <a:lnTo>
                      <a:pt x="68" y="4506"/>
                    </a:lnTo>
                    <a:lnTo>
                      <a:pt x="102" y="4410"/>
                    </a:lnTo>
                    <a:lnTo>
                      <a:pt x="157" y="4341"/>
                    </a:lnTo>
                    <a:lnTo>
                      <a:pt x="235" y="4317"/>
                    </a:lnTo>
                    <a:lnTo>
                      <a:pt x="337" y="4281"/>
                    </a:lnTo>
                    <a:lnTo>
                      <a:pt x="411" y="4190"/>
                    </a:lnTo>
                    <a:lnTo>
                      <a:pt x="455" y="4061"/>
                    </a:lnTo>
                    <a:lnTo>
                      <a:pt x="471" y="3915"/>
                    </a:lnTo>
                    <a:lnTo>
                      <a:pt x="455" y="3768"/>
                    </a:lnTo>
                    <a:lnTo>
                      <a:pt x="411" y="3639"/>
                    </a:lnTo>
                    <a:lnTo>
                      <a:pt x="337" y="3549"/>
                    </a:lnTo>
                    <a:lnTo>
                      <a:pt x="235" y="3516"/>
                    </a:lnTo>
                    <a:lnTo>
                      <a:pt x="157" y="3488"/>
                    </a:lnTo>
                    <a:lnTo>
                      <a:pt x="102" y="3421"/>
                    </a:lnTo>
                    <a:lnTo>
                      <a:pt x="68" y="3325"/>
                    </a:lnTo>
                    <a:lnTo>
                      <a:pt x="57" y="3214"/>
                    </a:lnTo>
                    <a:lnTo>
                      <a:pt x="68" y="3102"/>
                    </a:lnTo>
                    <a:lnTo>
                      <a:pt x="102" y="3005"/>
                    </a:lnTo>
                    <a:lnTo>
                      <a:pt x="157" y="2936"/>
                    </a:lnTo>
                    <a:lnTo>
                      <a:pt x="235" y="2912"/>
                    </a:lnTo>
                    <a:lnTo>
                      <a:pt x="337" y="2877"/>
                    </a:lnTo>
                    <a:lnTo>
                      <a:pt x="411" y="2785"/>
                    </a:lnTo>
                    <a:lnTo>
                      <a:pt x="455" y="2657"/>
                    </a:lnTo>
                    <a:lnTo>
                      <a:pt x="471" y="2511"/>
                    </a:lnTo>
                    <a:lnTo>
                      <a:pt x="455" y="2363"/>
                    </a:lnTo>
                    <a:lnTo>
                      <a:pt x="411" y="2235"/>
                    </a:lnTo>
                    <a:lnTo>
                      <a:pt x="337" y="2145"/>
                    </a:lnTo>
                    <a:lnTo>
                      <a:pt x="235" y="2111"/>
                    </a:lnTo>
                    <a:lnTo>
                      <a:pt x="157" y="2084"/>
                    </a:lnTo>
                    <a:lnTo>
                      <a:pt x="102" y="2016"/>
                    </a:lnTo>
                    <a:lnTo>
                      <a:pt x="68" y="1920"/>
                    </a:lnTo>
                    <a:lnTo>
                      <a:pt x="57" y="1809"/>
                    </a:lnTo>
                    <a:lnTo>
                      <a:pt x="68" y="1699"/>
                    </a:lnTo>
                    <a:lnTo>
                      <a:pt x="102" y="1602"/>
                    </a:lnTo>
                    <a:lnTo>
                      <a:pt x="157" y="1533"/>
                    </a:lnTo>
                    <a:lnTo>
                      <a:pt x="235" y="1509"/>
                    </a:lnTo>
                    <a:lnTo>
                      <a:pt x="337" y="1474"/>
                    </a:lnTo>
                    <a:lnTo>
                      <a:pt x="411" y="1382"/>
                    </a:lnTo>
                    <a:lnTo>
                      <a:pt x="455" y="1252"/>
                    </a:lnTo>
                    <a:lnTo>
                      <a:pt x="471" y="1106"/>
                    </a:lnTo>
                    <a:lnTo>
                      <a:pt x="455" y="959"/>
                    </a:lnTo>
                    <a:lnTo>
                      <a:pt x="411" y="830"/>
                    </a:lnTo>
                    <a:lnTo>
                      <a:pt x="337" y="739"/>
                    </a:lnTo>
                    <a:lnTo>
                      <a:pt x="235" y="705"/>
                    </a:lnTo>
                    <a:lnTo>
                      <a:pt x="157" y="678"/>
                    </a:lnTo>
                    <a:lnTo>
                      <a:pt x="102" y="610"/>
                    </a:lnTo>
                    <a:lnTo>
                      <a:pt x="68" y="514"/>
                    </a:lnTo>
                    <a:lnTo>
                      <a:pt x="57" y="403"/>
                    </a:lnTo>
                    <a:lnTo>
                      <a:pt x="68" y="291"/>
                    </a:lnTo>
                    <a:lnTo>
                      <a:pt x="102" y="195"/>
                    </a:lnTo>
                    <a:lnTo>
                      <a:pt x="157" y="126"/>
                    </a:lnTo>
                    <a:lnTo>
                      <a:pt x="235" y="102"/>
                    </a:lnTo>
                    <a:lnTo>
                      <a:pt x="235" y="87"/>
                    </a:lnTo>
                    <a:lnTo>
                      <a:pt x="235" y="74"/>
                    </a:lnTo>
                    <a:lnTo>
                      <a:pt x="235" y="61"/>
                    </a:lnTo>
                    <a:lnTo>
                      <a:pt x="235" y="50"/>
                    </a:lnTo>
                    <a:lnTo>
                      <a:pt x="235" y="36"/>
                    </a:lnTo>
                    <a:lnTo>
                      <a:pt x="235" y="25"/>
                    </a:lnTo>
                    <a:lnTo>
                      <a:pt x="235" y="12"/>
                    </a:lnTo>
                    <a:lnTo>
                      <a:pt x="235" y="0"/>
                    </a:lnTo>
                    <a:lnTo>
                      <a:pt x="131" y="34"/>
                    </a:lnTo>
                    <a:lnTo>
                      <a:pt x="58" y="124"/>
                    </a:lnTo>
                    <a:lnTo>
                      <a:pt x="14" y="252"/>
                    </a:lnTo>
                    <a:lnTo>
                      <a:pt x="0" y="400"/>
                    </a:lnTo>
                    <a:lnTo>
                      <a:pt x="14" y="546"/>
                    </a:lnTo>
                    <a:lnTo>
                      <a:pt x="58" y="675"/>
                    </a:lnTo>
                    <a:lnTo>
                      <a:pt x="131" y="766"/>
                    </a:lnTo>
                    <a:lnTo>
                      <a:pt x="235" y="801"/>
                    </a:lnTo>
                    <a:lnTo>
                      <a:pt x="311" y="825"/>
                    </a:lnTo>
                    <a:lnTo>
                      <a:pt x="368" y="894"/>
                    </a:lnTo>
                    <a:lnTo>
                      <a:pt x="401" y="991"/>
                    </a:lnTo>
                    <a:lnTo>
                      <a:pt x="413" y="1103"/>
                    </a:lnTo>
                    <a:lnTo>
                      <a:pt x="401" y="1214"/>
                    </a:lnTo>
                    <a:lnTo>
                      <a:pt x="368" y="1310"/>
                    </a:lnTo>
                    <a:lnTo>
                      <a:pt x="311" y="1378"/>
                    </a:lnTo>
                    <a:lnTo>
                      <a:pt x="235" y="1405"/>
                    </a:lnTo>
                    <a:lnTo>
                      <a:pt x="131" y="1439"/>
                    </a:lnTo>
                    <a:lnTo>
                      <a:pt x="58" y="1529"/>
                    </a:lnTo>
                    <a:lnTo>
                      <a:pt x="14" y="1657"/>
                    </a:lnTo>
                    <a:lnTo>
                      <a:pt x="0" y="1805"/>
                    </a:lnTo>
                    <a:lnTo>
                      <a:pt x="14" y="1951"/>
                    </a:lnTo>
                    <a:lnTo>
                      <a:pt x="58" y="2079"/>
                    </a:lnTo>
                    <a:lnTo>
                      <a:pt x="131" y="2171"/>
                    </a:lnTo>
                    <a:lnTo>
                      <a:pt x="235" y="2206"/>
                    </a:lnTo>
                    <a:lnTo>
                      <a:pt x="311" y="2230"/>
                    </a:lnTo>
                    <a:lnTo>
                      <a:pt x="368" y="2299"/>
                    </a:lnTo>
                    <a:lnTo>
                      <a:pt x="401" y="2395"/>
                    </a:lnTo>
                    <a:lnTo>
                      <a:pt x="413" y="2506"/>
                    </a:lnTo>
                    <a:lnTo>
                      <a:pt x="401" y="2617"/>
                    </a:lnTo>
                    <a:lnTo>
                      <a:pt x="368" y="2713"/>
                    </a:lnTo>
                    <a:lnTo>
                      <a:pt x="311" y="2781"/>
                    </a:lnTo>
                    <a:lnTo>
                      <a:pt x="235" y="2808"/>
                    </a:lnTo>
                    <a:lnTo>
                      <a:pt x="131" y="2842"/>
                    </a:lnTo>
                    <a:lnTo>
                      <a:pt x="58" y="2933"/>
                    </a:lnTo>
                    <a:lnTo>
                      <a:pt x="14" y="3061"/>
                    </a:lnTo>
                    <a:lnTo>
                      <a:pt x="0" y="3209"/>
                    </a:lnTo>
                    <a:lnTo>
                      <a:pt x="14" y="3355"/>
                    </a:lnTo>
                    <a:lnTo>
                      <a:pt x="58" y="3485"/>
                    </a:lnTo>
                    <a:lnTo>
                      <a:pt x="131" y="3577"/>
                    </a:lnTo>
                    <a:lnTo>
                      <a:pt x="235" y="3612"/>
                    </a:lnTo>
                    <a:lnTo>
                      <a:pt x="311" y="3636"/>
                    </a:lnTo>
                    <a:lnTo>
                      <a:pt x="368" y="3705"/>
                    </a:lnTo>
                    <a:lnTo>
                      <a:pt x="401" y="3801"/>
                    </a:lnTo>
                    <a:lnTo>
                      <a:pt x="413" y="3914"/>
                    </a:lnTo>
                    <a:lnTo>
                      <a:pt x="401" y="4024"/>
                    </a:lnTo>
                    <a:lnTo>
                      <a:pt x="368" y="4121"/>
                    </a:lnTo>
                    <a:lnTo>
                      <a:pt x="311" y="4188"/>
                    </a:lnTo>
                    <a:lnTo>
                      <a:pt x="235" y="4215"/>
                    </a:lnTo>
                    <a:lnTo>
                      <a:pt x="131" y="4249"/>
                    </a:lnTo>
                    <a:lnTo>
                      <a:pt x="58" y="4339"/>
                    </a:lnTo>
                    <a:lnTo>
                      <a:pt x="14" y="4468"/>
                    </a:lnTo>
                    <a:lnTo>
                      <a:pt x="0" y="4615"/>
                    </a:lnTo>
                    <a:lnTo>
                      <a:pt x="14" y="4761"/>
                    </a:lnTo>
                    <a:lnTo>
                      <a:pt x="58" y="4890"/>
                    </a:lnTo>
                    <a:lnTo>
                      <a:pt x="131" y="4981"/>
                    </a:lnTo>
                    <a:lnTo>
                      <a:pt x="235" y="5016"/>
                    </a:lnTo>
                    <a:lnTo>
                      <a:pt x="311" y="5041"/>
                    </a:lnTo>
                    <a:lnTo>
                      <a:pt x="368" y="5110"/>
                    </a:lnTo>
                    <a:lnTo>
                      <a:pt x="401" y="5206"/>
                    </a:lnTo>
                    <a:lnTo>
                      <a:pt x="413" y="5317"/>
                    </a:lnTo>
                    <a:lnTo>
                      <a:pt x="401" y="5427"/>
                    </a:lnTo>
                    <a:lnTo>
                      <a:pt x="368" y="5524"/>
                    </a:lnTo>
                    <a:lnTo>
                      <a:pt x="311" y="5591"/>
                    </a:lnTo>
                    <a:lnTo>
                      <a:pt x="235" y="5618"/>
                    </a:lnTo>
                    <a:close/>
                  </a:path>
                </a:pathLst>
              </a:custGeom>
              <a:solidFill>
                <a:srgbClr val="b58059"/>
              </a:solidFill>
              <a:ln w="17640">
                <a:solidFill>
                  <a:srgbClr val="9e69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5"/>
              <p:cNvSpPr/>
              <p:nvPr/>
            </p:nvSpPr>
            <p:spPr>
              <a:xfrm rot="5400000">
                <a:off x="4065480" y="1641960"/>
                <a:ext cx="632880" cy="4434840"/>
              </a:xfrm>
              <a:custGeom>
                <a:avLst/>
                <a:gdLst>
                  <a:gd name="textAreaLeft" fmla="*/ 0 w 632880"/>
                  <a:gd name="textAreaRight" fmla="*/ 633240 w 632880"/>
                  <a:gd name="textAreaTop" fmla="*/ 0 h 4434840"/>
                  <a:gd name="textAreaBottom" fmla="*/ 4435200 h 4434840"/>
                </a:gdLst>
                <a:ahLst/>
                <a:rect l="textAreaLeft" t="textAreaTop" r="textAreaRight" b="textAreaBottom"/>
                <a:pathLst>
                  <a:path w="445" h="5685">
                    <a:moveTo>
                      <a:pt x="222" y="5626"/>
                    </a:moveTo>
                    <a:lnTo>
                      <a:pt x="222" y="5641"/>
                    </a:lnTo>
                    <a:lnTo>
                      <a:pt x="222" y="5655"/>
                    </a:lnTo>
                    <a:lnTo>
                      <a:pt x="222" y="5669"/>
                    </a:lnTo>
                    <a:lnTo>
                      <a:pt x="222" y="5685"/>
                    </a:lnTo>
                    <a:lnTo>
                      <a:pt x="319" y="5652"/>
                    </a:lnTo>
                    <a:lnTo>
                      <a:pt x="388" y="5567"/>
                    </a:lnTo>
                    <a:lnTo>
                      <a:pt x="431" y="5445"/>
                    </a:lnTo>
                    <a:lnTo>
                      <a:pt x="445" y="5308"/>
                    </a:lnTo>
                    <a:lnTo>
                      <a:pt x="431" y="5169"/>
                    </a:lnTo>
                    <a:lnTo>
                      <a:pt x="388" y="5048"/>
                    </a:lnTo>
                    <a:lnTo>
                      <a:pt x="319" y="4963"/>
                    </a:lnTo>
                    <a:lnTo>
                      <a:pt x="222" y="4931"/>
                    </a:lnTo>
                    <a:lnTo>
                      <a:pt x="137" y="4902"/>
                    </a:lnTo>
                    <a:lnTo>
                      <a:pt x="77" y="4828"/>
                    </a:lnTo>
                    <a:lnTo>
                      <a:pt x="41" y="4722"/>
                    </a:lnTo>
                    <a:lnTo>
                      <a:pt x="29" y="4604"/>
                    </a:lnTo>
                    <a:lnTo>
                      <a:pt x="41" y="4483"/>
                    </a:lnTo>
                    <a:lnTo>
                      <a:pt x="77" y="4377"/>
                    </a:lnTo>
                    <a:lnTo>
                      <a:pt x="137" y="4303"/>
                    </a:lnTo>
                    <a:lnTo>
                      <a:pt x="222" y="4276"/>
                    </a:lnTo>
                    <a:lnTo>
                      <a:pt x="319" y="4242"/>
                    </a:lnTo>
                    <a:lnTo>
                      <a:pt x="388" y="4157"/>
                    </a:lnTo>
                    <a:lnTo>
                      <a:pt x="431" y="4037"/>
                    </a:lnTo>
                    <a:lnTo>
                      <a:pt x="445" y="3901"/>
                    </a:lnTo>
                    <a:lnTo>
                      <a:pt x="431" y="3761"/>
                    </a:lnTo>
                    <a:lnTo>
                      <a:pt x="388" y="3642"/>
                    </a:lnTo>
                    <a:lnTo>
                      <a:pt x="319" y="3557"/>
                    </a:lnTo>
                    <a:lnTo>
                      <a:pt x="222" y="3525"/>
                    </a:lnTo>
                    <a:lnTo>
                      <a:pt x="137" y="3496"/>
                    </a:lnTo>
                    <a:lnTo>
                      <a:pt x="77" y="3422"/>
                    </a:lnTo>
                    <a:lnTo>
                      <a:pt x="41" y="3316"/>
                    </a:lnTo>
                    <a:lnTo>
                      <a:pt x="29" y="3198"/>
                    </a:lnTo>
                    <a:lnTo>
                      <a:pt x="41" y="3077"/>
                    </a:lnTo>
                    <a:lnTo>
                      <a:pt x="77" y="2971"/>
                    </a:lnTo>
                    <a:lnTo>
                      <a:pt x="137" y="2897"/>
                    </a:lnTo>
                    <a:lnTo>
                      <a:pt x="222" y="2870"/>
                    </a:lnTo>
                    <a:lnTo>
                      <a:pt x="319" y="2836"/>
                    </a:lnTo>
                    <a:lnTo>
                      <a:pt x="388" y="2751"/>
                    </a:lnTo>
                    <a:lnTo>
                      <a:pt x="431" y="2629"/>
                    </a:lnTo>
                    <a:lnTo>
                      <a:pt x="445" y="2493"/>
                    </a:lnTo>
                    <a:lnTo>
                      <a:pt x="431" y="2353"/>
                    </a:lnTo>
                    <a:lnTo>
                      <a:pt x="388" y="2234"/>
                    </a:lnTo>
                    <a:lnTo>
                      <a:pt x="319" y="2149"/>
                    </a:lnTo>
                    <a:lnTo>
                      <a:pt x="222" y="2117"/>
                    </a:lnTo>
                    <a:lnTo>
                      <a:pt x="137" y="2088"/>
                    </a:lnTo>
                    <a:lnTo>
                      <a:pt x="77" y="2015"/>
                    </a:lnTo>
                    <a:lnTo>
                      <a:pt x="41" y="1909"/>
                    </a:lnTo>
                    <a:lnTo>
                      <a:pt x="29" y="1790"/>
                    </a:lnTo>
                    <a:lnTo>
                      <a:pt x="41" y="1669"/>
                    </a:lnTo>
                    <a:lnTo>
                      <a:pt x="77" y="1565"/>
                    </a:lnTo>
                    <a:lnTo>
                      <a:pt x="137" y="1491"/>
                    </a:lnTo>
                    <a:lnTo>
                      <a:pt x="222" y="1464"/>
                    </a:lnTo>
                    <a:lnTo>
                      <a:pt x="319" y="1430"/>
                    </a:lnTo>
                    <a:lnTo>
                      <a:pt x="388" y="1345"/>
                    </a:lnTo>
                    <a:lnTo>
                      <a:pt x="431" y="1223"/>
                    </a:lnTo>
                    <a:lnTo>
                      <a:pt x="445" y="1087"/>
                    </a:lnTo>
                    <a:lnTo>
                      <a:pt x="431" y="947"/>
                    </a:lnTo>
                    <a:lnTo>
                      <a:pt x="388" y="828"/>
                    </a:lnTo>
                    <a:lnTo>
                      <a:pt x="319" y="743"/>
                    </a:lnTo>
                    <a:lnTo>
                      <a:pt x="222" y="711"/>
                    </a:lnTo>
                    <a:lnTo>
                      <a:pt x="137" y="682"/>
                    </a:lnTo>
                    <a:lnTo>
                      <a:pt x="77" y="608"/>
                    </a:lnTo>
                    <a:lnTo>
                      <a:pt x="41" y="502"/>
                    </a:lnTo>
                    <a:lnTo>
                      <a:pt x="29" y="384"/>
                    </a:lnTo>
                    <a:lnTo>
                      <a:pt x="41" y="263"/>
                    </a:lnTo>
                    <a:lnTo>
                      <a:pt x="77" y="159"/>
                    </a:lnTo>
                    <a:lnTo>
                      <a:pt x="137" y="85"/>
                    </a:lnTo>
                    <a:lnTo>
                      <a:pt x="222" y="58"/>
                    </a:lnTo>
                    <a:lnTo>
                      <a:pt x="222" y="43"/>
                    </a:lnTo>
                    <a:lnTo>
                      <a:pt x="222" y="29"/>
                    </a:lnTo>
                    <a:lnTo>
                      <a:pt x="222" y="15"/>
                    </a:lnTo>
                    <a:lnTo>
                      <a:pt x="222" y="0"/>
                    </a:lnTo>
                    <a:lnTo>
                      <a:pt x="124" y="32"/>
                    </a:lnTo>
                    <a:lnTo>
                      <a:pt x="55" y="117"/>
                    </a:lnTo>
                    <a:lnTo>
                      <a:pt x="12" y="236"/>
                    </a:lnTo>
                    <a:lnTo>
                      <a:pt x="0" y="376"/>
                    </a:lnTo>
                    <a:lnTo>
                      <a:pt x="12" y="512"/>
                    </a:lnTo>
                    <a:lnTo>
                      <a:pt x="55" y="634"/>
                    </a:lnTo>
                    <a:lnTo>
                      <a:pt x="124" y="719"/>
                    </a:lnTo>
                    <a:lnTo>
                      <a:pt x="222" y="753"/>
                    </a:lnTo>
                    <a:lnTo>
                      <a:pt x="306" y="780"/>
                    </a:lnTo>
                    <a:lnTo>
                      <a:pt x="366" y="854"/>
                    </a:lnTo>
                    <a:lnTo>
                      <a:pt x="403" y="958"/>
                    </a:lnTo>
                    <a:lnTo>
                      <a:pt x="415" y="1079"/>
                    </a:lnTo>
                    <a:lnTo>
                      <a:pt x="403" y="1198"/>
                    </a:lnTo>
                    <a:lnTo>
                      <a:pt x="366" y="1303"/>
                    </a:lnTo>
                    <a:lnTo>
                      <a:pt x="306" y="1377"/>
                    </a:lnTo>
                    <a:lnTo>
                      <a:pt x="222" y="1406"/>
                    </a:lnTo>
                    <a:lnTo>
                      <a:pt x="124" y="1438"/>
                    </a:lnTo>
                    <a:lnTo>
                      <a:pt x="55" y="1523"/>
                    </a:lnTo>
                    <a:lnTo>
                      <a:pt x="12" y="1642"/>
                    </a:lnTo>
                    <a:lnTo>
                      <a:pt x="0" y="1782"/>
                    </a:lnTo>
                    <a:lnTo>
                      <a:pt x="12" y="1918"/>
                    </a:lnTo>
                    <a:lnTo>
                      <a:pt x="55" y="2040"/>
                    </a:lnTo>
                    <a:lnTo>
                      <a:pt x="124" y="2125"/>
                    </a:lnTo>
                    <a:lnTo>
                      <a:pt x="222" y="2159"/>
                    </a:lnTo>
                    <a:lnTo>
                      <a:pt x="306" y="2186"/>
                    </a:lnTo>
                    <a:lnTo>
                      <a:pt x="366" y="2260"/>
                    </a:lnTo>
                    <a:lnTo>
                      <a:pt x="403" y="2364"/>
                    </a:lnTo>
                    <a:lnTo>
                      <a:pt x="415" y="2485"/>
                    </a:lnTo>
                    <a:lnTo>
                      <a:pt x="403" y="2604"/>
                    </a:lnTo>
                    <a:lnTo>
                      <a:pt x="366" y="2710"/>
                    </a:lnTo>
                    <a:lnTo>
                      <a:pt x="306" y="2783"/>
                    </a:lnTo>
                    <a:lnTo>
                      <a:pt x="222" y="2812"/>
                    </a:lnTo>
                    <a:lnTo>
                      <a:pt x="124" y="2844"/>
                    </a:lnTo>
                    <a:lnTo>
                      <a:pt x="55" y="2929"/>
                    </a:lnTo>
                    <a:lnTo>
                      <a:pt x="12" y="3048"/>
                    </a:lnTo>
                    <a:lnTo>
                      <a:pt x="0" y="3188"/>
                    </a:lnTo>
                    <a:lnTo>
                      <a:pt x="12" y="3324"/>
                    </a:lnTo>
                    <a:lnTo>
                      <a:pt x="55" y="3446"/>
                    </a:lnTo>
                    <a:lnTo>
                      <a:pt x="124" y="3531"/>
                    </a:lnTo>
                    <a:lnTo>
                      <a:pt x="222" y="3565"/>
                    </a:lnTo>
                    <a:lnTo>
                      <a:pt x="306" y="3592"/>
                    </a:lnTo>
                    <a:lnTo>
                      <a:pt x="366" y="3666"/>
                    </a:lnTo>
                    <a:lnTo>
                      <a:pt x="403" y="3772"/>
                    </a:lnTo>
                    <a:lnTo>
                      <a:pt x="415" y="3893"/>
                    </a:lnTo>
                    <a:lnTo>
                      <a:pt x="403" y="4011"/>
                    </a:lnTo>
                    <a:lnTo>
                      <a:pt x="366" y="4117"/>
                    </a:lnTo>
                    <a:lnTo>
                      <a:pt x="306" y="4191"/>
                    </a:lnTo>
                    <a:lnTo>
                      <a:pt x="222" y="4220"/>
                    </a:lnTo>
                    <a:lnTo>
                      <a:pt x="124" y="4252"/>
                    </a:lnTo>
                    <a:lnTo>
                      <a:pt x="55" y="4337"/>
                    </a:lnTo>
                    <a:lnTo>
                      <a:pt x="12" y="4456"/>
                    </a:lnTo>
                    <a:lnTo>
                      <a:pt x="0" y="4596"/>
                    </a:lnTo>
                    <a:lnTo>
                      <a:pt x="12" y="4732"/>
                    </a:lnTo>
                    <a:lnTo>
                      <a:pt x="55" y="4852"/>
                    </a:lnTo>
                    <a:lnTo>
                      <a:pt x="124" y="4937"/>
                    </a:lnTo>
                    <a:lnTo>
                      <a:pt x="222" y="4971"/>
                    </a:lnTo>
                    <a:lnTo>
                      <a:pt x="306" y="4998"/>
                    </a:lnTo>
                    <a:lnTo>
                      <a:pt x="366" y="5072"/>
                    </a:lnTo>
                    <a:lnTo>
                      <a:pt x="403" y="5178"/>
                    </a:lnTo>
                    <a:lnTo>
                      <a:pt x="415" y="5299"/>
                    </a:lnTo>
                    <a:lnTo>
                      <a:pt x="403" y="5417"/>
                    </a:lnTo>
                    <a:lnTo>
                      <a:pt x="366" y="5523"/>
                    </a:lnTo>
                    <a:lnTo>
                      <a:pt x="306" y="5597"/>
                    </a:lnTo>
                    <a:lnTo>
                      <a:pt x="222" y="5626"/>
                    </a:lnTo>
                    <a:close/>
                  </a:path>
                </a:pathLst>
              </a:custGeom>
              <a:solidFill>
                <a:srgbClr val="f0ba94"/>
              </a:solidFill>
              <a:ln w="11160">
                <a:solidFill>
                  <a:srgbClr val="d49e7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6"/>
              <p:cNvSpPr/>
              <p:nvPr/>
            </p:nvSpPr>
            <p:spPr>
              <a:xfrm rot="5400000">
                <a:off x="4084920" y="1658520"/>
                <a:ext cx="597240" cy="440064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400640"/>
                  <a:gd name="textAreaBottom" fmla="*/ 4401000 h 4400640"/>
                </a:gdLst>
                <a:ahLst/>
                <a:rect l="textAreaLeft" t="textAreaTop" r="textAreaRight" b="textAreaBottom"/>
                <a:pathLst>
                  <a:path w="420" h="5644">
                    <a:moveTo>
                      <a:pt x="210" y="5631"/>
                    </a:moveTo>
                    <a:lnTo>
                      <a:pt x="210" y="5644"/>
                    </a:lnTo>
                    <a:lnTo>
                      <a:pt x="300" y="5612"/>
                    </a:lnTo>
                    <a:lnTo>
                      <a:pt x="367" y="5533"/>
                    </a:lnTo>
                    <a:lnTo>
                      <a:pt x="406" y="5419"/>
                    </a:lnTo>
                    <a:lnTo>
                      <a:pt x="420" y="5292"/>
                    </a:lnTo>
                    <a:lnTo>
                      <a:pt x="406" y="5162"/>
                    </a:lnTo>
                    <a:lnTo>
                      <a:pt x="367" y="5050"/>
                    </a:lnTo>
                    <a:lnTo>
                      <a:pt x="300" y="4970"/>
                    </a:lnTo>
                    <a:lnTo>
                      <a:pt x="210" y="4941"/>
                    </a:lnTo>
                    <a:lnTo>
                      <a:pt x="118" y="4909"/>
                    </a:lnTo>
                    <a:lnTo>
                      <a:pt x="52" y="4830"/>
                    </a:lnTo>
                    <a:lnTo>
                      <a:pt x="13" y="4716"/>
                    </a:lnTo>
                    <a:lnTo>
                      <a:pt x="0" y="4588"/>
                    </a:lnTo>
                    <a:lnTo>
                      <a:pt x="13" y="4458"/>
                    </a:lnTo>
                    <a:lnTo>
                      <a:pt x="52" y="4344"/>
                    </a:lnTo>
                    <a:lnTo>
                      <a:pt x="118" y="4264"/>
                    </a:lnTo>
                    <a:lnTo>
                      <a:pt x="210" y="4235"/>
                    </a:lnTo>
                    <a:lnTo>
                      <a:pt x="300" y="4203"/>
                    </a:lnTo>
                    <a:lnTo>
                      <a:pt x="367" y="4124"/>
                    </a:lnTo>
                    <a:lnTo>
                      <a:pt x="406" y="4010"/>
                    </a:lnTo>
                    <a:lnTo>
                      <a:pt x="420" y="3883"/>
                    </a:lnTo>
                    <a:lnTo>
                      <a:pt x="406" y="3753"/>
                    </a:lnTo>
                    <a:lnTo>
                      <a:pt x="367" y="3641"/>
                    </a:lnTo>
                    <a:lnTo>
                      <a:pt x="300" y="3561"/>
                    </a:lnTo>
                    <a:lnTo>
                      <a:pt x="210" y="3532"/>
                    </a:lnTo>
                    <a:lnTo>
                      <a:pt x="118" y="3500"/>
                    </a:lnTo>
                    <a:lnTo>
                      <a:pt x="52" y="3421"/>
                    </a:lnTo>
                    <a:lnTo>
                      <a:pt x="13" y="3307"/>
                    </a:lnTo>
                    <a:lnTo>
                      <a:pt x="0" y="3180"/>
                    </a:lnTo>
                    <a:lnTo>
                      <a:pt x="13" y="3050"/>
                    </a:lnTo>
                    <a:lnTo>
                      <a:pt x="52" y="2938"/>
                    </a:lnTo>
                    <a:lnTo>
                      <a:pt x="118" y="2857"/>
                    </a:lnTo>
                    <a:lnTo>
                      <a:pt x="210" y="2829"/>
                    </a:lnTo>
                    <a:lnTo>
                      <a:pt x="300" y="2796"/>
                    </a:lnTo>
                    <a:lnTo>
                      <a:pt x="367" y="2718"/>
                    </a:lnTo>
                    <a:lnTo>
                      <a:pt x="406" y="2604"/>
                    </a:lnTo>
                    <a:lnTo>
                      <a:pt x="420" y="2475"/>
                    </a:lnTo>
                    <a:lnTo>
                      <a:pt x="406" y="2345"/>
                    </a:lnTo>
                    <a:lnTo>
                      <a:pt x="367" y="2233"/>
                    </a:lnTo>
                    <a:lnTo>
                      <a:pt x="300" y="2153"/>
                    </a:lnTo>
                    <a:lnTo>
                      <a:pt x="210" y="2124"/>
                    </a:lnTo>
                    <a:lnTo>
                      <a:pt x="118" y="2092"/>
                    </a:lnTo>
                    <a:lnTo>
                      <a:pt x="52" y="2013"/>
                    </a:lnTo>
                    <a:lnTo>
                      <a:pt x="13" y="1899"/>
                    </a:lnTo>
                    <a:lnTo>
                      <a:pt x="0" y="1772"/>
                    </a:lnTo>
                    <a:lnTo>
                      <a:pt x="13" y="1642"/>
                    </a:lnTo>
                    <a:lnTo>
                      <a:pt x="52" y="1530"/>
                    </a:lnTo>
                    <a:lnTo>
                      <a:pt x="118" y="1450"/>
                    </a:lnTo>
                    <a:lnTo>
                      <a:pt x="210" y="1421"/>
                    </a:lnTo>
                    <a:lnTo>
                      <a:pt x="300" y="1389"/>
                    </a:lnTo>
                    <a:lnTo>
                      <a:pt x="367" y="1310"/>
                    </a:lnTo>
                    <a:lnTo>
                      <a:pt x="406" y="1196"/>
                    </a:lnTo>
                    <a:lnTo>
                      <a:pt x="420" y="1069"/>
                    </a:lnTo>
                    <a:lnTo>
                      <a:pt x="406" y="939"/>
                    </a:lnTo>
                    <a:lnTo>
                      <a:pt x="367" y="827"/>
                    </a:lnTo>
                    <a:lnTo>
                      <a:pt x="300" y="747"/>
                    </a:lnTo>
                    <a:lnTo>
                      <a:pt x="210" y="718"/>
                    </a:lnTo>
                    <a:lnTo>
                      <a:pt x="118" y="686"/>
                    </a:lnTo>
                    <a:lnTo>
                      <a:pt x="52" y="607"/>
                    </a:lnTo>
                    <a:lnTo>
                      <a:pt x="13" y="493"/>
                    </a:lnTo>
                    <a:lnTo>
                      <a:pt x="0" y="365"/>
                    </a:lnTo>
                    <a:lnTo>
                      <a:pt x="13" y="235"/>
                    </a:lnTo>
                    <a:lnTo>
                      <a:pt x="52" y="121"/>
                    </a:lnTo>
                    <a:lnTo>
                      <a:pt x="118" y="40"/>
                    </a:lnTo>
                    <a:lnTo>
                      <a:pt x="210" y="12"/>
                    </a:lnTo>
                    <a:lnTo>
                      <a:pt x="210" y="0"/>
                    </a:lnTo>
                    <a:lnTo>
                      <a:pt x="118" y="29"/>
                    </a:lnTo>
                    <a:lnTo>
                      <a:pt x="52" y="110"/>
                    </a:lnTo>
                    <a:lnTo>
                      <a:pt x="13" y="222"/>
                    </a:lnTo>
                    <a:lnTo>
                      <a:pt x="0" y="352"/>
                    </a:lnTo>
                    <a:lnTo>
                      <a:pt x="13" y="479"/>
                    </a:lnTo>
                    <a:lnTo>
                      <a:pt x="52" y="593"/>
                    </a:lnTo>
                    <a:lnTo>
                      <a:pt x="118" y="671"/>
                    </a:lnTo>
                    <a:lnTo>
                      <a:pt x="210" y="703"/>
                    </a:lnTo>
                    <a:lnTo>
                      <a:pt x="300" y="732"/>
                    </a:lnTo>
                    <a:lnTo>
                      <a:pt x="367" y="813"/>
                    </a:lnTo>
                    <a:lnTo>
                      <a:pt x="406" y="925"/>
                    </a:lnTo>
                    <a:lnTo>
                      <a:pt x="420" y="1055"/>
                    </a:lnTo>
                    <a:lnTo>
                      <a:pt x="406" y="1183"/>
                    </a:lnTo>
                    <a:lnTo>
                      <a:pt x="367" y="1297"/>
                    </a:lnTo>
                    <a:lnTo>
                      <a:pt x="300" y="1376"/>
                    </a:lnTo>
                    <a:lnTo>
                      <a:pt x="210" y="1408"/>
                    </a:lnTo>
                    <a:lnTo>
                      <a:pt x="118" y="1437"/>
                    </a:lnTo>
                    <a:lnTo>
                      <a:pt x="52" y="1517"/>
                    </a:lnTo>
                    <a:lnTo>
                      <a:pt x="13" y="1630"/>
                    </a:lnTo>
                    <a:lnTo>
                      <a:pt x="0" y="1760"/>
                    </a:lnTo>
                    <a:lnTo>
                      <a:pt x="13" y="1886"/>
                    </a:lnTo>
                    <a:lnTo>
                      <a:pt x="52" y="2000"/>
                    </a:lnTo>
                    <a:lnTo>
                      <a:pt x="118" y="2079"/>
                    </a:lnTo>
                    <a:lnTo>
                      <a:pt x="210" y="2111"/>
                    </a:lnTo>
                    <a:lnTo>
                      <a:pt x="300" y="2140"/>
                    </a:lnTo>
                    <a:lnTo>
                      <a:pt x="367" y="2220"/>
                    </a:lnTo>
                    <a:lnTo>
                      <a:pt x="406" y="2333"/>
                    </a:lnTo>
                    <a:lnTo>
                      <a:pt x="420" y="2463"/>
                    </a:lnTo>
                    <a:lnTo>
                      <a:pt x="406" y="2591"/>
                    </a:lnTo>
                    <a:lnTo>
                      <a:pt x="367" y="2705"/>
                    </a:lnTo>
                    <a:lnTo>
                      <a:pt x="300" y="2784"/>
                    </a:lnTo>
                    <a:lnTo>
                      <a:pt x="210" y="2816"/>
                    </a:lnTo>
                    <a:lnTo>
                      <a:pt x="118" y="2845"/>
                    </a:lnTo>
                    <a:lnTo>
                      <a:pt x="52" y="2925"/>
                    </a:lnTo>
                    <a:lnTo>
                      <a:pt x="13" y="3037"/>
                    </a:lnTo>
                    <a:lnTo>
                      <a:pt x="0" y="3167"/>
                    </a:lnTo>
                    <a:lnTo>
                      <a:pt x="13" y="3296"/>
                    </a:lnTo>
                    <a:lnTo>
                      <a:pt x="52" y="3410"/>
                    </a:lnTo>
                    <a:lnTo>
                      <a:pt x="118" y="3488"/>
                    </a:lnTo>
                    <a:lnTo>
                      <a:pt x="210" y="3520"/>
                    </a:lnTo>
                    <a:lnTo>
                      <a:pt x="300" y="3549"/>
                    </a:lnTo>
                    <a:lnTo>
                      <a:pt x="367" y="3630"/>
                    </a:lnTo>
                    <a:lnTo>
                      <a:pt x="406" y="3742"/>
                    </a:lnTo>
                    <a:lnTo>
                      <a:pt x="420" y="3872"/>
                    </a:lnTo>
                    <a:lnTo>
                      <a:pt x="406" y="3999"/>
                    </a:lnTo>
                    <a:lnTo>
                      <a:pt x="367" y="4113"/>
                    </a:lnTo>
                    <a:lnTo>
                      <a:pt x="300" y="4191"/>
                    </a:lnTo>
                    <a:lnTo>
                      <a:pt x="210" y="4223"/>
                    </a:lnTo>
                    <a:lnTo>
                      <a:pt x="118" y="4252"/>
                    </a:lnTo>
                    <a:lnTo>
                      <a:pt x="52" y="4333"/>
                    </a:lnTo>
                    <a:lnTo>
                      <a:pt x="13" y="4445"/>
                    </a:lnTo>
                    <a:lnTo>
                      <a:pt x="0" y="4575"/>
                    </a:lnTo>
                    <a:lnTo>
                      <a:pt x="13" y="4703"/>
                    </a:lnTo>
                    <a:lnTo>
                      <a:pt x="52" y="4817"/>
                    </a:lnTo>
                    <a:lnTo>
                      <a:pt x="118" y="4896"/>
                    </a:lnTo>
                    <a:lnTo>
                      <a:pt x="210" y="4928"/>
                    </a:lnTo>
                    <a:lnTo>
                      <a:pt x="300" y="4957"/>
                    </a:lnTo>
                    <a:lnTo>
                      <a:pt x="367" y="5037"/>
                    </a:lnTo>
                    <a:lnTo>
                      <a:pt x="406" y="5150"/>
                    </a:lnTo>
                    <a:lnTo>
                      <a:pt x="420" y="5280"/>
                    </a:lnTo>
                    <a:lnTo>
                      <a:pt x="406" y="5406"/>
                    </a:lnTo>
                    <a:lnTo>
                      <a:pt x="367" y="5520"/>
                    </a:lnTo>
                    <a:lnTo>
                      <a:pt x="300" y="5599"/>
                    </a:lnTo>
                    <a:lnTo>
                      <a:pt x="210" y="5631"/>
                    </a:lnTo>
                    <a:close/>
                  </a:path>
                </a:pathLst>
              </a:custGeom>
              <a:solidFill>
                <a:srgbClr val="fff5cf"/>
              </a:solidFill>
              <a:ln w="9360">
                <a:solidFill>
                  <a:srgbClr val="ffd4a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219" name="Object 69"/>
            <p:cNvGraphicFramePr/>
            <p:nvPr/>
          </p:nvGraphicFramePr>
          <p:xfrm>
            <a:off x="1904760" y="5257800"/>
            <a:ext cx="5334120" cy="519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0" name="Object 6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4760" y="5257800"/>
                      <a:ext cx="5334120" cy="51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1" name="Object 69"/>
            <p:cNvGraphicFramePr/>
            <p:nvPr/>
          </p:nvGraphicFramePr>
          <p:xfrm>
            <a:off x="380880" y="4876920"/>
            <a:ext cx="1371600" cy="388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2" name="Object 6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4876920"/>
                      <a:ext cx="1371600" cy="38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3" name="Object 69"/>
            <p:cNvGraphicFramePr/>
            <p:nvPr/>
          </p:nvGraphicFramePr>
          <p:xfrm>
            <a:off x="380880" y="2743200"/>
            <a:ext cx="1447560" cy="405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24" name="Object 6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0880" y="2743200"/>
                      <a:ext cx="1447560" cy="40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5" name="Object 6"/>
            <p:cNvGraphicFramePr/>
            <p:nvPr/>
          </p:nvGraphicFramePr>
          <p:xfrm>
            <a:off x="3504960" y="3429000"/>
            <a:ext cx="1803240" cy="990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26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504960" y="3429000"/>
                      <a:ext cx="1803240" cy="99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7" name="Object 69"/>
            <p:cNvGraphicFramePr/>
            <p:nvPr/>
          </p:nvGraphicFramePr>
          <p:xfrm>
            <a:off x="7467480" y="5029200"/>
            <a:ext cx="1336680" cy="3888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28" name="Object 6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467480" y="5029200"/>
                      <a:ext cx="1336680" cy="38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9" name="Object 69"/>
            <p:cNvGraphicFramePr/>
            <p:nvPr/>
          </p:nvGraphicFramePr>
          <p:xfrm>
            <a:off x="7315200" y="2743200"/>
            <a:ext cx="1430280" cy="4046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30" name="Object 6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315200" y="2743200"/>
                      <a:ext cx="1430280" cy="40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231" name="Straight Arrow Connector 14"/>
            <p:cNvCxnSpPr/>
            <p:nvPr/>
          </p:nvCxnSpPr>
          <p:spPr>
            <a:xfrm>
              <a:off x="761760" y="3200040"/>
              <a:ext cx="305280" cy="533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lg" type="arrow" w="lg"/>
            </a:ln>
          </p:spPr>
        </p:cxnSp>
        <p:cxnSp>
          <p:nvCxnSpPr>
            <p:cNvPr id="232" name="Straight Arrow Connector 15"/>
            <p:cNvCxnSpPr/>
            <p:nvPr/>
          </p:nvCxnSpPr>
          <p:spPr>
            <a:xfrm flipH="1">
              <a:off x="685080" y="4343400"/>
              <a:ext cx="381600" cy="4579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lg" type="arrow" w="lg"/>
            </a:ln>
          </p:spPr>
        </p:cxnSp>
        <p:cxnSp>
          <p:nvCxnSpPr>
            <p:cNvPr id="233" name="Straight Arrow Connector 16"/>
            <p:cNvCxnSpPr/>
            <p:nvPr/>
          </p:nvCxnSpPr>
          <p:spPr>
            <a:xfrm flipH="1">
              <a:off x="7848000" y="3200040"/>
              <a:ext cx="229320" cy="533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lg" type="arrow" w="lg"/>
            </a:ln>
          </p:spPr>
        </p:cxnSp>
        <p:cxnSp>
          <p:nvCxnSpPr>
            <p:cNvPr id="234" name="Straight Arrow Connector 17"/>
            <p:cNvCxnSpPr/>
            <p:nvPr/>
          </p:nvCxnSpPr>
          <p:spPr>
            <a:xfrm>
              <a:off x="7848360" y="4495320"/>
              <a:ext cx="229320" cy="533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lg" type="arrow" w="lg"/>
            </a:ln>
          </p:spPr>
        </p:cxnSp>
        <p:sp>
          <p:nvSpPr>
            <p:cNvPr id="235" name="Rectangle 18"/>
            <p:cNvSpPr/>
            <p:nvPr/>
          </p:nvSpPr>
          <p:spPr>
            <a:xfrm>
              <a:off x="1828440" y="5181480"/>
              <a:ext cx="5486400" cy="685800"/>
            </a:xfrm>
            <a:prstGeom prst="rect">
              <a:avLst/>
            </a:prstGeom>
            <a:noFill/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6" name="Picture 11" descr="https://encrypted-tbn0.gstatic.com/images?q=tbn:ANd9GcSuCVeKVvmGs7RVRads406vrAUkrSZzUAdw6MbyUOfMO2e6brin670_AL8"/>
            <p:cNvPicPr/>
            <p:nvPr/>
          </p:nvPicPr>
          <p:blipFill>
            <a:blip r:embed="rId13"/>
            <a:stretch/>
          </p:blipFill>
          <p:spPr>
            <a:xfrm>
              <a:off x="1142640" y="3276360"/>
              <a:ext cx="103140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13" descr="http://research.microsoft.com/en-us/press/christian_borgs110x142.jpg"/>
            <p:cNvPicPr/>
            <p:nvPr/>
          </p:nvPicPr>
          <p:blipFill>
            <a:blip r:embed="rId14"/>
            <a:stretch/>
          </p:blipFill>
          <p:spPr>
            <a:xfrm>
              <a:off x="6705720" y="3352680"/>
              <a:ext cx="1047600" cy="135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304920" y="380880"/>
            <a:ext cx="8534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Possibility 3: Fine, 2 or 3 particles might be entangled, but a thousand particles could never be entangled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http://science.kqed.org/quest/files/2009/04/superconducting.jpg"/>
          <p:cNvPicPr/>
          <p:nvPr/>
        </p:nvPicPr>
        <p:blipFill>
          <a:blip r:embed="rId1"/>
          <a:stretch/>
        </p:blipFill>
        <p:spPr>
          <a:xfrm>
            <a:off x="5105520" y="3505320"/>
            <a:ext cx="2857320" cy="19047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2"/>
          <p:cNvSpPr/>
          <p:nvPr/>
        </p:nvSpPr>
        <p:spPr>
          <a:xfrm>
            <a:off x="2362320" y="1523880"/>
            <a:ext cx="4114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at doesn’t work either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http://upload.wikimedia.org/wikipedia/commons/1/1f/Young_experiment.gif"/>
          <p:cNvPicPr/>
          <p:nvPr/>
        </p:nvPicPr>
        <p:blipFill>
          <a:blip r:embed="rId2"/>
          <a:stretch/>
        </p:blipFill>
        <p:spPr>
          <a:xfrm>
            <a:off x="838080" y="2514600"/>
            <a:ext cx="3041640" cy="295740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2"/>
          <p:cNvSpPr/>
          <p:nvPr/>
        </p:nvSpPr>
        <p:spPr>
          <a:xfrm>
            <a:off x="4572000" y="5638680"/>
            <a:ext cx="4114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gh-temperature superconduc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533520" y="5715000"/>
            <a:ext cx="3809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ckyball double-slit experi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1676520" y="33526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6"/>
          <p:cNvSpPr/>
          <p:nvPr/>
        </p:nvSpPr>
        <p:spPr>
          <a:xfrm>
            <a:off x="304920" y="304920"/>
            <a:ext cx="8458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Needed: A “Sure/Shor separator” </a:t>
            </a:r>
            <a:r>
              <a:rPr b="1" lang="en-US" sz="3200" spc="-1" strike="noStrike">
                <a:solidFill>
                  <a:srgbClr val="008000"/>
                </a:solidFill>
                <a:latin typeface="Calibri"/>
              </a:rPr>
              <a:t>(A. 2004)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, between the many-particle quantum states we’re sure we can create and those that suffice for things like Shor’s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9" descr="science"/>
          <p:cNvPicPr/>
          <p:nvPr/>
        </p:nvPicPr>
        <p:blipFill>
          <a:blip r:embed="rId1"/>
          <a:stretch/>
        </p:blipFill>
        <p:spPr>
          <a:xfrm>
            <a:off x="609480" y="3962520"/>
            <a:ext cx="1440000" cy="2468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1" descr="nature"/>
          <p:cNvPicPr/>
          <p:nvPr/>
        </p:nvPicPr>
        <p:blipFill>
          <a:blip r:embed="rId2"/>
          <a:stretch/>
        </p:blipFill>
        <p:spPr>
          <a:xfrm>
            <a:off x="2133720" y="3429000"/>
            <a:ext cx="1277640" cy="16765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2" descr="shor"/>
          <p:cNvPicPr/>
          <p:nvPr/>
        </p:nvPicPr>
        <p:blipFill>
          <a:blip r:embed="rId3"/>
          <a:stretch/>
        </p:blipFill>
        <p:spPr>
          <a:xfrm>
            <a:off x="6477120" y="3200400"/>
            <a:ext cx="2133360" cy="3200400"/>
          </a:xfrm>
          <a:prstGeom prst="rect">
            <a:avLst/>
          </a:prstGeom>
          <a:ln w="0">
            <a:noFill/>
          </a:ln>
        </p:spPr>
      </p:pic>
      <p:sp>
        <p:nvSpPr>
          <p:cNvPr id="249" name="Freeform 15"/>
          <p:cNvSpPr/>
          <p:nvPr/>
        </p:nvSpPr>
        <p:spPr>
          <a:xfrm>
            <a:off x="4191120" y="2971800"/>
            <a:ext cx="533160" cy="3809880"/>
          </a:xfrm>
          <a:custGeom>
            <a:avLst/>
            <a:gdLst>
              <a:gd name="textAreaLeft" fmla="*/ 0 w 533160"/>
              <a:gd name="textAreaRight" fmla="*/ 533520 w 533160"/>
              <a:gd name="textAreaTop" fmla="*/ 0 h 3809880"/>
              <a:gd name="textAreaBottom" fmla="*/ 3810240 h 3809880"/>
            </a:gdLst>
            <a:ahLst/>
            <a:rect l="textAreaLeft" t="textAreaTop" r="textAreaRight" b="textAreaBottom"/>
            <a:pathLst>
              <a:path w="336" h="2400">
                <a:moveTo>
                  <a:pt x="0" y="2400"/>
                </a:moveTo>
                <a:lnTo>
                  <a:pt x="240" y="2304"/>
                </a:lnTo>
                <a:lnTo>
                  <a:pt x="48" y="2160"/>
                </a:lnTo>
                <a:lnTo>
                  <a:pt x="240" y="2016"/>
                </a:lnTo>
                <a:lnTo>
                  <a:pt x="48" y="1920"/>
                </a:lnTo>
                <a:lnTo>
                  <a:pt x="288" y="1824"/>
                </a:lnTo>
                <a:lnTo>
                  <a:pt x="48" y="1680"/>
                </a:lnTo>
                <a:lnTo>
                  <a:pt x="288" y="1536"/>
                </a:lnTo>
                <a:lnTo>
                  <a:pt x="0" y="1440"/>
                </a:lnTo>
                <a:lnTo>
                  <a:pt x="240" y="1296"/>
                </a:lnTo>
                <a:lnTo>
                  <a:pt x="0" y="1200"/>
                </a:lnTo>
                <a:lnTo>
                  <a:pt x="336" y="1008"/>
                </a:lnTo>
                <a:lnTo>
                  <a:pt x="0" y="960"/>
                </a:lnTo>
                <a:lnTo>
                  <a:pt x="240" y="864"/>
                </a:lnTo>
                <a:lnTo>
                  <a:pt x="48" y="768"/>
                </a:lnTo>
                <a:lnTo>
                  <a:pt x="288" y="624"/>
                </a:lnTo>
                <a:lnTo>
                  <a:pt x="48" y="480"/>
                </a:lnTo>
                <a:lnTo>
                  <a:pt x="336" y="432"/>
                </a:lnTo>
                <a:lnTo>
                  <a:pt x="0" y="288"/>
                </a:lnTo>
                <a:lnTo>
                  <a:pt x="336" y="192"/>
                </a:lnTo>
                <a:lnTo>
                  <a:pt x="0" y="96"/>
                </a:lnTo>
                <a:lnTo>
                  <a:pt x="336" y="0"/>
                </a:lnTo>
              </a:path>
            </a:pathLst>
          </a:custGeom>
          <a:noFill/>
          <a:ln w="381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6"/>
          <p:cNvSpPr/>
          <p:nvPr/>
        </p:nvSpPr>
        <p:spPr>
          <a:xfrm rot="5400000">
            <a:off x="3218400" y="455544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alibri"/>
              </a:rPr>
              <a:t>PRINCIPLED 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59"/>
          <p:cNvGrpSpPr/>
          <p:nvPr/>
        </p:nvGrpSpPr>
        <p:grpSpPr>
          <a:xfrm>
            <a:off x="1066680" y="685800"/>
            <a:ext cx="7010280" cy="3478680"/>
            <a:chOff x="1066680" y="685800"/>
            <a:chExt cx="7010280" cy="3478680"/>
          </a:xfrm>
        </p:grpSpPr>
        <p:sp>
          <p:nvSpPr>
            <p:cNvPr id="252" name="Text Box 27"/>
            <p:cNvSpPr/>
            <p:nvPr/>
          </p:nvSpPr>
          <p:spPr>
            <a:xfrm>
              <a:off x="4876560" y="6858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28"/>
            <p:cNvSpPr/>
            <p:nvPr/>
          </p:nvSpPr>
          <p:spPr>
            <a:xfrm>
              <a:off x="6629040" y="169128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00cc"/>
                  </a:solidFill>
                  <a:latin typeface="Symbol"/>
                  <a:ea typeface="Symbol"/>
                </a:rPr>
                <a:t>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29"/>
            <p:cNvSpPr/>
            <p:nvPr/>
          </p:nvSpPr>
          <p:spPr>
            <a:xfrm>
              <a:off x="5867280" y="2629440"/>
              <a:ext cx="83808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9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30"/>
            <p:cNvSpPr/>
            <p:nvPr/>
          </p:nvSpPr>
          <p:spPr>
            <a:xfrm>
              <a:off x="7238880" y="2629440"/>
              <a:ext cx="83808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1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9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31"/>
            <p:cNvSpPr/>
            <p:nvPr/>
          </p:nvSpPr>
          <p:spPr>
            <a:xfrm>
              <a:off x="3047760" y="169128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00cc"/>
                  </a:solidFill>
                  <a:latin typeface="Symbol"/>
                  <a:ea typeface="Symbol"/>
                </a:rPr>
                <a:t>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32"/>
            <p:cNvSpPr/>
            <p:nvPr/>
          </p:nvSpPr>
          <p:spPr>
            <a:xfrm>
              <a:off x="4343040" y="262944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33"/>
            <p:cNvSpPr/>
            <p:nvPr/>
          </p:nvSpPr>
          <p:spPr>
            <a:xfrm>
              <a:off x="1828440" y="262944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34"/>
            <p:cNvSpPr/>
            <p:nvPr/>
          </p:nvSpPr>
          <p:spPr>
            <a:xfrm>
              <a:off x="1066680" y="3567960"/>
              <a:ext cx="83808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9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35"/>
            <p:cNvSpPr/>
            <p:nvPr/>
          </p:nvSpPr>
          <p:spPr>
            <a:xfrm>
              <a:off x="2361960" y="3567960"/>
              <a:ext cx="83808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1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9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36"/>
            <p:cNvSpPr/>
            <p:nvPr/>
          </p:nvSpPr>
          <p:spPr>
            <a:xfrm>
              <a:off x="3581280" y="3567960"/>
              <a:ext cx="83808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9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37"/>
            <p:cNvSpPr/>
            <p:nvPr/>
          </p:nvSpPr>
          <p:spPr>
            <a:xfrm>
              <a:off x="4876560" y="3567960"/>
              <a:ext cx="83808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1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9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39"/>
            <p:cNvSpPr/>
            <p:nvPr/>
          </p:nvSpPr>
          <p:spPr>
            <a:xfrm>
              <a:off x="4724280" y="3031920"/>
              <a:ext cx="457200" cy="6030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40"/>
            <p:cNvSpPr/>
            <p:nvPr/>
          </p:nvSpPr>
          <p:spPr>
            <a:xfrm flipH="1">
              <a:off x="3962160" y="3031920"/>
              <a:ext cx="457200" cy="6030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41"/>
            <p:cNvSpPr/>
            <p:nvPr/>
          </p:nvSpPr>
          <p:spPr>
            <a:xfrm>
              <a:off x="2209680" y="3031920"/>
              <a:ext cx="457200" cy="6030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42"/>
            <p:cNvSpPr/>
            <p:nvPr/>
          </p:nvSpPr>
          <p:spPr>
            <a:xfrm flipH="1">
              <a:off x="1447560" y="3031920"/>
              <a:ext cx="457200" cy="6030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45"/>
            <p:cNvSpPr/>
            <p:nvPr/>
          </p:nvSpPr>
          <p:spPr>
            <a:xfrm flipH="1">
              <a:off x="3428640" y="1020600"/>
              <a:ext cx="1524240" cy="80424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46"/>
            <p:cNvSpPr/>
            <p:nvPr/>
          </p:nvSpPr>
          <p:spPr>
            <a:xfrm>
              <a:off x="5257440" y="1020600"/>
              <a:ext cx="1524240" cy="80424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47"/>
            <p:cNvSpPr/>
            <p:nvPr/>
          </p:nvSpPr>
          <p:spPr>
            <a:xfrm>
              <a:off x="7086240" y="2093400"/>
              <a:ext cx="457200" cy="60300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48"/>
            <p:cNvSpPr/>
            <p:nvPr/>
          </p:nvSpPr>
          <p:spPr>
            <a:xfrm flipH="1">
              <a:off x="6248160" y="2093400"/>
              <a:ext cx="457200" cy="60300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49"/>
            <p:cNvSpPr/>
            <p:nvPr/>
          </p:nvSpPr>
          <p:spPr>
            <a:xfrm flipH="1">
              <a:off x="2057040" y="2093400"/>
              <a:ext cx="1067040" cy="66996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50"/>
            <p:cNvSpPr/>
            <p:nvPr/>
          </p:nvSpPr>
          <p:spPr>
            <a:xfrm>
              <a:off x="3504960" y="2093400"/>
              <a:ext cx="1066680" cy="66996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73" name="Object 2"/>
            <p:cNvGraphicFramePr/>
            <p:nvPr/>
          </p:nvGraphicFramePr>
          <p:xfrm>
            <a:off x="1295280" y="2830680"/>
            <a:ext cx="436320" cy="60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4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95280" y="2830680"/>
                      <a:ext cx="436320" cy="60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5" name="Object 3"/>
            <p:cNvGraphicFramePr/>
            <p:nvPr/>
          </p:nvGraphicFramePr>
          <p:xfrm>
            <a:off x="2438280" y="2830680"/>
            <a:ext cx="436320" cy="603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6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38280" y="2830680"/>
                      <a:ext cx="436320" cy="60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7" name="Object 4"/>
            <p:cNvGraphicFramePr/>
            <p:nvPr/>
          </p:nvGraphicFramePr>
          <p:xfrm>
            <a:off x="3809880" y="2830680"/>
            <a:ext cx="436320" cy="603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8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09880" y="2830680"/>
                      <a:ext cx="436320" cy="60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9" name="Object 5"/>
            <p:cNvGraphicFramePr/>
            <p:nvPr/>
          </p:nvGraphicFramePr>
          <p:xfrm>
            <a:off x="4952880" y="2830680"/>
            <a:ext cx="436320" cy="603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80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952880" y="2830680"/>
                      <a:ext cx="436320" cy="60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1" name="Object 6"/>
            <p:cNvGraphicFramePr/>
            <p:nvPr/>
          </p:nvGraphicFramePr>
          <p:xfrm>
            <a:off x="3885840" y="819720"/>
            <a:ext cx="436680" cy="603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82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885840" y="819720"/>
                      <a:ext cx="436680" cy="60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3" name="Object 7"/>
            <p:cNvGraphicFramePr/>
            <p:nvPr/>
          </p:nvGraphicFramePr>
          <p:xfrm>
            <a:off x="5860800" y="819720"/>
            <a:ext cx="601560" cy="6030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84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860800" y="819720"/>
                      <a:ext cx="601560" cy="60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My Candidate: “Tree Size”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Text Box 2"/>
          <p:cNvSpPr/>
          <p:nvPr/>
        </p:nvSpPr>
        <p:spPr>
          <a:xfrm>
            <a:off x="228600" y="4241880"/>
            <a:ext cx="8534520" cy="28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mmetrized states of n identical fermions/bosons can be shown to have tree size 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(log n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(Using the breakthrough lower bound of </a:t>
            </a:r>
            <a:r>
              <a:rPr b="1" lang="en-US" sz="2000" spc="-1" strike="noStrike">
                <a:solidFill>
                  <a:srgbClr val="008000"/>
                </a:solidFill>
                <a:latin typeface="Calibri"/>
                <a:ea typeface="Arial"/>
              </a:rPr>
              <a:t>[Raz 2004]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on th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multilinear formula siz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of the permanent and determin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(log n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lower bound probably also holds for 2D and 3D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pin lattic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(Indeed, in all these cases, the true tree size is probably exp(n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2666880" y="2286000"/>
            <a:ext cx="4038840" cy="4899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t this doesn’t work either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437920" y="838080"/>
            <a:ext cx="62485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“</a:t>
            </a: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God, Dice, Yadda Yadda”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89" name="Picture 7" descr="File:Albert Einstein Head.jpg"/>
          <p:cNvPicPr/>
          <p:nvPr/>
        </p:nvPicPr>
        <p:blipFill>
          <a:blip r:embed="rId1"/>
          <a:stretch/>
        </p:blipFill>
        <p:spPr>
          <a:xfrm>
            <a:off x="685800" y="228600"/>
            <a:ext cx="1600200" cy="20844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2"/>
          <p:cNvSpPr/>
          <p:nvPr/>
        </p:nvSpPr>
        <p:spPr>
          <a:xfrm>
            <a:off x="380880" y="2514600"/>
            <a:ext cx="83822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A completely different way quantum mechanics might be “not the whole story”:</a:t>
            </a: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if there were “deeper, underlying” physical laws, and quantum mechanics was “merely a statistical tool” derivable from those law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"/>
          <p:cNvSpPr/>
          <p:nvPr/>
        </p:nvSpPr>
        <p:spPr>
          <a:xfrm>
            <a:off x="380880" y="5638680"/>
            <a:ext cx="8382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cently, I became interested in </a:t>
            </a:r>
            <a:r>
              <a:rPr b="1" lang="en-US" sz="2600" spc="-1" strike="noStrike">
                <a:solidFill>
                  <a:srgbClr val="c00000"/>
                </a:solidFill>
                <a:latin typeface="Symbol"/>
                <a:ea typeface="Symbol"/>
              </a:rPr>
              <a:t>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-epistemic theorie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n attempt to formalize the above “Einsteinian impulse”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1752480" y="4343400"/>
            <a:ext cx="5867640" cy="114480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00000"/>
                </a:solidFill>
                <a:latin typeface="Calibri"/>
              </a:rPr>
              <a:t>Note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If quantum mechanics were 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exactly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derivable, this </a:t>
            </a:r>
            <a:r>
              <a:rPr b="1" lang="en-US" sz="2300" spc="-1" strike="noStrike">
                <a:solidFill>
                  <a:srgbClr val="c00000"/>
                </a:solidFill>
                <a:latin typeface="Calibri"/>
              </a:rPr>
              <a:t>still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wouldn’t kill QC!  But maybe it could tell us where to look for a breakdown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380880" y="990720"/>
            <a:ext cx="8305920" cy="26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set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f “ontic states”  </a:t>
            </a:r>
            <a:r>
              <a:rPr b="1" lang="en-US" sz="2300" spc="-1" strike="noStrike">
                <a:solidFill>
                  <a:srgbClr val="009900"/>
                </a:solidFill>
                <a:latin typeface="Calibri"/>
              </a:rPr>
              <a:t>(ontic = philosopher-speak for “real”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each pure state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 probability measur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ver ontic state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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each orthonormal basis B=(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…,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 and i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[d], a “response function” 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,B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[0,1], satisfy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  <a:ea typeface="Calibri"/>
              </a:rPr>
              <a:t>A d-dimensional </a:t>
            </a:r>
            <a:r>
              <a:rPr b="1" lang="en-US" sz="4400" spc="-1" strike="noStrike">
                <a:solidFill>
                  <a:srgbClr val="c00000"/>
                </a:solidFill>
                <a:latin typeface="Symbol"/>
                <a:ea typeface="Symbol"/>
              </a:rPr>
              <a:t>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  <a:ea typeface="Calibri"/>
              </a:rPr>
              <a:t>-Epistemic Theory</a:t>
            </a:r>
            <a:r>
              <a:rPr b="1" lang="en-US" sz="2400" spc="-1" strike="noStrike">
                <a:solidFill>
                  <a:srgbClr val="333399"/>
                </a:solidFill>
                <a:latin typeface="Calibri"/>
                <a:ea typeface="Calibri"/>
              </a:rPr>
              <a:t> is defined by: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95" name="Object 1"/>
          <p:cNvGraphicFramePr/>
          <p:nvPr/>
        </p:nvGraphicFramePr>
        <p:xfrm>
          <a:off x="500040" y="3581280"/>
          <a:ext cx="3198960" cy="9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3581280"/>
                    <a:ext cx="3198960" cy="9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1"/>
          <p:cNvGraphicFramePr/>
          <p:nvPr/>
        </p:nvGraphicFramePr>
        <p:xfrm>
          <a:off x="380880" y="5181480"/>
          <a:ext cx="5424480" cy="73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5181480"/>
                    <a:ext cx="542448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Freeform 8"/>
          <p:cNvSpPr/>
          <p:nvPr/>
        </p:nvSpPr>
        <p:spPr>
          <a:xfrm>
            <a:off x="5943600" y="4800600"/>
            <a:ext cx="2846520" cy="1727280"/>
          </a:xfrm>
          <a:custGeom>
            <a:avLst/>
            <a:gdLst/>
            <a:ahLst/>
            <a:rect l="l" t="t" r="r" b="b"/>
            <a:pathLst>
              <a:path w="2846815" h="1727200">
                <a:moveTo>
                  <a:pt x="1239217" y="341086"/>
                </a:moveTo>
                <a:lnTo>
                  <a:pt x="1239217" y="341086"/>
                </a:lnTo>
                <a:cubicBezTo>
                  <a:pt x="1215027" y="345924"/>
                  <a:pt x="1191302" y="354778"/>
                  <a:pt x="1166646" y="355600"/>
                </a:cubicBezTo>
                <a:cubicBezTo>
                  <a:pt x="1142245" y="356413"/>
                  <a:pt x="1028145" y="353632"/>
                  <a:pt x="977960" y="341086"/>
                </a:cubicBezTo>
                <a:cubicBezTo>
                  <a:pt x="963117" y="337375"/>
                  <a:pt x="949200" y="330514"/>
                  <a:pt x="934417" y="326572"/>
                </a:cubicBezTo>
                <a:cubicBezTo>
                  <a:pt x="881849" y="312554"/>
                  <a:pt x="868598" y="311986"/>
                  <a:pt x="818303" y="304800"/>
                </a:cubicBezTo>
                <a:cubicBezTo>
                  <a:pt x="711133" y="269077"/>
                  <a:pt x="844394" y="314836"/>
                  <a:pt x="723960" y="268515"/>
                </a:cubicBezTo>
                <a:cubicBezTo>
                  <a:pt x="709680" y="263023"/>
                  <a:pt x="694697" y="259492"/>
                  <a:pt x="680417" y="254000"/>
                </a:cubicBezTo>
                <a:cubicBezTo>
                  <a:pt x="663222" y="247387"/>
                  <a:pt x="646389" y="239852"/>
                  <a:pt x="629617" y="232229"/>
                </a:cubicBezTo>
                <a:cubicBezTo>
                  <a:pt x="619769" y="227752"/>
                  <a:pt x="610633" y="221733"/>
                  <a:pt x="600589" y="217715"/>
                </a:cubicBezTo>
                <a:cubicBezTo>
                  <a:pt x="586384" y="212033"/>
                  <a:pt x="570020" y="211309"/>
                  <a:pt x="557046" y="203200"/>
                </a:cubicBezTo>
                <a:cubicBezTo>
                  <a:pt x="537694" y="191105"/>
                  <a:pt x="515126" y="183052"/>
                  <a:pt x="498989" y="166915"/>
                </a:cubicBezTo>
                <a:cubicBezTo>
                  <a:pt x="485489" y="153415"/>
                  <a:pt x="481012" y="147040"/>
                  <a:pt x="462703" y="137886"/>
                </a:cubicBezTo>
                <a:cubicBezTo>
                  <a:pt x="455861" y="134465"/>
                  <a:pt x="448188" y="133048"/>
                  <a:pt x="440931" y="130629"/>
                </a:cubicBezTo>
                <a:cubicBezTo>
                  <a:pt x="433674" y="123372"/>
                  <a:pt x="427699" y="114551"/>
                  <a:pt x="419160" y="108858"/>
                </a:cubicBezTo>
                <a:cubicBezTo>
                  <a:pt x="353698" y="65215"/>
                  <a:pt x="444136" y="144184"/>
                  <a:pt x="375617" y="87086"/>
                </a:cubicBezTo>
                <a:cubicBezTo>
                  <a:pt x="360775" y="74718"/>
                  <a:pt x="351255" y="57775"/>
                  <a:pt x="332074" y="50800"/>
                </a:cubicBezTo>
                <a:cubicBezTo>
                  <a:pt x="313327" y="43983"/>
                  <a:pt x="274017" y="36286"/>
                  <a:pt x="274017" y="36286"/>
                </a:cubicBezTo>
                <a:cubicBezTo>
                  <a:pt x="211122" y="38705"/>
                  <a:pt x="148124" y="39213"/>
                  <a:pt x="85331" y="43543"/>
                </a:cubicBezTo>
                <a:cubicBezTo>
                  <a:pt x="58903" y="45366"/>
                  <a:pt x="59052" y="56482"/>
                  <a:pt x="49046" y="79829"/>
                </a:cubicBezTo>
                <a:cubicBezTo>
                  <a:pt x="22186" y="142503"/>
                  <a:pt x="68609" y="47012"/>
                  <a:pt x="34531" y="137886"/>
                </a:cubicBezTo>
                <a:cubicBezTo>
                  <a:pt x="31468" y="146053"/>
                  <a:pt x="23918" y="151857"/>
                  <a:pt x="20017" y="159658"/>
                </a:cubicBezTo>
                <a:cubicBezTo>
                  <a:pt x="16596" y="166500"/>
                  <a:pt x="15179" y="174172"/>
                  <a:pt x="12760" y="181429"/>
                </a:cubicBezTo>
                <a:cubicBezTo>
                  <a:pt x="0" y="257992"/>
                  <a:pt x="1086" y="231601"/>
                  <a:pt x="12760" y="348343"/>
                </a:cubicBezTo>
                <a:cubicBezTo>
                  <a:pt x="13521" y="355955"/>
                  <a:pt x="16596" y="363273"/>
                  <a:pt x="20017" y="370115"/>
                </a:cubicBezTo>
                <a:cubicBezTo>
                  <a:pt x="26363" y="382806"/>
                  <a:pt x="41006" y="410717"/>
                  <a:pt x="56303" y="420915"/>
                </a:cubicBezTo>
                <a:cubicBezTo>
                  <a:pt x="65304" y="426916"/>
                  <a:pt x="75655" y="430591"/>
                  <a:pt x="85331" y="435429"/>
                </a:cubicBezTo>
                <a:cubicBezTo>
                  <a:pt x="99954" y="479291"/>
                  <a:pt x="81854" y="443076"/>
                  <a:pt x="143389" y="478972"/>
                </a:cubicBezTo>
                <a:cubicBezTo>
                  <a:pt x="222275" y="524989"/>
                  <a:pt x="146890" y="497071"/>
                  <a:pt x="201446" y="515258"/>
                </a:cubicBezTo>
                <a:cubicBezTo>
                  <a:pt x="206284" y="522515"/>
                  <a:pt x="209793" y="530862"/>
                  <a:pt x="215960" y="537029"/>
                </a:cubicBezTo>
                <a:cubicBezTo>
                  <a:pt x="233394" y="554463"/>
                  <a:pt x="238843" y="549946"/>
                  <a:pt x="259503" y="558800"/>
                </a:cubicBezTo>
                <a:cubicBezTo>
                  <a:pt x="269446" y="563062"/>
                  <a:pt x="278855" y="568477"/>
                  <a:pt x="288531" y="573315"/>
                </a:cubicBezTo>
                <a:cubicBezTo>
                  <a:pt x="290950" y="580572"/>
                  <a:pt x="289564" y="590640"/>
                  <a:pt x="295789" y="595086"/>
                </a:cubicBezTo>
                <a:cubicBezTo>
                  <a:pt x="308238" y="603978"/>
                  <a:pt x="339331" y="609600"/>
                  <a:pt x="339331" y="609600"/>
                </a:cubicBezTo>
                <a:cubicBezTo>
                  <a:pt x="356264" y="626533"/>
                  <a:pt x="367413" y="652827"/>
                  <a:pt x="390131" y="660400"/>
                </a:cubicBezTo>
                <a:cubicBezTo>
                  <a:pt x="420177" y="670416"/>
                  <a:pt x="405538" y="663415"/>
                  <a:pt x="433674" y="682172"/>
                </a:cubicBezTo>
                <a:cubicBezTo>
                  <a:pt x="449688" y="762246"/>
                  <a:pt x="425685" y="686701"/>
                  <a:pt x="462703" y="732972"/>
                </a:cubicBezTo>
                <a:cubicBezTo>
                  <a:pt x="467482" y="738945"/>
                  <a:pt x="466024" y="748184"/>
                  <a:pt x="469960" y="754743"/>
                </a:cubicBezTo>
                <a:cubicBezTo>
                  <a:pt x="473480" y="760610"/>
                  <a:pt x="480094" y="764002"/>
                  <a:pt x="484474" y="769258"/>
                </a:cubicBezTo>
                <a:cubicBezTo>
                  <a:pt x="492217" y="778550"/>
                  <a:pt x="498989" y="788610"/>
                  <a:pt x="506246" y="798286"/>
                </a:cubicBezTo>
                <a:cubicBezTo>
                  <a:pt x="529203" y="867159"/>
                  <a:pt x="517142" y="821185"/>
                  <a:pt x="498989" y="972458"/>
                </a:cubicBezTo>
                <a:cubicBezTo>
                  <a:pt x="497801" y="982361"/>
                  <a:pt x="495660" y="992319"/>
                  <a:pt x="491731" y="1001486"/>
                </a:cubicBezTo>
                <a:cubicBezTo>
                  <a:pt x="488295" y="1009503"/>
                  <a:pt x="483012" y="1016739"/>
                  <a:pt x="477217" y="1023258"/>
                </a:cubicBezTo>
                <a:cubicBezTo>
                  <a:pt x="463580" y="1038599"/>
                  <a:pt x="433674" y="1066800"/>
                  <a:pt x="433674" y="1066800"/>
                </a:cubicBezTo>
                <a:cubicBezTo>
                  <a:pt x="428836" y="1076476"/>
                  <a:pt x="426086" y="1087518"/>
                  <a:pt x="419160" y="1095829"/>
                </a:cubicBezTo>
                <a:cubicBezTo>
                  <a:pt x="413576" y="1102529"/>
                  <a:pt x="403953" y="1104600"/>
                  <a:pt x="397389" y="1110343"/>
                </a:cubicBezTo>
                <a:cubicBezTo>
                  <a:pt x="384516" y="1121607"/>
                  <a:pt x="375336" y="1137141"/>
                  <a:pt x="361103" y="1146629"/>
                </a:cubicBezTo>
                <a:cubicBezTo>
                  <a:pt x="353846" y="1151467"/>
                  <a:pt x="346031" y="1155559"/>
                  <a:pt x="339331" y="1161143"/>
                </a:cubicBezTo>
                <a:cubicBezTo>
                  <a:pt x="331447" y="1167713"/>
                  <a:pt x="325661" y="1176614"/>
                  <a:pt x="317560" y="1182915"/>
                </a:cubicBezTo>
                <a:cubicBezTo>
                  <a:pt x="303791" y="1193625"/>
                  <a:pt x="286351" y="1199608"/>
                  <a:pt x="274017" y="1211943"/>
                </a:cubicBezTo>
                <a:cubicBezTo>
                  <a:pt x="210221" y="1275744"/>
                  <a:pt x="318258" y="1165801"/>
                  <a:pt x="244989" y="1248229"/>
                </a:cubicBezTo>
                <a:cubicBezTo>
                  <a:pt x="208835" y="1288902"/>
                  <a:pt x="212765" y="1284226"/>
                  <a:pt x="179674" y="1306286"/>
                </a:cubicBezTo>
                <a:cubicBezTo>
                  <a:pt x="177255" y="1313543"/>
                  <a:pt x="176132" y="1321371"/>
                  <a:pt x="172417" y="1328058"/>
                </a:cubicBezTo>
                <a:cubicBezTo>
                  <a:pt x="126388" y="1410912"/>
                  <a:pt x="160904" y="1346078"/>
                  <a:pt x="128874" y="1386115"/>
                </a:cubicBezTo>
                <a:cubicBezTo>
                  <a:pt x="123425" y="1392926"/>
                  <a:pt x="119198" y="1400629"/>
                  <a:pt x="114360" y="1407886"/>
                </a:cubicBezTo>
                <a:cubicBezTo>
                  <a:pt x="111941" y="1415143"/>
                  <a:pt x="109205" y="1422302"/>
                  <a:pt x="107103" y="1429658"/>
                </a:cubicBezTo>
                <a:cubicBezTo>
                  <a:pt x="104363" y="1439248"/>
                  <a:pt x="103775" y="1449519"/>
                  <a:pt x="99846" y="1458686"/>
                </a:cubicBezTo>
                <a:cubicBezTo>
                  <a:pt x="96410" y="1466703"/>
                  <a:pt x="90169" y="1473201"/>
                  <a:pt x="85331" y="1480458"/>
                </a:cubicBezTo>
                <a:cubicBezTo>
                  <a:pt x="75555" y="1548889"/>
                  <a:pt x="73535" y="1520358"/>
                  <a:pt x="92589" y="1596572"/>
                </a:cubicBezTo>
                <a:cubicBezTo>
                  <a:pt x="96136" y="1610759"/>
                  <a:pt x="99691" y="1625523"/>
                  <a:pt x="114360" y="1632858"/>
                </a:cubicBezTo>
                <a:cubicBezTo>
                  <a:pt x="123281" y="1637319"/>
                  <a:pt x="133713" y="1637696"/>
                  <a:pt x="143389" y="1640115"/>
                </a:cubicBezTo>
                <a:cubicBezTo>
                  <a:pt x="145808" y="1647372"/>
                  <a:pt x="145867" y="1655913"/>
                  <a:pt x="150646" y="1661886"/>
                </a:cubicBezTo>
                <a:cubicBezTo>
                  <a:pt x="164237" y="1678875"/>
                  <a:pt x="200822" y="1684187"/>
                  <a:pt x="215960" y="1690915"/>
                </a:cubicBezTo>
                <a:cubicBezTo>
                  <a:pt x="223930" y="1694457"/>
                  <a:pt x="229930" y="1701529"/>
                  <a:pt x="237731" y="1705429"/>
                </a:cubicBezTo>
                <a:cubicBezTo>
                  <a:pt x="244573" y="1708850"/>
                  <a:pt x="252147" y="1710584"/>
                  <a:pt x="259503" y="1712686"/>
                </a:cubicBezTo>
                <a:cubicBezTo>
                  <a:pt x="296798" y="1723342"/>
                  <a:pt x="299467" y="1721310"/>
                  <a:pt x="346589" y="1727200"/>
                </a:cubicBezTo>
                <a:cubicBezTo>
                  <a:pt x="421579" y="1724781"/>
                  <a:pt x="496640" y="1723993"/>
                  <a:pt x="571560" y="1719943"/>
                </a:cubicBezTo>
                <a:cubicBezTo>
                  <a:pt x="586253" y="1719149"/>
                  <a:pt x="601144" y="1717339"/>
                  <a:pt x="615103" y="1712686"/>
                </a:cubicBezTo>
                <a:cubicBezTo>
                  <a:pt x="623377" y="1709928"/>
                  <a:pt x="629073" y="1702072"/>
                  <a:pt x="636874" y="1698172"/>
                </a:cubicBezTo>
                <a:cubicBezTo>
                  <a:pt x="643716" y="1694751"/>
                  <a:pt x="651389" y="1693334"/>
                  <a:pt x="658646" y="1690915"/>
                </a:cubicBezTo>
                <a:cubicBezTo>
                  <a:pt x="673160" y="1681239"/>
                  <a:pt x="688419" y="1672596"/>
                  <a:pt x="702189" y="1661886"/>
                </a:cubicBezTo>
                <a:cubicBezTo>
                  <a:pt x="710290" y="1655585"/>
                  <a:pt x="716076" y="1646685"/>
                  <a:pt x="723960" y="1640115"/>
                </a:cubicBezTo>
                <a:cubicBezTo>
                  <a:pt x="730660" y="1634531"/>
                  <a:pt x="738634" y="1630670"/>
                  <a:pt x="745731" y="1625600"/>
                </a:cubicBezTo>
                <a:cubicBezTo>
                  <a:pt x="755573" y="1618570"/>
                  <a:pt x="764918" y="1610859"/>
                  <a:pt x="774760" y="1603829"/>
                </a:cubicBezTo>
                <a:cubicBezTo>
                  <a:pt x="781857" y="1598760"/>
                  <a:pt x="789720" y="1594764"/>
                  <a:pt x="796531" y="1589315"/>
                </a:cubicBezTo>
                <a:cubicBezTo>
                  <a:pt x="801874" y="1585041"/>
                  <a:pt x="804926" y="1577860"/>
                  <a:pt x="811046" y="1574800"/>
                </a:cubicBezTo>
                <a:cubicBezTo>
                  <a:pt x="824730" y="1567958"/>
                  <a:pt x="854589" y="1560286"/>
                  <a:pt x="854589" y="1560286"/>
                </a:cubicBezTo>
                <a:cubicBezTo>
                  <a:pt x="882832" y="1517922"/>
                  <a:pt x="851269" y="1554690"/>
                  <a:pt x="898131" y="1531258"/>
                </a:cubicBezTo>
                <a:cubicBezTo>
                  <a:pt x="904251" y="1528198"/>
                  <a:pt x="907303" y="1521017"/>
                  <a:pt x="912646" y="1516743"/>
                </a:cubicBezTo>
                <a:cubicBezTo>
                  <a:pt x="919457" y="1511294"/>
                  <a:pt x="927320" y="1507298"/>
                  <a:pt x="934417" y="1502229"/>
                </a:cubicBezTo>
                <a:cubicBezTo>
                  <a:pt x="944259" y="1495199"/>
                  <a:pt x="952944" y="1486459"/>
                  <a:pt x="963446" y="1480458"/>
                </a:cubicBezTo>
                <a:cubicBezTo>
                  <a:pt x="970088" y="1476663"/>
                  <a:pt x="978375" y="1476621"/>
                  <a:pt x="985217" y="1473200"/>
                </a:cubicBezTo>
                <a:cubicBezTo>
                  <a:pt x="1041482" y="1445067"/>
                  <a:pt x="974046" y="1469667"/>
                  <a:pt x="1028760" y="1451429"/>
                </a:cubicBezTo>
                <a:cubicBezTo>
                  <a:pt x="1069884" y="1453848"/>
                  <a:pt x="1111440" y="1452261"/>
                  <a:pt x="1152131" y="1458686"/>
                </a:cubicBezTo>
                <a:cubicBezTo>
                  <a:pt x="1158889" y="1459753"/>
                  <a:pt x="1160779" y="1469680"/>
                  <a:pt x="1166646" y="1473200"/>
                </a:cubicBezTo>
                <a:cubicBezTo>
                  <a:pt x="1173205" y="1477136"/>
                  <a:pt x="1181160" y="1478039"/>
                  <a:pt x="1188417" y="1480458"/>
                </a:cubicBezTo>
                <a:cubicBezTo>
                  <a:pt x="1198093" y="1487715"/>
                  <a:pt x="1206628" y="1496820"/>
                  <a:pt x="1217446" y="1502229"/>
                </a:cubicBezTo>
                <a:cubicBezTo>
                  <a:pt x="1226367" y="1506689"/>
                  <a:pt x="1236884" y="1506746"/>
                  <a:pt x="1246474" y="1509486"/>
                </a:cubicBezTo>
                <a:cubicBezTo>
                  <a:pt x="1253830" y="1511588"/>
                  <a:pt x="1260989" y="1514324"/>
                  <a:pt x="1268246" y="1516743"/>
                </a:cubicBezTo>
                <a:cubicBezTo>
                  <a:pt x="1312006" y="1560505"/>
                  <a:pt x="1263284" y="1520218"/>
                  <a:pt x="1333560" y="1545772"/>
                </a:cubicBezTo>
                <a:cubicBezTo>
                  <a:pt x="1439075" y="1584140"/>
                  <a:pt x="1283253" y="1556719"/>
                  <a:pt x="1427903" y="1574800"/>
                </a:cubicBezTo>
                <a:cubicBezTo>
                  <a:pt x="1444836" y="1579638"/>
                  <a:pt x="1461543" y="1585355"/>
                  <a:pt x="1478703" y="1589315"/>
                </a:cubicBezTo>
                <a:cubicBezTo>
                  <a:pt x="1493041" y="1592624"/>
                  <a:pt x="1507561" y="1595635"/>
                  <a:pt x="1522246" y="1596572"/>
                </a:cubicBezTo>
                <a:cubicBezTo>
                  <a:pt x="1621343" y="1602897"/>
                  <a:pt x="1720608" y="1606248"/>
                  <a:pt x="1819789" y="1611086"/>
                </a:cubicBezTo>
                <a:cubicBezTo>
                  <a:pt x="1843979" y="1613505"/>
                  <a:pt x="1868521" y="1613575"/>
                  <a:pt x="1892360" y="1618343"/>
                </a:cubicBezTo>
                <a:cubicBezTo>
                  <a:pt x="1905134" y="1620898"/>
                  <a:pt x="1915627" y="1632393"/>
                  <a:pt x="1928646" y="1632858"/>
                </a:cubicBezTo>
                <a:lnTo>
                  <a:pt x="2095560" y="1625600"/>
                </a:lnTo>
                <a:cubicBezTo>
                  <a:pt x="2102817" y="1623181"/>
                  <a:pt x="2109830" y="1619843"/>
                  <a:pt x="2117331" y="1618343"/>
                </a:cubicBezTo>
                <a:cubicBezTo>
                  <a:pt x="2134104" y="1614988"/>
                  <a:pt x="2151225" y="1613687"/>
                  <a:pt x="2168131" y="1611086"/>
                </a:cubicBezTo>
                <a:cubicBezTo>
                  <a:pt x="2182674" y="1608849"/>
                  <a:pt x="2197160" y="1606248"/>
                  <a:pt x="2211674" y="1603829"/>
                </a:cubicBezTo>
                <a:cubicBezTo>
                  <a:pt x="2216512" y="1598991"/>
                  <a:pt x="2219480" y="1590657"/>
                  <a:pt x="2226189" y="1589315"/>
                </a:cubicBezTo>
                <a:cubicBezTo>
                  <a:pt x="2243693" y="1585814"/>
                  <a:pt x="2261338" y="1609950"/>
                  <a:pt x="2269731" y="1618343"/>
                </a:cubicBezTo>
                <a:cubicBezTo>
                  <a:pt x="2290571" y="1701694"/>
                  <a:pt x="2261430" y="1598970"/>
                  <a:pt x="2291503" y="1669143"/>
                </a:cubicBezTo>
                <a:cubicBezTo>
                  <a:pt x="2295432" y="1678311"/>
                  <a:pt x="2293227" y="1689873"/>
                  <a:pt x="2298760" y="1698172"/>
                </a:cubicBezTo>
                <a:cubicBezTo>
                  <a:pt x="2306799" y="1710231"/>
                  <a:pt x="2329884" y="1715803"/>
                  <a:pt x="2342303" y="1719943"/>
                </a:cubicBezTo>
                <a:cubicBezTo>
                  <a:pt x="2378589" y="1717524"/>
                  <a:pt x="2415500" y="1719818"/>
                  <a:pt x="2451160" y="1712686"/>
                </a:cubicBezTo>
                <a:cubicBezTo>
                  <a:pt x="2464991" y="1709920"/>
                  <a:pt x="2474556" y="1696644"/>
                  <a:pt x="2487446" y="1690915"/>
                </a:cubicBezTo>
                <a:cubicBezTo>
                  <a:pt x="2496560" y="1686864"/>
                  <a:pt x="2506798" y="1686077"/>
                  <a:pt x="2516474" y="1683658"/>
                </a:cubicBezTo>
                <a:cubicBezTo>
                  <a:pt x="2523731" y="1676401"/>
                  <a:pt x="2529706" y="1667579"/>
                  <a:pt x="2538246" y="1661886"/>
                </a:cubicBezTo>
                <a:cubicBezTo>
                  <a:pt x="2544611" y="1657643"/>
                  <a:pt x="2554044" y="1659408"/>
                  <a:pt x="2560017" y="1654629"/>
                </a:cubicBezTo>
                <a:cubicBezTo>
                  <a:pt x="2584484" y="1635056"/>
                  <a:pt x="2566765" y="1633622"/>
                  <a:pt x="2581789" y="1611086"/>
                </a:cubicBezTo>
                <a:cubicBezTo>
                  <a:pt x="2587482" y="1602547"/>
                  <a:pt x="2596303" y="1596572"/>
                  <a:pt x="2603560" y="1589315"/>
                </a:cubicBezTo>
                <a:cubicBezTo>
                  <a:pt x="2618606" y="1529130"/>
                  <a:pt x="2598945" y="1591817"/>
                  <a:pt x="2632589" y="1531258"/>
                </a:cubicBezTo>
                <a:cubicBezTo>
                  <a:pt x="2638916" y="1519870"/>
                  <a:pt x="2641277" y="1506624"/>
                  <a:pt x="2647103" y="1494972"/>
                </a:cubicBezTo>
                <a:cubicBezTo>
                  <a:pt x="2651004" y="1487171"/>
                  <a:pt x="2657290" y="1480773"/>
                  <a:pt x="2661617" y="1473200"/>
                </a:cubicBezTo>
                <a:cubicBezTo>
                  <a:pt x="2666984" y="1463807"/>
                  <a:pt x="2671869" y="1454115"/>
                  <a:pt x="2676131" y="1444172"/>
                </a:cubicBezTo>
                <a:cubicBezTo>
                  <a:pt x="2679145" y="1437141"/>
                  <a:pt x="2679968" y="1429242"/>
                  <a:pt x="2683389" y="1422400"/>
                </a:cubicBezTo>
                <a:cubicBezTo>
                  <a:pt x="2687290" y="1414599"/>
                  <a:pt x="2693576" y="1408202"/>
                  <a:pt x="2697903" y="1400629"/>
                </a:cubicBezTo>
                <a:cubicBezTo>
                  <a:pt x="2712250" y="1375521"/>
                  <a:pt x="2711533" y="1374253"/>
                  <a:pt x="2719674" y="1349829"/>
                </a:cubicBezTo>
                <a:cubicBezTo>
                  <a:pt x="2722093" y="1330477"/>
                  <a:pt x="2724038" y="1311059"/>
                  <a:pt x="2726931" y="1291772"/>
                </a:cubicBezTo>
                <a:cubicBezTo>
                  <a:pt x="2731297" y="1262668"/>
                  <a:pt x="2741446" y="1234115"/>
                  <a:pt x="2741446" y="1204686"/>
                </a:cubicBezTo>
                <a:cubicBezTo>
                  <a:pt x="2741446" y="1148838"/>
                  <a:pt x="2733858" y="1093189"/>
                  <a:pt x="2726931" y="1037772"/>
                </a:cubicBezTo>
                <a:cubicBezTo>
                  <a:pt x="2719359" y="977195"/>
                  <a:pt x="2721333" y="985833"/>
                  <a:pt x="2697903" y="950686"/>
                </a:cubicBezTo>
                <a:cubicBezTo>
                  <a:pt x="2688748" y="877446"/>
                  <a:pt x="2696814" y="911133"/>
                  <a:pt x="2676131" y="849086"/>
                </a:cubicBezTo>
                <a:cubicBezTo>
                  <a:pt x="2673712" y="841829"/>
                  <a:pt x="2674283" y="832724"/>
                  <a:pt x="2668874" y="827315"/>
                </a:cubicBezTo>
                <a:lnTo>
                  <a:pt x="2654360" y="812800"/>
                </a:lnTo>
                <a:cubicBezTo>
                  <a:pt x="2651941" y="798286"/>
                  <a:pt x="2646558" y="783962"/>
                  <a:pt x="2647103" y="769258"/>
                </a:cubicBezTo>
                <a:cubicBezTo>
                  <a:pt x="2648992" y="718263"/>
                  <a:pt x="2655768" y="667552"/>
                  <a:pt x="2661617" y="616858"/>
                </a:cubicBezTo>
                <a:cubicBezTo>
                  <a:pt x="2663031" y="604604"/>
                  <a:pt x="2665330" y="592387"/>
                  <a:pt x="2668874" y="580572"/>
                </a:cubicBezTo>
                <a:cubicBezTo>
                  <a:pt x="2672617" y="568094"/>
                  <a:pt x="2678551" y="556381"/>
                  <a:pt x="2683389" y="544286"/>
                </a:cubicBezTo>
                <a:cubicBezTo>
                  <a:pt x="2700474" y="441772"/>
                  <a:pt x="2674563" y="545218"/>
                  <a:pt x="2712417" y="478972"/>
                </a:cubicBezTo>
                <a:cubicBezTo>
                  <a:pt x="2717365" y="470312"/>
                  <a:pt x="2716808" y="459496"/>
                  <a:pt x="2719674" y="449943"/>
                </a:cubicBezTo>
                <a:cubicBezTo>
                  <a:pt x="2739682" y="383253"/>
                  <a:pt x="2724144" y="427609"/>
                  <a:pt x="2748703" y="384629"/>
                </a:cubicBezTo>
                <a:cubicBezTo>
                  <a:pt x="2754070" y="375236"/>
                  <a:pt x="2754562" y="362091"/>
                  <a:pt x="2763217" y="355600"/>
                </a:cubicBezTo>
                <a:cubicBezTo>
                  <a:pt x="2775457" y="346420"/>
                  <a:pt x="2806760" y="341086"/>
                  <a:pt x="2806760" y="341086"/>
                </a:cubicBezTo>
                <a:cubicBezTo>
                  <a:pt x="2826433" y="311576"/>
                  <a:pt x="2828531" y="315214"/>
                  <a:pt x="2828531" y="268515"/>
                </a:cubicBezTo>
                <a:cubicBezTo>
                  <a:pt x="2828531" y="189094"/>
                  <a:pt x="2846815" y="148912"/>
                  <a:pt x="2799503" y="101600"/>
                </a:cubicBezTo>
                <a:cubicBezTo>
                  <a:pt x="2793336" y="95433"/>
                  <a:pt x="2785532" y="90987"/>
                  <a:pt x="2777731" y="87086"/>
                </a:cubicBezTo>
                <a:cubicBezTo>
                  <a:pt x="2770889" y="83665"/>
                  <a:pt x="2763217" y="82248"/>
                  <a:pt x="2755960" y="79829"/>
                </a:cubicBezTo>
                <a:cubicBezTo>
                  <a:pt x="2746284" y="72572"/>
                  <a:pt x="2736223" y="65801"/>
                  <a:pt x="2726931" y="58058"/>
                </a:cubicBezTo>
                <a:cubicBezTo>
                  <a:pt x="2721675" y="53678"/>
                  <a:pt x="2718284" y="47063"/>
                  <a:pt x="2712417" y="43543"/>
                </a:cubicBezTo>
                <a:cubicBezTo>
                  <a:pt x="2698675" y="35298"/>
                  <a:pt x="2655895" y="30494"/>
                  <a:pt x="2647103" y="29029"/>
                </a:cubicBezTo>
                <a:cubicBezTo>
                  <a:pt x="2637427" y="24191"/>
                  <a:pt x="2628204" y="18314"/>
                  <a:pt x="2618074" y="14515"/>
                </a:cubicBezTo>
                <a:cubicBezTo>
                  <a:pt x="2597019" y="6619"/>
                  <a:pt x="2556786" y="2649"/>
                  <a:pt x="2538246" y="0"/>
                </a:cubicBezTo>
                <a:cubicBezTo>
                  <a:pt x="2480189" y="2419"/>
                  <a:pt x="2422023" y="2965"/>
                  <a:pt x="2364074" y="7258"/>
                </a:cubicBezTo>
                <a:cubicBezTo>
                  <a:pt x="2356445" y="7823"/>
                  <a:pt x="2348668" y="10272"/>
                  <a:pt x="2342303" y="14515"/>
                </a:cubicBezTo>
                <a:cubicBezTo>
                  <a:pt x="2287942" y="50755"/>
                  <a:pt x="2350526" y="26288"/>
                  <a:pt x="2298760" y="43543"/>
                </a:cubicBezTo>
                <a:cubicBezTo>
                  <a:pt x="2291503" y="48381"/>
                  <a:pt x="2284385" y="53435"/>
                  <a:pt x="2276989" y="58058"/>
                </a:cubicBezTo>
                <a:cubicBezTo>
                  <a:pt x="2260605" y="68298"/>
                  <a:pt x="2235508" y="81910"/>
                  <a:pt x="2218931" y="94343"/>
                </a:cubicBezTo>
                <a:cubicBezTo>
                  <a:pt x="2206540" y="103637"/>
                  <a:pt x="2193599" y="112419"/>
                  <a:pt x="2182646" y="123372"/>
                </a:cubicBezTo>
                <a:cubicBezTo>
                  <a:pt x="2149822" y="156196"/>
                  <a:pt x="2188742" y="138273"/>
                  <a:pt x="2146360" y="152400"/>
                </a:cubicBezTo>
                <a:cubicBezTo>
                  <a:pt x="2141522" y="157238"/>
                  <a:pt x="2137189" y="162641"/>
                  <a:pt x="2131846" y="166915"/>
                </a:cubicBezTo>
                <a:cubicBezTo>
                  <a:pt x="2125035" y="172364"/>
                  <a:pt x="2117052" y="176196"/>
                  <a:pt x="2110074" y="181429"/>
                </a:cubicBezTo>
                <a:cubicBezTo>
                  <a:pt x="2094722" y="192943"/>
                  <a:pt x="2073135" y="209131"/>
                  <a:pt x="2059274" y="224972"/>
                </a:cubicBezTo>
                <a:cubicBezTo>
                  <a:pt x="2046833" y="239191"/>
                  <a:pt x="2034325" y="253400"/>
                  <a:pt x="2022989" y="268515"/>
                </a:cubicBezTo>
                <a:cubicBezTo>
                  <a:pt x="1970910" y="337955"/>
                  <a:pt x="2016507" y="289511"/>
                  <a:pt x="1972189" y="333829"/>
                </a:cubicBezTo>
                <a:cubicBezTo>
                  <a:pt x="1966286" y="351534"/>
                  <a:pt x="1964483" y="363305"/>
                  <a:pt x="1950417" y="377372"/>
                </a:cubicBezTo>
                <a:cubicBezTo>
                  <a:pt x="1944250" y="383539"/>
                  <a:pt x="1935903" y="387048"/>
                  <a:pt x="1928646" y="391886"/>
                </a:cubicBezTo>
                <a:cubicBezTo>
                  <a:pt x="1926227" y="399143"/>
                  <a:pt x="1926086" y="407620"/>
                  <a:pt x="1921389" y="413658"/>
                </a:cubicBezTo>
                <a:cubicBezTo>
                  <a:pt x="1913647" y="423612"/>
                  <a:pt x="1877091" y="462708"/>
                  <a:pt x="1856074" y="471715"/>
                </a:cubicBezTo>
                <a:cubicBezTo>
                  <a:pt x="1846907" y="475644"/>
                  <a:pt x="1836722" y="476553"/>
                  <a:pt x="1827046" y="478972"/>
                </a:cubicBezTo>
                <a:cubicBezTo>
                  <a:pt x="1773827" y="476553"/>
                  <a:pt x="1720493" y="475963"/>
                  <a:pt x="1667389" y="471715"/>
                </a:cubicBezTo>
                <a:cubicBezTo>
                  <a:pt x="1659763" y="471105"/>
                  <a:pt x="1651591" y="469237"/>
                  <a:pt x="1645617" y="464458"/>
                </a:cubicBezTo>
                <a:cubicBezTo>
                  <a:pt x="1638806" y="459009"/>
                  <a:pt x="1637803" y="448270"/>
                  <a:pt x="1631103" y="442686"/>
                </a:cubicBezTo>
                <a:cubicBezTo>
                  <a:pt x="1622792" y="435760"/>
                  <a:pt x="1611467" y="433539"/>
                  <a:pt x="1602074" y="428172"/>
                </a:cubicBezTo>
                <a:cubicBezTo>
                  <a:pt x="1584972" y="418399"/>
                  <a:pt x="1566849" y="403011"/>
                  <a:pt x="1551274" y="391886"/>
                </a:cubicBezTo>
                <a:cubicBezTo>
                  <a:pt x="1544177" y="386817"/>
                  <a:pt x="1537160" y="381548"/>
                  <a:pt x="1529503" y="377372"/>
                </a:cubicBezTo>
                <a:cubicBezTo>
                  <a:pt x="1510508" y="367011"/>
                  <a:pt x="1471446" y="348343"/>
                  <a:pt x="1471446" y="348343"/>
                </a:cubicBezTo>
                <a:cubicBezTo>
                  <a:pt x="1456932" y="350762"/>
                  <a:pt x="1442618" y="355600"/>
                  <a:pt x="1427903" y="355600"/>
                </a:cubicBezTo>
                <a:cubicBezTo>
                  <a:pt x="1264978" y="355600"/>
                  <a:pt x="1270665" y="343505"/>
                  <a:pt x="1239217" y="341086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1"/>
          <p:cNvSpPr/>
          <p:nvPr/>
        </p:nvSpPr>
        <p:spPr>
          <a:xfrm>
            <a:off x="6629400" y="5334120"/>
            <a:ext cx="990720" cy="761760"/>
          </a:xfrm>
          <a:prstGeom prst="ellipse">
            <a:avLst/>
          </a:prstGeom>
          <a:solidFill>
            <a:srgbClr val="c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12"/>
          <p:cNvSpPr/>
          <p:nvPr/>
        </p:nvSpPr>
        <p:spPr>
          <a:xfrm>
            <a:off x="6705720" y="5410080"/>
            <a:ext cx="838080" cy="586080"/>
          </a:xfrm>
          <a:prstGeom prst="ellipse">
            <a:avLst/>
          </a:prstGeom>
          <a:solidFill>
            <a:srgbClr val="c000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3"/>
          <p:cNvSpPr/>
          <p:nvPr/>
        </p:nvSpPr>
        <p:spPr>
          <a:xfrm>
            <a:off x="6858000" y="5562720"/>
            <a:ext cx="512640" cy="3045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6" descr="C:\Users\owner\AppData\Local\Microsoft\Windows\Temporary Internet Files\Content.IE5\O9G5BS5W\MC900048285[1].wmf"/>
          <p:cNvPicPr/>
          <p:nvPr/>
        </p:nvPicPr>
        <p:blipFill>
          <a:blip r:embed="rId5"/>
          <a:stretch/>
        </p:blipFill>
        <p:spPr>
          <a:xfrm>
            <a:off x="6553080" y="32004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304" name="Oval 15"/>
          <p:cNvSpPr/>
          <p:nvPr/>
        </p:nvSpPr>
        <p:spPr>
          <a:xfrm>
            <a:off x="7315200" y="4191120"/>
            <a:ext cx="76320" cy="759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"/>
          <p:cNvSpPr/>
          <p:nvPr/>
        </p:nvSpPr>
        <p:spPr>
          <a:xfrm>
            <a:off x="1295280" y="44197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(Conservation of Probabil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12952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(Born Ru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9"/>
          <p:cNvSpPr/>
          <p:nvPr/>
        </p:nvSpPr>
        <p:spPr>
          <a:xfrm flipH="1">
            <a:off x="7162560" y="4343400"/>
            <a:ext cx="15228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Object 7"/>
          <p:cNvGraphicFramePr/>
          <p:nvPr/>
        </p:nvGraphicFramePr>
        <p:xfrm>
          <a:off x="6781680" y="3429000"/>
          <a:ext cx="540000" cy="458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9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781680" y="3429000"/>
                    <a:ext cx="54000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Object 7"/>
          <p:cNvGraphicFramePr/>
          <p:nvPr/>
        </p:nvGraphicFramePr>
        <p:xfrm>
          <a:off x="7391520" y="3962520"/>
          <a:ext cx="539640" cy="530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11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391520" y="3962520"/>
                    <a:ext cx="53964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Object 7"/>
          <p:cNvGraphicFramePr/>
          <p:nvPr/>
        </p:nvGraphicFramePr>
        <p:xfrm>
          <a:off x="8229600" y="4952880"/>
          <a:ext cx="309600" cy="463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13" name="Object 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229600" y="4952880"/>
                    <a:ext cx="30960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Object 7"/>
          <p:cNvGraphicFramePr/>
          <p:nvPr/>
        </p:nvGraphicFramePr>
        <p:xfrm>
          <a:off x="7391520" y="5715000"/>
          <a:ext cx="482400" cy="384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15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391520" y="5715000"/>
                    <a:ext cx="48240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TextBox 18"/>
          <p:cNvSpPr/>
          <p:nvPr/>
        </p:nvSpPr>
        <p:spPr>
          <a:xfrm>
            <a:off x="1295280" y="2057400"/>
            <a:ext cx="6629400" cy="297540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n trivially satisfy these axioms by setting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=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= the point measure concentrated on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tself, and 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,B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=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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ives a completely uninteresting restatement of quantum mechanics (called the “Beltrametti-Bugajski theory”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Quantum Computing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133720" y="1066680"/>
            <a:ext cx="4771800" cy="3505320"/>
          </a:xfrm>
          <a:prstGeom prst="rect">
            <a:avLst/>
          </a:prstGeom>
          <a:ln w="0">
            <a:noFill/>
          </a:ln>
        </p:spPr>
      </p:pic>
      <p:sp>
        <p:nvSpPr>
          <p:cNvPr id="56" name="TextBox 10"/>
          <p:cNvSpPr/>
          <p:nvPr/>
        </p:nvSpPr>
        <p:spPr>
          <a:xfrm>
            <a:off x="838080" y="4800600"/>
            <a:ext cx="7391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en I first heard about QC (around 1996), I was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certai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t was bunk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0"/>
          <p:cNvSpPr/>
          <p:nvPr/>
        </p:nvSpPr>
        <p:spPr>
          <a:xfrm>
            <a:off x="838080" y="5791320"/>
            <a:ext cx="7391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t to find the “catch,” I’d first have to figure out what the deal was with quantum mechanics itsel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Oval 22"/>
          <p:cNvSpPr/>
          <p:nvPr/>
        </p:nvSpPr>
        <p:spPr>
          <a:xfrm rot="5400000">
            <a:off x="151920" y="1904760"/>
            <a:ext cx="3200400" cy="2286000"/>
          </a:xfrm>
          <a:prstGeom prst="ellipse">
            <a:avLst/>
          </a:prstGeom>
          <a:solidFill>
            <a:srgbClr val="cc00cc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21"/>
          <p:cNvSpPr/>
          <p:nvPr/>
        </p:nvSpPr>
        <p:spPr>
          <a:xfrm>
            <a:off x="685800" y="2438280"/>
            <a:ext cx="3200400" cy="2286000"/>
          </a:xfrm>
          <a:prstGeom prst="ellipse">
            <a:avLst/>
          </a:prstGeom>
          <a:solidFill>
            <a:srgbClr val="cc00cc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28"/>
          <p:cNvSpPr/>
          <p:nvPr/>
        </p:nvSpPr>
        <p:spPr>
          <a:xfrm rot="18900000">
            <a:off x="568440" y="2015640"/>
            <a:ext cx="3200400" cy="2286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"/>
          <p:cNvSpPr/>
          <p:nvPr/>
        </p:nvSpPr>
        <p:spPr>
          <a:xfrm>
            <a:off x="4800600" y="3733920"/>
            <a:ext cx="4114800" cy="13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ccounts beautifully for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one qubi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epistemically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(One qutrit: Already a problem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  <a:ea typeface="Calibri"/>
              </a:rPr>
              <a:t>More Interesting Example: Kochen-Specker Theory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2" name="Oval 4"/>
          <p:cNvSpPr/>
          <p:nvPr/>
        </p:nvSpPr>
        <p:spPr>
          <a:xfrm>
            <a:off x="237960" y="2057400"/>
            <a:ext cx="3048120" cy="3048120"/>
          </a:xfrm>
          <a:prstGeom prst="ellipse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5"/>
          <p:cNvSpPr/>
          <p:nvPr/>
        </p:nvSpPr>
        <p:spPr>
          <a:xfrm>
            <a:off x="237960" y="3581280"/>
            <a:ext cx="3048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6"/>
          <p:cNvSpPr/>
          <p:nvPr/>
        </p:nvSpPr>
        <p:spPr>
          <a:xfrm>
            <a:off x="1762200" y="2057400"/>
            <a:ext cx="144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6"/>
          <p:cNvSpPr/>
          <p:nvPr/>
        </p:nvSpPr>
        <p:spPr>
          <a:xfrm flipH="1">
            <a:off x="686520" y="2514960"/>
            <a:ext cx="2154240" cy="215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6"/>
          <p:cNvSpPr/>
          <p:nvPr/>
        </p:nvSpPr>
        <p:spPr>
          <a:xfrm>
            <a:off x="686160" y="2515320"/>
            <a:ext cx="2156760" cy="215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Object 10"/>
          <p:cNvGraphicFramePr/>
          <p:nvPr/>
        </p:nvGraphicFramePr>
        <p:xfrm>
          <a:off x="2819520" y="3276720"/>
          <a:ext cx="455400" cy="53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3276720"/>
                    <a:ext cx="45540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Object 10"/>
          <p:cNvGraphicFramePr/>
          <p:nvPr/>
        </p:nvGraphicFramePr>
        <p:xfrm>
          <a:off x="1600200" y="2057400"/>
          <a:ext cx="45576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0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2057400"/>
                    <a:ext cx="4557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Object 10"/>
          <p:cNvGraphicFramePr/>
          <p:nvPr/>
        </p:nvGraphicFramePr>
        <p:xfrm>
          <a:off x="2313000" y="2514600"/>
          <a:ext cx="573120" cy="53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2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13000" y="2514600"/>
                    <a:ext cx="5731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Object 10"/>
          <p:cNvGraphicFramePr/>
          <p:nvPr/>
        </p:nvGraphicFramePr>
        <p:xfrm>
          <a:off x="2219400" y="4191120"/>
          <a:ext cx="582480" cy="53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4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19400" y="4191120"/>
                    <a:ext cx="5824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Object 10"/>
          <p:cNvGraphicFramePr/>
          <p:nvPr/>
        </p:nvGraphicFramePr>
        <p:xfrm>
          <a:off x="3962520" y="3276720"/>
          <a:ext cx="623880" cy="425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6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62520" y="3276720"/>
                    <a:ext cx="623880" cy="42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Object 10"/>
          <p:cNvGraphicFramePr/>
          <p:nvPr/>
        </p:nvGraphicFramePr>
        <p:xfrm>
          <a:off x="1419120" y="1031760"/>
          <a:ext cx="623880" cy="425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38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19120" y="1031760"/>
                    <a:ext cx="62388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Object 10"/>
          <p:cNvGraphicFramePr/>
          <p:nvPr/>
        </p:nvGraphicFramePr>
        <p:xfrm>
          <a:off x="3200400" y="1523880"/>
          <a:ext cx="712800" cy="424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40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00400" y="1523880"/>
                    <a:ext cx="71280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1" name="Picture 20" descr=""/>
          <p:cNvPicPr/>
          <p:nvPr/>
        </p:nvPicPr>
        <p:blipFill>
          <a:blip r:embed="rId15"/>
          <a:stretch/>
        </p:blipFill>
        <p:spPr>
          <a:xfrm>
            <a:off x="4876920" y="1538280"/>
            <a:ext cx="4133880" cy="814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2" name="Object 10"/>
          <p:cNvGraphicFramePr/>
          <p:nvPr/>
        </p:nvGraphicFramePr>
        <p:xfrm>
          <a:off x="4876920" y="914400"/>
          <a:ext cx="1420560" cy="4665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43" name="Object 10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876920" y="914400"/>
                    <a:ext cx="142056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Text Box 2"/>
          <p:cNvSpPr/>
          <p:nvPr/>
        </p:nvSpPr>
        <p:spPr>
          <a:xfrm>
            <a:off x="380880" y="5257800"/>
            <a:ext cx="8382240" cy="159768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Observation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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=0, then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can’t overla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ll the theory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maximally nontrivial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f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as above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verlap whenever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re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rthogo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4800600" y="2438280"/>
            <a:ext cx="411480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sponse functions 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,B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: deterministically return basis vector closest to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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24"/>
          <p:cNvSpPr/>
          <p:nvPr/>
        </p:nvSpPr>
        <p:spPr>
          <a:xfrm flipV="1">
            <a:off x="4648320" y="837720"/>
            <a:ext cx="75960" cy="4343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2"/>
          <p:cNvSpPr/>
          <p:nvPr/>
        </p:nvSpPr>
        <p:spPr>
          <a:xfrm>
            <a:off x="457200" y="1066680"/>
            <a:ext cx="8229600" cy="25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ppose we assum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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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600"/>
            </a:b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(“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-epistemic theories must behave well under tensor product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n there’s a 2-qubit entangled measurement M, such that the only way to explain M’s behavior on the 4 st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PBR </a:t>
            </a:r>
            <a:r>
              <a:rPr b="1" lang="en-US" sz="2000" spc="-1" strike="noStrike">
                <a:solidFill>
                  <a:srgbClr val="333399"/>
                </a:solidFill>
                <a:latin typeface="Calibri"/>
                <a:ea typeface="Calibri"/>
              </a:rPr>
              <a:t>(Pusey-Barrett-Rudolph 2011)</a:t>
            </a:r>
            <a:r>
              <a:rPr b="1" lang="en-US" sz="2200" spc="-1" strike="noStrike">
                <a:solidFill>
                  <a:srgbClr val="333399"/>
                </a:solidFill>
                <a:latin typeface="Calibri"/>
                <a:ea typeface="Calibri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No-Go Theorem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349" name="Object 4"/>
          <p:cNvGraphicFramePr/>
          <p:nvPr/>
        </p:nvGraphicFramePr>
        <p:xfrm>
          <a:off x="2057400" y="2971800"/>
          <a:ext cx="4260960" cy="3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971800"/>
                    <a:ext cx="426096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Text Box 2"/>
          <p:cNvSpPr/>
          <p:nvPr/>
        </p:nvSpPr>
        <p:spPr>
          <a:xfrm>
            <a:off x="457200" y="3368520"/>
            <a:ext cx="822960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 using a “trivial” theory that doesn’t mix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(Can be generalized to any pair of states, not just |0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 and |+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"/>
          <p:cNvSpPr/>
          <p:nvPr/>
        </p:nvSpPr>
        <p:spPr>
          <a:xfrm>
            <a:off x="914400" y="4648320"/>
            <a:ext cx="7772400" cy="17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Bell’s Theorem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n’t “locally” simulate all separable measurements on a fixed entangled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PBR Theorem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n’t “locally” simulate a fixed entangled measurement on all separable states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at least nontrivially s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eft Brace 6"/>
          <p:cNvSpPr/>
          <p:nvPr/>
        </p:nvSpPr>
        <p:spPr>
          <a:xfrm>
            <a:off x="457200" y="4741920"/>
            <a:ext cx="380880" cy="175248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1752480"/>
              <a:gd name="textAreaBottom" fmla="*/ 174276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6"/>
                  <a:pt x="10800" y="391"/>
                </a:cubicBezTo>
                <a:lnTo>
                  <a:pt x="10800" y="10409"/>
                </a:lnTo>
                <a:cubicBezTo>
                  <a:pt x="10800" y="10605"/>
                  <a:pt x="5400" y="10800"/>
                  <a:pt x="0" y="10800"/>
                </a:cubicBezTo>
                <a:cubicBezTo>
                  <a:pt x="5400" y="10800"/>
                  <a:pt x="10800" y="10996"/>
                  <a:pt x="10800" y="11191"/>
                </a:cubicBezTo>
                <a:lnTo>
                  <a:pt x="10800" y="21209"/>
                </a:lnTo>
                <a:cubicBezTo>
                  <a:pt x="10800" y="214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Calibri"/>
                <a:ea typeface="Calibri"/>
              </a:rPr>
              <a:t>But suppose we drop PBR’s tensor assumption.  Then:</a:t>
            </a: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5" name="Text Box 2"/>
          <p:cNvSpPr/>
          <p:nvPr/>
        </p:nvSpPr>
        <p:spPr>
          <a:xfrm>
            <a:off x="228600" y="685800"/>
            <a:ext cx="8686800" cy="128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Theorem (A.-Bouland-Chua-Lowther ‘13):</a:t>
            </a: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re’s a maximally-nontrivial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epistemic theory in any finite dimension 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"/>
          <p:cNvSpPr/>
          <p:nvPr/>
        </p:nvSpPr>
        <p:spPr>
          <a:xfrm>
            <a:off x="3809880" y="3103560"/>
            <a:ext cx="5181840" cy="41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ver 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with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nets, for all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=1/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ix the states in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pairs of small ball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(B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B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, where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oth belong to som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(“Mix” = make their ontic distributions overl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mix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all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non-orthogonal states, take a “convex combination” of countably many such theo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"/>
          <p:cNvSpPr/>
          <p:nvPr/>
        </p:nvSpPr>
        <p:spPr>
          <a:xfrm>
            <a:off x="228600" y="16002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Albeit an extremely weird one!</a:t>
            </a:r>
            <a:br>
              <a:rPr sz="2400"/>
            </a:b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Solves the main open problem of Lewis et al. ‘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"/>
          <p:cNvSpPr/>
          <p:nvPr/>
        </p:nvSpPr>
        <p:spPr>
          <a:xfrm>
            <a:off x="3809880" y="259092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as of the co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62"/>
          <p:cNvGrpSpPr/>
          <p:nvPr/>
        </p:nvGrpSpPr>
        <p:grpSpPr>
          <a:xfrm>
            <a:off x="228600" y="2895480"/>
            <a:ext cx="3429000" cy="3429000"/>
            <a:chOff x="228600" y="2895480"/>
            <a:chExt cx="3429000" cy="3429000"/>
          </a:xfrm>
        </p:grpSpPr>
        <p:pic>
          <p:nvPicPr>
            <p:cNvPr id="360" name="Picture 7" descr="C:\Users\owner\AppData\Local\Microsoft\Windows\Temporary Internet Files\Content.IE5\TZX6SZ8L\MC900048285[1].wmf"/>
            <p:cNvPicPr/>
            <p:nvPr/>
          </p:nvPicPr>
          <p:blipFill>
            <a:blip r:embed="rId1"/>
            <a:stretch/>
          </p:blipFill>
          <p:spPr>
            <a:xfrm>
              <a:off x="228600" y="2895480"/>
              <a:ext cx="342900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Oval 11"/>
            <p:cNvSpPr/>
            <p:nvPr/>
          </p:nvSpPr>
          <p:spPr>
            <a:xfrm>
              <a:off x="2133720" y="3276360"/>
              <a:ext cx="228600" cy="2286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2"/>
            <p:cNvSpPr/>
            <p:nvPr/>
          </p:nvSpPr>
          <p:spPr>
            <a:xfrm>
              <a:off x="2286000" y="4419360"/>
              <a:ext cx="228600" cy="2286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3"/>
            <p:cNvSpPr/>
            <p:nvPr/>
          </p:nvSpPr>
          <p:spPr>
            <a:xfrm>
              <a:off x="1371600" y="4647960"/>
              <a:ext cx="228600" cy="2286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4"/>
            <p:cNvSpPr/>
            <p:nvPr/>
          </p:nvSpPr>
          <p:spPr>
            <a:xfrm>
              <a:off x="2133720" y="5791320"/>
              <a:ext cx="228600" cy="2286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5"/>
            <p:cNvSpPr/>
            <p:nvPr/>
          </p:nvSpPr>
          <p:spPr>
            <a:xfrm>
              <a:off x="990360" y="5715000"/>
              <a:ext cx="228600" cy="2286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6"/>
            <p:cNvSpPr/>
            <p:nvPr/>
          </p:nvSpPr>
          <p:spPr>
            <a:xfrm>
              <a:off x="990360" y="3352680"/>
              <a:ext cx="228600" cy="2286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7"/>
            <p:cNvSpPr/>
            <p:nvPr/>
          </p:nvSpPr>
          <p:spPr>
            <a:xfrm>
              <a:off x="609480" y="4419360"/>
              <a:ext cx="228600" cy="2286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8"/>
            <p:cNvSpPr/>
            <p:nvPr/>
          </p:nvSpPr>
          <p:spPr>
            <a:xfrm>
              <a:off x="3048120" y="5029200"/>
              <a:ext cx="228600" cy="2286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9"/>
            <p:cNvSpPr/>
            <p:nvPr/>
          </p:nvSpPr>
          <p:spPr>
            <a:xfrm>
              <a:off x="3048120" y="3733560"/>
              <a:ext cx="228600" cy="2286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20"/>
            <p:cNvSpPr/>
            <p:nvPr/>
          </p:nvSpPr>
          <p:spPr>
            <a:xfrm>
              <a:off x="1828800" y="403848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21"/>
            <p:cNvSpPr/>
            <p:nvPr/>
          </p:nvSpPr>
          <p:spPr>
            <a:xfrm>
              <a:off x="1905120" y="457200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22"/>
            <p:cNvSpPr/>
            <p:nvPr/>
          </p:nvSpPr>
          <p:spPr>
            <a:xfrm>
              <a:off x="380880" y="487656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23"/>
            <p:cNvSpPr/>
            <p:nvPr/>
          </p:nvSpPr>
          <p:spPr>
            <a:xfrm>
              <a:off x="838080" y="419076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24"/>
            <p:cNvSpPr/>
            <p:nvPr/>
          </p:nvSpPr>
          <p:spPr>
            <a:xfrm>
              <a:off x="1066680" y="380988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25"/>
            <p:cNvSpPr/>
            <p:nvPr/>
          </p:nvSpPr>
          <p:spPr>
            <a:xfrm>
              <a:off x="1447920" y="365724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26"/>
            <p:cNvSpPr/>
            <p:nvPr/>
          </p:nvSpPr>
          <p:spPr>
            <a:xfrm>
              <a:off x="2057400" y="365724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27"/>
            <p:cNvSpPr/>
            <p:nvPr/>
          </p:nvSpPr>
          <p:spPr>
            <a:xfrm>
              <a:off x="2590920" y="365724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28"/>
            <p:cNvSpPr/>
            <p:nvPr/>
          </p:nvSpPr>
          <p:spPr>
            <a:xfrm>
              <a:off x="2362320" y="403848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29"/>
            <p:cNvSpPr/>
            <p:nvPr/>
          </p:nvSpPr>
          <p:spPr>
            <a:xfrm>
              <a:off x="2819520" y="426708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30"/>
            <p:cNvSpPr/>
            <p:nvPr/>
          </p:nvSpPr>
          <p:spPr>
            <a:xfrm>
              <a:off x="3276720" y="419076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31"/>
            <p:cNvSpPr/>
            <p:nvPr/>
          </p:nvSpPr>
          <p:spPr>
            <a:xfrm>
              <a:off x="2590920" y="320004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32"/>
            <p:cNvSpPr/>
            <p:nvPr/>
          </p:nvSpPr>
          <p:spPr>
            <a:xfrm>
              <a:off x="1828800" y="297144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33"/>
            <p:cNvSpPr/>
            <p:nvPr/>
          </p:nvSpPr>
          <p:spPr>
            <a:xfrm>
              <a:off x="1752480" y="335268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34"/>
            <p:cNvSpPr/>
            <p:nvPr/>
          </p:nvSpPr>
          <p:spPr>
            <a:xfrm>
              <a:off x="1218960" y="304776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35"/>
            <p:cNvSpPr/>
            <p:nvPr/>
          </p:nvSpPr>
          <p:spPr>
            <a:xfrm>
              <a:off x="685800" y="358128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36"/>
            <p:cNvSpPr/>
            <p:nvPr/>
          </p:nvSpPr>
          <p:spPr>
            <a:xfrm>
              <a:off x="457200" y="396216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37"/>
            <p:cNvSpPr/>
            <p:nvPr/>
          </p:nvSpPr>
          <p:spPr>
            <a:xfrm>
              <a:off x="1295280" y="411480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38"/>
            <p:cNvSpPr/>
            <p:nvPr/>
          </p:nvSpPr>
          <p:spPr>
            <a:xfrm>
              <a:off x="1523880" y="441936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39"/>
            <p:cNvSpPr/>
            <p:nvPr/>
          </p:nvSpPr>
          <p:spPr>
            <a:xfrm>
              <a:off x="990360" y="457200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40"/>
            <p:cNvSpPr/>
            <p:nvPr/>
          </p:nvSpPr>
          <p:spPr>
            <a:xfrm>
              <a:off x="2057400" y="495288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41"/>
            <p:cNvSpPr/>
            <p:nvPr/>
          </p:nvSpPr>
          <p:spPr>
            <a:xfrm>
              <a:off x="3048120" y="548640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42"/>
            <p:cNvSpPr/>
            <p:nvPr/>
          </p:nvSpPr>
          <p:spPr>
            <a:xfrm>
              <a:off x="3429000" y="502920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43"/>
            <p:cNvSpPr/>
            <p:nvPr/>
          </p:nvSpPr>
          <p:spPr>
            <a:xfrm>
              <a:off x="3429000" y="457200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44"/>
            <p:cNvSpPr/>
            <p:nvPr/>
          </p:nvSpPr>
          <p:spPr>
            <a:xfrm>
              <a:off x="3048120" y="464796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45"/>
            <p:cNvSpPr/>
            <p:nvPr/>
          </p:nvSpPr>
          <p:spPr>
            <a:xfrm>
              <a:off x="2971800" y="335268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46"/>
            <p:cNvSpPr/>
            <p:nvPr/>
          </p:nvSpPr>
          <p:spPr>
            <a:xfrm>
              <a:off x="2590920" y="472428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47"/>
            <p:cNvSpPr/>
            <p:nvPr/>
          </p:nvSpPr>
          <p:spPr>
            <a:xfrm>
              <a:off x="1752480" y="609588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48"/>
            <p:cNvSpPr/>
            <p:nvPr/>
          </p:nvSpPr>
          <p:spPr>
            <a:xfrm>
              <a:off x="1600200" y="571500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49"/>
            <p:cNvSpPr/>
            <p:nvPr/>
          </p:nvSpPr>
          <p:spPr>
            <a:xfrm>
              <a:off x="1752480" y="541008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50"/>
            <p:cNvSpPr/>
            <p:nvPr/>
          </p:nvSpPr>
          <p:spPr>
            <a:xfrm>
              <a:off x="1600200" y="510516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51"/>
            <p:cNvSpPr/>
            <p:nvPr/>
          </p:nvSpPr>
          <p:spPr>
            <a:xfrm>
              <a:off x="2133720" y="548640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52"/>
            <p:cNvSpPr/>
            <p:nvPr/>
          </p:nvSpPr>
          <p:spPr>
            <a:xfrm>
              <a:off x="2362320" y="518148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53"/>
            <p:cNvSpPr/>
            <p:nvPr/>
          </p:nvSpPr>
          <p:spPr>
            <a:xfrm>
              <a:off x="2743200" y="510516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54"/>
            <p:cNvSpPr/>
            <p:nvPr/>
          </p:nvSpPr>
          <p:spPr>
            <a:xfrm>
              <a:off x="2590920" y="548640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55"/>
            <p:cNvSpPr/>
            <p:nvPr/>
          </p:nvSpPr>
          <p:spPr>
            <a:xfrm>
              <a:off x="2590920" y="586728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56"/>
            <p:cNvSpPr/>
            <p:nvPr/>
          </p:nvSpPr>
          <p:spPr>
            <a:xfrm>
              <a:off x="1295280" y="601992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57"/>
            <p:cNvSpPr/>
            <p:nvPr/>
          </p:nvSpPr>
          <p:spPr>
            <a:xfrm>
              <a:off x="1218960" y="548640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58"/>
            <p:cNvSpPr/>
            <p:nvPr/>
          </p:nvSpPr>
          <p:spPr>
            <a:xfrm>
              <a:off x="609480" y="548640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59"/>
            <p:cNvSpPr/>
            <p:nvPr/>
          </p:nvSpPr>
          <p:spPr>
            <a:xfrm>
              <a:off x="1143000" y="495288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60"/>
            <p:cNvSpPr/>
            <p:nvPr/>
          </p:nvSpPr>
          <p:spPr>
            <a:xfrm>
              <a:off x="685800" y="510516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61"/>
            <p:cNvSpPr/>
            <p:nvPr/>
          </p:nvSpPr>
          <p:spPr>
            <a:xfrm>
              <a:off x="304560" y="441936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Straight Connector 63"/>
          <p:cNvSpPr/>
          <p:nvPr/>
        </p:nvSpPr>
        <p:spPr>
          <a:xfrm>
            <a:off x="0" y="25146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9" descr="logo homepage"/>
          <p:cNvPicPr/>
          <p:nvPr/>
        </p:nvPicPr>
        <p:blipFill>
          <a:blip r:embed="rId2"/>
          <a:stretch/>
        </p:blipFill>
        <p:spPr>
          <a:xfrm>
            <a:off x="6553080" y="1752480"/>
            <a:ext cx="2381400" cy="4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2"/>
          <p:cNvSpPr/>
          <p:nvPr/>
        </p:nvSpPr>
        <p:spPr>
          <a:xfrm>
            <a:off x="4572000" y="2209680"/>
            <a:ext cx="4343400" cy="1677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Theorem (ABCL’13):</a:t>
            </a: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re’s no symmetric, maximally-nontrivial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epistemic theory in dimensions d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4572000" y="4114800"/>
            <a:ext cx="43419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ur proof, in the general case, uses some measure theory and differential geometry </a:t>
            </a:r>
            <a:br>
              <a:rPr sz="2600"/>
            </a:b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(and strangely, currently works only with complex amplitudes, not real 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2"/>
          <p:cNvSpPr/>
          <p:nvPr/>
        </p:nvSpPr>
        <p:spPr>
          <a:xfrm>
            <a:off x="380880" y="228600"/>
            <a:ext cx="8458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n the other hand, suppose we want our theory to be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symmetric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—meaning th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7" name="Object 2"/>
          <p:cNvGraphicFramePr/>
          <p:nvPr/>
        </p:nvGraphicFramePr>
        <p:xfrm>
          <a:off x="3657600" y="1219320"/>
          <a:ext cx="5056200" cy="70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219320"/>
                    <a:ext cx="505620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Object 2"/>
          <p:cNvGraphicFramePr/>
          <p:nvPr/>
        </p:nvGraphicFramePr>
        <p:xfrm>
          <a:off x="380880" y="1295280"/>
          <a:ext cx="1944720" cy="62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295280"/>
                    <a:ext cx="194472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Text Box 2"/>
          <p:cNvSpPr/>
          <p:nvPr/>
        </p:nvSpPr>
        <p:spPr>
          <a:xfrm>
            <a:off x="2514600" y="129528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4" descr="C:\Users\owner\AppData\Local\Microsoft\Windows\Temporary Internet Files\Content.IE5\TZX6SZ8L\MC900048285[1].wmf"/>
          <p:cNvPicPr/>
          <p:nvPr/>
        </p:nvPicPr>
        <p:blipFill>
          <a:blip r:embed="rId5"/>
          <a:stretch/>
        </p:blipFill>
        <p:spPr>
          <a:xfrm>
            <a:off x="228600" y="228600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423" name="Donut 12"/>
          <p:cNvSpPr/>
          <p:nvPr/>
        </p:nvSpPr>
        <p:spPr>
          <a:xfrm>
            <a:off x="762120" y="2971800"/>
            <a:ext cx="2971800" cy="2971800"/>
          </a:xfrm>
          <a:custGeom>
            <a:avLst/>
            <a:gdLst>
              <a:gd name="textAreaLeft" fmla="*/ 435240 w 2971800"/>
              <a:gd name="textAreaRight" fmla="*/ 2536560 w 2971800"/>
              <a:gd name="textAreaTop" fmla="*/ 435240 h 2971800"/>
              <a:gd name="textAreaBottom" fmla="*/ 2536560 h 2971800"/>
            </a:gdLst>
            <a:ahLst/>
            <a:rect l="textAreaLeft" t="textAreaTop" r="textAreaRight" b="textAreaBottom"/>
            <a:pathLst>
              <a:path w="2971800" h="2971800">
                <a:moveTo>
                  <a:pt x="0" y="1485900"/>
                </a:moveTo>
                <a:lnTo>
                  <a:pt x="0" y="1485900"/>
                </a:lnTo>
                <a:arcTo wR="1485900" hR="1485900" stAng="-10799995" swAng="5400002"/>
                <a:lnTo>
                  <a:pt x="1485903" y="2"/>
                </a:lnTo>
                <a:arcTo wR="1485900" hR="1485900" stAng="-5399995" swAng="5400002"/>
                <a:lnTo>
                  <a:pt x="2971801" y="1485905"/>
                </a:lnTo>
                <a:arcTo wR="1485900" hR="1485900" stAng="0" swAng="5400002"/>
                <a:lnTo>
                  <a:pt x="1485900" y="2971805"/>
                </a:lnTo>
                <a:arcTo wR="1485900" hR="1485900" stAng="5400002" swAng="5400002"/>
                <a:close/>
                <a:moveTo>
                  <a:pt x="215307" y="1485900"/>
                </a:moveTo>
                <a:lnTo>
                  <a:pt x="215307" y="1485900"/>
                </a:lnTo>
                <a:arcTo wR="1270593" hR="1270593" stAng="-10799997" swAng="-5400000"/>
                <a:lnTo>
                  <a:pt x="1485899" y="2756494"/>
                </a:lnTo>
                <a:arcTo wR="1270593" hR="1270593" stAng="5400003" swAng="-5400000"/>
                <a:lnTo>
                  <a:pt x="2756493" y="1485902"/>
                </a:lnTo>
                <a:arcTo wR="1270593" hR="1270593" stAng="0" swAng="-5400000"/>
                <a:lnTo>
                  <a:pt x="1485900" y="215309"/>
                </a:lnTo>
                <a:arcTo wR="1270593" hR="1270593" stAng="-5399997" swAng="-5400000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Object 2"/>
          <p:cNvGraphicFramePr/>
          <p:nvPr/>
        </p:nvGraphicFramePr>
        <p:xfrm>
          <a:off x="1905120" y="4038480"/>
          <a:ext cx="698400" cy="685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25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05120" y="4038480"/>
                    <a:ext cx="6984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6" name="Donut 15"/>
          <p:cNvSpPr/>
          <p:nvPr/>
        </p:nvSpPr>
        <p:spPr>
          <a:xfrm>
            <a:off x="1219320" y="3429000"/>
            <a:ext cx="2057400" cy="205740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01320 h 2057400"/>
              <a:gd name="textAreaBottom" fmla="*/ 1756080 h 2057400"/>
            </a:gdLst>
            <a:ahLst/>
            <a:rect l="textAreaLeft" t="textAreaTop" r="textAreaRight" b="textAreaBottom"/>
            <a:pathLst>
              <a:path w="2057400" h="2057400">
                <a:moveTo>
                  <a:pt x="0" y="1028700"/>
                </a:moveTo>
                <a:lnTo>
                  <a:pt x="0" y="1028700"/>
                </a:lnTo>
                <a:arcTo wR="1028700" hR="1028700" stAng="-10799997" swAng="5400003"/>
                <a:lnTo>
                  <a:pt x="1028702" y="1"/>
                </a:lnTo>
                <a:arcTo wR="1028700" hR="1028700" stAng="-5399997" swAng="5400003"/>
                <a:lnTo>
                  <a:pt x="2057401" y="1028703"/>
                </a:lnTo>
                <a:arcTo wR="1028700" hR="1028700" stAng="0" swAng="5400003"/>
                <a:lnTo>
                  <a:pt x="1028700" y="2057403"/>
                </a:lnTo>
                <a:arcTo wR="1028700" hR="1028700" stAng="5400003" swAng="5400000"/>
                <a:close/>
                <a:moveTo>
                  <a:pt x="139800" y="1028700"/>
                </a:moveTo>
                <a:lnTo>
                  <a:pt x="139800" y="1028700"/>
                </a:lnTo>
                <a:arcTo wR="888900" hR="888900" stAng="-10799996" swAng="-5400000"/>
                <a:lnTo>
                  <a:pt x="1028699" y="1917601"/>
                </a:lnTo>
                <a:arcTo wR="888900" hR="888900" stAng="5400004" swAng="-5400000"/>
                <a:lnTo>
                  <a:pt x="1917600" y="1028702"/>
                </a:lnTo>
                <a:arcTo wR="888900" hR="888900" stAng="0" swAng="-5400000"/>
                <a:lnTo>
                  <a:pt x="1028700" y="139802"/>
                </a:lnTo>
                <a:arcTo wR="888900" hR="888900" stAng="-5399996" swAng="-5400000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Donut 16"/>
          <p:cNvSpPr/>
          <p:nvPr/>
        </p:nvSpPr>
        <p:spPr>
          <a:xfrm>
            <a:off x="1600200" y="3809880"/>
            <a:ext cx="1295280" cy="1295640"/>
          </a:xfrm>
          <a:custGeom>
            <a:avLst/>
            <a:gdLst>
              <a:gd name="textAreaLeft" fmla="*/ 189720 w 1295280"/>
              <a:gd name="textAreaRight" fmla="*/ 1105560 w 1295280"/>
              <a:gd name="textAreaTop" fmla="*/ 189720 h 1295640"/>
              <a:gd name="textAreaBottom" fmla="*/ 1105920 h 1295640"/>
            </a:gdLst>
            <a:ahLst/>
            <a:rect l="textAreaLeft" t="textAreaTop" r="textAreaRight" b="textAreaBottom"/>
            <a:pathLst>
              <a:path w="1295400" h="1295400">
                <a:moveTo>
                  <a:pt x="0" y="647700"/>
                </a:moveTo>
                <a:lnTo>
                  <a:pt x="0" y="647700"/>
                </a:lnTo>
                <a:arcTo wR="647700" hR="647700" stAng="-10799995" swAng="5400000"/>
                <a:lnTo>
                  <a:pt x="647701" y="1"/>
                </a:lnTo>
                <a:arcTo wR="647700" hR="647700" stAng="-5399995" swAng="5400000"/>
                <a:lnTo>
                  <a:pt x="1295400" y="647702"/>
                </a:lnTo>
                <a:arcTo wR="647700" hR="647700" stAng="0" swAng="5400000"/>
                <a:lnTo>
                  <a:pt x="647700" y="1295402"/>
                </a:lnTo>
                <a:arcTo wR="647700" hR="647700" stAng="5400000" swAng="5400005"/>
                <a:close/>
                <a:moveTo>
                  <a:pt x="88022" y="647700"/>
                </a:moveTo>
                <a:lnTo>
                  <a:pt x="88022" y="647700"/>
                </a:lnTo>
                <a:arcTo wR="559678" hR="559678" stAng="-10799994" swAng="-5400000"/>
                <a:lnTo>
                  <a:pt x="647699" y="1207379"/>
                </a:lnTo>
                <a:arcTo wR="559678" hR="559678" stAng="5400000" swAng="-5400000"/>
                <a:lnTo>
                  <a:pt x="1207377" y="647701"/>
                </a:lnTo>
                <a:arcTo wR="559678" hR="559678" stAng="0" swAng="-5400000"/>
                <a:lnTo>
                  <a:pt x="647699" y="88023"/>
                </a:lnTo>
                <a:arcTo wR="559678" hR="559678" stAng="-5399994" swAng="-5400000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8" name="Object 2"/>
          <p:cNvGraphicFramePr/>
          <p:nvPr/>
        </p:nvGraphicFramePr>
        <p:xfrm>
          <a:off x="2438280" y="2590920"/>
          <a:ext cx="625680" cy="498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29" name="Object 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438280" y="2590920"/>
                    <a:ext cx="625680" cy="49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2"/>
          <p:cNvSpPr/>
          <p:nvPr/>
        </p:nvSpPr>
        <p:spPr>
          <a:xfrm>
            <a:off x="380880" y="304920"/>
            <a:ext cx="838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If scalable QC is indeed possible, are there any experiments that could help demonstrate that—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short of actually building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a general-purpose Q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2"/>
          <p:cNvSpPr/>
          <p:nvPr/>
        </p:nvSpPr>
        <p:spPr>
          <a:xfrm>
            <a:off x="380880" y="1828800"/>
            <a:ext cx="7848720" cy="41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Some pos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ep 1 qubit coherent for an extremely long tim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(Current record: ~15 minutes in ion tra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ntum adiabatic optimiz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(the “D-Wave approach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8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sonSampling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(and other restricted QC proposa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3" descr=""/>
          <p:cNvPicPr/>
          <p:nvPr/>
        </p:nvPicPr>
        <p:blipFill>
          <a:blip r:embed="rId1"/>
          <a:stretch/>
        </p:blipFill>
        <p:spPr>
          <a:xfrm>
            <a:off x="5562720" y="3581280"/>
            <a:ext cx="1477800" cy="13716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4" descr=""/>
          <p:cNvPicPr/>
          <p:nvPr/>
        </p:nvPicPr>
        <p:blipFill>
          <a:blip r:embed="rId2"/>
          <a:stretch/>
        </p:blipFill>
        <p:spPr>
          <a:xfrm>
            <a:off x="6172200" y="5181480"/>
            <a:ext cx="168912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2"/>
          <p:cNvSpPr/>
          <p:nvPr/>
        </p:nvSpPr>
        <p:spPr>
          <a:xfrm>
            <a:off x="228600" y="152280"/>
            <a:ext cx="8686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BosonSampling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Calibri"/>
              </a:rPr>
              <a:t>[A.-Arkhipov 2011]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“For when you only need your QC to overthrow the Extended Church-Turing Thesis, not do anything usefu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"/>
          <p:cNvSpPr/>
          <p:nvPr/>
        </p:nvSpPr>
        <p:spPr>
          <a:xfrm>
            <a:off x="304920" y="1828800"/>
            <a:ext cx="861048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 identical photons are generated, sent through a network of beamsplitters, then measured to see where they 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The result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 sample from a distribution {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}, such that each probability 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equals |Per(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|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for some known n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 complex matrix 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600" spc="-1" strike="noStrike">
                <a:solidFill>
                  <a:srgbClr val="008000"/>
                </a:solidFill>
                <a:latin typeface="Calibri"/>
              </a:rPr>
              <a:t>(Permanent: Famous #P-complete proble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Theor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 classical computer can’t sample the same distribution in polynomial time, unless P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#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=BPP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We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conjectur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that this extends even to </a:t>
            </a:r>
            <a:r>
              <a:rPr b="1" lang="en-US" sz="2200" spc="-1" strike="noStrike">
                <a:solidFill>
                  <a:srgbClr val="c00000"/>
                </a:solidFill>
                <a:latin typeface="Calibri"/>
                <a:ea typeface="Arial"/>
              </a:rPr>
              <a:t>approximate/nois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classical simulations.  Leads to a beautiful complexity-theoretic open problem!  Is it #P-complete to approximate Per(A), with high probability over an n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n matrix A of independent N(0,1) Gaussian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2"/>
          <p:cNvSpPr/>
          <p:nvPr/>
        </p:nvSpPr>
        <p:spPr>
          <a:xfrm>
            <a:off x="304920" y="3049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nt BosonSampling demonstrations with 3-4 photons </a:t>
            </a: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[Broome et al., Tillmann et al., Walmsley et al., Crespi et al.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3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3735360" cy="2495520"/>
          </a:xfrm>
          <a:prstGeom prst="rect">
            <a:avLst/>
          </a:prstGeom>
          <a:ln w="0">
            <a:noFill/>
          </a:ln>
        </p:spPr>
      </p:pic>
      <p:sp>
        <p:nvSpPr>
          <p:cNvPr id="438" name="Text Box 2"/>
          <p:cNvSpPr/>
          <p:nvPr/>
        </p:nvSpPr>
        <p:spPr>
          <a:xfrm>
            <a:off x="304920" y="4419720"/>
            <a:ext cx="838188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his could be scaled to ~20-30 photons, it would probably BosonSample faster than a classical simulation of itself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Main engineering challenge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Deterministic generation of single photons, for synchronized arrival at the detec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4" descr=""/>
          <p:cNvPicPr/>
          <p:nvPr/>
        </p:nvPicPr>
        <p:blipFill>
          <a:blip r:embed="rId2"/>
          <a:stretch/>
        </p:blipFill>
        <p:spPr>
          <a:xfrm>
            <a:off x="4495680" y="2743200"/>
            <a:ext cx="4181760" cy="124776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5" descr=""/>
          <p:cNvPicPr/>
          <p:nvPr/>
        </p:nvPicPr>
        <p:blipFill>
          <a:blip r:embed="rId3"/>
          <a:stretch/>
        </p:blipFill>
        <p:spPr>
          <a:xfrm>
            <a:off x="5181480" y="1676520"/>
            <a:ext cx="2678400" cy="8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2"/>
          <p:cNvSpPr/>
          <p:nvPr/>
        </p:nvSpPr>
        <p:spPr>
          <a:xfrm>
            <a:off x="228600" y="3049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2"/>
          <p:cNvSpPr/>
          <p:nvPr/>
        </p:nvSpPr>
        <p:spPr>
          <a:xfrm>
            <a:off x="380880" y="1219320"/>
            <a:ext cx="838224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don’t know for sure that scalable QC i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I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know that the popular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ram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question gets it exactly backward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Believ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at QC can work doesn’t make you a starry-eyed visionary, but a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scientific conserv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Doubt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at QC can work doesn’t make you a cautious realist, but a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scientific rad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eft Brace 8"/>
          <p:cNvSpPr/>
          <p:nvPr/>
        </p:nvSpPr>
        <p:spPr>
          <a:xfrm>
            <a:off x="380880" y="2895480"/>
            <a:ext cx="457200" cy="2057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2057400"/>
              <a:gd name="textAreaBottom" fmla="*/ 204552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1"/>
          <p:cNvSpPr/>
          <p:nvPr/>
        </p:nvSpPr>
        <p:spPr>
          <a:xfrm>
            <a:off x="228600" y="990720"/>
            <a:ext cx="8610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ike probability theory, but over the complex number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Quantum Mechanics in 1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7"/>
          <p:cNvGrpSpPr/>
          <p:nvPr/>
        </p:nvGrpSpPr>
        <p:grpSpPr>
          <a:xfrm>
            <a:off x="4724280" y="1600200"/>
            <a:ext cx="4043520" cy="5229720"/>
            <a:chOff x="4724280" y="1600200"/>
            <a:chExt cx="4043520" cy="5229720"/>
          </a:xfrm>
        </p:grpSpPr>
        <mc:AlternateContent>
          <mc:Choice xmlns:a14="http://schemas.microsoft.com/office/drawing/2010/main" Requires="a14">
            <p:sp>
              <p:nvSpPr>
                <p:cNvPr id="61" name="Object 13"/>
                <p:cNvSpPr txBox="1"/>
                <p:nvPr/>
              </p:nvSpPr>
              <p:spPr>
                <a:xfrm>
                  <a:off x="6934320" y="2286000"/>
                  <a:ext cx="780840" cy="161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⋮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2" name="Object 14"/>
                <p:cNvSpPr txBox="1"/>
                <p:nvPr/>
              </p:nvSpPr>
              <p:spPr>
                <a:xfrm>
                  <a:off x="4848120" y="2286000"/>
                  <a:ext cx="2170080" cy="161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t xml:space="preserve">⋯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⋮</m:t>
                                </m:r>
                              </m:e>
                              <m:e>
                                <m:r>
                                  <m:t xml:space="preserve">⋱</m:t>
                                </m:r>
                              </m:e>
                              <m:e>
                                <m:r>
                                  <m:t xml:space="preserve">⋮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t xml:space="preserve">⋯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n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" name="Object 15"/>
                <p:cNvSpPr txBox="1"/>
                <p:nvPr/>
              </p:nvSpPr>
              <p:spPr>
                <a:xfrm>
                  <a:off x="7696440" y="2286000"/>
                  <a:ext cx="1071360" cy="161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⋮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4" name="Object 1"/>
                <p:cNvSpPr txBox="1"/>
                <p:nvPr/>
              </p:nvSpPr>
              <p:spPr>
                <a:xfrm>
                  <a:off x="5520960" y="3962520"/>
                  <a:ext cx="2835360" cy="98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C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p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nary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" name="Rectangle 41"/>
            <p:cNvSpPr/>
            <p:nvPr/>
          </p:nvSpPr>
          <p:spPr>
            <a:xfrm>
              <a:off x="4876560" y="1600200"/>
              <a:ext cx="3886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00000"/>
                  </a:solidFill>
                  <a:latin typeface="Calibri"/>
                </a:rPr>
                <a:t>Quantum Mechanics: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41"/>
            <p:cNvSpPr/>
            <p:nvPr/>
          </p:nvSpPr>
          <p:spPr>
            <a:xfrm>
              <a:off x="4724280" y="5029560"/>
              <a:ext cx="3962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Linear transformations that conserve 2-norm of amplitude vectors: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Unitary matric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18"/>
          <p:cNvGrpSpPr/>
          <p:nvPr/>
        </p:nvGrpSpPr>
        <p:grpSpPr>
          <a:xfrm>
            <a:off x="457200" y="1600200"/>
            <a:ext cx="3984480" cy="5229720"/>
            <a:chOff x="457200" y="1600200"/>
            <a:chExt cx="3984480" cy="5229720"/>
          </a:xfrm>
        </p:grpSpPr>
        <mc:AlternateContent>
          <mc:Choice xmlns:a14="http://schemas.microsoft.com/office/drawing/2010/main" Requires="a14">
            <p:sp>
              <p:nvSpPr>
                <p:cNvPr id="68" name="Object 1"/>
                <p:cNvSpPr txBox="1"/>
                <p:nvPr/>
              </p:nvSpPr>
              <p:spPr>
                <a:xfrm>
                  <a:off x="2666880" y="2286000"/>
                  <a:ext cx="780840" cy="161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⋮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9" name="Object 11"/>
                <p:cNvSpPr txBox="1"/>
                <p:nvPr/>
              </p:nvSpPr>
              <p:spPr>
                <a:xfrm>
                  <a:off x="609480" y="2286000"/>
                  <a:ext cx="2111400" cy="161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t xml:space="preserve">⋯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⋮</m:t>
                                </m:r>
                              </m:e>
                              <m:e>
                                <m:r>
                                  <m:t xml:space="preserve">⋱</m:t>
                                </m:r>
                              </m:e>
                              <m:e>
                                <m:r>
                                  <m:t xml:space="preserve">⋮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t xml:space="preserve">⋯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n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" name="Object 12"/>
                <p:cNvSpPr txBox="1"/>
                <p:nvPr/>
              </p:nvSpPr>
              <p:spPr>
                <a:xfrm>
                  <a:off x="3429000" y="2286000"/>
                  <a:ext cx="1012680" cy="161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⋮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" name="Object 1"/>
                <p:cNvSpPr txBox="1"/>
                <p:nvPr/>
              </p:nvSpPr>
              <p:spPr>
                <a:xfrm>
                  <a:off x="1600200" y="3962520"/>
                  <a:ext cx="2574720" cy="98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≥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2" name="Rectangle 41"/>
            <p:cNvSpPr/>
            <p:nvPr/>
          </p:nvSpPr>
          <p:spPr>
            <a:xfrm>
              <a:off x="761760" y="1600200"/>
              <a:ext cx="3505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00000"/>
                  </a:solidFill>
                  <a:latin typeface="Calibri"/>
                </a:rPr>
                <a:t>Probability Theory: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41"/>
            <p:cNvSpPr/>
            <p:nvPr/>
          </p:nvSpPr>
          <p:spPr>
            <a:xfrm>
              <a:off x="457200" y="5029560"/>
              <a:ext cx="38862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Linear transformations that conserve 1-norm of probability vectors: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Stochastic matric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Line 16"/>
          <p:cNvSpPr/>
          <p:nvPr/>
        </p:nvSpPr>
        <p:spPr>
          <a:xfrm>
            <a:off x="4648320" y="1600200"/>
            <a:ext cx="0" cy="5257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1"/>
          <p:cNvSpPr/>
          <p:nvPr/>
        </p:nvSpPr>
        <p:spPr>
          <a:xfrm>
            <a:off x="609480" y="838080"/>
            <a:ext cx="7925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ource of all quantum weirdnes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Inter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Object 2"/>
          <p:cNvGraphicFramePr/>
          <p:nvPr/>
        </p:nvGraphicFramePr>
        <p:xfrm>
          <a:off x="457200" y="1600200"/>
          <a:ext cx="3578400" cy="19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3578400" cy="19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" name="Group 3"/>
          <p:cNvGrpSpPr/>
          <p:nvPr/>
        </p:nvGrpSpPr>
        <p:grpSpPr>
          <a:xfrm>
            <a:off x="4572000" y="2743200"/>
            <a:ext cx="4138560" cy="3657600"/>
            <a:chOff x="4572000" y="2743200"/>
            <a:chExt cx="4138560" cy="3657600"/>
          </a:xfrm>
        </p:grpSpPr>
        <p:sp>
          <p:nvSpPr>
            <p:cNvPr id="80" name="Oval 4"/>
            <p:cNvSpPr/>
            <p:nvPr/>
          </p:nvSpPr>
          <p:spPr>
            <a:xfrm>
              <a:off x="5114880" y="3352680"/>
              <a:ext cx="3047760" cy="3048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5"/>
            <p:cNvSpPr/>
            <p:nvPr/>
          </p:nvSpPr>
          <p:spPr>
            <a:xfrm>
              <a:off x="5114880" y="4876920"/>
              <a:ext cx="3047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6"/>
            <p:cNvSpPr/>
            <p:nvPr/>
          </p:nvSpPr>
          <p:spPr>
            <a:xfrm>
              <a:off x="6638760" y="3352680"/>
              <a:ext cx="1440" cy="304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3" name="Object 7"/>
            <p:cNvGraphicFramePr/>
            <p:nvPr/>
          </p:nvGraphicFramePr>
          <p:xfrm>
            <a:off x="8162640" y="4495680"/>
            <a:ext cx="547920" cy="685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4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162640" y="4495680"/>
                      <a:ext cx="54792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5" name="Object 8"/>
            <p:cNvGraphicFramePr/>
            <p:nvPr/>
          </p:nvGraphicFramePr>
          <p:xfrm>
            <a:off x="6427800" y="2743200"/>
            <a:ext cx="512640" cy="685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6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427800" y="2743200"/>
                      <a:ext cx="51264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7" name="Object 9"/>
            <p:cNvGraphicFramePr/>
            <p:nvPr/>
          </p:nvGraphicFramePr>
          <p:xfrm>
            <a:off x="7553160" y="3200400"/>
            <a:ext cx="868320" cy="739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8" name="Object 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53160" y="3200400"/>
                      <a:ext cx="868320" cy="7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9" name="Object 10"/>
            <p:cNvGraphicFramePr/>
            <p:nvPr/>
          </p:nvGraphicFramePr>
          <p:xfrm>
            <a:off x="4572000" y="3189240"/>
            <a:ext cx="1041120" cy="762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0" name="Object 1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572000" y="3189240"/>
                      <a:ext cx="1041120" cy="76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1" name="Group 11"/>
          <p:cNvGrpSpPr/>
          <p:nvPr/>
        </p:nvGrpSpPr>
        <p:grpSpPr>
          <a:xfrm>
            <a:off x="5114880" y="4800600"/>
            <a:ext cx="3047760" cy="228600"/>
            <a:chOff x="5114880" y="4800600"/>
            <a:chExt cx="3047760" cy="228600"/>
          </a:xfrm>
        </p:grpSpPr>
        <p:sp>
          <p:nvSpPr>
            <p:cNvPr id="92" name="Line 12"/>
            <p:cNvSpPr/>
            <p:nvPr/>
          </p:nvSpPr>
          <p:spPr>
            <a:xfrm>
              <a:off x="6638760" y="4876920"/>
              <a:ext cx="15238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3"/>
            <p:cNvSpPr/>
            <p:nvPr/>
          </p:nvSpPr>
          <p:spPr>
            <a:xfrm>
              <a:off x="5114880" y="4800600"/>
              <a:ext cx="1523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4" name="Object 14"/>
          <p:cNvGraphicFramePr/>
          <p:nvPr/>
        </p:nvGraphicFramePr>
        <p:xfrm>
          <a:off x="457200" y="1600200"/>
          <a:ext cx="3578400" cy="1954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5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" y="1600200"/>
                    <a:ext cx="3578400" cy="19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6" name="Picture 18" descr="http://www.scottaaronson.com/democritus/interfere.gif"/>
          <p:cNvPicPr/>
          <p:nvPr/>
        </p:nvPicPr>
        <p:blipFill>
          <a:blip r:embed="rId13"/>
          <a:stretch/>
        </p:blipFill>
        <p:spPr>
          <a:xfrm>
            <a:off x="533520" y="3733920"/>
            <a:ext cx="3983040" cy="27432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1"/>
          <p:cNvSpPr/>
          <p:nvPr/>
        </p:nvSpPr>
        <p:spPr>
          <a:xfrm>
            <a:off x="4343400" y="1600200"/>
            <a:ext cx="4495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ssible states of a single quantum bit, or </a:t>
            </a: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qubi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1"/>
          <p:cNvSpPr/>
          <p:nvPr/>
        </p:nvSpPr>
        <p:spPr>
          <a:xfrm>
            <a:off x="380880" y="914400"/>
            <a:ext cx="838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as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ether it’s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it answers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with probability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th probability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it sticks with its answer from then 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70"/>
          <p:cNvGrpSpPr/>
          <p:nvPr/>
        </p:nvGrpSpPr>
        <p:grpSpPr>
          <a:xfrm>
            <a:off x="1828800" y="4191120"/>
            <a:ext cx="2666880" cy="1371600"/>
            <a:chOff x="1828800" y="4191120"/>
            <a:chExt cx="2666880" cy="1371600"/>
          </a:xfrm>
        </p:grpSpPr>
        <p:sp>
          <p:nvSpPr>
            <p:cNvPr id="101" name="Line 12"/>
            <p:cNvSpPr/>
            <p:nvPr/>
          </p:nvSpPr>
          <p:spPr>
            <a:xfrm flipV="1">
              <a:off x="1828800" y="4191120"/>
              <a:ext cx="2666880" cy="533520"/>
            </a:xfrm>
            <a:prstGeom prst="line">
              <a:avLst/>
            </a:prstGeom>
            <a:ln w="5724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3"/>
            <p:cNvSpPr/>
            <p:nvPr/>
          </p:nvSpPr>
          <p:spPr>
            <a:xfrm>
              <a:off x="1828800" y="5029200"/>
              <a:ext cx="2590920" cy="533520"/>
            </a:xfrm>
            <a:prstGeom prst="line">
              <a:avLst/>
            </a:prstGeom>
            <a:ln w="5724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Line 16"/>
          <p:cNvSpPr/>
          <p:nvPr/>
        </p:nvSpPr>
        <p:spPr>
          <a:xfrm>
            <a:off x="6172200" y="3200400"/>
            <a:ext cx="0" cy="335268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69"/>
          <p:cNvGrpSpPr/>
          <p:nvPr/>
        </p:nvGrpSpPr>
        <p:grpSpPr>
          <a:xfrm>
            <a:off x="4876920" y="3276720"/>
            <a:ext cx="990360" cy="2895480"/>
            <a:chOff x="4876920" y="3276720"/>
            <a:chExt cx="990360" cy="2895480"/>
          </a:xfrm>
        </p:grpSpPr>
        <p:sp>
          <p:nvSpPr>
            <p:cNvPr id="105" name="Line 20"/>
            <p:cNvSpPr/>
            <p:nvPr/>
          </p:nvSpPr>
          <p:spPr>
            <a:xfrm>
              <a:off x="4952880" y="4114800"/>
              <a:ext cx="914400" cy="228600"/>
            </a:xfrm>
            <a:prstGeom prst="line">
              <a:avLst/>
            </a:prstGeom>
            <a:ln w="5724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1"/>
            <p:cNvSpPr/>
            <p:nvPr/>
          </p:nvSpPr>
          <p:spPr>
            <a:xfrm>
              <a:off x="4952880" y="4343400"/>
              <a:ext cx="685800" cy="380880"/>
            </a:xfrm>
            <a:prstGeom prst="line">
              <a:avLst/>
            </a:prstGeom>
            <a:ln w="5724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2"/>
            <p:cNvSpPr/>
            <p:nvPr/>
          </p:nvSpPr>
          <p:spPr>
            <a:xfrm flipV="1">
              <a:off x="4952880" y="3733560"/>
              <a:ext cx="838080" cy="75960"/>
            </a:xfrm>
            <a:prstGeom prst="line">
              <a:avLst/>
            </a:prstGeom>
            <a:ln w="5724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3"/>
            <p:cNvSpPr/>
            <p:nvPr/>
          </p:nvSpPr>
          <p:spPr>
            <a:xfrm flipV="1">
              <a:off x="4876920" y="3276720"/>
              <a:ext cx="838080" cy="380880"/>
            </a:xfrm>
            <a:prstGeom prst="line">
              <a:avLst/>
            </a:prstGeom>
            <a:ln w="5724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5"/>
            <p:cNvSpPr/>
            <p:nvPr/>
          </p:nvSpPr>
          <p:spPr>
            <a:xfrm>
              <a:off x="4952880" y="5562720"/>
              <a:ext cx="914400" cy="228600"/>
            </a:xfrm>
            <a:prstGeom prst="line">
              <a:avLst/>
            </a:prstGeom>
            <a:ln w="5724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6"/>
            <p:cNvSpPr/>
            <p:nvPr/>
          </p:nvSpPr>
          <p:spPr>
            <a:xfrm>
              <a:off x="4952880" y="5791320"/>
              <a:ext cx="685800" cy="380880"/>
            </a:xfrm>
            <a:prstGeom prst="line">
              <a:avLst/>
            </a:prstGeom>
            <a:ln w="5724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27"/>
            <p:cNvSpPr/>
            <p:nvPr/>
          </p:nvSpPr>
          <p:spPr>
            <a:xfrm flipV="1">
              <a:off x="4952880" y="5181480"/>
              <a:ext cx="838080" cy="75960"/>
            </a:xfrm>
            <a:prstGeom prst="line">
              <a:avLst/>
            </a:prstGeom>
            <a:ln w="5724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28"/>
            <p:cNvSpPr/>
            <p:nvPr/>
          </p:nvSpPr>
          <p:spPr>
            <a:xfrm flipV="1">
              <a:off x="4876920" y="4724280"/>
              <a:ext cx="838080" cy="380880"/>
            </a:xfrm>
            <a:prstGeom prst="line">
              <a:avLst/>
            </a:prstGeom>
            <a:ln w="5724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Picture 17" descr=""/>
          <p:cNvPicPr/>
          <p:nvPr/>
        </p:nvPicPr>
        <p:blipFill>
          <a:blip r:embed="rId1"/>
          <a:srcRect l="0" t="6720" r="0" b="6720"/>
          <a:stretch/>
        </p:blipFill>
        <p:spPr>
          <a:xfrm>
            <a:off x="6248520" y="3048120"/>
            <a:ext cx="1805040" cy="362736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41"/>
          <p:cNvSpPr/>
          <p:nvPr/>
        </p:nvSpPr>
        <p:spPr>
          <a:xfrm>
            <a:off x="380880" y="236232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Measurement is a “destructive” proc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72"/>
          <p:cNvGrpSpPr/>
          <p:nvPr/>
        </p:nvGrpSpPr>
        <p:grpSpPr>
          <a:xfrm>
            <a:off x="4572000" y="3200400"/>
            <a:ext cx="0" cy="3352680"/>
            <a:chOff x="4572000" y="3200400"/>
            <a:chExt cx="0" cy="3352680"/>
          </a:xfrm>
        </p:grpSpPr>
        <p:sp>
          <p:nvSpPr>
            <p:cNvPr id="116" name="Line 9"/>
            <p:cNvSpPr/>
            <p:nvPr/>
          </p:nvSpPr>
          <p:spPr>
            <a:xfrm>
              <a:off x="4572000" y="4419360"/>
              <a:ext cx="0" cy="91440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1"/>
            <p:cNvSpPr/>
            <p:nvPr/>
          </p:nvSpPr>
          <p:spPr>
            <a:xfrm>
              <a:off x="4572000" y="5791320"/>
              <a:ext cx="0" cy="7617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1"/>
            <p:cNvSpPr/>
            <p:nvPr/>
          </p:nvSpPr>
          <p:spPr>
            <a:xfrm>
              <a:off x="4572000" y="3200400"/>
              <a:ext cx="0" cy="7617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66"/>
          <p:cNvGrpSpPr/>
          <p:nvPr/>
        </p:nvGrpSpPr>
        <p:grpSpPr>
          <a:xfrm>
            <a:off x="1143000" y="4572000"/>
            <a:ext cx="609480" cy="609480"/>
            <a:chOff x="1143000" y="4572000"/>
            <a:chExt cx="609480" cy="609480"/>
          </a:xfrm>
        </p:grpSpPr>
        <p:pic>
          <p:nvPicPr>
            <p:cNvPr id="120" name="Picture 44" descr="MCDD01775_0000[1]"/>
            <p:cNvPicPr/>
            <p:nvPr/>
          </p:nvPicPr>
          <p:blipFill>
            <a:blip r:embed="rId2"/>
            <a:stretch/>
          </p:blipFill>
          <p:spPr>
            <a:xfrm>
              <a:off x="1143000" y="457200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AutoShape 45"/>
            <p:cNvSpPr/>
            <p:nvPr/>
          </p:nvSpPr>
          <p:spPr>
            <a:xfrm rot="16200000">
              <a:off x="1357200" y="4830840"/>
              <a:ext cx="178920" cy="357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137" y="1197"/>
                    <a:pt x="6674" y="5080"/>
                    <a:pt x="6674" y="10800"/>
                  </a:cubicBezTo>
                  <a:cubicBezTo>
                    <a:pt x="6674" y="16520"/>
                    <a:pt x="14137" y="20403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Group 64"/>
            <p:cNvGrpSpPr/>
            <p:nvPr/>
          </p:nvGrpSpPr>
          <p:grpSpPr>
            <a:xfrm>
              <a:off x="1200960" y="4728960"/>
              <a:ext cx="235800" cy="144000"/>
              <a:chOff x="1200960" y="4728960"/>
              <a:chExt cx="235800" cy="144000"/>
            </a:xfrm>
          </p:grpSpPr>
          <p:sp>
            <p:nvSpPr>
              <p:cNvPr id="123" name="Freeform 47"/>
              <p:cNvSpPr/>
              <p:nvPr/>
            </p:nvSpPr>
            <p:spPr>
              <a:xfrm>
                <a:off x="1200960" y="4728960"/>
                <a:ext cx="235800" cy="144000"/>
              </a:xfrm>
              <a:custGeom>
                <a:avLst/>
                <a:gdLst>
                  <a:gd name="textAreaLeft" fmla="*/ 0 w 235800"/>
                  <a:gd name="textAreaRight" fmla="*/ 236160 w 2358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48"/>
              <p:cNvSpPr/>
              <p:nvPr/>
            </p:nvSpPr>
            <p:spPr>
              <a:xfrm>
                <a:off x="1218600" y="4744800"/>
                <a:ext cx="200160" cy="11268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49"/>
              <p:cNvSpPr/>
              <p:nvPr/>
            </p:nvSpPr>
            <p:spPr>
              <a:xfrm>
                <a:off x="1269000" y="4753440"/>
                <a:ext cx="96120" cy="9540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50"/>
              <p:cNvSpPr/>
              <p:nvPr/>
            </p:nvSpPr>
            <p:spPr>
              <a:xfrm>
                <a:off x="1324440" y="4781880"/>
                <a:ext cx="15480" cy="158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Group 65"/>
            <p:cNvGrpSpPr/>
            <p:nvPr/>
          </p:nvGrpSpPr>
          <p:grpSpPr>
            <a:xfrm>
              <a:off x="1488600" y="4728960"/>
              <a:ext cx="235800" cy="144000"/>
              <a:chOff x="1488600" y="4728960"/>
              <a:chExt cx="235800" cy="144000"/>
            </a:xfrm>
          </p:grpSpPr>
          <p:sp>
            <p:nvSpPr>
              <p:cNvPr id="128" name="Freeform 59"/>
              <p:cNvSpPr/>
              <p:nvPr/>
            </p:nvSpPr>
            <p:spPr>
              <a:xfrm>
                <a:off x="1488600" y="4728960"/>
                <a:ext cx="235800" cy="144000"/>
              </a:xfrm>
              <a:custGeom>
                <a:avLst/>
                <a:gdLst>
                  <a:gd name="textAreaLeft" fmla="*/ 0 w 235800"/>
                  <a:gd name="textAreaRight" fmla="*/ 236160 w 2358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60"/>
              <p:cNvSpPr/>
              <p:nvPr/>
            </p:nvSpPr>
            <p:spPr>
              <a:xfrm>
                <a:off x="1506240" y="4744800"/>
                <a:ext cx="200160" cy="11268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61"/>
              <p:cNvSpPr/>
              <p:nvPr/>
            </p:nvSpPr>
            <p:spPr>
              <a:xfrm>
                <a:off x="1556640" y="4753440"/>
                <a:ext cx="96120" cy="9540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62"/>
              <p:cNvSpPr/>
              <p:nvPr/>
            </p:nvSpPr>
            <p:spPr>
              <a:xfrm>
                <a:off x="1612080" y="4781880"/>
                <a:ext cx="15480" cy="158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" name="Group 46"/>
          <p:cNvGrpSpPr/>
          <p:nvPr/>
        </p:nvGrpSpPr>
        <p:grpSpPr>
          <a:xfrm>
            <a:off x="2895480" y="2895480"/>
            <a:ext cx="1426680" cy="1109160"/>
            <a:chOff x="2895480" y="2895480"/>
            <a:chExt cx="1426680" cy="1109160"/>
          </a:xfrm>
        </p:grpSpPr>
        <p:sp>
          <p:nvSpPr>
            <p:cNvPr id="133" name="Freeform 47"/>
            <p:cNvSpPr/>
            <p:nvPr/>
          </p:nvSpPr>
          <p:spPr>
            <a:xfrm>
              <a:off x="2940840" y="3198960"/>
              <a:ext cx="1320840" cy="805680"/>
            </a:xfrm>
            <a:custGeom>
              <a:avLst/>
              <a:gdLst>
                <a:gd name="textAreaLeft" fmla="*/ 0 w 1320840"/>
                <a:gd name="textAreaRight" fmla="*/ 1321200 w 1320840"/>
                <a:gd name="textAreaTop" fmla="*/ 0 h 805680"/>
                <a:gd name="textAreaBottom" fmla="*/ 806040 h 805680"/>
              </a:gdLst>
              <a:ahLst/>
              <a:rect l="textAreaLeft" t="textAreaTop" r="textAreaRight" b="textAreaBottom"/>
              <a:pathLst>
                <a:path w="817" h="505">
                  <a:moveTo>
                    <a:pt x="802" y="218"/>
                  </a:moveTo>
                  <a:lnTo>
                    <a:pt x="790" y="198"/>
                  </a:lnTo>
                  <a:lnTo>
                    <a:pt x="776" y="179"/>
                  </a:lnTo>
                  <a:lnTo>
                    <a:pt x="758" y="159"/>
                  </a:lnTo>
                  <a:lnTo>
                    <a:pt x="741" y="139"/>
                  </a:lnTo>
                  <a:lnTo>
                    <a:pt x="720" y="121"/>
                  </a:lnTo>
                  <a:lnTo>
                    <a:pt x="698" y="103"/>
                  </a:lnTo>
                  <a:lnTo>
                    <a:pt x="675" y="85"/>
                  </a:lnTo>
                  <a:lnTo>
                    <a:pt x="651" y="69"/>
                  </a:lnTo>
                  <a:lnTo>
                    <a:pt x="625" y="54"/>
                  </a:lnTo>
                  <a:lnTo>
                    <a:pt x="597" y="42"/>
                  </a:lnTo>
                  <a:lnTo>
                    <a:pt x="568" y="30"/>
                  </a:lnTo>
                  <a:lnTo>
                    <a:pt x="538" y="20"/>
                  </a:lnTo>
                  <a:lnTo>
                    <a:pt x="508" y="12"/>
                  </a:lnTo>
                  <a:lnTo>
                    <a:pt x="476" y="5"/>
                  </a:lnTo>
                  <a:lnTo>
                    <a:pt x="443" y="1"/>
                  </a:lnTo>
                  <a:lnTo>
                    <a:pt x="409" y="0"/>
                  </a:lnTo>
                  <a:lnTo>
                    <a:pt x="376" y="1"/>
                  </a:lnTo>
                  <a:lnTo>
                    <a:pt x="342" y="5"/>
                  </a:lnTo>
                  <a:lnTo>
                    <a:pt x="310" y="12"/>
                  </a:lnTo>
                  <a:lnTo>
                    <a:pt x="279" y="20"/>
                  </a:lnTo>
                  <a:lnTo>
                    <a:pt x="249" y="30"/>
                  </a:lnTo>
                  <a:lnTo>
                    <a:pt x="220" y="42"/>
                  </a:lnTo>
                  <a:lnTo>
                    <a:pt x="192" y="54"/>
                  </a:lnTo>
                  <a:lnTo>
                    <a:pt x="166" y="69"/>
                  </a:lnTo>
                  <a:lnTo>
                    <a:pt x="142" y="85"/>
                  </a:lnTo>
                  <a:lnTo>
                    <a:pt x="117" y="103"/>
                  </a:lnTo>
                  <a:lnTo>
                    <a:pt x="96" y="121"/>
                  </a:lnTo>
                  <a:lnTo>
                    <a:pt x="76" y="139"/>
                  </a:lnTo>
                  <a:lnTo>
                    <a:pt x="58" y="159"/>
                  </a:lnTo>
                  <a:lnTo>
                    <a:pt x="41" y="179"/>
                  </a:lnTo>
                  <a:lnTo>
                    <a:pt x="26" y="198"/>
                  </a:lnTo>
                  <a:lnTo>
                    <a:pt x="14" y="218"/>
                  </a:lnTo>
                  <a:lnTo>
                    <a:pt x="9" y="225"/>
                  </a:lnTo>
                  <a:lnTo>
                    <a:pt x="6" y="232"/>
                  </a:lnTo>
                  <a:lnTo>
                    <a:pt x="2" y="239"/>
                  </a:lnTo>
                  <a:lnTo>
                    <a:pt x="1" y="244"/>
                  </a:lnTo>
                  <a:lnTo>
                    <a:pt x="0" y="247"/>
                  </a:lnTo>
                  <a:lnTo>
                    <a:pt x="14" y="273"/>
                  </a:lnTo>
                  <a:lnTo>
                    <a:pt x="26" y="294"/>
                  </a:lnTo>
                  <a:lnTo>
                    <a:pt x="41" y="315"/>
                  </a:lnTo>
                  <a:lnTo>
                    <a:pt x="59" y="335"/>
                  </a:lnTo>
                  <a:lnTo>
                    <a:pt x="77" y="356"/>
                  </a:lnTo>
                  <a:lnTo>
                    <a:pt x="98" y="376"/>
                  </a:lnTo>
                  <a:lnTo>
                    <a:pt x="120" y="395"/>
                  </a:lnTo>
                  <a:lnTo>
                    <a:pt x="144" y="414"/>
                  </a:lnTo>
                  <a:lnTo>
                    <a:pt x="168" y="430"/>
                  </a:lnTo>
                  <a:lnTo>
                    <a:pt x="195" y="446"/>
                  </a:lnTo>
                  <a:lnTo>
                    <a:pt x="222" y="461"/>
                  </a:lnTo>
                  <a:lnTo>
                    <a:pt x="251" y="474"/>
                  </a:lnTo>
                  <a:lnTo>
                    <a:pt x="281" y="484"/>
                  </a:lnTo>
                  <a:lnTo>
                    <a:pt x="312" y="493"/>
                  </a:lnTo>
                  <a:lnTo>
                    <a:pt x="343" y="499"/>
                  </a:lnTo>
                  <a:lnTo>
                    <a:pt x="376" y="504"/>
                  </a:lnTo>
                  <a:lnTo>
                    <a:pt x="409" y="505"/>
                  </a:lnTo>
                  <a:lnTo>
                    <a:pt x="443" y="504"/>
                  </a:lnTo>
                  <a:lnTo>
                    <a:pt x="475" y="499"/>
                  </a:lnTo>
                  <a:lnTo>
                    <a:pt x="506" y="493"/>
                  </a:lnTo>
                  <a:lnTo>
                    <a:pt x="536" y="484"/>
                  </a:lnTo>
                  <a:lnTo>
                    <a:pt x="566" y="474"/>
                  </a:lnTo>
                  <a:lnTo>
                    <a:pt x="595" y="461"/>
                  </a:lnTo>
                  <a:lnTo>
                    <a:pt x="622" y="446"/>
                  </a:lnTo>
                  <a:lnTo>
                    <a:pt x="648" y="430"/>
                  </a:lnTo>
                  <a:lnTo>
                    <a:pt x="673" y="414"/>
                  </a:lnTo>
                  <a:lnTo>
                    <a:pt x="696" y="395"/>
                  </a:lnTo>
                  <a:lnTo>
                    <a:pt x="718" y="376"/>
                  </a:lnTo>
                  <a:lnTo>
                    <a:pt x="739" y="356"/>
                  </a:lnTo>
                  <a:lnTo>
                    <a:pt x="757" y="335"/>
                  </a:lnTo>
                  <a:lnTo>
                    <a:pt x="775" y="315"/>
                  </a:lnTo>
                  <a:lnTo>
                    <a:pt x="790" y="294"/>
                  </a:lnTo>
                  <a:lnTo>
                    <a:pt x="802" y="273"/>
                  </a:lnTo>
                  <a:lnTo>
                    <a:pt x="810" y="259"/>
                  </a:lnTo>
                  <a:lnTo>
                    <a:pt x="815" y="251"/>
                  </a:lnTo>
                  <a:lnTo>
                    <a:pt x="816" y="248"/>
                  </a:lnTo>
                  <a:lnTo>
                    <a:pt x="816" y="247"/>
                  </a:lnTo>
                  <a:lnTo>
                    <a:pt x="817" y="244"/>
                  </a:lnTo>
                  <a:lnTo>
                    <a:pt x="802" y="2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48"/>
            <p:cNvSpPr/>
            <p:nvPr/>
          </p:nvSpPr>
          <p:spPr>
            <a:xfrm>
              <a:off x="3040920" y="3288960"/>
              <a:ext cx="1119960" cy="629640"/>
            </a:xfrm>
            <a:custGeom>
              <a:avLst/>
              <a:gdLst>
                <a:gd name="textAreaLeft" fmla="*/ 0 w 1119960"/>
                <a:gd name="textAreaRight" fmla="*/ 1120320 w 1119960"/>
                <a:gd name="textAreaTop" fmla="*/ 0 h 629640"/>
                <a:gd name="textAreaBottom" fmla="*/ 630000 h 629640"/>
              </a:gdLst>
              <a:ahLst/>
              <a:rect l="textAreaLeft" t="textAreaTop" r="textAreaRight" b="textAreaBottom"/>
              <a:pathLst>
                <a:path w="695" h="396">
                  <a:moveTo>
                    <a:pt x="348" y="396"/>
                  </a:moveTo>
                  <a:lnTo>
                    <a:pt x="320" y="395"/>
                  </a:lnTo>
                  <a:lnTo>
                    <a:pt x="293" y="391"/>
                  </a:lnTo>
                  <a:lnTo>
                    <a:pt x="265" y="385"/>
                  </a:lnTo>
                  <a:lnTo>
                    <a:pt x="239" y="378"/>
                  </a:lnTo>
                  <a:lnTo>
                    <a:pt x="212" y="368"/>
                  </a:lnTo>
                  <a:lnTo>
                    <a:pt x="187" y="358"/>
                  </a:lnTo>
                  <a:lnTo>
                    <a:pt x="163" y="345"/>
                  </a:lnTo>
                  <a:lnTo>
                    <a:pt x="139" y="331"/>
                  </a:lnTo>
                  <a:lnTo>
                    <a:pt x="118" y="316"/>
                  </a:lnTo>
                  <a:lnTo>
                    <a:pt x="96" y="300"/>
                  </a:lnTo>
                  <a:lnTo>
                    <a:pt x="76" y="283"/>
                  </a:lnTo>
                  <a:lnTo>
                    <a:pt x="58" y="265"/>
                  </a:lnTo>
                  <a:lnTo>
                    <a:pt x="42" y="247"/>
                  </a:lnTo>
                  <a:lnTo>
                    <a:pt x="25" y="229"/>
                  </a:lnTo>
                  <a:lnTo>
                    <a:pt x="12" y="210"/>
                  </a:lnTo>
                  <a:lnTo>
                    <a:pt x="0" y="191"/>
                  </a:lnTo>
                  <a:lnTo>
                    <a:pt x="12" y="172"/>
                  </a:lnTo>
                  <a:lnTo>
                    <a:pt x="24" y="155"/>
                  </a:lnTo>
                  <a:lnTo>
                    <a:pt x="39" y="138"/>
                  </a:lnTo>
                  <a:lnTo>
                    <a:pt x="56" y="120"/>
                  </a:lnTo>
                  <a:lnTo>
                    <a:pt x="74" y="104"/>
                  </a:lnTo>
                  <a:lnTo>
                    <a:pt x="93" y="88"/>
                  </a:lnTo>
                  <a:lnTo>
                    <a:pt x="114" y="73"/>
                  </a:lnTo>
                  <a:lnTo>
                    <a:pt x="136" y="59"/>
                  </a:lnTo>
                  <a:lnTo>
                    <a:pt x="159" y="46"/>
                  </a:lnTo>
                  <a:lnTo>
                    <a:pt x="183" y="35"/>
                  </a:lnTo>
                  <a:lnTo>
                    <a:pt x="209" y="25"/>
                  </a:lnTo>
                  <a:lnTo>
                    <a:pt x="235" y="16"/>
                  </a:lnTo>
                  <a:lnTo>
                    <a:pt x="262" y="10"/>
                  </a:lnTo>
                  <a:lnTo>
                    <a:pt x="290" y="5"/>
                  </a:lnTo>
                  <a:lnTo>
                    <a:pt x="319" y="1"/>
                  </a:lnTo>
                  <a:lnTo>
                    <a:pt x="348" y="0"/>
                  </a:lnTo>
                  <a:lnTo>
                    <a:pt x="377" y="1"/>
                  </a:lnTo>
                  <a:lnTo>
                    <a:pt x="406" y="5"/>
                  </a:lnTo>
                  <a:lnTo>
                    <a:pt x="433" y="10"/>
                  </a:lnTo>
                  <a:lnTo>
                    <a:pt x="460" y="16"/>
                  </a:lnTo>
                  <a:lnTo>
                    <a:pt x="486" y="25"/>
                  </a:lnTo>
                  <a:lnTo>
                    <a:pt x="512" y="35"/>
                  </a:lnTo>
                  <a:lnTo>
                    <a:pt x="536" y="46"/>
                  </a:lnTo>
                  <a:lnTo>
                    <a:pt x="559" y="59"/>
                  </a:lnTo>
                  <a:lnTo>
                    <a:pt x="581" y="73"/>
                  </a:lnTo>
                  <a:lnTo>
                    <a:pt x="602" y="88"/>
                  </a:lnTo>
                  <a:lnTo>
                    <a:pt x="621" y="104"/>
                  </a:lnTo>
                  <a:lnTo>
                    <a:pt x="639" y="120"/>
                  </a:lnTo>
                  <a:lnTo>
                    <a:pt x="656" y="138"/>
                  </a:lnTo>
                  <a:lnTo>
                    <a:pt x="671" y="155"/>
                  </a:lnTo>
                  <a:lnTo>
                    <a:pt x="684" y="172"/>
                  </a:lnTo>
                  <a:lnTo>
                    <a:pt x="695" y="191"/>
                  </a:lnTo>
                  <a:lnTo>
                    <a:pt x="684" y="210"/>
                  </a:lnTo>
                  <a:lnTo>
                    <a:pt x="670" y="229"/>
                  </a:lnTo>
                  <a:lnTo>
                    <a:pt x="654" y="247"/>
                  </a:lnTo>
                  <a:lnTo>
                    <a:pt x="637" y="265"/>
                  </a:lnTo>
                  <a:lnTo>
                    <a:pt x="619" y="283"/>
                  </a:lnTo>
                  <a:lnTo>
                    <a:pt x="599" y="300"/>
                  </a:lnTo>
                  <a:lnTo>
                    <a:pt x="578" y="316"/>
                  </a:lnTo>
                  <a:lnTo>
                    <a:pt x="556" y="331"/>
                  </a:lnTo>
                  <a:lnTo>
                    <a:pt x="533" y="345"/>
                  </a:lnTo>
                  <a:lnTo>
                    <a:pt x="508" y="358"/>
                  </a:lnTo>
                  <a:lnTo>
                    <a:pt x="483" y="368"/>
                  </a:lnTo>
                  <a:lnTo>
                    <a:pt x="458" y="378"/>
                  </a:lnTo>
                  <a:lnTo>
                    <a:pt x="431" y="385"/>
                  </a:lnTo>
                  <a:lnTo>
                    <a:pt x="403" y="391"/>
                  </a:lnTo>
                  <a:lnTo>
                    <a:pt x="376" y="395"/>
                  </a:lnTo>
                  <a:lnTo>
                    <a:pt x="348" y="3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49"/>
            <p:cNvSpPr/>
            <p:nvPr/>
          </p:nvSpPr>
          <p:spPr>
            <a:xfrm>
              <a:off x="3321360" y="3336480"/>
              <a:ext cx="539280" cy="533160"/>
            </a:xfrm>
            <a:custGeom>
              <a:avLst/>
              <a:gdLst>
                <a:gd name="textAreaLeft" fmla="*/ 0 w 539280"/>
                <a:gd name="textAreaRight" fmla="*/ 539640 w 53928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335" h="336">
                  <a:moveTo>
                    <a:pt x="168" y="336"/>
                  </a:moveTo>
                  <a:lnTo>
                    <a:pt x="202" y="332"/>
                  </a:lnTo>
                  <a:lnTo>
                    <a:pt x="233" y="323"/>
                  </a:lnTo>
                  <a:lnTo>
                    <a:pt x="262" y="307"/>
                  </a:lnTo>
                  <a:lnTo>
                    <a:pt x="286" y="286"/>
                  </a:lnTo>
                  <a:lnTo>
                    <a:pt x="307" y="262"/>
                  </a:lnTo>
                  <a:lnTo>
                    <a:pt x="322" y="233"/>
                  </a:lnTo>
                  <a:lnTo>
                    <a:pt x="332" y="202"/>
                  </a:lnTo>
                  <a:lnTo>
                    <a:pt x="335" y="169"/>
                  </a:lnTo>
                  <a:lnTo>
                    <a:pt x="332" y="134"/>
                  </a:lnTo>
                  <a:lnTo>
                    <a:pt x="322" y="103"/>
                  </a:lnTo>
                  <a:lnTo>
                    <a:pt x="307" y="74"/>
                  </a:lnTo>
                  <a:lnTo>
                    <a:pt x="286" y="50"/>
                  </a:lnTo>
                  <a:lnTo>
                    <a:pt x="262" y="29"/>
                  </a:lnTo>
                  <a:lnTo>
                    <a:pt x="233" y="13"/>
                  </a:lnTo>
                  <a:lnTo>
                    <a:pt x="202" y="4"/>
                  </a:lnTo>
                  <a:lnTo>
                    <a:pt x="168" y="0"/>
                  </a:lnTo>
                  <a:lnTo>
                    <a:pt x="134" y="4"/>
                  </a:lnTo>
                  <a:lnTo>
                    <a:pt x="103" y="13"/>
                  </a:lnTo>
                  <a:lnTo>
                    <a:pt x="74" y="29"/>
                  </a:lnTo>
                  <a:lnTo>
                    <a:pt x="50" y="50"/>
                  </a:lnTo>
                  <a:lnTo>
                    <a:pt x="29" y="74"/>
                  </a:lnTo>
                  <a:lnTo>
                    <a:pt x="13" y="103"/>
                  </a:lnTo>
                  <a:lnTo>
                    <a:pt x="4" y="134"/>
                  </a:lnTo>
                  <a:lnTo>
                    <a:pt x="0" y="169"/>
                  </a:lnTo>
                  <a:lnTo>
                    <a:pt x="4" y="202"/>
                  </a:lnTo>
                  <a:lnTo>
                    <a:pt x="13" y="233"/>
                  </a:lnTo>
                  <a:lnTo>
                    <a:pt x="29" y="262"/>
                  </a:lnTo>
                  <a:lnTo>
                    <a:pt x="50" y="286"/>
                  </a:lnTo>
                  <a:lnTo>
                    <a:pt x="74" y="307"/>
                  </a:lnTo>
                  <a:lnTo>
                    <a:pt x="103" y="323"/>
                  </a:lnTo>
                  <a:lnTo>
                    <a:pt x="134" y="332"/>
                  </a:lnTo>
                  <a:lnTo>
                    <a:pt x="168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50"/>
            <p:cNvSpPr/>
            <p:nvPr/>
          </p:nvSpPr>
          <p:spPr>
            <a:xfrm>
              <a:off x="3632040" y="3496680"/>
              <a:ext cx="87120" cy="8892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54" h="55">
                  <a:moveTo>
                    <a:pt x="27" y="55"/>
                  </a:moveTo>
                  <a:lnTo>
                    <a:pt x="38" y="53"/>
                  </a:lnTo>
                  <a:lnTo>
                    <a:pt x="46" y="47"/>
                  </a:lnTo>
                  <a:lnTo>
                    <a:pt x="52" y="38"/>
                  </a:lnTo>
                  <a:lnTo>
                    <a:pt x="54" y="27"/>
                  </a:lnTo>
                  <a:lnTo>
                    <a:pt x="52" y="17"/>
                  </a:lnTo>
                  <a:lnTo>
                    <a:pt x="46" y="8"/>
                  </a:lnTo>
                  <a:lnTo>
                    <a:pt x="38" y="2"/>
                  </a:lnTo>
                  <a:lnTo>
                    <a:pt x="27" y="0"/>
                  </a:lnTo>
                  <a:lnTo>
                    <a:pt x="17" y="2"/>
                  </a:lnTo>
                  <a:lnTo>
                    <a:pt x="8" y="8"/>
                  </a:lnTo>
                  <a:lnTo>
                    <a:pt x="2" y="17"/>
                  </a:lnTo>
                  <a:lnTo>
                    <a:pt x="0" y="27"/>
                  </a:lnTo>
                  <a:lnTo>
                    <a:pt x="2" y="38"/>
                  </a:lnTo>
                  <a:lnTo>
                    <a:pt x="8" y="47"/>
                  </a:lnTo>
                  <a:lnTo>
                    <a:pt x="17" y="53"/>
                  </a:lnTo>
                  <a:lnTo>
                    <a:pt x="27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51"/>
            <p:cNvSpPr/>
            <p:nvPr/>
          </p:nvSpPr>
          <p:spPr>
            <a:xfrm>
              <a:off x="2895480" y="3148200"/>
              <a:ext cx="187200" cy="204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116" h="129">
                  <a:moveTo>
                    <a:pt x="116" y="95"/>
                  </a:moveTo>
                  <a:lnTo>
                    <a:pt x="0" y="0"/>
                  </a:lnTo>
                  <a:lnTo>
                    <a:pt x="76" y="129"/>
                  </a:lnTo>
                  <a:lnTo>
                    <a:pt x="81" y="124"/>
                  </a:lnTo>
                  <a:lnTo>
                    <a:pt x="86" y="121"/>
                  </a:lnTo>
                  <a:lnTo>
                    <a:pt x="90" y="116"/>
                  </a:lnTo>
                  <a:lnTo>
                    <a:pt x="95" y="112"/>
                  </a:lnTo>
                  <a:lnTo>
                    <a:pt x="101" y="107"/>
                  </a:lnTo>
                  <a:lnTo>
                    <a:pt x="105" y="103"/>
                  </a:lnTo>
                  <a:lnTo>
                    <a:pt x="111" y="99"/>
                  </a:lnTo>
                  <a:lnTo>
                    <a:pt x="116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52"/>
            <p:cNvSpPr/>
            <p:nvPr/>
          </p:nvSpPr>
          <p:spPr>
            <a:xfrm>
              <a:off x="3105360" y="3014280"/>
              <a:ext cx="144720" cy="22320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90" h="139">
                  <a:moveTo>
                    <a:pt x="0" y="0"/>
                  </a:moveTo>
                  <a:lnTo>
                    <a:pt x="45" y="139"/>
                  </a:lnTo>
                  <a:lnTo>
                    <a:pt x="51" y="136"/>
                  </a:lnTo>
                  <a:lnTo>
                    <a:pt x="56" y="133"/>
                  </a:lnTo>
                  <a:lnTo>
                    <a:pt x="61" y="130"/>
                  </a:lnTo>
                  <a:lnTo>
                    <a:pt x="67" y="128"/>
                  </a:lnTo>
                  <a:lnTo>
                    <a:pt x="73" y="124"/>
                  </a:lnTo>
                  <a:lnTo>
                    <a:pt x="79" y="122"/>
                  </a:lnTo>
                  <a:lnTo>
                    <a:pt x="84" y="118"/>
                  </a:lnTo>
                  <a:lnTo>
                    <a:pt x="90" y="1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53"/>
            <p:cNvSpPr/>
            <p:nvPr/>
          </p:nvSpPr>
          <p:spPr>
            <a:xfrm>
              <a:off x="3337560" y="2930760"/>
              <a:ext cx="93600" cy="22680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59" h="143">
                  <a:moveTo>
                    <a:pt x="0" y="0"/>
                  </a:moveTo>
                  <a:lnTo>
                    <a:pt x="11" y="143"/>
                  </a:lnTo>
                  <a:lnTo>
                    <a:pt x="17" y="141"/>
                  </a:lnTo>
                  <a:lnTo>
                    <a:pt x="23" y="139"/>
                  </a:lnTo>
                  <a:lnTo>
                    <a:pt x="29" y="138"/>
                  </a:lnTo>
                  <a:lnTo>
                    <a:pt x="35" y="136"/>
                  </a:lnTo>
                  <a:lnTo>
                    <a:pt x="41" y="135"/>
                  </a:lnTo>
                  <a:lnTo>
                    <a:pt x="48" y="132"/>
                  </a:lnTo>
                  <a:lnTo>
                    <a:pt x="53" y="131"/>
                  </a:lnTo>
                  <a:lnTo>
                    <a:pt x="59" y="1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54"/>
            <p:cNvSpPr/>
            <p:nvPr/>
          </p:nvSpPr>
          <p:spPr>
            <a:xfrm>
              <a:off x="4132080" y="3166920"/>
              <a:ext cx="190080" cy="20124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117" h="127">
                  <a:moveTo>
                    <a:pt x="0" y="92"/>
                  </a:moveTo>
                  <a:lnTo>
                    <a:pt x="117" y="0"/>
                  </a:lnTo>
                  <a:lnTo>
                    <a:pt x="39" y="127"/>
                  </a:lnTo>
                  <a:lnTo>
                    <a:pt x="34" y="122"/>
                  </a:lnTo>
                  <a:lnTo>
                    <a:pt x="30" y="118"/>
                  </a:lnTo>
                  <a:lnTo>
                    <a:pt x="25" y="114"/>
                  </a:lnTo>
                  <a:lnTo>
                    <a:pt x="19" y="110"/>
                  </a:lnTo>
                  <a:lnTo>
                    <a:pt x="15" y="105"/>
                  </a:lnTo>
                  <a:lnTo>
                    <a:pt x="10" y="101"/>
                  </a:lnTo>
                  <a:lnTo>
                    <a:pt x="4" y="97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55"/>
            <p:cNvSpPr/>
            <p:nvPr/>
          </p:nvSpPr>
          <p:spPr>
            <a:xfrm>
              <a:off x="3970800" y="3026520"/>
              <a:ext cx="148320" cy="220680"/>
            </a:xfrm>
            <a:custGeom>
              <a:avLst/>
              <a:gdLst>
                <a:gd name="textAreaLeft" fmla="*/ 0 w 148320"/>
                <a:gd name="textAreaRight" fmla="*/ 148320 w 14832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93" h="137">
                  <a:moveTo>
                    <a:pt x="93" y="0"/>
                  </a:moveTo>
                  <a:lnTo>
                    <a:pt x="45" y="137"/>
                  </a:lnTo>
                  <a:lnTo>
                    <a:pt x="40" y="134"/>
                  </a:lnTo>
                  <a:lnTo>
                    <a:pt x="34" y="131"/>
                  </a:lnTo>
                  <a:lnTo>
                    <a:pt x="28" y="128"/>
                  </a:lnTo>
                  <a:lnTo>
                    <a:pt x="23" y="124"/>
                  </a:lnTo>
                  <a:lnTo>
                    <a:pt x="18" y="122"/>
                  </a:lnTo>
                  <a:lnTo>
                    <a:pt x="12" y="119"/>
                  </a:lnTo>
                  <a:lnTo>
                    <a:pt x="6" y="116"/>
                  </a:lnTo>
                  <a:lnTo>
                    <a:pt x="0" y="113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56"/>
            <p:cNvSpPr/>
            <p:nvPr/>
          </p:nvSpPr>
          <p:spPr>
            <a:xfrm>
              <a:off x="3786480" y="2937240"/>
              <a:ext cx="100080" cy="22968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63" h="143">
                  <a:moveTo>
                    <a:pt x="63" y="0"/>
                  </a:moveTo>
                  <a:lnTo>
                    <a:pt x="49" y="143"/>
                  </a:lnTo>
                  <a:lnTo>
                    <a:pt x="43" y="141"/>
                  </a:lnTo>
                  <a:lnTo>
                    <a:pt x="37" y="139"/>
                  </a:lnTo>
                  <a:lnTo>
                    <a:pt x="32" y="137"/>
                  </a:lnTo>
                  <a:lnTo>
                    <a:pt x="25" y="135"/>
                  </a:lnTo>
                  <a:lnTo>
                    <a:pt x="19" y="134"/>
                  </a:lnTo>
                  <a:lnTo>
                    <a:pt x="13" y="132"/>
                  </a:lnTo>
                  <a:lnTo>
                    <a:pt x="7" y="131"/>
                  </a:lnTo>
                  <a:lnTo>
                    <a:pt x="0" y="12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57"/>
            <p:cNvSpPr/>
            <p:nvPr/>
          </p:nvSpPr>
          <p:spPr>
            <a:xfrm>
              <a:off x="3560760" y="2895480"/>
              <a:ext cx="80280" cy="23040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50" h="143">
                  <a:moveTo>
                    <a:pt x="50" y="143"/>
                  </a:moveTo>
                  <a:lnTo>
                    <a:pt x="22" y="0"/>
                  </a:lnTo>
                  <a:lnTo>
                    <a:pt x="0" y="142"/>
                  </a:lnTo>
                  <a:lnTo>
                    <a:pt x="6" y="142"/>
                  </a:lnTo>
                  <a:lnTo>
                    <a:pt x="12" y="141"/>
                  </a:lnTo>
                  <a:lnTo>
                    <a:pt x="19" y="141"/>
                  </a:lnTo>
                  <a:lnTo>
                    <a:pt x="25" y="141"/>
                  </a:lnTo>
                  <a:lnTo>
                    <a:pt x="31" y="142"/>
                  </a:lnTo>
                  <a:lnTo>
                    <a:pt x="38" y="142"/>
                  </a:lnTo>
                  <a:lnTo>
                    <a:pt x="44" y="142"/>
                  </a:lnTo>
                  <a:lnTo>
                    <a:pt x="5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Picture 21" descr=""/>
          <p:cNvPicPr/>
          <p:nvPr/>
        </p:nvPicPr>
        <p:blipFill>
          <a:blip r:embed="rId3"/>
          <a:stretch/>
        </p:blipFill>
        <p:spPr>
          <a:xfrm>
            <a:off x="6400800" y="3276720"/>
            <a:ext cx="990720" cy="99036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32"/>
          <p:cNvGrpSpPr/>
          <p:nvPr/>
        </p:nvGrpSpPr>
        <p:grpSpPr>
          <a:xfrm>
            <a:off x="2895480" y="5715000"/>
            <a:ext cx="1285920" cy="914040"/>
            <a:chOff x="2895480" y="5715000"/>
            <a:chExt cx="1285920" cy="914040"/>
          </a:xfrm>
        </p:grpSpPr>
        <p:sp>
          <p:nvSpPr>
            <p:cNvPr id="146" name="Rectangle 31"/>
            <p:cNvSpPr/>
            <p:nvPr/>
          </p:nvSpPr>
          <p:spPr>
            <a:xfrm>
              <a:off x="3025080" y="5715000"/>
              <a:ext cx="1024200" cy="7448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28"/>
            <p:cNvSpPr/>
            <p:nvPr/>
          </p:nvSpPr>
          <p:spPr>
            <a:xfrm flipV="1">
              <a:off x="2895480" y="6464160"/>
              <a:ext cx="1285920" cy="164520"/>
            </a:xfrm>
            <a:custGeom>
              <a:avLst/>
              <a:gdLst>
                <a:gd name="textAreaLeft" fmla="*/ 176040 w 1285920"/>
                <a:gd name="textAreaRight" fmla="*/ 1109880 w 1285920"/>
                <a:gd name="textAreaTop" fmla="*/ 22320 h 164520"/>
                <a:gd name="textAreaBottom" fmla="*/ 142200 h 16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321" y="21600"/>
                  </a:lnTo>
                  <a:lnTo>
                    <a:pt x="19279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9"/>
            <p:cNvSpPr/>
            <p:nvPr/>
          </p:nvSpPr>
          <p:spPr>
            <a:xfrm>
              <a:off x="3079080" y="5763960"/>
              <a:ext cx="925920" cy="656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Picture 21" descr=""/>
          <p:cNvPicPr/>
          <p:nvPr/>
        </p:nvPicPr>
        <p:blipFill>
          <a:blip r:embed="rId4"/>
          <a:stretch/>
        </p:blipFill>
        <p:spPr>
          <a:xfrm>
            <a:off x="6400800" y="541008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45143E-006 L 0.48333 -0.14431 E">
                                      <p:cBhvr>
                                        <p:cTn id="74" dur="1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284E-006 L 0.49167 0.15541 E">
                                      <p:cBhvr>
                                        <p:cTn id="77" dur="1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284E-006 L 0.48334 -0.14431 E">
                                      <p:cBhvr>
                                        <p:cTn id="85" dur="1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-3.284E-006 L 0.47501 0.15541 E">
                                      <p:cBhvr>
                                        <p:cTn id="88" dur="1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1"/>
          <p:cNvSpPr/>
          <p:nvPr/>
        </p:nvSpPr>
        <p:spPr>
          <a:xfrm>
            <a:off x="304920" y="289548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The “deep mystery” of Q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o decides when a “measurement” happens?  An “outsider’s view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2"/>
              <p:cNvSpPr txBox="1"/>
              <p:nvPr/>
            </p:nvSpPr>
            <p:spPr>
              <a:xfrm>
                <a:off x="304920" y="3886200"/>
                <a:ext cx="85341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  <m:r>
                          <m:t xml:space="preserve">|</m:t>
                        </m:r>
                        <m:r>
                          <m:t xml:space="preserve">0</m:t>
                        </m:r>
                        <m:r>
                          <m:t xml:space="preserve">⟩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⟩</m:t>
                        </m:r>
                      </m:e>
                    </m:d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World</m:t>
                    </m:r>
                    <m:r>
                      <m:t xml:space="preserve">⟩</m:t>
                    </m:r>
                    <m:limUpp>
                      <m:e>
                        <m:r>
                          <m:t xml:space="preserve">→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Unitary</m:t>
                        </m:r>
                      </m:lim>
                    </m:limUpp>
                    <m:r>
                      <m:t xml:space="preserve">α</m:t>
                    </m:r>
                    <m:r>
                      <m:t xml:space="preserve">|</m:t>
                    </m:r>
                    <m:r>
                      <m:t xml:space="preserve">0</m:t>
                    </m:r>
                    <m:r>
                      <m:t xml:space="preserve">⟩</m:t>
                    </m:r>
                    <m:r>
                      <m:t xml:space="preserve">|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World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⟩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⟩</m:t>
                    </m:r>
                    <m:r>
                      <m:t xml:space="preserve">|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Worl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Rectangle 41"/>
          <p:cNvSpPr/>
          <p:nvPr/>
        </p:nvSpPr>
        <p:spPr>
          <a:xfrm>
            <a:off x="304920" y="6019920"/>
            <a:ext cx="8610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y Worlds?  Or Many Words?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1"/>
          <p:cNvSpPr/>
          <p:nvPr/>
        </p:nvSpPr>
        <p:spPr>
          <a:xfrm>
            <a:off x="457200" y="228600"/>
            <a:ext cx="4648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Product stat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f two qubit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2"/>
              <p:cNvSpPr txBox="1"/>
              <p:nvPr/>
            </p:nvSpPr>
            <p:spPr>
              <a:xfrm>
                <a:off x="380880" y="838080"/>
                <a:ext cx="44211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  <m:r>
                          <m:t xml:space="preserve">|</m:t>
                        </m:r>
                        <m:r>
                          <m:t xml:space="preserve">0</m:t>
                        </m:r>
                        <m:r>
                          <m:t xml:space="preserve">⟩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⟩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</m:t>
                        </m:r>
                        <m:r>
                          <m:t xml:space="preserve">|</m:t>
                        </m:r>
                        <m:r>
                          <m:t xml:space="preserve">0</m:t>
                        </m:r>
                        <m:r>
                          <m:t xml:space="preserve">⟩</m:t>
                        </m:r>
                        <m:r>
                          <m:t xml:space="preserve">+</m:t>
                        </m:r>
                        <m:r>
                          <m:t xml:space="preserve">δ</m:t>
                        </m:r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⟩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55" name="Group 13"/>
          <p:cNvGrpSpPr/>
          <p:nvPr/>
        </p:nvGrpSpPr>
        <p:grpSpPr>
          <a:xfrm>
            <a:off x="5410080" y="152280"/>
            <a:ext cx="3581640" cy="2362320"/>
            <a:chOff x="5410080" y="152280"/>
            <a:chExt cx="3581640" cy="2362320"/>
          </a:xfrm>
        </p:grpSpPr>
        <p:sp>
          <p:nvSpPr>
            <p:cNvPr id="156" name="Rectangle 41"/>
            <p:cNvSpPr/>
            <p:nvPr/>
          </p:nvSpPr>
          <p:spPr>
            <a:xfrm>
              <a:off x="5410080" y="152280"/>
              <a:ext cx="358164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00000"/>
                  </a:solidFill>
                  <a:latin typeface="Calibri"/>
                </a:rPr>
                <a:t>Entangled state</a:t>
              </a:r>
              <a:r>
                <a:rPr b="0" lang="en-US" sz="2600" spc="-1" strike="noStrike">
                  <a:solidFill>
                    <a:srgbClr val="000000"/>
                  </a:solidFill>
                  <a:latin typeface="Calibri"/>
                </a:rPr>
                <a:t> (can’t be written as product state)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" name="Object 2"/>
                <p:cNvSpPr txBox="1"/>
                <p:nvPr/>
              </p:nvSpPr>
              <p:spPr>
                <a:xfrm>
                  <a:off x="5867280" y="1066680"/>
                  <a:ext cx="2648160" cy="144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|</m:t>
                          </m:r>
                          <m:r>
                            <m:t xml:space="preserve">0</m:t>
                          </m:r>
                          <m:r>
                            <m:t xml:space="preserve">⟩</m:t>
                          </m:r>
                          <m:r>
                            <m:t xml:space="preserve">|</m:t>
                          </m:r>
                          <m:r>
                            <m:t xml:space="preserve">0</m:t>
                          </m:r>
                          <m:r>
                            <m:t xml:space="preserve">⟩</m:t>
                          </m:r>
                          <m:r>
                            <m:t xml:space="preserve">+</m:t>
                          </m:r>
                          <m:r>
                            <m:t xml:space="preserve">|</m:t>
                          </m:r>
                          <m:r>
                            <m:t xml:space="preserve">1</m:t>
                          </m:r>
                          <m:r>
                            <m:t xml:space="preserve">⟩</m:t>
                          </m:r>
                          <m:r>
                            <m:t xml:space="preserve">|</m:t>
                          </m:r>
                          <m:r>
                            <m:t xml:space="preserve">1</m:t>
                          </m:r>
                          <m:r>
                            <m:t xml:space="preserve">⟩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80880" y="1600200"/>
                <a:ext cx="49294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αγ</m:t>
                    </m:r>
                    <m:r>
                      <m:t xml:space="preserve">|</m:t>
                    </m:r>
                    <m:r>
                      <m:t xml:space="preserve">0</m:t>
                    </m:r>
                    <m:r>
                      <m:t xml:space="preserve">⟩</m:t>
                    </m:r>
                    <m:r>
                      <m:t xml:space="preserve">|</m:t>
                    </m:r>
                    <m:r>
                      <m:t xml:space="preserve">0</m:t>
                    </m:r>
                    <m:r>
                      <m:t xml:space="preserve">⟩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αδ</m:t>
                    </m:r>
                    <m:r>
                      <m:t xml:space="preserve">|</m:t>
                    </m:r>
                    <m:r>
                      <m:t xml:space="preserve">0</m:t>
                    </m:r>
                    <m:r>
                      <m:t xml:space="preserve">⟩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⟩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βγ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⟩</m:t>
                    </m:r>
                    <m:r>
                      <m:t xml:space="preserve">|</m:t>
                    </m:r>
                    <m:r>
                      <m:t xml:space="preserve">0</m:t>
                    </m:r>
                    <m:r>
                      <m:t xml:space="preserve">⟩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βδ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⟩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Rectangle 41"/>
          <p:cNvSpPr/>
          <p:nvPr/>
        </p:nvSpPr>
        <p:spPr>
          <a:xfrm>
            <a:off x="380880" y="4952880"/>
            <a:ext cx="8610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qubit simply gets entangled with your own body </a:t>
            </a: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(and lots of other stuff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so that it collapses to |0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r |1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relative to you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6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1"/>
          <p:cNvSpPr/>
          <p:nvPr/>
        </p:nvSpPr>
        <p:spPr>
          <a:xfrm>
            <a:off x="380880" y="1752480"/>
            <a:ext cx="8382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general entangled state of n qubits requires ~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mplitudes to specif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228600" y="228600"/>
            <a:ext cx="6858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Quantum Computing</a:t>
            </a:r>
            <a:br>
              <a:rPr sz="4400"/>
            </a:b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“Quantum Mechanics on Steroi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2286000" y="2209680"/>
                <a:ext cx="348444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r>
                      <m:t xml:space="preserve">⟩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4" name="Rectangle 41"/>
          <p:cNvSpPr/>
          <p:nvPr/>
        </p:nvSpPr>
        <p:spPr>
          <a:xfrm>
            <a:off x="380880" y="3505320"/>
            <a:ext cx="8382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sents an obvious practical problem when using conventional computers to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simulat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quantum mechan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1"/>
          <p:cNvSpPr/>
          <p:nvPr/>
        </p:nvSpPr>
        <p:spPr>
          <a:xfrm>
            <a:off x="380880" y="4572000"/>
            <a:ext cx="8382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Feynman 1981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So then why not turn things around, and build computers that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themselve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exploit superposit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1927080" cy="14162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41"/>
          <p:cNvSpPr/>
          <p:nvPr/>
        </p:nvSpPr>
        <p:spPr>
          <a:xfrm>
            <a:off x="380880" y="5562720"/>
            <a:ext cx="8382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Shor 1994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Such a computer could do more than simulate QM—e.g., it could factor integers in polynomial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16"/>
          <p:cNvGrpSpPr/>
          <p:nvPr/>
        </p:nvGrpSpPr>
        <p:grpSpPr>
          <a:xfrm>
            <a:off x="4888080" y="4173480"/>
            <a:ext cx="4255920" cy="2684520"/>
            <a:chOff x="4888080" y="4173480"/>
            <a:chExt cx="4255920" cy="2684520"/>
          </a:xfrm>
        </p:grpSpPr>
        <p:pic>
          <p:nvPicPr>
            <p:cNvPr id="169" name="Picture 14" descr="spy"/>
            <p:cNvPicPr/>
            <p:nvPr/>
          </p:nvPicPr>
          <p:blipFill>
            <a:blip r:embed="rId2"/>
            <a:srcRect l="1304" t="25263" r="50878" b="20210"/>
            <a:stretch/>
          </p:blipFill>
          <p:spPr>
            <a:xfrm>
              <a:off x="7761240" y="4822560"/>
              <a:ext cx="1382760" cy="20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AutoShape 15"/>
            <p:cNvSpPr/>
            <p:nvPr/>
          </p:nvSpPr>
          <p:spPr>
            <a:xfrm>
              <a:off x="4888080" y="4173480"/>
              <a:ext cx="3406680" cy="817560"/>
            </a:xfrm>
            <a:prstGeom prst="cloudCallout">
              <a:avLst>
                <a:gd name="adj1" fmla="val 53027"/>
                <a:gd name="adj2" fmla="val 89222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Interest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1"/>
          <p:cNvSpPr/>
          <p:nvPr/>
        </p:nvSpPr>
        <p:spPr>
          <a:xfrm>
            <a:off x="304920" y="228600"/>
            <a:ext cx="8381880" cy="65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Where we ar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QC has now factored 21 into 3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, with high probability </a:t>
            </a: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(Martín-López et al. 20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 is scaling up so hard? 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Decohere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amous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Fault-Tolerance Theore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uggests we only need to get decoherence down to some finite level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(~1% per qubit per gate time?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do arbitrarily long quantum compu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discussions of the feasibility of QC focus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entire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n the Fault-Tolerance Theorem and its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y focus is different!  For I take it as obvious that, if QC is impossible,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there must exist a deeper explan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an “such-and-such error-correction schemes might not work against every conceivable kind of nois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  <a:ea typeface="Calibri"/>
              </a:rPr>
              <a:t>A few physicists and computer scientists remain vocally skeptical that scalable QC is possible…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380880" y="358128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(And perhaps a much larger number are “silently skeptical”?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18"/>
          <p:cNvGrpSpPr/>
          <p:nvPr/>
        </p:nvGrpSpPr>
        <p:grpSpPr>
          <a:xfrm>
            <a:off x="228600" y="914400"/>
            <a:ext cx="8686800" cy="2057400"/>
            <a:chOff x="228600" y="914400"/>
            <a:chExt cx="8686800" cy="2057400"/>
          </a:xfrm>
        </p:grpSpPr>
        <p:sp>
          <p:nvSpPr>
            <p:cNvPr id="175" name="Text Box 2"/>
            <p:cNvSpPr/>
            <p:nvPr/>
          </p:nvSpPr>
          <p:spPr>
            <a:xfrm>
              <a:off x="228600" y="914400"/>
              <a:ext cx="8686800" cy="49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Picture 7" descr="https://encrypted-tbn0.gstatic.com/images?q=tbn:ANd9GcTs3fQQMqC8LQ9meCmHlvwWQpzUCymdTUoMieFZKMWv4OovSJZwgm6Rmlc"/>
            <p:cNvPicPr/>
            <p:nvPr/>
          </p:nvPicPr>
          <p:blipFill>
            <a:blip r:embed="rId1"/>
            <a:stretch/>
          </p:blipFill>
          <p:spPr>
            <a:xfrm>
              <a:off x="380880" y="1447560"/>
              <a:ext cx="1152360" cy="152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9" descr="https://encrypted-tbn0.gstatic.com/images?q=tbn:ANd9GcSTJ4SLCGxaLoSVSKeA95FNM2wzzxwrSl8l5QXWJvYIKiCkvPQF"/>
            <p:cNvPicPr/>
            <p:nvPr/>
          </p:nvPicPr>
          <p:blipFill>
            <a:blip r:embed="rId2"/>
            <a:stretch/>
          </p:blipFill>
          <p:spPr>
            <a:xfrm>
              <a:off x="1523880" y="1447560"/>
              <a:ext cx="1523880" cy="152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11" descr="https://encrypted-tbn2.gstatic.com/images?q=tbn:ANd9GcTzUq4qQAA5gF7mKo_wLMmdqNbgZC_sGn8NePhhyAMY3frLIjJ5sg"/>
            <p:cNvPicPr/>
            <p:nvPr/>
          </p:nvPicPr>
          <p:blipFill>
            <a:blip r:embed="rId3"/>
            <a:stretch/>
          </p:blipFill>
          <p:spPr>
            <a:xfrm>
              <a:off x="3809880" y="1447560"/>
              <a:ext cx="1325160" cy="152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13" descr="https://encrypted-tbn0.gstatic.com/images?q=tbn:ANd9GcRB6Zi5FcY-DmCvgMWBO9tMe4Hk2YhAXNdIq-2trlna204zdqpN"/>
            <p:cNvPicPr/>
            <p:nvPr/>
          </p:nvPicPr>
          <p:blipFill>
            <a:blip r:embed="rId4"/>
            <a:stretch/>
          </p:blipFill>
          <p:spPr>
            <a:xfrm>
              <a:off x="5105520" y="1447560"/>
              <a:ext cx="1523880" cy="152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15" descr="https://encrypted-tbn3.gstatic.com/images?q=tbn:ANd9GcQw3CUkm6Q1FbFPyY0607yvWe4vlOssfs9n2F_i4JYQNEqgoqoE_A"/>
            <p:cNvPicPr/>
            <p:nvPr/>
          </p:nvPicPr>
          <p:blipFill>
            <a:blip r:embed="rId5"/>
            <a:stretch/>
          </p:blipFill>
          <p:spPr>
            <a:xfrm>
              <a:off x="6629400" y="1447560"/>
              <a:ext cx="1183320" cy="152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17" descr="https://encrypted-tbn0.gstatic.com/images?q=tbn:ANd9GcTZt4fNWiM8GgoG_dNyXuec1Da-u8hGHJhVTf7x-JQjKcwDgm--"/>
            <p:cNvPicPr/>
            <p:nvPr/>
          </p:nvPicPr>
          <p:blipFill>
            <a:blip r:embed="rId6"/>
            <a:stretch/>
          </p:blipFill>
          <p:spPr>
            <a:xfrm>
              <a:off x="7772400" y="1447560"/>
              <a:ext cx="1015920" cy="152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19" descr="https://encrypted-tbn3.gstatic.com/images?q=tbn:ANd9GcRIT98Ox_EkTokc_S3NHQHk4mHG9_Lv0Up6idkYjs8mR8ICRMrn"/>
            <p:cNvPicPr/>
            <p:nvPr/>
          </p:nvPicPr>
          <p:blipFill>
            <a:blip r:embed="rId7"/>
            <a:stretch/>
          </p:blipFill>
          <p:spPr>
            <a:xfrm>
              <a:off x="2895480" y="1447560"/>
              <a:ext cx="1009440" cy="152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Text Box 2"/>
          <p:cNvSpPr/>
          <p:nvPr/>
        </p:nvSpPr>
        <p:spPr>
          <a:xfrm>
            <a:off x="304920" y="30481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 Hoo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1600200" y="30481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al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2819520" y="304812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oldre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4038480" y="30481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lf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5334120" y="30481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ic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6629400" y="30481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yakan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"/>
          <p:cNvSpPr/>
          <p:nvPr/>
        </p:nvSpPr>
        <p:spPr>
          <a:xfrm>
            <a:off x="7848720" y="304812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v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8" descr=""/>
          <p:cNvPicPr/>
          <p:nvPr/>
        </p:nvPicPr>
        <p:blipFill>
          <a:blip r:embed="rId8"/>
          <a:stretch/>
        </p:blipFill>
        <p:spPr>
          <a:xfrm>
            <a:off x="457200" y="4572000"/>
            <a:ext cx="1787400" cy="209556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2"/>
          <p:cNvSpPr/>
          <p:nvPr/>
        </p:nvSpPr>
        <p:spPr>
          <a:xfrm>
            <a:off x="2438280" y="4648320"/>
            <a:ext cx="647712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One historical analogy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People thought Charles Babbage’s idea was cute but would never work in pract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they were right—for ~130 year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6"/>
          <p:cNvSpPr/>
          <p:nvPr/>
        </p:nvSpPr>
        <p:spPr>
          <a:xfrm>
            <a:off x="0" y="42670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3:19:53Z</dcterms:created>
  <dc:creator>saaronson</dc:creator>
  <dc:description/>
  <dc:language>en-US</dc:language>
  <cp:lastModifiedBy>owner</cp:lastModifiedBy>
  <dcterms:modified xsi:type="dcterms:W3CDTF">2013-04-10T11:47:22Z</dcterms:modified>
  <cp:revision>3662</cp:revision>
  <dc:subject/>
  <dc:title>Slide 1</dc:title>
</cp:coreProperties>
</file>