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90A9-E067-4473-8DE6-E32660AFB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9071-B77F-497B-97BA-800C1201C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419D-9038-4F86-B03D-129220375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9F91-5742-404E-B11A-F54FD0DC6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7DA-73D0-4325-A4E1-1BC0354E2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6F49-6BDF-4AC6-BE53-B0ECE4677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A7A5-28F5-4076-A07D-A5B72AF3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C5CC-C985-4B52-A78B-74D56A7FB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CC92-205F-4AC2-A493-0FBE27755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E122-088D-45A8-A5C0-462740283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E05-5D36-43D5-8C64-E3C069897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0ACE-5A79-422A-BC4E-42216F48E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3C9A-99F1-4638-823E-03383E9D6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AD4-AE8F-4F8C-8494-C546A5CA6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4766-C15D-4D11-ABB8-9840A91AE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24D0-F4F2-4CB6-A575-2CAF2D944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2FCE-E480-43AE-8AD6-5F262CC9E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3EF-B8BE-4079-99C9-61D49FAFC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B461-1344-4FDC-80F6-DFD86DDC7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DAA-4E78-43C1-97F1-B583F9461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9208-6836-4BBF-9BD6-19363396B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B33-5163-4BAE-8ACE-A5EF8970F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6337-B006-48DD-96F6-DE712B32D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42A-48A0-4684-98B7-B9C6FEBF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D19-774A-425B-879A-27C5CC3F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DA3-FBE9-43D3-A86C-9CDAF10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675-8231-4778-A2F6-0D07AD58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28E-8299-4915-847A-50A202B2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798-2801-46FB-BA4B-CB7CF169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FE8-38D3-47C1-A783-F4BF3E20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C6A-44B7-45FB-892A-1F23A2B8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404-77EF-47F5-802E-095DFD49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4E2-DA6F-43F6-905E-3A133F1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E11-DF4C-4C63-87AF-311E818F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EA4-9493-4959-87FC-60DAEB2B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E192-DB7D-4F20-BF42-DF873C0DCA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B908-2D32-46AD-AA23-0A128F8C4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agstuhl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9528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95280" y="3049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BQP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en-US" sz="5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7030a0"/>
                </a:solidFill>
                <a:latin typeface="Arial"/>
              </a:rPr>
              <a:t>P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304920" y="1752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tale of two strong-willed complexity classe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16-year-old quest to find an oracle that separates them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solution at last—but only for relational probl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The beast guarding the inner sanctum unmasked: the Generalized Linial-Nisan Conjectu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Where others flee in terror, a Braver Man attack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ictorian LET"/>
              </a:rPr>
              <a:t>A $200 bounty for slaughtering the wounded beas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14C5-EDE1-4E21-BC9D-61BC084C4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Not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143000"/>
            <a:ext cx="84582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ey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 that, if we had a constant-depth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poly(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size circuit C for FOURIER SAMPLING, then we could violate a know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 bound, by “sneaking a MAJORITY problem” into the estimation of some random Fourier coeffic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bviou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ow do we know C will output the particular s we’re interested in, thereby revealing anything about          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don’t! 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Indeed, there’s only a ~1/2</a:t>
            </a:r>
            <a:r>
              <a:rPr b="0" lang="en-US" sz="2200" spc="-1" strike="noStrike" baseline="30000">
                <a:solidFill>
                  <a:srgbClr val="00b050"/>
                </a:solidFill>
                <a:latin typeface="Calibri"/>
              </a:rPr>
              <a:t>n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hance it w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we have a long time to wait, since our reduction can be nondeterministic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That just adds more layers to the </a:t>
            </a: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2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6781680" y="23623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295280" y="37339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2081-C6B6-4786-B4BD-E5399EE27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80880" y="1219320"/>
            <a:ext cx="8382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each bit of an N-bit string is 1 with independent probability p.  Then any depth-d circuit to decide whether p=½ or p=½+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with constant bias) must have si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2971800" y="2666880"/>
                <a:ext cx="2846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ε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2</m:t>
                                        </m:r>
                                      </m:e>
                                    </m:d>
                                  </m:den>
                                </m:f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TextBox 13"/>
          <p:cNvSpPr/>
          <p:nvPr/>
        </p:nvSpPr>
        <p:spPr>
          <a:xfrm>
            <a:off x="1600200" y="3886200"/>
            <a:ext cx="6095880" cy="5054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you’re here, you can prove th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tarting Point for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3E9-AADE-46C6-80CD-B4A00BAB7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48006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’ll take a circuit that outputs slightly-larger-than-average Fourier coefficients of f, and get a circuit for detecting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ia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Straight Arrow Connector 23"/>
          <p:cNvCxnSpPr/>
          <p:nvPr/>
        </p:nvCxnSpPr>
        <p:spPr>
          <a:xfrm>
            <a:off x="2057040" y="2819520"/>
            <a:ext cx="47250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3" name="Text Box 3"/>
          <p:cNvSpPr/>
          <p:nvPr/>
        </p:nvSpPr>
        <p:spPr>
          <a:xfrm>
            <a:off x="304920" y="342900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lic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hooses 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b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uniformly at ran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304920" y="4876920"/>
                <a:ext cx="46051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  <m:r>
                                        <m:t xml:space="preserve">⋅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7086600" y="3962520"/>
                <a:ext cx="1371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631F-4FDB-43A9-B865-952A78F33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676520" cy="165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562040" cy="1660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Fourier Guess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04920" y="4343400"/>
            <a:ext cx="373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486400" y="3429000"/>
            <a:ext cx="3505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ob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ust output a z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9"/>
          <p:cNvGrpSpPr/>
          <p:nvPr/>
        </p:nvGrpSpPr>
        <p:grpSpPr>
          <a:xfrm>
            <a:off x="2666880" y="1219320"/>
            <a:ext cx="762120" cy="1981080"/>
            <a:chOff x="2666880" y="1219320"/>
            <a:chExt cx="762120" cy="1981080"/>
          </a:xfrm>
        </p:grpSpPr>
        <p:sp>
          <p:nvSpPr>
            <p:cNvPr id="163" name="Rectangle 24"/>
            <p:cNvSpPr/>
            <p:nvPr/>
          </p:nvSpPr>
          <p:spPr>
            <a:xfrm>
              <a:off x="3200400" y="13716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200400" y="16002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3200400" y="18288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200400" y="20574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200400" y="22860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3200400" y="25146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3200400" y="27432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3200400" y="2971800"/>
              <a:ext cx="228600" cy="22860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Object 2"/>
                <p:cNvSpPr txBox="1"/>
                <p:nvPr/>
              </p:nvSpPr>
              <p:spPr>
                <a:xfrm>
                  <a:off x="2666880" y="1219320"/>
                  <a:ext cx="47916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Text Box 3"/>
          <p:cNvSpPr/>
          <p:nvPr/>
        </p:nvSpPr>
        <p:spPr>
          <a:xfrm>
            <a:off x="3886200" y="1295280"/>
            <a:ext cx="23623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s truth table of f to Bo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s s,b secr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2"/>
          <p:cNvGrpSpPr/>
          <p:nvPr/>
        </p:nvGrpSpPr>
        <p:grpSpPr>
          <a:xfrm>
            <a:off x="228600" y="1371600"/>
            <a:ext cx="5029200" cy="4267080"/>
            <a:chOff x="228600" y="1371600"/>
            <a:chExt cx="5029200" cy="4267080"/>
          </a:xfrm>
        </p:grpSpPr>
        <p:sp>
          <p:nvSpPr>
            <p:cNvPr id="174" name="Rectangle 38"/>
            <p:cNvSpPr/>
            <p:nvPr/>
          </p:nvSpPr>
          <p:spPr>
            <a:xfrm>
              <a:off x="228600" y="1371600"/>
              <a:ext cx="5029200" cy="426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"/>
            <p:cNvSpPr/>
            <p:nvPr/>
          </p:nvSpPr>
          <p:spPr>
            <a:xfrm>
              <a:off x="457200" y="144756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Key Theorem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2"/>
                <p:cNvSpPr txBox="1"/>
                <p:nvPr/>
              </p:nvSpPr>
              <p:spPr>
                <a:xfrm>
                  <a:off x="990360" y="2438280"/>
                  <a:ext cx="342900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</m:e>
                        <m:lim>
                          <m:r>
                            <m:t xml:space="preserve">f</m:t>
                          </m:r>
                        </m:lim>
                      </m:limLow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</m:e>
                      </m:d>
                      <m:r>
                        <m:t xml:space="preserve">≥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e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Rectangle 40"/>
            <p:cNvSpPr/>
            <p:nvPr/>
          </p:nvSpPr>
          <p:spPr>
            <a:xfrm>
              <a:off x="592200" y="1904760"/>
              <a:ext cx="43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Regardless of Bob’s strategy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1"/>
            <p:cNvSpPr/>
            <p:nvPr/>
          </p:nvSpPr>
          <p:spPr>
            <a:xfrm>
              <a:off x="228600" y="3733920"/>
              <a:ext cx="5029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In other words, if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&gt;1.1, Bob outputs the “true” s with probability noticeably more than 1/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… even if he tries to avoid it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572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inishing the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80880" y="1143000"/>
            <a:ext cx="80010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A be a random ora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ew A as encoding a random Boolean function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 for each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t R be the relational problem where, on input 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you’re asked to output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676520" y="4191120"/>
                <a:ext cx="36892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BQP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C6A6-EEE9-49A0-BE36-A75737680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7543800" y="3048120"/>
                <a:ext cx="14828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4848120" y="3505320"/>
                <a:ext cx="15415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1600200" y="5638680"/>
                <a:ext cx="405144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BPP</m:t>
                            </m:r>
                          </m:e>
                          <m: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H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12"/>
          <p:cNvSpPr/>
          <p:nvPr/>
        </p:nvSpPr>
        <p:spPr>
          <a:xfrm>
            <a:off x="380880" y="510552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the other hand, standard diagonalization tricks im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8452-EB68-4602-864D-2DA292114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207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Straight Arrow Connector 15"/>
            <p:cNvCxnSpPr>
              <a:stCxn id="207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210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Straight Arrow Connector 18"/>
            <p:cNvCxnSpPr>
              <a:stCxn id="210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2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213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Straight Arrow Connector 22"/>
            <p:cNvCxnSpPr>
              <a:stCxn id="213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5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78A3-92A0-4F1E-B203-882F157D4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57200" y="3049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ntuition: FOURIER CHECKING Shouldn’t Be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457200" y="1752480"/>
            <a:ext cx="8153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, computing the Fourier coefficient           is a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 and g being forrelated is an extremely “global” property: conditioning on a polynomial number of f(x) and g(y) values should reveal almost noth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w to formalize and prove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82F-A328-4B34-ADB3-5921C9514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133720" y="2819520"/>
                <a:ext cx="701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371600" y="3505320"/>
                <a:ext cx="33717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3"/>
          <p:cNvSpPr/>
          <p:nvPr/>
        </p:nvSpPr>
        <p:spPr>
          <a:xfrm>
            <a:off x="380880" y="2514600"/>
            <a:ext cx="815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rucial Defini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distribution D is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-almost 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4813200"/>
            <a:ext cx="77724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k, the forrelated distribution F is O(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-almost k-wise 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few pages of Gaussian integrals, then a discretization st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80880" y="228600"/>
            <a:ext cx="8458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ter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product of k literals of the form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1-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914400"/>
            <a:ext cx="80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stribution D over 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-wise independ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for all k-term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2514600" y="1371600"/>
                <a:ext cx="343692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FFD2-55B9-43E2-9A62-347DEE58E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3"/>
          <p:cNvGrpSpPr/>
          <p:nvPr/>
        </p:nvGrpSpPr>
        <p:grpSpPr>
          <a:xfrm>
            <a:off x="4800240" y="3352680"/>
            <a:ext cx="4191480" cy="1447920"/>
            <a:chOff x="4800240" y="3352680"/>
            <a:chExt cx="4191480" cy="1447920"/>
          </a:xfrm>
        </p:grpSpPr>
        <p:sp>
          <p:nvSpPr>
            <p:cNvPr id="239" name="Oval 9"/>
            <p:cNvSpPr/>
            <p:nvPr/>
          </p:nvSpPr>
          <p:spPr>
            <a:xfrm>
              <a:off x="5715000" y="3352680"/>
              <a:ext cx="3276720" cy="144792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"/>
            <p:cNvSpPr/>
            <p:nvPr/>
          </p:nvSpPr>
          <p:spPr>
            <a:xfrm>
              <a:off x="5715000" y="3504960"/>
              <a:ext cx="32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Approximation is multiplicative, not additive … that’s important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Straight Arrow Connector 12"/>
            <p:cNvCxnSpPr>
              <a:stCxn id="240" idx="1"/>
            </p:cNvCxnSpPr>
            <p:nvPr/>
          </p:nvCxnSpPr>
          <p:spPr>
            <a:xfrm flipH="1" flipV="1">
              <a:off x="4800240" y="4038120"/>
              <a:ext cx="915120" cy="20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114300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azzi’0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depth-2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77A5-7934-407C-AA5D-CBBF53118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152280" y="304920"/>
            <a:ext cx="8839440" cy="2590560"/>
            <a:chOff x="152280" y="304920"/>
            <a:chExt cx="8839440" cy="2590560"/>
          </a:xfrm>
        </p:grpSpPr>
        <p:sp>
          <p:nvSpPr>
            <p:cNvPr id="245" name="Rectangle 11"/>
            <p:cNvSpPr/>
            <p:nvPr/>
          </p:nvSpPr>
          <p:spPr>
            <a:xfrm>
              <a:off x="152280" y="304920"/>
              <a:ext cx="8839440" cy="259056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"/>
            <p:cNvSpPr/>
            <p:nvPr/>
          </p:nvSpPr>
          <p:spPr>
            <a:xfrm>
              <a:off x="228240" y="380880"/>
              <a:ext cx="868716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Linial-Nisan Conjecture (1990) </a:t>
              </a: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with weaker parameters that suffice for us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Let f:{0,1}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n</a:t>
              </a:r>
              <a:r>
                <a:rPr b="0" lang="en-US" sz="2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{0,1} be computed by a circuit of size           and depth O(1).  Then for all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2"/>
                <p:cNvSpPr txBox="1"/>
                <p:nvPr/>
              </p:nvSpPr>
              <p:spPr>
                <a:xfrm>
                  <a:off x="2286000" y="1752480"/>
                  <a:ext cx="472788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Object 2"/>
                <p:cNvSpPr txBox="1"/>
                <p:nvPr/>
              </p:nvSpPr>
              <p:spPr>
                <a:xfrm>
                  <a:off x="7086600" y="838080"/>
                  <a:ext cx="793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Group 14"/>
          <p:cNvGrpSpPr/>
          <p:nvPr/>
        </p:nvGrpSpPr>
        <p:grpSpPr>
          <a:xfrm>
            <a:off x="533520" y="3962520"/>
            <a:ext cx="8076960" cy="2286000"/>
            <a:chOff x="533520" y="3962520"/>
            <a:chExt cx="8076960" cy="2286000"/>
          </a:xfrm>
        </p:grpSpPr>
        <p:sp>
          <p:nvSpPr>
            <p:cNvPr id="250" name="Rectangle 12"/>
            <p:cNvSpPr/>
            <p:nvPr/>
          </p:nvSpPr>
          <p:spPr>
            <a:xfrm>
              <a:off x="533520" y="3962520"/>
              <a:ext cx="8076960" cy="2286000"/>
            </a:xfrm>
            <a:prstGeom prst="rect">
              <a:avLst/>
            </a:prstGeom>
            <a:solidFill>
              <a:srgbClr val="ffff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"/>
            <p:cNvSpPr/>
            <p:nvPr/>
          </p:nvSpPr>
          <p:spPr>
            <a:xfrm>
              <a:off x="533520" y="3962520"/>
              <a:ext cx="800100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“</a:t>
              </a:r>
              <a:r>
                <a:rPr b="1" lang="en-US" sz="2600" spc="-1" strike="noStrike">
                  <a:solidFill>
                    <a:srgbClr val="ff0000"/>
                  </a:solidFill>
                  <a:latin typeface="Calibri"/>
                </a:rPr>
                <a:t>Generalized Linial-Nisan Conjecture”: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Let f be computed by a circuit of size           and depth O(1).  Then for all 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1/n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1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1" lang="en-US" sz="2600" spc="-1" strike="noStrike">
                  <a:solidFill>
                    <a:srgbClr val="000000"/>
                  </a:solidFill>
                  <a:latin typeface="Calibri"/>
                </a:rPr>
                <a:t>-almost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 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</a:rPr>
                <a:t>(1)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-wise independent distributions D,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2"/>
                <p:cNvSpPr txBox="1"/>
                <p:nvPr/>
              </p:nvSpPr>
              <p:spPr>
                <a:xfrm>
                  <a:off x="2590920" y="5105520"/>
                  <a:ext cx="472752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  <m:r>
                                <m:t xml:space="preserve">D</m:t>
                              </m:r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  <m:r>
                            <m:t xml:space="preserve">−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</m:e>
                            <m:lim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0,1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lim>
                          </m:limLow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2"/>
                <p:cNvSpPr txBox="1"/>
                <p:nvPr/>
              </p:nvSpPr>
              <p:spPr>
                <a:xfrm>
                  <a:off x="3048120" y="4267080"/>
                  <a:ext cx="79344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o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Text Box 3"/>
          <p:cNvSpPr/>
          <p:nvPr/>
        </p:nvSpPr>
        <p:spPr>
          <a:xfrm>
            <a:off x="533520" y="320040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azborov’08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ramatically simplified Bazzi’s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320040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ally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raverman’09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ed the whole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219320" y="320040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as, we need th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0" descr=""/>
          <p:cNvPicPr/>
          <p:nvPr/>
        </p:nvPicPr>
        <p:blipFill>
          <a:blip r:embed="rId1"/>
          <a:stretch/>
        </p:blipFill>
        <p:spPr>
          <a:xfrm>
            <a:off x="7115040" y="1143000"/>
            <a:ext cx="2028960" cy="2028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228600" y="152280"/>
            <a:ext cx="861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w-Fat Sandwich Conjecture”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t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 be computed by a circuit of size           and depth O(1).  Then there exist polynomials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, of degree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F62F-938B-451E-84D5-2BFD78AB2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2743200" y="1538280"/>
                <a:ext cx="3900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2971800" y="2171880"/>
                <a:ext cx="4038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E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1433520" y="3367080"/>
                <a:ext cx="5805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ℓ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erms </m:t>
                        </m:r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2438280" y="4205160"/>
                <a:ext cx="5486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4" name="Text Box 3"/>
          <p:cNvSpPr/>
          <p:nvPr/>
        </p:nvSpPr>
        <p:spPr>
          <a:xfrm>
            <a:off x="457200" y="5119560"/>
            <a:ext cx="85345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orem (Bazzi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-Fat Sandwich Conj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Generalized Linial-Nisan Conj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Without the low-fat condition,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ndwich Conjecture</a:t>
            </a:r>
            <a:br>
              <a:rPr sz="22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 Linial-Nisan Conje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4191120" y="457200"/>
                <a:ext cx="7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6" name="Text Box 3"/>
          <p:cNvSpPr/>
          <p:nvPr/>
        </p:nvSpPr>
        <p:spPr>
          <a:xfrm>
            <a:off x="228600" y="153828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) Sandwi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28600" y="222408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) Approxi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28600" y="2833560"/>
            <a:ext cx="82296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(iii) Low-Fat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an be written 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295280" y="43578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28"/>
          <p:cNvSpPr/>
          <p:nvPr/>
        </p:nvSpPr>
        <p:spPr>
          <a:xfrm>
            <a:off x="1041480" y="4119480"/>
            <a:ext cx="3790800" cy="2354400"/>
          </a:xfrm>
          <a:custGeom>
            <a:avLst/>
            <a:gdLst/>
            <a:ahLst/>
            <a:rect l="l" t="t" r="r" b="b"/>
            <a:pathLst>
              <a:path w="3790633" h="2354893">
                <a:moveTo>
                  <a:pt x="1636156" y="2192055"/>
                </a:moveTo>
                <a:cubicBezTo>
                  <a:pt x="1627805" y="2171178"/>
                  <a:pt x="1611584" y="2132857"/>
                  <a:pt x="1586052" y="2116899"/>
                </a:cubicBezTo>
                <a:cubicBezTo>
                  <a:pt x="1552649" y="2096022"/>
                  <a:pt x="1513696" y="2082123"/>
                  <a:pt x="1485844" y="2054269"/>
                </a:cubicBezTo>
                <a:cubicBezTo>
                  <a:pt x="1477493" y="2045918"/>
                  <a:pt x="1471355" y="2034498"/>
                  <a:pt x="1460792" y="2029216"/>
                </a:cubicBezTo>
                <a:cubicBezTo>
                  <a:pt x="1437173" y="2017406"/>
                  <a:pt x="1407608" y="2018812"/>
                  <a:pt x="1385636" y="2004164"/>
                </a:cubicBezTo>
                <a:cubicBezTo>
                  <a:pt x="1326086" y="1964464"/>
                  <a:pt x="1362339" y="1983872"/>
                  <a:pt x="1272902" y="1954060"/>
                </a:cubicBezTo>
                <a:lnTo>
                  <a:pt x="1235323" y="1941534"/>
                </a:lnTo>
                <a:cubicBezTo>
                  <a:pt x="1206458" y="1946345"/>
                  <a:pt x="1153425" y="1951168"/>
                  <a:pt x="1122589" y="1966586"/>
                </a:cubicBezTo>
                <a:cubicBezTo>
                  <a:pt x="1109124" y="1973319"/>
                  <a:pt x="1097537" y="1983287"/>
                  <a:pt x="1085011" y="1991638"/>
                </a:cubicBezTo>
                <a:cubicBezTo>
                  <a:pt x="1072485" y="1983287"/>
                  <a:pt x="1060898" y="1973319"/>
                  <a:pt x="1047433" y="1966586"/>
                </a:cubicBezTo>
                <a:cubicBezTo>
                  <a:pt x="1035623" y="1960681"/>
                  <a:pt x="1019191" y="1963396"/>
                  <a:pt x="1009855" y="1954060"/>
                </a:cubicBezTo>
                <a:cubicBezTo>
                  <a:pt x="988565" y="1932770"/>
                  <a:pt x="976452" y="1903956"/>
                  <a:pt x="959751" y="1878904"/>
                </a:cubicBezTo>
                <a:cubicBezTo>
                  <a:pt x="951400" y="1866378"/>
                  <a:pt x="939460" y="1855608"/>
                  <a:pt x="934699" y="1841326"/>
                </a:cubicBezTo>
                <a:cubicBezTo>
                  <a:pt x="930524" y="1828800"/>
                  <a:pt x="928078" y="1815558"/>
                  <a:pt x="922173" y="1803748"/>
                </a:cubicBezTo>
                <a:cubicBezTo>
                  <a:pt x="873609" y="1706620"/>
                  <a:pt x="916079" y="1823045"/>
                  <a:pt x="884595" y="1728592"/>
                </a:cubicBezTo>
                <a:cubicBezTo>
                  <a:pt x="888770" y="1716066"/>
                  <a:pt x="888873" y="1701324"/>
                  <a:pt x="897121" y="1691014"/>
                </a:cubicBezTo>
                <a:cubicBezTo>
                  <a:pt x="914781" y="1668939"/>
                  <a:pt x="947522" y="1661688"/>
                  <a:pt x="972277" y="1653436"/>
                </a:cubicBezTo>
                <a:cubicBezTo>
                  <a:pt x="981002" y="1640348"/>
                  <a:pt x="1013312" y="1599024"/>
                  <a:pt x="1009855" y="1578279"/>
                </a:cubicBezTo>
                <a:cubicBezTo>
                  <a:pt x="1007150" y="1562050"/>
                  <a:pt x="957590" y="1508881"/>
                  <a:pt x="947225" y="1503123"/>
                </a:cubicBezTo>
                <a:cubicBezTo>
                  <a:pt x="924141" y="1490299"/>
                  <a:pt x="897121" y="1486422"/>
                  <a:pt x="872069" y="1478071"/>
                </a:cubicBezTo>
                <a:lnTo>
                  <a:pt x="834491" y="1465545"/>
                </a:lnTo>
                <a:cubicBezTo>
                  <a:pt x="796913" y="1469720"/>
                  <a:pt x="759051" y="1471855"/>
                  <a:pt x="721756" y="1478071"/>
                </a:cubicBezTo>
                <a:cubicBezTo>
                  <a:pt x="708732" y="1480242"/>
                  <a:pt x="696874" y="1486970"/>
                  <a:pt x="684178" y="1490597"/>
                </a:cubicBezTo>
                <a:cubicBezTo>
                  <a:pt x="667625" y="1495326"/>
                  <a:pt x="650775" y="1498948"/>
                  <a:pt x="634074" y="1503123"/>
                </a:cubicBezTo>
                <a:cubicBezTo>
                  <a:pt x="609022" y="1498948"/>
                  <a:pt x="583012" y="1498628"/>
                  <a:pt x="558918" y="1490597"/>
                </a:cubicBezTo>
                <a:cubicBezTo>
                  <a:pt x="514182" y="1475685"/>
                  <a:pt x="493902" y="1424388"/>
                  <a:pt x="471236" y="1390389"/>
                </a:cubicBezTo>
                <a:cubicBezTo>
                  <a:pt x="381716" y="1256108"/>
                  <a:pt x="521126" y="1459902"/>
                  <a:pt x="408606" y="1315233"/>
                </a:cubicBezTo>
                <a:cubicBezTo>
                  <a:pt x="390121" y="1291467"/>
                  <a:pt x="368023" y="1268641"/>
                  <a:pt x="358502" y="1240077"/>
                </a:cubicBezTo>
                <a:lnTo>
                  <a:pt x="333450" y="1164921"/>
                </a:lnTo>
                <a:cubicBezTo>
                  <a:pt x="337625" y="1152395"/>
                  <a:pt x="345976" y="1140546"/>
                  <a:pt x="345976" y="1127342"/>
                </a:cubicBezTo>
                <a:cubicBezTo>
                  <a:pt x="345976" y="1127015"/>
                  <a:pt x="326831" y="1045568"/>
                  <a:pt x="320923" y="1039660"/>
                </a:cubicBezTo>
                <a:cubicBezTo>
                  <a:pt x="311587" y="1030324"/>
                  <a:pt x="296433" y="1028879"/>
                  <a:pt x="283345" y="1027134"/>
                </a:cubicBezTo>
                <a:cubicBezTo>
                  <a:pt x="233508" y="1020489"/>
                  <a:pt x="183137" y="1018783"/>
                  <a:pt x="133033" y="1014608"/>
                </a:cubicBezTo>
                <a:lnTo>
                  <a:pt x="107981" y="939452"/>
                </a:lnTo>
                <a:cubicBezTo>
                  <a:pt x="103806" y="926926"/>
                  <a:pt x="101360" y="913684"/>
                  <a:pt x="95455" y="901874"/>
                </a:cubicBezTo>
                <a:cubicBezTo>
                  <a:pt x="58593" y="828151"/>
                  <a:pt x="76308" y="869484"/>
                  <a:pt x="45351" y="776614"/>
                </a:cubicBezTo>
                <a:lnTo>
                  <a:pt x="20299" y="701458"/>
                </a:lnTo>
                <a:lnTo>
                  <a:pt x="7773" y="663879"/>
                </a:lnTo>
                <a:cubicBezTo>
                  <a:pt x="11948" y="626301"/>
                  <a:pt x="0" y="583043"/>
                  <a:pt x="20299" y="551145"/>
                </a:cubicBezTo>
                <a:lnTo>
                  <a:pt x="133033" y="513567"/>
                </a:lnTo>
                <a:lnTo>
                  <a:pt x="170611" y="501041"/>
                </a:lnTo>
                <a:lnTo>
                  <a:pt x="208189" y="488515"/>
                </a:lnTo>
                <a:cubicBezTo>
                  <a:pt x="212364" y="475989"/>
                  <a:pt x="220715" y="464141"/>
                  <a:pt x="220715" y="450937"/>
                </a:cubicBezTo>
                <a:cubicBezTo>
                  <a:pt x="220715" y="422166"/>
                  <a:pt x="193204" y="388333"/>
                  <a:pt x="170611" y="375781"/>
                </a:cubicBezTo>
                <a:cubicBezTo>
                  <a:pt x="147527" y="362957"/>
                  <a:pt x="95455" y="350729"/>
                  <a:pt x="95455" y="350729"/>
                </a:cubicBezTo>
                <a:cubicBezTo>
                  <a:pt x="35853" y="261326"/>
                  <a:pt x="27616" y="283883"/>
                  <a:pt x="57877" y="162838"/>
                </a:cubicBezTo>
                <a:cubicBezTo>
                  <a:pt x="61528" y="148233"/>
                  <a:pt x="70163" y="133239"/>
                  <a:pt x="82929" y="125260"/>
                </a:cubicBezTo>
                <a:cubicBezTo>
                  <a:pt x="105322" y="111264"/>
                  <a:pt x="158085" y="100208"/>
                  <a:pt x="158085" y="100208"/>
                </a:cubicBezTo>
                <a:cubicBezTo>
                  <a:pt x="169224" y="101446"/>
                  <a:pt x="275011" y="105229"/>
                  <a:pt x="308397" y="125260"/>
                </a:cubicBezTo>
                <a:cubicBezTo>
                  <a:pt x="318524" y="131336"/>
                  <a:pt x="326072" y="141090"/>
                  <a:pt x="333450" y="150312"/>
                </a:cubicBezTo>
                <a:cubicBezTo>
                  <a:pt x="342855" y="162067"/>
                  <a:pt x="350151" y="175364"/>
                  <a:pt x="358502" y="187890"/>
                </a:cubicBezTo>
                <a:cubicBezTo>
                  <a:pt x="366853" y="175364"/>
                  <a:pt x="368500" y="150312"/>
                  <a:pt x="383554" y="150312"/>
                </a:cubicBezTo>
                <a:cubicBezTo>
                  <a:pt x="399743" y="150312"/>
                  <a:pt x="418043" y="216203"/>
                  <a:pt x="421132" y="225469"/>
                </a:cubicBezTo>
                <a:cubicBezTo>
                  <a:pt x="429016" y="280659"/>
                  <a:pt x="420733" y="312752"/>
                  <a:pt x="458710" y="350729"/>
                </a:cubicBezTo>
                <a:cubicBezTo>
                  <a:pt x="469355" y="361374"/>
                  <a:pt x="483762" y="367430"/>
                  <a:pt x="496288" y="375781"/>
                </a:cubicBezTo>
                <a:cubicBezTo>
                  <a:pt x="516851" y="437470"/>
                  <a:pt x="494092" y="394828"/>
                  <a:pt x="546392" y="438411"/>
                </a:cubicBezTo>
                <a:cubicBezTo>
                  <a:pt x="560001" y="449752"/>
                  <a:pt x="569987" y="465113"/>
                  <a:pt x="583970" y="475989"/>
                </a:cubicBezTo>
                <a:cubicBezTo>
                  <a:pt x="636065" y="516507"/>
                  <a:pt x="645493" y="523987"/>
                  <a:pt x="696704" y="538619"/>
                </a:cubicBezTo>
                <a:cubicBezTo>
                  <a:pt x="713257" y="543348"/>
                  <a:pt x="730107" y="546970"/>
                  <a:pt x="746808" y="551145"/>
                </a:cubicBezTo>
                <a:cubicBezTo>
                  <a:pt x="771457" y="534712"/>
                  <a:pt x="791592" y="524837"/>
                  <a:pt x="809439" y="501041"/>
                </a:cubicBezTo>
                <a:cubicBezTo>
                  <a:pt x="876440" y="411708"/>
                  <a:pt x="826781" y="436806"/>
                  <a:pt x="897121" y="413359"/>
                </a:cubicBezTo>
                <a:cubicBezTo>
                  <a:pt x="905472" y="400833"/>
                  <a:pt x="911528" y="386426"/>
                  <a:pt x="922173" y="375781"/>
                </a:cubicBezTo>
                <a:cubicBezTo>
                  <a:pt x="932818" y="365136"/>
                  <a:pt x="950347" y="362484"/>
                  <a:pt x="959751" y="350729"/>
                </a:cubicBezTo>
                <a:cubicBezTo>
                  <a:pt x="967999" y="340419"/>
                  <a:pt x="968102" y="325677"/>
                  <a:pt x="972277" y="313151"/>
                </a:cubicBezTo>
                <a:cubicBezTo>
                  <a:pt x="959473" y="210721"/>
                  <a:pt x="952050" y="228809"/>
                  <a:pt x="972277" y="137786"/>
                </a:cubicBezTo>
                <a:cubicBezTo>
                  <a:pt x="975141" y="124897"/>
                  <a:pt x="976555" y="110518"/>
                  <a:pt x="984803" y="100208"/>
                </a:cubicBezTo>
                <a:cubicBezTo>
                  <a:pt x="994207" y="88453"/>
                  <a:pt x="1009855" y="83507"/>
                  <a:pt x="1022381" y="75156"/>
                </a:cubicBezTo>
                <a:cubicBezTo>
                  <a:pt x="1059948" y="81417"/>
                  <a:pt x="1139610" y="90678"/>
                  <a:pt x="1172693" y="112734"/>
                </a:cubicBezTo>
                <a:lnTo>
                  <a:pt x="1210271" y="137786"/>
                </a:lnTo>
                <a:cubicBezTo>
                  <a:pt x="1218622" y="150312"/>
                  <a:pt x="1225526" y="163934"/>
                  <a:pt x="1235323" y="175364"/>
                </a:cubicBezTo>
                <a:cubicBezTo>
                  <a:pt x="1250695" y="193297"/>
                  <a:pt x="1285428" y="225469"/>
                  <a:pt x="1285428" y="225469"/>
                </a:cubicBezTo>
                <a:cubicBezTo>
                  <a:pt x="1289603" y="237995"/>
                  <a:pt x="1288618" y="253711"/>
                  <a:pt x="1297954" y="263047"/>
                </a:cubicBezTo>
                <a:cubicBezTo>
                  <a:pt x="1333841" y="298934"/>
                  <a:pt x="1366584" y="313076"/>
                  <a:pt x="1410688" y="325677"/>
                </a:cubicBezTo>
                <a:cubicBezTo>
                  <a:pt x="1427241" y="330406"/>
                  <a:pt x="1444091" y="334028"/>
                  <a:pt x="1460792" y="338203"/>
                </a:cubicBezTo>
                <a:cubicBezTo>
                  <a:pt x="1481184" y="334804"/>
                  <a:pt x="1547095" y="327835"/>
                  <a:pt x="1573526" y="313151"/>
                </a:cubicBezTo>
                <a:cubicBezTo>
                  <a:pt x="1697325" y="244374"/>
                  <a:pt x="1595776" y="271864"/>
                  <a:pt x="1723839" y="250521"/>
                </a:cubicBezTo>
                <a:cubicBezTo>
                  <a:pt x="1795691" y="226570"/>
                  <a:pt x="1731446" y="254210"/>
                  <a:pt x="1786469" y="212942"/>
                </a:cubicBezTo>
                <a:cubicBezTo>
                  <a:pt x="1810556" y="194877"/>
                  <a:pt x="1861625" y="162838"/>
                  <a:pt x="1861625" y="162838"/>
                </a:cubicBezTo>
                <a:cubicBezTo>
                  <a:pt x="1862825" y="162918"/>
                  <a:pt x="2044534" y="194315"/>
                  <a:pt x="2099619" y="162838"/>
                </a:cubicBezTo>
                <a:cubicBezTo>
                  <a:pt x="2114999" y="154049"/>
                  <a:pt x="2124671" y="137786"/>
                  <a:pt x="2137197" y="125260"/>
                </a:cubicBezTo>
                <a:lnTo>
                  <a:pt x="2162250" y="50104"/>
                </a:lnTo>
                <a:cubicBezTo>
                  <a:pt x="2166425" y="37578"/>
                  <a:pt x="2162250" y="16701"/>
                  <a:pt x="2174776" y="12526"/>
                </a:cubicBezTo>
                <a:lnTo>
                  <a:pt x="2212354" y="0"/>
                </a:lnTo>
                <a:cubicBezTo>
                  <a:pt x="2288077" y="18931"/>
                  <a:pt x="2246126" y="7082"/>
                  <a:pt x="2337614" y="37578"/>
                </a:cubicBezTo>
                <a:cubicBezTo>
                  <a:pt x="2350140" y="41753"/>
                  <a:pt x="2364206" y="42780"/>
                  <a:pt x="2375192" y="50104"/>
                </a:cubicBezTo>
                <a:lnTo>
                  <a:pt x="2525504" y="150312"/>
                </a:lnTo>
                <a:cubicBezTo>
                  <a:pt x="2585055" y="190012"/>
                  <a:pt x="2548800" y="170603"/>
                  <a:pt x="2638239" y="200416"/>
                </a:cubicBezTo>
                <a:lnTo>
                  <a:pt x="2675817" y="212942"/>
                </a:lnTo>
                <a:lnTo>
                  <a:pt x="2750973" y="187890"/>
                </a:lnTo>
                <a:lnTo>
                  <a:pt x="2788551" y="175364"/>
                </a:lnTo>
                <a:cubicBezTo>
                  <a:pt x="2863707" y="179539"/>
                  <a:pt x="2939086" y="180754"/>
                  <a:pt x="3014019" y="187890"/>
                </a:cubicBezTo>
                <a:cubicBezTo>
                  <a:pt x="3036540" y="190035"/>
                  <a:pt x="3074064" y="210357"/>
                  <a:pt x="3089176" y="225469"/>
                </a:cubicBezTo>
                <a:cubicBezTo>
                  <a:pt x="3103938" y="240231"/>
                  <a:pt x="3110716" y="262208"/>
                  <a:pt x="3126754" y="275573"/>
                </a:cubicBezTo>
                <a:cubicBezTo>
                  <a:pt x="3136897" y="284026"/>
                  <a:pt x="3151806" y="283924"/>
                  <a:pt x="3164332" y="288099"/>
                </a:cubicBezTo>
                <a:cubicBezTo>
                  <a:pt x="3172683" y="300625"/>
                  <a:pt x="3177629" y="316273"/>
                  <a:pt x="3189384" y="325677"/>
                </a:cubicBezTo>
                <a:cubicBezTo>
                  <a:pt x="3199694" y="333925"/>
                  <a:pt x="3217626" y="328867"/>
                  <a:pt x="3226962" y="338203"/>
                </a:cubicBezTo>
                <a:cubicBezTo>
                  <a:pt x="3248252" y="359493"/>
                  <a:pt x="3260365" y="388307"/>
                  <a:pt x="3277066" y="413359"/>
                </a:cubicBezTo>
                <a:lnTo>
                  <a:pt x="3302118" y="450937"/>
                </a:lnTo>
                <a:cubicBezTo>
                  <a:pt x="3310469" y="463463"/>
                  <a:pt x="3316525" y="477870"/>
                  <a:pt x="3327170" y="488515"/>
                </a:cubicBezTo>
                <a:cubicBezTo>
                  <a:pt x="3339696" y="501041"/>
                  <a:pt x="3353407" y="512484"/>
                  <a:pt x="3364748" y="526093"/>
                </a:cubicBezTo>
                <a:cubicBezTo>
                  <a:pt x="3374386" y="537658"/>
                  <a:pt x="3377034" y="555692"/>
                  <a:pt x="3389800" y="563671"/>
                </a:cubicBezTo>
                <a:cubicBezTo>
                  <a:pt x="3412193" y="577667"/>
                  <a:pt x="3439904" y="580372"/>
                  <a:pt x="3464956" y="588723"/>
                </a:cubicBezTo>
                <a:lnTo>
                  <a:pt x="3502534" y="601249"/>
                </a:lnTo>
                <a:lnTo>
                  <a:pt x="3540113" y="613775"/>
                </a:lnTo>
                <a:cubicBezTo>
                  <a:pt x="3548464" y="626301"/>
                  <a:pt x="3562690" y="636503"/>
                  <a:pt x="3565165" y="651353"/>
                </a:cubicBezTo>
                <a:cubicBezTo>
                  <a:pt x="3567336" y="664377"/>
                  <a:pt x="3552639" y="675728"/>
                  <a:pt x="3552639" y="688932"/>
                </a:cubicBezTo>
                <a:cubicBezTo>
                  <a:pt x="3552639" y="722595"/>
                  <a:pt x="3559143" y="756020"/>
                  <a:pt x="3565165" y="789140"/>
                </a:cubicBezTo>
                <a:cubicBezTo>
                  <a:pt x="3567527" y="802131"/>
                  <a:pt x="3568355" y="817382"/>
                  <a:pt x="3577691" y="826718"/>
                </a:cubicBezTo>
                <a:cubicBezTo>
                  <a:pt x="3587027" y="836054"/>
                  <a:pt x="3602743" y="835069"/>
                  <a:pt x="3615269" y="839244"/>
                </a:cubicBezTo>
                <a:cubicBezTo>
                  <a:pt x="3628322" y="878403"/>
                  <a:pt x="3640981" y="927366"/>
                  <a:pt x="3677899" y="951978"/>
                </a:cubicBezTo>
                <a:lnTo>
                  <a:pt x="3715477" y="977030"/>
                </a:lnTo>
                <a:cubicBezTo>
                  <a:pt x="3742806" y="1059018"/>
                  <a:pt x="3704849" y="978548"/>
                  <a:pt x="3765581" y="1027134"/>
                </a:cubicBezTo>
                <a:cubicBezTo>
                  <a:pt x="3777336" y="1036538"/>
                  <a:pt x="3782282" y="1052186"/>
                  <a:pt x="3790633" y="1064712"/>
                </a:cubicBezTo>
                <a:cubicBezTo>
                  <a:pt x="3786458" y="1089764"/>
                  <a:pt x="3783088" y="1114964"/>
                  <a:pt x="3778107" y="1139869"/>
                </a:cubicBezTo>
                <a:cubicBezTo>
                  <a:pt x="3774731" y="1156750"/>
                  <a:pt x="3768661" y="1173035"/>
                  <a:pt x="3765581" y="1189973"/>
                </a:cubicBezTo>
                <a:cubicBezTo>
                  <a:pt x="3760300" y="1219021"/>
                  <a:pt x="3768906" y="1252747"/>
                  <a:pt x="3753055" y="1277655"/>
                </a:cubicBezTo>
                <a:cubicBezTo>
                  <a:pt x="3709486" y="1346121"/>
                  <a:pt x="3659488" y="1314981"/>
                  <a:pt x="3602743" y="1352811"/>
                </a:cubicBezTo>
                <a:lnTo>
                  <a:pt x="3565165" y="1377863"/>
                </a:lnTo>
                <a:cubicBezTo>
                  <a:pt x="3548463" y="1402915"/>
                  <a:pt x="3512334" y="1423034"/>
                  <a:pt x="3515060" y="1453019"/>
                </a:cubicBezTo>
                <a:cubicBezTo>
                  <a:pt x="3519235" y="1498948"/>
                  <a:pt x="3517923" y="1545711"/>
                  <a:pt x="3527586" y="1590805"/>
                </a:cubicBezTo>
                <a:cubicBezTo>
                  <a:pt x="3537722" y="1638105"/>
                  <a:pt x="3557863" y="1624733"/>
                  <a:pt x="3590217" y="1640910"/>
                </a:cubicBezTo>
                <a:cubicBezTo>
                  <a:pt x="3676720" y="1684162"/>
                  <a:pt x="3573622" y="1652419"/>
                  <a:pt x="3677899" y="1678488"/>
                </a:cubicBezTo>
                <a:cubicBezTo>
                  <a:pt x="3698776" y="1674313"/>
                  <a:pt x="3719239" y="1665962"/>
                  <a:pt x="3740529" y="1665962"/>
                </a:cubicBezTo>
                <a:cubicBezTo>
                  <a:pt x="3753733" y="1665962"/>
                  <a:pt x="3775243" y="1665599"/>
                  <a:pt x="3778107" y="1678488"/>
                </a:cubicBezTo>
                <a:cubicBezTo>
                  <a:pt x="3785409" y="1711349"/>
                  <a:pt x="3771603" y="1745576"/>
                  <a:pt x="3765581" y="1778696"/>
                </a:cubicBezTo>
                <a:cubicBezTo>
                  <a:pt x="3754806" y="1837959"/>
                  <a:pt x="3745378" y="1818833"/>
                  <a:pt x="3677899" y="1841326"/>
                </a:cubicBezTo>
                <a:lnTo>
                  <a:pt x="3640321" y="1853852"/>
                </a:lnTo>
                <a:cubicBezTo>
                  <a:pt x="3623620" y="1878904"/>
                  <a:pt x="3599738" y="1900444"/>
                  <a:pt x="3590217" y="1929008"/>
                </a:cubicBezTo>
                <a:cubicBezTo>
                  <a:pt x="3586042" y="1941534"/>
                  <a:pt x="3585939" y="1956276"/>
                  <a:pt x="3577691" y="1966586"/>
                </a:cubicBezTo>
                <a:cubicBezTo>
                  <a:pt x="3557127" y="1992291"/>
                  <a:pt x="3486007" y="2011427"/>
                  <a:pt x="3464956" y="2016690"/>
                </a:cubicBezTo>
                <a:cubicBezTo>
                  <a:pt x="3308375" y="2055835"/>
                  <a:pt x="3503024" y="2005812"/>
                  <a:pt x="3377274" y="2041742"/>
                </a:cubicBezTo>
                <a:cubicBezTo>
                  <a:pt x="3358550" y="2047092"/>
                  <a:pt x="3309610" y="2056786"/>
                  <a:pt x="3289592" y="2066795"/>
                </a:cubicBezTo>
                <a:cubicBezTo>
                  <a:pt x="3276127" y="2073528"/>
                  <a:pt x="3264540" y="2083496"/>
                  <a:pt x="3252014" y="2091847"/>
                </a:cubicBezTo>
                <a:cubicBezTo>
                  <a:pt x="3243663" y="2104373"/>
                  <a:pt x="3236600" y="2117860"/>
                  <a:pt x="3226962" y="2129425"/>
                </a:cubicBezTo>
                <a:cubicBezTo>
                  <a:pt x="3207174" y="2153170"/>
                  <a:pt x="3179958" y="2177979"/>
                  <a:pt x="3151806" y="2192055"/>
                </a:cubicBezTo>
                <a:cubicBezTo>
                  <a:pt x="3139996" y="2197960"/>
                  <a:pt x="3126754" y="2200406"/>
                  <a:pt x="3114228" y="2204581"/>
                </a:cubicBezTo>
                <a:cubicBezTo>
                  <a:pt x="3089176" y="2200406"/>
                  <a:pt x="3064469" y="2192055"/>
                  <a:pt x="3039071" y="2192055"/>
                </a:cubicBezTo>
                <a:cubicBezTo>
                  <a:pt x="3009547" y="2192055"/>
                  <a:pt x="2980511" y="2199727"/>
                  <a:pt x="2951389" y="2204581"/>
                </a:cubicBezTo>
                <a:cubicBezTo>
                  <a:pt x="2890927" y="2214658"/>
                  <a:pt x="2899582" y="2213499"/>
                  <a:pt x="2851181" y="2229633"/>
                </a:cubicBezTo>
                <a:cubicBezTo>
                  <a:pt x="2823852" y="2311621"/>
                  <a:pt x="2861809" y="2231151"/>
                  <a:pt x="2801077" y="2279737"/>
                </a:cubicBezTo>
                <a:cubicBezTo>
                  <a:pt x="2789322" y="2289141"/>
                  <a:pt x="2788791" y="2309336"/>
                  <a:pt x="2776025" y="2317315"/>
                </a:cubicBezTo>
                <a:cubicBezTo>
                  <a:pt x="2753632" y="2331311"/>
                  <a:pt x="2725921" y="2334016"/>
                  <a:pt x="2700869" y="2342367"/>
                </a:cubicBezTo>
                <a:lnTo>
                  <a:pt x="2663291" y="2354893"/>
                </a:lnTo>
                <a:cubicBezTo>
                  <a:pt x="2549466" y="2338633"/>
                  <a:pt x="2603617" y="2351703"/>
                  <a:pt x="2500452" y="2317315"/>
                </a:cubicBezTo>
                <a:cubicBezTo>
                  <a:pt x="2487926" y="2313140"/>
                  <a:pt x="2473860" y="2312113"/>
                  <a:pt x="2462874" y="2304789"/>
                </a:cubicBezTo>
                <a:lnTo>
                  <a:pt x="2425296" y="2279737"/>
                </a:lnTo>
                <a:cubicBezTo>
                  <a:pt x="2404933" y="2283810"/>
                  <a:pt x="2303536" y="2304789"/>
                  <a:pt x="2287510" y="2304789"/>
                </a:cubicBezTo>
                <a:cubicBezTo>
                  <a:pt x="2245548" y="2304789"/>
                  <a:pt x="2204003" y="2296438"/>
                  <a:pt x="2162250" y="2292263"/>
                </a:cubicBezTo>
                <a:lnTo>
                  <a:pt x="2087093" y="2267211"/>
                </a:lnTo>
                <a:cubicBezTo>
                  <a:pt x="2074567" y="2263036"/>
                  <a:pt x="2060501" y="2262009"/>
                  <a:pt x="2049515" y="2254685"/>
                </a:cubicBezTo>
                <a:cubicBezTo>
                  <a:pt x="2024463" y="2237984"/>
                  <a:pt x="2002923" y="2214102"/>
                  <a:pt x="1974359" y="2204581"/>
                </a:cubicBezTo>
                <a:cubicBezTo>
                  <a:pt x="1949307" y="2196230"/>
                  <a:pt x="1921175" y="2194177"/>
                  <a:pt x="1899203" y="2179529"/>
                </a:cubicBezTo>
                <a:cubicBezTo>
                  <a:pt x="1850639" y="2147153"/>
                  <a:pt x="1875907" y="2159238"/>
                  <a:pt x="1824047" y="2141951"/>
                </a:cubicBezTo>
                <a:cubicBezTo>
                  <a:pt x="1798995" y="2146126"/>
                  <a:pt x="1770942" y="2141876"/>
                  <a:pt x="1748891" y="2154477"/>
                </a:cubicBezTo>
                <a:cubicBezTo>
                  <a:pt x="1737427" y="2161028"/>
                  <a:pt x="1742270" y="2180245"/>
                  <a:pt x="1736365" y="2192055"/>
                </a:cubicBezTo>
                <a:cubicBezTo>
                  <a:pt x="1725513" y="2213759"/>
                  <a:pt x="1705680" y="2239150"/>
                  <a:pt x="1686260" y="2254685"/>
                </a:cubicBezTo>
                <a:cubicBezTo>
                  <a:pt x="1674504" y="2264089"/>
                  <a:pt x="1661208" y="2271386"/>
                  <a:pt x="1648682" y="2279737"/>
                </a:cubicBezTo>
                <a:cubicBezTo>
                  <a:pt x="1644507" y="2267211"/>
                  <a:pt x="1638745" y="2255106"/>
                  <a:pt x="1636156" y="2242159"/>
                </a:cubicBezTo>
                <a:cubicBezTo>
                  <a:pt x="1630366" y="2213208"/>
                  <a:pt x="1644507" y="2212932"/>
                  <a:pt x="1636156" y="2192055"/>
                </a:cubicBez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04920" y="228600"/>
            <a:ext cx="853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Quantum Computing: Where Does It Fi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3048120" y="1674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2971800" y="4844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2057400" y="4646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048120" y="236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3200400" y="3351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762120" y="3427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6"/>
          <p:cNvSpPr/>
          <p:nvPr/>
        </p:nvSpPr>
        <p:spPr>
          <a:xfrm>
            <a:off x="2438280" y="1065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#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3505320" y="4692600"/>
            <a:ext cx="761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"/>
          <p:cNvSpPr/>
          <p:nvPr/>
        </p:nvSpPr>
        <p:spPr>
          <a:xfrm rot="511200">
            <a:off x="3358800" y="3185640"/>
            <a:ext cx="1295280" cy="2729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7"/>
          <p:cNvSpPr/>
          <p:nvPr/>
        </p:nvSpPr>
        <p:spPr>
          <a:xfrm rot="16674600">
            <a:off x="2818440" y="4118760"/>
            <a:ext cx="13032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 rot="574200">
            <a:off x="2346120" y="2266560"/>
            <a:ext cx="2693880" cy="3946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"/>
          <p:cNvSpPr/>
          <p:nvPr/>
        </p:nvSpPr>
        <p:spPr>
          <a:xfrm rot="574200">
            <a:off x="2185560" y="1643040"/>
            <a:ext cx="3094200" cy="4722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 rot="16650000">
            <a:off x="1307160" y="2302200"/>
            <a:ext cx="3754440" cy="4765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457200" y="988920"/>
            <a:ext cx="5715000" cy="5715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838080" y="4570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A534-9B94-4148-B9DB-2F72C9DB7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0"/>
          <p:cNvSpPr/>
          <p:nvPr/>
        </p:nvSpPr>
        <p:spPr>
          <a:xfrm>
            <a:off x="4648320" y="1295280"/>
            <a:ext cx="426708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ing, discrete log, etc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known to be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NP</a:t>
            </a:r>
            <a:r>
              <a:rPr b="1" lang="en-US" sz="2600" spc="-1" strike="noStrike">
                <a:solidFill>
                  <a:srgbClr val="7030a0"/>
                </a:solidFill>
                <a:latin typeface="Symbol"/>
                <a:ea typeface="Symbol"/>
              </a:rPr>
              <a:t>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coN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1"/>
          <p:cNvSpPr/>
          <p:nvPr/>
        </p:nvSpPr>
        <p:spPr>
          <a:xfrm>
            <a:off x="5410080" y="3352680"/>
            <a:ext cx="3276720" cy="88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ld there be a problem in </a:t>
            </a:r>
            <a:r>
              <a:rPr b="1" lang="en-US" sz="2600" spc="-1" strike="noStrike">
                <a:solidFill>
                  <a:srgbClr val="7030a0"/>
                </a:solidFill>
                <a:latin typeface="Arial"/>
              </a:rPr>
              <a:t>BQP\P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380880" y="304920"/>
            <a:ext cx="85345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know how to prove constant-depth lower bounds!  So why i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o much harder than (say)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cause known techniques for showing a function f has no small constant-depth circuits, also involv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(directly or indirectly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howing that f isn’t approximated by a low-degree polynom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d this is a problem because…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mma (Beals et al. 1998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very Boolean function f that has a T-query quantum algorithm, also has a degree-2T real polynomial p such that |p(x)-f(x)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e following degree-4 polynomial distinguishes the uniform distribution ove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the forrelated o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00200" y="5257800"/>
                <a:ext cx="604980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E61-4DF5-4BEF-89F0-4FAF609F5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380880" y="1600200"/>
            <a:ext cx="8534520" cy="47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his polynomial solves FOURIER CHECKING only by exploiting “massive cancellations” between positive and negative terms</a:t>
            </a:r>
            <a:br>
              <a:rPr sz="2600"/>
            </a:b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(Not coincidentally, the central feature of quantum algorithm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might conjecture that if f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f is approximated not merely by a low-degree polynomial, but by a “reasonable,” “classical-looking” one—with some bound on the coefficients that prevents massive cancell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And that’s exactly what the Low-Fat Sandwich Conjecture say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ch a “low-fat” approximation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ircuits would be useful for independent reasons in learning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00200" y="5105520"/>
                <a:ext cx="59436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8DD2-7415-480A-A1B6-5F3450DF4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14616E-006 L 0 -0.70097 E">
                                      <p:cBhvr>
                                        <p:cTn id="238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1219320"/>
            <a:ext cx="861048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Generalized L-N even for the special case of DNF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ere a Boolean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-1,1} that’s well-approximated in 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norm by a low-degree real polynomial, 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y a low-degree low-fat polynom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we “instantiate” FOURIER CHECKING by an explicit (unrelativized) probl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generally, evidence for/agains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the real wor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59DE-4B77-4FC1-AD9F-B6979F4E7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7924680" y="1905120"/>
            <a:ext cx="1219320" cy="1218960"/>
            <a:chOff x="7924680" y="1905120"/>
            <a:chExt cx="1219320" cy="1218960"/>
          </a:xfrm>
        </p:grpSpPr>
        <p:pic>
          <p:nvPicPr>
            <p:cNvPr id="280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924680" y="19051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Box 5"/>
            <p:cNvSpPr/>
            <p:nvPr/>
          </p:nvSpPr>
          <p:spPr>
            <a:xfrm>
              <a:off x="8000640" y="24382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1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283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4572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irst question: can we at least find an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racle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A such that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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 baseline="30000">
                <a:solidFill>
                  <a:srgbClr val="0070c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905120"/>
            <a:ext cx="85345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sentially the same as finding a problem in quantum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ogarithm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ime, but no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?  Standard correspondence between relativize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C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plac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by OR gates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s by AND gates, and the oracle string by an input of siz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ivization is just the “obvious” way to address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estion, not some woo-woo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ho claim they don’t like oracle results really just don’t understand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448B-7769-4D29-B619-66016CEDC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5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F93-4B36-4D86-8E00-0CBBF1BC0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6858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Why do we care whether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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1905120"/>
            <a:ext cx="853452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es simulating quantum mechanics reduce to search or approximate count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other candidates for exponential quantum speedups are there—besides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intermediate problems like factor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quantum computers provide exponential speedups even i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ould a fast quantum algorithm for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mplete problems collapse the polynomial hierarc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B655-7224-4AE4-8C2F-3734DCD08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57200" y="533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80880" y="1828800"/>
            <a:ext cx="84582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achieve an oracle separation between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lationa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rsions of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study a new oracle problem—FOURIER CHECKING—that’s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ut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600" spc="-1" strike="noStrike" baseline="-25000">
                <a:solidFill>
                  <a:srgbClr val="7030a0"/>
                </a:solidFill>
                <a:latin typeface="Calibri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conjecture that FOURIER CHECKING is not in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prove that this would follow from the Generalized Linial-Nisan Conjecture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Original Linial-Nisan Conjecture was proved by Braverman 2009, after being open for 20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188C-2FB4-4355-A65D-A7DE45807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elation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80880" y="114300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Class of relations, R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*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{0,1}*, for which there exists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chine that, given any x, outputs a y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2514600" y="2133720"/>
                <a:ext cx="43308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Text Box 3"/>
          <p:cNvSpPr/>
          <p:nvPr/>
        </p:nvSpPr>
        <p:spPr>
          <a:xfrm>
            <a:off x="380880" y="53341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we compared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 separation would be trivial!  “Output an n-bit string with Kolmogorov complexity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/2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80880" y="28954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Same but with quant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3505320"/>
            <a:ext cx="8534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’ll produce separations where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chine succeeds with probability 1-1/exp(n), while th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FBPP</a:t>
            </a:r>
            <a:r>
              <a:rPr b="1" lang="en-US" sz="2600" spc="-1" strike="noStrike" baseline="30000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achine succeeds with probability at most (say) 99%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Note: Amplification not obvious; constant could actually ma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FE9A-D919-4A91-9FE0-82059BC57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2FBF-9473-4D69-9430-D2F983FB0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SAMPL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112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123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Straight Arrow Connector 46"/>
              <p:cNvCxnSpPr>
                <a:stCxn id="123" idx="2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5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126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Straight Arrow Connector 52"/>
              <p:cNvCxnSpPr>
                <a:stCxn id="126" idx="2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8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129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Straight Arrow Connector 55"/>
              <p:cNvCxnSpPr>
                <a:stCxn id="129" idx="2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31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69"/>
          <p:cNvCxnSpPr>
            <a:stCxn id="137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37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sp>
        <p:nvSpPr>
          <p:cNvPr id="140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01C-DD2C-4020-B57E-EA5324A3E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09-10-13T08:52:30Z</dcterms:modified>
  <cp:revision>63</cp:revision>
  <dc:subject/>
  <dc:title>BQP and the Polynomial Hierarchy</dc:title>
</cp:coreProperties>
</file>