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1B2B-11F5-4AD9-B51F-A89D17829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3AE7-D5AA-4BE3-A54F-9B6D69F72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8043-8C77-4BBD-8D5A-EDC5F4560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C0EC-B0ED-4B24-BCAE-B80892C14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4ED1-4552-455E-8E42-A803FC30E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8E04-C479-47EB-9700-55815A4BC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AF56-9242-450F-A186-DF858BA4A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4B77-4332-4B8F-9C2C-D47104B8F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306-7C2E-48B6-B872-69C933ED7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7DC1-B52A-4F0D-AF89-639B3F631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A825-B8F7-44AF-92A5-8A173B5A4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2B4F-6ECE-4DB5-A720-30B5BBADB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0D9-4D1F-4747-8400-EB189F185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0AC-028E-4847-828F-7453096D4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12BF-C769-46DD-AF98-4EF3F6D98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CBAE-FC8D-410A-AC61-DC25D443F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69C-20A2-48DE-B94D-4D6F5BFBC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4B92-5C9D-4028-989A-D3A93E192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C89-A125-4C09-BB4E-A3A1EB58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B3B-4937-495F-9272-492DD1BB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5B3-2881-4466-A1BE-98643B40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2DE-880B-4340-A024-AD2AAACF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B60-4CD3-4DBB-9142-85F62314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D72-2383-4AA7-8701-C0F07CFA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BCC-C181-46B0-92B2-6C39E22D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BB9-A63A-4E1B-B3F3-4AD1DDFC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135-DCE8-411D-B7CD-7A6ED162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38F-665B-4733-A7C7-DEB042D7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0BC-67DD-413C-80CD-4532304B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D03-7AE5-4F65-B8A5-07C27233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1FC-7835-4987-90FB-4D8B10DE9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65AC-6E43-4A67-AD48-3FBAA2B25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95280" y="3049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P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304920" y="17524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tale of two strong-willed complexity class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16-year-old quest to find an oracle that separates them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solution at last—but only for relational proble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The beast guarding the inner sanctum unmasked: the Generalized Linial-Nisan Conjectu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Where others flee in terror, a Braver Man attack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$200 bounty for slaughtering the wounded beas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B120-2825-4329-A2FE-39C5C9654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cision Version: FOURIE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2351160" y="1676520"/>
                <a:ext cx="4010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3"/>
          <p:cNvSpPr/>
          <p:nvPr/>
        </p:nvSpPr>
        <p:spPr>
          <a:xfrm>
            <a:off x="380880" y="2590920"/>
            <a:ext cx="83059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following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 F: pick a random uni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6477120" y="4038480"/>
                <a:ext cx="168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3"/>
          <p:cNvSpPr/>
          <p:nvPr/>
        </p:nvSpPr>
        <p:spPr>
          <a:xfrm>
            <a:off x="1066680" y="4648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00200" y="5257800"/>
                <a:ext cx="609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F950-9198-4C55-9BA9-9ACDA02E2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CHECK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159" name="Chord 14"/>
            <p:cNvSpPr/>
            <p:nvPr/>
          </p:nvSpPr>
          <p:spPr>
            <a:xfrm rot="7220400">
              <a:off x="6922440" y="1555560"/>
              <a:ext cx="606600" cy="583920"/>
            </a:xfrm>
            <a:prstGeom prst="pi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Straight Arrow Connector 15"/>
            <p:cNvCxnSpPr>
              <a:stCxn id="159" idx="3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61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162" name="Chord 17"/>
            <p:cNvSpPr/>
            <p:nvPr/>
          </p:nvSpPr>
          <p:spPr>
            <a:xfrm rot="7220400">
              <a:off x="6922440" y="2241360"/>
              <a:ext cx="606600" cy="583920"/>
            </a:xfrm>
            <a:prstGeom prst="pi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Straight Arrow Connector 18"/>
            <p:cNvCxnSpPr>
              <a:stCxn id="162" idx="3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64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165" name="Chord 21"/>
            <p:cNvSpPr/>
            <p:nvPr/>
          </p:nvSpPr>
          <p:spPr>
            <a:xfrm rot="7220400">
              <a:off x="6922440" y="2927160"/>
              <a:ext cx="606600" cy="583920"/>
            </a:xfrm>
            <a:prstGeom prst="pi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Straight Arrow Connector 22"/>
            <p:cNvCxnSpPr>
              <a:stCxn id="165" idx="3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67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5720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observing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47760" y="4518000"/>
                <a:ext cx="8523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random</m:t>
                              </m:r>
                            </m:e>
                          </m:mr>
                          <m:mr>
                            <m:e>
                              <m:r>
                                <m:t xml:space="preserve">Ω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forrelate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E600-F051-4734-8A23-54696A4B3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57200" y="3049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ntuition: FOURIER CHECKING Shouldn’t Be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57200" y="1752480"/>
            <a:ext cx="8153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, computing the Fourier coefficient           is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and g being forrelated is an extremely “global” property: conditioning on a polynomial number of f(x) and g(y) values should reveal almost noth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ow to formalize and prove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F384-C2BB-43D2-8CC3-8F4445511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133720" y="28195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1371600" y="3505320"/>
                <a:ext cx="33717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"/>
          <p:cNvSpPr/>
          <p:nvPr/>
        </p:nvSpPr>
        <p:spPr>
          <a:xfrm>
            <a:off x="380880" y="251460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rucial Defini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distribution D is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-almost 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0880" y="4813200"/>
            <a:ext cx="77724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k, the forrelated distribution F is O(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-almost k-wise 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few pages of Gaussian integrals, then a discretization st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228600"/>
            <a:ext cx="8458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ter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product of k literals of the form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1-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9144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istribution D over 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2514600" y="1371600"/>
                <a:ext cx="3436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912A-F4E6-46E1-8F6F-620EA22BB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3"/>
          <p:cNvGrpSpPr/>
          <p:nvPr/>
        </p:nvGrpSpPr>
        <p:grpSpPr>
          <a:xfrm>
            <a:off x="4800240" y="3352680"/>
            <a:ext cx="4191480" cy="1447920"/>
            <a:chOff x="4800240" y="3352680"/>
            <a:chExt cx="4191480" cy="1447920"/>
          </a:xfrm>
        </p:grpSpPr>
        <p:sp>
          <p:nvSpPr>
            <p:cNvPr id="191" name="Oval 9"/>
            <p:cNvSpPr/>
            <p:nvPr/>
          </p:nvSpPr>
          <p:spPr>
            <a:xfrm>
              <a:off x="5715000" y="3352680"/>
              <a:ext cx="3276720" cy="144792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"/>
            <p:cNvSpPr/>
            <p:nvPr/>
          </p:nvSpPr>
          <p:spPr>
            <a:xfrm>
              <a:off x="5715000" y="3504960"/>
              <a:ext cx="327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Approximation is multiplicative, not additive … that’s important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Straight Arrow Connector 12"/>
            <p:cNvCxnSpPr>
              <a:stCxn id="192" idx="1"/>
            </p:cNvCxnSpPr>
            <p:nvPr/>
          </p:nvCxnSpPr>
          <p:spPr>
            <a:xfrm flipH="1" flipV="1">
              <a:off x="4800240" y="4038120"/>
              <a:ext cx="915120" cy="20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114300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zzi’0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depth-2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2410-0C09-4DBE-81C1-2C64DF0C9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3"/>
          <p:cNvGrpSpPr/>
          <p:nvPr/>
        </p:nvGrpSpPr>
        <p:grpSpPr>
          <a:xfrm>
            <a:off x="152280" y="304920"/>
            <a:ext cx="8839440" cy="2590560"/>
            <a:chOff x="152280" y="304920"/>
            <a:chExt cx="8839440" cy="2590560"/>
          </a:xfrm>
        </p:grpSpPr>
        <p:sp>
          <p:nvSpPr>
            <p:cNvPr id="197" name="Rectangle 11"/>
            <p:cNvSpPr/>
            <p:nvPr/>
          </p:nvSpPr>
          <p:spPr>
            <a:xfrm>
              <a:off x="152280" y="304920"/>
              <a:ext cx="8839440" cy="25905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"/>
            <p:cNvSpPr/>
            <p:nvPr/>
          </p:nvSpPr>
          <p:spPr>
            <a:xfrm>
              <a:off x="228240" y="380880"/>
              <a:ext cx="868716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Linial-Nisan Conjecture (1990) </a:t>
              </a: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with weaker parameters that suffice for us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Let f:{0,1}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{0,1} be computed by a circuit of size           and depth O(1).  Then for all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4"/>
                <p:cNvSpPr txBox="1"/>
                <p:nvPr/>
              </p:nvSpPr>
              <p:spPr>
                <a:xfrm>
                  <a:off x="2286000" y="1752480"/>
                  <a:ext cx="472788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3"/>
                <p:cNvSpPr txBox="1"/>
                <p:nvPr/>
              </p:nvSpPr>
              <p:spPr>
                <a:xfrm>
                  <a:off x="7086600" y="838080"/>
                  <a:ext cx="793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" name="Group 14"/>
          <p:cNvGrpSpPr/>
          <p:nvPr/>
        </p:nvGrpSpPr>
        <p:grpSpPr>
          <a:xfrm>
            <a:off x="533520" y="3962520"/>
            <a:ext cx="8076960" cy="2286000"/>
            <a:chOff x="533520" y="3962520"/>
            <a:chExt cx="8076960" cy="2286000"/>
          </a:xfrm>
        </p:grpSpPr>
        <p:sp>
          <p:nvSpPr>
            <p:cNvPr id="202" name="Rectangle 12"/>
            <p:cNvSpPr/>
            <p:nvPr/>
          </p:nvSpPr>
          <p:spPr>
            <a:xfrm>
              <a:off x="533520" y="3962520"/>
              <a:ext cx="8076960" cy="228600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"/>
            <p:cNvSpPr/>
            <p:nvPr/>
          </p:nvSpPr>
          <p:spPr>
            <a:xfrm>
              <a:off x="533520" y="3962520"/>
              <a:ext cx="80010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“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Generalized Linial-Nisan Conjecture”: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Let f be computed by a circuit of size           and depth O(1).  Then for all 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1/n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-almost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Object 2"/>
                <p:cNvSpPr txBox="1"/>
                <p:nvPr/>
              </p:nvSpPr>
              <p:spPr>
                <a:xfrm>
                  <a:off x="2590920" y="5105520"/>
                  <a:ext cx="472752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Object 5"/>
                <p:cNvSpPr txBox="1"/>
                <p:nvPr/>
              </p:nvSpPr>
              <p:spPr>
                <a:xfrm>
                  <a:off x="3048120" y="4267080"/>
                  <a:ext cx="7934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Text Box 3"/>
          <p:cNvSpPr/>
          <p:nvPr/>
        </p:nvSpPr>
        <p:spPr>
          <a:xfrm>
            <a:off x="533520" y="320040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azborov’0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ramatically simplified Bazzi’s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320040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lly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raverman’0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whole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1932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as, we need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7115040" y="1143000"/>
            <a:ext cx="2028960" cy="20289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28600" y="152280"/>
            <a:ext cx="861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w-Fat Sandwich Conjecture”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be computed by a circuit of size           and depth O(1).  Then there exist polynomials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, of degree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1A33-162A-4392-9059-126A77DA1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2743200" y="1538280"/>
                <a:ext cx="3900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971800" y="2171880"/>
                <a:ext cx="4038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E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433520" y="3367080"/>
                <a:ext cx="5805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erms 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erms 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2438280" y="4205160"/>
                <a:ext cx="5486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Text Box 3"/>
          <p:cNvSpPr/>
          <p:nvPr/>
        </p:nvSpPr>
        <p:spPr>
          <a:xfrm>
            <a:off x="457200" y="5119560"/>
            <a:ext cx="85345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 (Bazzi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-Fat Sandwich Conj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eneralized Linial-Nisan Conj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(Without the low-fat condition,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Sandwich Conjecture</a:t>
            </a:r>
            <a:br>
              <a:rPr sz="22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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 Linial-Nisan Conjec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4191120" y="457200"/>
                <a:ext cx="79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Text Box 3"/>
          <p:cNvSpPr/>
          <p:nvPr/>
        </p:nvSpPr>
        <p:spPr>
          <a:xfrm>
            <a:off x="228600" y="153828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) Sandwi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28600" y="222408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i) Approxi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28600" y="2833560"/>
            <a:ext cx="8229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ii) Low-Fat.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be written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43578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380880" y="380880"/>
            <a:ext cx="853452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n techniques for showing a function f has no small constant-depth circuits, also involve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(directly or indirectly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ing that f isn’t approximated by a low-degree polynom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every function with a T-query quantum algorithm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pproximated by a degree-2T real polynomial! [Beals et al. 98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following degree-4 polynomial distinguishes the uniform distribution ove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the forrelated o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600200" y="3505320"/>
                <a:ext cx="604980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2075-5891-4494-B028-66FF54787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80880" y="5029200"/>
            <a:ext cx="85345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his polynomial solves FOURIER CHECKING only by exploiting “massive cancellations” between positive and negative terms</a:t>
            </a:r>
            <a:br>
              <a:rPr sz="2600"/>
            </a:b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(Not coincidentally, a central feature of quantum algorithm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447920" y="1600200"/>
            <a:ext cx="6248160" cy="386424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conjecture says that if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f is approximated not merely by a low-degree polynomial, but by a “reasonable,” “classical-looking” one—with some bound on the coefficients that prevents massive cancel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ch a “low-fat” approximation o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ircuits would be useful for independent reasons in learning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04920" y="1219320"/>
            <a:ext cx="861048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Generalized Linial-Nisan Conjectur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Generalized L-N even for the special case of DNF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re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-1,1} that’s well-approximated in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norm by a low-degree real polynomial, 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a low-degree low-fat polynom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“instantiate” FOURIER CHECKING by an explicit (unrelativized) probl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generally, evidence for/agains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real wor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1B2E-167C-45C1-879F-AAD4920F0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7924680" y="1905120"/>
            <a:ext cx="1219320" cy="1218960"/>
            <a:chOff x="7924680" y="1905120"/>
            <a:chExt cx="1219320" cy="1218960"/>
          </a:xfrm>
        </p:grpSpPr>
        <p:pic>
          <p:nvPicPr>
            <p:cNvPr id="231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7924680" y="19051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5"/>
            <p:cNvSpPr/>
            <p:nvPr/>
          </p:nvSpPr>
          <p:spPr>
            <a:xfrm>
              <a:off x="8000640" y="24382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1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0"/>
          <p:cNvGrpSpPr/>
          <p:nvPr/>
        </p:nvGrpSpPr>
        <p:grpSpPr>
          <a:xfrm>
            <a:off x="6553080" y="990720"/>
            <a:ext cx="1219320" cy="1218960"/>
            <a:chOff x="6553080" y="990720"/>
            <a:chExt cx="1219320" cy="1218960"/>
          </a:xfrm>
        </p:grpSpPr>
        <p:pic>
          <p:nvPicPr>
            <p:cNvPr id="234" name="Picture 6" descr="C:\Users\od user\AppData\Local\Microsoft\Windows\Temporary Internet Files\Content.IE5\N7YD4WXK\MCj04363050000[1].png"/>
            <p:cNvPicPr/>
            <p:nvPr/>
          </p:nvPicPr>
          <p:blipFill>
            <a:blip r:embed="rId2"/>
            <a:stretch/>
          </p:blipFill>
          <p:spPr>
            <a:xfrm>
              <a:off x="6553080" y="99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2"/>
            <p:cNvSpPr/>
            <p:nvPr/>
          </p:nvSpPr>
          <p:spPr>
            <a:xfrm>
              <a:off x="6629040" y="15238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28"/>
          <p:cNvSpPr/>
          <p:nvPr/>
        </p:nvSpPr>
        <p:spPr>
          <a:xfrm>
            <a:off x="1041480" y="4119480"/>
            <a:ext cx="3790800" cy="2354400"/>
          </a:xfrm>
          <a:prstGeom prst="pi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04920" y="228600"/>
            <a:ext cx="853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Quantum Computing: Where Does It Fi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6"/>
          <p:cNvSpPr/>
          <p:nvPr/>
        </p:nvSpPr>
        <p:spPr>
          <a:xfrm>
            <a:off x="3048120" y="1674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2971800" y="4844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057400" y="4646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3048120" y="2360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200400" y="3351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2438280" y="1065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3505320" y="4692600"/>
            <a:ext cx="7617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6"/>
          <p:cNvSpPr/>
          <p:nvPr/>
        </p:nvSpPr>
        <p:spPr>
          <a:xfrm rot="511200">
            <a:off x="3358800" y="3185640"/>
            <a:ext cx="1295280" cy="2729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7"/>
          <p:cNvSpPr/>
          <p:nvPr/>
        </p:nvSpPr>
        <p:spPr>
          <a:xfrm rot="16674600">
            <a:off x="2818440" y="4118760"/>
            <a:ext cx="13032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8"/>
          <p:cNvSpPr/>
          <p:nvPr/>
        </p:nvSpPr>
        <p:spPr>
          <a:xfrm rot="574200">
            <a:off x="2346120" y="2266560"/>
            <a:ext cx="2693880" cy="3946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9"/>
          <p:cNvSpPr/>
          <p:nvPr/>
        </p:nvSpPr>
        <p:spPr>
          <a:xfrm rot="574200">
            <a:off x="2185560" y="1643040"/>
            <a:ext cx="3094200" cy="472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4"/>
          <p:cNvSpPr/>
          <p:nvPr/>
        </p:nvSpPr>
        <p:spPr>
          <a:xfrm>
            <a:off x="609480" y="988920"/>
            <a:ext cx="5105520" cy="5715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838080" y="4570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201A-2638-4C62-9C32-5356CC9A2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4648320" y="1295280"/>
            <a:ext cx="4267080" cy="1677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ing, discrete log, etc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known to be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NP</a:t>
            </a:r>
            <a:r>
              <a:rPr b="1" lang="en-US" sz="2600" spc="-1" strike="noStrike">
                <a:solidFill>
                  <a:srgbClr val="7030a0"/>
                </a:solidFill>
                <a:latin typeface="Symbol"/>
                <a:ea typeface="Symbol"/>
              </a:rPr>
              <a:t>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coN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1"/>
          <p:cNvSpPr/>
          <p:nvPr/>
        </p:nvSpPr>
        <p:spPr>
          <a:xfrm>
            <a:off x="5410080" y="3352680"/>
            <a:ext cx="3276720" cy="88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there be a problem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\P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3886200" y="4343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1219320" y="4343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3808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irst question: can we at least find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A such that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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80880" y="1828800"/>
            <a:ext cx="853452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sentially the same as finding a problem in quantum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ogarithm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ime, but no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?  Well-known correspondence between relativize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interpret th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as OR gates, th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as AND gates, and the oracle string as an input of siz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acles are just the “obvious” way to address 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estion, not some woo-woo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all that the early evidence for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≠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e.g. Simon’s alg) w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acle evidence; then Shor found a similar oracle that could be “instantiated” by FACTOR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5B62-0177-4992-AB68-18A088B63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: 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4920" y="2425680"/>
            <a:ext cx="7391160" cy="39945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rnstein and Vazirani defin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nstruct an oracle problem, RECURSIVE FOURIER SAMPLING, that has quantum query complexity n but classical query complexity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First example where quantum is superpolynomially be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mple extension yields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al conjecture: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as, we can’t even prove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4"/>
          <p:cNvSpPr/>
          <p:nvPr/>
        </p:nvSpPr>
        <p:spPr>
          <a:xfrm>
            <a:off x="0" y="1892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 rot="19375200">
            <a:off x="5803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 rot="19375200">
            <a:off x="24091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 rot="19375200">
            <a:off x="42379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 rot="19375200">
            <a:off x="60667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 rot="19375200">
            <a:off x="78955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11"/>
          <p:cNvCxnSpPr/>
          <p:nvPr/>
        </p:nvCxnSpPr>
        <p:spPr>
          <a:xfrm flipV="1">
            <a:off x="2057400" y="1893240"/>
            <a:ext cx="2160" cy="53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4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A0BC-2E32-48E7-8204-3ED91AB86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28600" y="6858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y do we care whether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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1905120"/>
            <a:ext cx="853452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simulating quantum mechanics reduce to search or approximate count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other candidates for exponential quantum speedups are there—besides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intermediate problems like factor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quantum computers provide exponential speedups even i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uld a fast quantum algorithm for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mplete problems collapse the polynomial hierarc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6F0A-A689-4F0B-A224-68B07DFE6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7200" y="533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828800"/>
            <a:ext cx="84582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achieve an oracle separation between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lation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rsions o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study a new oracle problem—FOURIER CHECKING—that’s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ut not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600" spc="-1" strike="noStrike" baseline="-25000">
                <a:solidFill>
                  <a:srgbClr val="7030a0"/>
                </a:solidFill>
                <a:latin typeface="Calibri"/>
              </a:rPr>
              <a:t>pa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SZ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conjecture that FOURIER CHECKING is not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prove that this would follow from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Generalized Linial-Nisan Conjecture</a:t>
            </a:r>
            <a:br>
              <a:rPr sz="2600"/>
            </a:br>
            <a:r>
              <a:rPr b="1" lang="en-US" sz="2600" spc="-1" strike="noStrike">
                <a:solidFill>
                  <a:srgbClr val="006600"/>
                </a:solidFill>
                <a:latin typeface="Calibri"/>
              </a:rPr>
              <a:t>Original Linial-Nisan Conjecture was proved by Braverman 2009, after being open for 2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2292-C2A1-4287-BFC2-7A43C82DC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rier Sampl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a random Boolean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2590920" y="1676520"/>
                <a:ext cx="352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Text Box 3"/>
          <p:cNvSpPr/>
          <p:nvPr/>
        </p:nvSpPr>
        <p:spPr>
          <a:xfrm>
            <a:off x="380880" y="2590920"/>
            <a:ext cx="8458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put string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1981080" y="4876920"/>
                <a:ext cx="537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Text Box 3"/>
          <p:cNvSpPr/>
          <p:nvPr/>
        </p:nvSpPr>
        <p:spPr>
          <a:xfrm>
            <a:off x="457200" y="52578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7315200" y="3048120"/>
                <a:ext cx="16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4900680" y="3733920"/>
                <a:ext cx="1763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AAD-EBF3-4E55-AE8E-69E2EEA79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9810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5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3624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2"/>
          <p:cNvGrpSpPr/>
          <p:nvPr/>
        </p:nvGrpSpPr>
        <p:grpSpPr>
          <a:xfrm>
            <a:off x="2133720" y="1143000"/>
            <a:ext cx="4354560" cy="2333160"/>
            <a:chOff x="2133720" y="1143000"/>
            <a:chExt cx="4354560" cy="2333160"/>
          </a:xfrm>
        </p:grpSpPr>
        <p:sp>
          <p:nvSpPr>
            <p:cNvPr id="104" name="Straight Connector 65"/>
            <p:cNvSpPr/>
            <p:nvPr/>
          </p:nvSpPr>
          <p:spPr>
            <a:xfrm>
              <a:off x="2666880" y="2286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66"/>
            <p:cNvSpPr/>
            <p:nvPr/>
          </p:nvSpPr>
          <p:spPr>
            <a:xfrm>
              <a:off x="2666880" y="2971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64"/>
            <p:cNvSpPr/>
            <p:nvPr/>
          </p:nvSpPr>
          <p:spPr>
            <a:xfrm>
              <a:off x="2666880" y="1600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"/>
            <p:cNvSpPr/>
            <p:nvPr/>
          </p:nvSpPr>
          <p:spPr>
            <a:xfrm>
              <a:off x="30481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6"/>
            <p:cNvSpPr/>
            <p:nvPr/>
          </p:nvSpPr>
          <p:spPr>
            <a:xfrm>
              <a:off x="30481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7"/>
            <p:cNvSpPr/>
            <p:nvPr/>
          </p:nvSpPr>
          <p:spPr>
            <a:xfrm>
              <a:off x="30481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962520" y="12952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9"/>
            <p:cNvSpPr/>
            <p:nvPr/>
          </p:nvSpPr>
          <p:spPr>
            <a:xfrm>
              <a:off x="48769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48769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"/>
            <p:cNvSpPr/>
            <p:nvPr/>
          </p:nvSpPr>
          <p:spPr>
            <a:xfrm>
              <a:off x="48769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49"/>
            <p:cNvGrpSpPr/>
            <p:nvPr/>
          </p:nvGrpSpPr>
          <p:grpSpPr>
            <a:xfrm>
              <a:off x="5677920" y="1143000"/>
              <a:ext cx="810360" cy="961560"/>
              <a:chOff x="5677920" y="1143000"/>
              <a:chExt cx="810360" cy="961560"/>
            </a:xfrm>
          </p:grpSpPr>
          <p:sp>
            <p:nvSpPr>
              <p:cNvPr id="115" name="Chord 44"/>
              <p:cNvSpPr/>
              <p:nvPr/>
            </p:nvSpPr>
            <p:spPr>
              <a:xfrm rot="7220400">
                <a:off x="5779440" y="1403280"/>
                <a:ext cx="606600" cy="583920"/>
              </a:xfrm>
              <a:prstGeom prst="pie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Straight Arrow Connector 46"/>
              <p:cNvCxnSpPr>
                <a:stCxn id="115" idx="3"/>
              </p:cNvCxnSpPr>
              <p:nvPr/>
            </p:nvCxnSpPr>
            <p:spPr>
              <a:xfrm flipV="1">
                <a:off x="6080760" y="11430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7" name="Group 50"/>
            <p:cNvGrpSpPr/>
            <p:nvPr/>
          </p:nvGrpSpPr>
          <p:grpSpPr>
            <a:xfrm>
              <a:off x="5677920" y="1828800"/>
              <a:ext cx="810360" cy="961560"/>
              <a:chOff x="5677920" y="1828800"/>
              <a:chExt cx="810360" cy="961560"/>
            </a:xfrm>
          </p:grpSpPr>
          <p:sp>
            <p:nvSpPr>
              <p:cNvPr id="118" name="Chord 51"/>
              <p:cNvSpPr/>
              <p:nvPr/>
            </p:nvSpPr>
            <p:spPr>
              <a:xfrm rot="7220400">
                <a:off x="5779440" y="2089080"/>
                <a:ext cx="606600" cy="583920"/>
              </a:xfrm>
              <a:prstGeom prst="pie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9" name="Straight Arrow Connector 52"/>
              <p:cNvCxnSpPr>
                <a:stCxn id="118" idx="3"/>
              </p:cNvCxnSpPr>
              <p:nvPr/>
            </p:nvCxnSpPr>
            <p:spPr>
              <a:xfrm flipV="1">
                <a:off x="6080760" y="182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0" name="Group 53"/>
            <p:cNvGrpSpPr/>
            <p:nvPr/>
          </p:nvGrpSpPr>
          <p:grpSpPr>
            <a:xfrm>
              <a:off x="5677920" y="2514600"/>
              <a:ext cx="810360" cy="961560"/>
              <a:chOff x="5677920" y="2514600"/>
              <a:chExt cx="810360" cy="961560"/>
            </a:xfrm>
          </p:grpSpPr>
          <p:sp>
            <p:nvSpPr>
              <p:cNvPr id="121" name="Chord 54"/>
              <p:cNvSpPr/>
              <p:nvPr/>
            </p:nvSpPr>
            <p:spPr>
              <a:xfrm rot="7220400">
                <a:off x="5779440" y="2774880"/>
                <a:ext cx="606600" cy="583920"/>
              </a:xfrm>
              <a:prstGeom prst="pie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" name="Straight Arrow Connector 55"/>
              <p:cNvCxnSpPr>
                <a:stCxn id="121" idx="3"/>
              </p:cNvCxnSpPr>
              <p:nvPr/>
            </p:nvCxnSpPr>
            <p:spPr>
              <a:xfrm flipV="1">
                <a:off x="6080760" y="251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23" name="Text Box 3"/>
            <p:cNvSpPr/>
            <p:nvPr/>
          </p:nvSpPr>
          <p:spPr>
            <a:xfrm>
              <a:off x="396252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"/>
            <p:cNvSpPr/>
            <p:nvPr/>
          </p:nvSpPr>
          <p:spPr>
            <a:xfrm>
              <a:off x="2133720" y="1295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"/>
            <p:cNvSpPr/>
            <p:nvPr/>
          </p:nvSpPr>
          <p:spPr>
            <a:xfrm>
              <a:off x="213372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"/>
            <p:cNvSpPr/>
            <p:nvPr/>
          </p:nvSpPr>
          <p:spPr>
            <a:xfrm>
              <a:off x="2133720" y="2667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3"/>
          <p:cNvSpPr/>
          <p:nvPr/>
        </p:nvSpPr>
        <p:spPr>
          <a:xfrm>
            <a:off x="6553080" y="167652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eat n times; output whatever you s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69"/>
          <p:cNvCxnSpPr>
            <a:stCxn id="129" idx="1"/>
          </p:cNvCxnSpPr>
          <p:nvPr/>
        </p:nvCxnSpPr>
        <p:spPr>
          <a:xfrm flipH="1">
            <a:off x="1142640" y="4131360"/>
            <a:ext cx="1448640" cy="59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29" name="Text Box 3"/>
          <p:cNvSpPr/>
          <p:nvPr/>
        </p:nvSpPr>
        <p:spPr>
          <a:xfrm>
            <a:off x="2590920" y="38862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ver Fourier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505320" y="480060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over Fourier coefficients output by quantum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76"/>
          <p:cNvCxnSpPr/>
          <p:nvPr/>
        </p:nvCxnSpPr>
        <p:spPr>
          <a:xfrm flipH="1">
            <a:off x="2437920" y="5104440"/>
            <a:ext cx="1067760" cy="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sp>
        <p:nvSpPr>
          <p:cNvPr id="132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1EF1-F8AC-4B12-904F-F36E1BF7F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Not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4920" y="1143000"/>
            <a:ext cx="853416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 that, if we had a constant-depth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size circuit C for FOURIER SAMPLING, then we could violate a know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er bound, by “sneaking a MAJORITY problem” into the estimation of some random Fourier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ow do we know C will output the specific s we’re interested in, thereby revealing anything about          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on’t!  </a:t>
            </a:r>
            <a:r>
              <a:rPr b="0" i="1" lang="en-US" sz="2200" spc="-1" strike="noStrike">
                <a:solidFill>
                  <a:srgbClr val="003300"/>
                </a:solidFill>
                <a:latin typeface="Calibri"/>
              </a:rPr>
              <a:t>(Indeed, there’s only a ~1/2</a:t>
            </a:r>
            <a:r>
              <a:rPr b="0" i="1" lang="en-US" sz="2200" spc="-1" strike="noStrike" baseline="30000">
                <a:solidFill>
                  <a:srgbClr val="003300"/>
                </a:solidFill>
                <a:latin typeface="Calibri"/>
              </a:rPr>
              <a:t>n</a:t>
            </a:r>
            <a:r>
              <a:rPr b="0" i="1" lang="en-US" sz="2200" spc="-1" strike="noStrike">
                <a:solidFill>
                  <a:srgbClr val="003300"/>
                </a:solidFill>
                <a:latin typeface="Calibri"/>
              </a:rPr>
              <a:t> chance it w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have a long time to wait, since our reduction can be nondeterministic!  </a:t>
            </a:r>
            <a:r>
              <a:rPr b="0" i="1" lang="en-US" sz="2200" spc="-1" strike="noStrike">
                <a:solidFill>
                  <a:srgbClr val="003300"/>
                </a:solidFill>
                <a:latin typeface="Calibri"/>
              </a:rPr>
              <a:t>Just adds more layers to the</a:t>
            </a:r>
            <a:r>
              <a:rPr b="0" i="1" lang="en-US" sz="2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2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i="1" lang="en-US" sz="2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3300"/>
                </a:solidFill>
                <a:latin typeface="Calibri"/>
              </a:rPr>
              <a:t>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halleng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 that w.h.p., C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orc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estimate  eventually, even if it tries to avoi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6781680" y="23623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7772400" y="3352680"/>
                <a:ext cx="701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70C9-5D2B-4B14-901B-7A4420BA5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7315200" y="5486400"/>
                <a:ext cx="701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owner</cp:lastModifiedBy>
  <dcterms:modified xsi:type="dcterms:W3CDTF">2010-06-06T11:38:47Z</dcterms:modified>
  <cp:revision>68</cp:revision>
  <dc:subject/>
  <dc:title>BQP and the Polynomial Hierarchy</dc:title>
</cp:coreProperties>
</file>