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092-A844-497E-A42D-74DB7FECD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E8B1-CA07-40ED-A839-CF50B5D04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28D8-7A53-44E7-9D2F-93775FD83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876-19B6-4F4E-AE35-BAD96327C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4EB-C969-48E5-8847-2C8DF0166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5CDF-F7F2-4DD5-A371-C3689537B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FD2-0426-43FD-8C73-72254269A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30F-9749-4541-AD59-F1B60C468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57E-BE20-4C90-98AB-9241CA944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64AE-8F67-4765-82E1-532CA3E0C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F90-AEDE-4855-BF24-281EB7B60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689-2856-45B9-B200-502FAD3D6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9FD-49B2-4F59-9416-E5046948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F5F-10AF-4F2F-8F1A-084FB3499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8DF-6186-48C7-B791-E6215FD8F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CE7-E327-4139-B5DB-C3EC3AA1E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626-C14F-4FDD-8CC1-407423D14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582-0FCE-479F-BE05-2E2415131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4BD-3378-4BFB-8892-A0B72172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429-9E7B-4E9A-A8FD-2F61031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528-BD89-422A-BB91-2EC88337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ACF-5078-4D4C-BAF6-204257B8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842-2103-4AAA-8BE1-714617B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D14-700F-466F-B8AB-2E93B4A9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948-D80F-47EB-BC88-1CB022C9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435-0488-490A-A065-BA95F24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73E-34B2-47C8-8F75-9DFCA07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E77-D853-42BF-8DB1-4D7980B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5DA-12FB-49C3-AA56-ABB2FEF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CF5-9405-42F8-9DDE-20A5744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E899-333A-43C3-A1C4-CBA76839C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9478-045E-4077-AF1B-C33B4CAE2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04920" y="1752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tale of two strong-willed complexity clas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16-year-old quest to find an oracle that separates th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solution at last—but only for relational probl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The beast guarding the inner sanctum unmasked: the Generalized Linial-Nisan Conjec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Where others flee in terror, a Braver Man attack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$200 bounty for slaughtering the wounded beas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207-090C-488D-AE19-F91B32E8C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90E-B10B-479B-90D7-25C8BFFE9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159" name="Chord 14"/>
            <p:cNvSpPr/>
            <p:nvPr/>
          </p:nvSpPr>
          <p:spPr>
            <a:xfrm rot="7220400">
              <a:off x="6922440" y="15555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Straight Arrow Connector 15"/>
            <p:cNvCxnSpPr>
              <a:stCxn id="159" idx="3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162" name="Chord 17"/>
            <p:cNvSpPr/>
            <p:nvPr/>
          </p:nvSpPr>
          <p:spPr>
            <a:xfrm rot="7220400">
              <a:off x="6922440" y="22413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Straight Arrow Connector 18"/>
            <p:cNvCxnSpPr>
              <a:stCxn id="162" idx="3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4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165" name="Chord 21"/>
            <p:cNvSpPr/>
            <p:nvPr/>
          </p:nvSpPr>
          <p:spPr>
            <a:xfrm rot="7220400">
              <a:off x="6922440" y="29271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Straight Arrow Connector 22"/>
            <p:cNvCxnSpPr>
              <a:stCxn id="165" idx="3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67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1164-A482-4CC3-9481-14DEE4B43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conditioning on a polynomial number of f(x) and g(y) values should reveal almost no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6B4-44F7-470F-934A-8AA02675A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rucial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3A7D-81F1-4231-AA64-FE5505C45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191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Straight Arrow Connector 12"/>
            <p:cNvCxnSpPr>
              <a:stCxn id="192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9B4-7D62-4DDB-A48D-68EE81A52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197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4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3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202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5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7115040" y="1143000"/>
            <a:ext cx="2028960" cy="2028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28600" y="152280"/>
            <a:ext cx="861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-Fat Sandwich Conjecture”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be computed by a circuit of size           and depth O(1).  Then there exist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, of degre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D60-7B7D-4DBD-934C-D892A80D7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743200" y="1538280"/>
                <a:ext cx="3900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971800" y="2171880"/>
                <a:ext cx="4038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433520" y="3367080"/>
                <a:ext cx="580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438280" y="42051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Text Box 3"/>
          <p:cNvSpPr/>
          <p:nvPr/>
        </p:nvSpPr>
        <p:spPr>
          <a:xfrm>
            <a:off x="457200" y="5119560"/>
            <a:ext cx="8534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Bazzi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-Fat Sandwich Conj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lized Linial-Nisan Conj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Without the low-fat condition,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Sandwich Conjecture</a:t>
            </a:r>
            <a:br>
              <a:rPr sz="22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Linial-Nisan Conj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4191120" y="457200"/>
                <a:ext cx="7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Text Box 3"/>
          <p:cNvSpPr/>
          <p:nvPr/>
        </p:nvSpPr>
        <p:spPr>
          <a:xfrm>
            <a:off x="228600" y="1538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) Sandwi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28600" y="22240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) Approx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28600" y="283356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i) Low-Fat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written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43578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380880" y="380880"/>
            <a:ext cx="853452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n techniques for showing a function f has no small constant-depth circuits, also involve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directly or indirectly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ing that f isn’t approximated by a low-degree polynom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every function with a T-query quantum algorithm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pproximated by a degree-2T real polynomial! [Beals et al. 98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following degree-4 polynomial distinguishes the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forrelated 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600200" y="3505320"/>
                <a:ext cx="604980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09C5-77BE-41D1-BCDA-31454EE86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80880" y="5029200"/>
            <a:ext cx="8534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polynomial solves FOURIER CHECKING only by exploiting “massive cancellations” between positive and negative terms</a:t>
            </a:r>
            <a:br>
              <a:rPr sz="26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Not coincidentally, a central feature of quantum algorithm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447920" y="1600200"/>
            <a:ext cx="6248160" cy="38642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conjecture says that if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f is approximated not merely by a low-degree polynomial, but by a “reasonable,” “classical-looking” one—with some bound on the coefficients that prevents massive cancel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a “low-fat” approximation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ircuits would be useful for independent reasons in learning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4920" y="1219320"/>
            <a:ext cx="86104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that’s well-approximated in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orm by a low-degree real polynomial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 low-degree low-fat polynom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generally, evidence for/agains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real wor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36C5-79B9-4C5F-B371-2872542A1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231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234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28"/>
          <p:cNvSpPr/>
          <p:nvPr/>
        </p:nvSpPr>
        <p:spPr>
          <a:xfrm>
            <a:off x="1041480" y="4119480"/>
            <a:ext cx="3790800" cy="2354400"/>
          </a:xfrm>
          <a:prstGeom prst="pi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04920" y="228600"/>
            <a:ext cx="853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Quantum Computing: Where Does It F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3048120" y="1674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2971800" y="4844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057400" y="464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3048120" y="236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200400" y="3351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2438280" y="1065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3505320" y="4692600"/>
            <a:ext cx="761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 rot="511200">
            <a:off x="3358800" y="3185640"/>
            <a:ext cx="1295280" cy="272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 rot="16674600">
            <a:off x="2818440" y="4118760"/>
            <a:ext cx="13032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 rot="574200">
            <a:off x="2346120" y="2266560"/>
            <a:ext cx="2693880" cy="3946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 rot="574200">
            <a:off x="2185560" y="1643040"/>
            <a:ext cx="3094200" cy="472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609480" y="988920"/>
            <a:ext cx="5105520" cy="5715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838080" y="4570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3CD-F50E-42AC-8C8A-A24C24F0D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4648320" y="1295280"/>
            <a:ext cx="426708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ing, discrete log, etc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known to be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NP</a:t>
            </a:r>
            <a:r>
              <a:rPr b="1" lang="en-US" sz="2600" spc="-1" strike="noStrike">
                <a:solidFill>
                  <a:srgbClr val="7030a0"/>
                </a:solidFill>
                <a:latin typeface="Symbol"/>
                <a:ea typeface="Symbol"/>
              </a:rPr>
              <a:t>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coN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5410080" y="3352680"/>
            <a:ext cx="3276720" cy="8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there be a problem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\P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1219320" y="4343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380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question: can we at least find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A such that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0880" y="1828800"/>
            <a:ext cx="85345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ly the same as finding a problem in quantum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ogarithm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ime, but no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  Well-known correspondence between relativiz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interpret th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as OR gates, th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as AND gates, and the oracle string as an input of siz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acles are just the “obvious” way to address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stion, not some woo-woo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all that the early evidence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e.g. Simon’s alg) w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 evidence; then Shor found a similar oracle that could be “instantiated” by FACTOR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322-E097-49FF-B873-43133AA23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4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96FD-EFF8-4D6A-9F09-9D24BA687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y do we care whether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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1905120"/>
            <a:ext cx="85345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simulating quantum mechanics reduce to search or approximate coun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ther candidates for exponential quantum speedups are there—beside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intermediate problems like factor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quantum computers provide exponential speedups even i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uld a fast quantum algorithm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 problems collapse the polynomial hierarc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ADC-E58D-41F6-AAF0-4995725C2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533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828800"/>
            <a:ext cx="84582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chieve an oracle separation between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lation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rsions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study a new oracle problem—FOURIER CHECKING—that’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Calibri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onjecture that FOURIER CHECKING is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prove that this would follow from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Generalized Linial-Nisan Conjecture</a:t>
            </a:r>
            <a:br>
              <a:rPr sz="2600"/>
            </a:br>
            <a:r>
              <a:rPr b="1" lang="en-US" sz="2600" spc="-1" strike="noStrike">
                <a:solidFill>
                  <a:srgbClr val="006600"/>
                </a:solidFill>
                <a:latin typeface="Calibri"/>
              </a:rPr>
              <a:t>Original Linial-Nisan Conjecture was proved by Braverman 2009, after being open for 2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6FAD-95F7-4251-9A41-F47BCF84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CA1-3E4E-46D6-B4E1-DF0DA8134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104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15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Straight Arrow Connector 46"/>
              <p:cNvCxnSpPr>
                <a:stCxn id="115" idx="3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7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18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Straight Arrow Connector 52"/>
              <p:cNvCxnSpPr>
                <a:stCxn id="118" idx="3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0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21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Straight Arrow Connector 55"/>
              <p:cNvCxnSpPr>
                <a:stCxn id="121" idx="3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23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69"/>
          <p:cNvCxnSpPr>
            <a:stCxn id="129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9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32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565C-4F08-4414-BEDA-13CAA4D34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1143000"/>
            <a:ext cx="853416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specific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(Indeed, there’s only a ~1/2</a:t>
            </a:r>
            <a:r>
              <a:rPr b="0" i="1" lang="en-US" sz="2200" spc="-1" strike="noStrike" baseline="30000">
                <a:solidFill>
                  <a:srgbClr val="003300"/>
                </a:solidFill>
                <a:latin typeface="Calibri"/>
              </a:rPr>
              <a:t>n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 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Just adds more layers to the</a:t>
            </a:r>
            <a:r>
              <a:rPr b="0" i="1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 w.h.p., C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orc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estimate  eventually, even if it tries to avoi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7772400" y="3352680"/>
                <a:ext cx="70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9CE4-8432-4C8A-9749-A4AE6E743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315200" y="5486400"/>
                <a:ext cx="70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owner</cp:lastModifiedBy>
  <dcterms:modified xsi:type="dcterms:W3CDTF">2010-06-06T11:38:47Z</dcterms:modified>
  <cp:revision>68</cp:revision>
  <dc:subject/>
  <dc:title>BQP and the Polynomial Hierarchy</dc:title>
</cp:coreProperties>
</file>