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46F3-A45C-4458-B8FA-E0F28E858E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043-C4DD-4544-B614-64ACE0D388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9482-4703-4251-B831-0EACA4FA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00A3-7C6B-4420-A7A7-F015AC0E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39CD-C611-4351-8453-873F0F0C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5CE0-125A-4A35-B80D-8D8F93F5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B41-42D2-4EEF-9E8A-705BC248A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822B-FE51-4EEB-87CA-C0B862FB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7433-8A81-4D3A-BEBE-4CE4B2FF0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44C-D802-46BD-A299-C7907A20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8DC-2BDD-404A-923F-44EADDC1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B1B5-F255-45E7-BCD7-CCF2AEA649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182-BE7B-48A7-96CF-2D2EE769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84C-668E-4314-B898-2BA9DBD9C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D1EF-2E3F-4C61-9EA1-0F2522BB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68B-693C-4233-BF3A-02204367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C70-F598-403A-B82C-AA6D4658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FE1-EDA9-46AC-9748-58AE8DBE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03D-9F47-4EA1-909D-02FE79E1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22C-23BD-4E85-9E8C-544FD0E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D8A9-4B2A-46C9-B9B6-9BF06C7D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1EF5-8FD6-4EB0-AB64-5CB2432D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D6BC-35BC-4A5A-A1B7-826D66D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4BE-56CA-4F3B-B1A4-60EB830F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40D-24EF-47D0-9E9C-49EE875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22F7-7AD2-491D-BBE5-672B45D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E6A3-CCBC-45F2-B287-F5D9BE88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0AA-9530-4B90-A7A8-4D02C7D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817A-343C-4467-A736-7C1CFB0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8BE-06B1-49F2-A945-9CF5247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1C50-A07B-4F03-87BE-5649C20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897A-0624-4CA2-8D26-0ED01F92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F3A-8BAC-4D83-9029-91C41C25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EDD-9336-4ED3-B823-21F8AEEA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EBA8-D5C2-4CA1-A746-9A10230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0AA-5FA6-4F8E-BAD6-0A5F789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A1E-0ABD-46BB-95B9-B8A432A8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792-A8A7-4B1F-9D7B-B86C0A9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05F-2F74-4727-A539-CF25C61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552-0322-4279-A4D0-080CB25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7765-CA5C-4F38-AB8B-7B249CE0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E0D-DE9B-45E2-A344-4AB6F8D85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B4F-5CCA-46ED-8303-EE873E77B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 Quest for Quantum Computational Supremacy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ernays Lecture, ETH Zurich, Sep. 3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our test for quantum supremacy, it’s proved more than just its quantumness.  Under plausible hardness assumptions, it’s also proved that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250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15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16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317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18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228600" y="228600"/>
            <a:ext cx="871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1471680" y="1950480"/>
            <a:ext cx="2767320" cy="961920"/>
            <a:chOff x="1471680" y="1950480"/>
            <a:chExt cx="2767320" cy="961920"/>
          </a:xfrm>
        </p:grpSpPr>
        <p:sp>
          <p:nvSpPr>
            <p:cNvPr id="326" name="Straight Connector 17"/>
            <p:cNvSpPr/>
            <p:nvPr/>
          </p:nvSpPr>
          <p:spPr>
            <a:xfrm>
              <a:off x="2081160" y="233532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4"/>
            <p:cNvSpPr/>
            <p:nvPr/>
          </p:nvSpPr>
          <p:spPr>
            <a:xfrm>
              <a:off x="2576520" y="2028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49"/>
            <p:cNvGrpSpPr/>
            <p:nvPr/>
          </p:nvGrpSpPr>
          <p:grpSpPr>
            <a:xfrm>
              <a:off x="3429000" y="1950480"/>
              <a:ext cx="810000" cy="961920"/>
              <a:chOff x="3429000" y="1950480"/>
              <a:chExt cx="810000" cy="961920"/>
            </a:xfrm>
          </p:grpSpPr>
          <p:sp>
            <p:nvSpPr>
              <p:cNvPr id="329" name="Chord 38"/>
              <p:cNvSpPr/>
              <p:nvPr/>
            </p:nvSpPr>
            <p:spPr>
              <a:xfrm rot="7220400">
                <a:off x="3530520" y="2211480"/>
                <a:ext cx="60624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0" name="Straight Arrow Connector 39"/>
              <p:cNvCxnSpPr>
                <a:stCxn id="329" idx="2"/>
              </p:cNvCxnSpPr>
              <p:nvPr/>
            </p:nvCxnSpPr>
            <p:spPr>
              <a:xfrm flipV="1">
                <a:off x="3831480" y="195048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31" name="Text Box 3"/>
            <p:cNvSpPr/>
            <p:nvPr/>
          </p:nvSpPr>
          <p:spPr>
            <a:xfrm>
              <a:off x="1471680" y="202896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"/>
          <p:cNvSpPr/>
          <p:nvPr/>
        </p:nvSpPr>
        <p:spPr>
          <a:xfrm>
            <a:off x="260280" y="1041480"/>
            <a:ext cx="849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339840" y="3166920"/>
            <a:ext cx="84945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/trust the random number generator.  But what if you need to download random bits off the Internet—e.g. for cryptocurrenc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 learned from Snowden that the NS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h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ackdoored PRNGs.  Would like to trust only a classical computer running known code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e weird RNG hardware of www.RandomBits4U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62720" y="1590840"/>
            <a:ext cx="1704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152280" y="22860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Applications of Certified Randomnes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281160" y="32972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y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91960" y="1170000"/>
            <a:ext cx="6794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lection auditing, lotteries, proof-of-stake cryptocurrenci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0" descr=""/>
          <p:cNvPicPr/>
          <p:nvPr/>
        </p:nvPicPr>
        <p:blipFill>
          <a:blip r:embed="rId1"/>
          <a:stretch/>
        </p:blipFill>
        <p:spPr>
          <a:xfrm>
            <a:off x="7086600" y="1776240"/>
            <a:ext cx="18050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390600" y="334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Relate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10960" y="1015920"/>
            <a:ext cx="8918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Calibri"/>
                <a:ea typeface="Arial"/>
              </a:rPr>
              <a:t>Randomness from Bell violations: Colbeck, Renner et a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255600" y="3046320"/>
            <a:ext cx="868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Uses only “current technology”</a:t>
            </a: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Need to believe Alice and Bob are separated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3691080" y="1739880"/>
            <a:ext cx="1369440" cy="1290240"/>
            <a:chOff x="3691080" y="1739880"/>
            <a:chExt cx="1369440" cy="1290240"/>
          </a:xfrm>
        </p:grpSpPr>
        <p:sp>
          <p:nvSpPr>
            <p:cNvPr id="343" name="Freeform 6"/>
            <p:cNvSpPr/>
            <p:nvPr/>
          </p:nvSpPr>
          <p:spPr>
            <a:xfrm>
              <a:off x="3907800" y="177048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"/>
            <p:cNvSpPr/>
            <p:nvPr/>
          </p:nvSpPr>
          <p:spPr>
            <a:xfrm>
              <a:off x="3999600" y="1870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>
              <a:off x="4078080" y="2516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"/>
            <p:cNvSpPr/>
            <p:nvPr/>
          </p:nvSpPr>
          <p:spPr>
            <a:xfrm>
              <a:off x="4331520" y="2148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>
              <a:off x="4770720" y="2757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1"/>
            <p:cNvSpPr/>
            <p:nvPr/>
          </p:nvSpPr>
          <p:spPr>
            <a:xfrm>
              <a:off x="4770720" y="2791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"/>
            <p:cNvSpPr/>
            <p:nvPr/>
          </p:nvSpPr>
          <p:spPr>
            <a:xfrm>
              <a:off x="4775040" y="2869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3"/>
            <p:cNvSpPr/>
            <p:nvPr/>
          </p:nvSpPr>
          <p:spPr>
            <a:xfrm>
              <a:off x="4777920" y="2805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4"/>
            <p:cNvSpPr/>
            <p:nvPr/>
          </p:nvSpPr>
          <p:spPr>
            <a:xfrm>
              <a:off x="4986720" y="2829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5"/>
            <p:cNvSpPr/>
            <p:nvPr/>
          </p:nvSpPr>
          <p:spPr>
            <a:xfrm>
              <a:off x="4760280" y="2755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"/>
            <p:cNvSpPr/>
            <p:nvPr/>
          </p:nvSpPr>
          <p:spPr>
            <a:xfrm>
              <a:off x="4929480" y="2849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7"/>
            <p:cNvSpPr/>
            <p:nvPr/>
          </p:nvSpPr>
          <p:spPr>
            <a:xfrm>
              <a:off x="4849920" y="2783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4816440" y="2771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9"/>
            <p:cNvSpPr/>
            <p:nvPr/>
          </p:nvSpPr>
          <p:spPr>
            <a:xfrm>
              <a:off x="4706280" y="2880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"/>
            <p:cNvSpPr/>
            <p:nvPr/>
          </p:nvSpPr>
          <p:spPr>
            <a:xfrm>
              <a:off x="3710160" y="270108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1"/>
            <p:cNvSpPr/>
            <p:nvPr/>
          </p:nvSpPr>
          <p:spPr>
            <a:xfrm>
              <a:off x="3909960" y="2579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"/>
            <p:cNvSpPr/>
            <p:nvPr/>
          </p:nvSpPr>
          <p:spPr>
            <a:xfrm>
              <a:off x="4112280" y="2484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"/>
            <p:cNvSpPr/>
            <p:nvPr/>
          </p:nvSpPr>
          <p:spPr>
            <a:xfrm>
              <a:off x="4445640" y="1897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"/>
            <p:cNvSpPr/>
            <p:nvPr/>
          </p:nvSpPr>
          <p:spPr>
            <a:xfrm>
              <a:off x="4079520" y="238896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5"/>
            <p:cNvSpPr/>
            <p:nvPr/>
          </p:nvSpPr>
          <p:spPr>
            <a:xfrm>
              <a:off x="3954960" y="1831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4405680" y="2613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7"/>
            <p:cNvSpPr/>
            <p:nvPr/>
          </p:nvSpPr>
          <p:spPr>
            <a:xfrm>
              <a:off x="4501080" y="2654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8"/>
            <p:cNvSpPr/>
            <p:nvPr/>
          </p:nvSpPr>
          <p:spPr>
            <a:xfrm>
              <a:off x="3700800" y="285048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9"/>
            <p:cNvSpPr/>
            <p:nvPr/>
          </p:nvSpPr>
          <p:spPr>
            <a:xfrm>
              <a:off x="3898800" y="2549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"/>
            <p:cNvSpPr/>
            <p:nvPr/>
          </p:nvSpPr>
          <p:spPr>
            <a:xfrm>
              <a:off x="4656600" y="2556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"/>
            <p:cNvSpPr/>
            <p:nvPr/>
          </p:nvSpPr>
          <p:spPr>
            <a:xfrm>
              <a:off x="4399200" y="2620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2"/>
            <p:cNvSpPr/>
            <p:nvPr/>
          </p:nvSpPr>
          <p:spPr>
            <a:xfrm>
              <a:off x="4408200" y="2608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3"/>
            <p:cNvSpPr/>
            <p:nvPr/>
          </p:nvSpPr>
          <p:spPr>
            <a:xfrm>
              <a:off x="4495320" y="2652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4"/>
            <p:cNvSpPr/>
            <p:nvPr/>
          </p:nvSpPr>
          <p:spPr>
            <a:xfrm>
              <a:off x="3848760" y="2675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5"/>
            <p:cNvSpPr/>
            <p:nvPr/>
          </p:nvSpPr>
          <p:spPr>
            <a:xfrm>
              <a:off x="3735000" y="283248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6"/>
            <p:cNvSpPr/>
            <p:nvPr/>
          </p:nvSpPr>
          <p:spPr>
            <a:xfrm>
              <a:off x="4635360" y="2719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7"/>
            <p:cNvSpPr/>
            <p:nvPr/>
          </p:nvSpPr>
          <p:spPr>
            <a:xfrm>
              <a:off x="4677840" y="2863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"/>
            <p:cNvSpPr/>
            <p:nvPr/>
          </p:nvSpPr>
          <p:spPr>
            <a:xfrm>
              <a:off x="3717000" y="288216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9"/>
            <p:cNvSpPr/>
            <p:nvPr/>
          </p:nvSpPr>
          <p:spPr>
            <a:xfrm>
              <a:off x="3900960" y="272556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0"/>
            <p:cNvSpPr/>
            <p:nvPr/>
          </p:nvSpPr>
          <p:spPr>
            <a:xfrm>
              <a:off x="3875040" y="2772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1"/>
            <p:cNvSpPr/>
            <p:nvPr/>
          </p:nvSpPr>
          <p:spPr>
            <a:xfrm>
              <a:off x="4496040" y="2761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2"/>
            <p:cNvSpPr/>
            <p:nvPr/>
          </p:nvSpPr>
          <p:spPr>
            <a:xfrm>
              <a:off x="4522320" y="2790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3"/>
            <p:cNvSpPr/>
            <p:nvPr/>
          </p:nvSpPr>
          <p:spPr>
            <a:xfrm>
              <a:off x="4531320" y="2821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4"/>
            <p:cNvSpPr/>
            <p:nvPr/>
          </p:nvSpPr>
          <p:spPr>
            <a:xfrm>
              <a:off x="3882240" y="173988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5"/>
            <p:cNvSpPr/>
            <p:nvPr/>
          </p:nvSpPr>
          <p:spPr>
            <a:xfrm>
              <a:off x="4619160" y="1754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6"/>
            <p:cNvSpPr/>
            <p:nvPr/>
          </p:nvSpPr>
          <p:spPr>
            <a:xfrm>
              <a:off x="4570200" y="184500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7"/>
            <p:cNvSpPr/>
            <p:nvPr/>
          </p:nvSpPr>
          <p:spPr>
            <a:xfrm>
              <a:off x="4537440" y="1796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8"/>
            <p:cNvSpPr/>
            <p:nvPr/>
          </p:nvSpPr>
          <p:spPr>
            <a:xfrm>
              <a:off x="3881520" y="1941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9"/>
            <p:cNvSpPr/>
            <p:nvPr/>
          </p:nvSpPr>
          <p:spPr>
            <a:xfrm>
              <a:off x="4032360" y="2468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0"/>
            <p:cNvSpPr/>
            <p:nvPr/>
          </p:nvSpPr>
          <p:spPr>
            <a:xfrm>
              <a:off x="4489560" y="2469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1"/>
            <p:cNvSpPr/>
            <p:nvPr/>
          </p:nvSpPr>
          <p:spPr>
            <a:xfrm>
              <a:off x="4078080" y="2474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2"/>
            <p:cNvSpPr/>
            <p:nvPr/>
          </p:nvSpPr>
          <p:spPr>
            <a:xfrm>
              <a:off x="4038840" y="2556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3"/>
            <p:cNvSpPr/>
            <p:nvPr/>
          </p:nvSpPr>
          <p:spPr>
            <a:xfrm>
              <a:off x="4412160" y="2472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4"/>
            <p:cNvSpPr/>
            <p:nvPr/>
          </p:nvSpPr>
          <p:spPr>
            <a:xfrm>
              <a:off x="4525560" y="2516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5"/>
            <p:cNvSpPr/>
            <p:nvPr/>
          </p:nvSpPr>
          <p:spPr>
            <a:xfrm>
              <a:off x="4069080" y="2408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6"/>
            <p:cNvSpPr/>
            <p:nvPr/>
          </p:nvSpPr>
          <p:spPr>
            <a:xfrm>
              <a:off x="4070880" y="2381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7"/>
            <p:cNvSpPr/>
            <p:nvPr/>
          </p:nvSpPr>
          <p:spPr>
            <a:xfrm>
              <a:off x="4455360" y="2383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8"/>
            <p:cNvSpPr/>
            <p:nvPr/>
          </p:nvSpPr>
          <p:spPr>
            <a:xfrm>
              <a:off x="4374000" y="2402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9"/>
            <p:cNvSpPr/>
            <p:nvPr/>
          </p:nvSpPr>
          <p:spPr>
            <a:xfrm>
              <a:off x="4299840" y="2401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0"/>
            <p:cNvSpPr/>
            <p:nvPr/>
          </p:nvSpPr>
          <p:spPr>
            <a:xfrm>
              <a:off x="4214160" y="2399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1"/>
            <p:cNvSpPr/>
            <p:nvPr/>
          </p:nvSpPr>
          <p:spPr>
            <a:xfrm>
              <a:off x="4140000" y="2403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2"/>
            <p:cNvSpPr/>
            <p:nvPr/>
          </p:nvSpPr>
          <p:spPr>
            <a:xfrm>
              <a:off x="4356720" y="1870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3"/>
            <p:cNvSpPr/>
            <p:nvPr/>
          </p:nvSpPr>
          <p:spPr>
            <a:xfrm>
              <a:off x="3961440" y="2048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4"/>
            <p:cNvSpPr/>
            <p:nvPr/>
          </p:nvSpPr>
          <p:spPr>
            <a:xfrm>
              <a:off x="4073760" y="2314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5"/>
            <p:cNvSpPr/>
            <p:nvPr/>
          </p:nvSpPr>
          <p:spPr>
            <a:xfrm>
              <a:off x="4454640" y="1854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6"/>
            <p:cNvSpPr/>
            <p:nvPr/>
          </p:nvSpPr>
          <p:spPr>
            <a:xfrm>
              <a:off x="3691080" y="2841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7"/>
            <p:cNvSpPr/>
            <p:nvPr/>
          </p:nvSpPr>
          <p:spPr>
            <a:xfrm>
              <a:off x="3960720" y="1850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8"/>
            <p:cNvSpPr/>
            <p:nvPr/>
          </p:nvSpPr>
          <p:spPr>
            <a:xfrm>
              <a:off x="3997440" y="1892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9"/>
            <p:cNvSpPr/>
            <p:nvPr/>
          </p:nvSpPr>
          <p:spPr>
            <a:xfrm>
              <a:off x="3893040" y="2600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Picture 7" descr="alice"/>
          <p:cNvPicPr/>
          <p:nvPr/>
        </p:nvPicPr>
        <p:blipFill>
          <a:blip r:embed="rId1"/>
          <a:stretch/>
        </p:blipFill>
        <p:spPr>
          <a:xfrm>
            <a:off x="598320" y="1539720"/>
            <a:ext cx="1182960" cy="1373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Image result for bob"/>
          <p:cNvPicPr/>
          <p:nvPr/>
        </p:nvPicPr>
        <p:blipFill>
          <a:blip r:embed="rId2"/>
          <a:stretch/>
        </p:blipFill>
        <p:spPr>
          <a:xfrm>
            <a:off x="6673680" y="1660680"/>
            <a:ext cx="1752840" cy="1168200"/>
          </a:xfrm>
          <a:prstGeom prst="rect">
            <a:avLst/>
          </a:prstGeom>
          <a:ln w="0">
            <a:noFill/>
          </a:ln>
        </p:spPr>
      </p:pic>
      <p:cxnSp>
        <p:nvCxnSpPr>
          <p:cNvPr id="409" name="Straight Arrow Connector 73"/>
          <p:cNvCxnSpPr/>
          <p:nvPr/>
        </p:nvCxnSpPr>
        <p:spPr>
          <a:xfrm>
            <a:off x="4889520" y="1924200"/>
            <a:ext cx="1674000" cy="10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0" name="Straight Arrow Connector 75"/>
          <p:cNvCxnSpPr/>
          <p:nvPr/>
        </p:nvCxnSpPr>
        <p:spPr>
          <a:xfrm flipH="1" flipV="1">
            <a:off x="4852440" y="2385720"/>
            <a:ext cx="1689480" cy="864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1" name="Straight Arrow Connector 83"/>
          <p:cNvCxnSpPr/>
          <p:nvPr/>
        </p:nvCxnSpPr>
        <p:spPr>
          <a:xfrm flipH="1">
            <a:off x="1910520" y="1928520"/>
            <a:ext cx="18075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12" name="Straight Arrow Connector 87"/>
          <p:cNvCxnSpPr/>
          <p:nvPr/>
        </p:nvCxnSpPr>
        <p:spPr>
          <a:xfrm>
            <a:off x="1911240" y="2373120"/>
            <a:ext cx="1791360" cy="277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grpSp>
        <p:nvGrpSpPr>
          <p:cNvPr id="413" name="Group 5"/>
          <p:cNvGrpSpPr/>
          <p:nvPr/>
        </p:nvGrpSpPr>
        <p:grpSpPr>
          <a:xfrm>
            <a:off x="2284560" y="4905360"/>
            <a:ext cx="1371600" cy="1292400"/>
            <a:chOff x="2284560" y="4905360"/>
            <a:chExt cx="1371600" cy="1292400"/>
          </a:xfrm>
        </p:grpSpPr>
        <p:sp>
          <p:nvSpPr>
            <p:cNvPr id="414" name="Freeform 6"/>
            <p:cNvSpPr/>
            <p:nvPr/>
          </p:nvSpPr>
          <p:spPr>
            <a:xfrm>
              <a:off x="2501640" y="4935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2593800" y="5035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671920" y="5682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25720" y="5314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365640" y="5924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65640" y="5958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3369960" y="6036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372840" y="5972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82000" y="5996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355200" y="5922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524760" y="6016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444840" y="5950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11360" y="5938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01200" y="6047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2303640" y="5868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2503800" y="5746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706120" y="5650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3040200" y="5063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2673720" y="5555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2548800" y="4997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000240" y="5780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095640" y="5821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2294280" y="6017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2492280" y="5716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3251520" y="5723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2993760" y="5787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3002400" y="5775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3089880" y="5819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2442600" y="5842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2328480" y="5999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3230280" y="5886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3272760" y="6030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2310480" y="6049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2494800" y="5892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2468880" y="5939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3090600" y="5928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3116880" y="5956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3125880" y="5988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2476080" y="4905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3213720" y="4919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3165120" y="5010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3132360" y="4961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2475360" y="5107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2626200" y="5635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3084120" y="5635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2671920" y="5640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2633040" y="5723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3006720" y="5639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3120120" y="5682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2662920" y="5574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2664720" y="5547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3049920" y="5549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2968200" y="5569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2894040" y="5568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2808360" y="5565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2733840" y="5569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2950920" y="5035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2555280" y="5214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2667960" y="5481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3049200" y="5020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2284560" y="6008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2554560" y="5016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2591280" y="5058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2486520" y="5767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" descr=""/>
          <p:cNvPicPr/>
          <p:nvPr/>
        </p:nvPicPr>
        <p:blipFill>
          <a:blip r:embed="rId3"/>
          <a:stretch/>
        </p:blipFill>
        <p:spPr>
          <a:xfrm>
            <a:off x="7147080" y="4930920"/>
            <a:ext cx="175068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79" name="Straight Arrow Connector 144"/>
          <p:cNvCxnSpPr/>
          <p:nvPr/>
        </p:nvCxnSpPr>
        <p:spPr>
          <a:xfrm>
            <a:off x="3552840" y="5108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80" name="Straight Arrow Connector 145"/>
          <p:cNvCxnSpPr/>
          <p:nvPr/>
        </p:nvCxnSpPr>
        <p:spPr>
          <a:xfrm>
            <a:off x="3570120" y="54446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481" name="Straight Arrow Connector 146"/>
          <p:cNvCxnSpPr/>
          <p:nvPr/>
        </p:nvCxnSpPr>
        <p:spPr>
          <a:xfrm>
            <a:off x="3557520" y="579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482" name="Straight Arrow Connector 147"/>
          <p:cNvCxnSpPr/>
          <p:nvPr/>
        </p:nvCxnSpPr>
        <p:spPr>
          <a:xfrm>
            <a:off x="3557520" y="61225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483" name="Text Box 2"/>
          <p:cNvSpPr/>
          <p:nvPr/>
        </p:nvSpPr>
        <p:spPr>
          <a:xfrm>
            <a:off x="201600" y="5105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5054760" y="4719600"/>
            <a:ext cx="4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4894200" y="5073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3683160" y="541008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3726000" y="576900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93600" y="4249800"/>
            <a:ext cx="7907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Calibri"/>
                <a:ea typeface="Arial"/>
              </a:rPr>
              <a:t>Randomness from a full QC: Brakerski et al. 2018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60"/>
          <p:cNvSpPr/>
          <p:nvPr/>
        </p:nvSpPr>
        <p:spPr>
          <a:xfrm flipH="1">
            <a:off x="-14400" y="968400"/>
            <a:ext cx="914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162"/>
          <p:cNvSpPr/>
          <p:nvPr/>
        </p:nvSpPr>
        <p:spPr>
          <a:xfrm flipH="1">
            <a:off x="9360" y="4114800"/>
            <a:ext cx="9144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210960" y="6273720"/>
            <a:ext cx="8686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Fast verification /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Requires full Q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others are now on the threshold of testing quantum supremacy using sampling tasks on ~50-qubit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achieved, this will leave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but it’ll already refute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ntil recently, it was thought that sampling-based supremacy experiments had no applications in themselves.  My certified randomness protocol changes that—though many challenges remain in analyzing it and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 of Whole 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16080" y="1011240"/>
            <a:ext cx="86104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fundamental principles of computing were secretly about physics all along!  The last few decades have made this explicit, most obviously through Q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upholds the Church-Turing Thesis —but probabl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viol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e Extended CT Th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an w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re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xploit the exponentiality of quantum states to solve certain problems faster?  Or will yet-unknown physics forever prevent quantum speedu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’ve had the privilege of giving these talks at the point in history right before we start getting some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4840" y="125280"/>
            <a:ext cx="49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to Build a Q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870520" y="195120"/>
            <a:ext cx="313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apped Ion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onQ, Honeywell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Image result for trapped ions"/>
          <p:cNvPicPr/>
          <p:nvPr/>
        </p:nvPicPr>
        <p:blipFill>
          <a:blip r:embed="rId1"/>
          <a:stretch/>
        </p:blipFill>
        <p:spPr>
          <a:xfrm>
            <a:off x="4627440" y="1211400"/>
            <a:ext cx="434340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Image result for google sycamore quantum"/>
          <p:cNvPicPr/>
          <p:nvPr/>
        </p:nvPicPr>
        <p:blipFill>
          <a:blip r:embed="rId2"/>
          <a:stretch/>
        </p:blipFill>
        <p:spPr>
          <a:xfrm>
            <a:off x="414360" y="1303200"/>
            <a:ext cx="3733920" cy="1951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8680" y="3295800"/>
            <a:ext cx="4208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perconducting Qubit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Google, IBM, Rigetti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age result for superconducting quantum dilution fridge"/>
          <p:cNvPicPr/>
          <p:nvPr/>
        </p:nvPicPr>
        <p:blipFill>
          <a:blip r:embed="rId3"/>
          <a:stretch/>
        </p:blipFill>
        <p:spPr>
          <a:xfrm>
            <a:off x="297000" y="4303800"/>
            <a:ext cx="1760400" cy="255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6764400" y="5334120"/>
            <a:ext cx="2361960" cy="33433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566040" y="4303800"/>
            <a:ext cx="2666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hotonic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siQuantum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5"/>
          <a:stretch/>
        </p:blipFill>
        <p:spPr>
          <a:xfrm>
            <a:off x="4424400" y="4587840"/>
            <a:ext cx="1957320" cy="2270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119320" y="4827600"/>
            <a:ext cx="2432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abelian Any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Microsof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6"/>
          <a:stretch/>
        </p:blipFill>
        <p:spPr>
          <a:xfrm>
            <a:off x="4572000" y="2655720"/>
            <a:ext cx="2298600" cy="1533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799320" y="2808360"/>
            <a:ext cx="2327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ld Atom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Luki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"/>
          <p:cNvSpPr/>
          <p:nvPr/>
        </p:nvSpPr>
        <p:spPr>
          <a:xfrm>
            <a:off x="4365720" y="998640"/>
            <a:ext cx="0" cy="33163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5"/>
          <p:cNvSpPr/>
          <p:nvPr/>
        </p:nvSpPr>
        <p:spPr>
          <a:xfrm flipH="1">
            <a:off x="2280960" y="4329000"/>
            <a:ext cx="68626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8"/>
          <p:cNvSpPr/>
          <p:nvPr/>
        </p:nvSpPr>
        <p:spPr>
          <a:xfrm>
            <a:off x="2281320" y="4303800"/>
            <a:ext cx="0" cy="2554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30"/>
          <p:cNvSpPr/>
          <p:nvPr/>
        </p:nvSpPr>
        <p:spPr>
          <a:xfrm>
            <a:off x="6566040" y="4314960"/>
            <a:ext cx="0" cy="2554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2"/>
          <p:cNvSpPr/>
          <p:nvPr/>
        </p:nvSpPr>
        <p:spPr>
          <a:xfrm flipH="1">
            <a:off x="4365720" y="2438280"/>
            <a:ext cx="4867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6"/>
          <p:cNvSpPr/>
          <p:nvPr/>
        </p:nvSpPr>
        <p:spPr>
          <a:xfrm flipH="1">
            <a:off x="0" y="1019160"/>
            <a:ext cx="54021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38"/>
          <p:cNvSpPr/>
          <p:nvPr/>
        </p:nvSpPr>
        <p:spPr>
          <a:xfrm>
            <a:off x="5402160" y="0"/>
            <a:ext cx="0" cy="1019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 result for decoherence schrodinger's cat"/>
          <p:cNvPicPr/>
          <p:nvPr/>
        </p:nvPicPr>
        <p:blipFill>
          <a:blip r:embed="rId1"/>
          <a:stretch/>
        </p:blipFill>
        <p:spPr>
          <a:xfrm>
            <a:off x="6357960" y="1047600"/>
            <a:ext cx="2459160" cy="17924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y Is Building It So Damn H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30120" y="1066680"/>
            <a:ext cx="6299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ecoherenc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nwanted interaction between the QC and its environment, prematurely “measuring” the Q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18960" y="3246480"/>
            <a:ext cx="8508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 most QC researchers’ view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quantum 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discovered in the mid-1990s) provides the ultimate theoretical solution to decoh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30120" y="477036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t fault-tolerance itself will require very precise physical control over the qubits—of a sort experimentalists seem unlikely to achieve for years (though they’ve made great strid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2440" y="2666880"/>
            <a:ext cx="72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The more operations and qubits, the worse things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122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8"/>
          <p:cNvSpPr/>
          <p:nvPr/>
        </p:nvSpPr>
        <p:spPr>
          <a:xfrm>
            <a:off x="1657440" y="3652920"/>
            <a:ext cx="60958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Refute the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303120" y="134460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68"/>
          <p:cNvSpPr/>
          <p:nvPr/>
        </p:nvSpPr>
        <p:spPr>
          <a:xfrm>
            <a:off x="1461960" y="5840280"/>
            <a:ext cx="64008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Google and others currently racing to achieve this with ~50-qubi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68"/>
          <p:cNvSpPr/>
          <p:nvPr/>
        </p:nvSpPr>
        <p:spPr>
          <a:xfrm>
            <a:off x="1386000" y="4724280"/>
            <a:ext cx="6624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 now, forget about fault-tolerance and even applications—just do something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</a:rPr>
              <a:t>h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17520" y="1077840"/>
            <a:ext cx="850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and Grover’s algorithms, even most quantum simulation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 expensive for the near te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17520" y="2271600"/>
            <a:ext cx="8508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Optimiz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Unclear that there’s any real quantum speedup to be had with algorithms feasible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57200" y="2937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449440" y="124452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89" name="Straight Connector 4"/>
            <p:cNvSpPr/>
            <p:nvPr/>
          </p:nvSpPr>
          <p:spPr>
            <a:xfrm>
              <a:off x="483120" y="1490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23"/>
            <p:cNvSpPr/>
            <p:nvPr/>
          </p:nvSpPr>
          <p:spPr>
            <a:xfrm>
              <a:off x="470160" y="194328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24"/>
            <p:cNvSpPr/>
            <p:nvPr/>
          </p:nvSpPr>
          <p:spPr>
            <a:xfrm>
              <a:off x="459000" y="243324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25"/>
            <p:cNvSpPr/>
            <p:nvPr/>
          </p:nvSpPr>
          <p:spPr>
            <a:xfrm>
              <a:off x="446040" y="2885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202" name="Straight Connector 34"/>
            <p:cNvSpPr/>
            <p:nvPr/>
          </p:nvSpPr>
          <p:spPr>
            <a:xfrm>
              <a:off x="1560960" y="1490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35"/>
            <p:cNvSpPr/>
            <p:nvPr/>
          </p:nvSpPr>
          <p:spPr>
            <a:xfrm>
              <a:off x="1548000" y="194328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traight Connector 36"/>
            <p:cNvSpPr/>
            <p:nvPr/>
          </p:nvSpPr>
          <p:spPr>
            <a:xfrm>
              <a:off x="1536840" y="243324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37"/>
            <p:cNvSpPr/>
            <p:nvPr/>
          </p:nvSpPr>
          <p:spPr>
            <a:xfrm>
              <a:off x="1525680" y="28857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at your leisure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438280" y="2362320"/>
            <a:ext cx="6443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1562040" y="4475160"/>
          <a:ext cx="54673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475160"/>
                    <a:ext cx="5467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212" name="Straight Connector 42"/>
            <p:cNvSpPr/>
            <p:nvPr/>
          </p:nvSpPr>
          <p:spPr>
            <a:xfrm>
              <a:off x="972000" y="150480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43"/>
            <p:cNvSpPr/>
            <p:nvPr/>
          </p:nvSpPr>
          <p:spPr>
            <a:xfrm>
              <a:off x="959040" y="19569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44"/>
            <p:cNvSpPr/>
            <p:nvPr/>
          </p:nvSpPr>
          <p:spPr>
            <a:xfrm>
              <a:off x="947880" y="244620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45"/>
            <p:cNvSpPr/>
            <p:nvPr/>
          </p:nvSpPr>
          <p:spPr>
            <a:xfrm>
              <a:off x="934920" y="2898360"/>
              <a:ext cx="624960" cy="129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217" name="Straight Connector 47"/>
            <p:cNvSpPr/>
            <p:nvPr/>
          </p:nvSpPr>
          <p:spPr>
            <a:xfrm flipV="1">
              <a:off x="479520" y="249876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traight Connector 48"/>
            <p:cNvSpPr/>
            <p:nvPr/>
          </p:nvSpPr>
          <p:spPr>
            <a:xfrm flipV="1">
              <a:off x="1004040" y="250560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traight Connector 49"/>
            <p:cNvSpPr/>
            <p:nvPr/>
          </p:nvSpPr>
          <p:spPr>
            <a:xfrm flipV="1">
              <a:off x="1571760" y="251136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traight Connector 50"/>
            <p:cNvSpPr/>
            <p:nvPr/>
          </p:nvSpPr>
          <p:spPr>
            <a:xfrm flipV="1">
              <a:off x="2096640" y="2518200"/>
              <a:ext cx="14760" cy="3312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222" name="Straight Connector 52"/>
            <p:cNvSpPr/>
            <p:nvPr/>
          </p:nvSpPr>
          <p:spPr>
            <a:xfrm flipV="1">
              <a:off x="490680" y="15458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traight Connector 53"/>
            <p:cNvSpPr/>
            <p:nvPr/>
          </p:nvSpPr>
          <p:spPr>
            <a:xfrm flipV="1">
              <a:off x="1015200" y="15526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traight Connector 54"/>
            <p:cNvSpPr/>
            <p:nvPr/>
          </p:nvSpPr>
          <p:spPr>
            <a:xfrm flipV="1">
              <a:off x="1582920" y="15584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traight Connector 55"/>
            <p:cNvSpPr/>
            <p:nvPr/>
          </p:nvSpPr>
          <p:spPr>
            <a:xfrm flipV="1">
              <a:off x="2107800" y="15652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227" name="Straight Connector 57"/>
            <p:cNvSpPr/>
            <p:nvPr/>
          </p:nvSpPr>
          <p:spPr>
            <a:xfrm flipV="1">
              <a:off x="457200" y="20030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58"/>
            <p:cNvSpPr/>
            <p:nvPr/>
          </p:nvSpPr>
          <p:spPr>
            <a:xfrm flipV="1">
              <a:off x="981720" y="20098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traight Connector 59"/>
            <p:cNvSpPr/>
            <p:nvPr/>
          </p:nvSpPr>
          <p:spPr>
            <a:xfrm flipV="1">
              <a:off x="1549440" y="201564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traight Connector 60"/>
            <p:cNvSpPr/>
            <p:nvPr/>
          </p:nvSpPr>
          <p:spPr>
            <a:xfrm flipV="1">
              <a:off x="2074320" y="2022480"/>
              <a:ext cx="14760" cy="33156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4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Hard Is Classical Spoof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797120" y="1100160"/>
            <a:ext cx="55753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est known classical metho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Schrödinger-Feynman algorithm”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(A.-Chen 2017)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 Uses recursion to make best use of available memory.  Can enhance further by using tensor networks to exploit 2D locality.  Demonstrated by Google, Alibaba, … with 60+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233280" y="1328760"/>
            <a:ext cx="1542960" cy="178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458120" y="1228680"/>
            <a:ext cx="1565280" cy="2149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396720" y="5086440"/>
            <a:ext cx="8442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.-Chen 2017 also prov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 fast classical sampling algorithm would imply a fast classical algorithm t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u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mplitudes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than ch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</cp:lastModifiedBy>
  <dcterms:modified xsi:type="dcterms:W3CDTF">2019-09-03T06:16:15Z</dcterms:modified>
  <cp:revision>3869</cp:revision>
  <dc:subject/>
  <dc:title>Slide 1</dc:title>
</cp:coreProperties>
</file>