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E80-51EF-4417-AEA6-88C84D5E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BE04-5AD8-4A07-8D6D-B95255DE20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34D-02A7-4DE0-8F86-21F811D92D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F39-3863-4404-93E3-DE94390C39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CF9-5247-428C-9738-3B4EC41BB3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2F27-A364-4431-9699-B621862ED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36CD-98DB-4C91-8CA6-F7B1FA4924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DC4-DAA8-4F82-B32F-1CBEFD84B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D6E-A5AA-46C9-A27C-6F88315C4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D9EE-A680-4903-B0FA-FA4D3FDC10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43D-A0E1-4D6D-BE73-ABA310AC1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69DF-05BF-402C-9111-414415515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84E-AE10-49B0-A945-F220C3D649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825-714F-43A9-A7E8-199F7FAC8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9248-C570-441A-AEBB-B83A3EE01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732-FB3B-47D1-8DEA-2269DBBDCE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7D58-66DC-4725-A241-09E2F2A9F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14F4-8831-437A-8937-AA2A5B2C0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AA69-A964-401D-8EC5-895B0D9774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D44-105A-42B7-8DF9-FB2519DD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D9D-6584-4808-9095-D8CED17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F8-279E-4A5F-B9CE-8E5F1197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161-80B5-47A4-8B8F-9B46E8EC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1E7-6482-4DC7-A2E7-9741DC69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B1B-F517-4570-9389-45277F06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235-A3F3-4FA9-ACB8-EAEFC3A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FF2-3296-418F-8B5F-0E9A182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551-DAF3-4277-88D2-86C4BE5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08D-93EF-4DB5-A3CE-371B89D6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20A-1FD9-469D-A38B-465B275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A5E-2480-4F3E-B64A-8A76F96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988-E09D-4A96-B9BD-3E949007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BBN, October 30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6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f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92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iting new idea, proposed by Steve Kolthammer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Issues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creases depth of optical network needed.  Also, if some sources generate ≥2 photons, need a new hardness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which actual photodetectors light up, and count onl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umber of tim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output configuration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ubtitle 4"/>
          <p:cNvSpPr/>
          <p:nvPr/>
        </p:nvSpPr>
        <p:spPr>
          <a:xfrm>
            <a:off x="1176480" y="4038480"/>
            <a:ext cx="6933960" cy="2362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almo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we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522360" y="388620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why we sai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a BosonSampling device’s output, but the BosonSampling device might be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probably the best you can do anyway, without quantum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 Haar-random BosonSampling matrix, where m≥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with 1-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variation distance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4"/>
          <p:cNvSpPr/>
          <p:nvPr/>
        </p:nvSpPr>
        <p:spPr>
          <a:xfrm>
            <a:off x="3086280" y="5410080"/>
            <a:ext cx="5833800" cy="97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cessary, though not sufficient, for approximately sampling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27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31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32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33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49230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60360" y="1903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60360" y="2892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934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0880" y="3846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till sampling a hard distribution with unheralded photon losses, or Gaussian initial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3-10-29T15:45:03Z</dcterms:modified>
  <cp:revision>1608</cp:revision>
  <dc:subject/>
  <dc:title>The Learnability of Quantum States</dc:title>
</cp:coreProperties>
</file>