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ACD1-3759-450D-8412-1F6E1147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EDE1-EE80-43A9-8234-9124ABBCB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60D-C752-455B-9C97-A7AA7474B7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9B65-EBD3-4473-9A69-36A26E080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971B-65FA-4D18-8CA6-E22252B069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1072-820D-401E-8A47-E5E106DB7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2CAC-50BA-4C0A-822B-062F8BE384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AAE-754B-4A1A-B5D1-E485EA59A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F49-ECF1-4194-8761-5C6BC1AC0F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CD4C-3CC1-4B42-9269-E6CAAABB3B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116-E86F-4296-BAEA-737BC4904B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A34F-AB2D-4BF8-A02A-7AA1E62322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2678-CD90-446E-8853-57F75D15F4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EBF1-E5D7-4A39-A2F3-F93E70852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583-1D02-4307-AF30-5C83F52D0F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31E-152E-49F7-AC36-56D5E04EA9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F49E-6199-42E7-9BFD-2C85BF988A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544F-B463-4356-88E7-8A6D50730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82C0-20F6-44AC-AAE9-57E04F57DD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D88-A48E-4676-9B3B-EA6C0116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66C-7398-4D3C-B13F-99901D7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E7F-9EBE-4506-8E33-490C6B05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8B6-59F3-4EB2-B3D2-994E68FA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254-F7FB-402F-8DFC-6E4353CF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427-F303-4CF5-ACB0-3A993282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81D-1AB7-4D4B-8BCD-F4E6499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442-0E01-4CAA-886C-271643B5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292-F829-4F22-886A-0A518FBD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CCC-69A8-4487-BE99-81AF26F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093-C107-40EE-B7A6-95C2919B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DD3-3EBE-446B-8B91-92D3B9B7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0F8-46B9-43DC-9D3E-02D571B45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Calibri"/>
              </a:rPr>
              <a:t>BosonSampling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M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alk at BBN, October 30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181480" y="205740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914400" y="1728720"/>
            <a:ext cx="3105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1333440" y="4191120"/>
            <a:ext cx="6477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# of experiments &gt; # of phot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photonics.com/images2/Spectra/Features/2013/06/Quantum_Figure4.jpg"/>
          <p:cNvPicPr/>
          <p:nvPr/>
        </p:nvPicPr>
        <p:blipFill>
          <a:blip r:embed="rId1"/>
          <a:stretch/>
        </p:blipFill>
        <p:spPr>
          <a:xfrm>
            <a:off x="5410080" y="1415880"/>
            <a:ext cx="3200400" cy="2143440"/>
          </a:xfrm>
          <a:prstGeom prst="rect">
            <a:avLst/>
          </a:prstGeom>
          <a:ln w="0">
            <a:noFill/>
          </a:ln>
        </p:spPr>
      </p:pic>
      <p:sp>
        <p:nvSpPr>
          <p:cNvPr id="106" name="Subtitle 4"/>
          <p:cNvSpPr/>
          <p:nvPr/>
        </p:nvSpPr>
        <p:spPr>
          <a:xfrm>
            <a:off x="457200" y="1166760"/>
            <a:ext cx="46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st year, groups in Brisban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f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Rome, and Vienna reported the first 3-photon BosonSampling experiments, confirming that the amplitudes were given by 3x3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ubtitle 4"/>
          <p:cNvSpPr/>
          <p:nvPr/>
        </p:nvSpPr>
        <p:spPr>
          <a:xfrm>
            <a:off x="455760" y="3429000"/>
            <a:ext cx="830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Goal (in our view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cale to 10-30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on’t want to scale much beyond that—both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you probably can’t without fault-tolerance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classical computer probably couldn’t even verify the resu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ubtitle 4"/>
          <p:cNvSpPr/>
          <p:nvPr/>
        </p:nvSpPr>
        <p:spPr>
          <a:xfrm>
            <a:off x="457200" y="6858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bvious Challenges for Scaling 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liable single-photon sources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optical multiplex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izing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tting high probability of n-photon coinc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attershot Boson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380880" y="92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iting new idea, proposed by Steve Kolthammer, for sampling a hard distribution even with highly unreliable (but heralded) photon sources, like SP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The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y you have 100 sources, of which only 10 (on average) generate a photon.  Then just detect which sources succeed, and use those to define your BosonSampling inst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exity analysis goes through essentially withou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Issues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creases depth of optical network needed.  Also, if some sources generate ≥2 photons, need a new hardness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ubtitle 4"/>
          <p:cNvSpPr/>
          <p:nvPr/>
        </p:nvSpPr>
        <p:spPr>
          <a:xfrm>
            <a:off x="446040" y="1523880"/>
            <a:ext cx="8393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you ignore which actual photodetectors light up, and count only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umber of time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ach output configuration occurs.  In that case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 exponentially-close to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ubtitle 4"/>
          <p:cNvSpPr/>
          <p:nvPr/>
        </p:nvSpPr>
        <p:spPr>
          <a:xfrm>
            <a:off x="1176480" y="4038480"/>
            <a:ext cx="6933960" cy="236232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y would you ignore which detectors light up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output of almo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lgorithm is also gobbledygook if you ignore the order of the output bi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228600"/>
            <a:ext cx="83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Recent Criticisms of Gogolin et al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arXiv:1306.3995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ubtitle 4"/>
          <p:cNvSpPr/>
          <p:nvPr/>
        </p:nvSpPr>
        <p:spPr>
          <a:xfrm>
            <a:off x="522360" y="167652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K, so mayb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sn’t close to uniform.  Still, the very same arguments we gave for why polynomial-time classical algorithms can’t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ggest that they can’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522360" y="3886200"/>
            <a:ext cx="8164440" cy="2514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esponse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’s why we said to focus on 10-30 photons—a range where a classical compute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verify a BosonSampling device’s output, but the BosonSampling device might be “faster”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(And 10-30 photons is probably the best you can do anyway, without quantum fault-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457200" y="615960"/>
            <a:ext cx="9925200" cy="6251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380880" y="22860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Decisive Response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, arXiv:1309.74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ubtitle 4"/>
          <p:cNvSpPr/>
          <p:nvPr/>
        </p:nvSpPr>
        <p:spPr>
          <a:xfrm>
            <a:off x="1523880" y="1579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et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 a Haar-random BosonSampling matrix, where m≥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with 1-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probability over A, the BosonSampling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) variation distance from the uniform distribution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4"/>
          <p:cNvSpPr/>
          <p:nvPr/>
        </p:nvSpPr>
        <p:spPr>
          <a:xfrm flipV="1">
            <a:off x="4800600" y="-360"/>
            <a:ext cx="0" cy="655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ubtitle 4"/>
          <p:cNvSpPr/>
          <p:nvPr/>
        </p:nvSpPr>
        <p:spPr>
          <a:xfrm>
            <a:off x="4800600" y="4648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der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ubtitle 4"/>
          <p:cNvSpPr/>
          <p:nvPr/>
        </p:nvSpPr>
        <p:spPr>
          <a:xfrm>
            <a:off x="1219320" y="440064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99"/>
                </a:solidFill>
                <a:latin typeface="Calibri"/>
                <a:ea typeface="Calibri"/>
              </a:rPr>
              <a:t>Histogram of (normalized) probabilities under D</a:t>
            </a:r>
            <a:r>
              <a:rPr b="0" i="1" lang="en-US" sz="2400" spc="-1" strike="noStrike" baseline="-25000">
                <a:solidFill>
                  <a:srgbClr val="990099"/>
                </a:solidFill>
                <a:latin typeface="Calibri"/>
                <a:ea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4"/>
          <p:cNvSpPr/>
          <p:nvPr/>
        </p:nvSpPr>
        <p:spPr>
          <a:xfrm>
            <a:off x="3086280" y="5410080"/>
            <a:ext cx="5833800" cy="97164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cessary, though not sufficient, for approximately sampling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be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ubtitle 4"/>
          <p:cNvSpPr/>
          <p:nvPr/>
        </p:nvSpPr>
        <p:spPr>
          <a:xfrm>
            <a:off x="27612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A. 2013)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Haar-random, where m&gt;&gt;n.  Then ther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 classical polynomial-time algorithm C(A) that distinguishes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from U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with high probability over A and constant bias, and using only O(1) s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ubtitle 4"/>
          <p:cNvSpPr/>
          <p:nvPr/>
        </p:nvSpPr>
        <p:spPr>
          <a:xfrm>
            <a:off x="276120" y="1801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Strategy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t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e the n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n submatrix of A corresponding to output S.  Let P be the product of squared 2-norms of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’s rows.  If P&gt;E[P], then guess S was drawn from 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; otherwise guess S was drawn from 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114800" y="3610080"/>
            <a:ext cx="4824360" cy="3047760"/>
            <a:chOff x="4114800" y="3610080"/>
            <a:chExt cx="4824360" cy="3047760"/>
          </a:xfrm>
        </p:grpSpPr>
        <p:pic>
          <p:nvPicPr>
            <p:cNvPr id="127" name="Picture 7" descr=""/>
            <p:cNvPicPr/>
            <p:nvPr/>
          </p:nvPicPr>
          <p:blipFill>
            <a:blip r:embed="rId1"/>
            <a:stretch/>
          </p:blipFill>
          <p:spPr>
            <a:xfrm>
              <a:off x="4114800" y="3610080"/>
              <a:ext cx="471168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Subtitle 4"/>
            <p:cNvSpPr/>
            <p:nvPr/>
          </p:nvSpPr>
          <p:spPr>
            <a:xfrm>
              <a:off x="4952880" y="3809880"/>
              <a:ext cx="3962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 under uniform distribution (a lognormal random variabl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ubtitle 4"/>
            <p:cNvSpPr/>
            <p:nvPr/>
          </p:nvSpPr>
          <p:spPr>
            <a:xfrm>
              <a:off x="5462640" y="4875120"/>
              <a:ext cx="3476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P under a BosonSampling distrib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Straight Arrow Connector 15"/>
            <p:cNvCxnSpPr/>
            <p:nvPr/>
          </p:nvCxnSpPr>
          <p:spPr>
            <a:xfrm flipH="1">
              <a:off x="7085880" y="5333400"/>
              <a:ext cx="115200" cy="8247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131" name="Straight Arrow Connector 18"/>
            <p:cNvCxnSpPr/>
            <p:nvPr/>
          </p:nvCxnSpPr>
          <p:spPr>
            <a:xfrm flipH="1">
              <a:off x="4952520" y="4554720"/>
              <a:ext cx="381600" cy="24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32" name="Group 19"/>
          <p:cNvGrpSpPr/>
          <p:nvPr/>
        </p:nvGrpSpPr>
        <p:grpSpPr>
          <a:xfrm>
            <a:off x="276120" y="3589200"/>
            <a:ext cx="3460680" cy="3129120"/>
            <a:chOff x="276120" y="3589200"/>
            <a:chExt cx="3460680" cy="3129120"/>
          </a:xfrm>
        </p:grpSpPr>
        <p:sp>
          <p:nvSpPr>
            <p:cNvPr id="133" name="Double Bracket 2"/>
            <p:cNvSpPr/>
            <p:nvPr/>
          </p:nvSpPr>
          <p:spPr>
            <a:xfrm>
              <a:off x="793440" y="3589200"/>
              <a:ext cx="1828800" cy="2277720"/>
            </a:xfrm>
            <a:prstGeom prst="bracketPair">
              <a:avLst>
                <a:gd name="adj" fmla="val 171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ounded Rectangle 4"/>
            <p:cNvSpPr/>
            <p:nvPr/>
          </p:nvSpPr>
          <p:spPr>
            <a:xfrm>
              <a:off x="793440" y="416052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ounded Rectangle 9"/>
            <p:cNvSpPr/>
            <p:nvPr/>
          </p:nvSpPr>
          <p:spPr>
            <a:xfrm>
              <a:off x="789480" y="440064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ounded Rectangle 10"/>
            <p:cNvSpPr/>
            <p:nvPr/>
          </p:nvSpPr>
          <p:spPr>
            <a:xfrm>
              <a:off x="785160" y="464040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ounded Rectangle 11"/>
            <p:cNvSpPr/>
            <p:nvPr/>
          </p:nvSpPr>
          <p:spPr>
            <a:xfrm>
              <a:off x="780840" y="4880160"/>
              <a:ext cx="1828800" cy="2286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ubtitle 4"/>
            <p:cNvSpPr/>
            <p:nvPr/>
          </p:nvSpPr>
          <p:spPr>
            <a:xfrm>
              <a:off x="1461960" y="5180040"/>
              <a:ext cx="46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ubtitle 4"/>
            <p:cNvSpPr/>
            <p:nvPr/>
          </p:nvSpPr>
          <p:spPr>
            <a:xfrm>
              <a:off x="1411200" y="427500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  <a:ea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Object 22"/>
                <p:cNvSpPr txBox="1"/>
                <p:nvPr/>
              </p:nvSpPr>
              <p:spPr>
                <a:xfrm>
                  <a:off x="276120" y="5693400"/>
                  <a:ext cx="3460680" cy="102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⋯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arguably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" y="220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492300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ilar hardness results for other natural quantum systems (besides linear optics)?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Bremner, Jozsa, Shepherd 201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other system for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lassical simulation would collaps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  <a:ea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60360" y="1903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the BosonSampling model solve classically-har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eci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roblems?  With verifiable 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60360" y="2892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one efficiently sample a distribution that can’t be efficiently distinguished from BosonSamp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934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ve that Gaussian permanent approximation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har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first step: understand distribution of Gaussian perma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0880" y="3846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till sampling a hard distribution with unheralded photon losses, or Gaussian initial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Vertical Scroll 10"/>
          <p:cNvSpPr/>
          <p:nvPr/>
        </p:nvSpPr>
        <p:spPr>
          <a:xfrm>
            <a:off x="1219320" y="380880"/>
            <a:ext cx="6629400" cy="4800600"/>
          </a:xfrm>
          <a:prstGeom prst="verticalScroll">
            <a:avLst>
              <a:gd name="adj" fmla="val 12500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7238880" y="2133720"/>
            <a:ext cx="989280" cy="76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838080" y="2133720"/>
            <a:ext cx="989280" cy="761760"/>
          </a:xfrm>
          <a:prstGeom prst="rect">
            <a:avLst/>
          </a:prstGeom>
          <a:ln w="0">
            <a:noFill/>
          </a:ln>
        </p:spPr>
      </p:pic>
      <p:sp>
        <p:nvSpPr>
          <p:cNvPr id="55" name="Freeform 8"/>
          <p:cNvSpPr/>
          <p:nvPr/>
        </p:nvSpPr>
        <p:spPr>
          <a:xfrm>
            <a:off x="1752480" y="22096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57800" y="1600200"/>
            <a:ext cx="2000160" cy="13780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4920" y="5562720"/>
            <a:ext cx="8610480" cy="1464480"/>
          </a:xfrm>
          <a:prstGeom prst="rect">
            <a:avLst/>
          </a:prstGeom>
          <a:solidFill>
            <a:srgbClr val="e4f2f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QUANTUM SIMULATION has no efficient classical algorithm, unless FACTORING doe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57400" y="1143000"/>
            <a:ext cx="495288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The Extended Church-Turing Thesis (ECT)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feasibly computable in the physical world is feasibly computable by 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babilistic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ur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2286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  <a:ea typeface="Arial"/>
              </a:rPr>
              <a:t>So the ECT is false … what more evidence could anyone wa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880" y="1523880"/>
            <a:ext cx="8534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 QC able to factor large numbers is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dam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rd!  After 16 years, no fundamental obstacle has been found, but who kno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Can’t we “meet the physicists halfway,” and show computational hardness for quantum systems closer to what they actually work with now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880" y="4575240"/>
            <a:ext cx="853452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TORING might be have a fast classical algorithm!  At any rate, it’s an extremely “special”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Wouldn’t it be great to show that if, quantum computers can be simulated classically, then (say)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Arial"/>
              </a:rPr>
              <a:t>N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80880" y="18576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sonSampling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-Arkhipov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520" y="1028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76320" y="2128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ubtitle 4"/>
          <p:cNvSpPr/>
          <p:nvPr/>
        </p:nvSpPr>
        <p:spPr>
          <a:xfrm>
            <a:off x="3505320" y="21286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Replacing the balls by photons leads to famously counterintuitive phenomena, like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Hong-Ou-Mandel d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mathworld.wolfram.com/images/eps-gif/GaltonBoard_1000.gif"/>
          <p:cNvPicPr/>
          <p:nvPr/>
        </p:nvPicPr>
        <p:blipFill>
          <a:blip r:embed="rId1"/>
          <a:stretch/>
        </p:blipFill>
        <p:spPr>
          <a:xfrm>
            <a:off x="533520" y="3135240"/>
            <a:ext cx="2819160" cy="3380040"/>
          </a:xfrm>
          <a:prstGeom prst="rect">
            <a:avLst/>
          </a:prstGeom>
          <a:ln w="0">
            <a:noFill/>
          </a:ln>
        </p:spPr>
      </p:pic>
      <p:sp>
        <p:nvSpPr>
          <p:cNvPr id="67" name="Straight Connector 8"/>
          <p:cNvSpPr/>
          <p:nvPr/>
        </p:nvSpPr>
        <p:spPr>
          <a:xfrm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9"/>
          <p:cNvSpPr/>
          <p:nvPr/>
        </p:nvSpPr>
        <p:spPr>
          <a:xfrm flipH="1">
            <a:off x="4343400" y="37720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 rot="16200000">
            <a:off x="5562360" y="5066640"/>
            <a:ext cx="1219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>
            <a:off x="41911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7848720" y="361944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 L -0.19167 0.2 E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9167 0.2 E">
                                      <p:cBhvr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58920" y="189000"/>
            <a:ext cx="6681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we consider a network of beamsplitters, with n input “modes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location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m&gt;&gt;n output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269120" y="4176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Subtitle 4"/>
          <p:cNvSpPr/>
          <p:nvPr/>
        </p:nvSpPr>
        <p:spPr>
          <a:xfrm>
            <a:off x="358920" y="1636560"/>
            <a:ext cx="68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identical photons enter, one per inpu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ume for simplicity they all leave in different modes—there are        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ubtitle 4"/>
          <p:cNvSpPr/>
          <p:nvPr/>
        </p:nvSpPr>
        <p:spPr>
          <a:xfrm>
            <a:off x="358920" y="3487680"/>
            <a:ext cx="84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beamsplitter network defines a column-orthonormal matrix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654200" y="4489560"/>
                <a:ext cx="3814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4549680" y="2579760"/>
                <a:ext cx="5320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268880" y="3909960"/>
                <a:ext cx="4570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come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Subtitle 4"/>
          <p:cNvSpPr/>
          <p:nvPr/>
        </p:nvSpPr>
        <p:spPr>
          <a:xfrm>
            <a:off x="358920" y="48448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btitle 4"/>
          <p:cNvSpPr/>
          <p:nvPr/>
        </p:nvSpPr>
        <p:spPr>
          <a:xfrm>
            <a:off x="357120" y="5837400"/>
            <a:ext cx="37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the matrix perma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6210360" y="4488840"/>
            <a:ext cx="2628720" cy="1330920"/>
            <a:chOff x="6210360" y="4488840"/>
            <a:chExt cx="2628720" cy="1330920"/>
          </a:xfrm>
        </p:grpSpPr>
        <p:sp>
          <p:nvSpPr>
            <p:cNvPr id="82" name="Subtitle 4"/>
            <p:cNvSpPr/>
            <p:nvPr/>
          </p:nvSpPr>
          <p:spPr>
            <a:xfrm>
              <a:off x="6210360" y="4968720"/>
              <a:ext cx="2628720" cy="85104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 submatrix of A corresponding to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Straight Arrow Connector 4"/>
            <p:cNvCxnSpPr/>
            <p:nvPr/>
          </p:nvCxnSpPr>
          <p:spPr>
            <a:xfrm flipV="1">
              <a:off x="8130600" y="4488840"/>
              <a:ext cx="76680" cy="4798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380880" y="9223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Hong-Ou-Mandel experi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46200" y="1407960"/>
                <a:ext cx="785016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,1</m:t>
                        </m:r>
                        <m:r>
                          <m:t xml:space="preserve">⟩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ad>
                                            <m:radPr>
                                              <m:degHide m:val="1"/>
                                            </m:radPr>
                                            <m:deg/>
                                            <m:e>
                                              <m:r>
                                                <m:t xml:space="preserve">2</m:t>
                                              </m:r>
                                            </m:e>
                                          </m:rad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Subtitle 4"/>
          <p:cNvSpPr/>
          <p:nvPr/>
        </p:nvSpPr>
        <p:spPr>
          <a:xfrm>
            <a:off x="38088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general,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complex permanent is a sum of n! terms, almost all of which 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ow hard is it to estimate the “tiny residue” left o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nsw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, even for constant-factor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(Contrast with nonnegative perman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o, Can We Use Quantum Optics to Solve a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  <a:ea typeface="Arial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 Probl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838080" y="279864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X is sub-unitary, then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ill usually be exponentially small.  So to get a reasonable estimate of |Per(X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 given X, we’d generally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533520" y="18288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3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3000" fill="hold"/>
                                        <p:tgtEl>
                                          <p:spTgt spid="9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title 4"/>
          <p:cNvSpPr/>
          <p:nvPr/>
        </p:nvSpPr>
        <p:spPr>
          <a:xfrm>
            <a:off x="45720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ide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iv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input, le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son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the problem of merel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same distributio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at the beamsplitter network samples from—the one defined by Pr[S]=|Per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457200" y="2209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A.-Arkhipov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BosonSampling is solvable in classical polynomial time. 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425520" y="3200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tter Theor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we can sampl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pproximat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classical polynomial time.  Then i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8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it’s possible to estimate Per(X), with high probability over a Gaussian random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6770520" y="4394160"/>
                <a:ext cx="2187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Ν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Subtitle 4"/>
          <p:cNvSpPr/>
          <p:nvPr/>
        </p:nvSpPr>
        <p:spPr>
          <a:xfrm>
            <a:off x="789120" y="27432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erent/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something classically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1095480" y="4952880"/>
            <a:ext cx="715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We conjecture that the above problem is already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-complete.  If it is, then a fast classical algorithm for </a:t>
            </a:r>
            <a:r>
              <a:rPr b="0" i="1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approximate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 BosonSampling would already have the consequence tha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  <a:ea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  <a:ea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04920" y="838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Valiant 2001, Terhal-DiVincenzo 2002, “folklore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QC built of noninteracting fermions can be efficiently simulated by a classic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763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23623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nill, Laflamme, Milburn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ninteracting bosons plus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adaptive measurements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ield universal 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16080" y="3451320"/>
            <a:ext cx="84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Jerrum-Sinclair-Vigoda 200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t classical randomized algorithm to approximate Per(A) for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nonnega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6080" y="4572000"/>
            <a:ext cx="84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urvits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algorithm to approximate an n-photon amplitude to 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dditive error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lso, to compute k-mode marginal distribution in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aaronson</cp:lastModifiedBy>
  <dcterms:modified xsi:type="dcterms:W3CDTF">2013-10-29T15:45:03Z</dcterms:modified>
  <cp:revision>1608</cp:revision>
  <dc:subject/>
  <dc:title>The Learnability of Quantum States</dc:title>
</cp:coreProperties>
</file>