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953C-8E02-46ED-8114-70E0F93D1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4497-CD8D-42BD-B6A3-70AADE545D4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D69F-2C06-4984-B32A-C54580D18118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9E6E-3AD1-4BF5-84E6-0693F680677A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842E-AB3F-4043-B337-C5E0FEECE353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3FF9-CA0D-44C5-BDEB-8D981381FE78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3B26-A9FB-4C2E-BDD6-A5F8D598D2E7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05AB-5BB5-4FC6-85C1-18D52590B7F0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A18C-A7C5-44A3-806F-A23731464BD8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3F13-3599-40D5-B589-5272362F6A63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00A0-803E-4176-B2B8-BBE2A215D4A0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AD91-7117-47D2-985C-00EE85B468CA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E73B-D578-465A-9BF9-9CC4DEFA7E1E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484A-59F8-4E6C-B298-1AED5EC38124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CCCC-9DC6-4481-AEFC-40AF10C26281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BF97-8C43-4F3A-B9C3-D07462F5ECE2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EE13-98B2-4AE0-84A2-CC5150949247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BDE-72D5-4FF6-B187-B2BAF32F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3E3-AA91-4639-AE2B-B9AFC0EC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3FDA-6C58-445F-B996-0873A266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5FE-6EBC-487C-99F5-6D59C9C5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DF2A-1DC2-47A2-8776-5D54E3EB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993-D5D3-4321-9ECE-4A5FA1DE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FFD-A880-4ABF-8BAA-7AFFF94D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2D0-647C-4B26-8BEC-1C84D8EE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1BE-A38D-43B3-A8F5-02F39EEE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F51-E63F-46D6-87E7-0A62A1D5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CC1-C3A1-4A94-8D6B-094FB168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3364-4792-4406-A413-4A63BAF7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1A51-4403-4AE6-A395-0C96343D1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40" y="25056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Calibri"/>
                <a:ea typeface="Calibri"/>
              </a:rPr>
              <a:t>The Busy Beaver Frontier</a:t>
            </a:r>
            <a:endParaRPr b="1" lang="en-US" sz="5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52578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ath Club, September 29,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https://scontent.faus1-1.fna.fbcdn.net/v/t1.0-9/48373109_10156285841034132_6428416786173001728_o.jpg?_nc_cat=104&amp;_nc_sid=9267fe&amp;_nc_ohc=ac--qsLk1iIAX8q-2SY&amp;_nc_ht=scontent.faus1-1.fna&amp;oh=1e6403baa3fc3032c0671722b824e020&amp;oe=5F996C35"/>
          <p:cNvPicPr/>
          <p:nvPr/>
        </p:nvPicPr>
        <p:blipFill>
          <a:blip r:embed="rId1"/>
          <a:stretch/>
        </p:blipFill>
        <p:spPr>
          <a:xfrm>
            <a:off x="455760" y="1851120"/>
            <a:ext cx="3735360" cy="209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https://upload.wikimedia.org/wikipedia/en/6/66/Moves_of_a_3-state_Busy_Beaver.jpg"/>
          <p:cNvPicPr/>
          <p:nvPr/>
        </p:nvPicPr>
        <p:blipFill>
          <a:blip r:embed="rId2"/>
          <a:stretch/>
        </p:blipFill>
        <p:spPr>
          <a:xfrm>
            <a:off x="3733920" y="1981080"/>
            <a:ext cx="495288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2860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What does the 5-state champ </a:t>
            </a:r>
            <a:r>
              <a:rPr b="1" i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do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533520" y="1521000"/>
            <a:ext cx="807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Consider the “Collatz-like” map g:N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{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}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1244520" y="2075040"/>
            <a:ext cx="6343560" cy="21333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>
            <a:off x="511200" y="434196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tarting from 0, does iterating g ever reach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?  Y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614520" y="4896000"/>
            <a:ext cx="8138880" cy="1029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511200" y="601992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e current 5-state BB champion verifies this fa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19040" y="3808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How many BB values are knowa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531720" y="1752480"/>
            <a:ext cx="83073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 (O’Rear, building on A.-Yedidia)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ere’s a 748-state TM that halts iff there’s an inconsistency in ZFC.  Thus, if ZFC is consistent, then it can’t prove the value of BB(74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To get from ~1,000,000 down to 748 took a lot of optimizati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50800" y="419112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Is the value of BB(20) provable in ZFC?  Will we ever know BB(6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27040" y="5232240"/>
            <a:ext cx="8077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Is there a gap between the first BB(n) value that’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unprovable in ZF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 and the first BB(n’) value (n’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n) tha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implies Con(ZFC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1904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BB(n) vs. BB(n+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533520" y="3352680"/>
            <a:ext cx="807696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 (Ben-Amram and Petersen 2002)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every computable function f, there exists a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such that BB(n+8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n/log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+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) &gt; f(BB(n)) for all 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33520" y="2133720"/>
            <a:ext cx="80769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is remains open!!  Incredibly, the best we know (from Bruce Smith) is </a:t>
            </a:r>
            <a:r>
              <a:rPr b="1" lang="en-US" sz="3200" spc="-1" strike="noStrike">
                <a:solidFill>
                  <a:srgbClr val="008000"/>
                </a:solidFill>
                <a:latin typeface="Calibri"/>
                <a:ea typeface="Calibri"/>
              </a:rPr>
              <a:t>BB(n+1) </a:t>
            </a:r>
            <a:r>
              <a:rPr b="1" lang="en-US" sz="3200" spc="-1" strike="noStrike">
                <a:solidFill>
                  <a:srgbClr val="008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8000"/>
                </a:solidFill>
                <a:latin typeface="Calibri"/>
                <a:ea typeface="Calibri"/>
              </a:rPr>
              <a:t> BB(n)+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for all 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33520" y="1366920"/>
            <a:ext cx="830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“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Obvious fact”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BB(n+1)&gt;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BB(n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for all large enough 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528480" y="5029200"/>
            <a:ext cx="8077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Proof Idea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“Introspective encoding.”  For every n-state TM M, there’s an n+O(n/log(n))-state TM that writes a description of M onto its ta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19040" y="268200"/>
            <a:ext cx="83059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Chaitin’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482760" y="2206800"/>
            <a:ext cx="842004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 (Chaitin)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Let L be a programming language where no valid program is a proper prefix of another.  Let B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be BB for L-programs.  Then B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n+1) is computable from B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n) plus O(log n) b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80960" y="57816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 (A.)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BB(n+1) is computable from BB(n) plus O(n) bits 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beats the trivial O(n log n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87440" y="114300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If you knew BB(n), how many bits would someone need to tell you to let you compute BB(n+1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2209680" y="4572000"/>
            <a:ext cx="5500800" cy="12747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7"/>
          <p:cNvSpPr/>
          <p:nvPr/>
        </p:nvSpPr>
        <p:spPr>
          <a:xfrm>
            <a:off x="522360" y="4114800"/>
            <a:ext cx="842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Proof uses the famous Chaitin’s constan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409680" y="258840"/>
            <a:ext cx="8305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Lazy Bea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509760" y="1096920"/>
            <a:ext cx="80769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Define th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Lazy Beav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number, LB(n), to be the least t such that there’s no n-state Turing machine that runs for exactly t 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23800" y="54100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 (A.-Smith, in preparation)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LB(n) grows lik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(n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 and requires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(n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time to compu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36400" y="424332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Unlike BB, LB is computable!  Furthermore, LB(n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4n+1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+1 by a counting argu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444600" y="2639880"/>
            <a:ext cx="8410320" cy="13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419040" y="2286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Beeping Busy Beavers 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(A.-Friedm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511200" y="9730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 “beeping Turing machine” never halts, but has a state that emits a “beep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511200" y="1981080"/>
            <a:ext cx="80773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Given a TM M, let b(M) be the last time step where M beeps on an all-0 input, o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if there isn’t one. Then let BBB(n) be the max of b(M), among all n-state machines M for which b(M)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533520" y="5562720"/>
            <a:ext cx="80769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BBB(n) grows uncomputably quickly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even given an oracle for BB(n) (indeed, like BB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479600" y="3886200"/>
            <a:ext cx="643896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19040" y="1252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Curious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568440" y="1219320"/>
            <a:ext cx="7924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which n’s is BB(n) odd?  Prime?  A perfect square?  Are there infinitely many such n’s?  Given n, is it decidable whether BB(n) has these properti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542880" y="34020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Does every Busy Beaver halt on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l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finite inpu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542880" y="424008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Does every Busy Beaver have a strongly connected grap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568440" y="548640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3, is there an essentially unique n-state Busy Beav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19040" y="4572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You have 15 seconds.  What’s the biggest integer you can n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 rot="321600">
            <a:off x="932040" y="3504960"/>
            <a:ext cx="312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ckermann(100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 rot="21061200">
            <a:off x="4989240" y="3630240"/>
            <a:ext cx="350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Graham’s Number 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190440" y="4475160"/>
            <a:ext cx="4981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e largest integer that be named in at most 1000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 rot="20878800">
            <a:off x="104400" y="2179440"/>
            <a:ext cx="445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9999999999999999999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 rot="21180600">
            <a:off x="2979000" y="5537160"/>
            <a:ext cx="58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e largest integer that be named using a 1000-bit computer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4411800" y="2103480"/>
            <a:ext cx="1609560" cy="12096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1"/>
          <p:cNvSpPr/>
          <p:nvPr/>
        </p:nvSpPr>
        <p:spPr>
          <a:xfrm>
            <a:off x="5783400" y="25639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:=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7238880" y="1935000"/>
            <a:ext cx="1676520" cy="1257480"/>
          </a:xfrm>
          <a:prstGeom prst="rect">
            <a:avLst/>
          </a:prstGeom>
          <a:ln w="0">
            <a:noFill/>
          </a:ln>
        </p:spPr>
      </p:pic>
      <p:sp>
        <p:nvSpPr>
          <p:cNvPr id="61" name="TextBox 13"/>
          <p:cNvSpPr/>
          <p:nvPr/>
        </p:nvSpPr>
        <p:spPr>
          <a:xfrm>
            <a:off x="4956120" y="4551480"/>
            <a:ext cx="103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alibri"/>
                <a:ea typeface="Calibri"/>
              </a:rPr>
              <a:t>+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19040" y="2476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Busy Beaver Function (Radó 196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563400" y="3813120"/>
            <a:ext cx="80773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Given a TM M, let s(M) be the number of steps M runs for on a blank tape.  Then BB(n) is the max of s(M), over all n-state TMs M with s(M)&lt;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.  “Busy Beavers” are M’s that achieve the maximu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555480" y="575136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Examples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BB(1)=1.  The 2-state TM above shows that BB(2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6.  In fact BB(2)=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82760" y="1185840"/>
            <a:ext cx="331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uring Machin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1 tape, 2 symbol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4145040" y="1185840"/>
            <a:ext cx="4495680" cy="261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673200" y="2390760"/>
            <a:ext cx="284796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419040" y="304920"/>
            <a:ext cx="8305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BB grows uncomputably quickl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531720" y="144792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Computing any upper bound f(n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BB(n) is equivalent to solving the halting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531720" y="2478240"/>
            <a:ext cx="80773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Proof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BB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HALT, just take the max over n-state halting TMs.  For HALT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, run an n-state TM for f(n) steps.  If it hasn’t halted by then, it never wi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533520" y="4211640"/>
            <a:ext cx="80769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every computable function f, there exists an 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such that BB(n)&gt;f(n) for all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533520" y="5226120"/>
            <a:ext cx="7924680" cy="15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Proof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any n, we can design a TM with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+O(log n) states that computes f(n) and then stalls for (say) f(n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step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41904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BB eludes formal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476280" y="1109520"/>
            <a:ext cx="819144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Let F be a reasonable formal system (like PA or ZFC).  Then there exists a constant 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such that F can’t prove the value of BB(n) for any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476280" y="2598840"/>
            <a:ext cx="819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Proof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uppose not.  Then we could compute BB(n) for any n, by enumerating over all possible proof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476280" y="4780080"/>
            <a:ext cx="819144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Proof #2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Let M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be an n-state TM that enumerates the theorems of F, halting iff it finds a contradiction. If F proved the value of BB(n), it would prove that M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ran forever, and hence F’s own consistenc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1143000" y="3613320"/>
            <a:ext cx="670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  <a:ea typeface="Calibri"/>
              </a:rPr>
              <a:t>Did we just reprove a version of Gödel’s Incompleteness Theorem?  Yes we did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41904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Think about th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476280" y="1066680"/>
            <a:ext cx="8191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every consistent large cardinal axiom, its consistency is implied by some statement of the form “BB(n)=k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476280" y="2666880"/>
            <a:ext cx="8191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Is every Busy Beaver number determined by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som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consistent large cardinal axiom?  Maybe, but if so, there’s no computable way to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fi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those axiom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476280" y="4267080"/>
            <a:ext cx="8191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More broadly, the first 1000 BB numbers encode a large portion of all interesting mathematical truth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BB(27): Goldbach Conjecture / BB(744): Riemann Hypothes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476280" y="5867280"/>
            <a:ext cx="819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e BB Argument for Arithmetical Platonism”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19040" y="3808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Beyond Busy Bea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452520" y="1447920"/>
            <a:ext cx="819144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Let B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n) be the BB function for TM’s with oracles for ordinary BB.  Then B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grows faster than any function computable with a BB ora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476280" y="3733920"/>
            <a:ext cx="819144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for any ordinal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 let B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+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n) be BB for TM’s with oracles for B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.  Or i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is defined as lim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n), then let B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n):=B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(n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480960" y="5380200"/>
            <a:ext cx="819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How much further can we go, without our numbers depending on the intended model of set theor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549360" y="2967120"/>
            <a:ext cx="819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Proof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The uncomputability of BB relativize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19040" y="304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Intermediate growth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338040" y="1238400"/>
            <a:ext cx="8305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Theorem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ere’s a function g:N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N that dominates every computable function f, yet such that BB and HALT ar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til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uncomputable given an oracle for 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71520" y="2914560"/>
            <a:ext cx="83059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Proof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Let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…:N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N be an enumeration of computable functions.  We 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5214960" y="3451320"/>
            <a:ext cx="3190680" cy="89532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376200" y="4346640"/>
            <a:ext cx="83059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some nondecreasing w that increases without bound—thereby ensuring that g dominates every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.  For the other property, only increment w (i.e., set w(n+1)=w(n)+1) after another candidate reduction from HALT to g has been “killed off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19040" y="3808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Concrete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480960" y="1492200"/>
            <a:ext cx="8182080" cy="363852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685800" y="525780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BB(18) &gt;&gt; Graham’s number &gt;&gt; Ackermann(1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706320" y="601992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What’s the least n with BB(n)&gt;Ackermann(n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20-09-29T19:40:04Z</dcterms:modified>
  <cp:revision>372</cp:revision>
  <dc:subject/>
  <dc:title>The Future of Computer Science</dc:title>
</cp:coreProperties>
</file>