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AB80F-742B-4D7D-8439-BDEDFD81A9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958AB-D35D-42D3-A11D-2B9C8177C117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28BAE-8FAD-420C-98CD-F412DA0CACA2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C204D-901F-4BAF-806E-6EBB56D24CC5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7B89A-966D-4611-95AA-9E1B0670B78A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9608B-D139-4E96-8C5A-83B928D42923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EC27D-9B50-4178-8866-198BA793B05B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B5148-44C3-4E83-86F5-1676C96CFD02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03385-A3AC-4718-AE0D-5D6EAFC4CE7E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998F7-05AF-49E0-AFB4-030927584626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BC527-04A1-4273-B4F1-7FBC615BF335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23A43-C5DE-474A-BA20-C76264CB7D63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03011-7C59-4248-8112-1F8AC3F73855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A0988-4526-45AA-83B1-0ABE79463786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A386F-873C-4376-A123-761430E8465D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EC2C9-ADDB-4393-B7CA-4022AA4A3C79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BAF19-9D20-404B-8D5A-E2029C74AA15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E711-8988-4FA9-A761-9D88702AC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84D1-91F9-4E46-A800-96D646B94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73E8-51F3-4309-85FD-0D24D36F1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404A-37E1-4249-AF7C-BE57C16A3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4B19-4E00-4E3E-BB2B-41A61D032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318F-7A41-4697-B396-93948AC0A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AEC1-3121-4D9F-858B-A1AC52A2B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0F49-5166-44AE-83A8-0113DA78A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4518-63E0-433D-BD15-B553F9FA1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0EEA-2BED-4AE5-84D1-962201B0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BACC-71AB-47D4-9AB9-AE23CE241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60BF-6ADD-450A-9958-FB85AF188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89BD1-91C9-4D31-A17E-9D79C639CB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440" y="250560"/>
            <a:ext cx="87631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0000"/>
                </a:solidFill>
                <a:latin typeface="Calibri"/>
                <a:ea typeface="Calibri"/>
              </a:rPr>
              <a:t>The Busy Beaver Frontier</a:t>
            </a:r>
            <a:endParaRPr b="1" lang="en-US" sz="55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880" y="5257800"/>
            <a:ext cx="83822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Scott Aaronson (University of Texas at Aust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Math Club, September 29, 20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https://scontent.faus1-1.fna.fbcdn.net/v/t1.0-9/48373109_10156285841034132_6428416786173001728_o.jpg?_nc_cat=104&amp;_nc_sid=9267fe&amp;_nc_ohc=ac--qsLk1iIAX8q-2SY&amp;_nc_ht=scontent.faus1-1.fna&amp;oh=1e6403baa3fc3032c0671722b824e020&amp;oe=5F996C35"/>
          <p:cNvPicPr/>
          <p:nvPr/>
        </p:nvPicPr>
        <p:blipFill>
          <a:blip r:embed="rId1"/>
          <a:stretch/>
        </p:blipFill>
        <p:spPr>
          <a:xfrm>
            <a:off x="455760" y="1851120"/>
            <a:ext cx="3735360" cy="2098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https://upload.wikimedia.org/wikipedia/en/6/66/Moves_of_a_3-state_Busy_Beaver.jpg"/>
          <p:cNvPicPr/>
          <p:nvPr/>
        </p:nvPicPr>
        <p:blipFill>
          <a:blip r:embed="rId2"/>
          <a:stretch/>
        </p:blipFill>
        <p:spPr>
          <a:xfrm>
            <a:off x="3733920" y="1981080"/>
            <a:ext cx="4952880" cy="30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228600" y="30492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What does the 5-state champ </a:t>
            </a:r>
            <a:r>
              <a:rPr b="1" i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do</a:t>
            </a: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2"/>
          <p:cNvSpPr/>
          <p:nvPr/>
        </p:nvSpPr>
        <p:spPr>
          <a:xfrm>
            <a:off x="533520" y="1521000"/>
            <a:ext cx="8076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Consider the “Collatz-like” map g:N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{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}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" descr=""/>
          <p:cNvPicPr/>
          <p:nvPr/>
        </p:nvPicPr>
        <p:blipFill>
          <a:blip r:embed="rId1"/>
          <a:stretch/>
        </p:blipFill>
        <p:spPr>
          <a:xfrm>
            <a:off x="1244520" y="2075040"/>
            <a:ext cx="6343560" cy="21333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5"/>
          <p:cNvSpPr/>
          <p:nvPr/>
        </p:nvSpPr>
        <p:spPr>
          <a:xfrm>
            <a:off x="511200" y="4341960"/>
            <a:ext cx="8077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Starting from 0, does iterating g ever reach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?  Y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2"/>
          <a:stretch/>
        </p:blipFill>
        <p:spPr>
          <a:xfrm>
            <a:off x="614520" y="4896000"/>
            <a:ext cx="8138880" cy="1029960"/>
          </a:xfrm>
          <a:prstGeom prst="rect">
            <a:avLst/>
          </a:prstGeom>
          <a:ln w="0">
            <a:noFill/>
          </a:ln>
        </p:spPr>
      </p:pic>
      <p:sp>
        <p:nvSpPr>
          <p:cNvPr id="102" name="TextBox 7"/>
          <p:cNvSpPr/>
          <p:nvPr/>
        </p:nvSpPr>
        <p:spPr>
          <a:xfrm>
            <a:off x="511200" y="6019920"/>
            <a:ext cx="807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The current 5-state BB champion verifies this fac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419040" y="38088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How many BB values are knowab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"/>
          <p:cNvSpPr/>
          <p:nvPr/>
        </p:nvSpPr>
        <p:spPr>
          <a:xfrm>
            <a:off x="531720" y="1752480"/>
            <a:ext cx="830736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Calibri"/>
              </a:rPr>
              <a:t>Theorem (O’Rear, building on A.-Yedidia)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There’s a 748-state TM that halts iff there’s an inconsistency in ZFC.  Thus, if ZFC is consistent, then it can’t prove the value of BB(748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alibri"/>
                <a:ea typeface="Calibri"/>
              </a:rPr>
              <a:t>To get from ~1,000,000 down to 748 took a lot of optimization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550800" y="4191120"/>
            <a:ext cx="8077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Is the value of BB(20) provable in ZFC?  Will we ever know BB(6)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527040" y="5232240"/>
            <a:ext cx="80773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Is there a gap between the first BB(n) value that’s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unprovable in ZFC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, and the first BB(n’) value (n’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n) that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implies Con(ZFC)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419040" y="30492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BB(n) vs. BB(n+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533520" y="3352680"/>
            <a:ext cx="8076960" cy="15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Calibri"/>
              </a:rPr>
              <a:t>Theorem (Ben-Amram and Petersen 2002)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For every computable function f, there exists a c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 such that BB(n+8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n/log n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+c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) &gt; f(BB(n)) for all 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533520" y="2133720"/>
            <a:ext cx="807696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This remains open!!  Incredibly, the best we know (from Bruce Smith) is </a:t>
            </a:r>
            <a:r>
              <a:rPr b="1" lang="en-US" sz="3200" spc="-1" strike="noStrike">
                <a:solidFill>
                  <a:srgbClr val="008000"/>
                </a:solidFill>
                <a:latin typeface="Calibri"/>
                <a:ea typeface="Calibri"/>
              </a:rPr>
              <a:t>BB(n+1) </a:t>
            </a:r>
            <a:r>
              <a:rPr b="1" lang="en-US" sz="3200" spc="-1" strike="noStrike">
                <a:solidFill>
                  <a:srgbClr val="008000"/>
                </a:solidFill>
                <a:latin typeface="Symbol"/>
                <a:ea typeface="Symbol"/>
              </a:rPr>
              <a:t></a:t>
            </a:r>
            <a:r>
              <a:rPr b="1" lang="en-US" sz="3200" spc="-1" strike="noStrike">
                <a:solidFill>
                  <a:srgbClr val="008000"/>
                </a:solidFill>
                <a:latin typeface="Calibri"/>
                <a:ea typeface="Calibri"/>
              </a:rPr>
              <a:t> BB(n)+3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 for all 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533520" y="1366920"/>
            <a:ext cx="8305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Calibri"/>
              </a:rPr>
              <a:t>“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Calibri"/>
              </a:rPr>
              <a:t>Obvious fact”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BB(n+1)&gt;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BB(n)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 for all large enough 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528480" y="5029200"/>
            <a:ext cx="80773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Calibri"/>
              </a:rPr>
              <a:t>Proof Idea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“Introspective encoding.”  For every n-state TM M, there’s an n+O(n/log(n))-state TM that writes a description of M onto its tap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419040" y="268200"/>
            <a:ext cx="830592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Chaitin’s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"/>
          <p:cNvSpPr/>
          <p:nvPr/>
        </p:nvSpPr>
        <p:spPr>
          <a:xfrm>
            <a:off x="482760" y="2206800"/>
            <a:ext cx="8420040" cy="20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Calibri"/>
              </a:rPr>
              <a:t>Theorem (Chaitin)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Let L be a programming language where no valid program is a proper prefix of another.  Let BB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 be BB for L-programs.  Then BB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(n+1) is computable from BB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(n) plus O(log n) bi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480960" y="5781600"/>
            <a:ext cx="8001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Calibri"/>
              </a:rPr>
              <a:t>Theorem (A.)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BB(n+1) is computable from BB(n) plus O(n) bits 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(beats the trivial O(n log n)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487440" y="1143000"/>
            <a:ext cx="8001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If you knew BB(n), how many bits would someone need to tell you to let you compute BB(n+1)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" descr=""/>
          <p:cNvPicPr/>
          <p:nvPr/>
        </p:nvPicPr>
        <p:blipFill>
          <a:blip r:embed="rId1"/>
          <a:stretch/>
        </p:blipFill>
        <p:spPr>
          <a:xfrm>
            <a:off x="2209680" y="4572000"/>
            <a:ext cx="5500800" cy="1274760"/>
          </a:xfrm>
          <a:prstGeom prst="rect">
            <a:avLst/>
          </a:prstGeom>
          <a:ln w="0">
            <a:noFill/>
          </a:ln>
        </p:spPr>
      </p:pic>
      <p:sp>
        <p:nvSpPr>
          <p:cNvPr id="117" name="TextBox 7"/>
          <p:cNvSpPr/>
          <p:nvPr/>
        </p:nvSpPr>
        <p:spPr>
          <a:xfrm>
            <a:off x="522360" y="4114800"/>
            <a:ext cx="842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Proof uses the famous Chaitin’s constan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409680" y="258840"/>
            <a:ext cx="8305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Lazy Beav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"/>
          <p:cNvSpPr/>
          <p:nvPr/>
        </p:nvSpPr>
        <p:spPr>
          <a:xfrm>
            <a:off x="509760" y="1096920"/>
            <a:ext cx="80769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Define the n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th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Calibri"/>
              </a:rPr>
              <a:t>Lazy Beaver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 number, LB(n), to be the least t such that there’s no n-state Turing machine that runs for exactly t ste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523800" y="5410080"/>
            <a:ext cx="8077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Calibri"/>
              </a:rPr>
              <a:t>Theorem (A.-Smith, in preparation)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 LB(n) grows like n</a:t>
            </a:r>
            <a:r>
              <a:rPr b="0" lang="en-US" sz="3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(n)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, and requires n</a:t>
            </a:r>
            <a:r>
              <a:rPr b="0" lang="en-US" sz="3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(n)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 time to compu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5"/>
          <p:cNvSpPr/>
          <p:nvPr/>
        </p:nvSpPr>
        <p:spPr>
          <a:xfrm>
            <a:off x="536400" y="4243320"/>
            <a:ext cx="8077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Unlike BB, LB is computable!  Furthermore, LB(n)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(4n+1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+1 by a counting argu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" descr=""/>
          <p:cNvPicPr/>
          <p:nvPr/>
        </p:nvPicPr>
        <p:blipFill>
          <a:blip r:embed="rId1"/>
          <a:stretch/>
        </p:blipFill>
        <p:spPr>
          <a:xfrm>
            <a:off x="444600" y="2639880"/>
            <a:ext cx="8410320" cy="13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419040" y="22860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Beeping Busy Beavers </a:t>
            </a:r>
            <a:r>
              <a:rPr b="1" lang="en-US" sz="3600" spc="-1" strike="noStrike">
                <a:solidFill>
                  <a:srgbClr val="333399"/>
                </a:solidFill>
                <a:latin typeface="Calibri"/>
                <a:ea typeface="Calibri"/>
              </a:rPr>
              <a:t>(A.-Friedma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2"/>
          <p:cNvSpPr/>
          <p:nvPr/>
        </p:nvSpPr>
        <p:spPr>
          <a:xfrm>
            <a:off x="511200" y="973080"/>
            <a:ext cx="8077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A “beeping Turing machine” never halts, but has a state that emits a “beep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4"/>
          <p:cNvSpPr/>
          <p:nvPr/>
        </p:nvSpPr>
        <p:spPr>
          <a:xfrm>
            <a:off x="511200" y="1981080"/>
            <a:ext cx="807732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Given a TM M, let b(M) be the last time step where M beeps on an all-0 input, or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 if there isn’t one. Then let BBB(n) be the max of b(M), among all n-state machines M for which b(M)&lt;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6"/>
          <p:cNvSpPr/>
          <p:nvPr/>
        </p:nvSpPr>
        <p:spPr>
          <a:xfrm>
            <a:off x="533520" y="5562720"/>
            <a:ext cx="807696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Calibri"/>
              </a:rPr>
              <a:t>Theorem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BBB(n) grows uncomputably quickly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even given an oracle for BB(n) (indeed, like BB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" descr=""/>
          <p:cNvPicPr/>
          <p:nvPr/>
        </p:nvPicPr>
        <p:blipFill>
          <a:blip r:embed="rId1"/>
          <a:stretch/>
        </p:blipFill>
        <p:spPr>
          <a:xfrm>
            <a:off x="1479600" y="3886200"/>
            <a:ext cx="6438960" cy="16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419040" y="12528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Curious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2"/>
          <p:cNvSpPr/>
          <p:nvPr/>
        </p:nvSpPr>
        <p:spPr>
          <a:xfrm>
            <a:off x="568440" y="1219320"/>
            <a:ext cx="79246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For which n’s is BB(n) odd?  Prime?  A perfect square?  Are there infinitely many such n’s?  Given n, is it decidable whether BB(n) has these propertie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542880" y="3402000"/>
            <a:ext cx="792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Does every Busy Beaver halt on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all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 finite input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5"/>
          <p:cNvSpPr/>
          <p:nvPr/>
        </p:nvSpPr>
        <p:spPr>
          <a:xfrm>
            <a:off x="542880" y="4240080"/>
            <a:ext cx="79246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Does every Busy Beaver have a strongly connected graph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6"/>
          <p:cNvSpPr/>
          <p:nvPr/>
        </p:nvSpPr>
        <p:spPr>
          <a:xfrm>
            <a:off x="568440" y="5486400"/>
            <a:ext cx="79246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For n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3, is there an essentially unique n-state Busy Beaver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419040" y="45720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You have 15 seconds.  What’s the biggest integer you can nam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"/>
          <p:cNvSpPr/>
          <p:nvPr/>
        </p:nvSpPr>
        <p:spPr>
          <a:xfrm rot="321600">
            <a:off x="932040" y="3504960"/>
            <a:ext cx="3124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Ackermann(1000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6"/>
          <p:cNvSpPr/>
          <p:nvPr/>
        </p:nvSpPr>
        <p:spPr>
          <a:xfrm rot="21061200">
            <a:off x="4989240" y="3630240"/>
            <a:ext cx="3504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Graham’s Number 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7"/>
          <p:cNvSpPr/>
          <p:nvPr/>
        </p:nvSpPr>
        <p:spPr>
          <a:xfrm>
            <a:off x="190440" y="4475160"/>
            <a:ext cx="49816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The largest integer that be named in at most 1000 wor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8"/>
          <p:cNvSpPr/>
          <p:nvPr/>
        </p:nvSpPr>
        <p:spPr>
          <a:xfrm rot="20878800">
            <a:off x="104400" y="2179440"/>
            <a:ext cx="4457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9999999999999999999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9"/>
          <p:cNvSpPr/>
          <p:nvPr/>
        </p:nvSpPr>
        <p:spPr>
          <a:xfrm rot="21180600">
            <a:off x="2979000" y="5537160"/>
            <a:ext cx="5896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The largest integer that be named using a 1000-bit computer progra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"/>
          <p:cNvPicPr/>
          <p:nvPr/>
        </p:nvPicPr>
        <p:blipFill>
          <a:blip r:embed="rId1"/>
          <a:stretch/>
        </p:blipFill>
        <p:spPr>
          <a:xfrm>
            <a:off x="4411800" y="2103480"/>
            <a:ext cx="1609560" cy="1209600"/>
          </a:xfrm>
          <a:prstGeom prst="rect">
            <a:avLst/>
          </a:prstGeom>
          <a:ln w="0">
            <a:noFill/>
          </a:ln>
        </p:spPr>
      </p:pic>
      <p:sp>
        <p:nvSpPr>
          <p:cNvPr id="59" name="TextBox 11"/>
          <p:cNvSpPr/>
          <p:nvPr/>
        </p:nvSpPr>
        <p:spPr>
          <a:xfrm>
            <a:off x="5783400" y="256392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:= 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"/>
          <p:cNvPicPr/>
          <p:nvPr/>
        </p:nvPicPr>
        <p:blipFill>
          <a:blip r:embed="rId2"/>
          <a:stretch/>
        </p:blipFill>
        <p:spPr>
          <a:xfrm>
            <a:off x="7238880" y="1935000"/>
            <a:ext cx="1676520" cy="1257480"/>
          </a:xfrm>
          <a:prstGeom prst="rect">
            <a:avLst/>
          </a:prstGeom>
          <a:ln w="0">
            <a:noFill/>
          </a:ln>
        </p:spPr>
      </p:pic>
      <p:sp>
        <p:nvSpPr>
          <p:cNvPr id="61" name="TextBox 13"/>
          <p:cNvSpPr/>
          <p:nvPr/>
        </p:nvSpPr>
        <p:spPr>
          <a:xfrm>
            <a:off x="4956120" y="4551480"/>
            <a:ext cx="10317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Calibri"/>
                <a:ea typeface="Calibri"/>
              </a:rPr>
              <a:t>+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419040" y="24768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Busy Beaver Function (Radó 196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"/>
          <p:cNvSpPr/>
          <p:nvPr/>
        </p:nvSpPr>
        <p:spPr>
          <a:xfrm>
            <a:off x="563400" y="3813120"/>
            <a:ext cx="80773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Given a TM M, let s(M) be the number of steps M runs for on a blank tape.  Then BB(n) is the max of s(M), over all n-state TMs M with s(M)&lt;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.  “Busy Beavers” are M’s that achieve the maximu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5"/>
          <p:cNvSpPr/>
          <p:nvPr/>
        </p:nvSpPr>
        <p:spPr>
          <a:xfrm>
            <a:off x="555480" y="5751360"/>
            <a:ext cx="8077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Calibri"/>
              </a:rPr>
              <a:t>Examples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 BB(1)=1.  The 2-state TM above shows that BB(2)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6.  In fact BB(2)=6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482760" y="1185840"/>
            <a:ext cx="3314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Calibri"/>
              </a:rPr>
              <a:t>Turing Machine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(1 tape, 2 symbol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4145040" y="1185840"/>
            <a:ext cx="4495680" cy="2610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"/>
          <p:cNvPicPr/>
          <p:nvPr/>
        </p:nvPicPr>
        <p:blipFill>
          <a:blip r:embed="rId2"/>
          <a:stretch/>
        </p:blipFill>
        <p:spPr>
          <a:xfrm>
            <a:off x="673200" y="2390760"/>
            <a:ext cx="2847960" cy="13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419040" y="304920"/>
            <a:ext cx="83059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BB grows uncomputably quickly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"/>
          <p:cNvSpPr/>
          <p:nvPr/>
        </p:nvSpPr>
        <p:spPr>
          <a:xfrm>
            <a:off x="531720" y="1447920"/>
            <a:ext cx="8077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Calibri"/>
              </a:rPr>
              <a:t>Theorem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Computing any upper bound f(n)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BB(n) is equivalent to solving the halting proble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4"/>
          <p:cNvSpPr/>
          <p:nvPr/>
        </p:nvSpPr>
        <p:spPr>
          <a:xfrm>
            <a:off x="531720" y="2478240"/>
            <a:ext cx="80773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Calibri"/>
              </a:rPr>
              <a:t>Proof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For BB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HALT, just take the max over n-state halting TMs.  For HALT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f, run an n-state TM for f(n) steps.  If it hasn’t halted by then, it never wil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5"/>
          <p:cNvSpPr/>
          <p:nvPr/>
        </p:nvSpPr>
        <p:spPr>
          <a:xfrm>
            <a:off x="533520" y="4211640"/>
            <a:ext cx="807696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Calibri"/>
              </a:rPr>
              <a:t>Theorem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For every computable function f, there exists an n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 such that BB(n)&gt;f(n) for all n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6"/>
          <p:cNvSpPr/>
          <p:nvPr/>
        </p:nvSpPr>
        <p:spPr>
          <a:xfrm>
            <a:off x="533520" y="5226120"/>
            <a:ext cx="7924680" cy="15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Calibri"/>
              </a:rPr>
              <a:t>Proof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For any n, we can design a TM with c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+O(log n) states that computes f(n) and then stalls for (say) f(n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 step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419040" y="152280"/>
            <a:ext cx="8305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BB eludes formal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"/>
          <p:cNvSpPr/>
          <p:nvPr/>
        </p:nvSpPr>
        <p:spPr>
          <a:xfrm>
            <a:off x="476280" y="1109520"/>
            <a:ext cx="8191440" cy="15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Calibri"/>
              </a:rPr>
              <a:t>Theorem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Let F be a reasonable formal system (like PA or ZFC).  Then there exists a constant n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 such that F can’t prove the value of BB(n) for any n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4"/>
          <p:cNvSpPr/>
          <p:nvPr/>
        </p:nvSpPr>
        <p:spPr>
          <a:xfrm>
            <a:off x="476280" y="2598840"/>
            <a:ext cx="8191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Calibri"/>
              </a:rPr>
              <a:t>Proof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Suppose not.  Then we could compute BB(n) for any n, by enumerating over all possible proof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476280" y="4780080"/>
            <a:ext cx="8191440" cy="25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Calibri"/>
              </a:rPr>
              <a:t>Proof #2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Let M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 be an n-state TM that enumerates the theorems of F, halting iff it finds a contradiction. If F proved the value of BB(n), it would prove that M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 ran forever, and hence F’s own consistenc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6"/>
          <p:cNvSpPr/>
          <p:nvPr/>
        </p:nvSpPr>
        <p:spPr>
          <a:xfrm>
            <a:off x="1143000" y="3613320"/>
            <a:ext cx="6705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Calibri"/>
                <a:ea typeface="Calibri"/>
              </a:rPr>
              <a:t>Did we just reprove a version of Gödel’s Incompleteness Theorem?  Yes we did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419040" y="152280"/>
            <a:ext cx="8305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Think about tha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"/>
          <p:cNvSpPr/>
          <p:nvPr/>
        </p:nvSpPr>
        <p:spPr>
          <a:xfrm>
            <a:off x="476280" y="1066680"/>
            <a:ext cx="81914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For every consistent large cardinal axiom, its consistency is implied by some statement of the form “BB(n)=k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4"/>
          <p:cNvSpPr/>
          <p:nvPr/>
        </p:nvSpPr>
        <p:spPr>
          <a:xfrm>
            <a:off x="476280" y="2666880"/>
            <a:ext cx="81914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Is every Busy Beaver number determined by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Calibri"/>
              </a:rPr>
              <a:t>som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 consistent large cardinal axiom?  Maybe, but if so, there’s no computable way to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Calibri"/>
              </a:rPr>
              <a:t>find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 those axioms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5"/>
          <p:cNvSpPr/>
          <p:nvPr/>
        </p:nvSpPr>
        <p:spPr>
          <a:xfrm>
            <a:off x="476280" y="4267080"/>
            <a:ext cx="81914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More broadly, the first 1000 BB numbers encode a large portion of all interesting mathematical truth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alibri"/>
                <a:ea typeface="Calibri"/>
              </a:rPr>
              <a:t>BB(27): Goldbach Conjecture / BB(744): Riemann Hypothesi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7"/>
          <p:cNvSpPr/>
          <p:nvPr/>
        </p:nvSpPr>
        <p:spPr>
          <a:xfrm>
            <a:off x="476280" y="5867280"/>
            <a:ext cx="819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The BB Argument for Arithmetical Platonism”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419040" y="38088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Beyond Busy Bea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"/>
          <p:cNvSpPr/>
          <p:nvPr/>
        </p:nvSpPr>
        <p:spPr>
          <a:xfrm>
            <a:off x="452520" y="1447920"/>
            <a:ext cx="8191440" cy="15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Calibri"/>
              </a:rPr>
              <a:t>Theorem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 Let BB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(n) be the BB function for TM’s with oracles for ordinary BB.  Then BB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 grows faster than any function computable with a BB orac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4"/>
          <p:cNvSpPr/>
          <p:nvPr/>
        </p:nvSpPr>
        <p:spPr>
          <a:xfrm>
            <a:off x="476280" y="3733920"/>
            <a:ext cx="8191440" cy="16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In general, for any ordinal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, let BB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+1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(n) be BB for TM’s with oracles for BB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.  Or if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 is defined as lim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(n), then let BB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(n):=BB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(n)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(n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5"/>
          <p:cNvSpPr/>
          <p:nvPr/>
        </p:nvSpPr>
        <p:spPr>
          <a:xfrm>
            <a:off x="480960" y="5380200"/>
            <a:ext cx="8191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How much further can we go, without our numbers depending on the intended model of set theory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6"/>
          <p:cNvSpPr/>
          <p:nvPr/>
        </p:nvSpPr>
        <p:spPr>
          <a:xfrm>
            <a:off x="549360" y="2967120"/>
            <a:ext cx="819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Calibri"/>
              </a:rPr>
              <a:t>Proof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 The uncomputability of BB relativizes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419040" y="304920"/>
            <a:ext cx="8305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Intermediate growth r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338040" y="1238400"/>
            <a:ext cx="83059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Calibri"/>
              </a:rPr>
              <a:t>Theorem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There’s a function g:N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N that dominates every computable function f, yet such that BB and HALT are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still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 uncomputable given an oracle for 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371520" y="2914560"/>
            <a:ext cx="830592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Calibri"/>
              </a:rPr>
              <a:t>Proof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Let f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,f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,…:N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N be an enumeration of computable functions.  We 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" descr=""/>
          <p:cNvPicPr/>
          <p:nvPr/>
        </p:nvPicPr>
        <p:blipFill>
          <a:blip r:embed="rId1"/>
          <a:stretch/>
        </p:blipFill>
        <p:spPr>
          <a:xfrm>
            <a:off x="5214960" y="3451320"/>
            <a:ext cx="3190680" cy="895320"/>
          </a:xfrm>
          <a:prstGeom prst="rect">
            <a:avLst/>
          </a:prstGeom>
          <a:ln w="0">
            <a:noFill/>
          </a:ln>
        </p:spPr>
      </p:pic>
      <p:sp>
        <p:nvSpPr>
          <p:cNvPr id="92" name="TextBox 6"/>
          <p:cNvSpPr/>
          <p:nvPr/>
        </p:nvSpPr>
        <p:spPr>
          <a:xfrm>
            <a:off x="376200" y="4346640"/>
            <a:ext cx="830592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for some nondecreasing w that increases without bound—thereby ensuring that g dominates every f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.  For the other property, only increment w (i.e., set w(n+1)=w(n)+1) after another candidate reduction from HALT to g has been “killed off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419040" y="38088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Concrete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480960" y="1492200"/>
            <a:ext cx="8182080" cy="3638520"/>
          </a:xfrm>
          <a:prstGeom prst="rect">
            <a:avLst/>
          </a:prstGeom>
          <a:ln w="0">
            <a:noFill/>
          </a:ln>
        </p:spPr>
      </p:pic>
      <p:sp>
        <p:nvSpPr>
          <p:cNvPr id="95" name="TextBox 5"/>
          <p:cNvSpPr/>
          <p:nvPr/>
        </p:nvSpPr>
        <p:spPr>
          <a:xfrm>
            <a:off x="685800" y="525780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BB(18) &gt;&gt; Graham’s number &gt;&gt; Ackermann(18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706320" y="601992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What’s the least n with BB(n)&gt;Ackermann(n)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19:35:08Z</dcterms:created>
  <dc:creator>Scott Aaronson</dc:creator>
  <dc:description/>
  <dc:language>en-US</dc:language>
  <cp:lastModifiedBy>Scott</cp:lastModifiedBy>
  <dcterms:modified xsi:type="dcterms:W3CDTF">2020-09-29T19:40:04Z</dcterms:modified>
  <cp:revision>372</cp:revision>
  <dc:subject/>
  <dc:title>The Future of Computer Science</dc:title>
</cp:coreProperties>
</file>