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2BAC-C365-418C-B15A-D686A7CCE05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A108-198B-4CE8-843B-1A0CD68CF52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A3B-0410-4BEF-80D5-B9FF68A1614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D516-292E-4E47-BAD3-CDCABAEB701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718E-5625-40B6-8C95-D517E2D748F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EF7D-4F40-4510-ABBB-F011F1040E7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951E-5BF6-4F4C-9DB5-7B83498D7A7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AFE6-778E-41EA-89C6-0D332D11282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6373-7784-42CF-9CBC-749E8C21CA6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8C7D-DA86-4EEC-B3EA-5EFDC929E72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6CD8-A7F4-4607-BE05-0800247F379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1BAF-B83A-4550-91A4-C3341F7CB43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902A-4986-4BA9-B611-3FB950CBC85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5FFF-FB8A-4CC4-AA03-885FB12E0C0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DEB2-F04E-404C-9142-B1E5B29B5D6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5DBF-3D46-4138-83B1-2128EE75DCE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42D9-BCBF-4D1E-86CE-BAD63FBF5E9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3FCC-F1D7-47F9-BAD0-0E7632EDB9B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83F4-9B89-45CE-9FE6-533CD63DF94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4E10-428F-4854-8197-06C5E1872EC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A291-53F7-4A59-ADFF-FBC3D128528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AA39-5355-4A4E-BAD5-CF291596E28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B5C0-0306-4389-BE6A-57FEB02A2AA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82FA-6F4C-407B-A585-6FB50089897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B3C-FD70-4221-8D87-13C3DE1E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B4D-812A-40D2-9C2B-207D5325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616-BB99-45AC-B369-0D659DF2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E82-4B36-46F3-B3D1-5F4B2FC8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CC7-AD8D-4A71-9381-532D6AE8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237-12E0-44FD-9CA2-32022604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DDE-A285-423D-AC6B-5842421F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827-A3A7-4A42-8F9A-120BE24B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F0F-724B-402D-BCFB-77869584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C42-75EE-49E9-B649-7524CC5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0E4-9063-4FC1-997B-6E5A9D26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F18-A2E3-4612-9626-1F9CF3CF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2B02-1B24-46E0-96AF-FD969EF7A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Object 5"/>
              <p:cNvSpPr txBox="1"/>
              <p:nvPr/>
            </p:nvSpPr>
            <p:spPr>
              <a:xfrm>
                <a:off x="0" y="1752480"/>
                <a:ext cx="8999640" cy="24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 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65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Impagliazzo’s Worlds in Arithmetic Complexity:</a:t>
            </a:r>
            <a:br>
              <a:rPr sz="3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 Progress Repor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5409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and Andrew Dru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895320" cy="115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895320" cy="1155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89532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4"/>
          <a:stretch/>
        </p:blipFill>
        <p:spPr>
          <a:xfrm>
            <a:off x="7086600" y="2514600"/>
            <a:ext cx="895320" cy="1155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1"/>
          <p:cNvSpPr/>
          <p:nvPr/>
        </p:nvSpPr>
        <p:spPr>
          <a:xfrm rot="21002400">
            <a:off x="477000" y="3941280"/>
            <a:ext cx="7772400" cy="91656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100% QUANTUM-FREE TALK</a:t>
            </a:r>
            <a:br>
              <a:rPr sz="30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FROM COWS NOT TREATED WITH rBQ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The Boneh-Lipton Problem:</a:t>
            </a:r>
            <a:br>
              <a:rPr sz="4000"/>
            </a:br>
            <a:r>
              <a:rPr b="1" lang="en-US" sz="2600" spc="-1" strike="noStrike">
                <a:solidFill>
                  <a:srgbClr val="2d2d8a"/>
                </a:solidFill>
                <a:latin typeface="Calibri"/>
              </a:rPr>
              <a:t>A Bridge Between the Boolean and Arithmetic World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304920" y="3657600"/>
            <a:ext cx="853416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Calibri"/>
              </a:rPr>
              <a:t>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Recover x, given (x+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(x+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is problem is easy.  Then for all p≤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the Boolean and </a:t>
            </a:r>
            <a:r>
              <a:rPr b="0" lang="en-US" sz="27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orlds are polynomially equival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as, best known classical algorithm to recover x takes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380880" y="1905120"/>
                <a:ext cx="12654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3886200" y="1905120"/>
                <a:ext cx="50594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1676520" y="1663560"/>
                <a:ext cx="1981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4876920" y="2681280"/>
                <a:ext cx="13827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3124080" y="5867280"/>
                <a:ext cx="243684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log</m:t>
                            </m:r>
                            <m:r>
                              <m:t xml:space="preserve">p</m:t>
                            </m:r>
                          </m:e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46" name="Straight Arrow Connector 10"/>
          <p:cNvCxnSpPr/>
          <p:nvPr/>
        </p:nvCxnSpPr>
        <p:spPr>
          <a:xfrm flipV="1">
            <a:off x="1600200" y="2208960"/>
            <a:ext cx="2286720" cy="252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47" name="TextBox 13"/>
          <p:cNvSpPr/>
          <p:nvPr/>
        </p:nvSpPr>
        <p:spPr>
          <a:xfrm>
            <a:off x="6172200" y="5943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[BL9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Intuition: We Win Either Way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380880" y="1219320"/>
            <a:ext cx="845820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pos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(1) BL is easy to in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and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ation are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Fs exist in one world iff they exist in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(2) BL is hard to in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tsel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WF, in both the Boolean and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or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80880" y="54100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Difficulti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if BL is only slightly hard?  Or easy to invert on some input lengths but not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7"/>
          <p:cNvSpPr/>
          <p:nvPr/>
        </p:nvSpPr>
        <p:spPr>
          <a:xfrm>
            <a:off x="380880" y="457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ll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in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5"/>
              <p:cNvSpPr txBox="1"/>
              <p:nvPr/>
            </p:nvSpPr>
            <p:spPr>
              <a:xfrm>
                <a:off x="1438200" y="1143000"/>
                <a:ext cx="64692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Box 6"/>
          <p:cNvSpPr/>
          <p:nvPr/>
        </p:nvSpPr>
        <p:spPr>
          <a:xfrm>
            <a:off x="380880" y="2286000"/>
            <a:ext cx="8305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x+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(y+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degree-q, nonzero polynomial in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it has at most q=(p-1)/2 ro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380880" y="3505320"/>
            <a:ext cx="83059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Implic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x+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(x+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formation-theoretic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e x with high probability over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rovided k&gt;&gt;log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Easy Direction: B/B OWF </a:t>
            </a:r>
            <a:r>
              <a:rPr b="1" lang="en-US" sz="4000" spc="-1" strike="noStrike">
                <a:solidFill>
                  <a:srgbClr val="2d2d8a"/>
                </a:solidFill>
                <a:latin typeface="Symbol"/>
                <a:ea typeface="Symbol"/>
              </a:rPr>
              <a:t></a:t>
            </a: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 A/B OWF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09480" y="1447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f be a Boolean OWF.  Then as our arithmetic OWF, we can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2057400" y="2286000"/>
                <a:ext cx="5400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Rectangle 6"/>
          <p:cNvSpPr/>
          <p:nvPr/>
        </p:nvSpPr>
        <p:spPr>
          <a:xfrm>
            <a:off x="609480" y="30481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, any inverter for F yields an inverter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12760"/>
            <a:ext cx="8686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Other Direction: A/A OWF </a:t>
            </a:r>
            <a:r>
              <a:rPr b="1" lang="en-US" sz="4000" spc="-1" strike="noStrike">
                <a:solidFill>
                  <a:srgbClr val="2d2d8a"/>
                </a:solidFill>
                <a:latin typeface="Symbol"/>
                <a:ea typeface="Symbol"/>
              </a:rPr>
              <a:t></a:t>
            </a: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 A/B OWF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380880" y="1143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g be an OWF secure against arithmetic adversaries.  Here’s an OWF secure against Boolean advers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325440" y="2117880"/>
                <a:ext cx="84916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Rectangle 6"/>
          <p:cNvSpPr/>
          <p:nvPr/>
        </p:nvSpPr>
        <p:spPr>
          <a:xfrm>
            <a:off x="380880" y="2895480"/>
            <a:ext cx="838224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G’ be a good Boolean inverter for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’s a good arithmetic inverter for g(x): first generate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andomly </a:t>
            </a:r>
            <a:r>
              <a:rPr b="0" lang="en-US" sz="2400" spc="-1" strike="noStrike">
                <a:solidFill>
                  <a:srgbClr val="e68900"/>
                </a:solidFill>
                <a:latin typeface="Calibri"/>
              </a:rPr>
              <a:t>(remembering their Boolean descrip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compute G(x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nd run G’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Key fac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(x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=G(y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(x)=g(y) with high probability over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rovided k&gt;&gt;log(p).  In which case, G’ can only invert G by finding a preimage of g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d2d8a"/>
                </a:solidFill>
                <a:latin typeface="Calibri"/>
              </a:rPr>
              <a:t>Argument for Pseudorandom Generators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380880" y="1219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f be a B/B PRG.  As our A/B PRG, we can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1828800" y="1828800"/>
                <a:ext cx="5638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Rectangle 4"/>
          <p:cNvSpPr/>
          <p:nvPr/>
        </p:nvSpPr>
        <p:spPr>
          <a:xfrm>
            <a:off x="380880" y="3733920"/>
            <a:ext cx="85345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wise, let g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an A/A PRG.  By a standard hybrid argument, we can “stretch” g to produce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that (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,…,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) looks random.  Here’s our A/B PR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1828800" y="5486400"/>
                <a:ext cx="52801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TextBox 8"/>
          <p:cNvSpPr/>
          <p:nvPr/>
        </p:nvSpPr>
        <p:spPr>
          <a:xfrm>
            <a:off x="380880" y="2590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Om(x) is the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omelettiz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Boolean string x: its conversion to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elements in a standard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304920" y="4572000"/>
            <a:ext cx="853416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arguments show that B/B or A/A pseudorandom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func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mply A/B pseudorandom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380880" y="609480"/>
            <a:ext cx="830592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alibri"/>
              </a:rPr>
              <a:t>Collapse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ssuming |</a:t>
            </a:r>
            <a:r>
              <a:rPr b="0" lang="en-US" sz="30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&g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/po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hard on avera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ther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914400" y="2819520"/>
            <a:ext cx="3886200" cy="52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914400" y="3352680"/>
            <a:ext cx="3886200" cy="520560"/>
          </a:xfrm>
          <a:prstGeom prst="rect">
            <a:avLst/>
          </a:prstGeom>
          <a:solidFill>
            <a:srgbClr val="ffd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ur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914400" y="3886200"/>
            <a:ext cx="3886200" cy="520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si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914400" y="4419720"/>
            <a:ext cx="3886200" cy="5205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cr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914400" y="4952880"/>
            <a:ext cx="3886200" cy="52056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ypt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914400" y="3352680"/>
            <a:ext cx="3886200" cy="16027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uristiminipessicr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5715000" y="2743200"/>
            <a:ext cx="3124080" cy="3367800"/>
          </a:xfrm>
          <a:prstGeom prst="rect">
            <a:avLst/>
          </a:prstGeom>
          <a:solidFill>
            <a:srgbClr val="fff1b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-on-average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blems with planted (Boolean)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teresting notion of OWF when |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&gt;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15"/>
          <p:cNvCxnSpPr/>
          <p:nvPr/>
        </p:nvCxnSpPr>
        <p:spPr>
          <a:xfrm flipV="1">
            <a:off x="7770960" y="1753920"/>
            <a:ext cx="3600" cy="992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7"/>
          <p:cNvSpPr/>
          <p:nvPr/>
        </p:nvSpPr>
        <p:spPr>
          <a:xfrm>
            <a:off x="457200" y="609480"/>
            <a:ext cx="8229600" cy="63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Major Challenge for Complexity Theor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plain why current techniques fail to show PERMAN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AlgP/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First approa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tend algebrization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[AW08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low-degree oracles queried by arithmetic circuits.  Construct A such that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Alg#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Alg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Second approa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atural Proofs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[RR9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rithmetic complexity.  Show that arithmetic circuit lower bounds based on rank, partial derivatives, etc. can’t possibly work, since they would distinguish random functions f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pseudorandom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What’s neede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seudorandom function families computable by arithmetic circuits over finite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Arithmetic Pseudorandom Functio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380880" y="4572000"/>
            <a:ext cx="830592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Real Challenge of Arithmetic Natural Proof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ind a family of degree-d polynomials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able by poly-size arithmetic circuit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stinguishable from random degree-d polynom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380880" y="982800"/>
            <a:ext cx="822960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results show that, if ordinary OWFs exist, then one can construct a family of functions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able by poly-size arithmetic circuit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stinguishable from random function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ven by Boolean circu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380880" y="35812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ERMANENT is a low-degree polynomial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y plausible lower bound proof would use that f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Callout 9"/>
          <p:cNvSpPr/>
          <p:nvPr/>
        </p:nvSpPr>
        <p:spPr>
          <a:xfrm>
            <a:off x="4191120" y="1143000"/>
            <a:ext cx="4038480" cy="1905120"/>
          </a:xfrm>
          <a:prstGeom prst="wedgeEllipseCallout">
            <a:avLst>
              <a:gd name="adj1" fmla="val 65435"/>
              <a:gd name="adj2" fmla="val 7786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4800600" y="160020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oblem solv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d2d8a"/>
                </a:solidFill>
                <a:latin typeface="Calibri"/>
              </a:rPr>
              <a:t>Pseudorandom Low-Degree Polynomials: How to Construct Them?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457200" y="5486400"/>
            <a:ext cx="4648320" cy="885960"/>
          </a:xfrm>
          <a:prstGeom prst="rect">
            <a:avLst/>
          </a:prstGeom>
          <a:solidFill>
            <a:srgbClr val="ffe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constructions based on lattices/LW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457200" y="1676520"/>
            <a:ext cx="4648320" cy="885960"/>
          </a:xfrm>
          <a:prstGeom prst="rect">
            <a:avLst/>
          </a:prstGeom>
          <a:solidFill>
            <a:srgbClr val="ffe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ric construction of PRF</a:t>
            </a:r>
            <a:br>
              <a:rPr sz="2600"/>
            </a:br>
            <a:r>
              <a:rPr b="0" lang="en-US" sz="2600" spc="-1" strike="noStrike">
                <a:solidFill>
                  <a:srgbClr val="009900"/>
                </a:solidFill>
                <a:latin typeface="Calibri"/>
              </a:rPr>
              <a:t>[Goldreich-Goldwasser-Micali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457200" y="2819520"/>
            <a:ext cx="4648320" cy="885960"/>
          </a:xfrm>
          <a:prstGeom prst="rect">
            <a:avLst/>
          </a:prstGeom>
          <a:solidFill>
            <a:srgbClr val="ffe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umber-theoretic PRF</a:t>
            </a:r>
            <a:br>
              <a:rPr sz="2600"/>
            </a:br>
            <a:r>
              <a:rPr b="0" lang="en-US" sz="2600" spc="-1" strike="noStrike">
                <a:solidFill>
                  <a:srgbClr val="009900"/>
                </a:solidFill>
                <a:latin typeface="Calibri"/>
              </a:rPr>
              <a:t>[Naor-Reingold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457200" y="3962520"/>
            <a:ext cx="4648320" cy="1281960"/>
          </a:xfrm>
          <a:prstGeom prst="rect">
            <a:avLst/>
          </a:prstGeom>
          <a:solidFill>
            <a:srgbClr val="ffe5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rdness of learning small-depth arithmetic circuits</a:t>
            </a:r>
            <a:br>
              <a:rPr sz="2600"/>
            </a:br>
            <a:r>
              <a:rPr b="0" lang="en-US" sz="2600" spc="-1" strike="noStrike">
                <a:solidFill>
                  <a:srgbClr val="009900"/>
                </a:solidFill>
                <a:latin typeface="Calibri"/>
              </a:rPr>
              <a:t>[Klivans-Sherstov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5105520" y="1676520"/>
            <a:ext cx="380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n’t work (blows up deg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5105520" y="548640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5105520" y="2819520"/>
            <a:ext cx="380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n’t work (uses bit operations to paralleliz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5105520" y="3962520"/>
            <a:ext cx="3809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n’t work (requires specific input distribution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8a"/>
                </a:solidFill>
                <a:latin typeface="Calibri"/>
              </a:rPr>
              <a:t>Why Arithmetize Russell’s Worlds?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228600" y="1295280"/>
            <a:ext cx="6781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Funhouse mirrors of complexity the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086600" y="838080"/>
            <a:ext cx="1752480" cy="118116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228600" y="205740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manent vs. Determinant,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cademy Engraved LET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cademy Engraved LET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“Warmups” to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2d2d8a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of our motivation came from Mulmuley’s GCT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28600" y="3276720"/>
            <a:ext cx="8686800" cy="3370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who cares about 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crypt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arithmetic mode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it happens, much of current cryp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ased on arithmetic over finit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Challenge: Arithmetic Natural Proof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Explain why it’s so hard to prove circuit lower bounds for the 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fting” to larger fields gives new insights about worst-case / average-case equi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d2d8a"/>
                </a:solidFill>
                <a:latin typeface="Calibri"/>
              </a:rPr>
              <a:t>Candidate for Low-Degree Arithmetic PRF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380880" y="3886200"/>
            <a:ext cx="8382240" cy="180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ing oracle access to p, no polynomial-size arithmetic circuit over the finite field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distinguish g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a uniformly random, homogeneous polynomial of degree d, with non-negligible b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28600" y="1143000"/>
                <a:ext cx="87282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d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d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TextBox 4"/>
          <p:cNvSpPr/>
          <p:nvPr/>
        </p:nvSpPr>
        <p:spPr>
          <a:xfrm>
            <a:off x="304920" y="312408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the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are independent, random linea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380880" y="59500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it’s easy to distinguish g from a random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Conclusio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33520" y="1371600"/>
            <a:ext cx="815328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can give sensible definitions of Heuristica, Pessiland, and Minicrypt over a finite field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|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≤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se worlds perfectly mirror their Boolean counterparts—even if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utation is weaker than Boole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 Natural Proofs are no less fearsome in </a:t>
            </a:r>
            <a:r>
              <a:rPr b="0" lang="en-US" sz="2400" spc="-1" strike="noStrike">
                <a:solidFill>
                  <a:srgbClr val="009900"/>
                </a:solidFill>
                <a:latin typeface="Academy Engraved LET"/>
              </a:rPr>
              <a:t>F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-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en |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&gt;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euristica=Pessiland=Minicr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oth of these results explain why the other doesn’t generalize to all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1295280" y="3429000"/>
            <a:ext cx="6858000" cy="180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this perspective, the distinction between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rd on average, and existence of OWFs (if indeed there is one) seems like an “artifact of small field siz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Open Proble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457200" y="1447920"/>
            <a:ext cx="830592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uct pseudorandom low-degree polynomials p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deally based on a known assumption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vincing Natural Proofs story for why PERMANEN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cc00cc"/>
                </a:solidFill>
                <a:latin typeface="Calibri"/>
              </a:rPr>
              <a:t>AlgP/pol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F when |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&gt;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ness theory for large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Cryptomani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KC, CRHFs, IBE, homomorphic encryption (?!), etc. in the arithmetic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circuits based on non-classical physic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proposed by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[van Da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Handwaving Idea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1066680" y="8666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IRCUITSA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533520" y="1143000"/>
            <a:ext cx="8001000" cy="58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one would expect: Schwartz-Zipp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t C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a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ircuit of size s.  Then {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C(x)=0} belongs to the Boolean closure of ≤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gebraic varieties of degree ≤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Canonical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-Complete 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we take to encode a (pure) arithmetic circui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, does there exist a Boolean input 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-1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(Get rid of equality tests using encoding tr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a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ircuit A that solves this problem for most x, and correct it to one that works for all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On the Menu Today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28600" y="1600200"/>
            <a:ext cx="50292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Equivalence of Complexity Questions In The Boolean and Small Finite Field Wor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Over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nite Fields </a:t>
            </a:r>
            <a:r>
              <a:rPr b="0" lang="en-US" sz="28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“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</a:rPr>
              <a:t>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WFs Exist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euristica=Pessiland=Minicry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Natural Proofs for Arithmetic Circuits: A Challenge and Concrete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 rot="420600">
            <a:off x="5629320" y="1841040"/>
            <a:ext cx="29257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d2d8a"/>
                </a:solidFill>
                <a:latin typeface="Calibri"/>
              </a:rPr>
              <a:t>Arithmetic Computation Over A Finite Field </a:t>
            </a:r>
            <a:r>
              <a:rPr b="1" lang="en-US" sz="3500" spc="-1" strike="noStrike">
                <a:solidFill>
                  <a:srgbClr val="2d2d8a"/>
                </a:solidFill>
                <a:latin typeface="Academy Engraved LET"/>
              </a:rPr>
              <a:t>F</a:t>
            </a:r>
            <a:endParaRPr b="1" lang="en-US" sz="3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04920" y="449568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Not allowed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rectly access bit representations of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04920" y="5715000"/>
            <a:ext cx="8305560" cy="885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Deep reason” for finitenes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cryptography, it’s nice to have a uniform distribution over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04920" y="990720"/>
            <a:ext cx="84582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Allowed oper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d, subtract, multiply, or divide any two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and recognize the 0 and 1 elements</a:t>
            </a:r>
            <a:br>
              <a:rPr sz="26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quality testing, branching, Boolean side-comput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ple a random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lement (in randomized mode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rdwire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elements (in nonuniform mode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04920" y="512748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is talk, |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 will be finite, prime, possibly dependent on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2d2d8a"/>
                </a:solidFill>
                <a:latin typeface="Calibri"/>
              </a:rPr>
              <a:t>Three Regimes of Arithmetic Complexity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152280" y="2286000"/>
            <a:ext cx="2590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≤poly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ivially the same as Boolean comput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819520" y="2286000"/>
            <a:ext cx="327636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≤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 stronger than Boolean computation.  Maybe weaker, since can’t see bit representations of input </a:t>
            </a:r>
            <a:r>
              <a:rPr b="0" lang="en-US" sz="25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elements.  Same as Boolean computation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input is conveniently Boole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6172200" y="2286000"/>
            <a:ext cx="281952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&gt;&g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comparable with Boolean computation (a </a:t>
            </a:r>
            <a:r>
              <a:rPr b="1" lang="en-US" sz="25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machine can’t even store </a:t>
            </a:r>
            <a:r>
              <a:rPr b="0" lang="en-US" sz="25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elements).  Algebraic geometry becomes relevant, since polynomials have degree &lt;&lt;|</a:t>
            </a:r>
            <a:r>
              <a:rPr b="0" lang="en-US" sz="25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|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"/>
          <p:cNvCxnSpPr/>
          <p:nvPr/>
        </p:nvCxnSpPr>
        <p:spPr>
          <a:xfrm flipH="1">
            <a:off x="1599840" y="1676160"/>
            <a:ext cx="2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5" name="Straight Arrow Connector 12"/>
          <p:cNvCxnSpPr/>
          <p:nvPr/>
        </p:nvCxnSpPr>
        <p:spPr>
          <a:xfrm flipH="1">
            <a:off x="4494960" y="1676160"/>
            <a:ext cx="252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6" name="Straight Arrow Connector 13"/>
          <p:cNvCxnSpPr/>
          <p:nvPr/>
        </p:nvCxnSpPr>
        <p:spPr>
          <a:xfrm flipH="1">
            <a:off x="7619760" y="1676160"/>
            <a:ext cx="2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Calibri"/>
              </a:rPr>
              <a:t>Related Model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4920" y="1295280"/>
            <a:ext cx="830556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Blum-Shub-Smal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Uniform, defined for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ix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ield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such as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G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quality tests allowed; version over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llows compari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Algebraic computation tree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sically, nonuniform version of </a:t>
            </a:r>
            <a:r>
              <a:rPr b="0" lang="en-US" sz="2600" spc="-1" strike="noStrike">
                <a:solidFill>
                  <a:srgbClr val="00b050"/>
                </a:solidFill>
                <a:latin typeface="Calibri"/>
              </a:rPr>
              <a:t>[BSS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Arithmetic circuits, straight-line programs, Valiant’s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VP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VNP</a:t>
            </a: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o divisions or equality tests allow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2057400" y="5029200"/>
            <a:ext cx="5029200" cy="885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results for |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≤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ll extend to the straight-line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304920" y="1066680"/>
            <a:ext cx="8686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Class of langu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4419720" y="990720"/>
                <a:ext cx="1676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⊆</m:t>
                    </m:r>
                    <m:limLow>
                      <m:e>
                        <m:r>
                          <m:t xml:space="preserve">∪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lim>
                    </m:limLow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7391520" y="2209680"/>
                <a:ext cx="1307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Box 13"/>
          <p:cNvSpPr/>
          <p:nvPr/>
        </p:nvSpPr>
        <p:spPr>
          <a:xfrm>
            <a:off x="304920" y="38088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1447920" y="380880"/>
                <a:ext cx="1874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</m:e>
                                </m:d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Box 15"/>
          <p:cNvSpPr/>
          <p:nvPr/>
        </p:nvSpPr>
        <p:spPr>
          <a:xfrm>
            <a:off x="3657600" y="380880"/>
            <a:ext cx="4038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p(n)}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list of prim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304920" y="1828800"/>
            <a:ext cx="868680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ch that for some polynomial size bound s and every n, there exists an </a:t>
            </a:r>
            <a:r>
              <a:rPr b="0" lang="en-US" sz="26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ircuit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size s(n) such that for 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304920" y="3352680"/>
            <a:ext cx="86868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The same, except we substitu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-1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ch that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,w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304920" y="4343400"/>
            <a:ext cx="8229600" cy="4899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define uniform versions with more sw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304920" y="5029200"/>
            <a:ext cx="8610480" cy="16376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are the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tnesses Boolean?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p(n)≤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t doesn’t ma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p(n)&gt;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llowing </a:t>
            </a:r>
            <a:r>
              <a:rPr b="0" lang="en-US" sz="24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witnesses would trivialize </a:t>
            </a:r>
            <a:r>
              <a:rPr b="1" lang="en-US" sz="24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cc00cc"/>
                </a:solidFill>
                <a:latin typeface="Calibri"/>
              </a:rPr>
              <a:t>N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onsider, e.g., quadratic residuos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2d2d8a"/>
                </a:solidFill>
                <a:latin typeface="Calibri"/>
              </a:rPr>
              <a:t>Arithmetic Cryptography When |</a:t>
            </a:r>
            <a:r>
              <a:rPr b="1" lang="en-US" sz="3400" spc="-1" strike="noStrike">
                <a:solidFill>
                  <a:srgbClr val="2d2d8a"/>
                </a:solidFill>
                <a:latin typeface="Academy Engraved LET"/>
              </a:rPr>
              <a:t>F</a:t>
            </a:r>
            <a:r>
              <a:rPr b="1" lang="en-US" sz="3400" spc="-1" strike="noStrike">
                <a:solidFill>
                  <a:srgbClr val="2d2d8a"/>
                </a:solidFill>
                <a:latin typeface="Calibri"/>
              </a:rPr>
              <a:t>|≤2</a:t>
            </a:r>
            <a:r>
              <a:rPr b="1" lang="en-US" sz="3400" spc="-1" strike="noStrike" baseline="30000">
                <a:solidFill>
                  <a:srgbClr val="2d2d8a"/>
                </a:solidFill>
                <a:latin typeface="Calibri"/>
              </a:rPr>
              <a:t>poly(n)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28600" y="1981080"/>
            <a:ext cx="876312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A/A (Arithmetic/Arithmetic) OW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amily of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utable in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uch that for all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cademy Engraved LET"/>
              </a:rPr>
              <a:t>F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dversaries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4267080"/>
            <a:ext cx="8610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A/B (Arithmetic/Boolean) OW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ame, except now the adversary is </a:t>
            </a:r>
            <a:r>
              <a:rPr b="1" lang="en-US" sz="2600" spc="-1" strike="noStrike">
                <a:solidFill>
                  <a:srgbClr val="cc00cc"/>
                </a:solidFill>
                <a:latin typeface="Calibri"/>
              </a:rPr>
              <a:t>P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i.e. has Boolean access to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x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2057400" y="3505320"/>
                <a:ext cx="5334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sub>
                        </m:sSub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Rectangle 6"/>
          <p:cNvSpPr/>
          <p:nvPr/>
        </p:nvSpPr>
        <p:spPr>
          <a:xfrm>
            <a:off x="1066680" y="5486400"/>
            <a:ext cx="7086600" cy="885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/B, A/A, and A/B pseudorandom generators and pseudorandom functions can be defined similar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3352680" y="2438280"/>
                <a:ext cx="23590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b>
                      <m: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6" name="TextBox 9"/>
          <p:cNvSpPr/>
          <p:nvPr/>
        </p:nvSpPr>
        <p:spPr>
          <a:xfrm>
            <a:off x="228600" y="1295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B/B (Boolean/Boolean) OW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dinary one-way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7"/>
          <p:cNvSpPr/>
          <p:nvPr/>
        </p:nvSpPr>
        <p:spPr>
          <a:xfrm>
            <a:off x="533520" y="457200"/>
            <a:ext cx="8153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Calibri"/>
              </a:rPr>
              <a:t>Equivalence Theorem: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Assuming 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3400" spc="-1" strike="noStrike">
                <a:solidFill>
                  <a:srgbClr val="000000"/>
                </a:solidFill>
                <a:latin typeface="Academy Engraved LET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|≤2</a:t>
            </a:r>
            <a:r>
              <a:rPr b="0" lang="en-US" sz="34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838080" y="3352680"/>
            <a:ext cx="1752840" cy="520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B OW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838080" y="1600200"/>
            <a:ext cx="1752840" cy="520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/B OW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838080" y="5105520"/>
            <a:ext cx="1752840" cy="9471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A OW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809880" y="3352680"/>
            <a:ext cx="1752840" cy="52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B P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3809880" y="1600200"/>
            <a:ext cx="1752840" cy="52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/B P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3809880" y="5105520"/>
            <a:ext cx="1752840" cy="52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A P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6781680" y="3352680"/>
            <a:ext cx="1752840" cy="52056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B P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6781680" y="1600200"/>
            <a:ext cx="1752840" cy="52056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/B P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781680" y="5105520"/>
            <a:ext cx="1752840" cy="52056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/A P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16"/>
          <p:cNvCxnSpPr/>
          <p:nvPr/>
        </p:nvCxnSpPr>
        <p:spPr>
          <a:xfrm flipH="1" flipV="1">
            <a:off x="2590560" y="1980360"/>
            <a:ext cx="12196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8" name="Straight Arrow Connector 17"/>
          <p:cNvCxnSpPr/>
          <p:nvPr/>
        </p:nvCxnSpPr>
        <p:spPr>
          <a:xfrm flipV="1">
            <a:off x="2590920" y="1751760"/>
            <a:ext cx="12196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09" name="TextBox 20"/>
          <p:cNvSpPr/>
          <p:nvPr/>
        </p:nvSpPr>
        <p:spPr>
          <a:xfrm>
            <a:off x="2590920" y="1981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21"/>
          <p:cNvCxnSpPr/>
          <p:nvPr/>
        </p:nvCxnSpPr>
        <p:spPr>
          <a:xfrm flipH="1" flipV="1">
            <a:off x="5562360" y="1980360"/>
            <a:ext cx="12196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1" name="TextBox 22"/>
          <p:cNvSpPr/>
          <p:nvPr/>
        </p:nvSpPr>
        <p:spPr>
          <a:xfrm>
            <a:off x="5562720" y="1981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3"/>
          <p:cNvSpPr/>
          <p:nvPr/>
        </p:nvSpPr>
        <p:spPr>
          <a:xfrm>
            <a:off x="2590920" y="1371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alibri"/>
              </a:rPr>
              <a:t>[HIL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25"/>
          <p:cNvCxnSpPr/>
          <p:nvPr/>
        </p:nvCxnSpPr>
        <p:spPr>
          <a:xfrm flipV="1">
            <a:off x="5562720" y="1751760"/>
            <a:ext cx="12196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4" name="TextBox 26"/>
          <p:cNvSpPr/>
          <p:nvPr/>
        </p:nvSpPr>
        <p:spPr>
          <a:xfrm>
            <a:off x="5562720" y="1371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alibri"/>
              </a:rPr>
              <a:t>[GG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27"/>
          <p:cNvCxnSpPr/>
          <p:nvPr/>
        </p:nvCxnSpPr>
        <p:spPr>
          <a:xfrm flipV="1">
            <a:off x="1294200" y="213300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6" name="TextBox 29"/>
          <p:cNvSpPr/>
          <p:nvPr/>
        </p:nvSpPr>
        <p:spPr>
          <a:xfrm rot="16200000">
            <a:off x="465840" y="2581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30"/>
          <p:cNvCxnSpPr/>
          <p:nvPr/>
        </p:nvCxnSpPr>
        <p:spPr>
          <a:xfrm flipV="1">
            <a:off x="4266000" y="213300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18" name="TextBox 31"/>
          <p:cNvSpPr/>
          <p:nvPr/>
        </p:nvSpPr>
        <p:spPr>
          <a:xfrm rot="16200000">
            <a:off x="3437640" y="2581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32"/>
          <p:cNvCxnSpPr/>
          <p:nvPr/>
        </p:nvCxnSpPr>
        <p:spPr>
          <a:xfrm flipV="1">
            <a:off x="7237800" y="213300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0" name="TextBox 33"/>
          <p:cNvSpPr/>
          <p:nvPr/>
        </p:nvSpPr>
        <p:spPr>
          <a:xfrm rot="16200000">
            <a:off x="6409440" y="2581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34"/>
          <p:cNvCxnSpPr/>
          <p:nvPr/>
        </p:nvCxnSpPr>
        <p:spPr>
          <a:xfrm flipH="1">
            <a:off x="2208960" y="388512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2" name="TextBox 35"/>
          <p:cNvSpPr/>
          <p:nvPr/>
        </p:nvSpPr>
        <p:spPr>
          <a:xfrm rot="5400000">
            <a:off x="1838880" y="425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37"/>
          <p:cNvCxnSpPr/>
          <p:nvPr/>
        </p:nvCxnSpPr>
        <p:spPr>
          <a:xfrm flipH="1">
            <a:off x="5180760" y="388512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4" name="TextBox 38"/>
          <p:cNvSpPr/>
          <p:nvPr/>
        </p:nvSpPr>
        <p:spPr>
          <a:xfrm rot="5400000">
            <a:off x="4810680" y="425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39"/>
          <p:cNvCxnSpPr/>
          <p:nvPr/>
        </p:nvCxnSpPr>
        <p:spPr>
          <a:xfrm flipH="1">
            <a:off x="8152560" y="388512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6" name="TextBox 40"/>
          <p:cNvSpPr/>
          <p:nvPr/>
        </p:nvSpPr>
        <p:spPr>
          <a:xfrm rot="5400000">
            <a:off x="7782480" y="425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41"/>
          <p:cNvCxnSpPr/>
          <p:nvPr/>
        </p:nvCxnSpPr>
        <p:spPr>
          <a:xfrm flipH="1">
            <a:off x="2208960" y="213264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8" name="TextBox 42"/>
          <p:cNvSpPr/>
          <p:nvPr/>
        </p:nvSpPr>
        <p:spPr>
          <a:xfrm rot="5400000">
            <a:off x="1762920" y="2505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43"/>
          <p:cNvCxnSpPr/>
          <p:nvPr/>
        </p:nvCxnSpPr>
        <p:spPr>
          <a:xfrm flipH="1">
            <a:off x="5180760" y="213264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30" name="Straight Arrow Connector 45"/>
          <p:cNvCxnSpPr/>
          <p:nvPr/>
        </p:nvCxnSpPr>
        <p:spPr>
          <a:xfrm flipH="1">
            <a:off x="8152560" y="213264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31" name="Straight Arrow Connector 47"/>
          <p:cNvCxnSpPr/>
          <p:nvPr/>
        </p:nvCxnSpPr>
        <p:spPr>
          <a:xfrm flipV="1">
            <a:off x="1294200" y="388548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2" name="TextBox 48"/>
          <p:cNvSpPr/>
          <p:nvPr/>
        </p:nvSpPr>
        <p:spPr>
          <a:xfrm rot="16200000">
            <a:off x="389880" y="4334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49"/>
          <p:cNvCxnSpPr/>
          <p:nvPr/>
        </p:nvCxnSpPr>
        <p:spPr>
          <a:xfrm flipV="1">
            <a:off x="4266000" y="388548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34" name="Straight Arrow Connector 51"/>
          <p:cNvCxnSpPr/>
          <p:nvPr/>
        </p:nvCxnSpPr>
        <p:spPr>
          <a:xfrm flipV="1">
            <a:off x="7237800" y="3885480"/>
            <a:ext cx="2520" cy="122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5" name="TextBox 53"/>
          <p:cNvSpPr/>
          <p:nvPr/>
        </p:nvSpPr>
        <p:spPr>
          <a:xfrm rot="5400000">
            <a:off x="4734720" y="2505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4"/>
          <p:cNvSpPr/>
          <p:nvPr/>
        </p:nvSpPr>
        <p:spPr>
          <a:xfrm rot="5400000">
            <a:off x="7706520" y="2505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5"/>
          <p:cNvSpPr/>
          <p:nvPr/>
        </p:nvSpPr>
        <p:spPr>
          <a:xfrm rot="16200000">
            <a:off x="3361680" y="4334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6"/>
          <p:cNvSpPr/>
          <p:nvPr/>
        </p:nvSpPr>
        <p:spPr>
          <a:xfrm rot="16200000">
            <a:off x="6333480" y="4334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9-06-05T13:24:13Z</dcterms:modified>
  <cp:revision>218</cp:revision>
  <dc:subject/>
  <dc:title>Slide 1</dc:title>
</cp:coreProperties>
</file>