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AA7-C353-4AC9-A283-FFB426BBBD6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9BC-F1B4-479F-AAB0-0F5BAF9D0B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6888-84BC-4815-8D56-A5CAE7FE020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5EA9-0DCD-4095-A0CB-C1A054E18C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D58-D5EE-4DC1-B764-0235955A9B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B65-82CE-4B51-89CE-C918064C8FD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638-BE41-488C-939C-8DAF1D1A747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2AF-B931-4B5E-81BA-369018332C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783-B1D6-434C-BC98-62FD5E35919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5D6-484C-44D4-937C-0293414E504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F1F-1DC7-4B6B-AA18-3C8A2C7CD1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5D4-B0BB-49D5-8A84-D9519D67670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6ED-019E-4AEE-8D11-09BD730DE4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47D-93B7-44AB-9ADF-B73645FF9D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C93B-4785-4C1B-BC53-B49DF8E2633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5DA-F861-4FC1-9C47-A24790530D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E3C-0049-479B-8789-2EB2E433A0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9949-96F9-4CC3-9A26-927C45AEF7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52A-1B7C-488C-9D26-16A8D5120BD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45C3-FDC8-42C7-9F7F-1533A1A089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8C3-1B68-43A5-A642-8BA06F4AF53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0487-C2B5-4CC9-95B1-D72D91073A6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6B37-2222-477A-B8EB-C7428B04BD5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3CFD-2CE7-4CDC-869B-43A905616F3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416-AF49-49E9-9573-858C0189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C78-AA4F-46B2-96CD-4308B440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407-6AC4-4A58-B27A-91D052D5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5B8-FF57-4EDD-904B-B10C11E0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F3A-BC96-4F7E-9E0E-AF32C18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7DF-F929-4609-A0D0-D467051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157-6A10-4E54-A0AE-C05D8E8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3A2-4EB8-412C-927B-FD51616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647-FFA8-4622-8CE6-4159BC3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26A-CAA3-419E-A711-A9AEC25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66F-3B2F-4482-A40D-D28EBA9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B6E-CBBD-4F8E-94A8-38FCF7F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218-D4B9-4643-A8E7-F9B9EA8B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0" y="1752480"/>
                <a:ext cx="899964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 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65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Impagliazzo’s Worlds in Arithmetic Complexity:</a:t>
            </a:r>
            <a:br>
              <a:rPr sz="3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 Progress Repor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5409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and Andrew Dr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4"/>
          <a:stretch/>
        </p:blipFill>
        <p:spPr>
          <a:xfrm>
            <a:off x="7086600" y="2514600"/>
            <a:ext cx="895320" cy="1155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1"/>
          <p:cNvSpPr/>
          <p:nvPr/>
        </p:nvSpPr>
        <p:spPr>
          <a:xfrm rot="21002400">
            <a:off x="477000" y="3941280"/>
            <a:ext cx="7772400" cy="916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00% QUANTUM-FREE TALK</a:t>
            </a:r>
            <a:br>
              <a:rPr sz="3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FROM COWS NOT TREATED WITH rBQ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The Boneh-Lipton Problem:</a:t>
            </a:r>
            <a:br>
              <a:rPr sz="4000"/>
            </a:br>
            <a:r>
              <a:rPr b="1" lang="en-US" sz="2600" spc="-1" strike="noStrike">
                <a:solidFill>
                  <a:srgbClr val="2d2d8a"/>
                </a:solidFill>
                <a:latin typeface="Calibri"/>
              </a:rPr>
              <a:t>A Bridge Between the Boolean and Arithmetic World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304920" y="3657600"/>
            <a:ext cx="853416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Calibri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ecover x, given (x+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(x+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is problem is easy.  Then for all p≤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the Boolean and </a:t>
            </a:r>
            <a:r>
              <a:rPr b="0" lang="en-US" sz="27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orlds are polynomially equival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as, best known classical algorithm to recover x takes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80880" y="1905120"/>
                <a:ext cx="1265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3886200" y="1905120"/>
                <a:ext cx="5059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676520" y="1663560"/>
                <a:ext cx="198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76920" y="2681280"/>
                <a:ext cx="1382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3124080" y="5867280"/>
                <a:ext cx="243684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p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46" name="Straight Arrow Connector 10"/>
          <p:cNvCxnSpPr/>
          <p:nvPr/>
        </p:nvCxnSpPr>
        <p:spPr>
          <a:xfrm flipV="1">
            <a:off x="1600200" y="2208960"/>
            <a:ext cx="2286720" cy="25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7" name="TextBox 13"/>
          <p:cNvSpPr/>
          <p:nvPr/>
        </p:nvSpPr>
        <p:spPr>
          <a:xfrm>
            <a:off x="6172200" y="5943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[BL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Intuition: We Win Either W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80880" y="1219320"/>
            <a:ext cx="84582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(1) BL is easy to in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an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 are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s exist in one world iff they exist i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(2) BL is hard to in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sel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WF, in both the Boolean an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808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fficulti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f BL is only slightly hard?  Or easy to invert on some input lengths but no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7"/>
          <p:cNvSpPr/>
          <p:nvPr/>
        </p:nvSpPr>
        <p:spPr>
          <a:xfrm>
            <a:off x="38088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in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1438200" y="1143000"/>
                <a:ext cx="64692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Box 6"/>
          <p:cNvSpPr/>
          <p:nvPr/>
        </p:nvSpPr>
        <p:spPr>
          <a:xfrm>
            <a:off x="380880" y="2286000"/>
            <a:ext cx="8305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(y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egree-q, nonzero polynomial i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it has at most q=(p-1)/2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380880" y="3505320"/>
            <a:ext cx="83059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Impl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ormation-theoretic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 x with high probability ove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vided k&gt;&gt;log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Easy Direction: B/B OWF </a:t>
            </a:r>
            <a:r>
              <a:rPr b="1" lang="en-US" sz="4000" spc="-1" strike="noStrike">
                <a:solidFill>
                  <a:srgbClr val="2d2d8a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 A/B OW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09480" y="1447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f be a Boolean OWF.  Then as our arithmetic OWF, we can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057400" y="2286000"/>
                <a:ext cx="5400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Rectangle 6"/>
          <p:cNvSpPr/>
          <p:nvPr/>
        </p:nvSpPr>
        <p:spPr>
          <a:xfrm>
            <a:off x="609480" y="3048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, any inverter for F yields an inverter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1276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ther Direction: A/A OWF </a:t>
            </a:r>
            <a:r>
              <a:rPr b="1" lang="en-US" sz="4000" spc="-1" strike="noStrike">
                <a:solidFill>
                  <a:srgbClr val="2d2d8a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 A/B OW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380880" y="114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g be an OWF secure against arithmetic adversaries.  Here’s an OWF secure against Boolean advers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325440" y="2117880"/>
                <a:ext cx="84916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Rectangle 6"/>
          <p:cNvSpPr/>
          <p:nvPr/>
        </p:nvSpPr>
        <p:spPr>
          <a:xfrm>
            <a:off x="380880" y="2895480"/>
            <a:ext cx="83822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G’ be a good Boolean inverter for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’s a good arithmetic inverter for g(x): first generat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domly </a:t>
            </a:r>
            <a:r>
              <a:rPr b="0" lang="en-US" sz="2400" spc="-1" strike="noStrike">
                <a:solidFill>
                  <a:srgbClr val="e68900"/>
                </a:solidFill>
                <a:latin typeface="Calibri"/>
              </a:rPr>
              <a:t>(remembering their Boolean descrip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compute G(x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run G’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Key fac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G(y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=g(y) with high probability ove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vided k&gt;&gt;log(p).  In which case, G’ can only invert G by finding a preimage of 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2d8a"/>
                </a:solidFill>
                <a:latin typeface="Calibri"/>
              </a:rPr>
              <a:t>Argument for Pseudorandom Generators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8088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f be a B/B PRG.  As our A/B PRG, we can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1828800" y="1828800"/>
                <a:ext cx="5638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Rectangle 4"/>
          <p:cNvSpPr/>
          <p:nvPr/>
        </p:nvSpPr>
        <p:spPr>
          <a:xfrm>
            <a:off x="380880" y="3733920"/>
            <a:ext cx="85345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let g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n A/A PRG.  By a standard hybrid argument, we can “stretch” g to produce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) looks random.  Here’s our A/B PR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828800" y="5486400"/>
                <a:ext cx="5280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TextBox 8"/>
          <p:cNvSpPr/>
          <p:nvPr/>
        </p:nvSpPr>
        <p:spPr>
          <a:xfrm>
            <a:off x="380880" y="2590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Om(x) is th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omelett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Boolean string x: its conversion to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lements in a standar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04920" y="4572000"/>
            <a:ext cx="853416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arguments show that B/B or A/A pseudorandom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ply A/B pseudorandom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380880" y="609480"/>
            <a:ext cx="83059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Collapse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suming 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hard on avera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914400" y="2819520"/>
            <a:ext cx="388620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914400" y="3352680"/>
            <a:ext cx="3886200" cy="520560"/>
          </a:xfrm>
          <a:prstGeom prst="rect">
            <a:avLst/>
          </a:prstGeom>
          <a:solidFill>
            <a:srgbClr val="ff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ur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914400" y="3886200"/>
            <a:ext cx="388620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s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914400" y="4419720"/>
            <a:ext cx="3886200" cy="520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914400" y="4952880"/>
            <a:ext cx="3886200" cy="5205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ypt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914400" y="3352680"/>
            <a:ext cx="3886200" cy="16027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uristiminipess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5715000" y="2743200"/>
            <a:ext cx="3124080" cy="3367800"/>
          </a:xfrm>
          <a:prstGeom prst="rect">
            <a:avLst/>
          </a:prstGeom>
          <a:solidFill>
            <a:srgbClr val="fff1b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-on-average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 with planted (Boolean)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teresting notion of OWF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15"/>
          <p:cNvCxnSpPr/>
          <p:nvPr/>
        </p:nvCxnSpPr>
        <p:spPr>
          <a:xfrm flipV="1">
            <a:off x="7770960" y="1753920"/>
            <a:ext cx="3600" cy="99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7"/>
          <p:cNvSpPr/>
          <p:nvPr/>
        </p:nvSpPr>
        <p:spPr>
          <a:xfrm>
            <a:off x="457200" y="609480"/>
            <a:ext cx="8229600" cy="63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Major Challenge for Complexity Theor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lain why current techniques fail to show PERMAN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irst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tend algebrizatio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AW08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low-degree oracles queried by arithmetic circuits.  Construct A such that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#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econd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tural Proofs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RR9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rithmetic complexity.  Show that arithmetic circuit lower bounds based on rank, partial derivatives, etc. can’t possibly work, since they would distinguish random functions f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pseudorandom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What’s nee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seudorandom function families computable by arithmetic circuits over finite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Arithmetic Pseudorandom Func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80880" y="4572000"/>
            <a:ext cx="830592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Real Challenge of Arithmetic Natural Proof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nd a family of degree-d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by poly-size arithmetic circuit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stinguishable from random degree-d polynom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80880" y="982800"/>
            <a:ext cx="822960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results show that, if ordinary OWFs exist, then one can construct a family of functions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by poly-size arithmetic circuit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stinguishable from random function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ven by Boolean circu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80880" y="35812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RMANENT is a low-degree polynomial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plausible lower bound proof would use that f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Callout 9"/>
          <p:cNvSpPr/>
          <p:nvPr/>
        </p:nvSpPr>
        <p:spPr>
          <a:xfrm>
            <a:off x="4191120" y="1143000"/>
            <a:ext cx="4038480" cy="1905120"/>
          </a:xfrm>
          <a:prstGeom prst="wedgeEllipseCallout">
            <a:avLst>
              <a:gd name="adj1" fmla="val 65435"/>
              <a:gd name="adj2" fmla="val 778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4800600" y="160020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 s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d2d8a"/>
                </a:solidFill>
                <a:latin typeface="Calibri"/>
              </a:rPr>
              <a:t>Pseudorandom Low-Degree Polynomials: How to Construct Them?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57200" y="548640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constructions based on lattices/LW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457200" y="167652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ic construction of PRF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Goldreich-Goldwasser-Mical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457200" y="281952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ber-theoretic PRF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Naor-Reingol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457200" y="3962520"/>
            <a:ext cx="4648320" cy="1281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rdness of learning small-depth arithmetic circuits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Klivans-Sherstov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5105520" y="167652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blows up deg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105520" y="548640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105520" y="281952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uses bit operations to paralleli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5105520" y="39625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requires specific input distribution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Why Arithmetize Russell’s Worl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28600" y="1295280"/>
            <a:ext cx="6781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Funhouse mirrors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752480" cy="1181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28600" y="205740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manent vs. Determinant,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“Warmups” to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2d2d8a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f our motivation came from Mulmuley’s GCT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28600" y="3276720"/>
            <a:ext cx="8686800" cy="3370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ho cares about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crypt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arithmetic mod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t happens, much of current cryp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ed on arithmetic over finit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hallenge: Arithmetic Natural Proof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Explain why it’s so hard to prove circuit lower bounds for the 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fting” to larger fields gives new insights about worst-case / average-case equ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d2d8a"/>
                </a:solidFill>
                <a:latin typeface="Calibri"/>
              </a:rPr>
              <a:t>Candidate for Low-Degree Arithmetic PRF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80880" y="3886200"/>
            <a:ext cx="8382240" cy="180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oracle access to p, no polynomial-size arithmetic circuit over the finite fiel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distinguish g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uniformly random, homogeneous polynomial of degree d, with non-negligible 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28600" y="1143000"/>
                <a:ext cx="87282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TextBox 4"/>
          <p:cNvSpPr/>
          <p:nvPr/>
        </p:nvSpPr>
        <p:spPr>
          <a:xfrm>
            <a:off x="304920" y="31240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re independent, random line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380880" y="59500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it’s easy to distinguish g from a random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33520" y="1371600"/>
            <a:ext cx="815328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an give sensible definitions of Heuristica, Pessiland, and Minicrypt over a finite fiel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se worlds perfectly mirror their Boolean counterparts—even if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utation is weaker than Bool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 Natural Proofs are no less fearsome in </a:t>
            </a:r>
            <a:r>
              <a:rPr b="0" lang="en-US" sz="2400" spc="-1" strike="noStrike">
                <a:solidFill>
                  <a:srgbClr val="0099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-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uristica=Pessiland=Min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th of these results explain why the other doesn’t generalize to all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295280" y="3429000"/>
            <a:ext cx="6858000" cy="180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is perspective, the distinction betwee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rd on average, and existence of OWFs (if indeed there is one) seems like an “artifact of small field siz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57200" y="1447920"/>
            <a:ext cx="83059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 pseudorandom low-degree polynomials p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deally based on a known assump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vincing Natural Proofs story for why PERMANE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alibri"/>
              </a:rPr>
              <a:t>AlgP/po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F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ness theory for large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ryptomani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KC, CRHFs, IBE, homomorphic encryption (?!), etc. in the arithmetic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circuits based on non-classical physic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proposed b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van Da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Handwaving Idea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1066680" y="8666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SA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533520" y="1143000"/>
            <a:ext cx="8001000" cy="58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ne would expect: Schwartz-Zipp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t C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of size s.  Then {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C(x)=0} belongs to the Boolean closure of 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gebraic varieties of degree 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anonical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-Complete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we take to encode a (pure) arithmetic circui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does there exist a Boolean input 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-1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(Get rid of equality tests using encoding tr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A that solves this problem for most x, and correct it to one that works for all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n the Menu Tod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28600" y="1600200"/>
            <a:ext cx="5029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Equivalence of Complexity Questions In The Boolean and Small Finite Field 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Over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ite Fields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“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WFs Exist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euristica=Pessiland=Minicry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Natural Proofs for Arithmetic Circuits: A Challenge and Concrete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 rot="420600">
            <a:off x="5629320" y="1841040"/>
            <a:ext cx="29257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d2d8a"/>
                </a:solidFill>
                <a:latin typeface="Calibri"/>
              </a:rPr>
              <a:t>Arithmetic Computation Over A Finite Field </a:t>
            </a:r>
            <a:r>
              <a:rPr b="1" lang="en-US" sz="3500" spc="-1" strike="noStrike">
                <a:solidFill>
                  <a:srgbClr val="2d2d8a"/>
                </a:solidFill>
                <a:latin typeface="Academy Engraved LET"/>
              </a:rPr>
              <a:t>F</a:t>
            </a:r>
            <a:endParaRPr b="1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4920" y="44956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Not allow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rectly access bit representations of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04920" y="5715000"/>
            <a:ext cx="8305560" cy="88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Deep reason” for finitenes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cryptography, it’s nice to have a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990720"/>
            <a:ext cx="84582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llowed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, subtract, multiply, or divide any two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nd recognize the 0 and 1 elements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quality testing, branching, Boolean side-compu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ple a random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 (in randomized mod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rdwire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 (in nonuniform mod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51274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is talk, |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will be finite, prime, possibly dependent on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2d8a"/>
                </a:solidFill>
                <a:latin typeface="Calibri"/>
              </a:rPr>
              <a:t>Three Regimes of Arithmetic Complexity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52280" y="2286000"/>
            <a:ext cx="2590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≤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ivially the same as Boolean compu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19520" y="2286000"/>
            <a:ext cx="32763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 stronger than Boolean computation.  Maybe weaker, since can’t see bit representations of input 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elements.  Same as Boolean computatio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input is conveniently Boole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172200" y="2286000"/>
            <a:ext cx="28195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&gt;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mparable with Boolean computation (a </a:t>
            </a:r>
            <a:r>
              <a:rPr b="1" lang="en-US" sz="25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achine can’t even store 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elements).  Algebraic geometry becomes relevant, since polynomials have degree &lt;&lt;|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H="1">
            <a:off x="1599840" y="1676160"/>
            <a:ext cx="2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5" name="Straight Arrow Connector 12"/>
          <p:cNvCxnSpPr/>
          <p:nvPr/>
        </p:nvCxnSpPr>
        <p:spPr>
          <a:xfrm flipH="1">
            <a:off x="4494960" y="1676160"/>
            <a:ext cx="25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6" name="Straight Arrow Connector 13"/>
          <p:cNvCxnSpPr/>
          <p:nvPr/>
        </p:nvCxnSpPr>
        <p:spPr>
          <a:xfrm flipH="1">
            <a:off x="7619760" y="1676160"/>
            <a:ext cx="2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Related Mode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1295280"/>
            <a:ext cx="8305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lum-Shub-Sma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iform, defined for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eld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G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quality tests allowed; version over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ows compa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lgebraic computation tree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sically, nonuniform version of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[BS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rithmetic circuits, straight-line programs, Valiant’s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VP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VNP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 divisions or equality tests allo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057400" y="5029200"/>
            <a:ext cx="5029200" cy="885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results for |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ll extend to the straight-lin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304920" y="1066680"/>
            <a:ext cx="8686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lass of langu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4419720" y="990720"/>
                <a:ext cx="1676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⊆</m:t>
                    </m:r>
                    <m:limLow>
                      <m:e>
                        <m:r>
                          <m:t xml:space="preserve">∪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lim>
                    </m:limLow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7391520" y="2209680"/>
                <a:ext cx="1307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Box 13"/>
          <p:cNvSpPr/>
          <p:nvPr/>
        </p:nvSpPr>
        <p:spPr>
          <a:xfrm>
            <a:off x="304920" y="38088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1447920" y="380880"/>
                <a:ext cx="1874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Box 15"/>
          <p:cNvSpPr/>
          <p:nvPr/>
        </p:nvSpPr>
        <p:spPr>
          <a:xfrm>
            <a:off x="3657600" y="380880"/>
            <a:ext cx="4038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p(n)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list of prim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04920" y="1828800"/>
            <a:ext cx="8686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that for some polynomial size bound s and every n, there exists an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ircui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size s(n) such that for 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04920" y="3352680"/>
            <a:ext cx="86868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he same, except we substitu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,w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304920" y="4343400"/>
            <a:ext cx="8229600" cy="489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define uniform versions with more sw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304920" y="5029200"/>
            <a:ext cx="8610480" cy="1637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are the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nesses Boolean?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(n)≤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doesn’t 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(n)&gt;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lowing </a:t>
            </a:r>
            <a:r>
              <a:rPr b="0" lang="en-US" sz="24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witnesses would trivialize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sider, e.g., quadratic residuo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Arithmetic Cryptography When |</a:t>
            </a:r>
            <a:r>
              <a:rPr b="1" lang="en-US" sz="3400" spc="-1" strike="noStrike">
                <a:solidFill>
                  <a:srgbClr val="2d2d8a"/>
                </a:solidFill>
                <a:latin typeface="Academy Engraved LET"/>
              </a:rPr>
              <a:t>F</a:t>
            </a: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|≤2</a:t>
            </a:r>
            <a:r>
              <a:rPr b="1" lang="en-US" sz="3400" spc="-1" strike="noStrike" baseline="30000">
                <a:solidFill>
                  <a:srgbClr val="2d2d8a"/>
                </a:solidFill>
                <a:latin typeface="Calibri"/>
              </a:rPr>
              <a:t>poly(n)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28600" y="1981080"/>
            <a:ext cx="8763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/A (Arithmetic/Arithmetic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in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 for all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versaries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426708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/B (Arithmetic/Boolean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ame, except now the adversary is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i.e. has Boolean access to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2057400" y="3505320"/>
                <a:ext cx="5334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Rectangle 6"/>
          <p:cNvSpPr/>
          <p:nvPr/>
        </p:nvSpPr>
        <p:spPr>
          <a:xfrm>
            <a:off x="1066680" y="5486400"/>
            <a:ext cx="7086600" cy="885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/B, A/A, and A/B pseudorandom generators and pseudorandom functions can be defined simila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3352680" y="2438280"/>
                <a:ext cx="2359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TextBox 9"/>
          <p:cNvSpPr/>
          <p:nvPr/>
        </p:nvSpPr>
        <p:spPr>
          <a:xfrm>
            <a:off x="22860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/B (Boolean/Boolean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dinary one-way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7"/>
          <p:cNvSpPr/>
          <p:nvPr/>
        </p:nvSpPr>
        <p:spPr>
          <a:xfrm>
            <a:off x="533520" y="457200"/>
            <a:ext cx="815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Calibri"/>
              </a:rPr>
              <a:t>Equivalence Theorem: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Assuming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4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838080" y="3352680"/>
            <a:ext cx="175284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838080" y="1600200"/>
            <a:ext cx="175284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38080" y="5105520"/>
            <a:ext cx="1752840" cy="947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9880" y="335268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809880" y="160020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809880" y="510552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6781680" y="335268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781680" y="160020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781680" y="510552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6"/>
          <p:cNvCxnSpPr/>
          <p:nvPr/>
        </p:nvCxnSpPr>
        <p:spPr>
          <a:xfrm flipH="1" flipV="1">
            <a:off x="2590560" y="19803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8" name="Straight Arrow Connector 17"/>
          <p:cNvCxnSpPr/>
          <p:nvPr/>
        </p:nvCxnSpPr>
        <p:spPr>
          <a:xfrm flipV="1">
            <a:off x="2590920" y="17517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9" name="TextBox 20"/>
          <p:cNvSpPr/>
          <p:nvPr/>
        </p:nvSpPr>
        <p:spPr>
          <a:xfrm>
            <a:off x="2590920" y="1981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1"/>
          <p:cNvCxnSpPr/>
          <p:nvPr/>
        </p:nvCxnSpPr>
        <p:spPr>
          <a:xfrm flipH="1" flipV="1">
            <a:off x="5562360" y="19803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1" name="TextBox 22"/>
          <p:cNvSpPr/>
          <p:nvPr/>
        </p:nvSpPr>
        <p:spPr>
          <a:xfrm>
            <a:off x="5562720" y="1981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25909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[HIL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25"/>
          <p:cNvCxnSpPr/>
          <p:nvPr/>
        </p:nvCxnSpPr>
        <p:spPr>
          <a:xfrm flipV="1">
            <a:off x="5562720" y="17517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4" name="TextBox 26"/>
          <p:cNvSpPr/>
          <p:nvPr/>
        </p:nvSpPr>
        <p:spPr>
          <a:xfrm>
            <a:off x="55627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[GG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27"/>
          <p:cNvCxnSpPr/>
          <p:nvPr/>
        </p:nvCxnSpPr>
        <p:spPr>
          <a:xfrm flipV="1">
            <a:off x="12942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6" name="TextBox 29"/>
          <p:cNvSpPr/>
          <p:nvPr/>
        </p:nvSpPr>
        <p:spPr>
          <a:xfrm rot="16200000">
            <a:off x="4658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30"/>
          <p:cNvCxnSpPr/>
          <p:nvPr/>
        </p:nvCxnSpPr>
        <p:spPr>
          <a:xfrm flipV="1">
            <a:off x="42660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8" name="TextBox 31"/>
          <p:cNvSpPr/>
          <p:nvPr/>
        </p:nvSpPr>
        <p:spPr>
          <a:xfrm rot="16200000">
            <a:off x="34376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32"/>
          <p:cNvCxnSpPr/>
          <p:nvPr/>
        </p:nvCxnSpPr>
        <p:spPr>
          <a:xfrm flipV="1">
            <a:off x="72378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0" name="TextBox 33"/>
          <p:cNvSpPr/>
          <p:nvPr/>
        </p:nvSpPr>
        <p:spPr>
          <a:xfrm rot="16200000">
            <a:off x="64094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34"/>
          <p:cNvCxnSpPr/>
          <p:nvPr/>
        </p:nvCxnSpPr>
        <p:spPr>
          <a:xfrm flipH="1">
            <a:off x="22089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2" name="TextBox 35"/>
          <p:cNvSpPr/>
          <p:nvPr/>
        </p:nvSpPr>
        <p:spPr>
          <a:xfrm rot="5400000">
            <a:off x="18388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37"/>
          <p:cNvCxnSpPr/>
          <p:nvPr/>
        </p:nvCxnSpPr>
        <p:spPr>
          <a:xfrm flipH="1">
            <a:off x="51807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4" name="TextBox 38"/>
          <p:cNvSpPr/>
          <p:nvPr/>
        </p:nvSpPr>
        <p:spPr>
          <a:xfrm rot="5400000">
            <a:off x="48106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39"/>
          <p:cNvCxnSpPr/>
          <p:nvPr/>
        </p:nvCxnSpPr>
        <p:spPr>
          <a:xfrm flipH="1">
            <a:off x="81525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6" name="TextBox 40"/>
          <p:cNvSpPr/>
          <p:nvPr/>
        </p:nvSpPr>
        <p:spPr>
          <a:xfrm rot="5400000">
            <a:off x="77824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41"/>
          <p:cNvCxnSpPr/>
          <p:nvPr/>
        </p:nvCxnSpPr>
        <p:spPr>
          <a:xfrm flipH="1">
            <a:off x="22089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8" name="TextBox 42"/>
          <p:cNvSpPr/>
          <p:nvPr/>
        </p:nvSpPr>
        <p:spPr>
          <a:xfrm rot="5400000">
            <a:off x="17629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43"/>
          <p:cNvCxnSpPr/>
          <p:nvPr/>
        </p:nvCxnSpPr>
        <p:spPr>
          <a:xfrm flipH="1">
            <a:off x="51807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0" name="Straight Arrow Connector 45"/>
          <p:cNvCxnSpPr/>
          <p:nvPr/>
        </p:nvCxnSpPr>
        <p:spPr>
          <a:xfrm flipH="1">
            <a:off x="81525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1" name="Straight Arrow Connector 47"/>
          <p:cNvCxnSpPr/>
          <p:nvPr/>
        </p:nvCxnSpPr>
        <p:spPr>
          <a:xfrm flipV="1">
            <a:off x="12942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2" name="TextBox 48"/>
          <p:cNvSpPr/>
          <p:nvPr/>
        </p:nvSpPr>
        <p:spPr>
          <a:xfrm rot="16200000">
            <a:off x="3898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49"/>
          <p:cNvCxnSpPr/>
          <p:nvPr/>
        </p:nvCxnSpPr>
        <p:spPr>
          <a:xfrm flipV="1">
            <a:off x="42660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4" name="Straight Arrow Connector 51"/>
          <p:cNvCxnSpPr/>
          <p:nvPr/>
        </p:nvCxnSpPr>
        <p:spPr>
          <a:xfrm flipV="1">
            <a:off x="72378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5" name="TextBox 53"/>
          <p:cNvSpPr/>
          <p:nvPr/>
        </p:nvSpPr>
        <p:spPr>
          <a:xfrm rot="5400000">
            <a:off x="47347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4"/>
          <p:cNvSpPr/>
          <p:nvPr/>
        </p:nvSpPr>
        <p:spPr>
          <a:xfrm rot="5400000">
            <a:off x="77065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5"/>
          <p:cNvSpPr/>
          <p:nvPr/>
        </p:nvSpPr>
        <p:spPr>
          <a:xfrm rot="16200000">
            <a:off x="33616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6"/>
          <p:cNvSpPr/>
          <p:nvPr/>
        </p:nvSpPr>
        <p:spPr>
          <a:xfrm rot="16200000">
            <a:off x="63334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9-06-05T13:24:13Z</dcterms:modified>
  <cp:revision>218</cp:revision>
  <dc:subject/>
  <dc:title>Slide 1</dc:title>
</cp:coreProperties>
</file>