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6.jpeg" ContentType="image/jpeg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39D0-27CB-4421-B504-C945B18C7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0E76-0202-4662-80F7-0941864D4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EF88-4D8C-4330-817C-4ED30C94F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7F4F-4140-48CB-81E7-96F2337B8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0666-4707-419B-9DC3-1FD25CDE6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5260-6C38-43DA-93A4-6F8FD7D96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7BB9-B7D9-48D6-8CAF-07950CB2C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9D59-AB7E-4459-AF2E-7D16E1EB7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1A0E-D4B6-4092-B87C-F38D957C2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87F3-56AA-4E40-A281-BE9A004A0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0917-CE6D-461D-A2CE-F30268CC3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83B4-1CC1-485E-9164-C3F1CDEE3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F62B-C31B-465E-AF46-2B541F589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007F-1592-4362-AE67-016AE0FB3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0A53-A585-4FC8-B6A4-60FF4505FFF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B752-4BD2-4336-9D56-6763642BD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C53C-A627-4CC2-846D-EF8645E86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472-8B3E-4780-A787-8CF2E55B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674-5B8D-4E11-B028-545993E8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686-F8B8-4E41-8AF5-901AF846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2AE-3F49-4C06-BFE1-CAD34E35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B88-2F50-43DA-B816-304E1727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A81-4DDB-4DDF-ABEC-21E45E52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2B6-3321-44B7-B106-0E5AA71F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502-2646-4FC1-B77A-53713E5E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E80-D59B-4501-8055-5AD952E9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385-23EB-490A-B45E-D650D32A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80F-17D5-4947-8952-5038769E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7BB-C70C-4E37-825E-C5A973A4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5DB8-F715-4A8D-BA84-95ED03CD1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How Much Information Is In Entangled Quantum States?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429000" y="175248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6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C:\Users\od user\AppData\Local\Microsoft\Windows\Temporary Internet Files\Content.IE5\N7YD4WXK\MCj04412790000[1].png"/>
          <p:cNvPicPr/>
          <p:nvPr/>
        </p:nvPicPr>
        <p:blipFill>
          <a:blip r:embed="rId1"/>
          <a:stretch/>
        </p:blipFill>
        <p:spPr>
          <a:xfrm rot="19738200">
            <a:off x="1830240" y="1798200"/>
            <a:ext cx="38228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How does the theorem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00"/>
          <p:cNvSpPr/>
          <p:nvPr/>
        </p:nvSpPr>
        <p:spPr>
          <a:xfrm>
            <a:off x="228600" y="3200400"/>
            <a:ext cx="87631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the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beginning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maximally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on which his current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loud Callout 5"/>
          <p:cNvSpPr/>
          <p:nvPr/>
        </p:nvSpPr>
        <p:spPr>
          <a:xfrm>
            <a:off x="5410080" y="114300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1676160" cy="1654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601992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1562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99"/>
          <p:cNvSpPr/>
          <p:nvPr/>
        </p:nvSpPr>
        <p:spPr>
          <a:xfrm>
            <a:off x="380880" y="1371600"/>
            <a:ext cx="845820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Just two tiny problems with this compression theorem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uting the classical “compressed representation” of quantum state seems astronomically h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the compressed representation, computing the probability some measurement on the state accepts also seems astronomically h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“Quantum Occam’s Razor Theorem”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[A. 2006]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t least addresses the first problem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xplosion 2 7"/>
          <p:cNvSpPr/>
          <p:nvPr/>
        </p:nvSpPr>
        <p:spPr>
          <a:xfrm rot="698400">
            <a:off x="6189480" y="3946320"/>
            <a:ext cx="2232000" cy="1150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99"/>
          <p:cNvSpPr/>
          <p:nvPr/>
        </p:nvSpPr>
        <p:spPr>
          <a:xfrm>
            <a:off x="304920" y="2209680"/>
            <a:ext cx="861048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 an unknown entangled state of n partic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you just want to be able to estimate the acceptance probabilities of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o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easurements E drawn from some probability distribution 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it suffices to do the following, for some m=O(n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m measurements independently from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 into your lab and estimate acceptance probabilities of all of them on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“hypothesis state” approximately consistent with all measurement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28"/>
          <p:cNvSpPr/>
          <p:nvPr/>
        </p:nvSpPr>
        <p:spPr>
          <a:xfrm>
            <a:off x="1523880" y="457200"/>
            <a:ext cx="6019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Calibri"/>
              </a:rPr>
              <a:t>Quantum Occam’s Razor Theor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2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30" descr="razor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380880"/>
            <a:ext cx="1463760" cy="1344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2"/>
          <p:cNvSpPr/>
          <p:nvPr/>
        </p:nvSpPr>
        <p:spPr>
          <a:xfrm>
            <a:off x="2133720" y="3352680"/>
            <a:ext cx="5029200" cy="13129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Quantum states are PAC-learnabl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9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0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04920" y="304920"/>
            <a:ext cx="85341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Numerical Simulation</a:t>
            </a:r>
            <a:br>
              <a:rPr sz="42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[A.-Dechter 20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04920" y="1676520"/>
            <a:ext cx="853416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implemented this “pretty-good quantum state tomography” method in MATLAB, using a fast convex programming method developed specifically for this application 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[Hazan 2008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then tested it on simulated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studied how the number of sample measurements m needed for accurate predictions scales with the number of qubits n, for n≤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Result of experimen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y theorem appears to be tr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n"/>
          <p:cNvPicPr/>
          <p:nvPr/>
        </p:nvPicPr>
        <p:blipFill>
          <a:blip r:embed="rId1"/>
          <a:stretch/>
        </p:blipFill>
        <p:spPr>
          <a:xfrm>
            <a:off x="314280" y="561960"/>
            <a:ext cx="85154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28600" y="152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ombining My Postselection and Quantum Learning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304920" y="1676520"/>
            <a:ext cx="853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[A.-Drucker 2010]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 an n-qubit state and let T be a complexity bound.  Then there exists a local Hamiltonian H on poly(n,T) qubits, such that any 2-outcome measurement on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erformable by a circuit of size T can be simulated in poly(n,T) time by a suitable measurement M’ on the unique ground state of 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304920" y="44956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lication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rusted quantum advice is equivalent to trusted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classic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dvice +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untruste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quantum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04920" y="990720"/>
            <a:ext cx="853416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many natural scenarios, the “exponentiality” of quantum states is an illu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at is, there’s a short (though possibly cryptic) classical string that specifies how the quantum state behaves, on any measurement you could actually perfo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lication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etty-good quantum state tomography, characterization of quantum computers with “magic initial states”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iggest open probl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ind special classes of quantum states that can be learned in 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computation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fficient w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[Aaronson-Gottesman, in preparation]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ability of stabiliz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53352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The Probl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80880" y="160020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quantum mechanics, a state of n entangled particles requires at least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to spec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2438280" y="2971800"/>
                <a:ext cx="43419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" name="Text Box 3"/>
          <p:cNvSpPr/>
          <p:nvPr/>
        </p:nvSpPr>
        <p:spPr>
          <a:xfrm>
            <a:off x="38088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a computer scientist, this is probabl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h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central fact about quantum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y should we worry abou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7238520" y="304560"/>
            <a:ext cx="909720" cy="1142640"/>
            <a:chOff x="7238520" y="304560"/>
            <a:chExt cx="909720" cy="1142640"/>
          </a:xfrm>
        </p:grpSpPr>
        <p:sp>
          <p:nvSpPr>
            <p:cNvPr id="58" name="Line 5"/>
            <p:cNvSpPr/>
            <p:nvPr/>
          </p:nvSpPr>
          <p:spPr>
            <a:xfrm flipH="1" flipV="1">
              <a:off x="7473240" y="32940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7238520" y="32976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AutoShape 7"/>
            <p:cNvSpPr/>
            <p:nvPr/>
          </p:nvSpPr>
          <p:spPr>
            <a:xfrm flipH="1" flipV="1" rot="16200000">
              <a:off x="7606440" y="82872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8"/>
            <p:cNvGrpSpPr/>
            <p:nvPr/>
          </p:nvGrpSpPr>
          <p:grpSpPr>
            <a:xfrm>
              <a:off x="7716240" y="583920"/>
              <a:ext cx="345240" cy="213480"/>
              <a:chOff x="7716240" y="583920"/>
              <a:chExt cx="345240" cy="213480"/>
            </a:xfrm>
          </p:grpSpPr>
          <p:sp>
            <p:nvSpPr>
              <p:cNvPr id="62" name="Freeform 9"/>
              <p:cNvSpPr/>
              <p:nvPr/>
            </p:nvSpPr>
            <p:spPr>
              <a:xfrm flipH="1">
                <a:off x="7715880" y="58392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0"/>
              <p:cNvSpPr/>
              <p:nvPr/>
            </p:nvSpPr>
            <p:spPr>
              <a:xfrm flipH="1">
                <a:off x="7742880" y="60768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1"/>
              <p:cNvSpPr/>
              <p:nvPr/>
            </p:nvSpPr>
            <p:spPr>
              <a:xfrm flipH="1">
                <a:off x="7821000" y="62100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2"/>
              <p:cNvSpPr/>
              <p:nvPr/>
            </p:nvSpPr>
            <p:spPr>
              <a:xfrm flipH="1">
                <a:off x="7857720" y="66240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13"/>
            <p:cNvGrpSpPr/>
            <p:nvPr/>
          </p:nvGrpSpPr>
          <p:grpSpPr>
            <a:xfrm>
              <a:off x="7292880" y="583920"/>
              <a:ext cx="345240" cy="213480"/>
              <a:chOff x="7292880" y="583920"/>
              <a:chExt cx="345240" cy="213480"/>
            </a:xfrm>
          </p:grpSpPr>
          <p:sp>
            <p:nvSpPr>
              <p:cNvPr id="67" name="Freeform 14"/>
              <p:cNvSpPr/>
              <p:nvPr/>
            </p:nvSpPr>
            <p:spPr>
              <a:xfrm flipH="1">
                <a:off x="7292520" y="58392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"/>
              <p:cNvSpPr/>
              <p:nvPr/>
            </p:nvSpPr>
            <p:spPr>
              <a:xfrm flipH="1">
                <a:off x="7319520" y="60768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6"/>
              <p:cNvSpPr/>
              <p:nvPr/>
            </p:nvSpPr>
            <p:spPr>
              <a:xfrm flipH="1">
                <a:off x="7397640" y="62100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7"/>
              <p:cNvSpPr/>
              <p:nvPr/>
            </p:nvSpPr>
            <p:spPr>
              <a:xfrm flipH="1">
                <a:off x="7434360" y="66240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Line 18"/>
            <p:cNvSpPr/>
            <p:nvPr/>
          </p:nvSpPr>
          <p:spPr>
            <a:xfrm flipH="1" flipV="1">
              <a:off x="7452000" y="30456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9"/>
          <p:cNvGrpSpPr/>
          <p:nvPr/>
        </p:nvGrpSpPr>
        <p:grpSpPr>
          <a:xfrm>
            <a:off x="990720" y="304560"/>
            <a:ext cx="955440" cy="1218600"/>
            <a:chOff x="990720" y="304560"/>
            <a:chExt cx="955440" cy="1218600"/>
          </a:xfrm>
        </p:grpSpPr>
        <p:sp>
          <p:nvSpPr>
            <p:cNvPr id="73" name="Line 20"/>
            <p:cNvSpPr/>
            <p:nvPr/>
          </p:nvSpPr>
          <p:spPr>
            <a:xfrm flipV="1">
              <a:off x="1202040" y="33120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990720" y="33156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AutoShape 22"/>
            <p:cNvSpPr/>
            <p:nvPr/>
          </p:nvSpPr>
          <p:spPr>
            <a:xfrm flipV="1" rot="5400000">
              <a:off x="1376640" y="87084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23"/>
            <p:cNvGrpSpPr/>
            <p:nvPr/>
          </p:nvGrpSpPr>
          <p:grpSpPr>
            <a:xfrm>
              <a:off x="1068840" y="492840"/>
              <a:ext cx="399240" cy="310320"/>
              <a:chOff x="1068840" y="492840"/>
              <a:chExt cx="399240" cy="310320"/>
            </a:xfrm>
          </p:grpSpPr>
          <p:sp>
            <p:nvSpPr>
              <p:cNvPr id="77" name="Freeform 24"/>
              <p:cNvSpPr/>
              <p:nvPr/>
            </p:nvSpPr>
            <p:spPr>
              <a:xfrm>
                <a:off x="1081440" y="57780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5"/>
              <p:cNvSpPr/>
              <p:nvPr/>
            </p:nvSpPr>
            <p:spPr>
              <a:xfrm>
                <a:off x="1109520" y="60264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26"/>
              <p:cNvSpPr/>
              <p:nvPr/>
            </p:nvSpPr>
            <p:spPr>
              <a:xfrm>
                <a:off x="1188000" y="61632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7"/>
              <p:cNvSpPr/>
              <p:nvPr/>
            </p:nvSpPr>
            <p:spPr>
              <a:xfrm>
                <a:off x="1274760" y="66096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28"/>
              <p:cNvSpPr/>
              <p:nvPr/>
            </p:nvSpPr>
            <p:spPr>
              <a:xfrm>
                <a:off x="1068840" y="56340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9"/>
              <p:cNvSpPr/>
              <p:nvPr/>
            </p:nvSpPr>
            <p:spPr>
              <a:xfrm>
                <a:off x="1127520" y="52596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0"/>
              <p:cNvSpPr/>
              <p:nvPr/>
            </p:nvSpPr>
            <p:spPr>
              <a:xfrm>
                <a:off x="1192320" y="50256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1"/>
              <p:cNvSpPr/>
              <p:nvPr/>
            </p:nvSpPr>
            <p:spPr>
              <a:xfrm>
                <a:off x="1414800" y="56880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32"/>
              <p:cNvSpPr/>
              <p:nvPr/>
            </p:nvSpPr>
            <p:spPr>
              <a:xfrm>
                <a:off x="1369800" y="52920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33"/>
              <p:cNvSpPr/>
              <p:nvPr/>
            </p:nvSpPr>
            <p:spPr>
              <a:xfrm>
                <a:off x="1317960" y="50436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34"/>
              <p:cNvSpPr/>
              <p:nvPr/>
            </p:nvSpPr>
            <p:spPr>
              <a:xfrm>
                <a:off x="1254960" y="49284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35"/>
            <p:cNvGrpSpPr/>
            <p:nvPr/>
          </p:nvGrpSpPr>
          <p:grpSpPr>
            <a:xfrm>
              <a:off x="1519920" y="492840"/>
              <a:ext cx="399240" cy="310320"/>
              <a:chOff x="1519920" y="492840"/>
              <a:chExt cx="399240" cy="310320"/>
            </a:xfrm>
          </p:grpSpPr>
          <p:sp>
            <p:nvSpPr>
              <p:cNvPr id="89" name="Freeform 36"/>
              <p:cNvSpPr/>
              <p:nvPr/>
            </p:nvSpPr>
            <p:spPr>
              <a:xfrm>
                <a:off x="1532520" y="57780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37"/>
              <p:cNvSpPr/>
              <p:nvPr/>
            </p:nvSpPr>
            <p:spPr>
              <a:xfrm>
                <a:off x="1560600" y="60264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38"/>
              <p:cNvSpPr/>
              <p:nvPr/>
            </p:nvSpPr>
            <p:spPr>
              <a:xfrm>
                <a:off x="1639080" y="61632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39"/>
              <p:cNvSpPr/>
              <p:nvPr/>
            </p:nvSpPr>
            <p:spPr>
              <a:xfrm>
                <a:off x="1725840" y="66096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0"/>
              <p:cNvSpPr/>
              <p:nvPr/>
            </p:nvSpPr>
            <p:spPr>
              <a:xfrm>
                <a:off x="1519920" y="56340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1"/>
              <p:cNvSpPr/>
              <p:nvPr/>
            </p:nvSpPr>
            <p:spPr>
              <a:xfrm>
                <a:off x="1578600" y="52596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42"/>
              <p:cNvSpPr/>
              <p:nvPr/>
            </p:nvSpPr>
            <p:spPr>
              <a:xfrm>
                <a:off x="1643400" y="50256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43"/>
              <p:cNvSpPr/>
              <p:nvPr/>
            </p:nvSpPr>
            <p:spPr>
              <a:xfrm>
                <a:off x="1865880" y="56880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44"/>
              <p:cNvSpPr/>
              <p:nvPr/>
            </p:nvSpPr>
            <p:spPr>
              <a:xfrm>
                <a:off x="1820880" y="52920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45"/>
              <p:cNvSpPr/>
              <p:nvPr/>
            </p:nvSpPr>
            <p:spPr>
              <a:xfrm>
                <a:off x="1769040" y="50436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46"/>
              <p:cNvSpPr/>
              <p:nvPr/>
            </p:nvSpPr>
            <p:spPr>
              <a:xfrm>
                <a:off x="1706040" y="49284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Line 47"/>
            <p:cNvSpPr/>
            <p:nvPr/>
          </p:nvSpPr>
          <p:spPr>
            <a:xfrm flipV="1">
              <a:off x="1467360" y="30456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Answer 1: 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0880" y="2590920"/>
            <a:ext cx="83822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lots of copies of an unknown quantum state, produce an approximate classical description of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entral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do tomography on an entangled state of n particles, you need ~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</a:t>
            </a:r>
            <a:br>
              <a:rPr sz="2600"/>
            </a:b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Innsbruck group: 8 particles / ~656,000 experiment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52280" y="3049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Answer 2: Quantum Computing Skep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57200" y="35053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physicists and computer scientists believe quantum computers will be impossible for a fundamental rea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8"/>
          <p:cNvSpPr/>
          <p:nvPr/>
        </p:nvSpPr>
        <p:spPr>
          <a:xfrm>
            <a:off x="457200" y="449568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many of them, the problem is that a quantum computer would “manipulate an exponential amount of information” using only polynomi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wolfram"/>
          <p:cNvPicPr/>
          <p:nvPr/>
        </p:nvPicPr>
        <p:blipFill>
          <a:blip r:embed="rId1"/>
          <a:stretch/>
        </p:blipFill>
        <p:spPr>
          <a:xfrm>
            <a:off x="7086600" y="1219320"/>
            <a:ext cx="1198440" cy="16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levin"/>
          <p:cNvPicPr/>
          <p:nvPr/>
        </p:nvPicPr>
        <p:blipFill>
          <a:blip r:embed="rId2"/>
          <a:stretch/>
        </p:blipFill>
        <p:spPr>
          <a:xfrm>
            <a:off x="762120" y="1219320"/>
            <a:ext cx="114444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1" descr=""/>
          <p:cNvPicPr/>
          <p:nvPr/>
        </p:nvPicPr>
        <p:blipFill>
          <a:blip r:embed="rId3"/>
          <a:stretch/>
        </p:blipFill>
        <p:spPr>
          <a:xfrm>
            <a:off x="4038480" y="1219320"/>
            <a:ext cx="1225800" cy="1612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2" descr=""/>
          <p:cNvPicPr/>
          <p:nvPr/>
        </p:nvPicPr>
        <p:blipFill>
          <a:blip r:embed="rId4"/>
          <a:stretch/>
        </p:blipFill>
        <p:spPr>
          <a:xfrm>
            <a:off x="2362320" y="121932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3" descr=""/>
          <p:cNvPicPr/>
          <p:nvPr/>
        </p:nvPicPr>
        <p:blipFill>
          <a:blip r:embed="rId5"/>
          <a:stretch/>
        </p:blipFill>
        <p:spPr>
          <a:xfrm>
            <a:off x="5638680" y="1219320"/>
            <a:ext cx="1051200" cy="1600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762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096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862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o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55627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0102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lf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457200" y="5943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s i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 exponential amou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2860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Let’s tame the exponential b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00"/>
          <p:cNvSpPr/>
          <p:nvPr/>
        </p:nvSpPr>
        <p:spPr>
          <a:xfrm>
            <a:off x="762120" y="1143000"/>
            <a:ext cx="761976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: “Shrink quantum states down to reasonable size” by viewing them oper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00"/>
          <p:cNvSpPr/>
          <p:nvPr/>
        </p:nvSpPr>
        <p:spPr>
          <a:xfrm>
            <a:off x="228600" y="228600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nalogy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probability distribution over n-bit string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ls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ake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its to specify.  But that fact seems to be “more about the map than the territor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00"/>
          <p:cNvSpPr/>
          <p:nvPr/>
        </p:nvSpPr>
        <p:spPr>
          <a:xfrm>
            <a:off x="228600" y="365760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Holevo’s Theorem (1973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y sending an n-qubit quantum state, Alice can transmit no more than n classical bits to B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00"/>
          <p:cNvSpPr/>
          <p:nvPr/>
        </p:nvSpPr>
        <p:spPr>
          <a:xfrm>
            <a:off x="228600" y="47242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is talk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imitations on the information content of quantum states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 2004], [A. 2006], [A. Drucker 2010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00"/>
          <p:cNvSpPr/>
          <p:nvPr/>
        </p:nvSpPr>
        <p:spPr>
          <a:xfrm>
            <a:off x="990720" y="5334120"/>
            <a:ext cx="7315200" cy="10688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Lesso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“The linearity of QM helps tame the exponentiality of Q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28600" y="3049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First, where does the exponentiality of quantum states manifest itse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00"/>
          <p:cNvSpPr/>
          <p:nvPr/>
        </p:nvSpPr>
        <p:spPr>
          <a:xfrm>
            <a:off x="304920" y="1752480"/>
            <a:ext cx="86104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Quantum Proofs and Advic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t G be a finite (but exponentially-large) group G, and let H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 be an exponentially-large subgroup.  Then the following highly-entangled state (if you have it) can be used to decide whether a given element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 is in H or not, and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tatements of the form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2"/>
          <p:cNvGraphicFramePr/>
          <p:nvPr/>
        </p:nvGraphicFramePr>
        <p:xfrm>
          <a:off x="380880" y="3886200"/>
          <a:ext cx="469116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86200"/>
                    <a:ext cx="469116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700"/>
          <p:cNvSpPr/>
          <p:nvPr/>
        </p:nvSpPr>
        <p:spPr>
          <a:xfrm>
            <a:off x="5334120" y="4800600"/>
            <a:ext cx="3276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 trick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 the first qubit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2"/>
          <p:cNvGraphicFramePr/>
          <p:nvPr/>
        </p:nvGraphicFramePr>
        <p:xfrm>
          <a:off x="4876920" y="5638680"/>
          <a:ext cx="394308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5638680"/>
                    <a:ext cx="39430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700"/>
          <p:cNvSpPr/>
          <p:nvPr/>
        </p:nvSpPr>
        <p:spPr>
          <a:xfrm>
            <a:off x="685800" y="2362320"/>
            <a:ext cx="7620120" cy="39510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[A.-Kuperberg 2007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For the Group Non-Membership problem, the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igh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so be short classical proofs that are quickly verifiable by a 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at least “relative to a quantum oracle,” there are also cases where quantum proofs are provably exponentially more compact than classical p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standing challenge to show such a separation relative to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Absent-Minded Advisor Proble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457200" y="144792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give your graduate student a quantum state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~n qubits, such that by measuring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a suitable basis, the student can learn your answer to an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s-or-no question of size 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457200" y="42670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O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[Ambainis, Nayak, Ta-Shma, Vazirani 1999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ed, quantum communication is no better than classical for this problem as 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533520" y="457200"/>
            <a:ext cx="807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On the Bright Sid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914400" y="3809880"/>
            <a:ext cx="7162920" cy="27374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orem (A. 2004)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at case, it suffices for Alice to send Bob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n log n </a:t>
            </a:r>
            <a:r>
              <a:rPr b="1" lang="en-US" sz="4000" spc="-1" strike="noStrike">
                <a:solidFill>
                  <a:srgbClr val="008000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 log|S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cal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6" descr="C:\Users\od user\AppData\Local\Microsoft\Windows\Temporary Internet Files\Content.IE5\N7YD4WXK\MCj04382050000[1].wmf"/>
          <p:cNvPicPr/>
          <p:nvPr/>
        </p:nvPicPr>
        <p:blipFill>
          <a:blip r:embed="rId1"/>
          <a:stretch/>
        </p:blipFill>
        <p:spPr>
          <a:xfrm>
            <a:off x="7238880" y="152280"/>
            <a:ext cx="1295640" cy="12970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685800" y="16765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Alice wants to describe an n-qubit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ob … well enough that, for any 2-outcome measurement M in some finite set S, Bob can estimate the probability that M accepts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ubble2"/>
          <p:cNvPicPr/>
          <p:nvPr/>
        </p:nvPicPr>
        <p:blipFill>
          <a:blip r:embed="rId1"/>
          <a:srcRect l="9196" t="22074" r="25190" b="38068"/>
          <a:stretch/>
        </p:blipFill>
        <p:spPr>
          <a:xfrm>
            <a:off x="0" y="-90360"/>
            <a:ext cx="9148680" cy="6948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-762120" y="-838080"/>
            <a:ext cx="99061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0" lang="en-US" sz="40000" spc="-1" strike="noStrike">
                <a:solidFill>
                  <a:srgbClr val="ffffff"/>
                </a:solidFill>
                <a:latin typeface="Symbol"/>
                <a:ea typeface="Symbol"/>
              </a:rPr>
              <a:t>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1371600" y="54864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533520" y="53341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MEASUREMENTS PERFORMABLE USING ≤n</a:t>
            </a:r>
            <a:r>
              <a:rPr b="1" lang="en-US" sz="4000" spc="-1" strike="noStrike" baseline="30000">
                <a:solidFill>
                  <a:srgbClr val="ffd1d1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 QUANTUM G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1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2-03-01T14:25:34Z</dcterms:modified>
  <cp:revision>124</cp:revision>
  <dc:subject/>
  <dc:title>The Learnability of Quantum States</dc:title>
</cp:coreProperties>
</file>