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B74-E4C1-4376-B796-DC0A743C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D5C-D4BF-46CA-BFFB-BBE47BB7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1BB-526E-474D-BAC7-C1B109B6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040-1006-4CC2-9BC5-43855BD6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2D5-200F-438D-BC84-88A45F6C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C7F7-DC6C-4CD1-A504-BEB6E99A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C0C-B7D0-4DFC-B6C3-C158AA8E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6B3-9A49-4096-A3BB-6E4A19C9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4960-A952-4116-BF83-AB0EB6BB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9256-E31D-45E9-918F-CE5D00DF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4B6-4633-41A1-852B-3549F9AC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8ED-E617-40AA-B42A-0BFBBA58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5DEC-62AE-4622-AA6E-AC4573C9F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3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Algebrization: A New Barrier in Complexity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69200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vi Wigderson (I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8840" y="3933720"/>
            <a:ext cx="5156280" cy="489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4xyw-12yz+17xyzw-2x-2y-2z-2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573400">
            <a:off x="2424240" y="4559040"/>
            <a:ext cx="18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=P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4040" y="6431040"/>
            <a:ext cx="21114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/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638400">
            <a:off x="5005080" y="4610160"/>
            <a:ext cx="18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P=NEX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70320" y="5684760"/>
            <a:ext cx="184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IZE(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1319800">
            <a:off x="2413080" y="6154560"/>
            <a:ext cx="290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romiseMA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IZE(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42800">
            <a:off x="3925440" y="5805000"/>
            <a:ext cx="288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/poly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P=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92440" y="5019840"/>
            <a:ext cx="375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NEXP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/poly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NEXP=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0935800">
            <a:off x="1159200" y="3241440"/>
            <a:ext cx="233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P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/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983400">
            <a:off x="5911200" y="3281040"/>
            <a:ext cx="233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NP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IZE(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5513760" y="5594760"/>
            <a:ext cx="2894040" cy="489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-15xyz+43xy-5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866520" y="5611680"/>
            <a:ext cx="2871720" cy="489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13xw-44xz+x-7y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285320" y="1167840"/>
            <a:ext cx="1725840" cy="2060280"/>
            <a:chOff x="7285320" y="1167840"/>
            <a:chExt cx="1725840" cy="206028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 rot="502200">
              <a:off x="7387920" y="1604520"/>
              <a:ext cx="1520640" cy="15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502200">
              <a:off x="7605360" y="1367640"/>
              <a:ext cx="13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502200">
              <a:off x="7747200" y="1238760"/>
              <a:ext cx="1033200" cy="77148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49019"/>
                  </a:srgbClr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08000" y="1046160"/>
            <a:ext cx="1889640" cy="2222640"/>
            <a:chOff x="108000" y="1046160"/>
            <a:chExt cx="1889640" cy="2222640"/>
          </a:xfrm>
        </p:grpSpPr>
        <p:pic>
          <p:nvPicPr>
            <p:cNvPr id="60" name="" descr=""/>
            <p:cNvPicPr/>
            <p:nvPr/>
          </p:nvPicPr>
          <p:blipFill>
            <a:blip r:embed="rId5"/>
            <a:stretch/>
          </p:blipFill>
          <p:spPr>
            <a:xfrm rot="20611200">
              <a:off x="292320" y="1563840"/>
              <a:ext cx="1520640" cy="15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20611200">
              <a:off x="174960" y="1343160"/>
              <a:ext cx="134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=BP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20611200">
              <a:off x="196920" y="1201320"/>
              <a:ext cx="1208160" cy="77184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49019"/>
                  </a:srgbClr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24624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Why coNP</a:t>
            </a:r>
            <a:r>
              <a:rPr b="1" lang="en-US" sz="38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IP Algebriz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 flipH="1">
            <a:off x="7421040" y="1697040"/>
            <a:ext cx="1063800" cy="22766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47560" y="1798560"/>
            <a:ext cx="1482840" cy="20098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28680" y="4943520"/>
            <a:ext cx="847548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he only time Arthur ever has to evaluate the polynomial p directly is in the very last round—when he checks that p(r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,…,r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) equals what Merlin said it does, for some r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,…,r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chosen randomly in the previous r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3040" y="1098720"/>
            <a:ext cx="83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Recall the usual coNP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P proof of </a:t>
            </a:r>
            <a:r>
              <a:rPr b="0" lang="en-CA" sz="2600" spc="-1" strike="noStrike">
                <a:solidFill>
                  <a:srgbClr val="006600"/>
                </a:solidFill>
                <a:latin typeface="Arial"/>
              </a:rPr>
              <a:t>[LFKN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094200" y="1706400"/>
                <a:ext cx="33606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sub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 flipH="1">
            <a:off x="2243160" y="2644920"/>
            <a:ext cx="5170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63680" y="3219480"/>
            <a:ext cx="5170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59320" y="276552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lsh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208240" y="3621240"/>
            <a:ext cx="5200560" cy="1231920"/>
            <a:chOff x="2208240" y="3621240"/>
            <a:chExt cx="5200560" cy="1231920"/>
          </a:xfrm>
        </p:grpSpPr>
        <p:sp>
          <p:nvSpPr>
            <p:cNvPr id="251" name=""/>
            <p:cNvSpPr/>
            <p:nvPr/>
          </p:nvSpPr>
          <p:spPr>
            <a:xfrm flipH="1">
              <a:off x="2208240" y="3621240"/>
              <a:ext cx="517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28760" y="3868560"/>
              <a:ext cx="517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217240" y="4108320"/>
              <a:ext cx="517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38480" y="4356000"/>
              <a:ext cx="517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49680" y="4441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48240" y="4602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46440" y="4764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88880" y="239760"/>
            <a:ext cx="834408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as the polynomial p produc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starting from a Boolean circuit, then multiplying together terms that enforce “correct propagation” at each ga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609560" y="2282760"/>
            <a:ext cx="4268880" cy="489960"/>
            <a:chOff x="1609560" y="2282760"/>
            <a:chExt cx="4268880" cy="489960"/>
          </a:xfrm>
        </p:grpSpPr>
        <p:sp>
          <p:nvSpPr>
            <p:cNvPr id="260" name=""/>
            <p:cNvSpPr/>
            <p:nvPr/>
          </p:nvSpPr>
          <p:spPr>
            <a:xfrm>
              <a:off x="1609560" y="2282760"/>
              <a:ext cx="3460680" cy="489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xyg + (1-xy)(1-g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84640" y="2504880"/>
              <a:ext cx="793800" cy="2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187960" y="2236680"/>
            <a:ext cx="1945800" cy="1487520"/>
            <a:chOff x="5187960" y="2236680"/>
            <a:chExt cx="1945800" cy="1487520"/>
          </a:xfrm>
        </p:grpSpPr>
        <p:sp>
          <p:nvSpPr>
            <p:cNvPr id="263" name=""/>
            <p:cNvSpPr/>
            <p:nvPr/>
          </p:nvSpPr>
          <p:spPr>
            <a:xfrm>
              <a:off x="5895720" y="2236680"/>
              <a:ext cx="599760" cy="581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87960" y="32036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24280" y="31892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5493960" y="2825280"/>
              <a:ext cx="49032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6341760" y="2824200"/>
              <a:ext cx="490320" cy="52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95760" y="2412720"/>
              <a:ext cx="60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426960" y="3746520"/>
            <a:ext cx="8255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thur and Merlin then reinterpret p not as a Boolean function, but as a polynomial over some larger fiel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2800" y="4775040"/>
            <a:ext cx="8255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what if the circuit contained oracle gates?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w could Arthur evaluate p over the larger fiel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85920" y="2287440"/>
            <a:ext cx="3784680" cy="489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(x,y)g + (1-A(x,y))(1-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92840" y="2238480"/>
            <a:ext cx="600120" cy="581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040" y="5826240"/>
            <a:ext cx="8255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He’d almost need oracle access to a low-degree extens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of 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19040" y="2271600"/>
            <a:ext cx="3784680" cy="489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x,y)g + (1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x,y))(1-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49800" y="6200640"/>
            <a:ext cx="245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Hey, wait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33336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Other Results That Algebriz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8760" y="1488960"/>
            <a:ext cx="883116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SPACE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A[poly]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[Shami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X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[poly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I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[BF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po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[LFK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Ã[poly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o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X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[poly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[IKW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X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[exp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po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[BF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Z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[Vinodchandran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miseM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Z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[Santhana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WF secure against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Z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[GMW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95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Proving P</a:t>
            </a:r>
            <a:r>
              <a:rPr b="1" lang="en-US" sz="38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NP Will Require Non-Algebrizing Techniqu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8320" y="167328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here exists an oracle A, and an exten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, such that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9200" y="2779560"/>
            <a:ext cx="81518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Let A be a PSPACE-complete language, and l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Ã be the unique multilinear extension of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n Ã is also PSPACE-complet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[BFL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nce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69040" y="4562640"/>
            <a:ext cx="282600" cy="282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62000" y="5243400"/>
            <a:ext cx="6792840" cy="128196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y the same argument, P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P can’t even be proved with “double-algebrizing” or “triple-algebrizing” technique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530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Harder Example: Proving P=RP Will Require Non-Algebrizing Techniques</a:t>
            </a:r>
            <a:br>
              <a:rPr sz="38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hence P=NP as w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5440" y="1965240"/>
            <a:ext cx="837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re exist A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such that RP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4800" y="2668680"/>
            <a:ext cx="837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’s the difficulty here, compared to “standard” oracle separation theorem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8960" y="3701880"/>
            <a:ext cx="837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 is a low-degree polynomial,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e don’t have the freedom to toggle eac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(x)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280" y="4773600"/>
            <a:ext cx="8371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.e. the algorithm we’re fighting is no longer looking for a needle in a haystack—it can also look in the haystack’s low-degree extensio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1800" y="6162840"/>
            <a:ext cx="815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will defeat it anyw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497400" y="3129120"/>
            <a:ext cx="1911240" cy="2430360"/>
          </a:xfrm>
          <a:custGeom>
            <a:avLst/>
            <a:gdLst/>
            <a:ahLst/>
            <a:rect l="l" t="t" r="r" b="b"/>
            <a:pathLst>
              <a:path w="1204" h="1531">
                <a:moveTo>
                  <a:pt x="547" y="57"/>
                </a:moveTo>
                <a:cubicBezTo>
                  <a:pt x="515" y="67"/>
                  <a:pt x="471" y="82"/>
                  <a:pt x="442" y="98"/>
                </a:cubicBezTo>
                <a:cubicBezTo>
                  <a:pt x="400" y="122"/>
                  <a:pt x="359" y="130"/>
                  <a:pt x="312" y="138"/>
                </a:cubicBezTo>
                <a:cubicBezTo>
                  <a:pt x="229" y="166"/>
                  <a:pt x="176" y="173"/>
                  <a:pt x="85" y="179"/>
                </a:cubicBezTo>
                <a:cubicBezTo>
                  <a:pt x="45" y="192"/>
                  <a:pt x="29" y="182"/>
                  <a:pt x="4" y="219"/>
                </a:cubicBezTo>
                <a:cubicBezTo>
                  <a:pt x="9" y="302"/>
                  <a:pt x="0" y="364"/>
                  <a:pt x="44" y="430"/>
                </a:cubicBezTo>
                <a:cubicBezTo>
                  <a:pt x="57" y="470"/>
                  <a:pt x="83" y="469"/>
                  <a:pt x="69" y="511"/>
                </a:cubicBezTo>
                <a:cubicBezTo>
                  <a:pt x="85" y="562"/>
                  <a:pt x="103" y="627"/>
                  <a:pt x="142" y="666"/>
                </a:cubicBezTo>
                <a:cubicBezTo>
                  <a:pt x="147" y="791"/>
                  <a:pt x="144" y="891"/>
                  <a:pt x="182" y="1006"/>
                </a:cubicBezTo>
                <a:cubicBezTo>
                  <a:pt x="184" y="1011"/>
                  <a:pt x="212" y="1035"/>
                  <a:pt x="215" y="1039"/>
                </a:cubicBezTo>
                <a:cubicBezTo>
                  <a:pt x="238" y="1068"/>
                  <a:pt x="239" y="1089"/>
                  <a:pt x="271" y="1104"/>
                </a:cubicBezTo>
                <a:cubicBezTo>
                  <a:pt x="287" y="1111"/>
                  <a:pt x="320" y="1120"/>
                  <a:pt x="320" y="1120"/>
                </a:cubicBezTo>
                <a:cubicBezTo>
                  <a:pt x="320" y="1120"/>
                  <a:pt x="341" y="1125"/>
                  <a:pt x="352" y="1128"/>
                </a:cubicBezTo>
                <a:cubicBezTo>
                  <a:pt x="360" y="1130"/>
                  <a:pt x="369" y="1133"/>
                  <a:pt x="377" y="1136"/>
                </a:cubicBezTo>
                <a:cubicBezTo>
                  <a:pt x="441" y="1178"/>
                  <a:pt x="525" y="1170"/>
                  <a:pt x="580" y="1225"/>
                </a:cubicBezTo>
                <a:cubicBezTo>
                  <a:pt x="606" y="1251"/>
                  <a:pt x="624" y="1276"/>
                  <a:pt x="653" y="1298"/>
                </a:cubicBezTo>
                <a:cubicBezTo>
                  <a:pt x="669" y="1310"/>
                  <a:pt x="701" y="1331"/>
                  <a:pt x="701" y="1331"/>
                </a:cubicBezTo>
                <a:cubicBezTo>
                  <a:pt x="713" y="1366"/>
                  <a:pt x="722" y="1401"/>
                  <a:pt x="734" y="1436"/>
                </a:cubicBezTo>
                <a:cubicBezTo>
                  <a:pt x="734" y="1436"/>
                  <a:pt x="802" y="1459"/>
                  <a:pt x="807" y="1461"/>
                </a:cubicBezTo>
                <a:cubicBezTo>
                  <a:pt x="839" y="1483"/>
                  <a:pt x="850" y="1512"/>
                  <a:pt x="888" y="1526"/>
                </a:cubicBezTo>
                <a:cubicBezTo>
                  <a:pt x="947" y="1519"/>
                  <a:pt x="982" y="1531"/>
                  <a:pt x="1002" y="1477"/>
                </a:cubicBezTo>
                <a:cubicBezTo>
                  <a:pt x="986" y="1418"/>
                  <a:pt x="1016" y="1400"/>
                  <a:pt x="1034" y="1347"/>
                </a:cubicBezTo>
                <a:cubicBezTo>
                  <a:pt x="1031" y="1323"/>
                  <a:pt x="1032" y="1298"/>
                  <a:pt x="1026" y="1274"/>
                </a:cubicBezTo>
                <a:cubicBezTo>
                  <a:pt x="1018" y="1242"/>
                  <a:pt x="950" y="1193"/>
                  <a:pt x="928" y="1169"/>
                </a:cubicBezTo>
                <a:cubicBezTo>
                  <a:pt x="916" y="1156"/>
                  <a:pt x="903" y="1145"/>
                  <a:pt x="896" y="1128"/>
                </a:cubicBezTo>
                <a:cubicBezTo>
                  <a:pt x="889" y="1112"/>
                  <a:pt x="880" y="1079"/>
                  <a:pt x="880" y="1079"/>
                </a:cubicBezTo>
                <a:cubicBezTo>
                  <a:pt x="886" y="994"/>
                  <a:pt x="879" y="955"/>
                  <a:pt x="937" y="901"/>
                </a:cubicBezTo>
                <a:cubicBezTo>
                  <a:pt x="952" y="857"/>
                  <a:pt x="1005" y="829"/>
                  <a:pt x="1042" y="804"/>
                </a:cubicBezTo>
                <a:cubicBezTo>
                  <a:pt x="1050" y="799"/>
                  <a:pt x="1058" y="793"/>
                  <a:pt x="1066" y="787"/>
                </a:cubicBezTo>
                <a:cubicBezTo>
                  <a:pt x="1082" y="776"/>
                  <a:pt x="1099" y="739"/>
                  <a:pt x="1099" y="739"/>
                </a:cubicBezTo>
                <a:cubicBezTo>
                  <a:pt x="1116" y="685"/>
                  <a:pt x="1129" y="630"/>
                  <a:pt x="1148" y="576"/>
                </a:cubicBezTo>
                <a:cubicBezTo>
                  <a:pt x="1151" y="567"/>
                  <a:pt x="1160" y="561"/>
                  <a:pt x="1164" y="552"/>
                </a:cubicBezTo>
                <a:cubicBezTo>
                  <a:pt x="1171" y="536"/>
                  <a:pt x="1180" y="503"/>
                  <a:pt x="1180" y="503"/>
                </a:cubicBezTo>
                <a:cubicBezTo>
                  <a:pt x="1183" y="481"/>
                  <a:pt x="1183" y="459"/>
                  <a:pt x="1188" y="438"/>
                </a:cubicBezTo>
                <a:cubicBezTo>
                  <a:pt x="1192" y="422"/>
                  <a:pt x="1204" y="390"/>
                  <a:pt x="1204" y="390"/>
                </a:cubicBezTo>
                <a:cubicBezTo>
                  <a:pt x="1201" y="314"/>
                  <a:pt x="1201" y="239"/>
                  <a:pt x="1196" y="163"/>
                </a:cubicBezTo>
                <a:cubicBezTo>
                  <a:pt x="1194" y="130"/>
                  <a:pt x="1166" y="113"/>
                  <a:pt x="1148" y="90"/>
                </a:cubicBezTo>
                <a:cubicBezTo>
                  <a:pt x="1096" y="24"/>
                  <a:pt x="1108" y="15"/>
                  <a:pt x="1018" y="0"/>
                </a:cubicBezTo>
                <a:cubicBezTo>
                  <a:pt x="901" y="3"/>
                  <a:pt x="905" y="24"/>
                  <a:pt x="774" y="8"/>
                </a:cubicBezTo>
                <a:cubicBezTo>
                  <a:pt x="721" y="15"/>
                  <a:pt x="547" y="6"/>
                  <a:pt x="547" y="57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0360" y="333360"/>
            <a:ext cx="850248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Let F be a field, and let Y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be the set of points queried by the algorithm.  Then there exists a polynomial p:F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, of degree at most 2n,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i) p(y)=0 for all y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Y.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ii) p(z)=1 for at least 2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-|Y| Boolean points z.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iii) p(z)=0 for the remaining Boolean poi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529080" y="3254400"/>
            <a:ext cx="2014560" cy="3294000"/>
            <a:chOff x="3529080" y="3254400"/>
            <a:chExt cx="2014560" cy="3294000"/>
          </a:xfrm>
        </p:grpSpPr>
        <p:sp>
          <p:nvSpPr>
            <p:cNvPr id="292" name=""/>
            <p:cNvSpPr/>
            <p:nvPr/>
          </p:nvSpPr>
          <p:spPr>
            <a:xfrm>
              <a:off x="3592440" y="4701960"/>
              <a:ext cx="1611360" cy="161136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21040" y="3603600"/>
              <a:ext cx="14292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9960" y="3571920"/>
              <a:ext cx="3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29120" y="3286080"/>
              <a:ext cx="14292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18040" y="3254400"/>
              <a:ext cx="3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84760" y="3970080"/>
              <a:ext cx="14292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73680" y="3938400"/>
              <a:ext cx="3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24640" y="5035320"/>
              <a:ext cx="14256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13200" y="5003640"/>
              <a:ext cx="3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16360" y="6210000"/>
              <a:ext cx="14292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05280" y="6178320"/>
              <a:ext cx="3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06800" y="4703760"/>
              <a:ext cx="1197000" cy="12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582720" y="5900760"/>
              <a:ext cx="42372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54600" y="4633920"/>
              <a:ext cx="14292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43520" y="4601880"/>
              <a:ext cx="3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16680" y="5825880"/>
              <a:ext cx="14292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05600" y="5794200"/>
              <a:ext cx="3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14880" y="464796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03800" y="4616280"/>
              <a:ext cx="3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33760" y="503856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22680" y="5006880"/>
              <a:ext cx="3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44880" y="582120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33800" y="5789520"/>
              <a:ext cx="3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29080" y="621180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18000" y="6180120"/>
              <a:ext cx="3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5381640" y="3490920"/>
            <a:ext cx="5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415800" y="457200"/>
            <a:ext cx="839484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iven a Boolean point z, l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the unique multilinear polynomial that’s 1 at z and 0 at all other Boolean points.  Then we can express any multilinear polynomial r 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927520" y="2090880"/>
                <a:ext cx="27493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z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317520" y="2990880"/>
            <a:ext cx="8426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Requiring r(y)=0 for all y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Y yields |Y| linear equations in 2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unknowns.  Hence there exists a solution r such that r(z)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0 for at least 2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-|Y| Boolean points z.  We now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214720" y="4336920"/>
                <a:ext cx="418932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z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≠</m:t>
                        </m:r>
                        <m:r>
                          <m:t xml:space="preserve">0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7061040" y="4967280"/>
            <a:ext cx="282600" cy="28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9800" y="3990960"/>
            <a:ext cx="7913520" cy="207396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n the integers case, we can no longer use Gaussian elimination to construct r.  However, we (i.e. Avi) found a clever way around this problem using Chinese remaindering and Hensel lifting, provided every query y satisfies size(y)=O(poly(n)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57160" y="1163520"/>
            <a:ext cx="7120080" cy="128196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tandard diagonalization argument now yields the separation between P and RP we wanted—at least in the case of finite fiel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36972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ther Oracle Results We Can Prove By Building “Designer Polynomial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3080" y="1638360"/>
            <a:ext cx="756108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: NP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co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: NP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BP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Arial"/>
              </a:rPr>
              <a:t>(only for finite fields, not integ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: NEX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[exp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p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: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IZ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95720" y="2932200"/>
            <a:ext cx="3751560" cy="133668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y contrast, MA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P/poly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and Promise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IZE(n) algebriz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4049640" y="3586320"/>
            <a:ext cx="968400" cy="271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4449240" y="3422520"/>
            <a:ext cx="574920" cy="201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440" y="4749840"/>
            <a:ext cx="7862760" cy="128196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e seem to get a precise explanation for why progress on non-relativizing circuit lower bounds stopped where it d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2016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rom Algebraic Query Algorithms to Communication Protoc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47760" y="1582560"/>
            <a:ext cx="1498680" cy="17370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7047000" y="1428840"/>
            <a:ext cx="1181160" cy="18288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797200" y="1427040"/>
            <a:ext cx="1698480" cy="1434600"/>
          </a:xfrm>
          <a:prstGeom prst="rect">
            <a:avLst/>
          </a:prstGeom>
          <a:solidFill>
            <a:srgbClr val="e4e4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(000)=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(001)=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(010)=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(011)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05400" y="1425600"/>
            <a:ext cx="1698480" cy="1434600"/>
          </a:xfrm>
          <a:prstGeom prst="rect">
            <a:avLst/>
          </a:prstGeom>
          <a:solidFill>
            <a:srgbClr val="e4e4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(100)=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(101)=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(110)=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(111)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81120" y="3060720"/>
            <a:ext cx="39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th table of a Boolean func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6280" y="3524400"/>
            <a:ext cx="7945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lice and Bob’s Goal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Compute some property of the function A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{0,1}, using minimal commun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1360" y="5502240"/>
            <a:ext cx="79455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If a problem can be solved using T queries to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, then it can also be solved using O(Tnlog|F|) bits of communication between Alice and Bo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0680" y="4535640"/>
            <a:ext cx="7945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Ã: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be the unique multilinear extension of A over a finite field 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14680" y="2936880"/>
            <a:ext cx="57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29320" y="2933640"/>
            <a:ext cx="57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13691E-006 L -0.13263 2.13691E-006 E">
                                      <p:cBhvr>
                                        <p:cTn id="268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40426E-006 L 0.12726 3.40426E-006 E">
                                      <p:cBhvr>
                                        <p:cTn id="270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523800" y="4923000"/>
            <a:ext cx="1498680" cy="17366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6808680" y="4780080"/>
            <a:ext cx="1181160" cy="1828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492120" y="1616040"/>
            <a:ext cx="79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Given any point y</a:t>
            </a:r>
            <a:r>
              <a:rPr b="0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we can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1360" y="5502240"/>
            <a:ext cx="79455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If a problem can be solved using T queries to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, then it can also be solved using O(Tnlog|F|) bits of communication between Alice and Bo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2319480" y="2158920"/>
                <a:ext cx="491940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,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sub>
                          <m:sup/>
                          <m:e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,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  <m:sup/>
                          <m:e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,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  <m:sup/>
                          <m:e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=</m:t>
                        </m:r>
                        <m:r>
                          <m:t xml:space="preserve">: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541440" y="4098960"/>
            <a:ext cx="58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tocol is now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82880" y="5299200"/>
            <a:ext cx="4767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603520" y="4830840"/>
            <a:ext cx="361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O(nlog|F|)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013120" y="5799240"/>
            <a:ext cx="4767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76520" y="5351400"/>
            <a:ext cx="361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y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000" spc="-1" strike="noStrike">
                <a:solidFill>
                  <a:srgbClr val="660066"/>
                </a:solidFill>
                <a:latin typeface="Arial"/>
              </a:rPr>
              <a:t>(O(log|F|)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383000" y="6446880"/>
            <a:ext cx="92160" cy="410760"/>
            <a:chOff x="4383000" y="6446880"/>
            <a:chExt cx="92160" cy="410760"/>
          </a:xfrm>
        </p:grpSpPr>
        <p:sp>
          <p:nvSpPr>
            <p:cNvPr id="353" name=""/>
            <p:cNvSpPr/>
            <p:nvPr/>
          </p:nvSpPr>
          <p:spPr>
            <a:xfrm>
              <a:off x="4386240" y="644688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84440" y="660708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83000" y="676908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8271000" y="6427800"/>
            <a:ext cx="282600" cy="28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90800" y="6330960"/>
            <a:ext cx="4767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611440" y="5862600"/>
            <a:ext cx="361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O(nlog|F|)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522440" y="1327320"/>
            <a:ext cx="5950080" cy="128196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argument works just as well in the randomized world, the nondeterministic world, the quantum world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33520" y="3054240"/>
            <a:ext cx="5950080" cy="88596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so works with integer extensions (we didn’t have to use a finite fiel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30320" y="4535640"/>
            <a:ext cx="361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Ã(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+Ã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395E-006 L 0.00139 -0.7507 E">
                                      <p:cBhvr>
                                        <p:cTn id="293" dur="1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To Call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44085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lgebraic Relativ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lgevit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lgev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lgebraic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lgebra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lgebr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084640" y="1660680"/>
            <a:ext cx="3714840" cy="4524120"/>
            <a:chOff x="5084640" y="1660680"/>
            <a:chExt cx="3714840" cy="452412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5084640" y="1660680"/>
              <a:ext cx="3714840" cy="45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 rot="21409200">
              <a:off x="6531120" y="2441520"/>
              <a:ext cx="2158920" cy="253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COTT &amp; AVI</a:t>
              </a:r>
              <a:br>
                <a:rPr sz="3200"/>
              </a:b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A NEW KIND OF ORAC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743200" y="4572000"/>
            <a:ext cx="271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040" y="4473720"/>
            <a:ext cx="2683080" cy="744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33336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The Harvest: Separations in Communication Complexity Imply Algebraic Oracle Sepa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12920" y="1655640"/>
          <a:ext cx="8305560" cy="4611600"/>
        </p:xfrm>
        <a:graphic>
          <a:graphicData uri="http://schemas.openxmlformats.org/drawingml/2006/table">
            <a:tbl>
              <a:tblPr/>
              <a:tblGrid>
                <a:gridCol w="5214600"/>
                <a:gridCol w="3090960"/>
              </a:tblGrid>
              <a:tr h="7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</a:t>
                      </a:r>
                      <a:r>
                        <a:rPr b="0" lang="en-CA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randomized lower bound for Disjointness </a:t>
                      </a:r>
                      <a:r>
                        <a:rPr b="0" lang="en-CA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[KS 1987] [Razborov 1990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 : NP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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PP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</a:t>
                      </a:r>
                      <a:r>
                        <a:rPr b="0" lang="en-CA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/2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quantum lower bound for Disjointness </a:t>
                      </a:r>
                      <a:r>
                        <a:rPr b="0" lang="en-CA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[Razborov 2002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 : NP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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QP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</a:t>
                      </a:r>
                      <a:r>
                        <a:rPr b="0" lang="en-CA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/2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lower bound on MA-protocols for Disjointness </a:t>
                      </a:r>
                      <a:r>
                        <a:rPr b="0" lang="en-CA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[Klauck 2003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 : coNP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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MA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ential separation between classical and quantum communication complexities </a:t>
                      </a:r>
                      <a:r>
                        <a:rPr b="0" lang="en-CA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[Raz 1999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 : BQP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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PP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ential separation between MA and QMA communication complexities </a:t>
                      </a:r>
                      <a:r>
                        <a:rPr b="0" lang="en-CA" sz="2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[Raz-Shpilka 2004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 : QMA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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MA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"/>
          <p:cNvSpPr/>
          <p:nvPr/>
        </p:nvSpPr>
        <p:spPr>
          <a:xfrm>
            <a:off x="1003320" y="2268360"/>
            <a:ext cx="6994440" cy="169452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dvantages of this approac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s just the multilinear extension of A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orks automatically with integer ext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41520" y="4419720"/>
            <a:ext cx="5891040" cy="128196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isadvantage: The functions achieving the separations are more contrived (e.g. Disjointness instead of OR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369720"/>
            <a:ext cx="91440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Can also go the other way: algebrization-inspired communication protoco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7520" y="1933560"/>
            <a:ext cx="8148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6600"/>
                </a:solidFill>
                <a:latin typeface="Arial"/>
              </a:rPr>
              <a:t>[Klauck 2003]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: Disjointness requires </a:t>
            </a:r>
            <a:r>
              <a:rPr b="0" lang="en-CA" sz="25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CA" sz="25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N) communication, even if there’s a Merlin to prove Alice and Bob’s sets are disjo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7760" y="3290760"/>
            <a:ext cx="835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CA" sz="2500" spc="-1" strike="noStrike">
                <a:solidFill>
                  <a:srgbClr val="ff0000"/>
                </a:solidFill>
                <a:latin typeface="Arial"/>
              </a:rPr>
              <a:t>Obvious” Conjecture: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Klauck’s lower bound can be improved to </a:t>
            </a:r>
            <a:r>
              <a:rPr b="0" lang="en-CA" sz="25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2280" y="4268880"/>
            <a:ext cx="8280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This conjecture is false!  We give an MA-protocol for Disjointness (and indeed Inner Product) with total communication cost O(</a:t>
            </a:r>
            <a:r>
              <a:rPr b="0" lang="en-CA" sz="25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N log 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619360" y="5856120"/>
            <a:ext cx="6146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Hardest” communication predica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5365440" y="5081400"/>
            <a:ext cx="485640" cy="8190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O(</a:t>
            </a:r>
            <a:r>
              <a:rPr b="1" lang="en-US" sz="3400" spc="-1" strike="noStrike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N log N) MA-protocol for Inner Produc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738360" y="1922400"/>
            <a:ext cx="1215720" cy="14097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068960" y="1955880"/>
            <a:ext cx="878040" cy="13604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 flipH="1">
            <a:off x="4341960" y="720720"/>
            <a:ext cx="660240" cy="1414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0" y="151776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]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]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0,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13320" y="15145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]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]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0,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1440" y="3254400"/>
            <a:ext cx="446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Alice and Bob’s Goal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Compu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710240" y="3097080"/>
                <a:ext cx="256068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sup>
                      <m:e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281160" y="3851280"/>
            <a:ext cx="8621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First ste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Let F be a finite field with |F|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[N,2N].  Extend A and B to degree-(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-1) polynomia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213080" y="4191120"/>
                <a:ext cx="1716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: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471680" y="4591080"/>
                <a:ext cx="27828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nary>
                    <m:acc>
                      <m:accPr>
                        <m:chr m:val="~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291960" y="5318280"/>
            <a:ext cx="3278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 Merlin is honest, th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495600" y="5154480"/>
                <a:ext cx="15080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sup>
                      <m:e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5211720" y="5327640"/>
            <a:ext cx="32781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t how to check S’=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3360" y="6010200"/>
            <a:ext cx="1808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 S’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, th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2101680" y="5823000"/>
                <a:ext cx="53359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r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S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'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314280" y="4737240"/>
            <a:ext cx="1179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w l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014560" y="2949480"/>
            <a:ext cx="5170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278160" y="2470320"/>
                <a:ext cx="24606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,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B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7920000" y="227484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925640" y="1596960"/>
            <a:ext cx="2471760" cy="90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0412000">
            <a:off x="1775160" y="1631880"/>
            <a:ext cx="27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ed value S’ for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266760"/>
            <a:ext cx="91440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7360" y="1023840"/>
            <a:ext cx="839772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Arithmetization had a great ru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It led to IP=PSPACE, the PCP Theorem, non-relativizing circuit lower bounds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Yet we showed it’s </a:t>
            </a:r>
            <a:r>
              <a:rPr b="1" lang="en-CA" sz="2300" spc="-1" strike="noStrike">
                <a:solidFill>
                  <a:srgbClr val="ff3300"/>
                </a:solidFill>
                <a:latin typeface="Arial"/>
              </a:rPr>
              <a:t>fundamentally unable</a:t>
            </a: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 to resolve barrier problems like P vs. NP, or even P vs. BPP or NEXP vs. P/pol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Why?  It “doesn’t pry open the black-box wide enough.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0066"/>
                </a:solidFill>
                <a:latin typeface="Arial"/>
              </a:rPr>
              <a:t>I.e. it uses a polynomial-size Boolean circuit to produce a low-degree polynomial, which it then evaluates as a black box.  It doesn’t exploit the small size of the circuit in any “deeper” 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To reach this conclusion, we introduced a new model of </a:t>
            </a:r>
            <a:r>
              <a:rPr b="1" lang="en-CA" sz="2300" spc="-1" strike="noStrike">
                <a:solidFill>
                  <a:srgbClr val="ff3300"/>
                </a:solidFill>
                <a:latin typeface="Arial"/>
              </a:rPr>
              <a:t>algebraic query complexity</a:t>
            </a: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, which has independent applications (e.g. to communication complexity) and lots of nooks and crannies to explore in its own righ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24912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Open Proble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4680" y="1122480"/>
            <a:ext cx="8629560" cy="54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evelop non-algebrizing techniqu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o there exist A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such that coNP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A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mprove PSPACE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A[poly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o PSPAC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[poly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= I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he power of “double algebrizatio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nteger queries of unbounded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lgebraic query lower bounds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communication lower bound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eneralize to arbitrary error-correcting codes (not just low-degree extensions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est if a low-degree extension came from a small circu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-1251000" y="-1047600"/>
            <a:ext cx="10801080" cy="12072240"/>
            <a:chOff x="-1251000" y="-1047600"/>
            <a:chExt cx="10801080" cy="12072240"/>
          </a:xfrm>
        </p:grpSpPr>
        <p:sp>
          <p:nvSpPr>
            <p:cNvPr id="71" name=""/>
            <p:cNvSpPr/>
            <p:nvPr/>
          </p:nvSpPr>
          <p:spPr>
            <a:xfrm>
              <a:off x="-1247040" y="-1047600"/>
              <a:ext cx="10797120" cy="11988000"/>
            </a:xfrm>
            <a:prstGeom prst="rect">
              <a:avLst/>
            </a:prstGeom>
            <a:solidFill>
              <a:srgbClr val="0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-1247040" y="4446360"/>
              <a:ext cx="10797120" cy="6405840"/>
            </a:xfrm>
            <a:custGeom>
              <a:avLst/>
              <a:gdLst/>
              <a:ahLst/>
              <a:rect l="l" t="t" r="r" b="b"/>
              <a:pathLst>
                <a:path w="5612" h="2115">
                  <a:moveTo>
                    <a:pt x="215" y="2046"/>
                  </a:moveTo>
                  <a:lnTo>
                    <a:pt x="215" y="2046"/>
                  </a:lnTo>
                  <a:lnTo>
                    <a:pt x="312" y="2066"/>
                  </a:lnTo>
                  <a:lnTo>
                    <a:pt x="409" y="2085"/>
                  </a:lnTo>
                  <a:lnTo>
                    <a:pt x="517" y="2095"/>
                  </a:lnTo>
                  <a:lnTo>
                    <a:pt x="624" y="2105"/>
                  </a:lnTo>
                  <a:lnTo>
                    <a:pt x="1043" y="2105"/>
                  </a:lnTo>
                  <a:lnTo>
                    <a:pt x="1043" y="2105"/>
                  </a:lnTo>
                  <a:lnTo>
                    <a:pt x="1919" y="2115"/>
                  </a:lnTo>
                  <a:lnTo>
                    <a:pt x="1919" y="2115"/>
                  </a:lnTo>
                  <a:lnTo>
                    <a:pt x="2163" y="2115"/>
                  </a:lnTo>
                  <a:lnTo>
                    <a:pt x="2397" y="2105"/>
                  </a:lnTo>
                  <a:lnTo>
                    <a:pt x="2640" y="2095"/>
                  </a:lnTo>
                  <a:lnTo>
                    <a:pt x="2757" y="2076"/>
                  </a:lnTo>
                  <a:lnTo>
                    <a:pt x="2874" y="2056"/>
                  </a:lnTo>
                  <a:lnTo>
                    <a:pt x="2874" y="2056"/>
                  </a:lnTo>
                  <a:lnTo>
                    <a:pt x="3196" y="1968"/>
                  </a:lnTo>
                  <a:lnTo>
                    <a:pt x="3352" y="1929"/>
                  </a:lnTo>
                  <a:lnTo>
                    <a:pt x="3517" y="1900"/>
                  </a:lnTo>
                  <a:lnTo>
                    <a:pt x="3517" y="1900"/>
                  </a:lnTo>
                  <a:lnTo>
                    <a:pt x="4034" y="1832"/>
                  </a:lnTo>
                  <a:lnTo>
                    <a:pt x="4034" y="1832"/>
                  </a:lnTo>
                  <a:lnTo>
                    <a:pt x="4267" y="1812"/>
                  </a:lnTo>
                  <a:lnTo>
                    <a:pt x="4491" y="1803"/>
                  </a:lnTo>
                  <a:lnTo>
                    <a:pt x="4715" y="1803"/>
                  </a:lnTo>
                  <a:lnTo>
                    <a:pt x="4949" y="1803"/>
                  </a:lnTo>
                  <a:lnTo>
                    <a:pt x="4949" y="1803"/>
                  </a:lnTo>
                  <a:lnTo>
                    <a:pt x="5281" y="1812"/>
                  </a:lnTo>
                  <a:lnTo>
                    <a:pt x="5612" y="1812"/>
                  </a:lnTo>
                  <a:lnTo>
                    <a:pt x="5612" y="439"/>
                  </a:lnTo>
                  <a:lnTo>
                    <a:pt x="5612" y="439"/>
                  </a:lnTo>
                  <a:lnTo>
                    <a:pt x="5573" y="468"/>
                  </a:lnTo>
                  <a:lnTo>
                    <a:pt x="5573" y="468"/>
                  </a:lnTo>
                  <a:lnTo>
                    <a:pt x="5573" y="409"/>
                  </a:lnTo>
                  <a:lnTo>
                    <a:pt x="5563" y="371"/>
                  </a:lnTo>
                  <a:lnTo>
                    <a:pt x="5534" y="322"/>
                  </a:lnTo>
                  <a:lnTo>
                    <a:pt x="5495" y="293"/>
                  </a:lnTo>
                  <a:lnTo>
                    <a:pt x="5446" y="263"/>
                  </a:lnTo>
                  <a:lnTo>
                    <a:pt x="5397" y="234"/>
                  </a:lnTo>
                  <a:lnTo>
                    <a:pt x="5339" y="224"/>
                  </a:lnTo>
                  <a:lnTo>
                    <a:pt x="5290" y="215"/>
                  </a:lnTo>
                  <a:lnTo>
                    <a:pt x="5290" y="215"/>
                  </a:lnTo>
                  <a:lnTo>
                    <a:pt x="5242" y="205"/>
                  </a:lnTo>
                  <a:lnTo>
                    <a:pt x="5193" y="215"/>
                  </a:lnTo>
                  <a:lnTo>
                    <a:pt x="5154" y="234"/>
                  </a:lnTo>
                  <a:lnTo>
                    <a:pt x="5115" y="254"/>
                  </a:lnTo>
                  <a:lnTo>
                    <a:pt x="5086" y="273"/>
                  </a:lnTo>
                  <a:lnTo>
                    <a:pt x="5056" y="312"/>
                  </a:lnTo>
                  <a:lnTo>
                    <a:pt x="4998" y="390"/>
                  </a:lnTo>
                  <a:lnTo>
                    <a:pt x="4998" y="390"/>
                  </a:lnTo>
                  <a:lnTo>
                    <a:pt x="4988" y="312"/>
                  </a:lnTo>
                  <a:lnTo>
                    <a:pt x="4979" y="244"/>
                  </a:lnTo>
                  <a:lnTo>
                    <a:pt x="4979" y="215"/>
                  </a:lnTo>
                  <a:lnTo>
                    <a:pt x="4959" y="185"/>
                  </a:lnTo>
                  <a:lnTo>
                    <a:pt x="4940" y="156"/>
                  </a:lnTo>
                  <a:lnTo>
                    <a:pt x="4910" y="117"/>
                  </a:lnTo>
                  <a:lnTo>
                    <a:pt x="4910" y="117"/>
                  </a:lnTo>
                  <a:lnTo>
                    <a:pt x="4862" y="88"/>
                  </a:lnTo>
                  <a:lnTo>
                    <a:pt x="4813" y="59"/>
                  </a:lnTo>
                  <a:lnTo>
                    <a:pt x="4764" y="49"/>
                  </a:lnTo>
                  <a:lnTo>
                    <a:pt x="4706" y="30"/>
                  </a:lnTo>
                  <a:lnTo>
                    <a:pt x="4599" y="20"/>
                  </a:lnTo>
                  <a:lnTo>
                    <a:pt x="4482" y="20"/>
                  </a:lnTo>
                  <a:lnTo>
                    <a:pt x="4482" y="20"/>
                  </a:lnTo>
                  <a:lnTo>
                    <a:pt x="4384" y="30"/>
                  </a:lnTo>
                  <a:lnTo>
                    <a:pt x="4287" y="59"/>
                  </a:lnTo>
                  <a:lnTo>
                    <a:pt x="4209" y="98"/>
                  </a:lnTo>
                  <a:lnTo>
                    <a:pt x="4131" y="146"/>
                  </a:lnTo>
                  <a:lnTo>
                    <a:pt x="4063" y="215"/>
                  </a:lnTo>
                  <a:lnTo>
                    <a:pt x="4014" y="293"/>
                  </a:lnTo>
                  <a:lnTo>
                    <a:pt x="3975" y="380"/>
                  </a:lnTo>
                  <a:lnTo>
                    <a:pt x="3956" y="478"/>
                  </a:lnTo>
                  <a:lnTo>
                    <a:pt x="3956" y="478"/>
                  </a:lnTo>
                  <a:lnTo>
                    <a:pt x="3956" y="468"/>
                  </a:lnTo>
                  <a:lnTo>
                    <a:pt x="3946" y="458"/>
                  </a:lnTo>
                  <a:lnTo>
                    <a:pt x="3946" y="458"/>
                  </a:lnTo>
                  <a:lnTo>
                    <a:pt x="3839" y="409"/>
                  </a:lnTo>
                  <a:lnTo>
                    <a:pt x="3722" y="361"/>
                  </a:lnTo>
                  <a:lnTo>
                    <a:pt x="3605" y="322"/>
                  </a:lnTo>
                  <a:lnTo>
                    <a:pt x="3478" y="293"/>
                  </a:lnTo>
                  <a:lnTo>
                    <a:pt x="3478" y="293"/>
                  </a:lnTo>
                  <a:lnTo>
                    <a:pt x="3235" y="263"/>
                  </a:lnTo>
                  <a:lnTo>
                    <a:pt x="3235" y="263"/>
                  </a:lnTo>
                  <a:lnTo>
                    <a:pt x="3186" y="283"/>
                  </a:lnTo>
                  <a:lnTo>
                    <a:pt x="3137" y="312"/>
                  </a:lnTo>
                  <a:lnTo>
                    <a:pt x="3098" y="341"/>
                  </a:lnTo>
                  <a:lnTo>
                    <a:pt x="3050" y="351"/>
                  </a:lnTo>
                  <a:lnTo>
                    <a:pt x="3050" y="351"/>
                  </a:lnTo>
                  <a:lnTo>
                    <a:pt x="3001" y="341"/>
                  </a:lnTo>
                  <a:lnTo>
                    <a:pt x="2952" y="322"/>
                  </a:lnTo>
                  <a:lnTo>
                    <a:pt x="2894" y="293"/>
                  </a:lnTo>
                  <a:lnTo>
                    <a:pt x="2845" y="263"/>
                  </a:lnTo>
                  <a:lnTo>
                    <a:pt x="2748" y="195"/>
                  </a:lnTo>
                  <a:lnTo>
                    <a:pt x="2689" y="176"/>
                  </a:lnTo>
                  <a:lnTo>
                    <a:pt x="2640" y="156"/>
                  </a:lnTo>
                  <a:lnTo>
                    <a:pt x="2640" y="156"/>
                  </a:lnTo>
                  <a:lnTo>
                    <a:pt x="2553" y="156"/>
                  </a:lnTo>
                  <a:lnTo>
                    <a:pt x="2465" y="176"/>
                  </a:lnTo>
                  <a:lnTo>
                    <a:pt x="2397" y="205"/>
                  </a:lnTo>
                  <a:lnTo>
                    <a:pt x="2319" y="244"/>
                  </a:lnTo>
                  <a:lnTo>
                    <a:pt x="2319" y="244"/>
                  </a:lnTo>
                  <a:lnTo>
                    <a:pt x="2299" y="215"/>
                  </a:lnTo>
                  <a:lnTo>
                    <a:pt x="2280" y="185"/>
                  </a:lnTo>
                  <a:lnTo>
                    <a:pt x="2221" y="137"/>
                  </a:lnTo>
                  <a:lnTo>
                    <a:pt x="2153" y="98"/>
                  </a:lnTo>
                  <a:lnTo>
                    <a:pt x="2075" y="68"/>
                  </a:lnTo>
                  <a:lnTo>
                    <a:pt x="1997" y="59"/>
                  </a:lnTo>
                  <a:lnTo>
                    <a:pt x="1958" y="68"/>
                  </a:lnTo>
                  <a:lnTo>
                    <a:pt x="1919" y="78"/>
                  </a:lnTo>
                  <a:lnTo>
                    <a:pt x="1890" y="88"/>
                  </a:lnTo>
                  <a:lnTo>
                    <a:pt x="1861" y="117"/>
                  </a:lnTo>
                  <a:lnTo>
                    <a:pt x="1842" y="146"/>
                  </a:lnTo>
                  <a:lnTo>
                    <a:pt x="1822" y="185"/>
                  </a:lnTo>
                  <a:lnTo>
                    <a:pt x="1822" y="185"/>
                  </a:lnTo>
                  <a:lnTo>
                    <a:pt x="1812" y="137"/>
                  </a:lnTo>
                  <a:lnTo>
                    <a:pt x="1783" y="98"/>
                  </a:lnTo>
                  <a:lnTo>
                    <a:pt x="1754" y="68"/>
                  </a:lnTo>
                  <a:lnTo>
                    <a:pt x="1705" y="49"/>
                  </a:lnTo>
                  <a:lnTo>
                    <a:pt x="1656" y="30"/>
                  </a:lnTo>
                  <a:lnTo>
                    <a:pt x="1608" y="10"/>
                  </a:lnTo>
                  <a:lnTo>
                    <a:pt x="1491" y="0"/>
                  </a:lnTo>
                  <a:lnTo>
                    <a:pt x="1491" y="0"/>
                  </a:lnTo>
                  <a:lnTo>
                    <a:pt x="1384" y="10"/>
                  </a:lnTo>
                  <a:lnTo>
                    <a:pt x="1306" y="30"/>
                  </a:lnTo>
                  <a:lnTo>
                    <a:pt x="1237" y="68"/>
                  </a:lnTo>
                  <a:lnTo>
                    <a:pt x="1179" y="117"/>
                  </a:lnTo>
                  <a:lnTo>
                    <a:pt x="1130" y="176"/>
                  </a:lnTo>
                  <a:lnTo>
                    <a:pt x="1082" y="254"/>
                  </a:lnTo>
                  <a:lnTo>
                    <a:pt x="984" y="429"/>
                  </a:lnTo>
                  <a:lnTo>
                    <a:pt x="984" y="429"/>
                  </a:lnTo>
                  <a:lnTo>
                    <a:pt x="945" y="380"/>
                  </a:lnTo>
                  <a:lnTo>
                    <a:pt x="906" y="341"/>
                  </a:lnTo>
                  <a:lnTo>
                    <a:pt x="858" y="332"/>
                  </a:lnTo>
                  <a:lnTo>
                    <a:pt x="799" y="322"/>
                  </a:lnTo>
                  <a:lnTo>
                    <a:pt x="741" y="332"/>
                  </a:lnTo>
                  <a:lnTo>
                    <a:pt x="682" y="341"/>
                  </a:lnTo>
                  <a:lnTo>
                    <a:pt x="565" y="390"/>
                  </a:lnTo>
                  <a:lnTo>
                    <a:pt x="565" y="390"/>
                  </a:lnTo>
                  <a:lnTo>
                    <a:pt x="517" y="409"/>
                  </a:lnTo>
                  <a:lnTo>
                    <a:pt x="468" y="439"/>
                  </a:lnTo>
                  <a:lnTo>
                    <a:pt x="429" y="478"/>
                  </a:lnTo>
                  <a:lnTo>
                    <a:pt x="390" y="507"/>
                  </a:lnTo>
                  <a:lnTo>
                    <a:pt x="341" y="575"/>
                  </a:lnTo>
                  <a:lnTo>
                    <a:pt x="312" y="643"/>
                  </a:lnTo>
                  <a:lnTo>
                    <a:pt x="312" y="643"/>
                  </a:lnTo>
                  <a:lnTo>
                    <a:pt x="292" y="604"/>
                  </a:lnTo>
                  <a:lnTo>
                    <a:pt x="263" y="556"/>
                  </a:lnTo>
                  <a:lnTo>
                    <a:pt x="234" y="517"/>
                  </a:lnTo>
                  <a:lnTo>
                    <a:pt x="185" y="487"/>
                  </a:lnTo>
                  <a:lnTo>
                    <a:pt x="146" y="458"/>
                  </a:lnTo>
                  <a:lnTo>
                    <a:pt x="98" y="439"/>
                  </a:lnTo>
                  <a:lnTo>
                    <a:pt x="49" y="439"/>
                  </a:lnTo>
                  <a:lnTo>
                    <a:pt x="0" y="458"/>
                  </a:lnTo>
                  <a:lnTo>
                    <a:pt x="0" y="1842"/>
                  </a:lnTo>
                  <a:lnTo>
                    <a:pt x="0" y="1842"/>
                  </a:lnTo>
                  <a:lnTo>
                    <a:pt x="39" y="1910"/>
                  </a:lnTo>
                  <a:lnTo>
                    <a:pt x="88" y="1968"/>
                  </a:lnTo>
                  <a:lnTo>
                    <a:pt x="146" y="2007"/>
                  </a:lnTo>
                  <a:lnTo>
                    <a:pt x="215" y="2046"/>
                  </a:lnTo>
                  <a:lnTo>
                    <a:pt x="215" y="2046"/>
                  </a:lnTo>
                  <a:close/>
                </a:path>
              </a:pathLst>
            </a:custGeom>
            <a:solidFill>
              <a:srgbClr val="206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-1251000" y="3356280"/>
              <a:ext cx="10801080" cy="7668360"/>
            </a:xfrm>
            <a:custGeom>
              <a:avLst/>
              <a:gdLst/>
              <a:ahLst/>
              <a:rect l="l" t="t" r="r" b="b"/>
              <a:pathLst>
                <a:path w="5614" h="2532">
                  <a:moveTo>
                    <a:pt x="2886" y="39"/>
                  </a:moveTo>
                  <a:lnTo>
                    <a:pt x="2642" y="282"/>
                  </a:lnTo>
                  <a:lnTo>
                    <a:pt x="2311" y="516"/>
                  </a:lnTo>
                  <a:lnTo>
                    <a:pt x="1892" y="711"/>
                  </a:lnTo>
                  <a:lnTo>
                    <a:pt x="1580" y="877"/>
                  </a:lnTo>
                  <a:lnTo>
                    <a:pt x="1249" y="1091"/>
                  </a:lnTo>
                  <a:lnTo>
                    <a:pt x="1006" y="1188"/>
                  </a:lnTo>
                  <a:lnTo>
                    <a:pt x="908" y="1188"/>
                  </a:lnTo>
                  <a:lnTo>
                    <a:pt x="733" y="1159"/>
                  </a:lnTo>
                  <a:lnTo>
                    <a:pt x="606" y="1247"/>
                  </a:lnTo>
                  <a:lnTo>
                    <a:pt x="402" y="1335"/>
                  </a:lnTo>
                  <a:lnTo>
                    <a:pt x="148" y="1510"/>
                  </a:lnTo>
                  <a:lnTo>
                    <a:pt x="2" y="1598"/>
                  </a:lnTo>
                  <a:lnTo>
                    <a:pt x="0" y="2532"/>
                  </a:lnTo>
                  <a:lnTo>
                    <a:pt x="5592" y="2504"/>
                  </a:lnTo>
                  <a:lnTo>
                    <a:pt x="5614" y="1559"/>
                  </a:lnTo>
                  <a:lnTo>
                    <a:pt x="5302" y="1461"/>
                  </a:lnTo>
                  <a:lnTo>
                    <a:pt x="5039" y="1325"/>
                  </a:lnTo>
                  <a:lnTo>
                    <a:pt x="4786" y="1149"/>
                  </a:lnTo>
                  <a:lnTo>
                    <a:pt x="4347" y="828"/>
                  </a:lnTo>
                  <a:lnTo>
                    <a:pt x="3987" y="614"/>
                  </a:lnTo>
                  <a:lnTo>
                    <a:pt x="3685" y="419"/>
                  </a:lnTo>
                  <a:lnTo>
                    <a:pt x="3441" y="195"/>
                  </a:lnTo>
                  <a:lnTo>
                    <a:pt x="3305" y="10"/>
                  </a:lnTo>
                  <a:lnTo>
                    <a:pt x="3198" y="48"/>
                  </a:lnTo>
                  <a:lnTo>
                    <a:pt x="3100" y="48"/>
                  </a:lnTo>
                  <a:lnTo>
                    <a:pt x="3042" y="0"/>
                  </a:lnTo>
                  <a:lnTo>
                    <a:pt x="2983" y="68"/>
                  </a:lnTo>
                  <a:lnTo>
                    <a:pt x="2886" y="39"/>
                  </a:lnTo>
                  <a:close/>
                </a:path>
              </a:pathLst>
            </a:custGeom>
            <a:solidFill>
              <a:srgbClr val="4d5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64080" y="3386520"/>
              <a:ext cx="4386600" cy="3567960"/>
            </a:xfrm>
            <a:custGeom>
              <a:avLst/>
              <a:gdLst/>
              <a:ahLst/>
              <a:rect l="l" t="t" r="r" b="b"/>
              <a:pathLst>
                <a:path w="2280" h="1178">
                  <a:moveTo>
                    <a:pt x="818" y="29"/>
                  </a:moveTo>
                  <a:lnTo>
                    <a:pt x="643" y="175"/>
                  </a:lnTo>
                  <a:lnTo>
                    <a:pt x="575" y="311"/>
                  </a:lnTo>
                  <a:lnTo>
                    <a:pt x="468" y="428"/>
                  </a:lnTo>
                  <a:lnTo>
                    <a:pt x="312" y="516"/>
                  </a:lnTo>
                  <a:lnTo>
                    <a:pt x="97" y="623"/>
                  </a:lnTo>
                  <a:lnTo>
                    <a:pt x="0" y="701"/>
                  </a:lnTo>
                  <a:lnTo>
                    <a:pt x="214" y="613"/>
                  </a:lnTo>
                  <a:lnTo>
                    <a:pt x="390" y="535"/>
                  </a:lnTo>
                  <a:lnTo>
                    <a:pt x="516" y="467"/>
                  </a:lnTo>
                  <a:lnTo>
                    <a:pt x="253" y="633"/>
                  </a:lnTo>
                  <a:lnTo>
                    <a:pt x="166" y="740"/>
                  </a:lnTo>
                  <a:lnTo>
                    <a:pt x="166" y="808"/>
                  </a:lnTo>
                  <a:lnTo>
                    <a:pt x="302" y="682"/>
                  </a:lnTo>
                  <a:lnTo>
                    <a:pt x="487" y="565"/>
                  </a:lnTo>
                  <a:lnTo>
                    <a:pt x="565" y="604"/>
                  </a:lnTo>
                  <a:lnTo>
                    <a:pt x="721" y="555"/>
                  </a:lnTo>
                  <a:lnTo>
                    <a:pt x="624" y="672"/>
                  </a:lnTo>
                  <a:lnTo>
                    <a:pt x="624" y="808"/>
                  </a:lnTo>
                  <a:lnTo>
                    <a:pt x="711" y="672"/>
                  </a:lnTo>
                  <a:lnTo>
                    <a:pt x="789" y="701"/>
                  </a:lnTo>
                  <a:lnTo>
                    <a:pt x="877" y="798"/>
                  </a:lnTo>
                  <a:lnTo>
                    <a:pt x="955" y="828"/>
                  </a:lnTo>
                  <a:lnTo>
                    <a:pt x="974" y="1042"/>
                  </a:lnTo>
                  <a:lnTo>
                    <a:pt x="1042" y="1052"/>
                  </a:lnTo>
                  <a:lnTo>
                    <a:pt x="974" y="828"/>
                  </a:lnTo>
                  <a:lnTo>
                    <a:pt x="974" y="682"/>
                  </a:lnTo>
                  <a:lnTo>
                    <a:pt x="1004" y="798"/>
                  </a:lnTo>
                  <a:lnTo>
                    <a:pt x="1042" y="857"/>
                  </a:lnTo>
                  <a:lnTo>
                    <a:pt x="1023" y="750"/>
                  </a:lnTo>
                  <a:lnTo>
                    <a:pt x="1023" y="652"/>
                  </a:lnTo>
                  <a:lnTo>
                    <a:pt x="1101" y="759"/>
                  </a:lnTo>
                  <a:lnTo>
                    <a:pt x="1169" y="847"/>
                  </a:lnTo>
                  <a:lnTo>
                    <a:pt x="1218" y="730"/>
                  </a:lnTo>
                  <a:lnTo>
                    <a:pt x="1286" y="876"/>
                  </a:lnTo>
                  <a:lnTo>
                    <a:pt x="1306" y="974"/>
                  </a:lnTo>
                  <a:lnTo>
                    <a:pt x="1296" y="1071"/>
                  </a:lnTo>
                  <a:lnTo>
                    <a:pt x="1364" y="1178"/>
                  </a:lnTo>
                  <a:lnTo>
                    <a:pt x="1432" y="1169"/>
                  </a:lnTo>
                  <a:lnTo>
                    <a:pt x="1354" y="1003"/>
                  </a:lnTo>
                  <a:lnTo>
                    <a:pt x="1296" y="759"/>
                  </a:lnTo>
                  <a:lnTo>
                    <a:pt x="1354" y="789"/>
                  </a:lnTo>
                  <a:lnTo>
                    <a:pt x="1296" y="652"/>
                  </a:lnTo>
                  <a:lnTo>
                    <a:pt x="1296" y="565"/>
                  </a:lnTo>
                  <a:lnTo>
                    <a:pt x="1374" y="672"/>
                  </a:lnTo>
                  <a:lnTo>
                    <a:pt x="1452" y="779"/>
                  </a:lnTo>
                  <a:lnTo>
                    <a:pt x="1393" y="623"/>
                  </a:lnTo>
                  <a:lnTo>
                    <a:pt x="1500" y="759"/>
                  </a:lnTo>
                  <a:lnTo>
                    <a:pt x="1656" y="915"/>
                  </a:lnTo>
                  <a:lnTo>
                    <a:pt x="1773" y="1003"/>
                  </a:lnTo>
                  <a:lnTo>
                    <a:pt x="1754" y="886"/>
                  </a:lnTo>
                  <a:lnTo>
                    <a:pt x="1530" y="730"/>
                  </a:lnTo>
                  <a:lnTo>
                    <a:pt x="1500" y="623"/>
                  </a:lnTo>
                  <a:lnTo>
                    <a:pt x="1491" y="545"/>
                  </a:lnTo>
                  <a:lnTo>
                    <a:pt x="1539" y="594"/>
                  </a:lnTo>
                  <a:lnTo>
                    <a:pt x="1715" y="730"/>
                  </a:lnTo>
                  <a:lnTo>
                    <a:pt x="1822" y="798"/>
                  </a:lnTo>
                  <a:lnTo>
                    <a:pt x="1871" y="798"/>
                  </a:lnTo>
                  <a:lnTo>
                    <a:pt x="1783" y="701"/>
                  </a:lnTo>
                  <a:lnTo>
                    <a:pt x="1578" y="535"/>
                  </a:lnTo>
                  <a:lnTo>
                    <a:pt x="1510" y="409"/>
                  </a:lnTo>
                  <a:lnTo>
                    <a:pt x="1666" y="516"/>
                  </a:lnTo>
                  <a:lnTo>
                    <a:pt x="1832" y="652"/>
                  </a:lnTo>
                  <a:lnTo>
                    <a:pt x="1987" y="779"/>
                  </a:lnTo>
                  <a:lnTo>
                    <a:pt x="2212" y="915"/>
                  </a:lnTo>
                  <a:lnTo>
                    <a:pt x="2114" y="779"/>
                  </a:lnTo>
                  <a:lnTo>
                    <a:pt x="2280" y="857"/>
                  </a:lnTo>
                  <a:lnTo>
                    <a:pt x="2036" y="672"/>
                  </a:lnTo>
                  <a:lnTo>
                    <a:pt x="1705" y="448"/>
                  </a:lnTo>
                  <a:lnTo>
                    <a:pt x="1510" y="321"/>
                  </a:lnTo>
                  <a:lnTo>
                    <a:pt x="1364" y="185"/>
                  </a:lnTo>
                  <a:lnTo>
                    <a:pt x="1247" y="0"/>
                  </a:lnTo>
                  <a:lnTo>
                    <a:pt x="1120" y="29"/>
                  </a:lnTo>
                  <a:lnTo>
                    <a:pt x="1062" y="58"/>
                  </a:lnTo>
                  <a:lnTo>
                    <a:pt x="984" y="0"/>
                  </a:lnTo>
                  <a:lnTo>
                    <a:pt x="926" y="68"/>
                  </a:lnTo>
                  <a:lnTo>
                    <a:pt x="818" y="29"/>
                  </a:lnTo>
                  <a:close/>
                </a:path>
              </a:pathLst>
            </a:custGeom>
            <a:solidFill>
              <a:srgbClr val="d8c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77480" y="5451840"/>
              <a:ext cx="636840" cy="1120680"/>
            </a:xfrm>
            <a:custGeom>
              <a:avLst/>
              <a:gdLst/>
              <a:ahLst/>
              <a:rect l="l" t="t" r="r" b="b"/>
              <a:pathLst>
                <a:path w="331" h="370">
                  <a:moveTo>
                    <a:pt x="331" y="0"/>
                  </a:moveTo>
                  <a:lnTo>
                    <a:pt x="194" y="146"/>
                  </a:lnTo>
                  <a:lnTo>
                    <a:pt x="58" y="243"/>
                  </a:lnTo>
                  <a:lnTo>
                    <a:pt x="0" y="370"/>
                  </a:lnTo>
                  <a:lnTo>
                    <a:pt x="155" y="292"/>
                  </a:lnTo>
                  <a:lnTo>
                    <a:pt x="204" y="185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26520" y="6130440"/>
              <a:ext cx="336240" cy="1059480"/>
            </a:xfrm>
            <a:custGeom>
              <a:avLst/>
              <a:gdLst/>
              <a:ahLst/>
              <a:rect l="l" t="t" r="r" b="b"/>
              <a:pathLst>
                <a:path w="175" h="350">
                  <a:moveTo>
                    <a:pt x="49" y="0"/>
                  </a:moveTo>
                  <a:lnTo>
                    <a:pt x="156" y="136"/>
                  </a:lnTo>
                  <a:lnTo>
                    <a:pt x="175" y="253"/>
                  </a:lnTo>
                  <a:lnTo>
                    <a:pt x="175" y="350"/>
                  </a:lnTo>
                  <a:lnTo>
                    <a:pt x="156" y="253"/>
                  </a:lnTo>
                  <a:lnTo>
                    <a:pt x="0" y="8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77720" y="5864040"/>
              <a:ext cx="711360" cy="1032840"/>
            </a:xfrm>
            <a:custGeom>
              <a:avLst/>
              <a:gdLst/>
              <a:ahLst/>
              <a:rect l="l" t="t" r="r" b="b"/>
              <a:pathLst>
                <a:path w="370" h="341">
                  <a:moveTo>
                    <a:pt x="302" y="0"/>
                  </a:moveTo>
                  <a:lnTo>
                    <a:pt x="224" y="97"/>
                  </a:lnTo>
                  <a:lnTo>
                    <a:pt x="156" y="195"/>
                  </a:lnTo>
                  <a:lnTo>
                    <a:pt x="0" y="341"/>
                  </a:lnTo>
                  <a:lnTo>
                    <a:pt x="126" y="282"/>
                  </a:lnTo>
                  <a:lnTo>
                    <a:pt x="234" y="224"/>
                  </a:lnTo>
                  <a:lnTo>
                    <a:pt x="263" y="146"/>
                  </a:lnTo>
                  <a:lnTo>
                    <a:pt x="370" y="29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14080" y="4152960"/>
              <a:ext cx="1556640" cy="1444320"/>
            </a:xfrm>
            <a:custGeom>
              <a:avLst/>
              <a:gdLst/>
              <a:ahLst/>
              <a:rect l="l" t="t" r="r" b="b"/>
              <a:pathLst>
                <a:path w="809" h="477">
                  <a:moveTo>
                    <a:pt x="809" y="0"/>
                  </a:moveTo>
                  <a:lnTo>
                    <a:pt x="663" y="107"/>
                  </a:lnTo>
                  <a:lnTo>
                    <a:pt x="468" y="214"/>
                  </a:lnTo>
                  <a:lnTo>
                    <a:pt x="244" y="351"/>
                  </a:lnTo>
                  <a:lnTo>
                    <a:pt x="0" y="477"/>
                  </a:lnTo>
                  <a:lnTo>
                    <a:pt x="117" y="438"/>
                  </a:lnTo>
                  <a:lnTo>
                    <a:pt x="263" y="360"/>
                  </a:lnTo>
                  <a:lnTo>
                    <a:pt x="458" y="282"/>
                  </a:lnTo>
                  <a:lnTo>
                    <a:pt x="614" y="214"/>
                  </a:lnTo>
                  <a:lnTo>
                    <a:pt x="731" y="127"/>
                  </a:lnTo>
                  <a:lnTo>
                    <a:pt x="809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64800" y="6630480"/>
              <a:ext cx="261720" cy="795960"/>
            </a:xfrm>
            <a:custGeom>
              <a:avLst/>
              <a:gdLst/>
              <a:ahLst/>
              <a:rect l="l" t="t" r="r" b="b"/>
              <a:pathLst>
                <a:path w="136" h="263">
                  <a:moveTo>
                    <a:pt x="58" y="68"/>
                  </a:moveTo>
                  <a:lnTo>
                    <a:pt x="0" y="156"/>
                  </a:lnTo>
                  <a:lnTo>
                    <a:pt x="0" y="263"/>
                  </a:lnTo>
                  <a:lnTo>
                    <a:pt x="87" y="166"/>
                  </a:lnTo>
                  <a:lnTo>
                    <a:pt x="136" y="0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51160" y="6690960"/>
              <a:ext cx="263520" cy="6174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78" y="39"/>
                  </a:moveTo>
                  <a:lnTo>
                    <a:pt x="0" y="204"/>
                  </a:lnTo>
                  <a:lnTo>
                    <a:pt x="78" y="185"/>
                  </a:lnTo>
                  <a:lnTo>
                    <a:pt x="137" y="0"/>
                  </a:lnTo>
                  <a:lnTo>
                    <a:pt x="78" y="3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88960" y="6690960"/>
              <a:ext cx="731160" cy="678600"/>
            </a:xfrm>
            <a:custGeom>
              <a:avLst/>
              <a:gdLst/>
              <a:ahLst/>
              <a:rect l="l" t="t" r="r" b="b"/>
              <a:pathLst>
                <a:path w="380" h="224">
                  <a:moveTo>
                    <a:pt x="205" y="19"/>
                  </a:moveTo>
                  <a:lnTo>
                    <a:pt x="0" y="224"/>
                  </a:lnTo>
                  <a:lnTo>
                    <a:pt x="166" y="136"/>
                  </a:lnTo>
                  <a:lnTo>
                    <a:pt x="254" y="136"/>
                  </a:lnTo>
                  <a:lnTo>
                    <a:pt x="380" y="0"/>
                  </a:lnTo>
                  <a:lnTo>
                    <a:pt x="380" y="0"/>
                  </a:lnTo>
                  <a:lnTo>
                    <a:pt x="292" y="9"/>
                  </a:lnTo>
                  <a:lnTo>
                    <a:pt x="234" y="19"/>
                  </a:lnTo>
                  <a:lnTo>
                    <a:pt x="205" y="19"/>
                  </a:lnTo>
                  <a:lnTo>
                    <a:pt x="205" y="1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33160" y="7190280"/>
              <a:ext cx="653760" cy="385200"/>
            </a:xfrm>
            <a:custGeom>
              <a:avLst/>
              <a:gdLst/>
              <a:ahLst/>
              <a:rect l="l" t="t" r="r" b="b"/>
              <a:pathLst>
                <a:path w="340" h="127">
                  <a:moveTo>
                    <a:pt x="0" y="0"/>
                  </a:moveTo>
                  <a:lnTo>
                    <a:pt x="224" y="10"/>
                  </a:lnTo>
                  <a:lnTo>
                    <a:pt x="282" y="39"/>
                  </a:lnTo>
                  <a:lnTo>
                    <a:pt x="340" y="127"/>
                  </a:lnTo>
                  <a:lnTo>
                    <a:pt x="185" y="117"/>
                  </a:lnTo>
                  <a:lnTo>
                    <a:pt x="175" y="88"/>
                  </a:lnTo>
                  <a:lnTo>
                    <a:pt x="165" y="49"/>
                  </a:lnTo>
                  <a:lnTo>
                    <a:pt x="126" y="30"/>
                  </a:lnTo>
                  <a:lnTo>
                    <a:pt x="29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5480" y="3501000"/>
              <a:ext cx="1125360" cy="1741680"/>
            </a:xfrm>
            <a:custGeom>
              <a:avLst/>
              <a:gdLst/>
              <a:ahLst/>
              <a:rect l="l" t="t" r="r" b="b"/>
              <a:pathLst>
                <a:path w="585" h="575">
                  <a:moveTo>
                    <a:pt x="526" y="0"/>
                  </a:moveTo>
                  <a:lnTo>
                    <a:pt x="458" y="30"/>
                  </a:lnTo>
                  <a:lnTo>
                    <a:pt x="361" y="127"/>
                  </a:lnTo>
                  <a:lnTo>
                    <a:pt x="283" y="264"/>
                  </a:lnTo>
                  <a:lnTo>
                    <a:pt x="234" y="342"/>
                  </a:lnTo>
                  <a:lnTo>
                    <a:pt x="185" y="390"/>
                  </a:lnTo>
                  <a:lnTo>
                    <a:pt x="0" y="478"/>
                  </a:lnTo>
                  <a:lnTo>
                    <a:pt x="136" y="429"/>
                  </a:lnTo>
                  <a:lnTo>
                    <a:pt x="234" y="410"/>
                  </a:lnTo>
                  <a:lnTo>
                    <a:pt x="205" y="449"/>
                  </a:lnTo>
                  <a:lnTo>
                    <a:pt x="136" y="478"/>
                  </a:lnTo>
                  <a:lnTo>
                    <a:pt x="10" y="575"/>
                  </a:lnTo>
                  <a:lnTo>
                    <a:pt x="136" y="517"/>
                  </a:lnTo>
                  <a:lnTo>
                    <a:pt x="244" y="468"/>
                  </a:lnTo>
                  <a:lnTo>
                    <a:pt x="302" y="410"/>
                  </a:lnTo>
                  <a:lnTo>
                    <a:pt x="409" y="303"/>
                  </a:lnTo>
                  <a:lnTo>
                    <a:pt x="409" y="371"/>
                  </a:lnTo>
                  <a:lnTo>
                    <a:pt x="448" y="303"/>
                  </a:lnTo>
                  <a:lnTo>
                    <a:pt x="448" y="225"/>
                  </a:lnTo>
                  <a:lnTo>
                    <a:pt x="487" y="108"/>
                  </a:lnTo>
                  <a:lnTo>
                    <a:pt x="497" y="195"/>
                  </a:lnTo>
                  <a:lnTo>
                    <a:pt x="536" y="147"/>
                  </a:lnTo>
                  <a:lnTo>
                    <a:pt x="546" y="69"/>
                  </a:lnTo>
                  <a:lnTo>
                    <a:pt x="585" y="3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82320" y="3531960"/>
              <a:ext cx="1275120" cy="2361960"/>
            </a:xfrm>
            <a:custGeom>
              <a:avLst/>
              <a:gdLst/>
              <a:ahLst/>
              <a:rect l="l" t="t" r="r" b="b"/>
              <a:pathLst>
                <a:path w="663" h="780">
                  <a:moveTo>
                    <a:pt x="273" y="117"/>
                  </a:moveTo>
                  <a:lnTo>
                    <a:pt x="137" y="361"/>
                  </a:lnTo>
                  <a:lnTo>
                    <a:pt x="88" y="458"/>
                  </a:lnTo>
                  <a:lnTo>
                    <a:pt x="39" y="556"/>
                  </a:lnTo>
                  <a:lnTo>
                    <a:pt x="0" y="614"/>
                  </a:lnTo>
                  <a:lnTo>
                    <a:pt x="0" y="673"/>
                  </a:lnTo>
                  <a:lnTo>
                    <a:pt x="49" y="624"/>
                  </a:lnTo>
                  <a:lnTo>
                    <a:pt x="127" y="487"/>
                  </a:lnTo>
                  <a:lnTo>
                    <a:pt x="127" y="556"/>
                  </a:lnTo>
                  <a:lnTo>
                    <a:pt x="156" y="585"/>
                  </a:lnTo>
                  <a:lnTo>
                    <a:pt x="185" y="526"/>
                  </a:lnTo>
                  <a:lnTo>
                    <a:pt x="234" y="400"/>
                  </a:lnTo>
                  <a:lnTo>
                    <a:pt x="263" y="439"/>
                  </a:lnTo>
                  <a:lnTo>
                    <a:pt x="263" y="507"/>
                  </a:lnTo>
                  <a:lnTo>
                    <a:pt x="224" y="575"/>
                  </a:lnTo>
                  <a:lnTo>
                    <a:pt x="215" y="702"/>
                  </a:lnTo>
                  <a:lnTo>
                    <a:pt x="254" y="624"/>
                  </a:lnTo>
                  <a:lnTo>
                    <a:pt x="293" y="546"/>
                  </a:lnTo>
                  <a:lnTo>
                    <a:pt x="302" y="322"/>
                  </a:lnTo>
                  <a:lnTo>
                    <a:pt x="341" y="224"/>
                  </a:lnTo>
                  <a:lnTo>
                    <a:pt x="371" y="283"/>
                  </a:lnTo>
                  <a:lnTo>
                    <a:pt x="361" y="400"/>
                  </a:lnTo>
                  <a:lnTo>
                    <a:pt x="361" y="487"/>
                  </a:lnTo>
                  <a:lnTo>
                    <a:pt x="409" y="351"/>
                  </a:lnTo>
                  <a:lnTo>
                    <a:pt x="419" y="439"/>
                  </a:lnTo>
                  <a:lnTo>
                    <a:pt x="419" y="536"/>
                  </a:lnTo>
                  <a:lnTo>
                    <a:pt x="448" y="604"/>
                  </a:lnTo>
                  <a:lnTo>
                    <a:pt x="468" y="565"/>
                  </a:lnTo>
                  <a:lnTo>
                    <a:pt x="487" y="370"/>
                  </a:lnTo>
                  <a:lnTo>
                    <a:pt x="536" y="400"/>
                  </a:lnTo>
                  <a:lnTo>
                    <a:pt x="575" y="546"/>
                  </a:lnTo>
                  <a:lnTo>
                    <a:pt x="565" y="653"/>
                  </a:lnTo>
                  <a:lnTo>
                    <a:pt x="556" y="711"/>
                  </a:lnTo>
                  <a:lnTo>
                    <a:pt x="575" y="780"/>
                  </a:lnTo>
                  <a:lnTo>
                    <a:pt x="604" y="731"/>
                  </a:lnTo>
                  <a:lnTo>
                    <a:pt x="614" y="673"/>
                  </a:lnTo>
                  <a:lnTo>
                    <a:pt x="634" y="760"/>
                  </a:lnTo>
                  <a:lnTo>
                    <a:pt x="663" y="692"/>
                  </a:lnTo>
                  <a:lnTo>
                    <a:pt x="634" y="546"/>
                  </a:lnTo>
                  <a:lnTo>
                    <a:pt x="634" y="400"/>
                  </a:lnTo>
                  <a:lnTo>
                    <a:pt x="546" y="205"/>
                  </a:lnTo>
                  <a:lnTo>
                    <a:pt x="487" y="78"/>
                  </a:lnTo>
                  <a:lnTo>
                    <a:pt x="429" y="0"/>
                  </a:lnTo>
                  <a:lnTo>
                    <a:pt x="361" y="0"/>
                  </a:lnTo>
                  <a:lnTo>
                    <a:pt x="341" y="88"/>
                  </a:lnTo>
                  <a:lnTo>
                    <a:pt x="293" y="49"/>
                  </a:lnTo>
                  <a:lnTo>
                    <a:pt x="273" y="117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01760" y="3501000"/>
              <a:ext cx="1462320" cy="2420280"/>
            </a:xfrm>
            <a:custGeom>
              <a:avLst/>
              <a:gdLst/>
              <a:ahLst/>
              <a:rect l="l" t="t" r="r" b="b"/>
              <a:pathLst>
                <a:path w="760" h="799">
                  <a:moveTo>
                    <a:pt x="87" y="39"/>
                  </a:moveTo>
                  <a:lnTo>
                    <a:pt x="195" y="166"/>
                  </a:lnTo>
                  <a:lnTo>
                    <a:pt x="409" y="351"/>
                  </a:lnTo>
                  <a:lnTo>
                    <a:pt x="467" y="449"/>
                  </a:lnTo>
                  <a:lnTo>
                    <a:pt x="613" y="556"/>
                  </a:lnTo>
                  <a:lnTo>
                    <a:pt x="672" y="624"/>
                  </a:lnTo>
                  <a:lnTo>
                    <a:pt x="711" y="702"/>
                  </a:lnTo>
                  <a:lnTo>
                    <a:pt x="760" y="799"/>
                  </a:lnTo>
                  <a:lnTo>
                    <a:pt x="691" y="741"/>
                  </a:lnTo>
                  <a:lnTo>
                    <a:pt x="643" y="614"/>
                  </a:lnTo>
                  <a:lnTo>
                    <a:pt x="594" y="614"/>
                  </a:lnTo>
                  <a:lnTo>
                    <a:pt x="555" y="634"/>
                  </a:lnTo>
                  <a:lnTo>
                    <a:pt x="487" y="546"/>
                  </a:lnTo>
                  <a:lnTo>
                    <a:pt x="428" y="449"/>
                  </a:lnTo>
                  <a:lnTo>
                    <a:pt x="370" y="380"/>
                  </a:lnTo>
                  <a:lnTo>
                    <a:pt x="331" y="390"/>
                  </a:lnTo>
                  <a:lnTo>
                    <a:pt x="331" y="449"/>
                  </a:lnTo>
                  <a:lnTo>
                    <a:pt x="292" y="449"/>
                  </a:lnTo>
                  <a:lnTo>
                    <a:pt x="253" y="351"/>
                  </a:lnTo>
                  <a:lnTo>
                    <a:pt x="234" y="264"/>
                  </a:lnTo>
                  <a:lnTo>
                    <a:pt x="146" y="176"/>
                  </a:lnTo>
                  <a:lnTo>
                    <a:pt x="117" y="244"/>
                  </a:lnTo>
                  <a:lnTo>
                    <a:pt x="97" y="166"/>
                  </a:lnTo>
                  <a:lnTo>
                    <a:pt x="97" y="117"/>
                  </a:lnTo>
                  <a:lnTo>
                    <a:pt x="0" y="0"/>
                  </a:lnTo>
                  <a:lnTo>
                    <a:pt x="87" y="39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33160" y="4800600"/>
              <a:ext cx="1254240" cy="1357200"/>
            </a:xfrm>
            <a:custGeom>
              <a:avLst/>
              <a:gdLst/>
              <a:ahLst/>
              <a:rect l="l" t="t" r="r" b="b"/>
              <a:pathLst>
                <a:path w="652" h="448">
                  <a:moveTo>
                    <a:pt x="0" y="0"/>
                  </a:moveTo>
                  <a:lnTo>
                    <a:pt x="116" y="49"/>
                  </a:lnTo>
                  <a:lnTo>
                    <a:pt x="263" y="146"/>
                  </a:lnTo>
                  <a:lnTo>
                    <a:pt x="350" y="215"/>
                  </a:lnTo>
                  <a:lnTo>
                    <a:pt x="477" y="263"/>
                  </a:lnTo>
                  <a:lnTo>
                    <a:pt x="565" y="331"/>
                  </a:lnTo>
                  <a:lnTo>
                    <a:pt x="652" y="448"/>
                  </a:lnTo>
                  <a:lnTo>
                    <a:pt x="545" y="361"/>
                  </a:lnTo>
                  <a:lnTo>
                    <a:pt x="418" y="283"/>
                  </a:lnTo>
                  <a:lnTo>
                    <a:pt x="399" y="322"/>
                  </a:lnTo>
                  <a:lnTo>
                    <a:pt x="272" y="234"/>
                  </a:lnTo>
                  <a:lnTo>
                    <a:pt x="243" y="156"/>
                  </a:lnTo>
                  <a:lnTo>
                    <a:pt x="126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01760" y="5833800"/>
              <a:ext cx="244080" cy="857160"/>
            </a:xfrm>
            <a:custGeom>
              <a:avLst/>
              <a:gdLst/>
              <a:ahLst/>
              <a:rect l="l" t="t" r="r" b="b"/>
              <a:pathLst>
                <a:path w="127" h="283">
                  <a:moveTo>
                    <a:pt x="39" y="0"/>
                  </a:moveTo>
                  <a:lnTo>
                    <a:pt x="0" y="117"/>
                  </a:lnTo>
                  <a:lnTo>
                    <a:pt x="0" y="205"/>
                  </a:lnTo>
                  <a:lnTo>
                    <a:pt x="39" y="137"/>
                  </a:lnTo>
                  <a:lnTo>
                    <a:pt x="59" y="244"/>
                  </a:lnTo>
                  <a:lnTo>
                    <a:pt x="127" y="283"/>
                  </a:lnTo>
                  <a:lnTo>
                    <a:pt x="107" y="185"/>
                  </a:lnTo>
                  <a:lnTo>
                    <a:pt x="68" y="8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96200" y="6660720"/>
              <a:ext cx="130320" cy="590400"/>
            </a:xfrm>
            <a:custGeom>
              <a:avLst/>
              <a:gdLst/>
              <a:ahLst/>
              <a:rect l="l" t="t" r="r" b="b"/>
              <a:pathLst>
                <a:path w="68" h="195">
                  <a:moveTo>
                    <a:pt x="0" y="0"/>
                  </a:moveTo>
                  <a:lnTo>
                    <a:pt x="19" y="88"/>
                  </a:lnTo>
                  <a:lnTo>
                    <a:pt x="68" y="195"/>
                  </a:lnTo>
                  <a:lnTo>
                    <a:pt x="58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32440" y="6039720"/>
              <a:ext cx="74880" cy="472320"/>
            </a:xfrm>
            <a:custGeom>
              <a:avLst/>
              <a:gdLst/>
              <a:ahLst/>
              <a:rect l="l" t="t" r="r" b="b"/>
              <a:pathLst>
                <a:path w="39" h="156">
                  <a:moveTo>
                    <a:pt x="10" y="0"/>
                  </a:moveTo>
                  <a:lnTo>
                    <a:pt x="39" y="59"/>
                  </a:lnTo>
                  <a:lnTo>
                    <a:pt x="39" y="156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07920" y="7103160"/>
              <a:ext cx="186480" cy="2664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48" y="0"/>
                  </a:moveTo>
                  <a:lnTo>
                    <a:pt x="97" y="88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31240" y="6248520"/>
              <a:ext cx="208080" cy="411840"/>
            </a:xfrm>
            <a:custGeom>
              <a:avLst/>
              <a:gdLst/>
              <a:ahLst/>
              <a:rect l="l" t="t" r="r" b="b"/>
              <a:pathLst>
                <a:path w="108" h="136">
                  <a:moveTo>
                    <a:pt x="0" y="0"/>
                  </a:moveTo>
                  <a:lnTo>
                    <a:pt x="30" y="78"/>
                  </a:lnTo>
                  <a:lnTo>
                    <a:pt x="108" y="136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64080" y="5803560"/>
              <a:ext cx="205920" cy="650880"/>
            </a:xfrm>
            <a:custGeom>
              <a:avLst/>
              <a:gdLst/>
              <a:ahLst/>
              <a:rect l="l" t="t" r="r" b="b"/>
              <a:pathLst>
                <a:path w="107" h="215">
                  <a:moveTo>
                    <a:pt x="0" y="69"/>
                  </a:moveTo>
                  <a:lnTo>
                    <a:pt x="29" y="127"/>
                  </a:lnTo>
                  <a:lnTo>
                    <a:pt x="107" y="215"/>
                  </a:lnTo>
                  <a:lnTo>
                    <a:pt x="78" y="127"/>
                  </a:lnTo>
                  <a:lnTo>
                    <a:pt x="29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07200" y="5657760"/>
              <a:ext cx="207360" cy="47232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8" y="0"/>
                  </a:moveTo>
                  <a:lnTo>
                    <a:pt x="49" y="58"/>
                  </a:lnTo>
                  <a:lnTo>
                    <a:pt x="0" y="156"/>
                  </a:lnTo>
                  <a:lnTo>
                    <a:pt x="69" y="117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3760" y="5303520"/>
              <a:ext cx="148320" cy="47232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77" y="0"/>
                  </a:moveTo>
                  <a:lnTo>
                    <a:pt x="19" y="68"/>
                  </a:lnTo>
                  <a:lnTo>
                    <a:pt x="0" y="156"/>
                  </a:lnTo>
                  <a:lnTo>
                    <a:pt x="68" y="88"/>
                  </a:lnTo>
                  <a:lnTo>
                    <a:pt x="68" y="88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88480" y="5894280"/>
              <a:ext cx="111600" cy="324000"/>
            </a:xfrm>
            <a:custGeom>
              <a:avLst/>
              <a:gdLst/>
              <a:ahLst/>
              <a:rect l="l" t="t" r="r" b="b"/>
              <a:pathLst>
                <a:path w="58" h="107">
                  <a:moveTo>
                    <a:pt x="10" y="0"/>
                  </a:moveTo>
                  <a:lnTo>
                    <a:pt x="58" y="107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52480" y="5657760"/>
              <a:ext cx="430560" cy="4118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224" y="0"/>
                  </a:moveTo>
                  <a:lnTo>
                    <a:pt x="117" y="48"/>
                  </a:lnTo>
                  <a:lnTo>
                    <a:pt x="0" y="136"/>
                  </a:lnTo>
                  <a:lnTo>
                    <a:pt x="97" y="117"/>
                  </a:lnTo>
                  <a:lnTo>
                    <a:pt x="166" y="6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25440" y="6306120"/>
              <a:ext cx="186480" cy="560160"/>
            </a:xfrm>
            <a:custGeom>
              <a:avLst/>
              <a:gdLst/>
              <a:ahLst/>
              <a:rect l="l" t="t" r="r" b="b"/>
              <a:pathLst>
                <a:path w="97" h="185">
                  <a:moveTo>
                    <a:pt x="0" y="0"/>
                  </a:moveTo>
                  <a:lnTo>
                    <a:pt x="29" y="107"/>
                  </a:lnTo>
                  <a:lnTo>
                    <a:pt x="97" y="185"/>
                  </a:lnTo>
                  <a:lnTo>
                    <a:pt x="68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040" y="6248520"/>
              <a:ext cx="2023920" cy="1120680"/>
            </a:xfrm>
            <a:custGeom>
              <a:avLst/>
              <a:gdLst/>
              <a:ahLst/>
              <a:rect l="l" t="t" r="r" b="b"/>
              <a:pathLst>
                <a:path w="1052" h="370">
                  <a:moveTo>
                    <a:pt x="799" y="126"/>
                  </a:moveTo>
                  <a:lnTo>
                    <a:pt x="633" y="165"/>
                  </a:lnTo>
                  <a:lnTo>
                    <a:pt x="438" y="243"/>
                  </a:lnTo>
                  <a:lnTo>
                    <a:pt x="195" y="263"/>
                  </a:lnTo>
                  <a:lnTo>
                    <a:pt x="0" y="214"/>
                  </a:lnTo>
                  <a:lnTo>
                    <a:pt x="166" y="311"/>
                  </a:lnTo>
                  <a:lnTo>
                    <a:pt x="97" y="341"/>
                  </a:lnTo>
                  <a:lnTo>
                    <a:pt x="234" y="341"/>
                  </a:lnTo>
                  <a:lnTo>
                    <a:pt x="312" y="302"/>
                  </a:lnTo>
                  <a:lnTo>
                    <a:pt x="546" y="233"/>
                  </a:lnTo>
                  <a:lnTo>
                    <a:pt x="604" y="311"/>
                  </a:lnTo>
                  <a:lnTo>
                    <a:pt x="653" y="214"/>
                  </a:lnTo>
                  <a:lnTo>
                    <a:pt x="760" y="204"/>
                  </a:lnTo>
                  <a:lnTo>
                    <a:pt x="740" y="272"/>
                  </a:lnTo>
                  <a:lnTo>
                    <a:pt x="692" y="370"/>
                  </a:lnTo>
                  <a:lnTo>
                    <a:pt x="779" y="331"/>
                  </a:lnTo>
                  <a:lnTo>
                    <a:pt x="818" y="204"/>
                  </a:lnTo>
                  <a:lnTo>
                    <a:pt x="926" y="107"/>
                  </a:lnTo>
                  <a:lnTo>
                    <a:pt x="1052" y="0"/>
                  </a:lnTo>
                  <a:lnTo>
                    <a:pt x="916" y="39"/>
                  </a:lnTo>
                  <a:lnTo>
                    <a:pt x="799" y="126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84600" y="5775840"/>
              <a:ext cx="1385280" cy="1002600"/>
            </a:xfrm>
            <a:custGeom>
              <a:avLst/>
              <a:gdLst/>
              <a:ahLst/>
              <a:rect l="l" t="t" r="r" b="b"/>
              <a:pathLst>
                <a:path w="720" h="331">
                  <a:moveTo>
                    <a:pt x="720" y="0"/>
                  </a:moveTo>
                  <a:lnTo>
                    <a:pt x="438" y="87"/>
                  </a:lnTo>
                  <a:lnTo>
                    <a:pt x="224" y="185"/>
                  </a:lnTo>
                  <a:lnTo>
                    <a:pt x="0" y="331"/>
                  </a:lnTo>
                  <a:lnTo>
                    <a:pt x="311" y="253"/>
                  </a:lnTo>
                  <a:lnTo>
                    <a:pt x="438" y="185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14200" y="5864040"/>
              <a:ext cx="2622240" cy="2153160"/>
            </a:xfrm>
            <a:custGeom>
              <a:avLst/>
              <a:gdLst/>
              <a:ahLst/>
              <a:rect l="l" t="t" r="r" b="b"/>
              <a:pathLst>
                <a:path w="1363" h="711">
                  <a:moveTo>
                    <a:pt x="331" y="39"/>
                  </a:moveTo>
                  <a:lnTo>
                    <a:pt x="750" y="312"/>
                  </a:lnTo>
                  <a:lnTo>
                    <a:pt x="1149" y="594"/>
                  </a:lnTo>
                  <a:lnTo>
                    <a:pt x="1363" y="711"/>
                  </a:lnTo>
                  <a:lnTo>
                    <a:pt x="906" y="497"/>
                  </a:lnTo>
                  <a:lnTo>
                    <a:pt x="379" y="175"/>
                  </a:lnTo>
                  <a:lnTo>
                    <a:pt x="0" y="0"/>
                  </a:lnTo>
                  <a:lnTo>
                    <a:pt x="331" y="39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5480" y="7190280"/>
              <a:ext cx="5286960" cy="2774520"/>
            </a:xfrm>
            <a:custGeom>
              <a:avLst/>
              <a:gdLst/>
              <a:ahLst/>
              <a:rect l="l" t="t" r="r" b="b"/>
              <a:pathLst>
                <a:path w="2748" h="916">
                  <a:moveTo>
                    <a:pt x="556" y="273"/>
                  </a:moveTo>
                  <a:lnTo>
                    <a:pt x="848" y="273"/>
                  </a:lnTo>
                  <a:lnTo>
                    <a:pt x="1092" y="371"/>
                  </a:lnTo>
                  <a:lnTo>
                    <a:pt x="1169" y="273"/>
                  </a:lnTo>
                  <a:lnTo>
                    <a:pt x="965" y="254"/>
                  </a:lnTo>
                  <a:lnTo>
                    <a:pt x="1169" y="215"/>
                  </a:lnTo>
                  <a:lnTo>
                    <a:pt x="1442" y="0"/>
                  </a:lnTo>
                  <a:lnTo>
                    <a:pt x="1345" y="215"/>
                  </a:lnTo>
                  <a:lnTo>
                    <a:pt x="1423" y="332"/>
                  </a:lnTo>
                  <a:lnTo>
                    <a:pt x="1725" y="332"/>
                  </a:lnTo>
                  <a:lnTo>
                    <a:pt x="2017" y="332"/>
                  </a:lnTo>
                  <a:lnTo>
                    <a:pt x="2192" y="497"/>
                  </a:lnTo>
                  <a:lnTo>
                    <a:pt x="1803" y="458"/>
                  </a:lnTo>
                  <a:lnTo>
                    <a:pt x="1618" y="517"/>
                  </a:lnTo>
                  <a:lnTo>
                    <a:pt x="1803" y="673"/>
                  </a:lnTo>
                  <a:lnTo>
                    <a:pt x="2270" y="712"/>
                  </a:lnTo>
                  <a:lnTo>
                    <a:pt x="2748" y="858"/>
                  </a:lnTo>
                  <a:lnTo>
                    <a:pt x="1822" y="858"/>
                  </a:lnTo>
                  <a:lnTo>
                    <a:pt x="1150" y="916"/>
                  </a:lnTo>
                  <a:lnTo>
                    <a:pt x="1403" y="653"/>
                  </a:lnTo>
                  <a:lnTo>
                    <a:pt x="1462" y="478"/>
                  </a:lnTo>
                  <a:lnTo>
                    <a:pt x="1033" y="536"/>
                  </a:lnTo>
                  <a:lnTo>
                    <a:pt x="351" y="819"/>
                  </a:lnTo>
                  <a:lnTo>
                    <a:pt x="673" y="517"/>
                  </a:lnTo>
                  <a:lnTo>
                    <a:pt x="419" y="439"/>
                  </a:lnTo>
                  <a:lnTo>
                    <a:pt x="234" y="419"/>
                  </a:lnTo>
                  <a:lnTo>
                    <a:pt x="215" y="215"/>
                  </a:lnTo>
                  <a:lnTo>
                    <a:pt x="0" y="117"/>
                  </a:lnTo>
                  <a:lnTo>
                    <a:pt x="273" y="117"/>
                  </a:lnTo>
                  <a:lnTo>
                    <a:pt x="556" y="273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64800" y="5509440"/>
              <a:ext cx="2399040" cy="3719160"/>
            </a:xfrm>
            <a:custGeom>
              <a:avLst/>
              <a:gdLst/>
              <a:ahLst/>
              <a:rect l="l" t="t" r="r" b="b"/>
              <a:pathLst>
                <a:path w="1247" h="1228">
                  <a:moveTo>
                    <a:pt x="272" y="0"/>
                  </a:moveTo>
                  <a:lnTo>
                    <a:pt x="448" y="78"/>
                  </a:lnTo>
                  <a:lnTo>
                    <a:pt x="487" y="312"/>
                  </a:lnTo>
                  <a:lnTo>
                    <a:pt x="594" y="536"/>
                  </a:lnTo>
                  <a:lnTo>
                    <a:pt x="711" y="711"/>
                  </a:lnTo>
                  <a:lnTo>
                    <a:pt x="847" y="731"/>
                  </a:lnTo>
                  <a:lnTo>
                    <a:pt x="1081" y="848"/>
                  </a:lnTo>
                  <a:lnTo>
                    <a:pt x="847" y="848"/>
                  </a:lnTo>
                  <a:lnTo>
                    <a:pt x="691" y="994"/>
                  </a:lnTo>
                  <a:lnTo>
                    <a:pt x="1003" y="994"/>
                  </a:lnTo>
                  <a:lnTo>
                    <a:pt x="1247" y="1228"/>
                  </a:lnTo>
                  <a:lnTo>
                    <a:pt x="964" y="1150"/>
                  </a:lnTo>
                  <a:lnTo>
                    <a:pt x="652" y="1150"/>
                  </a:lnTo>
                  <a:lnTo>
                    <a:pt x="311" y="1150"/>
                  </a:lnTo>
                  <a:lnTo>
                    <a:pt x="516" y="906"/>
                  </a:lnTo>
                  <a:lnTo>
                    <a:pt x="633" y="809"/>
                  </a:lnTo>
                  <a:lnTo>
                    <a:pt x="311" y="750"/>
                  </a:lnTo>
                  <a:lnTo>
                    <a:pt x="0" y="750"/>
                  </a:lnTo>
                  <a:lnTo>
                    <a:pt x="195" y="594"/>
                  </a:lnTo>
                  <a:lnTo>
                    <a:pt x="448" y="594"/>
                  </a:lnTo>
                  <a:lnTo>
                    <a:pt x="428" y="312"/>
                  </a:lnTo>
                  <a:lnTo>
                    <a:pt x="156" y="2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94400" y="5803560"/>
              <a:ext cx="3936240" cy="3867480"/>
            </a:xfrm>
            <a:custGeom>
              <a:avLst/>
              <a:gdLst/>
              <a:ahLst/>
              <a:rect l="l" t="t" r="r" b="b"/>
              <a:pathLst>
                <a:path w="2046" h="1277">
                  <a:moveTo>
                    <a:pt x="205" y="137"/>
                  </a:moveTo>
                  <a:lnTo>
                    <a:pt x="478" y="273"/>
                  </a:lnTo>
                  <a:lnTo>
                    <a:pt x="711" y="390"/>
                  </a:lnTo>
                  <a:lnTo>
                    <a:pt x="1091" y="614"/>
                  </a:lnTo>
                  <a:lnTo>
                    <a:pt x="1471" y="595"/>
                  </a:lnTo>
                  <a:lnTo>
                    <a:pt x="1802" y="653"/>
                  </a:lnTo>
                  <a:lnTo>
                    <a:pt x="2046" y="731"/>
                  </a:lnTo>
                  <a:lnTo>
                    <a:pt x="2046" y="1248"/>
                  </a:lnTo>
                  <a:lnTo>
                    <a:pt x="1764" y="1277"/>
                  </a:lnTo>
                  <a:lnTo>
                    <a:pt x="1345" y="1277"/>
                  </a:lnTo>
                  <a:lnTo>
                    <a:pt x="731" y="1033"/>
                  </a:lnTo>
                  <a:lnTo>
                    <a:pt x="400" y="809"/>
                  </a:lnTo>
                  <a:lnTo>
                    <a:pt x="692" y="809"/>
                  </a:lnTo>
                  <a:lnTo>
                    <a:pt x="1130" y="916"/>
                  </a:lnTo>
                  <a:lnTo>
                    <a:pt x="916" y="653"/>
                  </a:lnTo>
                  <a:lnTo>
                    <a:pt x="117" y="692"/>
                  </a:lnTo>
                  <a:lnTo>
                    <a:pt x="516" y="556"/>
                  </a:lnTo>
                  <a:lnTo>
                    <a:pt x="322" y="312"/>
                  </a:lnTo>
                  <a:lnTo>
                    <a:pt x="39" y="332"/>
                  </a:lnTo>
                  <a:lnTo>
                    <a:pt x="137" y="234"/>
                  </a:lnTo>
                  <a:lnTo>
                    <a:pt x="0" y="0"/>
                  </a:lnTo>
                  <a:lnTo>
                    <a:pt x="205" y="137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06840" y="6394320"/>
              <a:ext cx="1011960" cy="1504800"/>
            </a:xfrm>
            <a:custGeom>
              <a:avLst/>
              <a:gdLst/>
              <a:ahLst/>
              <a:rect l="l" t="t" r="r" b="b"/>
              <a:pathLst>
                <a:path w="526" h="497">
                  <a:moveTo>
                    <a:pt x="0" y="0"/>
                  </a:moveTo>
                  <a:lnTo>
                    <a:pt x="253" y="195"/>
                  </a:lnTo>
                  <a:lnTo>
                    <a:pt x="429" y="497"/>
                  </a:lnTo>
                  <a:lnTo>
                    <a:pt x="526" y="302"/>
                  </a:lnTo>
                  <a:lnTo>
                    <a:pt x="234" y="39"/>
                  </a:lnTo>
                  <a:lnTo>
                    <a:pt x="234" y="39"/>
                  </a:lnTo>
                  <a:lnTo>
                    <a:pt x="127" y="10"/>
                  </a:lnTo>
                  <a:lnTo>
                    <a:pt x="39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17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-1227600" y="8695800"/>
              <a:ext cx="10758960" cy="2302200"/>
            </a:xfrm>
            <a:custGeom>
              <a:avLst/>
              <a:gdLst/>
              <a:ahLst/>
              <a:rect l="l" t="t" r="r" b="b"/>
              <a:pathLst>
                <a:path w="5592" h="760">
                  <a:moveTo>
                    <a:pt x="185" y="20"/>
                  </a:moveTo>
                  <a:lnTo>
                    <a:pt x="399" y="39"/>
                  </a:lnTo>
                  <a:lnTo>
                    <a:pt x="623" y="254"/>
                  </a:lnTo>
                  <a:lnTo>
                    <a:pt x="838" y="419"/>
                  </a:lnTo>
                  <a:lnTo>
                    <a:pt x="1072" y="419"/>
                  </a:lnTo>
                  <a:lnTo>
                    <a:pt x="877" y="215"/>
                  </a:lnTo>
                  <a:lnTo>
                    <a:pt x="682" y="0"/>
                  </a:lnTo>
                  <a:lnTo>
                    <a:pt x="1159" y="176"/>
                  </a:lnTo>
                  <a:lnTo>
                    <a:pt x="1413" y="380"/>
                  </a:lnTo>
                  <a:lnTo>
                    <a:pt x="1734" y="380"/>
                  </a:lnTo>
                  <a:lnTo>
                    <a:pt x="2007" y="458"/>
                  </a:lnTo>
                  <a:lnTo>
                    <a:pt x="2952" y="400"/>
                  </a:lnTo>
                  <a:lnTo>
                    <a:pt x="3566" y="497"/>
                  </a:lnTo>
                  <a:lnTo>
                    <a:pt x="3312" y="234"/>
                  </a:lnTo>
                  <a:lnTo>
                    <a:pt x="3624" y="341"/>
                  </a:lnTo>
                  <a:lnTo>
                    <a:pt x="3868" y="341"/>
                  </a:lnTo>
                  <a:lnTo>
                    <a:pt x="3751" y="98"/>
                  </a:lnTo>
                  <a:lnTo>
                    <a:pt x="4140" y="234"/>
                  </a:lnTo>
                  <a:lnTo>
                    <a:pt x="4423" y="380"/>
                  </a:lnTo>
                  <a:lnTo>
                    <a:pt x="5037" y="293"/>
                  </a:lnTo>
                  <a:lnTo>
                    <a:pt x="5592" y="400"/>
                  </a:lnTo>
                  <a:lnTo>
                    <a:pt x="5592" y="575"/>
                  </a:lnTo>
                  <a:lnTo>
                    <a:pt x="5232" y="614"/>
                  </a:lnTo>
                  <a:lnTo>
                    <a:pt x="4618" y="673"/>
                  </a:lnTo>
                  <a:lnTo>
                    <a:pt x="4277" y="517"/>
                  </a:lnTo>
                  <a:lnTo>
                    <a:pt x="3751" y="478"/>
                  </a:lnTo>
                  <a:lnTo>
                    <a:pt x="4024" y="673"/>
                  </a:lnTo>
                  <a:lnTo>
                    <a:pt x="3683" y="741"/>
                  </a:lnTo>
                  <a:lnTo>
                    <a:pt x="2738" y="595"/>
                  </a:lnTo>
                  <a:lnTo>
                    <a:pt x="2484" y="653"/>
                  </a:lnTo>
                  <a:lnTo>
                    <a:pt x="1929" y="741"/>
                  </a:lnTo>
                  <a:lnTo>
                    <a:pt x="0" y="760"/>
                  </a:lnTo>
                  <a:lnTo>
                    <a:pt x="0" y="497"/>
                  </a:lnTo>
                  <a:lnTo>
                    <a:pt x="282" y="458"/>
                  </a:lnTo>
                  <a:lnTo>
                    <a:pt x="302" y="195"/>
                  </a:lnTo>
                  <a:lnTo>
                    <a:pt x="0" y="78"/>
                  </a:lnTo>
                  <a:lnTo>
                    <a:pt x="185" y="2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-646560" y="7426440"/>
              <a:ext cx="1798560" cy="1802160"/>
            </a:xfrm>
            <a:custGeom>
              <a:avLst/>
              <a:gdLst/>
              <a:ahLst/>
              <a:rect l="l" t="t" r="r" b="b"/>
              <a:pathLst>
                <a:path w="935" h="595">
                  <a:moveTo>
                    <a:pt x="497" y="0"/>
                  </a:moveTo>
                  <a:lnTo>
                    <a:pt x="175" y="78"/>
                  </a:lnTo>
                  <a:lnTo>
                    <a:pt x="0" y="234"/>
                  </a:lnTo>
                  <a:lnTo>
                    <a:pt x="341" y="137"/>
                  </a:lnTo>
                  <a:lnTo>
                    <a:pt x="555" y="361"/>
                  </a:lnTo>
                  <a:lnTo>
                    <a:pt x="935" y="595"/>
                  </a:lnTo>
                  <a:lnTo>
                    <a:pt x="731" y="312"/>
                  </a:lnTo>
                  <a:lnTo>
                    <a:pt x="633" y="137"/>
                  </a:lnTo>
                  <a:lnTo>
                    <a:pt x="633" y="137"/>
                  </a:lnTo>
                  <a:lnTo>
                    <a:pt x="546" y="59"/>
                  </a:lnTo>
                  <a:lnTo>
                    <a:pt x="497" y="10"/>
                  </a:lnTo>
                  <a:lnTo>
                    <a:pt x="487" y="0"/>
                  </a:lnTo>
                  <a:lnTo>
                    <a:pt x="497" y="0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27240" y="8371440"/>
              <a:ext cx="2324160" cy="1771920"/>
            </a:xfrm>
            <a:custGeom>
              <a:avLst/>
              <a:gdLst/>
              <a:ahLst/>
              <a:rect l="l" t="t" r="r" b="b"/>
              <a:pathLst>
                <a:path w="1208" h="585">
                  <a:moveTo>
                    <a:pt x="906" y="166"/>
                  </a:moveTo>
                  <a:lnTo>
                    <a:pt x="770" y="400"/>
                  </a:lnTo>
                  <a:lnTo>
                    <a:pt x="351" y="585"/>
                  </a:lnTo>
                  <a:lnTo>
                    <a:pt x="517" y="429"/>
                  </a:lnTo>
                  <a:lnTo>
                    <a:pt x="731" y="283"/>
                  </a:lnTo>
                  <a:lnTo>
                    <a:pt x="312" y="341"/>
                  </a:lnTo>
                  <a:lnTo>
                    <a:pt x="0" y="341"/>
                  </a:lnTo>
                  <a:lnTo>
                    <a:pt x="312" y="127"/>
                  </a:lnTo>
                  <a:lnTo>
                    <a:pt x="750" y="0"/>
                  </a:lnTo>
                  <a:lnTo>
                    <a:pt x="1208" y="0"/>
                  </a:lnTo>
                  <a:lnTo>
                    <a:pt x="906" y="166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69640" y="7426440"/>
              <a:ext cx="3018600" cy="1623600"/>
            </a:xfrm>
            <a:custGeom>
              <a:avLst/>
              <a:gdLst/>
              <a:ahLst/>
              <a:rect l="l" t="t" r="r" b="b"/>
              <a:pathLst>
                <a:path w="1569" h="536">
                  <a:moveTo>
                    <a:pt x="380" y="254"/>
                  </a:moveTo>
                  <a:lnTo>
                    <a:pt x="818" y="341"/>
                  </a:lnTo>
                  <a:lnTo>
                    <a:pt x="1033" y="478"/>
                  </a:lnTo>
                  <a:lnTo>
                    <a:pt x="1471" y="536"/>
                  </a:lnTo>
                  <a:lnTo>
                    <a:pt x="1091" y="341"/>
                  </a:lnTo>
                  <a:lnTo>
                    <a:pt x="1267" y="341"/>
                  </a:lnTo>
                  <a:lnTo>
                    <a:pt x="1569" y="341"/>
                  </a:lnTo>
                  <a:lnTo>
                    <a:pt x="1072" y="195"/>
                  </a:lnTo>
                  <a:lnTo>
                    <a:pt x="857" y="176"/>
                  </a:lnTo>
                  <a:lnTo>
                    <a:pt x="594" y="98"/>
                  </a:lnTo>
                  <a:lnTo>
                    <a:pt x="711" y="0"/>
                  </a:lnTo>
                  <a:lnTo>
                    <a:pt x="341" y="59"/>
                  </a:lnTo>
                  <a:lnTo>
                    <a:pt x="0" y="117"/>
                  </a:lnTo>
                  <a:lnTo>
                    <a:pt x="283" y="137"/>
                  </a:lnTo>
                  <a:lnTo>
                    <a:pt x="896" y="234"/>
                  </a:lnTo>
                  <a:lnTo>
                    <a:pt x="380" y="254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874720" y="8874360"/>
              <a:ext cx="655920" cy="708480"/>
            </a:xfrm>
            <a:custGeom>
              <a:avLst/>
              <a:gdLst/>
              <a:ahLst/>
              <a:rect l="l" t="t" r="r" b="b"/>
              <a:pathLst>
                <a:path w="341" h="234">
                  <a:moveTo>
                    <a:pt x="0" y="0"/>
                  </a:moveTo>
                  <a:lnTo>
                    <a:pt x="341" y="234"/>
                  </a:lnTo>
                  <a:lnTo>
                    <a:pt x="302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614600" y="260280"/>
            <a:ext cx="571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d1"/>
                </a:solidFill>
                <a:latin typeface="Arial"/>
              </a:rPr>
              <a:t>Any proof of P</a:t>
            </a:r>
            <a:r>
              <a:rPr b="1" lang="en-US" sz="3200" spc="-1" strike="noStrike">
                <a:solidFill>
                  <a:srgbClr val="ffffd1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ffffd1"/>
                </a:solidFill>
                <a:latin typeface="Arial"/>
              </a:rPr>
              <a:t>NP will have to defeat two terrifying monst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612720" y="6881760"/>
            <a:ext cx="11017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2880" y="28051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-36000" y="-458640"/>
            <a:ext cx="0" cy="11017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9180360" y="-1251000"/>
            <a:ext cx="0" cy="11017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1405080" y="-2700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39760" y="1892160"/>
            <a:ext cx="3513240" cy="2747880"/>
            <a:chOff x="239760" y="1892160"/>
            <a:chExt cx="3513240" cy="274788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 flipH="1">
              <a:off x="676080" y="2107800"/>
              <a:ext cx="2357640" cy="17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034080" y="1892160"/>
              <a:ext cx="718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9760" y="3784320"/>
              <a:ext cx="33116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Arial"/>
                </a:rPr>
                <a:t>Relativization</a:t>
              </a:r>
              <a:br>
                <a:rPr sz="3200"/>
              </a:br>
              <a:r>
                <a:rPr b="1" lang="en-CA" sz="1800" spc="-1" strike="noStrike">
                  <a:solidFill>
                    <a:srgbClr val="ffffff"/>
                  </a:solidFill>
                  <a:latin typeface="Arial"/>
                </a:rPr>
                <a:t>[Baker-Gill-Solovay 1975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797280" y="2809800"/>
            <a:ext cx="1873440" cy="679680"/>
          </a:xfrm>
          <a:prstGeom prst="ellipse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832360" y="2155680"/>
            <a:ext cx="3311640" cy="2578320"/>
            <a:chOff x="5832360" y="2155680"/>
            <a:chExt cx="3311640" cy="2578320"/>
          </a:xfrm>
        </p:grpSpPr>
        <p:sp>
          <p:nvSpPr>
            <p:cNvPr id="122" name=""/>
            <p:cNvSpPr/>
            <p:nvPr/>
          </p:nvSpPr>
          <p:spPr>
            <a:xfrm>
              <a:off x="5832360" y="3878280"/>
              <a:ext cx="33116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Arial"/>
                </a:rPr>
                <a:t>Natural Proofs</a:t>
              </a:r>
              <a:br>
                <a:rPr sz="3200"/>
              </a:br>
              <a:r>
                <a:rPr b="1" lang="en-CA" sz="1800" spc="-1" strike="noStrike">
                  <a:solidFill>
                    <a:srgbClr val="ffffff"/>
                  </a:solidFill>
                  <a:latin typeface="Arial"/>
                </a:rPr>
                <a:t>[Razborov-Rudich 1993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900760" y="2155680"/>
              <a:ext cx="3026880" cy="1625400"/>
              <a:chOff x="5900760" y="2155680"/>
              <a:chExt cx="3026880" cy="1625400"/>
            </a:xfrm>
          </p:grpSpPr>
          <p:sp>
            <p:nvSpPr>
              <p:cNvPr id="124" name=""/>
              <p:cNvSpPr/>
              <p:nvPr/>
            </p:nvSpPr>
            <p:spPr>
              <a:xfrm>
                <a:off x="6068520" y="2524320"/>
                <a:ext cx="2859120" cy="1256760"/>
              </a:xfrm>
              <a:custGeom>
                <a:avLst/>
                <a:gdLst/>
                <a:ahLst/>
                <a:rect l="l" t="t" r="r" b="b"/>
                <a:pathLst>
                  <a:path w="2191" h="964">
                    <a:moveTo>
                      <a:pt x="1243" y="697"/>
                    </a:moveTo>
                    <a:cubicBezTo>
                      <a:pt x="1289" y="682"/>
                      <a:pt x="1244" y="703"/>
                      <a:pt x="1271" y="669"/>
                    </a:cubicBezTo>
                    <a:cubicBezTo>
                      <a:pt x="1282" y="655"/>
                      <a:pt x="1318" y="630"/>
                      <a:pt x="1334" y="620"/>
                    </a:cubicBezTo>
                    <a:cubicBezTo>
                      <a:pt x="1343" y="592"/>
                      <a:pt x="1362" y="569"/>
                      <a:pt x="1376" y="542"/>
                    </a:cubicBezTo>
                    <a:cubicBezTo>
                      <a:pt x="1406" y="483"/>
                      <a:pt x="1396" y="432"/>
                      <a:pt x="1447" y="381"/>
                    </a:cubicBezTo>
                    <a:cubicBezTo>
                      <a:pt x="1453" y="375"/>
                      <a:pt x="1509" y="330"/>
                      <a:pt x="1517" y="325"/>
                    </a:cubicBezTo>
                    <a:cubicBezTo>
                      <a:pt x="1530" y="318"/>
                      <a:pt x="1559" y="311"/>
                      <a:pt x="1559" y="311"/>
                    </a:cubicBezTo>
                    <a:cubicBezTo>
                      <a:pt x="1600" y="267"/>
                      <a:pt x="1650" y="292"/>
                      <a:pt x="1714" y="296"/>
                    </a:cubicBezTo>
                    <a:cubicBezTo>
                      <a:pt x="1756" y="325"/>
                      <a:pt x="1769" y="345"/>
                      <a:pt x="1798" y="388"/>
                    </a:cubicBezTo>
                    <a:cubicBezTo>
                      <a:pt x="1821" y="422"/>
                      <a:pt x="1810" y="480"/>
                      <a:pt x="1833" y="514"/>
                    </a:cubicBezTo>
                    <a:cubicBezTo>
                      <a:pt x="1844" y="531"/>
                      <a:pt x="1874" y="532"/>
                      <a:pt x="1889" y="535"/>
                    </a:cubicBezTo>
                    <a:cubicBezTo>
                      <a:pt x="1915" y="533"/>
                      <a:pt x="1942" y="535"/>
                      <a:pt x="1967" y="528"/>
                    </a:cubicBezTo>
                    <a:cubicBezTo>
                      <a:pt x="1977" y="525"/>
                      <a:pt x="1980" y="513"/>
                      <a:pt x="1988" y="507"/>
                    </a:cubicBezTo>
                    <a:cubicBezTo>
                      <a:pt x="2018" y="484"/>
                      <a:pt x="2046" y="470"/>
                      <a:pt x="2072" y="444"/>
                    </a:cubicBezTo>
                    <a:cubicBezTo>
                      <a:pt x="2122" y="295"/>
                      <a:pt x="2086" y="121"/>
                      <a:pt x="1981" y="8"/>
                    </a:cubicBezTo>
                    <a:cubicBezTo>
                      <a:pt x="1988" y="6"/>
                      <a:pt x="1995" y="0"/>
                      <a:pt x="2002" y="1"/>
                    </a:cubicBezTo>
                    <a:cubicBezTo>
                      <a:pt x="2009" y="2"/>
                      <a:pt x="2057" y="32"/>
                      <a:pt x="2065" y="37"/>
                    </a:cubicBezTo>
                    <a:cubicBezTo>
                      <a:pt x="2079" y="58"/>
                      <a:pt x="2099" y="76"/>
                      <a:pt x="2107" y="100"/>
                    </a:cubicBezTo>
                    <a:cubicBezTo>
                      <a:pt x="2112" y="114"/>
                      <a:pt x="2121" y="142"/>
                      <a:pt x="2121" y="142"/>
                    </a:cubicBezTo>
                    <a:cubicBezTo>
                      <a:pt x="2128" y="197"/>
                      <a:pt x="2139" y="263"/>
                      <a:pt x="2170" y="311"/>
                    </a:cubicBezTo>
                    <a:cubicBezTo>
                      <a:pt x="2172" y="320"/>
                      <a:pt x="2174" y="330"/>
                      <a:pt x="2177" y="339"/>
                    </a:cubicBezTo>
                    <a:cubicBezTo>
                      <a:pt x="2181" y="353"/>
                      <a:pt x="2191" y="381"/>
                      <a:pt x="2191" y="381"/>
                    </a:cubicBezTo>
                    <a:cubicBezTo>
                      <a:pt x="2189" y="451"/>
                      <a:pt x="2188" y="521"/>
                      <a:pt x="2184" y="591"/>
                    </a:cubicBezTo>
                    <a:cubicBezTo>
                      <a:pt x="2184" y="598"/>
                      <a:pt x="2171" y="632"/>
                      <a:pt x="2163" y="634"/>
                    </a:cubicBezTo>
                    <a:cubicBezTo>
                      <a:pt x="2129" y="642"/>
                      <a:pt x="2093" y="639"/>
                      <a:pt x="2058" y="641"/>
                    </a:cubicBezTo>
                    <a:cubicBezTo>
                      <a:pt x="2044" y="646"/>
                      <a:pt x="2030" y="650"/>
                      <a:pt x="2016" y="655"/>
                    </a:cubicBezTo>
                    <a:cubicBezTo>
                      <a:pt x="2009" y="657"/>
                      <a:pt x="1995" y="662"/>
                      <a:pt x="1995" y="662"/>
                    </a:cubicBezTo>
                    <a:cubicBezTo>
                      <a:pt x="1714" y="655"/>
                      <a:pt x="1770" y="712"/>
                      <a:pt x="1664" y="613"/>
                    </a:cubicBezTo>
                    <a:cubicBezTo>
                      <a:pt x="1647" y="559"/>
                      <a:pt x="1672" y="622"/>
                      <a:pt x="1636" y="577"/>
                    </a:cubicBezTo>
                    <a:cubicBezTo>
                      <a:pt x="1597" y="529"/>
                      <a:pt x="1668" y="582"/>
                      <a:pt x="1608" y="542"/>
                    </a:cubicBezTo>
                    <a:cubicBezTo>
                      <a:pt x="1570" y="551"/>
                      <a:pt x="1541" y="560"/>
                      <a:pt x="1524" y="599"/>
                    </a:cubicBezTo>
                    <a:cubicBezTo>
                      <a:pt x="1518" y="613"/>
                      <a:pt x="1515" y="627"/>
                      <a:pt x="1510" y="641"/>
                    </a:cubicBezTo>
                    <a:cubicBezTo>
                      <a:pt x="1508" y="648"/>
                      <a:pt x="1503" y="662"/>
                      <a:pt x="1503" y="662"/>
                    </a:cubicBezTo>
                    <a:cubicBezTo>
                      <a:pt x="1501" y="702"/>
                      <a:pt x="1500" y="741"/>
                      <a:pt x="1496" y="781"/>
                    </a:cubicBezTo>
                    <a:cubicBezTo>
                      <a:pt x="1486" y="887"/>
                      <a:pt x="1356" y="841"/>
                      <a:pt x="1271" y="844"/>
                    </a:cubicBezTo>
                    <a:cubicBezTo>
                      <a:pt x="1188" y="872"/>
                      <a:pt x="1166" y="873"/>
                      <a:pt x="1067" y="879"/>
                    </a:cubicBezTo>
                    <a:cubicBezTo>
                      <a:pt x="1065" y="880"/>
                      <a:pt x="1023" y="891"/>
                      <a:pt x="1018" y="894"/>
                    </a:cubicBezTo>
                    <a:cubicBezTo>
                      <a:pt x="996" y="906"/>
                      <a:pt x="979" y="928"/>
                      <a:pt x="955" y="936"/>
                    </a:cubicBezTo>
                    <a:cubicBezTo>
                      <a:pt x="905" y="953"/>
                      <a:pt x="925" y="942"/>
                      <a:pt x="892" y="964"/>
                    </a:cubicBezTo>
                    <a:cubicBezTo>
                      <a:pt x="805" y="962"/>
                      <a:pt x="719" y="961"/>
                      <a:pt x="632" y="957"/>
                    </a:cubicBezTo>
                    <a:cubicBezTo>
                      <a:pt x="571" y="954"/>
                      <a:pt x="541" y="912"/>
                      <a:pt x="491" y="887"/>
                    </a:cubicBezTo>
                    <a:cubicBezTo>
                      <a:pt x="469" y="863"/>
                      <a:pt x="441" y="848"/>
                      <a:pt x="414" y="830"/>
                    </a:cubicBezTo>
                    <a:cubicBezTo>
                      <a:pt x="400" y="821"/>
                      <a:pt x="372" y="802"/>
                      <a:pt x="372" y="802"/>
                    </a:cubicBezTo>
                    <a:cubicBezTo>
                      <a:pt x="344" y="760"/>
                      <a:pt x="293" y="728"/>
                      <a:pt x="253" y="697"/>
                    </a:cubicBezTo>
                    <a:cubicBezTo>
                      <a:pt x="233" y="681"/>
                      <a:pt x="207" y="673"/>
                      <a:pt x="189" y="655"/>
                    </a:cubicBezTo>
                    <a:cubicBezTo>
                      <a:pt x="176" y="642"/>
                      <a:pt x="167" y="626"/>
                      <a:pt x="154" y="613"/>
                    </a:cubicBezTo>
                    <a:cubicBezTo>
                      <a:pt x="114" y="573"/>
                      <a:pt x="149" y="623"/>
                      <a:pt x="119" y="584"/>
                    </a:cubicBezTo>
                    <a:cubicBezTo>
                      <a:pt x="96" y="554"/>
                      <a:pt x="74" y="521"/>
                      <a:pt x="42" y="500"/>
                    </a:cubicBezTo>
                    <a:cubicBezTo>
                      <a:pt x="26" y="477"/>
                      <a:pt x="9" y="471"/>
                      <a:pt x="0" y="444"/>
                    </a:cubicBezTo>
                    <a:cubicBezTo>
                      <a:pt x="8" y="412"/>
                      <a:pt x="10" y="399"/>
                      <a:pt x="42" y="388"/>
                    </a:cubicBezTo>
                    <a:cubicBezTo>
                      <a:pt x="115" y="393"/>
                      <a:pt x="187" y="397"/>
                      <a:pt x="260" y="402"/>
                    </a:cubicBezTo>
                    <a:cubicBezTo>
                      <a:pt x="268" y="403"/>
                      <a:pt x="273" y="413"/>
                      <a:pt x="281" y="416"/>
                    </a:cubicBezTo>
                    <a:cubicBezTo>
                      <a:pt x="294" y="422"/>
                      <a:pt x="323" y="430"/>
                      <a:pt x="323" y="430"/>
                    </a:cubicBezTo>
                    <a:cubicBezTo>
                      <a:pt x="341" y="457"/>
                      <a:pt x="340" y="445"/>
                      <a:pt x="330" y="479"/>
                    </a:cubicBezTo>
                    <a:cubicBezTo>
                      <a:pt x="326" y="493"/>
                      <a:pt x="316" y="521"/>
                      <a:pt x="316" y="521"/>
                    </a:cubicBezTo>
                    <a:cubicBezTo>
                      <a:pt x="325" y="592"/>
                      <a:pt x="317" y="559"/>
                      <a:pt x="337" y="620"/>
                    </a:cubicBezTo>
                    <a:cubicBezTo>
                      <a:pt x="341" y="633"/>
                      <a:pt x="370" y="636"/>
                      <a:pt x="379" y="641"/>
                    </a:cubicBezTo>
                    <a:cubicBezTo>
                      <a:pt x="435" y="672"/>
                      <a:pt x="484" y="701"/>
                      <a:pt x="548" y="711"/>
                    </a:cubicBezTo>
                    <a:cubicBezTo>
                      <a:pt x="571" y="719"/>
                      <a:pt x="595" y="724"/>
                      <a:pt x="618" y="732"/>
                    </a:cubicBezTo>
                    <a:cubicBezTo>
                      <a:pt x="623" y="725"/>
                      <a:pt x="626" y="717"/>
                      <a:pt x="632" y="711"/>
                    </a:cubicBezTo>
                    <a:cubicBezTo>
                      <a:pt x="638" y="705"/>
                      <a:pt x="648" y="704"/>
                      <a:pt x="653" y="697"/>
                    </a:cubicBezTo>
                    <a:cubicBezTo>
                      <a:pt x="657" y="692"/>
                      <a:pt x="667" y="650"/>
                      <a:pt x="667" y="648"/>
                    </a:cubicBezTo>
                    <a:cubicBezTo>
                      <a:pt x="669" y="573"/>
                      <a:pt x="638" y="489"/>
                      <a:pt x="674" y="423"/>
                    </a:cubicBezTo>
                    <a:cubicBezTo>
                      <a:pt x="693" y="388"/>
                      <a:pt x="754" y="421"/>
                      <a:pt x="793" y="416"/>
                    </a:cubicBezTo>
                    <a:cubicBezTo>
                      <a:pt x="808" y="414"/>
                      <a:pt x="836" y="402"/>
                      <a:pt x="836" y="402"/>
                    </a:cubicBezTo>
                    <a:cubicBezTo>
                      <a:pt x="876" y="404"/>
                      <a:pt x="916" y="399"/>
                      <a:pt x="955" y="409"/>
                    </a:cubicBezTo>
                    <a:cubicBezTo>
                      <a:pt x="962" y="411"/>
                      <a:pt x="952" y="424"/>
                      <a:pt x="948" y="430"/>
                    </a:cubicBezTo>
                    <a:cubicBezTo>
                      <a:pt x="930" y="463"/>
                      <a:pt x="915" y="487"/>
                      <a:pt x="885" y="507"/>
                    </a:cubicBezTo>
                    <a:cubicBezTo>
                      <a:pt x="865" y="546"/>
                      <a:pt x="834" y="578"/>
                      <a:pt x="807" y="613"/>
                    </a:cubicBezTo>
                    <a:cubicBezTo>
                      <a:pt x="797" y="626"/>
                      <a:pt x="784" y="639"/>
                      <a:pt x="779" y="655"/>
                    </a:cubicBezTo>
                    <a:cubicBezTo>
                      <a:pt x="774" y="669"/>
                      <a:pt x="765" y="697"/>
                      <a:pt x="765" y="697"/>
                    </a:cubicBezTo>
                    <a:cubicBezTo>
                      <a:pt x="784" y="811"/>
                      <a:pt x="809" y="759"/>
                      <a:pt x="969" y="753"/>
                    </a:cubicBezTo>
                    <a:cubicBezTo>
                      <a:pt x="976" y="751"/>
                      <a:pt x="984" y="750"/>
                      <a:pt x="990" y="746"/>
                    </a:cubicBezTo>
                    <a:cubicBezTo>
                      <a:pt x="1125" y="671"/>
                      <a:pt x="969" y="707"/>
                      <a:pt x="1243" y="697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900760" y="2155680"/>
                <a:ext cx="755280" cy="10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729120" y="2155680"/>
                <a:ext cx="845280" cy="102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 rot="14457600">
                <a:off x="8498520" y="2512440"/>
                <a:ext cx="120960" cy="311760"/>
              </a:xfrm>
              <a:prstGeom prst="triangle">
                <a:avLst>
                  <a:gd name="adj" fmla="val 5037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5001800">
                <a:off x="8558280" y="2635200"/>
                <a:ext cx="120960" cy="311760"/>
              </a:xfrm>
              <a:prstGeom prst="triangle">
                <a:avLst>
                  <a:gd name="adj" fmla="val 5037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5980400">
                <a:off x="8579520" y="2761200"/>
                <a:ext cx="120960" cy="311760"/>
              </a:xfrm>
              <a:prstGeom prst="triangle">
                <a:avLst>
                  <a:gd name="adj" fmla="val 5037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7503800">
                <a:off x="8565120" y="2880360"/>
                <a:ext cx="120960" cy="311760"/>
              </a:xfrm>
              <a:prstGeom prst="triangle">
                <a:avLst>
                  <a:gd name="adj" fmla="val 5037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212760" y="5760"/>
            <a:ext cx="2279880" cy="2999520"/>
            <a:chOff x="212760" y="5760"/>
            <a:chExt cx="2279880" cy="2999520"/>
          </a:xfrm>
        </p:grpSpPr>
        <p:grpSp>
          <p:nvGrpSpPr>
            <p:cNvPr id="132" name=""/>
            <p:cNvGrpSpPr/>
            <p:nvPr/>
          </p:nvGrpSpPr>
          <p:grpSpPr>
            <a:xfrm>
              <a:off x="212760" y="401760"/>
              <a:ext cx="1902600" cy="2603520"/>
              <a:chOff x="212760" y="401760"/>
              <a:chExt cx="1902600" cy="2603520"/>
            </a:xfrm>
          </p:grpSpPr>
          <p:sp>
            <p:nvSpPr>
              <p:cNvPr id="133" name=""/>
              <p:cNvSpPr/>
              <p:nvPr/>
            </p:nvSpPr>
            <p:spPr>
              <a:xfrm rot="20596800">
                <a:off x="352800" y="479160"/>
                <a:ext cx="677880" cy="952200"/>
              </a:xfrm>
              <a:custGeom>
                <a:avLst/>
                <a:gdLst/>
                <a:ahLst/>
                <a:rect l="l" t="t" r="r" b="b"/>
                <a:pathLst>
                  <a:path w="853" h="1200">
                    <a:moveTo>
                      <a:pt x="422" y="1200"/>
                    </a:moveTo>
                    <a:lnTo>
                      <a:pt x="420" y="1196"/>
                    </a:lnTo>
                    <a:lnTo>
                      <a:pt x="416" y="1188"/>
                    </a:lnTo>
                    <a:lnTo>
                      <a:pt x="414" y="1181"/>
                    </a:lnTo>
                    <a:lnTo>
                      <a:pt x="414" y="1175"/>
                    </a:lnTo>
                    <a:lnTo>
                      <a:pt x="412" y="1167"/>
                    </a:lnTo>
                    <a:lnTo>
                      <a:pt x="414" y="1158"/>
                    </a:lnTo>
                    <a:lnTo>
                      <a:pt x="414" y="1148"/>
                    </a:lnTo>
                    <a:lnTo>
                      <a:pt x="418" y="1137"/>
                    </a:lnTo>
                    <a:lnTo>
                      <a:pt x="422" y="1126"/>
                    </a:lnTo>
                    <a:lnTo>
                      <a:pt x="431" y="1114"/>
                    </a:lnTo>
                    <a:lnTo>
                      <a:pt x="441" y="1099"/>
                    </a:lnTo>
                    <a:lnTo>
                      <a:pt x="454" y="1086"/>
                    </a:lnTo>
                    <a:lnTo>
                      <a:pt x="467" y="1070"/>
                    </a:lnTo>
                    <a:lnTo>
                      <a:pt x="488" y="1057"/>
                    </a:lnTo>
                    <a:lnTo>
                      <a:pt x="486" y="1053"/>
                    </a:lnTo>
                    <a:lnTo>
                      <a:pt x="486" y="1046"/>
                    </a:lnTo>
                    <a:lnTo>
                      <a:pt x="484" y="1032"/>
                    </a:lnTo>
                    <a:lnTo>
                      <a:pt x="482" y="1017"/>
                    </a:lnTo>
                    <a:lnTo>
                      <a:pt x="479" y="996"/>
                    </a:lnTo>
                    <a:lnTo>
                      <a:pt x="475" y="975"/>
                    </a:lnTo>
                    <a:lnTo>
                      <a:pt x="471" y="953"/>
                    </a:lnTo>
                    <a:lnTo>
                      <a:pt x="465" y="930"/>
                    </a:lnTo>
                    <a:lnTo>
                      <a:pt x="458" y="903"/>
                    </a:lnTo>
                    <a:lnTo>
                      <a:pt x="448" y="880"/>
                    </a:lnTo>
                    <a:lnTo>
                      <a:pt x="437" y="856"/>
                    </a:lnTo>
                    <a:lnTo>
                      <a:pt x="427" y="837"/>
                    </a:lnTo>
                    <a:lnTo>
                      <a:pt x="412" y="818"/>
                    </a:lnTo>
                    <a:lnTo>
                      <a:pt x="395" y="802"/>
                    </a:lnTo>
                    <a:lnTo>
                      <a:pt x="376" y="789"/>
                    </a:lnTo>
                    <a:lnTo>
                      <a:pt x="357" y="783"/>
                    </a:lnTo>
                    <a:lnTo>
                      <a:pt x="336" y="781"/>
                    </a:lnTo>
                    <a:lnTo>
                      <a:pt x="315" y="783"/>
                    </a:lnTo>
                    <a:lnTo>
                      <a:pt x="292" y="789"/>
                    </a:lnTo>
                    <a:lnTo>
                      <a:pt x="273" y="797"/>
                    </a:lnTo>
                    <a:lnTo>
                      <a:pt x="254" y="808"/>
                    </a:lnTo>
                    <a:lnTo>
                      <a:pt x="235" y="821"/>
                    </a:lnTo>
                    <a:lnTo>
                      <a:pt x="218" y="835"/>
                    </a:lnTo>
                    <a:lnTo>
                      <a:pt x="203" y="850"/>
                    </a:lnTo>
                    <a:lnTo>
                      <a:pt x="188" y="865"/>
                    </a:lnTo>
                    <a:lnTo>
                      <a:pt x="176" y="880"/>
                    </a:lnTo>
                    <a:lnTo>
                      <a:pt x="165" y="894"/>
                    </a:lnTo>
                    <a:lnTo>
                      <a:pt x="155" y="907"/>
                    </a:lnTo>
                    <a:lnTo>
                      <a:pt x="148" y="918"/>
                    </a:lnTo>
                    <a:lnTo>
                      <a:pt x="142" y="928"/>
                    </a:lnTo>
                    <a:lnTo>
                      <a:pt x="138" y="932"/>
                    </a:lnTo>
                    <a:lnTo>
                      <a:pt x="138" y="935"/>
                    </a:lnTo>
                    <a:lnTo>
                      <a:pt x="119" y="825"/>
                    </a:lnTo>
                    <a:lnTo>
                      <a:pt x="117" y="825"/>
                    </a:lnTo>
                    <a:lnTo>
                      <a:pt x="114" y="827"/>
                    </a:lnTo>
                    <a:lnTo>
                      <a:pt x="108" y="827"/>
                    </a:lnTo>
                    <a:lnTo>
                      <a:pt x="100" y="831"/>
                    </a:lnTo>
                    <a:lnTo>
                      <a:pt x="91" y="833"/>
                    </a:lnTo>
                    <a:lnTo>
                      <a:pt x="81" y="837"/>
                    </a:lnTo>
                    <a:lnTo>
                      <a:pt x="70" y="838"/>
                    </a:lnTo>
                    <a:lnTo>
                      <a:pt x="60" y="840"/>
                    </a:lnTo>
                    <a:lnTo>
                      <a:pt x="47" y="842"/>
                    </a:lnTo>
                    <a:lnTo>
                      <a:pt x="38" y="842"/>
                    </a:lnTo>
                    <a:lnTo>
                      <a:pt x="28" y="842"/>
                    </a:lnTo>
                    <a:lnTo>
                      <a:pt x="20" y="842"/>
                    </a:lnTo>
                    <a:lnTo>
                      <a:pt x="11" y="838"/>
                    </a:lnTo>
                    <a:lnTo>
                      <a:pt x="7" y="837"/>
                    </a:lnTo>
                    <a:lnTo>
                      <a:pt x="5" y="829"/>
                    </a:lnTo>
                    <a:lnTo>
                      <a:pt x="5" y="823"/>
                    </a:lnTo>
                    <a:lnTo>
                      <a:pt x="5" y="814"/>
                    </a:lnTo>
                    <a:lnTo>
                      <a:pt x="7" y="808"/>
                    </a:lnTo>
                    <a:lnTo>
                      <a:pt x="11" y="799"/>
                    </a:lnTo>
                    <a:lnTo>
                      <a:pt x="15" y="793"/>
                    </a:lnTo>
                    <a:lnTo>
                      <a:pt x="20" y="787"/>
                    </a:lnTo>
                    <a:lnTo>
                      <a:pt x="26" y="781"/>
                    </a:lnTo>
                    <a:lnTo>
                      <a:pt x="32" y="776"/>
                    </a:lnTo>
                    <a:lnTo>
                      <a:pt x="39" y="770"/>
                    </a:lnTo>
                    <a:lnTo>
                      <a:pt x="43" y="764"/>
                    </a:lnTo>
                    <a:lnTo>
                      <a:pt x="49" y="761"/>
                    </a:lnTo>
                    <a:lnTo>
                      <a:pt x="55" y="757"/>
                    </a:lnTo>
                    <a:lnTo>
                      <a:pt x="60" y="753"/>
                    </a:lnTo>
                    <a:lnTo>
                      <a:pt x="68" y="749"/>
                    </a:lnTo>
                    <a:lnTo>
                      <a:pt x="72" y="749"/>
                    </a:lnTo>
                    <a:lnTo>
                      <a:pt x="0" y="658"/>
                    </a:lnTo>
                    <a:lnTo>
                      <a:pt x="1" y="658"/>
                    </a:lnTo>
                    <a:lnTo>
                      <a:pt x="11" y="658"/>
                    </a:lnTo>
                    <a:lnTo>
                      <a:pt x="24" y="658"/>
                    </a:lnTo>
                    <a:lnTo>
                      <a:pt x="41" y="660"/>
                    </a:lnTo>
                    <a:lnTo>
                      <a:pt x="62" y="660"/>
                    </a:lnTo>
                    <a:lnTo>
                      <a:pt x="87" y="660"/>
                    </a:lnTo>
                    <a:lnTo>
                      <a:pt x="114" y="662"/>
                    </a:lnTo>
                    <a:lnTo>
                      <a:pt x="140" y="662"/>
                    </a:lnTo>
                    <a:lnTo>
                      <a:pt x="169" y="662"/>
                    </a:lnTo>
                    <a:lnTo>
                      <a:pt x="197" y="662"/>
                    </a:lnTo>
                    <a:lnTo>
                      <a:pt x="226" y="660"/>
                    </a:lnTo>
                    <a:lnTo>
                      <a:pt x="254" y="660"/>
                    </a:lnTo>
                    <a:lnTo>
                      <a:pt x="279" y="658"/>
                    </a:lnTo>
                    <a:lnTo>
                      <a:pt x="302" y="656"/>
                    </a:lnTo>
                    <a:lnTo>
                      <a:pt x="323" y="652"/>
                    </a:lnTo>
                    <a:lnTo>
                      <a:pt x="338" y="650"/>
                    </a:lnTo>
                    <a:lnTo>
                      <a:pt x="336" y="645"/>
                    </a:lnTo>
                    <a:lnTo>
                      <a:pt x="334" y="637"/>
                    </a:lnTo>
                    <a:lnTo>
                      <a:pt x="328" y="622"/>
                    </a:lnTo>
                    <a:lnTo>
                      <a:pt x="323" y="603"/>
                    </a:lnTo>
                    <a:lnTo>
                      <a:pt x="313" y="580"/>
                    </a:lnTo>
                    <a:lnTo>
                      <a:pt x="304" y="555"/>
                    </a:lnTo>
                    <a:lnTo>
                      <a:pt x="294" y="527"/>
                    </a:lnTo>
                    <a:lnTo>
                      <a:pt x="283" y="498"/>
                    </a:lnTo>
                    <a:lnTo>
                      <a:pt x="269" y="468"/>
                    </a:lnTo>
                    <a:lnTo>
                      <a:pt x="256" y="439"/>
                    </a:lnTo>
                    <a:lnTo>
                      <a:pt x="241" y="409"/>
                    </a:lnTo>
                    <a:lnTo>
                      <a:pt x="228" y="382"/>
                    </a:lnTo>
                    <a:lnTo>
                      <a:pt x="212" y="357"/>
                    </a:lnTo>
                    <a:lnTo>
                      <a:pt x="197" y="337"/>
                    </a:lnTo>
                    <a:lnTo>
                      <a:pt x="182" y="318"/>
                    </a:lnTo>
                    <a:lnTo>
                      <a:pt x="167" y="306"/>
                    </a:lnTo>
                    <a:lnTo>
                      <a:pt x="152" y="295"/>
                    </a:lnTo>
                    <a:lnTo>
                      <a:pt x="136" y="287"/>
                    </a:lnTo>
                    <a:lnTo>
                      <a:pt x="123" y="278"/>
                    </a:lnTo>
                    <a:lnTo>
                      <a:pt x="110" y="270"/>
                    </a:lnTo>
                    <a:lnTo>
                      <a:pt x="98" y="260"/>
                    </a:lnTo>
                    <a:lnTo>
                      <a:pt x="89" y="253"/>
                    </a:lnTo>
                    <a:lnTo>
                      <a:pt x="81" y="243"/>
                    </a:lnTo>
                    <a:lnTo>
                      <a:pt x="74" y="236"/>
                    </a:lnTo>
                    <a:lnTo>
                      <a:pt x="66" y="224"/>
                    </a:lnTo>
                    <a:lnTo>
                      <a:pt x="60" y="213"/>
                    </a:lnTo>
                    <a:lnTo>
                      <a:pt x="57" y="200"/>
                    </a:lnTo>
                    <a:lnTo>
                      <a:pt x="57" y="186"/>
                    </a:lnTo>
                    <a:lnTo>
                      <a:pt x="55" y="169"/>
                    </a:lnTo>
                    <a:lnTo>
                      <a:pt x="58" y="152"/>
                    </a:lnTo>
                    <a:lnTo>
                      <a:pt x="62" y="131"/>
                    </a:lnTo>
                    <a:lnTo>
                      <a:pt x="70" y="106"/>
                    </a:lnTo>
                    <a:lnTo>
                      <a:pt x="76" y="82"/>
                    </a:lnTo>
                    <a:lnTo>
                      <a:pt x="87" y="61"/>
                    </a:lnTo>
                    <a:lnTo>
                      <a:pt x="102" y="44"/>
                    </a:lnTo>
                    <a:lnTo>
                      <a:pt x="119" y="30"/>
                    </a:lnTo>
                    <a:lnTo>
                      <a:pt x="136" y="17"/>
                    </a:lnTo>
                    <a:lnTo>
                      <a:pt x="157" y="10"/>
                    </a:lnTo>
                    <a:lnTo>
                      <a:pt x="178" y="4"/>
                    </a:lnTo>
                    <a:lnTo>
                      <a:pt x="199" y="2"/>
                    </a:lnTo>
                    <a:lnTo>
                      <a:pt x="220" y="0"/>
                    </a:lnTo>
                    <a:lnTo>
                      <a:pt x="241" y="2"/>
                    </a:lnTo>
                    <a:lnTo>
                      <a:pt x="262" y="6"/>
                    </a:lnTo>
                    <a:lnTo>
                      <a:pt x="281" y="13"/>
                    </a:lnTo>
                    <a:lnTo>
                      <a:pt x="296" y="19"/>
                    </a:lnTo>
                    <a:lnTo>
                      <a:pt x="311" y="29"/>
                    </a:lnTo>
                    <a:lnTo>
                      <a:pt x="325" y="38"/>
                    </a:lnTo>
                    <a:lnTo>
                      <a:pt x="334" y="49"/>
                    </a:lnTo>
                    <a:lnTo>
                      <a:pt x="340" y="63"/>
                    </a:lnTo>
                    <a:lnTo>
                      <a:pt x="344" y="74"/>
                    </a:lnTo>
                    <a:lnTo>
                      <a:pt x="349" y="87"/>
                    </a:lnTo>
                    <a:lnTo>
                      <a:pt x="353" y="101"/>
                    </a:lnTo>
                    <a:lnTo>
                      <a:pt x="353" y="114"/>
                    </a:lnTo>
                    <a:lnTo>
                      <a:pt x="355" y="127"/>
                    </a:lnTo>
                    <a:lnTo>
                      <a:pt x="357" y="141"/>
                    </a:lnTo>
                    <a:lnTo>
                      <a:pt x="359" y="156"/>
                    </a:lnTo>
                    <a:lnTo>
                      <a:pt x="357" y="167"/>
                    </a:lnTo>
                    <a:lnTo>
                      <a:pt x="357" y="181"/>
                    </a:lnTo>
                    <a:lnTo>
                      <a:pt x="357" y="192"/>
                    </a:lnTo>
                    <a:lnTo>
                      <a:pt x="355" y="205"/>
                    </a:lnTo>
                    <a:lnTo>
                      <a:pt x="353" y="217"/>
                    </a:lnTo>
                    <a:lnTo>
                      <a:pt x="351" y="228"/>
                    </a:lnTo>
                    <a:lnTo>
                      <a:pt x="349" y="238"/>
                    </a:lnTo>
                    <a:lnTo>
                      <a:pt x="349" y="249"/>
                    </a:lnTo>
                    <a:lnTo>
                      <a:pt x="345" y="260"/>
                    </a:lnTo>
                    <a:lnTo>
                      <a:pt x="345" y="276"/>
                    </a:lnTo>
                    <a:lnTo>
                      <a:pt x="347" y="297"/>
                    </a:lnTo>
                    <a:lnTo>
                      <a:pt x="349" y="321"/>
                    </a:lnTo>
                    <a:lnTo>
                      <a:pt x="353" y="346"/>
                    </a:lnTo>
                    <a:lnTo>
                      <a:pt x="357" y="375"/>
                    </a:lnTo>
                    <a:lnTo>
                      <a:pt x="364" y="405"/>
                    </a:lnTo>
                    <a:lnTo>
                      <a:pt x="372" y="435"/>
                    </a:lnTo>
                    <a:lnTo>
                      <a:pt x="382" y="466"/>
                    </a:lnTo>
                    <a:lnTo>
                      <a:pt x="389" y="494"/>
                    </a:lnTo>
                    <a:lnTo>
                      <a:pt x="401" y="521"/>
                    </a:lnTo>
                    <a:lnTo>
                      <a:pt x="412" y="549"/>
                    </a:lnTo>
                    <a:lnTo>
                      <a:pt x="425" y="570"/>
                    </a:lnTo>
                    <a:lnTo>
                      <a:pt x="437" y="591"/>
                    </a:lnTo>
                    <a:lnTo>
                      <a:pt x="452" y="607"/>
                    </a:lnTo>
                    <a:lnTo>
                      <a:pt x="467" y="620"/>
                    </a:lnTo>
                    <a:lnTo>
                      <a:pt x="469" y="616"/>
                    </a:lnTo>
                    <a:lnTo>
                      <a:pt x="477" y="612"/>
                    </a:lnTo>
                    <a:lnTo>
                      <a:pt x="486" y="607"/>
                    </a:lnTo>
                    <a:lnTo>
                      <a:pt x="501" y="599"/>
                    </a:lnTo>
                    <a:lnTo>
                      <a:pt x="517" y="588"/>
                    </a:lnTo>
                    <a:lnTo>
                      <a:pt x="536" y="576"/>
                    </a:lnTo>
                    <a:lnTo>
                      <a:pt x="556" y="563"/>
                    </a:lnTo>
                    <a:lnTo>
                      <a:pt x="579" y="549"/>
                    </a:lnTo>
                    <a:lnTo>
                      <a:pt x="600" y="532"/>
                    </a:lnTo>
                    <a:lnTo>
                      <a:pt x="621" y="517"/>
                    </a:lnTo>
                    <a:lnTo>
                      <a:pt x="642" y="498"/>
                    </a:lnTo>
                    <a:lnTo>
                      <a:pt x="663" y="481"/>
                    </a:lnTo>
                    <a:lnTo>
                      <a:pt x="680" y="462"/>
                    </a:lnTo>
                    <a:lnTo>
                      <a:pt x="695" y="445"/>
                    </a:lnTo>
                    <a:lnTo>
                      <a:pt x="709" y="428"/>
                    </a:lnTo>
                    <a:lnTo>
                      <a:pt x="718" y="411"/>
                    </a:lnTo>
                    <a:lnTo>
                      <a:pt x="731" y="489"/>
                    </a:lnTo>
                    <a:lnTo>
                      <a:pt x="731" y="487"/>
                    </a:lnTo>
                    <a:lnTo>
                      <a:pt x="737" y="487"/>
                    </a:lnTo>
                    <a:lnTo>
                      <a:pt x="741" y="485"/>
                    </a:lnTo>
                    <a:lnTo>
                      <a:pt x="748" y="485"/>
                    </a:lnTo>
                    <a:lnTo>
                      <a:pt x="756" y="485"/>
                    </a:lnTo>
                    <a:lnTo>
                      <a:pt x="766" y="483"/>
                    </a:lnTo>
                    <a:lnTo>
                      <a:pt x="775" y="483"/>
                    </a:lnTo>
                    <a:lnTo>
                      <a:pt x="786" y="483"/>
                    </a:lnTo>
                    <a:lnTo>
                      <a:pt x="798" y="483"/>
                    </a:lnTo>
                    <a:lnTo>
                      <a:pt x="807" y="483"/>
                    </a:lnTo>
                    <a:lnTo>
                      <a:pt x="817" y="485"/>
                    </a:lnTo>
                    <a:lnTo>
                      <a:pt x="828" y="487"/>
                    </a:lnTo>
                    <a:lnTo>
                      <a:pt x="836" y="489"/>
                    </a:lnTo>
                    <a:lnTo>
                      <a:pt x="842" y="492"/>
                    </a:lnTo>
                    <a:lnTo>
                      <a:pt x="847" y="498"/>
                    </a:lnTo>
                    <a:lnTo>
                      <a:pt x="853" y="504"/>
                    </a:lnTo>
                    <a:lnTo>
                      <a:pt x="853" y="510"/>
                    </a:lnTo>
                    <a:lnTo>
                      <a:pt x="853" y="517"/>
                    </a:lnTo>
                    <a:lnTo>
                      <a:pt x="849" y="525"/>
                    </a:lnTo>
                    <a:lnTo>
                      <a:pt x="847" y="532"/>
                    </a:lnTo>
                    <a:lnTo>
                      <a:pt x="840" y="540"/>
                    </a:lnTo>
                    <a:lnTo>
                      <a:pt x="834" y="548"/>
                    </a:lnTo>
                    <a:lnTo>
                      <a:pt x="824" y="555"/>
                    </a:lnTo>
                    <a:lnTo>
                      <a:pt x="817" y="563"/>
                    </a:lnTo>
                    <a:lnTo>
                      <a:pt x="807" y="568"/>
                    </a:lnTo>
                    <a:lnTo>
                      <a:pt x="798" y="576"/>
                    </a:lnTo>
                    <a:lnTo>
                      <a:pt x="788" y="580"/>
                    </a:lnTo>
                    <a:lnTo>
                      <a:pt x="781" y="588"/>
                    </a:lnTo>
                    <a:lnTo>
                      <a:pt x="771" y="589"/>
                    </a:lnTo>
                    <a:lnTo>
                      <a:pt x="762" y="593"/>
                    </a:lnTo>
                    <a:lnTo>
                      <a:pt x="754" y="595"/>
                    </a:lnTo>
                    <a:lnTo>
                      <a:pt x="748" y="597"/>
                    </a:lnTo>
                    <a:lnTo>
                      <a:pt x="748" y="599"/>
                    </a:lnTo>
                    <a:lnTo>
                      <a:pt x="748" y="608"/>
                    </a:lnTo>
                    <a:lnTo>
                      <a:pt x="748" y="614"/>
                    </a:lnTo>
                    <a:lnTo>
                      <a:pt x="750" y="622"/>
                    </a:lnTo>
                    <a:lnTo>
                      <a:pt x="752" y="627"/>
                    </a:lnTo>
                    <a:lnTo>
                      <a:pt x="754" y="637"/>
                    </a:lnTo>
                    <a:lnTo>
                      <a:pt x="756" y="643"/>
                    </a:lnTo>
                    <a:lnTo>
                      <a:pt x="758" y="652"/>
                    </a:lnTo>
                    <a:lnTo>
                      <a:pt x="762" y="660"/>
                    </a:lnTo>
                    <a:lnTo>
                      <a:pt x="766" y="667"/>
                    </a:lnTo>
                    <a:lnTo>
                      <a:pt x="769" y="675"/>
                    </a:lnTo>
                    <a:lnTo>
                      <a:pt x="773" y="683"/>
                    </a:lnTo>
                    <a:lnTo>
                      <a:pt x="777" y="688"/>
                    </a:lnTo>
                    <a:lnTo>
                      <a:pt x="783" y="696"/>
                    </a:lnTo>
                    <a:lnTo>
                      <a:pt x="781" y="696"/>
                    </a:lnTo>
                    <a:lnTo>
                      <a:pt x="771" y="696"/>
                    </a:lnTo>
                    <a:lnTo>
                      <a:pt x="760" y="696"/>
                    </a:lnTo>
                    <a:lnTo>
                      <a:pt x="745" y="696"/>
                    </a:lnTo>
                    <a:lnTo>
                      <a:pt x="728" y="694"/>
                    </a:lnTo>
                    <a:lnTo>
                      <a:pt x="707" y="694"/>
                    </a:lnTo>
                    <a:lnTo>
                      <a:pt x="684" y="694"/>
                    </a:lnTo>
                    <a:lnTo>
                      <a:pt x="661" y="696"/>
                    </a:lnTo>
                    <a:lnTo>
                      <a:pt x="636" y="696"/>
                    </a:lnTo>
                    <a:lnTo>
                      <a:pt x="613" y="696"/>
                    </a:lnTo>
                    <a:lnTo>
                      <a:pt x="591" y="698"/>
                    </a:lnTo>
                    <a:lnTo>
                      <a:pt x="570" y="700"/>
                    </a:lnTo>
                    <a:lnTo>
                      <a:pt x="551" y="702"/>
                    </a:lnTo>
                    <a:lnTo>
                      <a:pt x="536" y="705"/>
                    </a:lnTo>
                    <a:lnTo>
                      <a:pt x="524" y="707"/>
                    </a:lnTo>
                    <a:lnTo>
                      <a:pt x="515" y="715"/>
                    </a:lnTo>
                    <a:lnTo>
                      <a:pt x="511" y="721"/>
                    </a:lnTo>
                    <a:lnTo>
                      <a:pt x="509" y="732"/>
                    </a:lnTo>
                    <a:lnTo>
                      <a:pt x="509" y="747"/>
                    </a:lnTo>
                    <a:lnTo>
                      <a:pt x="513" y="766"/>
                    </a:lnTo>
                    <a:lnTo>
                      <a:pt x="517" y="785"/>
                    </a:lnTo>
                    <a:lnTo>
                      <a:pt x="524" y="810"/>
                    </a:lnTo>
                    <a:lnTo>
                      <a:pt x="532" y="835"/>
                    </a:lnTo>
                    <a:lnTo>
                      <a:pt x="541" y="859"/>
                    </a:lnTo>
                    <a:lnTo>
                      <a:pt x="551" y="884"/>
                    </a:lnTo>
                    <a:lnTo>
                      <a:pt x="562" y="909"/>
                    </a:lnTo>
                    <a:lnTo>
                      <a:pt x="575" y="932"/>
                    </a:lnTo>
                    <a:lnTo>
                      <a:pt x="587" y="953"/>
                    </a:lnTo>
                    <a:lnTo>
                      <a:pt x="600" y="972"/>
                    </a:lnTo>
                    <a:lnTo>
                      <a:pt x="612" y="987"/>
                    </a:lnTo>
                    <a:lnTo>
                      <a:pt x="623" y="998"/>
                    </a:lnTo>
                    <a:lnTo>
                      <a:pt x="636" y="1008"/>
                    </a:lnTo>
                    <a:lnTo>
                      <a:pt x="636" y="1006"/>
                    </a:lnTo>
                    <a:lnTo>
                      <a:pt x="640" y="1006"/>
                    </a:lnTo>
                    <a:lnTo>
                      <a:pt x="644" y="1004"/>
                    </a:lnTo>
                    <a:lnTo>
                      <a:pt x="650" y="1004"/>
                    </a:lnTo>
                    <a:lnTo>
                      <a:pt x="655" y="1002"/>
                    </a:lnTo>
                    <a:lnTo>
                      <a:pt x="663" y="1002"/>
                    </a:lnTo>
                    <a:lnTo>
                      <a:pt x="672" y="1002"/>
                    </a:lnTo>
                    <a:lnTo>
                      <a:pt x="682" y="1004"/>
                    </a:lnTo>
                    <a:lnTo>
                      <a:pt x="691" y="1006"/>
                    </a:lnTo>
                    <a:lnTo>
                      <a:pt x="699" y="1010"/>
                    </a:lnTo>
                    <a:lnTo>
                      <a:pt x="709" y="1013"/>
                    </a:lnTo>
                    <a:lnTo>
                      <a:pt x="720" y="1021"/>
                    </a:lnTo>
                    <a:lnTo>
                      <a:pt x="728" y="1029"/>
                    </a:lnTo>
                    <a:lnTo>
                      <a:pt x="735" y="1040"/>
                    </a:lnTo>
                    <a:lnTo>
                      <a:pt x="741" y="1053"/>
                    </a:lnTo>
                    <a:lnTo>
                      <a:pt x="748" y="1070"/>
                    </a:lnTo>
                    <a:lnTo>
                      <a:pt x="748" y="1086"/>
                    </a:lnTo>
                    <a:lnTo>
                      <a:pt x="741" y="1101"/>
                    </a:lnTo>
                    <a:lnTo>
                      <a:pt x="728" y="1114"/>
                    </a:lnTo>
                    <a:lnTo>
                      <a:pt x="709" y="1127"/>
                    </a:lnTo>
                    <a:lnTo>
                      <a:pt x="682" y="1139"/>
                    </a:lnTo>
                    <a:lnTo>
                      <a:pt x="655" y="1148"/>
                    </a:lnTo>
                    <a:lnTo>
                      <a:pt x="625" y="1158"/>
                    </a:lnTo>
                    <a:lnTo>
                      <a:pt x="594" y="1169"/>
                    </a:lnTo>
                    <a:lnTo>
                      <a:pt x="562" y="1175"/>
                    </a:lnTo>
                    <a:lnTo>
                      <a:pt x="530" y="1181"/>
                    </a:lnTo>
                    <a:lnTo>
                      <a:pt x="501" y="1186"/>
                    </a:lnTo>
                    <a:lnTo>
                      <a:pt x="477" y="1190"/>
                    </a:lnTo>
                    <a:lnTo>
                      <a:pt x="454" y="1192"/>
                    </a:lnTo>
                    <a:lnTo>
                      <a:pt x="437" y="1196"/>
                    </a:lnTo>
                    <a:lnTo>
                      <a:pt x="425" y="1198"/>
                    </a:lnTo>
                    <a:lnTo>
                      <a:pt x="422" y="1200"/>
                    </a:lnTo>
                    <a:lnTo>
                      <a:pt x="422" y="120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20596800">
                <a:off x="774000" y="1116720"/>
                <a:ext cx="79200" cy="183960"/>
              </a:xfrm>
              <a:custGeom>
                <a:avLst/>
                <a:gdLst/>
                <a:ahLst/>
                <a:rect l="l" t="t" r="r" b="b"/>
                <a:pathLst>
                  <a:path w="101" h="232">
                    <a:moveTo>
                      <a:pt x="101" y="194"/>
                    </a:moveTo>
                    <a:lnTo>
                      <a:pt x="99" y="190"/>
                    </a:lnTo>
                    <a:lnTo>
                      <a:pt x="99" y="184"/>
                    </a:lnTo>
                    <a:lnTo>
                      <a:pt x="97" y="173"/>
                    </a:lnTo>
                    <a:lnTo>
                      <a:pt x="95" y="161"/>
                    </a:lnTo>
                    <a:lnTo>
                      <a:pt x="91" y="144"/>
                    </a:lnTo>
                    <a:lnTo>
                      <a:pt x="87" y="127"/>
                    </a:lnTo>
                    <a:lnTo>
                      <a:pt x="82" y="110"/>
                    </a:lnTo>
                    <a:lnTo>
                      <a:pt x="78" y="93"/>
                    </a:lnTo>
                    <a:lnTo>
                      <a:pt x="70" y="72"/>
                    </a:lnTo>
                    <a:lnTo>
                      <a:pt x="63" y="55"/>
                    </a:lnTo>
                    <a:lnTo>
                      <a:pt x="55" y="38"/>
                    </a:lnTo>
                    <a:lnTo>
                      <a:pt x="46" y="24"/>
                    </a:lnTo>
                    <a:lnTo>
                      <a:pt x="34" y="11"/>
                    </a:lnTo>
                    <a:lnTo>
                      <a:pt x="25" y="3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63" y="232"/>
                    </a:lnTo>
                    <a:lnTo>
                      <a:pt x="101" y="194"/>
                    </a:lnTo>
                    <a:lnTo>
                      <a:pt x="101" y="1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20596800">
                <a:off x="899640" y="794520"/>
                <a:ext cx="53640" cy="345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7" y="43"/>
                    </a:moveTo>
                    <a:lnTo>
                      <a:pt x="7" y="43"/>
                    </a:lnTo>
                    <a:lnTo>
                      <a:pt x="11" y="43"/>
                    </a:lnTo>
                    <a:lnTo>
                      <a:pt x="15" y="41"/>
                    </a:lnTo>
                    <a:lnTo>
                      <a:pt x="20" y="41"/>
                    </a:lnTo>
                    <a:lnTo>
                      <a:pt x="28" y="39"/>
                    </a:lnTo>
                    <a:lnTo>
                      <a:pt x="36" y="38"/>
                    </a:lnTo>
                    <a:lnTo>
                      <a:pt x="43" y="36"/>
                    </a:lnTo>
                    <a:lnTo>
                      <a:pt x="51" y="34"/>
                    </a:lnTo>
                    <a:lnTo>
                      <a:pt x="57" y="30"/>
                    </a:lnTo>
                    <a:lnTo>
                      <a:pt x="62" y="28"/>
                    </a:lnTo>
                    <a:lnTo>
                      <a:pt x="64" y="24"/>
                    </a:lnTo>
                    <a:lnTo>
                      <a:pt x="66" y="22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55" y="9"/>
                    </a:lnTo>
                    <a:lnTo>
                      <a:pt x="45" y="7"/>
                    </a:lnTo>
                    <a:lnTo>
                      <a:pt x="32" y="1"/>
                    </a:lnTo>
                    <a:lnTo>
                      <a:pt x="24" y="0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1" y="34"/>
                    </a:lnTo>
                    <a:lnTo>
                      <a:pt x="3" y="41"/>
                    </a:lnTo>
                    <a:lnTo>
                      <a:pt x="7" y="43"/>
                    </a:lnTo>
                    <a:lnTo>
                      <a:pt x="7" y="4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20596800">
                <a:off x="422280" y="1153800"/>
                <a:ext cx="63360" cy="55440"/>
              </a:xfrm>
              <a:custGeom>
                <a:avLst/>
                <a:gdLst/>
                <a:ahLst/>
                <a:rect l="l" t="t" r="r" b="b"/>
                <a:pathLst>
                  <a:path w="79" h="68">
                    <a:moveTo>
                      <a:pt x="60" y="0"/>
                    </a:moveTo>
                    <a:lnTo>
                      <a:pt x="59" y="0"/>
                    </a:lnTo>
                    <a:lnTo>
                      <a:pt x="57" y="4"/>
                    </a:lnTo>
                    <a:lnTo>
                      <a:pt x="53" y="6"/>
                    </a:lnTo>
                    <a:lnTo>
                      <a:pt x="47" y="11"/>
                    </a:lnTo>
                    <a:lnTo>
                      <a:pt x="40" y="15"/>
                    </a:lnTo>
                    <a:lnTo>
                      <a:pt x="34" y="21"/>
                    </a:lnTo>
                    <a:lnTo>
                      <a:pt x="28" y="27"/>
                    </a:lnTo>
                    <a:lnTo>
                      <a:pt x="22" y="32"/>
                    </a:lnTo>
                    <a:lnTo>
                      <a:pt x="15" y="38"/>
                    </a:lnTo>
                    <a:lnTo>
                      <a:pt x="9" y="44"/>
                    </a:lnTo>
                    <a:lnTo>
                      <a:pt x="5" y="49"/>
                    </a:lnTo>
                    <a:lnTo>
                      <a:pt x="2" y="55"/>
                    </a:lnTo>
                    <a:lnTo>
                      <a:pt x="0" y="59"/>
                    </a:lnTo>
                    <a:lnTo>
                      <a:pt x="0" y="65"/>
                    </a:lnTo>
                    <a:lnTo>
                      <a:pt x="2" y="66"/>
                    </a:lnTo>
                    <a:lnTo>
                      <a:pt x="7" y="68"/>
                    </a:lnTo>
                    <a:lnTo>
                      <a:pt x="13" y="68"/>
                    </a:lnTo>
                    <a:lnTo>
                      <a:pt x="21" y="66"/>
                    </a:lnTo>
                    <a:lnTo>
                      <a:pt x="26" y="65"/>
                    </a:lnTo>
                    <a:lnTo>
                      <a:pt x="32" y="63"/>
                    </a:lnTo>
                    <a:lnTo>
                      <a:pt x="38" y="59"/>
                    </a:lnTo>
                    <a:lnTo>
                      <a:pt x="43" y="57"/>
                    </a:lnTo>
                    <a:lnTo>
                      <a:pt x="51" y="53"/>
                    </a:lnTo>
                    <a:lnTo>
                      <a:pt x="57" y="49"/>
                    </a:lnTo>
                    <a:lnTo>
                      <a:pt x="66" y="42"/>
                    </a:lnTo>
                    <a:lnTo>
                      <a:pt x="72" y="36"/>
                    </a:lnTo>
                    <a:lnTo>
                      <a:pt x="78" y="30"/>
                    </a:lnTo>
                    <a:lnTo>
                      <a:pt x="79" y="28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0596800">
                <a:off x="449280" y="1073520"/>
                <a:ext cx="244440" cy="102600"/>
              </a:xfrm>
              <a:custGeom>
                <a:avLst/>
                <a:gdLst/>
                <a:ahLst/>
                <a:rect l="l" t="t" r="r" b="b"/>
                <a:pathLst>
                  <a:path w="310" h="129">
                    <a:moveTo>
                      <a:pt x="0" y="19"/>
                    </a:moveTo>
                    <a:lnTo>
                      <a:pt x="2" y="19"/>
                    </a:lnTo>
                    <a:lnTo>
                      <a:pt x="8" y="19"/>
                    </a:lnTo>
                    <a:lnTo>
                      <a:pt x="19" y="19"/>
                    </a:lnTo>
                    <a:lnTo>
                      <a:pt x="32" y="19"/>
                    </a:lnTo>
                    <a:lnTo>
                      <a:pt x="50" y="19"/>
                    </a:lnTo>
                    <a:lnTo>
                      <a:pt x="69" y="21"/>
                    </a:lnTo>
                    <a:lnTo>
                      <a:pt x="89" y="21"/>
                    </a:lnTo>
                    <a:lnTo>
                      <a:pt x="114" y="21"/>
                    </a:lnTo>
                    <a:lnTo>
                      <a:pt x="139" y="21"/>
                    </a:lnTo>
                    <a:lnTo>
                      <a:pt x="164" y="19"/>
                    </a:lnTo>
                    <a:lnTo>
                      <a:pt x="190" y="17"/>
                    </a:lnTo>
                    <a:lnTo>
                      <a:pt x="217" y="17"/>
                    </a:lnTo>
                    <a:lnTo>
                      <a:pt x="242" y="11"/>
                    </a:lnTo>
                    <a:lnTo>
                      <a:pt x="268" y="9"/>
                    </a:lnTo>
                    <a:lnTo>
                      <a:pt x="310" y="0"/>
                    </a:lnTo>
                    <a:lnTo>
                      <a:pt x="281" y="11"/>
                    </a:lnTo>
                    <a:lnTo>
                      <a:pt x="264" y="17"/>
                    </a:lnTo>
                    <a:lnTo>
                      <a:pt x="247" y="25"/>
                    </a:lnTo>
                    <a:lnTo>
                      <a:pt x="226" y="32"/>
                    </a:lnTo>
                    <a:lnTo>
                      <a:pt x="207" y="42"/>
                    </a:lnTo>
                    <a:lnTo>
                      <a:pt x="185" y="51"/>
                    </a:lnTo>
                    <a:lnTo>
                      <a:pt x="164" y="61"/>
                    </a:lnTo>
                    <a:lnTo>
                      <a:pt x="143" y="70"/>
                    </a:lnTo>
                    <a:lnTo>
                      <a:pt x="122" y="84"/>
                    </a:lnTo>
                    <a:lnTo>
                      <a:pt x="103" y="95"/>
                    </a:lnTo>
                    <a:lnTo>
                      <a:pt x="86" y="106"/>
                    </a:lnTo>
                    <a:lnTo>
                      <a:pt x="72" y="118"/>
                    </a:lnTo>
                    <a:lnTo>
                      <a:pt x="61" y="12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0596800">
                <a:off x="540720" y="829440"/>
                <a:ext cx="117360" cy="191880"/>
              </a:xfrm>
              <a:custGeom>
                <a:avLst/>
                <a:gdLst/>
                <a:ahLst/>
                <a:rect l="l" t="t" r="r" b="b"/>
                <a:pathLst>
                  <a:path w="149" h="241">
                    <a:moveTo>
                      <a:pt x="105" y="241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0" y="3"/>
                    </a:lnTo>
                    <a:lnTo>
                      <a:pt x="14" y="5"/>
                    </a:lnTo>
                    <a:lnTo>
                      <a:pt x="21" y="11"/>
                    </a:lnTo>
                    <a:lnTo>
                      <a:pt x="27" y="17"/>
                    </a:lnTo>
                    <a:lnTo>
                      <a:pt x="37" y="28"/>
                    </a:lnTo>
                    <a:lnTo>
                      <a:pt x="46" y="38"/>
                    </a:lnTo>
                    <a:lnTo>
                      <a:pt x="57" y="53"/>
                    </a:lnTo>
                    <a:lnTo>
                      <a:pt x="69" y="72"/>
                    </a:lnTo>
                    <a:lnTo>
                      <a:pt x="82" y="93"/>
                    </a:lnTo>
                    <a:lnTo>
                      <a:pt x="97" y="119"/>
                    </a:lnTo>
                    <a:lnTo>
                      <a:pt x="113" y="150"/>
                    </a:lnTo>
                    <a:lnTo>
                      <a:pt x="130" y="184"/>
                    </a:lnTo>
                    <a:lnTo>
                      <a:pt x="149" y="226"/>
                    </a:lnTo>
                    <a:lnTo>
                      <a:pt x="105" y="241"/>
                    </a:lnTo>
                    <a:lnTo>
                      <a:pt x="105" y="2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0596800">
                <a:off x="336240" y="482400"/>
                <a:ext cx="702000" cy="963000"/>
              </a:xfrm>
              <a:custGeom>
                <a:avLst/>
                <a:gdLst/>
                <a:ahLst/>
                <a:rect l="l" t="t" r="r" b="b"/>
                <a:pathLst>
                  <a:path w="884" h="1215">
                    <a:moveTo>
                      <a:pt x="110" y="70"/>
                    </a:moveTo>
                    <a:lnTo>
                      <a:pt x="112" y="68"/>
                    </a:lnTo>
                    <a:lnTo>
                      <a:pt x="116" y="66"/>
                    </a:lnTo>
                    <a:lnTo>
                      <a:pt x="121" y="65"/>
                    </a:lnTo>
                    <a:lnTo>
                      <a:pt x="133" y="63"/>
                    </a:lnTo>
                    <a:lnTo>
                      <a:pt x="144" y="59"/>
                    </a:lnTo>
                    <a:lnTo>
                      <a:pt x="158" y="57"/>
                    </a:lnTo>
                    <a:lnTo>
                      <a:pt x="171" y="55"/>
                    </a:lnTo>
                    <a:lnTo>
                      <a:pt x="186" y="55"/>
                    </a:lnTo>
                    <a:lnTo>
                      <a:pt x="199" y="55"/>
                    </a:lnTo>
                    <a:lnTo>
                      <a:pt x="213" y="57"/>
                    </a:lnTo>
                    <a:lnTo>
                      <a:pt x="228" y="59"/>
                    </a:lnTo>
                    <a:lnTo>
                      <a:pt x="241" y="63"/>
                    </a:lnTo>
                    <a:lnTo>
                      <a:pt x="253" y="70"/>
                    </a:lnTo>
                    <a:lnTo>
                      <a:pt x="262" y="80"/>
                    </a:lnTo>
                    <a:lnTo>
                      <a:pt x="270" y="93"/>
                    </a:lnTo>
                    <a:lnTo>
                      <a:pt x="275" y="108"/>
                    </a:lnTo>
                    <a:lnTo>
                      <a:pt x="275" y="124"/>
                    </a:lnTo>
                    <a:lnTo>
                      <a:pt x="277" y="139"/>
                    </a:lnTo>
                    <a:lnTo>
                      <a:pt x="275" y="152"/>
                    </a:lnTo>
                    <a:lnTo>
                      <a:pt x="274" y="165"/>
                    </a:lnTo>
                    <a:lnTo>
                      <a:pt x="268" y="175"/>
                    </a:lnTo>
                    <a:lnTo>
                      <a:pt x="264" y="182"/>
                    </a:lnTo>
                    <a:lnTo>
                      <a:pt x="256" y="190"/>
                    </a:lnTo>
                    <a:lnTo>
                      <a:pt x="251" y="198"/>
                    </a:lnTo>
                    <a:lnTo>
                      <a:pt x="243" y="201"/>
                    </a:lnTo>
                    <a:lnTo>
                      <a:pt x="237" y="207"/>
                    </a:lnTo>
                    <a:lnTo>
                      <a:pt x="232" y="209"/>
                    </a:lnTo>
                    <a:lnTo>
                      <a:pt x="226" y="213"/>
                    </a:lnTo>
                    <a:lnTo>
                      <a:pt x="217" y="215"/>
                    </a:lnTo>
                    <a:lnTo>
                      <a:pt x="215" y="217"/>
                    </a:lnTo>
                    <a:lnTo>
                      <a:pt x="217" y="217"/>
                    </a:lnTo>
                    <a:lnTo>
                      <a:pt x="224" y="220"/>
                    </a:lnTo>
                    <a:lnTo>
                      <a:pt x="228" y="220"/>
                    </a:lnTo>
                    <a:lnTo>
                      <a:pt x="236" y="222"/>
                    </a:lnTo>
                    <a:lnTo>
                      <a:pt x="241" y="222"/>
                    </a:lnTo>
                    <a:lnTo>
                      <a:pt x="249" y="224"/>
                    </a:lnTo>
                    <a:lnTo>
                      <a:pt x="256" y="224"/>
                    </a:lnTo>
                    <a:lnTo>
                      <a:pt x="264" y="224"/>
                    </a:lnTo>
                    <a:lnTo>
                      <a:pt x="272" y="222"/>
                    </a:lnTo>
                    <a:lnTo>
                      <a:pt x="281" y="220"/>
                    </a:lnTo>
                    <a:lnTo>
                      <a:pt x="289" y="217"/>
                    </a:lnTo>
                    <a:lnTo>
                      <a:pt x="298" y="213"/>
                    </a:lnTo>
                    <a:lnTo>
                      <a:pt x="308" y="207"/>
                    </a:lnTo>
                    <a:lnTo>
                      <a:pt x="317" y="201"/>
                    </a:lnTo>
                    <a:lnTo>
                      <a:pt x="315" y="203"/>
                    </a:lnTo>
                    <a:lnTo>
                      <a:pt x="312" y="213"/>
                    </a:lnTo>
                    <a:lnTo>
                      <a:pt x="308" y="217"/>
                    </a:lnTo>
                    <a:lnTo>
                      <a:pt x="304" y="222"/>
                    </a:lnTo>
                    <a:lnTo>
                      <a:pt x="298" y="228"/>
                    </a:lnTo>
                    <a:lnTo>
                      <a:pt x="294" y="236"/>
                    </a:lnTo>
                    <a:lnTo>
                      <a:pt x="285" y="241"/>
                    </a:lnTo>
                    <a:lnTo>
                      <a:pt x="274" y="249"/>
                    </a:lnTo>
                    <a:lnTo>
                      <a:pt x="262" y="255"/>
                    </a:lnTo>
                    <a:lnTo>
                      <a:pt x="251" y="262"/>
                    </a:lnTo>
                    <a:lnTo>
                      <a:pt x="234" y="268"/>
                    </a:lnTo>
                    <a:lnTo>
                      <a:pt x="215" y="274"/>
                    </a:lnTo>
                    <a:lnTo>
                      <a:pt x="196" y="278"/>
                    </a:lnTo>
                    <a:lnTo>
                      <a:pt x="173" y="281"/>
                    </a:lnTo>
                    <a:lnTo>
                      <a:pt x="243" y="380"/>
                    </a:lnTo>
                    <a:lnTo>
                      <a:pt x="245" y="378"/>
                    </a:lnTo>
                    <a:lnTo>
                      <a:pt x="253" y="376"/>
                    </a:lnTo>
                    <a:lnTo>
                      <a:pt x="256" y="376"/>
                    </a:lnTo>
                    <a:lnTo>
                      <a:pt x="264" y="374"/>
                    </a:lnTo>
                    <a:lnTo>
                      <a:pt x="270" y="374"/>
                    </a:lnTo>
                    <a:lnTo>
                      <a:pt x="277" y="376"/>
                    </a:lnTo>
                    <a:lnTo>
                      <a:pt x="283" y="376"/>
                    </a:lnTo>
                    <a:lnTo>
                      <a:pt x="293" y="376"/>
                    </a:lnTo>
                    <a:lnTo>
                      <a:pt x="298" y="380"/>
                    </a:lnTo>
                    <a:lnTo>
                      <a:pt x="306" y="384"/>
                    </a:lnTo>
                    <a:lnTo>
                      <a:pt x="313" y="388"/>
                    </a:lnTo>
                    <a:lnTo>
                      <a:pt x="319" y="393"/>
                    </a:lnTo>
                    <a:lnTo>
                      <a:pt x="325" y="403"/>
                    </a:lnTo>
                    <a:lnTo>
                      <a:pt x="331" y="412"/>
                    </a:lnTo>
                    <a:lnTo>
                      <a:pt x="334" y="422"/>
                    </a:lnTo>
                    <a:lnTo>
                      <a:pt x="340" y="433"/>
                    </a:lnTo>
                    <a:lnTo>
                      <a:pt x="346" y="445"/>
                    </a:lnTo>
                    <a:lnTo>
                      <a:pt x="353" y="460"/>
                    </a:lnTo>
                    <a:lnTo>
                      <a:pt x="361" y="475"/>
                    </a:lnTo>
                    <a:lnTo>
                      <a:pt x="369" y="490"/>
                    </a:lnTo>
                    <a:lnTo>
                      <a:pt x="376" y="506"/>
                    </a:lnTo>
                    <a:lnTo>
                      <a:pt x="386" y="525"/>
                    </a:lnTo>
                    <a:lnTo>
                      <a:pt x="393" y="538"/>
                    </a:lnTo>
                    <a:lnTo>
                      <a:pt x="403" y="555"/>
                    </a:lnTo>
                    <a:lnTo>
                      <a:pt x="412" y="568"/>
                    </a:lnTo>
                    <a:lnTo>
                      <a:pt x="422" y="586"/>
                    </a:lnTo>
                    <a:lnTo>
                      <a:pt x="431" y="597"/>
                    </a:lnTo>
                    <a:lnTo>
                      <a:pt x="443" y="610"/>
                    </a:lnTo>
                    <a:lnTo>
                      <a:pt x="452" y="622"/>
                    </a:lnTo>
                    <a:lnTo>
                      <a:pt x="464" y="631"/>
                    </a:lnTo>
                    <a:lnTo>
                      <a:pt x="460" y="631"/>
                    </a:lnTo>
                    <a:lnTo>
                      <a:pt x="452" y="633"/>
                    </a:lnTo>
                    <a:lnTo>
                      <a:pt x="437" y="635"/>
                    </a:lnTo>
                    <a:lnTo>
                      <a:pt x="420" y="639"/>
                    </a:lnTo>
                    <a:lnTo>
                      <a:pt x="395" y="641"/>
                    </a:lnTo>
                    <a:lnTo>
                      <a:pt x="369" y="646"/>
                    </a:lnTo>
                    <a:lnTo>
                      <a:pt x="340" y="650"/>
                    </a:lnTo>
                    <a:lnTo>
                      <a:pt x="308" y="654"/>
                    </a:lnTo>
                    <a:lnTo>
                      <a:pt x="272" y="656"/>
                    </a:lnTo>
                    <a:lnTo>
                      <a:pt x="236" y="660"/>
                    </a:lnTo>
                    <a:lnTo>
                      <a:pt x="196" y="662"/>
                    </a:lnTo>
                    <a:lnTo>
                      <a:pt x="158" y="662"/>
                    </a:lnTo>
                    <a:lnTo>
                      <a:pt x="116" y="662"/>
                    </a:lnTo>
                    <a:lnTo>
                      <a:pt x="76" y="660"/>
                    </a:lnTo>
                    <a:lnTo>
                      <a:pt x="36" y="656"/>
                    </a:lnTo>
                    <a:lnTo>
                      <a:pt x="0" y="652"/>
                    </a:lnTo>
                    <a:lnTo>
                      <a:pt x="7" y="656"/>
                    </a:lnTo>
                    <a:lnTo>
                      <a:pt x="23" y="660"/>
                    </a:lnTo>
                    <a:lnTo>
                      <a:pt x="45" y="667"/>
                    </a:lnTo>
                    <a:lnTo>
                      <a:pt x="70" y="673"/>
                    </a:lnTo>
                    <a:lnTo>
                      <a:pt x="102" y="679"/>
                    </a:lnTo>
                    <a:lnTo>
                      <a:pt x="140" y="682"/>
                    </a:lnTo>
                    <a:lnTo>
                      <a:pt x="184" y="688"/>
                    </a:lnTo>
                    <a:lnTo>
                      <a:pt x="232" y="688"/>
                    </a:lnTo>
                    <a:lnTo>
                      <a:pt x="285" y="688"/>
                    </a:lnTo>
                    <a:lnTo>
                      <a:pt x="342" y="684"/>
                    </a:lnTo>
                    <a:lnTo>
                      <a:pt x="407" y="679"/>
                    </a:lnTo>
                    <a:lnTo>
                      <a:pt x="471" y="667"/>
                    </a:lnTo>
                    <a:lnTo>
                      <a:pt x="543" y="652"/>
                    </a:lnTo>
                    <a:lnTo>
                      <a:pt x="619" y="629"/>
                    </a:lnTo>
                    <a:lnTo>
                      <a:pt x="699" y="603"/>
                    </a:lnTo>
                    <a:lnTo>
                      <a:pt x="621" y="633"/>
                    </a:lnTo>
                    <a:lnTo>
                      <a:pt x="559" y="656"/>
                    </a:lnTo>
                    <a:lnTo>
                      <a:pt x="507" y="673"/>
                    </a:lnTo>
                    <a:lnTo>
                      <a:pt x="471" y="688"/>
                    </a:lnTo>
                    <a:lnTo>
                      <a:pt x="441" y="700"/>
                    </a:lnTo>
                    <a:lnTo>
                      <a:pt x="418" y="707"/>
                    </a:lnTo>
                    <a:lnTo>
                      <a:pt x="399" y="713"/>
                    </a:lnTo>
                    <a:lnTo>
                      <a:pt x="386" y="720"/>
                    </a:lnTo>
                    <a:lnTo>
                      <a:pt x="372" y="726"/>
                    </a:lnTo>
                    <a:lnTo>
                      <a:pt x="359" y="734"/>
                    </a:lnTo>
                    <a:lnTo>
                      <a:pt x="342" y="745"/>
                    </a:lnTo>
                    <a:lnTo>
                      <a:pt x="323" y="759"/>
                    </a:lnTo>
                    <a:lnTo>
                      <a:pt x="296" y="776"/>
                    </a:lnTo>
                    <a:lnTo>
                      <a:pt x="262" y="800"/>
                    </a:lnTo>
                    <a:lnTo>
                      <a:pt x="218" y="829"/>
                    </a:lnTo>
                    <a:lnTo>
                      <a:pt x="161" y="869"/>
                    </a:lnTo>
                    <a:lnTo>
                      <a:pt x="167" y="943"/>
                    </a:lnTo>
                    <a:lnTo>
                      <a:pt x="169" y="941"/>
                    </a:lnTo>
                    <a:lnTo>
                      <a:pt x="173" y="935"/>
                    </a:lnTo>
                    <a:lnTo>
                      <a:pt x="178" y="926"/>
                    </a:lnTo>
                    <a:lnTo>
                      <a:pt x="188" y="916"/>
                    </a:lnTo>
                    <a:lnTo>
                      <a:pt x="196" y="903"/>
                    </a:lnTo>
                    <a:lnTo>
                      <a:pt x="209" y="890"/>
                    </a:lnTo>
                    <a:lnTo>
                      <a:pt x="222" y="874"/>
                    </a:lnTo>
                    <a:lnTo>
                      <a:pt x="237" y="861"/>
                    </a:lnTo>
                    <a:lnTo>
                      <a:pt x="253" y="844"/>
                    </a:lnTo>
                    <a:lnTo>
                      <a:pt x="272" y="829"/>
                    </a:lnTo>
                    <a:lnTo>
                      <a:pt x="289" y="816"/>
                    </a:lnTo>
                    <a:lnTo>
                      <a:pt x="308" y="802"/>
                    </a:lnTo>
                    <a:lnTo>
                      <a:pt x="327" y="791"/>
                    </a:lnTo>
                    <a:lnTo>
                      <a:pt x="346" y="781"/>
                    </a:lnTo>
                    <a:lnTo>
                      <a:pt x="365" y="778"/>
                    </a:lnTo>
                    <a:lnTo>
                      <a:pt x="386" y="776"/>
                    </a:lnTo>
                    <a:lnTo>
                      <a:pt x="426" y="833"/>
                    </a:lnTo>
                    <a:lnTo>
                      <a:pt x="428" y="829"/>
                    </a:lnTo>
                    <a:lnTo>
                      <a:pt x="433" y="823"/>
                    </a:lnTo>
                    <a:lnTo>
                      <a:pt x="437" y="817"/>
                    </a:lnTo>
                    <a:lnTo>
                      <a:pt x="441" y="814"/>
                    </a:lnTo>
                    <a:lnTo>
                      <a:pt x="447" y="808"/>
                    </a:lnTo>
                    <a:lnTo>
                      <a:pt x="454" y="806"/>
                    </a:lnTo>
                    <a:lnTo>
                      <a:pt x="458" y="802"/>
                    </a:lnTo>
                    <a:lnTo>
                      <a:pt x="466" y="798"/>
                    </a:lnTo>
                    <a:lnTo>
                      <a:pt x="471" y="797"/>
                    </a:lnTo>
                    <a:lnTo>
                      <a:pt x="477" y="797"/>
                    </a:lnTo>
                    <a:lnTo>
                      <a:pt x="483" y="797"/>
                    </a:lnTo>
                    <a:lnTo>
                      <a:pt x="488" y="800"/>
                    </a:lnTo>
                    <a:lnTo>
                      <a:pt x="492" y="804"/>
                    </a:lnTo>
                    <a:lnTo>
                      <a:pt x="500" y="812"/>
                    </a:lnTo>
                    <a:lnTo>
                      <a:pt x="502" y="821"/>
                    </a:lnTo>
                    <a:lnTo>
                      <a:pt x="507" y="833"/>
                    </a:lnTo>
                    <a:lnTo>
                      <a:pt x="513" y="846"/>
                    </a:lnTo>
                    <a:lnTo>
                      <a:pt x="519" y="861"/>
                    </a:lnTo>
                    <a:lnTo>
                      <a:pt x="526" y="876"/>
                    </a:lnTo>
                    <a:lnTo>
                      <a:pt x="532" y="894"/>
                    </a:lnTo>
                    <a:lnTo>
                      <a:pt x="538" y="909"/>
                    </a:lnTo>
                    <a:lnTo>
                      <a:pt x="545" y="926"/>
                    </a:lnTo>
                    <a:lnTo>
                      <a:pt x="551" y="941"/>
                    </a:lnTo>
                    <a:lnTo>
                      <a:pt x="557" y="956"/>
                    </a:lnTo>
                    <a:lnTo>
                      <a:pt x="562" y="970"/>
                    </a:lnTo>
                    <a:lnTo>
                      <a:pt x="570" y="985"/>
                    </a:lnTo>
                    <a:lnTo>
                      <a:pt x="576" y="994"/>
                    </a:lnTo>
                    <a:lnTo>
                      <a:pt x="581" y="1004"/>
                    </a:lnTo>
                    <a:lnTo>
                      <a:pt x="587" y="1011"/>
                    </a:lnTo>
                    <a:lnTo>
                      <a:pt x="595" y="1017"/>
                    </a:lnTo>
                    <a:lnTo>
                      <a:pt x="604" y="1023"/>
                    </a:lnTo>
                    <a:lnTo>
                      <a:pt x="614" y="1027"/>
                    </a:lnTo>
                    <a:lnTo>
                      <a:pt x="625" y="1028"/>
                    </a:lnTo>
                    <a:lnTo>
                      <a:pt x="635" y="1030"/>
                    </a:lnTo>
                    <a:lnTo>
                      <a:pt x="642" y="1030"/>
                    </a:lnTo>
                    <a:lnTo>
                      <a:pt x="650" y="1032"/>
                    </a:lnTo>
                    <a:lnTo>
                      <a:pt x="656" y="1036"/>
                    </a:lnTo>
                    <a:lnTo>
                      <a:pt x="659" y="1040"/>
                    </a:lnTo>
                    <a:lnTo>
                      <a:pt x="658" y="1044"/>
                    </a:lnTo>
                    <a:lnTo>
                      <a:pt x="654" y="1046"/>
                    </a:lnTo>
                    <a:lnTo>
                      <a:pt x="648" y="1048"/>
                    </a:lnTo>
                    <a:lnTo>
                      <a:pt x="640" y="1049"/>
                    </a:lnTo>
                    <a:lnTo>
                      <a:pt x="629" y="1051"/>
                    </a:lnTo>
                    <a:lnTo>
                      <a:pt x="616" y="1055"/>
                    </a:lnTo>
                    <a:lnTo>
                      <a:pt x="602" y="1059"/>
                    </a:lnTo>
                    <a:lnTo>
                      <a:pt x="587" y="1067"/>
                    </a:lnTo>
                    <a:lnTo>
                      <a:pt x="570" y="1072"/>
                    </a:lnTo>
                    <a:lnTo>
                      <a:pt x="553" y="1082"/>
                    </a:lnTo>
                    <a:lnTo>
                      <a:pt x="534" y="1091"/>
                    </a:lnTo>
                    <a:lnTo>
                      <a:pt x="515" y="1106"/>
                    </a:lnTo>
                    <a:lnTo>
                      <a:pt x="494" y="1122"/>
                    </a:lnTo>
                    <a:lnTo>
                      <a:pt x="475" y="1141"/>
                    </a:lnTo>
                    <a:lnTo>
                      <a:pt x="456" y="1162"/>
                    </a:lnTo>
                    <a:lnTo>
                      <a:pt x="439" y="1190"/>
                    </a:lnTo>
                    <a:lnTo>
                      <a:pt x="445" y="1215"/>
                    </a:lnTo>
                    <a:lnTo>
                      <a:pt x="775" y="1065"/>
                    </a:lnTo>
                    <a:lnTo>
                      <a:pt x="773" y="1063"/>
                    </a:lnTo>
                    <a:lnTo>
                      <a:pt x="773" y="1061"/>
                    </a:lnTo>
                    <a:lnTo>
                      <a:pt x="772" y="1055"/>
                    </a:lnTo>
                    <a:lnTo>
                      <a:pt x="772" y="1051"/>
                    </a:lnTo>
                    <a:lnTo>
                      <a:pt x="768" y="1046"/>
                    </a:lnTo>
                    <a:lnTo>
                      <a:pt x="764" y="1038"/>
                    </a:lnTo>
                    <a:lnTo>
                      <a:pt x="760" y="1032"/>
                    </a:lnTo>
                    <a:lnTo>
                      <a:pt x="754" y="1027"/>
                    </a:lnTo>
                    <a:lnTo>
                      <a:pt x="749" y="1019"/>
                    </a:lnTo>
                    <a:lnTo>
                      <a:pt x="739" y="1013"/>
                    </a:lnTo>
                    <a:lnTo>
                      <a:pt x="730" y="1008"/>
                    </a:lnTo>
                    <a:lnTo>
                      <a:pt x="720" y="1004"/>
                    </a:lnTo>
                    <a:lnTo>
                      <a:pt x="707" y="1000"/>
                    </a:lnTo>
                    <a:lnTo>
                      <a:pt x="692" y="998"/>
                    </a:lnTo>
                    <a:lnTo>
                      <a:pt x="677" y="998"/>
                    </a:lnTo>
                    <a:lnTo>
                      <a:pt x="659" y="1002"/>
                    </a:lnTo>
                    <a:lnTo>
                      <a:pt x="658" y="1000"/>
                    </a:lnTo>
                    <a:lnTo>
                      <a:pt x="652" y="994"/>
                    </a:lnTo>
                    <a:lnTo>
                      <a:pt x="644" y="985"/>
                    </a:lnTo>
                    <a:lnTo>
                      <a:pt x="637" y="975"/>
                    </a:lnTo>
                    <a:lnTo>
                      <a:pt x="625" y="960"/>
                    </a:lnTo>
                    <a:lnTo>
                      <a:pt x="614" y="945"/>
                    </a:lnTo>
                    <a:lnTo>
                      <a:pt x="602" y="926"/>
                    </a:lnTo>
                    <a:lnTo>
                      <a:pt x="591" y="907"/>
                    </a:lnTo>
                    <a:lnTo>
                      <a:pt x="578" y="884"/>
                    </a:lnTo>
                    <a:lnTo>
                      <a:pt x="564" y="863"/>
                    </a:lnTo>
                    <a:lnTo>
                      <a:pt x="553" y="838"/>
                    </a:lnTo>
                    <a:lnTo>
                      <a:pt x="543" y="816"/>
                    </a:lnTo>
                    <a:lnTo>
                      <a:pt x="536" y="789"/>
                    </a:lnTo>
                    <a:lnTo>
                      <a:pt x="530" y="764"/>
                    </a:lnTo>
                    <a:lnTo>
                      <a:pt x="528" y="740"/>
                    </a:lnTo>
                    <a:lnTo>
                      <a:pt x="528" y="715"/>
                    </a:lnTo>
                    <a:lnTo>
                      <a:pt x="530" y="713"/>
                    </a:lnTo>
                    <a:lnTo>
                      <a:pt x="536" y="713"/>
                    </a:lnTo>
                    <a:lnTo>
                      <a:pt x="545" y="711"/>
                    </a:lnTo>
                    <a:lnTo>
                      <a:pt x="559" y="709"/>
                    </a:lnTo>
                    <a:lnTo>
                      <a:pt x="574" y="705"/>
                    </a:lnTo>
                    <a:lnTo>
                      <a:pt x="591" y="701"/>
                    </a:lnTo>
                    <a:lnTo>
                      <a:pt x="612" y="700"/>
                    </a:lnTo>
                    <a:lnTo>
                      <a:pt x="633" y="698"/>
                    </a:lnTo>
                    <a:lnTo>
                      <a:pt x="656" y="694"/>
                    </a:lnTo>
                    <a:lnTo>
                      <a:pt x="678" y="692"/>
                    </a:lnTo>
                    <a:lnTo>
                      <a:pt x="703" y="690"/>
                    </a:lnTo>
                    <a:lnTo>
                      <a:pt x="730" y="690"/>
                    </a:lnTo>
                    <a:lnTo>
                      <a:pt x="753" y="690"/>
                    </a:lnTo>
                    <a:lnTo>
                      <a:pt x="775" y="690"/>
                    </a:lnTo>
                    <a:lnTo>
                      <a:pt x="798" y="694"/>
                    </a:lnTo>
                    <a:lnTo>
                      <a:pt x="819" y="698"/>
                    </a:lnTo>
                    <a:lnTo>
                      <a:pt x="817" y="696"/>
                    </a:lnTo>
                    <a:lnTo>
                      <a:pt x="813" y="688"/>
                    </a:lnTo>
                    <a:lnTo>
                      <a:pt x="810" y="682"/>
                    </a:lnTo>
                    <a:lnTo>
                      <a:pt x="806" y="679"/>
                    </a:lnTo>
                    <a:lnTo>
                      <a:pt x="802" y="671"/>
                    </a:lnTo>
                    <a:lnTo>
                      <a:pt x="798" y="665"/>
                    </a:lnTo>
                    <a:lnTo>
                      <a:pt x="794" y="658"/>
                    </a:lnTo>
                    <a:lnTo>
                      <a:pt x="791" y="650"/>
                    </a:lnTo>
                    <a:lnTo>
                      <a:pt x="785" y="643"/>
                    </a:lnTo>
                    <a:lnTo>
                      <a:pt x="783" y="635"/>
                    </a:lnTo>
                    <a:lnTo>
                      <a:pt x="779" y="625"/>
                    </a:lnTo>
                    <a:lnTo>
                      <a:pt x="777" y="618"/>
                    </a:lnTo>
                    <a:lnTo>
                      <a:pt x="773" y="610"/>
                    </a:lnTo>
                    <a:lnTo>
                      <a:pt x="773" y="603"/>
                    </a:lnTo>
                    <a:lnTo>
                      <a:pt x="773" y="601"/>
                    </a:lnTo>
                    <a:lnTo>
                      <a:pt x="777" y="601"/>
                    </a:lnTo>
                    <a:lnTo>
                      <a:pt x="781" y="599"/>
                    </a:lnTo>
                    <a:lnTo>
                      <a:pt x="789" y="597"/>
                    </a:lnTo>
                    <a:lnTo>
                      <a:pt x="796" y="593"/>
                    </a:lnTo>
                    <a:lnTo>
                      <a:pt x="806" y="589"/>
                    </a:lnTo>
                    <a:lnTo>
                      <a:pt x="813" y="586"/>
                    </a:lnTo>
                    <a:lnTo>
                      <a:pt x="825" y="580"/>
                    </a:lnTo>
                    <a:lnTo>
                      <a:pt x="832" y="574"/>
                    </a:lnTo>
                    <a:lnTo>
                      <a:pt x="844" y="566"/>
                    </a:lnTo>
                    <a:lnTo>
                      <a:pt x="851" y="561"/>
                    </a:lnTo>
                    <a:lnTo>
                      <a:pt x="861" y="553"/>
                    </a:lnTo>
                    <a:lnTo>
                      <a:pt x="867" y="544"/>
                    </a:lnTo>
                    <a:lnTo>
                      <a:pt x="874" y="534"/>
                    </a:lnTo>
                    <a:lnTo>
                      <a:pt x="878" y="527"/>
                    </a:lnTo>
                    <a:lnTo>
                      <a:pt x="884" y="517"/>
                    </a:lnTo>
                    <a:lnTo>
                      <a:pt x="884" y="506"/>
                    </a:lnTo>
                    <a:lnTo>
                      <a:pt x="880" y="498"/>
                    </a:lnTo>
                    <a:lnTo>
                      <a:pt x="876" y="490"/>
                    </a:lnTo>
                    <a:lnTo>
                      <a:pt x="872" y="487"/>
                    </a:lnTo>
                    <a:lnTo>
                      <a:pt x="865" y="483"/>
                    </a:lnTo>
                    <a:lnTo>
                      <a:pt x="857" y="481"/>
                    </a:lnTo>
                    <a:lnTo>
                      <a:pt x="849" y="477"/>
                    </a:lnTo>
                    <a:lnTo>
                      <a:pt x="842" y="477"/>
                    </a:lnTo>
                    <a:lnTo>
                      <a:pt x="832" y="477"/>
                    </a:lnTo>
                    <a:lnTo>
                      <a:pt x="823" y="477"/>
                    </a:lnTo>
                    <a:lnTo>
                      <a:pt x="813" y="477"/>
                    </a:lnTo>
                    <a:lnTo>
                      <a:pt x="808" y="479"/>
                    </a:lnTo>
                    <a:lnTo>
                      <a:pt x="802" y="479"/>
                    </a:lnTo>
                    <a:lnTo>
                      <a:pt x="798" y="481"/>
                    </a:lnTo>
                    <a:lnTo>
                      <a:pt x="794" y="481"/>
                    </a:lnTo>
                    <a:lnTo>
                      <a:pt x="794" y="483"/>
                    </a:lnTo>
                    <a:lnTo>
                      <a:pt x="798" y="483"/>
                    </a:lnTo>
                    <a:lnTo>
                      <a:pt x="802" y="485"/>
                    </a:lnTo>
                    <a:lnTo>
                      <a:pt x="808" y="489"/>
                    </a:lnTo>
                    <a:lnTo>
                      <a:pt x="813" y="490"/>
                    </a:lnTo>
                    <a:lnTo>
                      <a:pt x="819" y="496"/>
                    </a:lnTo>
                    <a:lnTo>
                      <a:pt x="825" y="502"/>
                    </a:lnTo>
                    <a:lnTo>
                      <a:pt x="829" y="508"/>
                    </a:lnTo>
                    <a:lnTo>
                      <a:pt x="830" y="513"/>
                    </a:lnTo>
                    <a:lnTo>
                      <a:pt x="830" y="519"/>
                    </a:lnTo>
                    <a:lnTo>
                      <a:pt x="829" y="525"/>
                    </a:lnTo>
                    <a:lnTo>
                      <a:pt x="825" y="532"/>
                    </a:lnTo>
                    <a:lnTo>
                      <a:pt x="815" y="538"/>
                    </a:lnTo>
                    <a:lnTo>
                      <a:pt x="802" y="546"/>
                    </a:lnTo>
                    <a:lnTo>
                      <a:pt x="785" y="551"/>
                    </a:lnTo>
                    <a:lnTo>
                      <a:pt x="764" y="559"/>
                    </a:lnTo>
                    <a:lnTo>
                      <a:pt x="747" y="412"/>
                    </a:lnTo>
                    <a:lnTo>
                      <a:pt x="496" y="612"/>
                    </a:lnTo>
                    <a:lnTo>
                      <a:pt x="494" y="610"/>
                    </a:lnTo>
                    <a:lnTo>
                      <a:pt x="490" y="606"/>
                    </a:lnTo>
                    <a:lnTo>
                      <a:pt x="485" y="599"/>
                    </a:lnTo>
                    <a:lnTo>
                      <a:pt x="479" y="589"/>
                    </a:lnTo>
                    <a:lnTo>
                      <a:pt x="469" y="578"/>
                    </a:lnTo>
                    <a:lnTo>
                      <a:pt x="462" y="565"/>
                    </a:lnTo>
                    <a:lnTo>
                      <a:pt x="452" y="549"/>
                    </a:lnTo>
                    <a:lnTo>
                      <a:pt x="441" y="534"/>
                    </a:lnTo>
                    <a:lnTo>
                      <a:pt x="429" y="515"/>
                    </a:lnTo>
                    <a:lnTo>
                      <a:pt x="420" y="496"/>
                    </a:lnTo>
                    <a:lnTo>
                      <a:pt x="408" y="475"/>
                    </a:lnTo>
                    <a:lnTo>
                      <a:pt x="399" y="456"/>
                    </a:lnTo>
                    <a:lnTo>
                      <a:pt x="389" y="432"/>
                    </a:lnTo>
                    <a:lnTo>
                      <a:pt x="382" y="411"/>
                    </a:lnTo>
                    <a:lnTo>
                      <a:pt x="374" y="388"/>
                    </a:lnTo>
                    <a:lnTo>
                      <a:pt x="370" y="365"/>
                    </a:lnTo>
                    <a:lnTo>
                      <a:pt x="365" y="344"/>
                    </a:lnTo>
                    <a:lnTo>
                      <a:pt x="363" y="321"/>
                    </a:lnTo>
                    <a:lnTo>
                      <a:pt x="363" y="302"/>
                    </a:lnTo>
                    <a:lnTo>
                      <a:pt x="365" y="285"/>
                    </a:lnTo>
                    <a:lnTo>
                      <a:pt x="365" y="268"/>
                    </a:lnTo>
                    <a:lnTo>
                      <a:pt x="369" y="253"/>
                    </a:lnTo>
                    <a:lnTo>
                      <a:pt x="372" y="238"/>
                    </a:lnTo>
                    <a:lnTo>
                      <a:pt x="376" y="222"/>
                    </a:lnTo>
                    <a:lnTo>
                      <a:pt x="380" y="207"/>
                    </a:lnTo>
                    <a:lnTo>
                      <a:pt x="384" y="194"/>
                    </a:lnTo>
                    <a:lnTo>
                      <a:pt x="386" y="181"/>
                    </a:lnTo>
                    <a:lnTo>
                      <a:pt x="389" y="167"/>
                    </a:lnTo>
                    <a:lnTo>
                      <a:pt x="389" y="152"/>
                    </a:lnTo>
                    <a:lnTo>
                      <a:pt x="391" y="139"/>
                    </a:lnTo>
                    <a:lnTo>
                      <a:pt x="389" y="124"/>
                    </a:lnTo>
                    <a:lnTo>
                      <a:pt x="388" y="110"/>
                    </a:lnTo>
                    <a:lnTo>
                      <a:pt x="382" y="95"/>
                    </a:lnTo>
                    <a:lnTo>
                      <a:pt x="376" y="82"/>
                    </a:lnTo>
                    <a:lnTo>
                      <a:pt x="369" y="68"/>
                    </a:lnTo>
                    <a:lnTo>
                      <a:pt x="361" y="57"/>
                    </a:lnTo>
                    <a:lnTo>
                      <a:pt x="351" y="46"/>
                    </a:lnTo>
                    <a:lnTo>
                      <a:pt x="342" y="34"/>
                    </a:lnTo>
                    <a:lnTo>
                      <a:pt x="329" y="27"/>
                    </a:lnTo>
                    <a:lnTo>
                      <a:pt x="317" y="19"/>
                    </a:lnTo>
                    <a:lnTo>
                      <a:pt x="304" y="11"/>
                    </a:lnTo>
                    <a:lnTo>
                      <a:pt x="291" y="8"/>
                    </a:lnTo>
                    <a:lnTo>
                      <a:pt x="275" y="4"/>
                    </a:lnTo>
                    <a:lnTo>
                      <a:pt x="260" y="2"/>
                    </a:lnTo>
                    <a:lnTo>
                      <a:pt x="243" y="0"/>
                    </a:lnTo>
                    <a:lnTo>
                      <a:pt x="228" y="2"/>
                    </a:lnTo>
                    <a:lnTo>
                      <a:pt x="211" y="6"/>
                    </a:lnTo>
                    <a:lnTo>
                      <a:pt x="194" y="11"/>
                    </a:lnTo>
                    <a:lnTo>
                      <a:pt x="177" y="17"/>
                    </a:lnTo>
                    <a:lnTo>
                      <a:pt x="163" y="21"/>
                    </a:lnTo>
                    <a:lnTo>
                      <a:pt x="150" y="27"/>
                    </a:lnTo>
                    <a:lnTo>
                      <a:pt x="140" y="32"/>
                    </a:lnTo>
                    <a:lnTo>
                      <a:pt x="131" y="38"/>
                    </a:lnTo>
                    <a:lnTo>
                      <a:pt x="125" y="42"/>
                    </a:lnTo>
                    <a:lnTo>
                      <a:pt x="120" y="46"/>
                    </a:lnTo>
                    <a:lnTo>
                      <a:pt x="116" y="51"/>
                    </a:lnTo>
                    <a:lnTo>
                      <a:pt x="112" y="59"/>
                    </a:lnTo>
                    <a:lnTo>
                      <a:pt x="110" y="65"/>
                    </a:lnTo>
                    <a:lnTo>
                      <a:pt x="110" y="68"/>
                    </a:lnTo>
                    <a:lnTo>
                      <a:pt x="110" y="70"/>
                    </a:lnTo>
                    <a:lnTo>
                      <a:pt x="110" y="7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0596800">
                <a:off x="1035720" y="1161720"/>
                <a:ext cx="755640" cy="1760040"/>
              </a:xfrm>
              <a:custGeom>
                <a:avLst/>
                <a:gdLst/>
                <a:ahLst/>
                <a:rect l="l" t="t" r="r" b="b"/>
                <a:pathLst>
                  <a:path w="953" h="2217">
                    <a:moveTo>
                      <a:pt x="333" y="2"/>
                    </a:moveTo>
                    <a:lnTo>
                      <a:pt x="327" y="0"/>
                    </a:lnTo>
                    <a:lnTo>
                      <a:pt x="318" y="0"/>
                    </a:lnTo>
                    <a:lnTo>
                      <a:pt x="301" y="0"/>
                    </a:lnTo>
                    <a:lnTo>
                      <a:pt x="280" y="0"/>
                    </a:lnTo>
                    <a:lnTo>
                      <a:pt x="253" y="0"/>
                    </a:lnTo>
                    <a:lnTo>
                      <a:pt x="225" y="4"/>
                    </a:lnTo>
                    <a:lnTo>
                      <a:pt x="194" y="7"/>
                    </a:lnTo>
                    <a:lnTo>
                      <a:pt x="164" y="15"/>
                    </a:lnTo>
                    <a:lnTo>
                      <a:pt x="131" y="23"/>
                    </a:lnTo>
                    <a:lnTo>
                      <a:pt x="101" y="36"/>
                    </a:lnTo>
                    <a:lnTo>
                      <a:pt x="74" y="51"/>
                    </a:lnTo>
                    <a:lnTo>
                      <a:pt x="50" y="70"/>
                    </a:lnTo>
                    <a:lnTo>
                      <a:pt x="29" y="93"/>
                    </a:lnTo>
                    <a:lnTo>
                      <a:pt x="14" y="121"/>
                    </a:lnTo>
                    <a:lnTo>
                      <a:pt x="2" y="154"/>
                    </a:lnTo>
                    <a:lnTo>
                      <a:pt x="0" y="192"/>
                    </a:lnTo>
                    <a:lnTo>
                      <a:pt x="6" y="211"/>
                    </a:lnTo>
                    <a:lnTo>
                      <a:pt x="27" y="262"/>
                    </a:lnTo>
                    <a:lnTo>
                      <a:pt x="57" y="344"/>
                    </a:lnTo>
                    <a:lnTo>
                      <a:pt x="97" y="450"/>
                    </a:lnTo>
                    <a:lnTo>
                      <a:pt x="145" y="578"/>
                    </a:lnTo>
                    <a:lnTo>
                      <a:pt x="202" y="718"/>
                    </a:lnTo>
                    <a:lnTo>
                      <a:pt x="261" y="872"/>
                    </a:lnTo>
                    <a:lnTo>
                      <a:pt x="323" y="1032"/>
                    </a:lnTo>
                    <a:lnTo>
                      <a:pt x="386" y="1194"/>
                    </a:lnTo>
                    <a:lnTo>
                      <a:pt x="451" y="1351"/>
                    </a:lnTo>
                    <a:lnTo>
                      <a:pt x="512" y="1502"/>
                    </a:lnTo>
                    <a:lnTo>
                      <a:pt x="570" y="1640"/>
                    </a:lnTo>
                    <a:lnTo>
                      <a:pt x="622" y="1760"/>
                    </a:lnTo>
                    <a:lnTo>
                      <a:pt x="669" y="1861"/>
                    </a:lnTo>
                    <a:lnTo>
                      <a:pt x="705" y="1935"/>
                    </a:lnTo>
                    <a:lnTo>
                      <a:pt x="734" y="1981"/>
                    </a:lnTo>
                    <a:lnTo>
                      <a:pt x="736" y="1981"/>
                    </a:lnTo>
                    <a:lnTo>
                      <a:pt x="742" y="1987"/>
                    </a:lnTo>
                    <a:lnTo>
                      <a:pt x="749" y="1994"/>
                    </a:lnTo>
                    <a:lnTo>
                      <a:pt x="762" y="2006"/>
                    </a:lnTo>
                    <a:lnTo>
                      <a:pt x="776" y="2017"/>
                    </a:lnTo>
                    <a:lnTo>
                      <a:pt x="791" y="2032"/>
                    </a:lnTo>
                    <a:lnTo>
                      <a:pt x="808" y="2049"/>
                    </a:lnTo>
                    <a:lnTo>
                      <a:pt x="827" y="2066"/>
                    </a:lnTo>
                    <a:lnTo>
                      <a:pt x="844" y="2085"/>
                    </a:lnTo>
                    <a:lnTo>
                      <a:pt x="863" y="2104"/>
                    </a:lnTo>
                    <a:lnTo>
                      <a:pt x="880" y="2123"/>
                    </a:lnTo>
                    <a:lnTo>
                      <a:pt x="899" y="2144"/>
                    </a:lnTo>
                    <a:lnTo>
                      <a:pt x="916" y="2163"/>
                    </a:lnTo>
                    <a:lnTo>
                      <a:pt x="932" y="2182"/>
                    </a:lnTo>
                    <a:lnTo>
                      <a:pt x="943" y="2199"/>
                    </a:lnTo>
                    <a:lnTo>
                      <a:pt x="953" y="2217"/>
                    </a:lnTo>
                    <a:lnTo>
                      <a:pt x="953" y="1901"/>
                    </a:lnTo>
                    <a:lnTo>
                      <a:pt x="810" y="1372"/>
                    </a:lnTo>
                    <a:lnTo>
                      <a:pt x="333" y="2"/>
                    </a:lnTo>
                    <a:lnTo>
                      <a:pt x="333" y="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0596800">
                <a:off x="1118520" y="1345320"/>
                <a:ext cx="555480" cy="1355400"/>
              </a:xfrm>
              <a:custGeom>
                <a:avLst/>
                <a:gdLst/>
                <a:ahLst/>
                <a:rect l="l" t="t" r="r" b="b"/>
                <a:pathLst>
                  <a:path w="700" h="1709">
                    <a:moveTo>
                      <a:pt x="36" y="29"/>
                    </a:moveTo>
                    <a:lnTo>
                      <a:pt x="42" y="44"/>
                    </a:lnTo>
                    <a:lnTo>
                      <a:pt x="61" y="89"/>
                    </a:lnTo>
                    <a:lnTo>
                      <a:pt x="88" y="162"/>
                    </a:lnTo>
                    <a:lnTo>
                      <a:pt x="124" y="257"/>
                    </a:lnTo>
                    <a:lnTo>
                      <a:pt x="168" y="369"/>
                    </a:lnTo>
                    <a:lnTo>
                      <a:pt x="217" y="494"/>
                    </a:lnTo>
                    <a:lnTo>
                      <a:pt x="270" y="631"/>
                    </a:lnTo>
                    <a:lnTo>
                      <a:pt x="327" y="776"/>
                    </a:lnTo>
                    <a:lnTo>
                      <a:pt x="384" y="922"/>
                    </a:lnTo>
                    <a:lnTo>
                      <a:pt x="441" y="1069"/>
                    </a:lnTo>
                    <a:lnTo>
                      <a:pt x="496" y="1209"/>
                    </a:lnTo>
                    <a:lnTo>
                      <a:pt x="550" y="1344"/>
                    </a:lnTo>
                    <a:lnTo>
                      <a:pt x="597" y="1462"/>
                    </a:lnTo>
                    <a:lnTo>
                      <a:pt x="639" y="1565"/>
                    </a:lnTo>
                    <a:lnTo>
                      <a:pt x="673" y="1648"/>
                    </a:lnTo>
                    <a:lnTo>
                      <a:pt x="700" y="1709"/>
                    </a:lnTo>
                    <a:lnTo>
                      <a:pt x="698" y="1707"/>
                    </a:lnTo>
                    <a:lnTo>
                      <a:pt x="694" y="1702"/>
                    </a:lnTo>
                    <a:lnTo>
                      <a:pt x="687" y="1694"/>
                    </a:lnTo>
                    <a:lnTo>
                      <a:pt x="679" y="1683"/>
                    </a:lnTo>
                    <a:lnTo>
                      <a:pt x="666" y="1666"/>
                    </a:lnTo>
                    <a:lnTo>
                      <a:pt x="650" y="1645"/>
                    </a:lnTo>
                    <a:lnTo>
                      <a:pt x="633" y="1618"/>
                    </a:lnTo>
                    <a:lnTo>
                      <a:pt x="616" y="1586"/>
                    </a:lnTo>
                    <a:lnTo>
                      <a:pt x="592" y="1546"/>
                    </a:lnTo>
                    <a:lnTo>
                      <a:pt x="569" y="1502"/>
                    </a:lnTo>
                    <a:lnTo>
                      <a:pt x="540" y="1449"/>
                    </a:lnTo>
                    <a:lnTo>
                      <a:pt x="512" y="1392"/>
                    </a:lnTo>
                    <a:lnTo>
                      <a:pt x="479" y="1323"/>
                    </a:lnTo>
                    <a:lnTo>
                      <a:pt x="445" y="1249"/>
                    </a:lnTo>
                    <a:lnTo>
                      <a:pt x="407" y="1166"/>
                    </a:lnTo>
                    <a:lnTo>
                      <a:pt x="369" y="1074"/>
                    </a:lnTo>
                    <a:lnTo>
                      <a:pt x="329" y="977"/>
                    </a:lnTo>
                    <a:lnTo>
                      <a:pt x="291" y="882"/>
                    </a:lnTo>
                    <a:lnTo>
                      <a:pt x="253" y="791"/>
                    </a:lnTo>
                    <a:lnTo>
                      <a:pt x="221" y="705"/>
                    </a:lnTo>
                    <a:lnTo>
                      <a:pt x="187" y="620"/>
                    </a:lnTo>
                    <a:lnTo>
                      <a:pt x="158" y="540"/>
                    </a:lnTo>
                    <a:lnTo>
                      <a:pt x="130" y="464"/>
                    </a:lnTo>
                    <a:lnTo>
                      <a:pt x="105" y="396"/>
                    </a:lnTo>
                    <a:lnTo>
                      <a:pt x="80" y="329"/>
                    </a:lnTo>
                    <a:lnTo>
                      <a:pt x="59" y="270"/>
                    </a:lnTo>
                    <a:lnTo>
                      <a:pt x="42" y="217"/>
                    </a:lnTo>
                    <a:lnTo>
                      <a:pt x="27" y="171"/>
                    </a:lnTo>
                    <a:lnTo>
                      <a:pt x="16" y="131"/>
                    </a:lnTo>
                    <a:lnTo>
                      <a:pt x="6" y="99"/>
                    </a:lnTo>
                    <a:lnTo>
                      <a:pt x="0" y="74"/>
                    </a:lnTo>
                    <a:lnTo>
                      <a:pt x="0" y="59"/>
                    </a:lnTo>
                    <a:lnTo>
                      <a:pt x="0" y="46"/>
                    </a:lnTo>
                    <a:lnTo>
                      <a:pt x="0" y="36"/>
                    </a:lnTo>
                    <a:lnTo>
                      <a:pt x="0" y="25"/>
                    </a:lnTo>
                    <a:lnTo>
                      <a:pt x="2" y="19"/>
                    </a:lnTo>
                    <a:lnTo>
                      <a:pt x="4" y="11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7" y="0"/>
                    </a:lnTo>
                    <a:lnTo>
                      <a:pt x="23" y="4"/>
                    </a:lnTo>
                    <a:lnTo>
                      <a:pt x="27" y="8"/>
                    </a:lnTo>
                    <a:lnTo>
                      <a:pt x="31" y="13"/>
                    </a:lnTo>
                    <a:lnTo>
                      <a:pt x="33" y="19"/>
                    </a:lnTo>
                    <a:lnTo>
                      <a:pt x="36" y="29"/>
                    </a:lnTo>
                    <a:lnTo>
                      <a:pt x="36" y="29"/>
                    </a:lnTo>
                    <a:close/>
                  </a:path>
                </a:pathLst>
              </a:custGeom>
              <a:solidFill>
                <a:srgbClr val="e8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0596800">
                <a:off x="1028520" y="1156680"/>
                <a:ext cx="774720" cy="1774440"/>
              </a:xfrm>
              <a:custGeom>
                <a:avLst/>
                <a:gdLst/>
                <a:ahLst/>
                <a:rect l="l" t="t" r="r" b="b"/>
                <a:pathLst>
                  <a:path w="975" h="2238">
                    <a:moveTo>
                      <a:pt x="85" y="365"/>
                    </a:moveTo>
                    <a:lnTo>
                      <a:pt x="85" y="361"/>
                    </a:lnTo>
                    <a:lnTo>
                      <a:pt x="85" y="356"/>
                    </a:lnTo>
                    <a:lnTo>
                      <a:pt x="85" y="344"/>
                    </a:lnTo>
                    <a:lnTo>
                      <a:pt x="85" y="333"/>
                    </a:lnTo>
                    <a:lnTo>
                      <a:pt x="85" y="316"/>
                    </a:lnTo>
                    <a:lnTo>
                      <a:pt x="87" y="299"/>
                    </a:lnTo>
                    <a:lnTo>
                      <a:pt x="87" y="280"/>
                    </a:lnTo>
                    <a:lnTo>
                      <a:pt x="89" y="261"/>
                    </a:lnTo>
                    <a:lnTo>
                      <a:pt x="91" y="242"/>
                    </a:lnTo>
                    <a:lnTo>
                      <a:pt x="93" y="223"/>
                    </a:lnTo>
                    <a:lnTo>
                      <a:pt x="97" y="204"/>
                    </a:lnTo>
                    <a:lnTo>
                      <a:pt x="100" y="185"/>
                    </a:lnTo>
                    <a:lnTo>
                      <a:pt x="104" y="169"/>
                    </a:lnTo>
                    <a:lnTo>
                      <a:pt x="110" y="158"/>
                    </a:lnTo>
                    <a:lnTo>
                      <a:pt x="118" y="147"/>
                    </a:lnTo>
                    <a:lnTo>
                      <a:pt x="125" y="143"/>
                    </a:lnTo>
                    <a:lnTo>
                      <a:pt x="131" y="139"/>
                    </a:lnTo>
                    <a:lnTo>
                      <a:pt x="140" y="141"/>
                    </a:lnTo>
                    <a:lnTo>
                      <a:pt x="150" y="147"/>
                    </a:lnTo>
                    <a:lnTo>
                      <a:pt x="161" y="154"/>
                    </a:lnTo>
                    <a:lnTo>
                      <a:pt x="171" y="164"/>
                    </a:lnTo>
                    <a:lnTo>
                      <a:pt x="182" y="177"/>
                    </a:lnTo>
                    <a:lnTo>
                      <a:pt x="194" y="190"/>
                    </a:lnTo>
                    <a:lnTo>
                      <a:pt x="205" y="205"/>
                    </a:lnTo>
                    <a:lnTo>
                      <a:pt x="215" y="219"/>
                    </a:lnTo>
                    <a:lnTo>
                      <a:pt x="224" y="234"/>
                    </a:lnTo>
                    <a:lnTo>
                      <a:pt x="234" y="245"/>
                    </a:lnTo>
                    <a:lnTo>
                      <a:pt x="241" y="259"/>
                    </a:lnTo>
                    <a:lnTo>
                      <a:pt x="247" y="270"/>
                    </a:lnTo>
                    <a:lnTo>
                      <a:pt x="253" y="278"/>
                    </a:lnTo>
                    <a:lnTo>
                      <a:pt x="256" y="283"/>
                    </a:lnTo>
                    <a:lnTo>
                      <a:pt x="258" y="285"/>
                    </a:lnTo>
                    <a:lnTo>
                      <a:pt x="262" y="301"/>
                    </a:lnTo>
                    <a:lnTo>
                      <a:pt x="279" y="346"/>
                    </a:lnTo>
                    <a:lnTo>
                      <a:pt x="304" y="416"/>
                    </a:lnTo>
                    <a:lnTo>
                      <a:pt x="336" y="508"/>
                    </a:lnTo>
                    <a:lnTo>
                      <a:pt x="374" y="616"/>
                    </a:lnTo>
                    <a:lnTo>
                      <a:pt x="418" y="738"/>
                    </a:lnTo>
                    <a:lnTo>
                      <a:pt x="465" y="867"/>
                    </a:lnTo>
                    <a:lnTo>
                      <a:pt x="515" y="1002"/>
                    </a:lnTo>
                    <a:lnTo>
                      <a:pt x="562" y="1137"/>
                    </a:lnTo>
                    <a:lnTo>
                      <a:pt x="612" y="1270"/>
                    </a:lnTo>
                    <a:lnTo>
                      <a:pt x="657" y="1396"/>
                    </a:lnTo>
                    <a:lnTo>
                      <a:pt x="699" y="1510"/>
                    </a:lnTo>
                    <a:lnTo>
                      <a:pt x="737" y="1609"/>
                    </a:lnTo>
                    <a:lnTo>
                      <a:pt x="768" y="1688"/>
                    </a:lnTo>
                    <a:lnTo>
                      <a:pt x="789" y="1745"/>
                    </a:lnTo>
                    <a:lnTo>
                      <a:pt x="802" y="1774"/>
                    </a:lnTo>
                    <a:lnTo>
                      <a:pt x="798" y="1763"/>
                    </a:lnTo>
                    <a:lnTo>
                      <a:pt x="790" y="1732"/>
                    </a:lnTo>
                    <a:lnTo>
                      <a:pt x="775" y="1683"/>
                    </a:lnTo>
                    <a:lnTo>
                      <a:pt x="758" y="1618"/>
                    </a:lnTo>
                    <a:lnTo>
                      <a:pt x="733" y="1540"/>
                    </a:lnTo>
                    <a:lnTo>
                      <a:pt x="707" y="1449"/>
                    </a:lnTo>
                    <a:lnTo>
                      <a:pt x="678" y="1348"/>
                    </a:lnTo>
                    <a:lnTo>
                      <a:pt x="646" y="1240"/>
                    </a:lnTo>
                    <a:lnTo>
                      <a:pt x="608" y="1124"/>
                    </a:lnTo>
                    <a:lnTo>
                      <a:pt x="574" y="1004"/>
                    </a:lnTo>
                    <a:lnTo>
                      <a:pt x="536" y="880"/>
                    </a:lnTo>
                    <a:lnTo>
                      <a:pt x="496" y="759"/>
                    </a:lnTo>
                    <a:lnTo>
                      <a:pt x="458" y="635"/>
                    </a:lnTo>
                    <a:lnTo>
                      <a:pt x="418" y="517"/>
                    </a:lnTo>
                    <a:lnTo>
                      <a:pt x="380" y="405"/>
                    </a:lnTo>
                    <a:lnTo>
                      <a:pt x="344" y="301"/>
                    </a:lnTo>
                    <a:lnTo>
                      <a:pt x="313" y="215"/>
                    </a:lnTo>
                    <a:lnTo>
                      <a:pt x="298" y="171"/>
                    </a:lnTo>
                    <a:lnTo>
                      <a:pt x="296" y="160"/>
                    </a:lnTo>
                    <a:lnTo>
                      <a:pt x="308" y="177"/>
                    </a:lnTo>
                    <a:lnTo>
                      <a:pt x="327" y="221"/>
                    </a:lnTo>
                    <a:lnTo>
                      <a:pt x="355" y="287"/>
                    </a:lnTo>
                    <a:lnTo>
                      <a:pt x="391" y="373"/>
                    </a:lnTo>
                    <a:lnTo>
                      <a:pt x="433" y="474"/>
                    </a:lnTo>
                    <a:lnTo>
                      <a:pt x="477" y="586"/>
                    </a:lnTo>
                    <a:lnTo>
                      <a:pt x="524" y="707"/>
                    </a:lnTo>
                    <a:lnTo>
                      <a:pt x="572" y="833"/>
                    </a:lnTo>
                    <a:lnTo>
                      <a:pt x="619" y="960"/>
                    </a:lnTo>
                    <a:lnTo>
                      <a:pt x="663" y="1084"/>
                    </a:lnTo>
                    <a:lnTo>
                      <a:pt x="705" y="1202"/>
                    </a:lnTo>
                    <a:lnTo>
                      <a:pt x="741" y="1310"/>
                    </a:lnTo>
                    <a:lnTo>
                      <a:pt x="771" y="1405"/>
                    </a:lnTo>
                    <a:lnTo>
                      <a:pt x="794" y="1489"/>
                    </a:lnTo>
                    <a:lnTo>
                      <a:pt x="817" y="1565"/>
                    </a:lnTo>
                    <a:lnTo>
                      <a:pt x="834" y="1633"/>
                    </a:lnTo>
                    <a:lnTo>
                      <a:pt x="851" y="1696"/>
                    </a:lnTo>
                    <a:lnTo>
                      <a:pt x="863" y="1751"/>
                    </a:lnTo>
                    <a:lnTo>
                      <a:pt x="872" y="1801"/>
                    </a:lnTo>
                    <a:lnTo>
                      <a:pt x="882" y="1844"/>
                    </a:lnTo>
                    <a:lnTo>
                      <a:pt x="889" y="1884"/>
                    </a:lnTo>
                    <a:lnTo>
                      <a:pt x="893" y="1917"/>
                    </a:lnTo>
                    <a:lnTo>
                      <a:pt x="897" y="1945"/>
                    </a:lnTo>
                    <a:lnTo>
                      <a:pt x="899" y="1966"/>
                    </a:lnTo>
                    <a:lnTo>
                      <a:pt x="901" y="1985"/>
                    </a:lnTo>
                    <a:lnTo>
                      <a:pt x="901" y="1998"/>
                    </a:lnTo>
                    <a:lnTo>
                      <a:pt x="901" y="2008"/>
                    </a:lnTo>
                    <a:lnTo>
                      <a:pt x="901" y="2014"/>
                    </a:lnTo>
                    <a:lnTo>
                      <a:pt x="903" y="2015"/>
                    </a:lnTo>
                    <a:lnTo>
                      <a:pt x="901" y="2015"/>
                    </a:lnTo>
                    <a:lnTo>
                      <a:pt x="895" y="2014"/>
                    </a:lnTo>
                    <a:lnTo>
                      <a:pt x="887" y="2012"/>
                    </a:lnTo>
                    <a:lnTo>
                      <a:pt x="880" y="2010"/>
                    </a:lnTo>
                    <a:lnTo>
                      <a:pt x="866" y="2006"/>
                    </a:lnTo>
                    <a:lnTo>
                      <a:pt x="853" y="2000"/>
                    </a:lnTo>
                    <a:lnTo>
                      <a:pt x="838" y="1993"/>
                    </a:lnTo>
                    <a:lnTo>
                      <a:pt x="823" y="1987"/>
                    </a:lnTo>
                    <a:lnTo>
                      <a:pt x="806" y="1975"/>
                    </a:lnTo>
                    <a:lnTo>
                      <a:pt x="789" y="1966"/>
                    </a:lnTo>
                    <a:lnTo>
                      <a:pt x="770" y="1953"/>
                    </a:lnTo>
                    <a:lnTo>
                      <a:pt x="751" y="1939"/>
                    </a:lnTo>
                    <a:lnTo>
                      <a:pt x="732" y="1922"/>
                    </a:lnTo>
                    <a:lnTo>
                      <a:pt x="714" y="1905"/>
                    </a:lnTo>
                    <a:lnTo>
                      <a:pt x="695" y="1886"/>
                    </a:lnTo>
                    <a:lnTo>
                      <a:pt x="680" y="1865"/>
                    </a:lnTo>
                    <a:lnTo>
                      <a:pt x="682" y="1869"/>
                    </a:lnTo>
                    <a:lnTo>
                      <a:pt x="684" y="1873"/>
                    </a:lnTo>
                    <a:lnTo>
                      <a:pt x="688" y="1882"/>
                    </a:lnTo>
                    <a:lnTo>
                      <a:pt x="692" y="1890"/>
                    </a:lnTo>
                    <a:lnTo>
                      <a:pt x="695" y="1899"/>
                    </a:lnTo>
                    <a:lnTo>
                      <a:pt x="701" y="1911"/>
                    </a:lnTo>
                    <a:lnTo>
                      <a:pt x="709" y="1922"/>
                    </a:lnTo>
                    <a:lnTo>
                      <a:pt x="713" y="1934"/>
                    </a:lnTo>
                    <a:lnTo>
                      <a:pt x="720" y="1947"/>
                    </a:lnTo>
                    <a:lnTo>
                      <a:pt x="726" y="1958"/>
                    </a:lnTo>
                    <a:lnTo>
                      <a:pt x="732" y="1970"/>
                    </a:lnTo>
                    <a:lnTo>
                      <a:pt x="737" y="1979"/>
                    </a:lnTo>
                    <a:lnTo>
                      <a:pt x="743" y="1991"/>
                    </a:lnTo>
                    <a:lnTo>
                      <a:pt x="747" y="1998"/>
                    </a:lnTo>
                    <a:lnTo>
                      <a:pt x="754" y="2008"/>
                    </a:lnTo>
                    <a:lnTo>
                      <a:pt x="758" y="2014"/>
                    </a:lnTo>
                    <a:lnTo>
                      <a:pt x="770" y="2025"/>
                    </a:lnTo>
                    <a:lnTo>
                      <a:pt x="781" y="2040"/>
                    </a:lnTo>
                    <a:lnTo>
                      <a:pt x="796" y="2057"/>
                    </a:lnTo>
                    <a:lnTo>
                      <a:pt x="813" y="2074"/>
                    </a:lnTo>
                    <a:lnTo>
                      <a:pt x="832" y="2095"/>
                    </a:lnTo>
                    <a:lnTo>
                      <a:pt x="851" y="2114"/>
                    </a:lnTo>
                    <a:lnTo>
                      <a:pt x="870" y="2135"/>
                    </a:lnTo>
                    <a:lnTo>
                      <a:pt x="889" y="2154"/>
                    </a:lnTo>
                    <a:lnTo>
                      <a:pt x="908" y="2173"/>
                    </a:lnTo>
                    <a:lnTo>
                      <a:pt x="925" y="2190"/>
                    </a:lnTo>
                    <a:lnTo>
                      <a:pt x="941" y="2206"/>
                    </a:lnTo>
                    <a:lnTo>
                      <a:pt x="954" y="2219"/>
                    </a:lnTo>
                    <a:lnTo>
                      <a:pt x="963" y="2228"/>
                    </a:lnTo>
                    <a:lnTo>
                      <a:pt x="969" y="2234"/>
                    </a:lnTo>
                    <a:lnTo>
                      <a:pt x="973" y="2238"/>
                    </a:lnTo>
                    <a:lnTo>
                      <a:pt x="973" y="2234"/>
                    </a:lnTo>
                    <a:lnTo>
                      <a:pt x="973" y="2226"/>
                    </a:lnTo>
                    <a:lnTo>
                      <a:pt x="973" y="2215"/>
                    </a:lnTo>
                    <a:lnTo>
                      <a:pt x="973" y="2198"/>
                    </a:lnTo>
                    <a:lnTo>
                      <a:pt x="973" y="2179"/>
                    </a:lnTo>
                    <a:lnTo>
                      <a:pt x="973" y="2158"/>
                    </a:lnTo>
                    <a:lnTo>
                      <a:pt x="973" y="2133"/>
                    </a:lnTo>
                    <a:lnTo>
                      <a:pt x="975" y="2107"/>
                    </a:lnTo>
                    <a:lnTo>
                      <a:pt x="973" y="2078"/>
                    </a:lnTo>
                    <a:lnTo>
                      <a:pt x="973" y="2050"/>
                    </a:lnTo>
                    <a:lnTo>
                      <a:pt x="971" y="2021"/>
                    </a:lnTo>
                    <a:lnTo>
                      <a:pt x="971" y="1993"/>
                    </a:lnTo>
                    <a:lnTo>
                      <a:pt x="967" y="1962"/>
                    </a:lnTo>
                    <a:lnTo>
                      <a:pt x="965" y="1936"/>
                    </a:lnTo>
                    <a:lnTo>
                      <a:pt x="962" y="1911"/>
                    </a:lnTo>
                    <a:lnTo>
                      <a:pt x="958" y="1888"/>
                    </a:lnTo>
                    <a:lnTo>
                      <a:pt x="952" y="1861"/>
                    </a:lnTo>
                    <a:lnTo>
                      <a:pt x="944" y="1829"/>
                    </a:lnTo>
                    <a:lnTo>
                      <a:pt x="935" y="1793"/>
                    </a:lnTo>
                    <a:lnTo>
                      <a:pt x="927" y="1751"/>
                    </a:lnTo>
                    <a:lnTo>
                      <a:pt x="914" y="1707"/>
                    </a:lnTo>
                    <a:lnTo>
                      <a:pt x="903" y="1660"/>
                    </a:lnTo>
                    <a:lnTo>
                      <a:pt x="889" y="1610"/>
                    </a:lnTo>
                    <a:lnTo>
                      <a:pt x="878" y="1561"/>
                    </a:lnTo>
                    <a:lnTo>
                      <a:pt x="863" y="1508"/>
                    </a:lnTo>
                    <a:lnTo>
                      <a:pt x="849" y="1458"/>
                    </a:lnTo>
                    <a:lnTo>
                      <a:pt x="834" y="1409"/>
                    </a:lnTo>
                    <a:lnTo>
                      <a:pt x="821" y="1363"/>
                    </a:lnTo>
                    <a:lnTo>
                      <a:pt x="808" y="1320"/>
                    </a:lnTo>
                    <a:lnTo>
                      <a:pt x="794" y="1280"/>
                    </a:lnTo>
                    <a:lnTo>
                      <a:pt x="783" y="1245"/>
                    </a:lnTo>
                    <a:lnTo>
                      <a:pt x="771" y="1215"/>
                    </a:lnTo>
                    <a:lnTo>
                      <a:pt x="756" y="1177"/>
                    </a:lnTo>
                    <a:lnTo>
                      <a:pt x="737" y="1122"/>
                    </a:lnTo>
                    <a:lnTo>
                      <a:pt x="711" y="1050"/>
                    </a:lnTo>
                    <a:lnTo>
                      <a:pt x="680" y="966"/>
                    </a:lnTo>
                    <a:lnTo>
                      <a:pt x="646" y="869"/>
                    </a:lnTo>
                    <a:lnTo>
                      <a:pt x="610" y="768"/>
                    </a:lnTo>
                    <a:lnTo>
                      <a:pt x="572" y="664"/>
                    </a:lnTo>
                    <a:lnTo>
                      <a:pt x="536" y="557"/>
                    </a:lnTo>
                    <a:lnTo>
                      <a:pt x="498" y="451"/>
                    </a:lnTo>
                    <a:lnTo>
                      <a:pt x="464" y="348"/>
                    </a:lnTo>
                    <a:lnTo>
                      <a:pt x="431" y="255"/>
                    </a:lnTo>
                    <a:lnTo>
                      <a:pt x="403" y="173"/>
                    </a:lnTo>
                    <a:lnTo>
                      <a:pt x="376" y="103"/>
                    </a:lnTo>
                    <a:lnTo>
                      <a:pt x="359" y="50"/>
                    </a:lnTo>
                    <a:lnTo>
                      <a:pt x="348" y="15"/>
                    </a:lnTo>
                    <a:lnTo>
                      <a:pt x="344" y="4"/>
                    </a:lnTo>
                    <a:lnTo>
                      <a:pt x="342" y="4"/>
                    </a:lnTo>
                    <a:lnTo>
                      <a:pt x="338" y="2"/>
                    </a:lnTo>
                    <a:lnTo>
                      <a:pt x="332" y="0"/>
                    </a:lnTo>
                    <a:lnTo>
                      <a:pt x="327" y="0"/>
                    </a:lnTo>
                    <a:lnTo>
                      <a:pt x="317" y="0"/>
                    </a:lnTo>
                    <a:lnTo>
                      <a:pt x="306" y="0"/>
                    </a:lnTo>
                    <a:lnTo>
                      <a:pt x="294" y="0"/>
                    </a:lnTo>
                    <a:lnTo>
                      <a:pt x="281" y="2"/>
                    </a:lnTo>
                    <a:lnTo>
                      <a:pt x="266" y="2"/>
                    </a:lnTo>
                    <a:lnTo>
                      <a:pt x="249" y="6"/>
                    </a:lnTo>
                    <a:lnTo>
                      <a:pt x="232" y="8"/>
                    </a:lnTo>
                    <a:lnTo>
                      <a:pt x="215" y="13"/>
                    </a:lnTo>
                    <a:lnTo>
                      <a:pt x="195" y="21"/>
                    </a:lnTo>
                    <a:lnTo>
                      <a:pt x="176" y="29"/>
                    </a:lnTo>
                    <a:lnTo>
                      <a:pt x="156" y="38"/>
                    </a:lnTo>
                    <a:lnTo>
                      <a:pt x="135" y="51"/>
                    </a:lnTo>
                    <a:lnTo>
                      <a:pt x="114" y="61"/>
                    </a:lnTo>
                    <a:lnTo>
                      <a:pt x="95" y="74"/>
                    </a:lnTo>
                    <a:lnTo>
                      <a:pt x="80" y="86"/>
                    </a:lnTo>
                    <a:lnTo>
                      <a:pt x="64" y="97"/>
                    </a:lnTo>
                    <a:lnTo>
                      <a:pt x="51" y="105"/>
                    </a:lnTo>
                    <a:lnTo>
                      <a:pt x="42" y="116"/>
                    </a:lnTo>
                    <a:lnTo>
                      <a:pt x="30" y="124"/>
                    </a:lnTo>
                    <a:lnTo>
                      <a:pt x="24" y="133"/>
                    </a:lnTo>
                    <a:lnTo>
                      <a:pt x="17" y="139"/>
                    </a:lnTo>
                    <a:lnTo>
                      <a:pt x="11" y="147"/>
                    </a:lnTo>
                    <a:lnTo>
                      <a:pt x="7" y="150"/>
                    </a:lnTo>
                    <a:lnTo>
                      <a:pt x="4" y="156"/>
                    </a:lnTo>
                    <a:lnTo>
                      <a:pt x="0" y="162"/>
                    </a:lnTo>
                    <a:lnTo>
                      <a:pt x="0" y="166"/>
                    </a:lnTo>
                    <a:lnTo>
                      <a:pt x="85" y="365"/>
                    </a:lnTo>
                    <a:lnTo>
                      <a:pt x="85" y="36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596800">
                <a:off x="286560" y="555120"/>
                <a:ext cx="258840" cy="264960"/>
              </a:xfrm>
              <a:custGeom>
                <a:avLst/>
                <a:gdLst/>
                <a:ahLst/>
                <a:rect l="l" t="t" r="r" b="b"/>
                <a:pathLst>
                  <a:path w="327" h="334">
                    <a:moveTo>
                      <a:pt x="318" y="186"/>
                    </a:moveTo>
                    <a:lnTo>
                      <a:pt x="316" y="186"/>
                    </a:lnTo>
                    <a:lnTo>
                      <a:pt x="314" y="190"/>
                    </a:lnTo>
                    <a:lnTo>
                      <a:pt x="308" y="195"/>
                    </a:lnTo>
                    <a:lnTo>
                      <a:pt x="302" y="203"/>
                    </a:lnTo>
                    <a:lnTo>
                      <a:pt x="295" y="212"/>
                    </a:lnTo>
                    <a:lnTo>
                      <a:pt x="285" y="220"/>
                    </a:lnTo>
                    <a:lnTo>
                      <a:pt x="276" y="230"/>
                    </a:lnTo>
                    <a:lnTo>
                      <a:pt x="264" y="239"/>
                    </a:lnTo>
                    <a:lnTo>
                      <a:pt x="249" y="249"/>
                    </a:lnTo>
                    <a:lnTo>
                      <a:pt x="234" y="256"/>
                    </a:lnTo>
                    <a:lnTo>
                      <a:pt x="219" y="262"/>
                    </a:lnTo>
                    <a:lnTo>
                      <a:pt x="202" y="266"/>
                    </a:lnTo>
                    <a:lnTo>
                      <a:pt x="181" y="268"/>
                    </a:lnTo>
                    <a:lnTo>
                      <a:pt x="160" y="268"/>
                    </a:lnTo>
                    <a:lnTo>
                      <a:pt x="139" y="264"/>
                    </a:lnTo>
                    <a:lnTo>
                      <a:pt x="116" y="256"/>
                    </a:lnTo>
                    <a:lnTo>
                      <a:pt x="95" y="245"/>
                    </a:lnTo>
                    <a:lnTo>
                      <a:pt x="78" y="231"/>
                    </a:lnTo>
                    <a:lnTo>
                      <a:pt x="63" y="212"/>
                    </a:lnTo>
                    <a:lnTo>
                      <a:pt x="55" y="193"/>
                    </a:lnTo>
                    <a:lnTo>
                      <a:pt x="48" y="171"/>
                    </a:lnTo>
                    <a:lnTo>
                      <a:pt x="46" y="150"/>
                    </a:lnTo>
                    <a:lnTo>
                      <a:pt x="46" y="127"/>
                    </a:lnTo>
                    <a:lnTo>
                      <a:pt x="51" y="106"/>
                    </a:lnTo>
                    <a:lnTo>
                      <a:pt x="59" y="81"/>
                    </a:lnTo>
                    <a:lnTo>
                      <a:pt x="70" y="62"/>
                    </a:lnTo>
                    <a:lnTo>
                      <a:pt x="84" y="45"/>
                    </a:lnTo>
                    <a:lnTo>
                      <a:pt x="103" y="30"/>
                    </a:lnTo>
                    <a:lnTo>
                      <a:pt x="122" y="19"/>
                    </a:lnTo>
                    <a:lnTo>
                      <a:pt x="143" y="11"/>
                    </a:lnTo>
                    <a:lnTo>
                      <a:pt x="169" y="7"/>
                    </a:lnTo>
                    <a:lnTo>
                      <a:pt x="198" y="11"/>
                    </a:lnTo>
                    <a:lnTo>
                      <a:pt x="196" y="9"/>
                    </a:lnTo>
                    <a:lnTo>
                      <a:pt x="190" y="7"/>
                    </a:lnTo>
                    <a:lnTo>
                      <a:pt x="185" y="5"/>
                    </a:lnTo>
                    <a:lnTo>
                      <a:pt x="177" y="3"/>
                    </a:lnTo>
                    <a:lnTo>
                      <a:pt x="167" y="1"/>
                    </a:lnTo>
                    <a:lnTo>
                      <a:pt x="156" y="0"/>
                    </a:lnTo>
                    <a:lnTo>
                      <a:pt x="143" y="0"/>
                    </a:lnTo>
                    <a:lnTo>
                      <a:pt x="131" y="1"/>
                    </a:lnTo>
                    <a:lnTo>
                      <a:pt x="116" y="3"/>
                    </a:lnTo>
                    <a:lnTo>
                      <a:pt x="103" y="9"/>
                    </a:lnTo>
                    <a:lnTo>
                      <a:pt x="88" y="17"/>
                    </a:lnTo>
                    <a:lnTo>
                      <a:pt x="72" y="26"/>
                    </a:lnTo>
                    <a:lnTo>
                      <a:pt x="57" y="39"/>
                    </a:lnTo>
                    <a:lnTo>
                      <a:pt x="44" y="57"/>
                    </a:lnTo>
                    <a:lnTo>
                      <a:pt x="31" y="77"/>
                    </a:lnTo>
                    <a:lnTo>
                      <a:pt x="19" y="102"/>
                    </a:lnTo>
                    <a:lnTo>
                      <a:pt x="10" y="129"/>
                    </a:lnTo>
                    <a:lnTo>
                      <a:pt x="4" y="154"/>
                    </a:lnTo>
                    <a:lnTo>
                      <a:pt x="0" y="174"/>
                    </a:lnTo>
                    <a:lnTo>
                      <a:pt x="0" y="197"/>
                    </a:lnTo>
                    <a:lnTo>
                      <a:pt x="2" y="216"/>
                    </a:lnTo>
                    <a:lnTo>
                      <a:pt x="8" y="235"/>
                    </a:lnTo>
                    <a:lnTo>
                      <a:pt x="15" y="250"/>
                    </a:lnTo>
                    <a:lnTo>
                      <a:pt x="27" y="268"/>
                    </a:lnTo>
                    <a:lnTo>
                      <a:pt x="36" y="279"/>
                    </a:lnTo>
                    <a:lnTo>
                      <a:pt x="51" y="292"/>
                    </a:lnTo>
                    <a:lnTo>
                      <a:pt x="67" y="302"/>
                    </a:lnTo>
                    <a:lnTo>
                      <a:pt x="84" y="311"/>
                    </a:lnTo>
                    <a:lnTo>
                      <a:pt x="103" y="319"/>
                    </a:lnTo>
                    <a:lnTo>
                      <a:pt x="124" y="325"/>
                    </a:lnTo>
                    <a:lnTo>
                      <a:pt x="145" y="330"/>
                    </a:lnTo>
                    <a:lnTo>
                      <a:pt x="169" y="334"/>
                    </a:lnTo>
                    <a:lnTo>
                      <a:pt x="188" y="334"/>
                    </a:lnTo>
                    <a:lnTo>
                      <a:pt x="209" y="334"/>
                    </a:lnTo>
                    <a:lnTo>
                      <a:pt x="226" y="330"/>
                    </a:lnTo>
                    <a:lnTo>
                      <a:pt x="243" y="327"/>
                    </a:lnTo>
                    <a:lnTo>
                      <a:pt x="257" y="321"/>
                    </a:lnTo>
                    <a:lnTo>
                      <a:pt x="270" y="313"/>
                    </a:lnTo>
                    <a:lnTo>
                      <a:pt x="281" y="306"/>
                    </a:lnTo>
                    <a:lnTo>
                      <a:pt x="291" y="298"/>
                    </a:lnTo>
                    <a:lnTo>
                      <a:pt x="299" y="287"/>
                    </a:lnTo>
                    <a:lnTo>
                      <a:pt x="306" y="277"/>
                    </a:lnTo>
                    <a:lnTo>
                      <a:pt x="312" y="268"/>
                    </a:lnTo>
                    <a:lnTo>
                      <a:pt x="318" y="258"/>
                    </a:lnTo>
                    <a:lnTo>
                      <a:pt x="321" y="249"/>
                    </a:lnTo>
                    <a:lnTo>
                      <a:pt x="323" y="239"/>
                    </a:lnTo>
                    <a:lnTo>
                      <a:pt x="325" y="231"/>
                    </a:lnTo>
                    <a:lnTo>
                      <a:pt x="327" y="224"/>
                    </a:lnTo>
                    <a:lnTo>
                      <a:pt x="325" y="218"/>
                    </a:lnTo>
                    <a:lnTo>
                      <a:pt x="325" y="212"/>
                    </a:lnTo>
                    <a:lnTo>
                      <a:pt x="325" y="207"/>
                    </a:lnTo>
                    <a:lnTo>
                      <a:pt x="325" y="203"/>
                    </a:lnTo>
                    <a:lnTo>
                      <a:pt x="323" y="195"/>
                    </a:lnTo>
                    <a:lnTo>
                      <a:pt x="323" y="192"/>
                    </a:lnTo>
                    <a:lnTo>
                      <a:pt x="318" y="186"/>
                    </a:lnTo>
                    <a:lnTo>
                      <a:pt x="318" y="186"/>
                    </a:lnTo>
                    <a:lnTo>
                      <a:pt x="318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596800">
                <a:off x="445320" y="532800"/>
                <a:ext cx="92160" cy="122040"/>
              </a:xfrm>
              <a:custGeom>
                <a:avLst/>
                <a:gdLst/>
                <a:ahLst/>
                <a:rect l="l" t="t" r="r" b="b"/>
                <a:pathLst>
                  <a:path w="118" h="154">
                    <a:moveTo>
                      <a:pt x="0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15" y="8"/>
                    </a:lnTo>
                    <a:lnTo>
                      <a:pt x="23" y="10"/>
                    </a:lnTo>
                    <a:lnTo>
                      <a:pt x="32" y="17"/>
                    </a:lnTo>
                    <a:lnTo>
                      <a:pt x="42" y="23"/>
                    </a:lnTo>
                    <a:lnTo>
                      <a:pt x="53" y="33"/>
                    </a:lnTo>
                    <a:lnTo>
                      <a:pt x="63" y="42"/>
                    </a:lnTo>
                    <a:lnTo>
                      <a:pt x="72" y="52"/>
                    </a:lnTo>
                    <a:lnTo>
                      <a:pt x="80" y="65"/>
                    </a:lnTo>
                    <a:lnTo>
                      <a:pt x="88" y="80"/>
                    </a:lnTo>
                    <a:lnTo>
                      <a:pt x="95" y="95"/>
                    </a:lnTo>
                    <a:lnTo>
                      <a:pt x="99" y="113"/>
                    </a:lnTo>
                    <a:lnTo>
                      <a:pt x="103" y="132"/>
                    </a:lnTo>
                    <a:lnTo>
                      <a:pt x="105" y="154"/>
                    </a:lnTo>
                    <a:lnTo>
                      <a:pt x="105" y="151"/>
                    </a:lnTo>
                    <a:lnTo>
                      <a:pt x="108" y="145"/>
                    </a:lnTo>
                    <a:lnTo>
                      <a:pt x="110" y="139"/>
                    </a:lnTo>
                    <a:lnTo>
                      <a:pt x="112" y="135"/>
                    </a:lnTo>
                    <a:lnTo>
                      <a:pt x="114" y="128"/>
                    </a:lnTo>
                    <a:lnTo>
                      <a:pt x="116" y="122"/>
                    </a:lnTo>
                    <a:lnTo>
                      <a:pt x="116" y="114"/>
                    </a:lnTo>
                    <a:lnTo>
                      <a:pt x="118" y="107"/>
                    </a:lnTo>
                    <a:lnTo>
                      <a:pt x="116" y="97"/>
                    </a:lnTo>
                    <a:lnTo>
                      <a:pt x="116" y="90"/>
                    </a:lnTo>
                    <a:lnTo>
                      <a:pt x="114" y="78"/>
                    </a:lnTo>
                    <a:lnTo>
                      <a:pt x="112" y="69"/>
                    </a:lnTo>
                    <a:lnTo>
                      <a:pt x="108" y="59"/>
                    </a:lnTo>
                    <a:lnTo>
                      <a:pt x="105" y="50"/>
                    </a:lnTo>
                    <a:lnTo>
                      <a:pt x="97" y="38"/>
                    </a:lnTo>
                    <a:lnTo>
                      <a:pt x="89" y="31"/>
                    </a:lnTo>
                    <a:lnTo>
                      <a:pt x="82" y="23"/>
                    </a:lnTo>
                    <a:lnTo>
                      <a:pt x="74" y="17"/>
                    </a:lnTo>
                    <a:lnTo>
                      <a:pt x="65" y="12"/>
                    </a:lnTo>
                    <a:lnTo>
                      <a:pt x="57" y="8"/>
                    </a:lnTo>
                    <a:lnTo>
                      <a:pt x="48" y="6"/>
                    </a:lnTo>
                    <a:lnTo>
                      <a:pt x="40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0596800">
                <a:off x="563760" y="681840"/>
                <a:ext cx="122040" cy="296640"/>
              </a:xfrm>
              <a:custGeom>
                <a:avLst/>
                <a:gdLst/>
                <a:ahLst/>
                <a:rect l="l" t="t" r="r" b="b"/>
                <a:pathLst>
                  <a:path w="154" h="374">
                    <a:moveTo>
                      <a:pt x="0" y="64"/>
                    </a:moveTo>
                    <a:lnTo>
                      <a:pt x="0" y="64"/>
                    </a:lnTo>
                    <a:lnTo>
                      <a:pt x="0" y="70"/>
                    </a:lnTo>
                    <a:lnTo>
                      <a:pt x="0" y="80"/>
                    </a:lnTo>
                    <a:lnTo>
                      <a:pt x="2" y="91"/>
                    </a:lnTo>
                    <a:lnTo>
                      <a:pt x="4" y="106"/>
                    </a:lnTo>
                    <a:lnTo>
                      <a:pt x="8" y="123"/>
                    </a:lnTo>
                    <a:lnTo>
                      <a:pt x="12" y="142"/>
                    </a:lnTo>
                    <a:lnTo>
                      <a:pt x="19" y="165"/>
                    </a:lnTo>
                    <a:lnTo>
                      <a:pt x="27" y="188"/>
                    </a:lnTo>
                    <a:lnTo>
                      <a:pt x="36" y="211"/>
                    </a:lnTo>
                    <a:lnTo>
                      <a:pt x="48" y="237"/>
                    </a:lnTo>
                    <a:lnTo>
                      <a:pt x="59" y="264"/>
                    </a:lnTo>
                    <a:lnTo>
                      <a:pt x="74" y="292"/>
                    </a:lnTo>
                    <a:lnTo>
                      <a:pt x="93" y="319"/>
                    </a:lnTo>
                    <a:lnTo>
                      <a:pt x="114" y="346"/>
                    </a:lnTo>
                    <a:lnTo>
                      <a:pt x="137" y="374"/>
                    </a:lnTo>
                    <a:lnTo>
                      <a:pt x="154" y="369"/>
                    </a:lnTo>
                    <a:lnTo>
                      <a:pt x="152" y="365"/>
                    </a:lnTo>
                    <a:lnTo>
                      <a:pt x="148" y="361"/>
                    </a:lnTo>
                    <a:lnTo>
                      <a:pt x="143" y="351"/>
                    </a:lnTo>
                    <a:lnTo>
                      <a:pt x="135" y="340"/>
                    </a:lnTo>
                    <a:lnTo>
                      <a:pt x="124" y="325"/>
                    </a:lnTo>
                    <a:lnTo>
                      <a:pt x="116" y="306"/>
                    </a:lnTo>
                    <a:lnTo>
                      <a:pt x="105" y="285"/>
                    </a:lnTo>
                    <a:lnTo>
                      <a:pt x="95" y="262"/>
                    </a:lnTo>
                    <a:lnTo>
                      <a:pt x="82" y="235"/>
                    </a:lnTo>
                    <a:lnTo>
                      <a:pt x="72" y="207"/>
                    </a:lnTo>
                    <a:lnTo>
                      <a:pt x="61" y="176"/>
                    </a:lnTo>
                    <a:lnTo>
                      <a:pt x="53" y="144"/>
                    </a:lnTo>
                    <a:lnTo>
                      <a:pt x="46" y="110"/>
                    </a:lnTo>
                    <a:lnTo>
                      <a:pt x="40" y="74"/>
                    </a:lnTo>
                    <a:lnTo>
                      <a:pt x="38" y="36"/>
                    </a:lnTo>
                    <a:lnTo>
                      <a:pt x="38" y="0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596800">
                <a:off x="484920" y="781560"/>
                <a:ext cx="142920" cy="264600"/>
              </a:xfrm>
              <a:custGeom>
                <a:avLst/>
                <a:gdLst/>
                <a:ahLst/>
                <a:rect l="l" t="t" r="r" b="b"/>
                <a:pathLst>
                  <a:path w="178" h="332">
                    <a:moveTo>
                      <a:pt x="178" y="315"/>
                    </a:moveTo>
                    <a:lnTo>
                      <a:pt x="178" y="311"/>
                    </a:lnTo>
                    <a:lnTo>
                      <a:pt x="176" y="304"/>
                    </a:lnTo>
                    <a:lnTo>
                      <a:pt x="173" y="291"/>
                    </a:lnTo>
                    <a:lnTo>
                      <a:pt x="167" y="275"/>
                    </a:lnTo>
                    <a:lnTo>
                      <a:pt x="159" y="256"/>
                    </a:lnTo>
                    <a:lnTo>
                      <a:pt x="152" y="235"/>
                    </a:lnTo>
                    <a:lnTo>
                      <a:pt x="144" y="211"/>
                    </a:lnTo>
                    <a:lnTo>
                      <a:pt x="133" y="186"/>
                    </a:lnTo>
                    <a:lnTo>
                      <a:pt x="119" y="159"/>
                    </a:lnTo>
                    <a:lnTo>
                      <a:pt x="106" y="133"/>
                    </a:lnTo>
                    <a:lnTo>
                      <a:pt x="91" y="106"/>
                    </a:lnTo>
                    <a:lnTo>
                      <a:pt x="76" y="81"/>
                    </a:lnTo>
                    <a:lnTo>
                      <a:pt x="59" y="57"/>
                    </a:lnTo>
                    <a:lnTo>
                      <a:pt x="40" y="36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7"/>
                    </a:lnTo>
                    <a:lnTo>
                      <a:pt x="7" y="17"/>
                    </a:lnTo>
                    <a:lnTo>
                      <a:pt x="15" y="30"/>
                    </a:lnTo>
                    <a:lnTo>
                      <a:pt x="23" y="45"/>
                    </a:lnTo>
                    <a:lnTo>
                      <a:pt x="30" y="62"/>
                    </a:lnTo>
                    <a:lnTo>
                      <a:pt x="40" y="83"/>
                    </a:lnTo>
                    <a:lnTo>
                      <a:pt x="51" y="106"/>
                    </a:lnTo>
                    <a:lnTo>
                      <a:pt x="59" y="131"/>
                    </a:lnTo>
                    <a:lnTo>
                      <a:pt x="70" y="156"/>
                    </a:lnTo>
                    <a:lnTo>
                      <a:pt x="80" y="182"/>
                    </a:lnTo>
                    <a:lnTo>
                      <a:pt x="89" y="211"/>
                    </a:lnTo>
                    <a:lnTo>
                      <a:pt x="99" y="239"/>
                    </a:lnTo>
                    <a:lnTo>
                      <a:pt x="104" y="268"/>
                    </a:lnTo>
                    <a:lnTo>
                      <a:pt x="112" y="296"/>
                    </a:lnTo>
                    <a:lnTo>
                      <a:pt x="116" y="325"/>
                    </a:lnTo>
                    <a:lnTo>
                      <a:pt x="118" y="329"/>
                    </a:lnTo>
                    <a:lnTo>
                      <a:pt x="127" y="332"/>
                    </a:lnTo>
                    <a:lnTo>
                      <a:pt x="131" y="330"/>
                    </a:lnTo>
                    <a:lnTo>
                      <a:pt x="135" y="329"/>
                    </a:lnTo>
                    <a:lnTo>
                      <a:pt x="140" y="329"/>
                    </a:lnTo>
                    <a:lnTo>
                      <a:pt x="148" y="327"/>
                    </a:lnTo>
                    <a:lnTo>
                      <a:pt x="152" y="325"/>
                    </a:lnTo>
                    <a:lnTo>
                      <a:pt x="159" y="323"/>
                    </a:lnTo>
                    <a:lnTo>
                      <a:pt x="163" y="321"/>
                    </a:lnTo>
                    <a:lnTo>
                      <a:pt x="169" y="319"/>
                    </a:lnTo>
                    <a:lnTo>
                      <a:pt x="176" y="315"/>
                    </a:lnTo>
                    <a:lnTo>
                      <a:pt x="178" y="315"/>
                    </a:lnTo>
                    <a:lnTo>
                      <a:pt x="178" y="3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596800">
                <a:off x="473760" y="714960"/>
                <a:ext cx="455760" cy="291600"/>
              </a:xfrm>
              <a:custGeom>
                <a:avLst/>
                <a:gdLst/>
                <a:ahLst/>
                <a:rect l="l" t="t" r="r" b="b"/>
                <a:pathLst>
                  <a:path w="574" h="367">
                    <a:moveTo>
                      <a:pt x="542" y="15"/>
                    </a:moveTo>
                    <a:lnTo>
                      <a:pt x="540" y="17"/>
                    </a:lnTo>
                    <a:lnTo>
                      <a:pt x="536" y="29"/>
                    </a:lnTo>
                    <a:lnTo>
                      <a:pt x="526" y="44"/>
                    </a:lnTo>
                    <a:lnTo>
                      <a:pt x="517" y="65"/>
                    </a:lnTo>
                    <a:lnTo>
                      <a:pt x="502" y="89"/>
                    </a:lnTo>
                    <a:lnTo>
                      <a:pt x="483" y="118"/>
                    </a:lnTo>
                    <a:lnTo>
                      <a:pt x="460" y="148"/>
                    </a:lnTo>
                    <a:lnTo>
                      <a:pt x="433" y="181"/>
                    </a:lnTo>
                    <a:lnTo>
                      <a:pt x="399" y="211"/>
                    </a:lnTo>
                    <a:lnTo>
                      <a:pt x="361" y="242"/>
                    </a:lnTo>
                    <a:lnTo>
                      <a:pt x="317" y="268"/>
                    </a:lnTo>
                    <a:lnTo>
                      <a:pt x="268" y="295"/>
                    </a:lnTo>
                    <a:lnTo>
                      <a:pt x="209" y="316"/>
                    </a:lnTo>
                    <a:lnTo>
                      <a:pt x="146" y="335"/>
                    </a:lnTo>
                    <a:lnTo>
                      <a:pt x="76" y="346"/>
                    </a:lnTo>
                    <a:lnTo>
                      <a:pt x="0" y="352"/>
                    </a:lnTo>
                    <a:lnTo>
                      <a:pt x="0" y="352"/>
                    </a:lnTo>
                    <a:lnTo>
                      <a:pt x="4" y="354"/>
                    </a:lnTo>
                    <a:lnTo>
                      <a:pt x="11" y="356"/>
                    </a:lnTo>
                    <a:lnTo>
                      <a:pt x="23" y="358"/>
                    </a:lnTo>
                    <a:lnTo>
                      <a:pt x="36" y="361"/>
                    </a:lnTo>
                    <a:lnTo>
                      <a:pt x="53" y="363"/>
                    </a:lnTo>
                    <a:lnTo>
                      <a:pt x="70" y="365"/>
                    </a:lnTo>
                    <a:lnTo>
                      <a:pt x="93" y="367"/>
                    </a:lnTo>
                    <a:lnTo>
                      <a:pt x="116" y="367"/>
                    </a:lnTo>
                    <a:lnTo>
                      <a:pt x="142" y="365"/>
                    </a:lnTo>
                    <a:lnTo>
                      <a:pt x="171" y="361"/>
                    </a:lnTo>
                    <a:lnTo>
                      <a:pt x="203" y="356"/>
                    </a:lnTo>
                    <a:lnTo>
                      <a:pt x="237" y="348"/>
                    </a:lnTo>
                    <a:lnTo>
                      <a:pt x="274" y="337"/>
                    </a:lnTo>
                    <a:lnTo>
                      <a:pt x="312" y="323"/>
                    </a:lnTo>
                    <a:lnTo>
                      <a:pt x="353" y="308"/>
                    </a:lnTo>
                    <a:lnTo>
                      <a:pt x="389" y="287"/>
                    </a:lnTo>
                    <a:lnTo>
                      <a:pt x="426" y="264"/>
                    </a:lnTo>
                    <a:lnTo>
                      <a:pt x="454" y="242"/>
                    </a:lnTo>
                    <a:lnTo>
                      <a:pt x="479" y="217"/>
                    </a:lnTo>
                    <a:lnTo>
                      <a:pt x="500" y="190"/>
                    </a:lnTo>
                    <a:lnTo>
                      <a:pt x="519" y="166"/>
                    </a:lnTo>
                    <a:lnTo>
                      <a:pt x="534" y="139"/>
                    </a:lnTo>
                    <a:lnTo>
                      <a:pt x="545" y="116"/>
                    </a:lnTo>
                    <a:lnTo>
                      <a:pt x="555" y="91"/>
                    </a:lnTo>
                    <a:lnTo>
                      <a:pt x="561" y="70"/>
                    </a:lnTo>
                    <a:lnTo>
                      <a:pt x="566" y="50"/>
                    </a:lnTo>
                    <a:lnTo>
                      <a:pt x="570" y="34"/>
                    </a:lnTo>
                    <a:lnTo>
                      <a:pt x="572" y="19"/>
                    </a:lnTo>
                    <a:lnTo>
                      <a:pt x="572" y="10"/>
                    </a:lnTo>
                    <a:lnTo>
                      <a:pt x="572" y="2"/>
                    </a:lnTo>
                    <a:lnTo>
                      <a:pt x="574" y="0"/>
                    </a:lnTo>
                    <a:lnTo>
                      <a:pt x="542" y="15"/>
                    </a:lnTo>
                    <a:lnTo>
                      <a:pt x="54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596800">
                <a:off x="878400" y="635040"/>
                <a:ext cx="47520" cy="288360"/>
              </a:xfrm>
              <a:custGeom>
                <a:avLst/>
                <a:gdLst/>
                <a:ahLst/>
                <a:rect l="l" t="t" r="r" b="b"/>
                <a:pathLst>
                  <a:path w="61" h="365">
                    <a:moveTo>
                      <a:pt x="61" y="0"/>
                    </a:moveTo>
                    <a:lnTo>
                      <a:pt x="61" y="2"/>
                    </a:lnTo>
                    <a:lnTo>
                      <a:pt x="59" y="8"/>
                    </a:lnTo>
                    <a:lnTo>
                      <a:pt x="55" y="18"/>
                    </a:lnTo>
                    <a:lnTo>
                      <a:pt x="54" y="31"/>
                    </a:lnTo>
                    <a:lnTo>
                      <a:pt x="50" y="46"/>
                    </a:lnTo>
                    <a:lnTo>
                      <a:pt x="46" y="67"/>
                    </a:lnTo>
                    <a:lnTo>
                      <a:pt x="42" y="88"/>
                    </a:lnTo>
                    <a:lnTo>
                      <a:pt x="40" y="114"/>
                    </a:lnTo>
                    <a:lnTo>
                      <a:pt x="36" y="139"/>
                    </a:lnTo>
                    <a:lnTo>
                      <a:pt x="35" y="168"/>
                    </a:lnTo>
                    <a:lnTo>
                      <a:pt x="33" y="198"/>
                    </a:lnTo>
                    <a:lnTo>
                      <a:pt x="33" y="230"/>
                    </a:lnTo>
                    <a:lnTo>
                      <a:pt x="33" y="263"/>
                    </a:lnTo>
                    <a:lnTo>
                      <a:pt x="35" y="297"/>
                    </a:lnTo>
                    <a:lnTo>
                      <a:pt x="38" y="329"/>
                    </a:lnTo>
                    <a:lnTo>
                      <a:pt x="46" y="365"/>
                    </a:lnTo>
                    <a:lnTo>
                      <a:pt x="44" y="364"/>
                    </a:lnTo>
                    <a:lnTo>
                      <a:pt x="42" y="360"/>
                    </a:lnTo>
                    <a:lnTo>
                      <a:pt x="36" y="354"/>
                    </a:lnTo>
                    <a:lnTo>
                      <a:pt x="33" y="346"/>
                    </a:lnTo>
                    <a:lnTo>
                      <a:pt x="29" y="335"/>
                    </a:lnTo>
                    <a:lnTo>
                      <a:pt x="23" y="322"/>
                    </a:lnTo>
                    <a:lnTo>
                      <a:pt x="17" y="307"/>
                    </a:lnTo>
                    <a:lnTo>
                      <a:pt x="14" y="287"/>
                    </a:lnTo>
                    <a:lnTo>
                      <a:pt x="8" y="267"/>
                    </a:lnTo>
                    <a:lnTo>
                      <a:pt x="4" y="242"/>
                    </a:lnTo>
                    <a:lnTo>
                      <a:pt x="2" y="217"/>
                    </a:lnTo>
                    <a:lnTo>
                      <a:pt x="0" y="187"/>
                    </a:lnTo>
                    <a:lnTo>
                      <a:pt x="0" y="153"/>
                    </a:lnTo>
                    <a:lnTo>
                      <a:pt x="4" y="118"/>
                    </a:lnTo>
                    <a:lnTo>
                      <a:pt x="10" y="80"/>
                    </a:lnTo>
                    <a:lnTo>
                      <a:pt x="17" y="4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596800">
                <a:off x="385200" y="1141560"/>
                <a:ext cx="123840" cy="96480"/>
              </a:xfrm>
              <a:custGeom>
                <a:avLst/>
                <a:gdLst/>
                <a:ahLst/>
                <a:rect l="l" t="t" r="r" b="b"/>
                <a:pathLst>
                  <a:path w="156" h="122">
                    <a:moveTo>
                      <a:pt x="129" y="36"/>
                    </a:moveTo>
                    <a:lnTo>
                      <a:pt x="126" y="36"/>
                    </a:lnTo>
                    <a:lnTo>
                      <a:pt x="118" y="40"/>
                    </a:lnTo>
                    <a:lnTo>
                      <a:pt x="110" y="42"/>
                    </a:lnTo>
                    <a:lnTo>
                      <a:pt x="107" y="44"/>
                    </a:lnTo>
                    <a:lnTo>
                      <a:pt x="101" y="47"/>
                    </a:lnTo>
                    <a:lnTo>
                      <a:pt x="93" y="51"/>
                    </a:lnTo>
                    <a:lnTo>
                      <a:pt x="88" y="55"/>
                    </a:lnTo>
                    <a:lnTo>
                      <a:pt x="80" y="57"/>
                    </a:lnTo>
                    <a:lnTo>
                      <a:pt x="74" y="61"/>
                    </a:lnTo>
                    <a:lnTo>
                      <a:pt x="71" y="66"/>
                    </a:lnTo>
                    <a:lnTo>
                      <a:pt x="65" y="76"/>
                    </a:lnTo>
                    <a:lnTo>
                      <a:pt x="65" y="85"/>
                    </a:lnTo>
                    <a:lnTo>
                      <a:pt x="65" y="87"/>
                    </a:lnTo>
                    <a:lnTo>
                      <a:pt x="69" y="91"/>
                    </a:lnTo>
                    <a:lnTo>
                      <a:pt x="74" y="91"/>
                    </a:lnTo>
                    <a:lnTo>
                      <a:pt x="80" y="93"/>
                    </a:lnTo>
                    <a:lnTo>
                      <a:pt x="86" y="93"/>
                    </a:lnTo>
                    <a:lnTo>
                      <a:pt x="93" y="93"/>
                    </a:lnTo>
                    <a:lnTo>
                      <a:pt x="101" y="93"/>
                    </a:lnTo>
                    <a:lnTo>
                      <a:pt x="109" y="91"/>
                    </a:lnTo>
                    <a:lnTo>
                      <a:pt x="116" y="89"/>
                    </a:lnTo>
                    <a:lnTo>
                      <a:pt x="124" y="89"/>
                    </a:lnTo>
                    <a:lnTo>
                      <a:pt x="129" y="87"/>
                    </a:lnTo>
                    <a:lnTo>
                      <a:pt x="137" y="85"/>
                    </a:lnTo>
                    <a:lnTo>
                      <a:pt x="145" y="84"/>
                    </a:lnTo>
                    <a:lnTo>
                      <a:pt x="148" y="84"/>
                    </a:lnTo>
                    <a:lnTo>
                      <a:pt x="156" y="101"/>
                    </a:lnTo>
                    <a:lnTo>
                      <a:pt x="154" y="101"/>
                    </a:lnTo>
                    <a:lnTo>
                      <a:pt x="148" y="103"/>
                    </a:lnTo>
                    <a:lnTo>
                      <a:pt x="141" y="104"/>
                    </a:lnTo>
                    <a:lnTo>
                      <a:pt x="133" y="106"/>
                    </a:lnTo>
                    <a:lnTo>
                      <a:pt x="120" y="110"/>
                    </a:lnTo>
                    <a:lnTo>
                      <a:pt x="109" y="112"/>
                    </a:lnTo>
                    <a:lnTo>
                      <a:pt x="95" y="116"/>
                    </a:lnTo>
                    <a:lnTo>
                      <a:pt x="82" y="120"/>
                    </a:lnTo>
                    <a:lnTo>
                      <a:pt x="69" y="120"/>
                    </a:lnTo>
                    <a:lnTo>
                      <a:pt x="55" y="122"/>
                    </a:lnTo>
                    <a:lnTo>
                      <a:pt x="42" y="122"/>
                    </a:lnTo>
                    <a:lnTo>
                      <a:pt x="31" y="122"/>
                    </a:lnTo>
                    <a:lnTo>
                      <a:pt x="19" y="120"/>
                    </a:lnTo>
                    <a:lnTo>
                      <a:pt x="12" y="118"/>
                    </a:lnTo>
                    <a:lnTo>
                      <a:pt x="4" y="112"/>
                    </a:lnTo>
                    <a:lnTo>
                      <a:pt x="2" y="108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4" y="84"/>
                    </a:lnTo>
                    <a:lnTo>
                      <a:pt x="10" y="74"/>
                    </a:lnTo>
                    <a:lnTo>
                      <a:pt x="15" y="65"/>
                    </a:lnTo>
                    <a:lnTo>
                      <a:pt x="25" y="57"/>
                    </a:lnTo>
                    <a:lnTo>
                      <a:pt x="33" y="47"/>
                    </a:lnTo>
                    <a:lnTo>
                      <a:pt x="42" y="40"/>
                    </a:lnTo>
                    <a:lnTo>
                      <a:pt x="52" y="30"/>
                    </a:lnTo>
                    <a:lnTo>
                      <a:pt x="61" y="23"/>
                    </a:lnTo>
                    <a:lnTo>
                      <a:pt x="71" y="15"/>
                    </a:lnTo>
                    <a:lnTo>
                      <a:pt x="78" y="9"/>
                    </a:lnTo>
                    <a:lnTo>
                      <a:pt x="88" y="4"/>
                    </a:lnTo>
                    <a:lnTo>
                      <a:pt x="93" y="2"/>
                    </a:lnTo>
                    <a:lnTo>
                      <a:pt x="99" y="0"/>
                    </a:lnTo>
                    <a:lnTo>
                      <a:pt x="105" y="2"/>
                    </a:lnTo>
                    <a:lnTo>
                      <a:pt x="109" y="4"/>
                    </a:lnTo>
                    <a:lnTo>
                      <a:pt x="116" y="8"/>
                    </a:lnTo>
                    <a:lnTo>
                      <a:pt x="120" y="13"/>
                    </a:lnTo>
                    <a:lnTo>
                      <a:pt x="124" y="19"/>
                    </a:lnTo>
                    <a:lnTo>
                      <a:pt x="126" y="25"/>
                    </a:lnTo>
                    <a:lnTo>
                      <a:pt x="128" y="30"/>
                    </a:lnTo>
                    <a:lnTo>
                      <a:pt x="128" y="34"/>
                    </a:lnTo>
                    <a:lnTo>
                      <a:pt x="129" y="36"/>
                    </a:lnTo>
                    <a:lnTo>
                      <a:pt x="129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596800">
                <a:off x="381240" y="1077840"/>
                <a:ext cx="149040" cy="228240"/>
              </a:xfrm>
              <a:custGeom>
                <a:avLst/>
                <a:gdLst/>
                <a:ahLst/>
                <a:rect l="l" t="t" r="r" b="b"/>
                <a:pathLst>
                  <a:path w="188" h="289">
                    <a:moveTo>
                      <a:pt x="0" y="9"/>
                    </a:moveTo>
                    <a:lnTo>
                      <a:pt x="1" y="9"/>
                    </a:lnTo>
                    <a:lnTo>
                      <a:pt x="5" y="13"/>
                    </a:lnTo>
                    <a:lnTo>
                      <a:pt x="15" y="17"/>
                    </a:lnTo>
                    <a:lnTo>
                      <a:pt x="26" y="25"/>
                    </a:lnTo>
                    <a:lnTo>
                      <a:pt x="36" y="32"/>
                    </a:lnTo>
                    <a:lnTo>
                      <a:pt x="51" y="44"/>
                    </a:lnTo>
                    <a:lnTo>
                      <a:pt x="66" y="55"/>
                    </a:lnTo>
                    <a:lnTo>
                      <a:pt x="81" y="72"/>
                    </a:lnTo>
                    <a:lnTo>
                      <a:pt x="95" y="89"/>
                    </a:lnTo>
                    <a:lnTo>
                      <a:pt x="110" y="108"/>
                    </a:lnTo>
                    <a:lnTo>
                      <a:pt x="123" y="131"/>
                    </a:lnTo>
                    <a:lnTo>
                      <a:pt x="136" y="158"/>
                    </a:lnTo>
                    <a:lnTo>
                      <a:pt x="146" y="184"/>
                    </a:lnTo>
                    <a:lnTo>
                      <a:pt x="155" y="217"/>
                    </a:lnTo>
                    <a:lnTo>
                      <a:pt x="159" y="251"/>
                    </a:lnTo>
                    <a:lnTo>
                      <a:pt x="163" y="289"/>
                    </a:lnTo>
                    <a:lnTo>
                      <a:pt x="163" y="287"/>
                    </a:lnTo>
                    <a:lnTo>
                      <a:pt x="165" y="285"/>
                    </a:lnTo>
                    <a:lnTo>
                      <a:pt x="169" y="279"/>
                    </a:lnTo>
                    <a:lnTo>
                      <a:pt x="171" y="276"/>
                    </a:lnTo>
                    <a:lnTo>
                      <a:pt x="174" y="268"/>
                    </a:lnTo>
                    <a:lnTo>
                      <a:pt x="178" y="260"/>
                    </a:lnTo>
                    <a:lnTo>
                      <a:pt x="180" y="249"/>
                    </a:lnTo>
                    <a:lnTo>
                      <a:pt x="186" y="240"/>
                    </a:lnTo>
                    <a:lnTo>
                      <a:pt x="186" y="226"/>
                    </a:lnTo>
                    <a:lnTo>
                      <a:pt x="188" y="211"/>
                    </a:lnTo>
                    <a:lnTo>
                      <a:pt x="186" y="196"/>
                    </a:lnTo>
                    <a:lnTo>
                      <a:pt x="184" y="179"/>
                    </a:lnTo>
                    <a:lnTo>
                      <a:pt x="178" y="158"/>
                    </a:lnTo>
                    <a:lnTo>
                      <a:pt x="171" y="139"/>
                    </a:lnTo>
                    <a:lnTo>
                      <a:pt x="161" y="116"/>
                    </a:lnTo>
                    <a:lnTo>
                      <a:pt x="148" y="93"/>
                    </a:lnTo>
                    <a:lnTo>
                      <a:pt x="133" y="68"/>
                    </a:lnTo>
                    <a:lnTo>
                      <a:pt x="119" y="51"/>
                    </a:lnTo>
                    <a:lnTo>
                      <a:pt x="104" y="36"/>
                    </a:lnTo>
                    <a:lnTo>
                      <a:pt x="93" y="25"/>
                    </a:lnTo>
                    <a:lnTo>
                      <a:pt x="77" y="15"/>
                    </a:lnTo>
                    <a:lnTo>
                      <a:pt x="66" y="8"/>
                    </a:lnTo>
                    <a:lnTo>
                      <a:pt x="53" y="4"/>
                    </a:lnTo>
                    <a:lnTo>
                      <a:pt x="45" y="2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7" y="2"/>
                    </a:lnTo>
                    <a:lnTo>
                      <a:pt x="11" y="4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596800">
                <a:off x="506880" y="1005840"/>
                <a:ext cx="529920" cy="237960"/>
              </a:xfrm>
              <a:custGeom>
                <a:avLst/>
                <a:gdLst/>
                <a:ahLst/>
                <a:rect l="l" t="t" r="r" b="b"/>
                <a:pathLst>
                  <a:path w="667" h="301">
                    <a:moveTo>
                      <a:pt x="6" y="240"/>
                    </a:moveTo>
                    <a:lnTo>
                      <a:pt x="6" y="236"/>
                    </a:lnTo>
                    <a:lnTo>
                      <a:pt x="11" y="227"/>
                    </a:lnTo>
                    <a:lnTo>
                      <a:pt x="21" y="212"/>
                    </a:lnTo>
                    <a:lnTo>
                      <a:pt x="34" y="192"/>
                    </a:lnTo>
                    <a:lnTo>
                      <a:pt x="51" y="170"/>
                    </a:lnTo>
                    <a:lnTo>
                      <a:pt x="74" y="145"/>
                    </a:lnTo>
                    <a:lnTo>
                      <a:pt x="103" y="120"/>
                    </a:lnTo>
                    <a:lnTo>
                      <a:pt x="137" y="96"/>
                    </a:lnTo>
                    <a:lnTo>
                      <a:pt x="177" y="71"/>
                    </a:lnTo>
                    <a:lnTo>
                      <a:pt x="224" y="50"/>
                    </a:lnTo>
                    <a:lnTo>
                      <a:pt x="279" y="29"/>
                    </a:lnTo>
                    <a:lnTo>
                      <a:pt x="342" y="16"/>
                    </a:lnTo>
                    <a:lnTo>
                      <a:pt x="410" y="4"/>
                    </a:lnTo>
                    <a:lnTo>
                      <a:pt x="490" y="0"/>
                    </a:lnTo>
                    <a:lnTo>
                      <a:pt x="578" y="4"/>
                    </a:lnTo>
                    <a:lnTo>
                      <a:pt x="667" y="16"/>
                    </a:lnTo>
                    <a:lnTo>
                      <a:pt x="597" y="14"/>
                    </a:lnTo>
                    <a:lnTo>
                      <a:pt x="557" y="16"/>
                    </a:lnTo>
                    <a:lnTo>
                      <a:pt x="515" y="19"/>
                    </a:lnTo>
                    <a:lnTo>
                      <a:pt x="464" y="25"/>
                    </a:lnTo>
                    <a:lnTo>
                      <a:pt x="412" y="35"/>
                    </a:lnTo>
                    <a:lnTo>
                      <a:pt x="357" y="48"/>
                    </a:lnTo>
                    <a:lnTo>
                      <a:pt x="302" y="65"/>
                    </a:lnTo>
                    <a:lnTo>
                      <a:pt x="245" y="88"/>
                    </a:lnTo>
                    <a:lnTo>
                      <a:pt x="192" y="118"/>
                    </a:lnTo>
                    <a:lnTo>
                      <a:pt x="137" y="151"/>
                    </a:lnTo>
                    <a:lnTo>
                      <a:pt x="87" y="194"/>
                    </a:lnTo>
                    <a:lnTo>
                      <a:pt x="40" y="242"/>
                    </a:lnTo>
                    <a:lnTo>
                      <a:pt x="0" y="301"/>
                    </a:lnTo>
                    <a:lnTo>
                      <a:pt x="6" y="240"/>
                    </a:lnTo>
                    <a:lnTo>
                      <a:pt x="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596800">
                <a:off x="683280" y="1075680"/>
                <a:ext cx="135000" cy="248760"/>
              </a:xfrm>
              <a:custGeom>
                <a:avLst/>
                <a:gdLst/>
                <a:ahLst/>
                <a:rect l="l" t="t" r="r" b="b"/>
                <a:pathLst>
                  <a:path w="171" h="313">
                    <a:moveTo>
                      <a:pt x="0" y="28"/>
                    </a:moveTo>
                    <a:lnTo>
                      <a:pt x="3" y="30"/>
                    </a:lnTo>
                    <a:lnTo>
                      <a:pt x="9" y="34"/>
                    </a:lnTo>
                    <a:lnTo>
                      <a:pt x="17" y="39"/>
                    </a:lnTo>
                    <a:lnTo>
                      <a:pt x="24" y="47"/>
                    </a:lnTo>
                    <a:lnTo>
                      <a:pt x="36" y="57"/>
                    </a:lnTo>
                    <a:lnTo>
                      <a:pt x="47" y="68"/>
                    </a:lnTo>
                    <a:lnTo>
                      <a:pt x="60" y="83"/>
                    </a:lnTo>
                    <a:lnTo>
                      <a:pt x="72" y="100"/>
                    </a:lnTo>
                    <a:lnTo>
                      <a:pt x="87" y="121"/>
                    </a:lnTo>
                    <a:lnTo>
                      <a:pt x="100" y="144"/>
                    </a:lnTo>
                    <a:lnTo>
                      <a:pt x="116" y="171"/>
                    </a:lnTo>
                    <a:lnTo>
                      <a:pt x="131" y="201"/>
                    </a:lnTo>
                    <a:lnTo>
                      <a:pt x="144" y="235"/>
                    </a:lnTo>
                    <a:lnTo>
                      <a:pt x="157" y="271"/>
                    </a:lnTo>
                    <a:lnTo>
                      <a:pt x="171" y="313"/>
                    </a:lnTo>
                    <a:lnTo>
                      <a:pt x="171" y="311"/>
                    </a:lnTo>
                    <a:lnTo>
                      <a:pt x="171" y="306"/>
                    </a:lnTo>
                    <a:lnTo>
                      <a:pt x="171" y="296"/>
                    </a:lnTo>
                    <a:lnTo>
                      <a:pt x="171" y="285"/>
                    </a:lnTo>
                    <a:lnTo>
                      <a:pt x="169" y="268"/>
                    </a:lnTo>
                    <a:lnTo>
                      <a:pt x="167" y="250"/>
                    </a:lnTo>
                    <a:lnTo>
                      <a:pt x="163" y="230"/>
                    </a:lnTo>
                    <a:lnTo>
                      <a:pt x="159" y="209"/>
                    </a:lnTo>
                    <a:lnTo>
                      <a:pt x="154" y="184"/>
                    </a:lnTo>
                    <a:lnTo>
                      <a:pt x="146" y="159"/>
                    </a:lnTo>
                    <a:lnTo>
                      <a:pt x="138" y="133"/>
                    </a:lnTo>
                    <a:lnTo>
                      <a:pt x="129" y="108"/>
                    </a:lnTo>
                    <a:lnTo>
                      <a:pt x="116" y="79"/>
                    </a:lnTo>
                    <a:lnTo>
                      <a:pt x="102" y="53"/>
                    </a:lnTo>
                    <a:lnTo>
                      <a:pt x="85" y="24"/>
                    </a:lnTo>
                    <a:lnTo>
                      <a:pt x="66" y="0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596800">
                <a:off x="794160" y="991800"/>
                <a:ext cx="130320" cy="253800"/>
              </a:xfrm>
              <a:custGeom>
                <a:avLst/>
                <a:gdLst/>
                <a:ahLst/>
                <a:rect l="l" t="t" r="r" b="b"/>
                <a:pathLst>
                  <a:path w="166" h="319">
                    <a:moveTo>
                      <a:pt x="137" y="306"/>
                    </a:moveTo>
                    <a:lnTo>
                      <a:pt x="135" y="304"/>
                    </a:lnTo>
                    <a:lnTo>
                      <a:pt x="131" y="302"/>
                    </a:lnTo>
                    <a:lnTo>
                      <a:pt x="127" y="298"/>
                    </a:lnTo>
                    <a:lnTo>
                      <a:pt x="120" y="294"/>
                    </a:lnTo>
                    <a:lnTo>
                      <a:pt x="112" y="287"/>
                    </a:lnTo>
                    <a:lnTo>
                      <a:pt x="103" y="277"/>
                    </a:lnTo>
                    <a:lnTo>
                      <a:pt x="93" y="266"/>
                    </a:lnTo>
                    <a:lnTo>
                      <a:pt x="84" y="255"/>
                    </a:lnTo>
                    <a:lnTo>
                      <a:pt x="72" y="237"/>
                    </a:lnTo>
                    <a:lnTo>
                      <a:pt x="61" y="220"/>
                    </a:lnTo>
                    <a:lnTo>
                      <a:pt x="50" y="199"/>
                    </a:lnTo>
                    <a:lnTo>
                      <a:pt x="38" y="177"/>
                    </a:lnTo>
                    <a:lnTo>
                      <a:pt x="27" y="148"/>
                    </a:lnTo>
                    <a:lnTo>
                      <a:pt x="17" y="120"/>
                    </a:lnTo>
                    <a:lnTo>
                      <a:pt x="8" y="85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4" y="24"/>
                    </a:lnTo>
                    <a:lnTo>
                      <a:pt x="6" y="19"/>
                    </a:lnTo>
                    <a:lnTo>
                      <a:pt x="8" y="13"/>
                    </a:lnTo>
                    <a:lnTo>
                      <a:pt x="12" y="7"/>
                    </a:lnTo>
                    <a:lnTo>
                      <a:pt x="17" y="5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36" y="2"/>
                    </a:lnTo>
                    <a:lnTo>
                      <a:pt x="40" y="5"/>
                    </a:lnTo>
                    <a:lnTo>
                      <a:pt x="42" y="9"/>
                    </a:lnTo>
                    <a:lnTo>
                      <a:pt x="46" y="19"/>
                    </a:lnTo>
                    <a:lnTo>
                      <a:pt x="46" y="26"/>
                    </a:lnTo>
                    <a:lnTo>
                      <a:pt x="48" y="40"/>
                    </a:lnTo>
                    <a:lnTo>
                      <a:pt x="51" y="55"/>
                    </a:lnTo>
                    <a:lnTo>
                      <a:pt x="53" y="72"/>
                    </a:lnTo>
                    <a:lnTo>
                      <a:pt x="57" y="89"/>
                    </a:lnTo>
                    <a:lnTo>
                      <a:pt x="61" y="110"/>
                    </a:lnTo>
                    <a:lnTo>
                      <a:pt x="67" y="129"/>
                    </a:lnTo>
                    <a:lnTo>
                      <a:pt x="72" y="150"/>
                    </a:lnTo>
                    <a:lnTo>
                      <a:pt x="76" y="171"/>
                    </a:lnTo>
                    <a:lnTo>
                      <a:pt x="84" y="190"/>
                    </a:lnTo>
                    <a:lnTo>
                      <a:pt x="91" y="209"/>
                    </a:lnTo>
                    <a:lnTo>
                      <a:pt x="101" y="230"/>
                    </a:lnTo>
                    <a:lnTo>
                      <a:pt x="108" y="247"/>
                    </a:lnTo>
                    <a:lnTo>
                      <a:pt x="118" y="264"/>
                    </a:lnTo>
                    <a:lnTo>
                      <a:pt x="129" y="277"/>
                    </a:lnTo>
                    <a:lnTo>
                      <a:pt x="141" y="291"/>
                    </a:lnTo>
                    <a:lnTo>
                      <a:pt x="150" y="298"/>
                    </a:lnTo>
                    <a:lnTo>
                      <a:pt x="158" y="306"/>
                    </a:lnTo>
                    <a:lnTo>
                      <a:pt x="164" y="312"/>
                    </a:lnTo>
                    <a:lnTo>
                      <a:pt x="166" y="315"/>
                    </a:lnTo>
                    <a:lnTo>
                      <a:pt x="166" y="319"/>
                    </a:lnTo>
                    <a:lnTo>
                      <a:pt x="162" y="319"/>
                    </a:lnTo>
                    <a:lnTo>
                      <a:pt x="154" y="313"/>
                    </a:lnTo>
                    <a:lnTo>
                      <a:pt x="147" y="310"/>
                    </a:lnTo>
                    <a:lnTo>
                      <a:pt x="139" y="306"/>
                    </a:lnTo>
                    <a:lnTo>
                      <a:pt x="137" y="306"/>
                    </a:lnTo>
                    <a:lnTo>
                      <a:pt x="137" y="3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596800">
                <a:off x="786600" y="1220040"/>
                <a:ext cx="233280" cy="147240"/>
              </a:xfrm>
              <a:custGeom>
                <a:avLst/>
                <a:gdLst/>
                <a:ahLst/>
                <a:rect l="l" t="t" r="r" b="b"/>
                <a:pathLst>
                  <a:path w="295" h="187">
                    <a:moveTo>
                      <a:pt x="295" y="21"/>
                    </a:moveTo>
                    <a:lnTo>
                      <a:pt x="291" y="21"/>
                    </a:lnTo>
                    <a:lnTo>
                      <a:pt x="283" y="21"/>
                    </a:lnTo>
                    <a:lnTo>
                      <a:pt x="272" y="23"/>
                    </a:lnTo>
                    <a:lnTo>
                      <a:pt x="259" y="27"/>
                    </a:lnTo>
                    <a:lnTo>
                      <a:pt x="240" y="29"/>
                    </a:lnTo>
                    <a:lnTo>
                      <a:pt x="221" y="35"/>
                    </a:lnTo>
                    <a:lnTo>
                      <a:pt x="198" y="40"/>
                    </a:lnTo>
                    <a:lnTo>
                      <a:pt x="177" y="48"/>
                    </a:lnTo>
                    <a:lnTo>
                      <a:pt x="152" y="58"/>
                    </a:lnTo>
                    <a:lnTo>
                      <a:pt x="127" y="69"/>
                    </a:lnTo>
                    <a:lnTo>
                      <a:pt x="103" y="82"/>
                    </a:lnTo>
                    <a:lnTo>
                      <a:pt x="80" y="97"/>
                    </a:lnTo>
                    <a:lnTo>
                      <a:pt x="55" y="116"/>
                    </a:lnTo>
                    <a:lnTo>
                      <a:pt x="36" y="137"/>
                    </a:lnTo>
                    <a:lnTo>
                      <a:pt x="17" y="160"/>
                    </a:lnTo>
                    <a:lnTo>
                      <a:pt x="2" y="187"/>
                    </a:lnTo>
                    <a:lnTo>
                      <a:pt x="0" y="185"/>
                    </a:lnTo>
                    <a:lnTo>
                      <a:pt x="0" y="183"/>
                    </a:lnTo>
                    <a:lnTo>
                      <a:pt x="0" y="177"/>
                    </a:ln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39"/>
                    </a:lnTo>
                    <a:lnTo>
                      <a:pt x="10" y="128"/>
                    </a:lnTo>
                    <a:lnTo>
                      <a:pt x="15" y="116"/>
                    </a:lnTo>
                    <a:lnTo>
                      <a:pt x="23" y="103"/>
                    </a:lnTo>
                    <a:lnTo>
                      <a:pt x="32" y="90"/>
                    </a:lnTo>
                    <a:lnTo>
                      <a:pt x="46" y="77"/>
                    </a:lnTo>
                    <a:lnTo>
                      <a:pt x="59" y="63"/>
                    </a:lnTo>
                    <a:lnTo>
                      <a:pt x="78" y="50"/>
                    </a:lnTo>
                    <a:lnTo>
                      <a:pt x="99" y="37"/>
                    </a:lnTo>
                    <a:lnTo>
                      <a:pt x="124" y="27"/>
                    </a:lnTo>
                    <a:lnTo>
                      <a:pt x="148" y="18"/>
                    </a:lnTo>
                    <a:lnTo>
                      <a:pt x="171" y="10"/>
                    </a:lnTo>
                    <a:lnTo>
                      <a:pt x="192" y="4"/>
                    </a:lnTo>
                    <a:lnTo>
                      <a:pt x="209" y="2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1" y="0"/>
                    </a:lnTo>
                    <a:lnTo>
                      <a:pt x="262" y="2"/>
                    </a:lnTo>
                    <a:lnTo>
                      <a:pt x="270" y="4"/>
                    </a:lnTo>
                    <a:lnTo>
                      <a:pt x="278" y="8"/>
                    </a:lnTo>
                    <a:lnTo>
                      <a:pt x="281" y="12"/>
                    </a:lnTo>
                    <a:lnTo>
                      <a:pt x="287" y="14"/>
                    </a:lnTo>
                    <a:lnTo>
                      <a:pt x="291" y="19"/>
                    </a:lnTo>
                    <a:lnTo>
                      <a:pt x="295" y="21"/>
                    </a:lnTo>
                    <a:lnTo>
                      <a:pt x="29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596800">
                <a:off x="803520" y="1268640"/>
                <a:ext cx="236520" cy="131400"/>
              </a:xfrm>
              <a:custGeom>
                <a:avLst/>
                <a:gdLst/>
                <a:ahLst/>
                <a:rect l="l" t="t" r="r" b="b"/>
                <a:pathLst>
                  <a:path w="296" h="167">
                    <a:moveTo>
                      <a:pt x="17" y="167"/>
                    </a:moveTo>
                    <a:lnTo>
                      <a:pt x="17" y="166"/>
                    </a:lnTo>
                    <a:lnTo>
                      <a:pt x="19" y="162"/>
                    </a:lnTo>
                    <a:lnTo>
                      <a:pt x="23" y="154"/>
                    </a:lnTo>
                    <a:lnTo>
                      <a:pt x="28" y="147"/>
                    </a:lnTo>
                    <a:lnTo>
                      <a:pt x="36" y="135"/>
                    </a:lnTo>
                    <a:lnTo>
                      <a:pt x="47" y="124"/>
                    </a:lnTo>
                    <a:lnTo>
                      <a:pt x="59" y="112"/>
                    </a:lnTo>
                    <a:lnTo>
                      <a:pt x="74" y="99"/>
                    </a:lnTo>
                    <a:lnTo>
                      <a:pt x="91" y="86"/>
                    </a:lnTo>
                    <a:lnTo>
                      <a:pt x="110" y="70"/>
                    </a:lnTo>
                    <a:lnTo>
                      <a:pt x="135" y="57"/>
                    </a:lnTo>
                    <a:lnTo>
                      <a:pt x="161" y="44"/>
                    </a:lnTo>
                    <a:lnTo>
                      <a:pt x="188" y="31"/>
                    </a:lnTo>
                    <a:lnTo>
                      <a:pt x="222" y="21"/>
                    </a:lnTo>
                    <a:lnTo>
                      <a:pt x="258" y="10"/>
                    </a:lnTo>
                    <a:lnTo>
                      <a:pt x="296" y="2"/>
                    </a:lnTo>
                    <a:lnTo>
                      <a:pt x="294" y="0"/>
                    </a:lnTo>
                    <a:lnTo>
                      <a:pt x="289" y="0"/>
                    </a:lnTo>
                    <a:lnTo>
                      <a:pt x="279" y="0"/>
                    </a:lnTo>
                    <a:lnTo>
                      <a:pt x="266" y="0"/>
                    </a:lnTo>
                    <a:lnTo>
                      <a:pt x="251" y="0"/>
                    </a:lnTo>
                    <a:lnTo>
                      <a:pt x="234" y="0"/>
                    </a:lnTo>
                    <a:lnTo>
                      <a:pt x="213" y="4"/>
                    </a:lnTo>
                    <a:lnTo>
                      <a:pt x="194" y="8"/>
                    </a:lnTo>
                    <a:lnTo>
                      <a:pt x="169" y="13"/>
                    </a:lnTo>
                    <a:lnTo>
                      <a:pt x="144" y="23"/>
                    </a:lnTo>
                    <a:lnTo>
                      <a:pt x="119" y="32"/>
                    </a:lnTo>
                    <a:lnTo>
                      <a:pt x="95" y="50"/>
                    </a:lnTo>
                    <a:lnTo>
                      <a:pt x="70" y="67"/>
                    </a:lnTo>
                    <a:lnTo>
                      <a:pt x="45" y="88"/>
                    </a:lnTo>
                    <a:lnTo>
                      <a:pt x="23" y="112"/>
                    </a:lnTo>
                    <a:lnTo>
                      <a:pt x="0" y="143"/>
                    </a:lnTo>
                    <a:lnTo>
                      <a:pt x="17" y="167"/>
                    </a:lnTo>
                    <a:lnTo>
                      <a:pt x="17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0596800">
                <a:off x="2009160" y="2570400"/>
                <a:ext cx="63360" cy="304560"/>
              </a:xfrm>
              <a:custGeom>
                <a:avLst/>
                <a:gdLst/>
                <a:ahLst/>
                <a:rect l="l" t="t" r="r" b="b"/>
                <a:pathLst>
                  <a:path w="80" h="384">
                    <a:moveTo>
                      <a:pt x="11" y="342"/>
                    </a:moveTo>
                    <a:lnTo>
                      <a:pt x="9" y="340"/>
                    </a:lnTo>
                    <a:lnTo>
                      <a:pt x="9" y="336"/>
                    </a:lnTo>
                    <a:lnTo>
                      <a:pt x="7" y="327"/>
                    </a:lnTo>
                    <a:lnTo>
                      <a:pt x="7" y="315"/>
                    </a:lnTo>
                    <a:lnTo>
                      <a:pt x="6" y="302"/>
                    </a:lnTo>
                    <a:lnTo>
                      <a:pt x="4" y="285"/>
                    </a:lnTo>
                    <a:lnTo>
                      <a:pt x="2" y="266"/>
                    </a:lnTo>
                    <a:lnTo>
                      <a:pt x="2" y="245"/>
                    </a:lnTo>
                    <a:lnTo>
                      <a:pt x="0" y="220"/>
                    </a:lnTo>
                    <a:lnTo>
                      <a:pt x="0" y="194"/>
                    </a:lnTo>
                    <a:lnTo>
                      <a:pt x="0" y="165"/>
                    </a:lnTo>
                    <a:lnTo>
                      <a:pt x="2" y="136"/>
                    </a:lnTo>
                    <a:lnTo>
                      <a:pt x="2" y="102"/>
                    </a:lnTo>
                    <a:lnTo>
                      <a:pt x="6" y="70"/>
                    </a:lnTo>
                    <a:lnTo>
                      <a:pt x="9" y="36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7" y="13"/>
                    </a:lnTo>
                    <a:lnTo>
                      <a:pt x="17" y="26"/>
                    </a:lnTo>
                    <a:lnTo>
                      <a:pt x="21" y="47"/>
                    </a:lnTo>
                    <a:lnTo>
                      <a:pt x="23" y="70"/>
                    </a:lnTo>
                    <a:lnTo>
                      <a:pt x="25" y="98"/>
                    </a:lnTo>
                    <a:lnTo>
                      <a:pt x="28" y="127"/>
                    </a:lnTo>
                    <a:lnTo>
                      <a:pt x="34" y="157"/>
                    </a:lnTo>
                    <a:lnTo>
                      <a:pt x="36" y="188"/>
                    </a:lnTo>
                    <a:lnTo>
                      <a:pt x="42" y="220"/>
                    </a:lnTo>
                    <a:lnTo>
                      <a:pt x="45" y="249"/>
                    </a:lnTo>
                    <a:lnTo>
                      <a:pt x="51" y="277"/>
                    </a:lnTo>
                    <a:lnTo>
                      <a:pt x="57" y="302"/>
                    </a:lnTo>
                    <a:lnTo>
                      <a:pt x="63" y="325"/>
                    </a:lnTo>
                    <a:lnTo>
                      <a:pt x="68" y="342"/>
                    </a:lnTo>
                    <a:lnTo>
                      <a:pt x="74" y="355"/>
                    </a:lnTo>
                    <a:lnTo>
                      <a:pt x="78" y="361"/>
                    </a:lnTo>
                    <a:lnTo>
                      <a:pt x="80" y="368"/>
                    </a:lnTo>
                    <a:lnTo>
                      <a:pt x="80" y="372"/>
                    </a:lnTo>
                    <a:lnTo>
                      <a:pt x="78" y="378"/>
                    </a:lnTo>
                    <a:lnTo>
                      <a:pt x="72" y="380"/>
                    </a:lnTo>
                    <a:lnTo>
                      <a:pt x="68" y="382"/>
                    </a:lnTo>
                    <a:lnTo>
                      <a:pt x="63" y="382"/>
                    </a:lnTo>
                    <a:lnTo>
                      <a:pt x="55" y="384"/>
                    </a:lnTo>
                    <a:lnTo>
                      <a:pt x="47" y="382"/>
                    </a:lnTo>
                    <a:lnTo>
                      <a:pt x="42" y="378"/>
                    </a:lnTo>
                    <a:lnTo>
                      <a:pt x="34" y="374"/>
                    </a:lnTo>
                    <a:lnTo>
                      <a:pt x="28" y="370"/>
                    </a:lnTo>
                    <a:lnTo>
                      <a:pt x="21" y="365"/>
                    </a:lnTo>
                    <a:lnTo>
                      <a:pt x="17" y="357"/>
                    </a:lnTo>
                    <a:lnTo>
                      <a:pt x="13" y="351"/>
                    </a:lnTo>
                    <a:lnTo>
                      <a:pt x="11" y="342"/>
                    </a:lnTo>
                    <a:lnTo>
                      <a:pt x="11" y="3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596800">
                <a:off x="1839600" y="2614680"/>
                <a:ext cx="203040" cy="255240"/>
              </a:xfrm>
              <a:custGeom>
                <a:avLst/>
                <a:gdLst/>
                <a:ahLst/>
                <a:rect l="l" t="t" r="r" b="b"/>
                <a:pathLst>
                  <a:path w="257" h="323">
                    <a:moveTo>
                      <a:pt x="223" y="317"/>
                    </a:moveTo>
                    <a:lnTo>
                      <a:pt x="221" y="313"/>
                    </a:lnTo>
                    <a:lnTo>
                      <a:pt x="219" y="310"/>
                    </a:lnTo>
                    <a:lnTo>
                      <a:pt x="215" y="300"/>
                    </a:lnTo>
                    <a:lnTo>
                      <a:pt x="209" y="291"/>
                    </a:lnTo>
                    <a:lnTo>
                      <a:pt x="204" y="277"/>
                    </a:lnTo>
                    <a:lnTo>
                      <a:pt x="194" y="262"/>
                    </a:lnTo>
                    <a:lnTo>
                      <a:pt x="185" y="245"/>
                    </a:lnTo>
                    <a:lnTo>
                      <a:pt x="173" y="226"/>
                    </a:lnTo>
                    <a:lnTo>
                      <a:pt x="160" y="205"/>
                    </a:lnTo>
                    <a:lnTo>
                      <a:pt x="146" y="184"/>
                    </a:lnTo>
                    <a:lnTo>
                      <a:pt x="129" y="159"/>
                    </a:lnTo>
                    <a:lnTo>
                      <a:pt x="114" y="137"/>
                    </a:lnTo>
                    <a:lnTo>
                      <a:pt x="95" y="112"/>
                    </a:lnTo>
                    <a:lnTo>
                      <a:pt x="76" y="89"/>
                    </a:lnTo>
                    <a:lnTo>
                      <a:pt x="53" y="64"/>
                    </a:lnTo>
                    <a:lnTo>
                      <a:pt x="32" y="40"/>
                    </a:lnTo>
                    <a:lnTo>
                      <a:pt x="13" y="19"/>
                    </a:lnTo>
                    <a:lnTo>
                      <a:pt x="4" y="5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3" y="4"/>
                    </a:lnTo>
                    <a:lnTo>
                      <a:pt x="29" y="13"/>
                    </a:lnTo>
                    <a:lnTo>
                      <a:pt x="46" y="28"/>
                    </a:lnTo>
                    <a:lnTo>
                      <a:pt x="69" y="47"/>
                    </a:lnTo>
                    <a:lnTo>
                      <a:pt x="91" y="66"/>
                    </a:lnTo>
                    <a:lnTo>
                      <a:pt x="114" y="89"/>
                    </a:lnTo>
                    <a:lnTo>
                      <a:pt x="139" y="114"/>
                    </a:lnTo>
                    <a:lnTo>
                      <a:pt x="164" y="140"/>
                    </a:lnTo>
                    <a:lnTo>
                      <a:pt x="186" y="165"/>
                    </a:lnTo>
                    <a:lnTo>
                      <a:pt x="207" y="192"/>
                    </a:lnTo>
                    <a:lnTo>
                      <a:pt x="223" y="216"/>
                    </a:lnTo>
                    <a:lnTo>
                      <a:pt x="238" y="241"/>
                    </a:lnTo>
                    <a:lnTo>
                      <a:pt x="245" y="260"/>
                    </a:lnTo>
                    <a:lnTo>
                      <a:pt x="251" y="277"/>
                    </a:lnTo>
                    <a:lnTo>
                      <a:pt x="255" y="291"/>
                    </a:lnTo>
                    <a:lnTo>
                      <a:pt x="257" y="304"/>
                    </a:lnTo>
                    <a:lnTo>
                      <a:pt x="257" y="310"/>
                    </a:lnTo>
                    <a:lnTo>
                      <a:pt x="255" y="317"/>
                    </a:lnTo>
                    <a:lnTo>
                      <a:pt x="253" y="321"/>
                    </a:lnTo>
                    <a:lnTo>
                      <a:pt x="249" y="323"/>
                    </a:lnTo>
                    <a:lnTo>
                      <a:pt x="240" y="323"/>
                    </a:lnTo>
                    <a:lnTo>
                      <a:pt x="232" y="321"/>
                    </a:lnTo>
                    <a:lnTo>
                      <a:pt x="224" y="317"/>
                    </a:lnTo>
                    <a:lnTo>
                      <a:pt x="223" y="317"/>
                    </a:lnTo>
                    <a:lnTo>
                      <a:pt x="223" y="3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0596800">
                <a:off x="1789200" y="2327400"/>
                <a:ext cx="185760" cy="499680"/>
              </a:xfrm>
              <a:custGeom>
                <a:avLst/>
                <a:gdLst/>
                <a:ahLst/>
                <a:rect l="l" t="t" r="r" b="b"/>
                <a:pathLst>
                  <a:path w="234" h="631">
                    <a:moveTo>
                      <a:pt x="0" y="0"/>
                    </a:moveTo>
                    <a:lnTo>
                      <a:pt x="2" y="4"/>
                    </a:lnTo>
                    <a:lnTo>
                      <a:pt x="6" y="17"/>
                    </a:lnTo>
                    <a:lnTo>
                      <a:pt x="12" y="40"/>
                    </a:lnTo>
                    <a:lnTo>
                      <a:pt x="21" y="71"/>
                    </a:lnTo>
                    <a:lnTo>
                      <a:pt x="32" y="107"/>
                    </a:lnTo>
                    <a:lnTo>
                      <a:pt x="46" y="148"/>
                    </a:lnTo>
                    <a:lnTo>
                      <a:pt x="61" y="194"/>
                    </a:lnTo>
                    <a:lnTo>
                      <a:pt x="78" y="244"/>
                    </a:lnTo>
                    <a:lnTo>
                      <a:pt x="93" y="295"/>
                    </a:lnTo>
                    <a:lnTo>
                      <a:pt x="112" y="346"/>
                    </a:lnTo>
                    <a:lnTo>
                      <a:pt x="131" y="398"/>
                    </a:lnTo>
                    <a:lnTo>
                      <a:pt x="152" y="451"/>
                    </a:lnTo>
                    <a:lnTo>
                      <a:pt x="171" y="500"/>
                    </a:lnTo>
                    <a:lnTo>
                      <a:pt x="192" y="548"/>
                    </a:lnTo>
                    <a:lnTo>
                      <a:pt x="213" y="591"/>
                    </a:lnTo>
                    <a:lnTo>
                      <a:pt x="234" y="631"/>
                    </a:lnTo>
                    <a:lnTo>
                      <a:pt x="232" y="628"/>
                    </a:lnTo>
                    <a:lnTo>
                      <a:pt x="232" y="624"/>
                    </a:lnTo>
                    <a:lnTo>
                      <a:pt x="230" y="618"/>
                    </a:lnTo>
                    <a:lnTo>
                      <a:pt x="230" y="609"/>
                    </a:lnTo>
                    <a:lnTo>
                      <a:pt x="226" y="597"/>
                    </a:lnTo>
                    <a:lnTo>
                      <a:pt x="223" y="582"/>
                    </a:lnTo>
                    <a:lnTo>
                      <a:pt x="219" y="565"/>
                    </a:lnTo>
                    <a:lnTo>
                      <a:pt x="217" y="546"/>
                    </a:lnTo>
                    <a:lnTo>
                      <a:pt x="209" y="523"/>
                    </a:lnTo>
                    <a:lnTo>
                      <a:pt x="204" y="498"/>
                    </a:lnTo>
                    <a:lnTo>
                      <a:pt x="196" y="472"/>
                    </a:lnTo>
                    <a:lnTo>
                      <a:pt x="188" y="443"/>
                    </a:lnTo>
                    <a:lnTo>
                      <a:pt x="177" y="409"/>
                    </a:lnTo>
                    <a:lnTo>
                      <a:pt x="167" y="377"/>
                    </a:lnTo>
                    <a:lnTo>
                      <a:pt x="156" y="339"/>
                    </a:lnTo>
                    <a:lnTo>
                      <a:pt x="143" y="301"/>
                    </a:lnTo>
                    <a:lnTo>
                      <a:pt x="127" y="261"/>
                    </a:lnTo>
                    <a:lnTo>
                      <a:pt x="112" y="225"/>
                    </a:lnTo>
                    <a:lnTo>
                      <a:pt x="99" y="192"/>
                    </a:lnTo>
                    <a:lnTo>
                      <a:pt x="88" y="162"/>
                    </a:lnTo>
                    <a:lnTo>
                      <a:pt x="74" y="133"/>
                    </a:lnTo>
                    <a:lnTo>
                      <a:pt x="63" y="109"/>
                    </a:lnTo>
                    <a:lnTo>
                      <a:pt x="51" y="88"/>
                    </a:lnTo>
                    <a:lnTo>
                      <a:pt x="42" y="69"/>
                    </a:lnTo>
                    <a:lnTo>
                      <a:pt x="32" y="51"/>
                    </a:lnTo>
                    <a:lnTo>
                      <a:pt x="23" y="38"/>
                    </a:lnTo>
                    <a:lnTo>
                      <a:pt x="17" y="25"/>
                    </a:lnTo>
                    <a:lnTo>
                      <a:pt x="12" y="15"/>
                    </a:lnTo>
                    <a:lnTo>
                      <a:pt x="6" y="8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596800">
                <a:off x="1027800" y="1229040"/>
                <a:ext cx="338040" cy="892080"/>
              </a:xfrm>
              <a:custGeom>
                <a:avLst/>
                <a:gdLst/>
                <a:ahLst/>
                <a:rect l="l" t="t" r="r" b="b"/>
                <a:pathLst>
                  <a:path w="426" h="1124">
                    <a:moveTo>
                      <a:pt x="0" y="19"/>
                    </a:moveTo>
                    <a:lnTo>
                      <a:pt x="2" y="25"/>
                    </a:lnTo>
                    <a:lnTo>
                      <a:pt x="10" y="48"/>
                    </a:lnTo>
                    <a:lnTo>
                      <a:pt x="21" y="84"/>
                    </a:lnTo>
                    <a:lnTo>
                      <a:pt x="40" y="132"/>
                    </a:lnTo>
                    <a:lnTo>
                      <a:pt x="59" y="191"/>
                    </a:lnTo>
                    <a:lnTo>
                      <a:pt x="84" y="257"/>
                    </a:lnTo>
                    <a:lnTo>
                      <a:pt x="111" y="331"/>
                    </a:lnTo>
                    <a:lnTo>
                      <a:pt x="141" y="415"/>
                    </a:lnTo>
                    <a:lnTo>
                      <a:pt x="171" y="499"/>
                    </a:lnTo>
                    <a:lnTo>
                      <a:pt x="207" y="590"/>
                    </a:lnTo>
                    <a:lnTo>
                      <a:pt x="242" y="681"/>
                    </a:lnTo>
                    <a:lnTo>
                      <a:pt x="278" y="774"/>
                    </a:lnTo>
                    <a:lnTo>
                      <a:pt x="316" y="865"/>
                    </a:lnTo>
                    <a:lnTo>
                      <a:pt x="352" y="955"/>
                    </a:lnTo>
                    <a:lnTo>
                      <a:pt x="388" y="1042"/>
                    </a:lnTo>
                    <a:lnTo>
                      <a:pt x="426" y="1124"/>
                    </a:lnTo>
                    <a:lnTo>
                      <a:pt x="422" y="1118"/>
                    </a:lnTo>
                    <a:lnTo>
                      <a:pt x="417" y="1097"/>
                    </a:lnTo>
                    <a:lnTo>
                      <a:pt x="409" y="1067"/>
                    </a:lnTo>
                    <a:lnTo>
                      <a:pt x="396" y="1025"/>
                    </a:lnTo>
                    <a:lnTo>
                      <a:pt x="380" y="974"/>
                    </a:lnTo>
                    <a:lnTo>
                      <a:pt x="361" y="913"/>
                    </a:lnTo>
                    <a:lnTo>
                      <a:pt x="339" y="843"/>
                    </a:lnTo>
                    <a:lnTo>
                      <a:pt x="316" y="769"/>
                    </a:lnTo>
                    <a:lnTo>
                      <a:pt x="287" y="685"/>
                    </a:lnTo>
                    <a:lnTo>
                      <a:pt x="257" y="597"/>
                    </a:lnTo>
                    <a:lnTo>
                      <a:pt x="225" y="502"/>
                    </a:lnTo>
                    <a:lnTo>
                      <a:pt x="192" y="407"/>
                    </a:lnTo>
                    <a:lnTo>
                      <a:pt x="154" y="307"/>
                    </a:lnTo>
                    <a:lnTo>
                      <a:pt x="116" y="206"/>
                    </a:lnTo>
                    <a:lnTo>
                      <a:pt x="76" y="103"/>
                    </a:lnTo>
                    <a:lnTo>
                      <a:pt x="34" y="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596800">
                <a:off x="1226520" y="1123560"/>
                <a:ext cx="510840" cy="1485720"/>
              </a:xfrm>
              <a:custGeom>
                <a:avLst/>
                <a:gdLst/>
                <a:ahLst/>
                <a:rect l="l" t="t" r="r" b="b"/>
                <a:pathLst>
                  <a:path w="644" h="1872">
                    <a:moveTo>
                      <a:pt x="0" y="7"/>
                    </a:moveTo>
                    <a:lnTo>
                      <a:pt x="3" y="19"/>
                    </a:lnTo>
                    <a:lnTo>
                      <a:pt x="17" y="55"/>
                    </a:lnTo>
                    <a:lnTo>
                      <a:pt x="38" y="112"/>
                    </a:lnTo>
                    <a:lnTo>
                      <a:pt x="66" y="190"/>
                    </a:lnTo>
                    <a:lnTo>
                      <a:pt x="102" y="283"/>
                    </a:lnTo>
                    <a:lnTo>
                      <a:pt x="140" y="393"/>
                    </a:lnTo>
                    <a:lnTo>
                      <a:pt x="186" y="515"/>
                    </a:lnTo>
                    <a:lnTo>
                      <a:pt x="233" y="648"/>
                    </a:lnTo>
                    <a:lnTo>
                      <a:pt x="283" y="790"/>
                    </a:lnTo>
                    <a:lnTo>
                      <a:pt x="338" y="941"/>
                    </a:lnTo>
                    <a:lnTo>
                      <a:pt x="391" y="1095"/>
                    </a:lnTo>
                    <a:lnTo>
                      <a:pt x="444" y="1254"/>
                    </a:lnTo>
                    <a:lnTo>
                      <a:pt x="496" y="1410"/>
                    </a:lnTo>
                    <a:lnTo>
                      <a:pt x="547" y="1568"/>
                    </a:lnTo>
                    <a:lnTo>
                      <a:pt x="596" y="1722"/>
                    </a:lnTo>
                    <a:lnTo>
                      <a:pt x="644" y="1872"/>
                    </a:lnTo>
                    <a:lnTo>
                      <a:pt x="642" y="1867"/>
                    </a:lnTo>
                    <a:lnTo>
                      <a:pt x="640" y="1855"/>
                    </a:lnTo>
                    <a:lnTo>
                      <a:pt x="636" y="1832"/>
                    </a:lnTo>
                    <a:lnTo>
                      <a:pt x="633" y="1800"/>
                    </a:lnTo>
                    <a:lnTo>
                      <a:pt x="621" y="1754"/>
                    </a:lnTo>
                    <a:lnTo>
                      <a:pt x="608" y="1694"/>
                    </a:lnTo>
                    <a:lnTo>
                      <a:pt x="589" y="1617"/>
                    </a:lnTo>
                    <a:lnTo>
                      <a:pt x="566" y="1526"/>
                    </a:lnTo>
                    <a:lnTo>
                      <a:pt x="536" y="1416"/>
                    </a:lnTo>
                    <a:lnTo>
                      <a:pt x="496" y="1285"/>
                    </a:lnTo>
                    <a:lnTo>
                      <a:pt x="448" y="1131"/>
                    </a:lnTo>
                    <a:lnTo>
                      <a:pt x="393" y="956"/>
                    </a:lnTo>
                    <a:lnTo>
                      <a:pt x="326" y="758"/>
                    </a:lnTo>
                    <a:lnTo>
                      <a:pt x="250" y="532"/>
                    </a:lnTo>
                    <a:lnTo>
                      <a:pt x="163" y="279"/>
                    </a:lnTo>
                    <a:lnTo>
                      <a:pt x="62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596800">
                <a:off x="1020960" y="1322640"/>
                <a:ext cx="590400" cy="1416960"/>
              </a:xfrm>
              <a:custGeom>
                <a:avLst/>
                <a:gdLst/>
                <a:ahLst/>
                <a:rect l="l" t="t" r="r" b="b"/>
                <a:pathLst>
                  <a:path w="743" h="1785">
                    <a:moveTo>
                      <a:pt x="45" y="0"/>
                    </a:moveTo>
                    <a:lnTo>
                      <a:pt x="51" y="15"/>
                    </a:lnTo>
                    <a:lnTo>
                      <a:pt x="70" y="65"/>
                    </a:lnTo>
                    <a:lnTo>
                      <a:pt x="95" y="139"/>
                    </a:lnTo>
                    <a:lnTo>
                      <a:pt x="133" y="238"/>
                    </a:lnTo>
                    <a:lnTo>
                      <a:pt x="175" y="356"/>
                    </a:lnTo>
                    <a:lnTo>
                      <a:pt x="224" y="491"/>
                    </a:lnTo>
                    <a:lnTo>
                      <a:pt x="277" y="635"/>
                    </a:lnTo>
                    <a:lnTo>
                      <a:pt x="334" y="787"/>
                    </a:lnTo>
                    <a:lnTo>
                      <a:pt x="391" y="943"/>
                    </a:lnTo>
                    <a:lnTo>
                      <a:pt x="450" y="1097"/>
                    </a:lnTo>
                    <a:lnTo>
                      <a:pt x="509" y="1245"/>
                    </a:lnTo>
                    <a:lnTo>
                      <a:pt x="566" y="1388"/>
                    </a:lnTo>
                    <a:lnTo>
                      <a:pt x="617" y="1515"/>
                    </a:lnTo>
                    <a:lnTo>
                      <a:pt x="667" y="1629"/>
                    </a:lnTo>
                    <a:lnTo>
                      <a:pt x="709" y="1719"/>
                    </a:lnTo>
                    <a:lnTo>
                      <a:pt x="743" y="1785"/>
                    </a:lnTo>
                    <a:lnTo>
                      <a:pt x="741" y="1783"/>
                    </a:lnTo>
                    <a:lnTo>
                      <a:pt x="733" y="1774"/>
                    </a:lnTo>
                    <a:lnTo>
                      <a:pt x="722" y="1757"/>
                    </a:lnTo>
                    <a:lnTo>
                      <a:pt x="707" y="1730"/>
                    </a:lnTo>
                    <a:lnTo>
                      <a:pt x="682" y="1692"/>
                    </a:lnTo>
                    <a:lnTo>
                      <a:pt x="655" y="1641"/>
                    </a:lnTo>
                    <a:lnTo>
                      <a:pt x="621" y="1576"/>
                    </a:lnTo>
                    <a:lnTo>
                      <a:pt x="583" y="1494"/>
                    </a:lnTo>
                    <a:lnTo>
                      <a:pt x="536" y="1392"/>
                    </a:lnTo>
                    <a:lnTo>
                      <a:pt x="481" y="1272"/>
                    </a:lnTo>
                    <a:lnTo>
                      <a:pt x="420" y="1129"/>
                    </a:lnTo>
                    <a:lnTo>
                      <a:pt x="353" y="964"/>
                    </a:lnTo>
                    <a:lnTo>
                      <a:pt x="275" y="770"/>
                    </a:lnTo>
                    <a:lnTo>
                      <a:pt x="194" y="553"/>
                    </a:lnTo>
                    <a:lnTo>
                      <a:pt x="100" y="306"/>
                    </a:lnTo>
                    <a:lnTo>
                      <a:pt x="0" y="30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596800">
                <a:off x="331200" y="610200"/>
                <a:ext cx="136800" cy="139320"/>
              </a:xfrm>
              <a:custGeom>
                <a:avLst/>
                <a:gdLst/>
                <a:ahLst/>
                <a:rect l="l" t="t" r="r" b="b"/>
                <a:pathLst>
                  <a:path w="173" h="177">
                    <a:moveTo>
                      <a:pt x="38" y="13"/>
                    </a:moveTo>
                    <a:lnTo>
                      <a:pt x="27" y="17"/>
                    </a:lnTo>
                    <a:lnTo>
                      <a:pt x="19" y="23"/>
                    </a:lnTo>
                    <a:lnTo>
                      <a:pt x="11" y="31"/>
                    </a:lnTo>
                    <a:lnTo>
                      <a:pt x="8" y="38"/>
                    </a:lnTo>
                    <a:lnTo>
                      <a:pt x="4" y="48"/>
                    </a:lnTo>
                    <a:lnTo>
                      <a:pt x="2" y="59"/>
                    </a:lnTo>
                    <a:lnTo>
                      <a:pt x="0" y="71"/>
                    </a:lnTo>
                    <a:lnTo>
                      <a:pt x="2" y="84"/>
                    </a:lnTo>
                    <a:lnTo>
                      <a:pt x="4" y="95"/>
                    </a:lnTo>
                    <a:lnTo>
                      <a:pt x="8" y="107"/>
                    </a:lnTo>
                    <a:lnTo>
                      <a:pt x="11" y="118"/>
                    </a:lnTo>
                    <a:lnTo>
                      <a:pt x="19" y="129"/>
                    </a:lnTo>
                    <a:lnTo>
                      <a:pt x="25" y="139"/>
                    </a:lnTo>
                    <a:lnTo>
                      <a:pt x="32" y="150"/>
                    </a:lnTo>
                    <a:lnTo>
                      <a:pt x="42" y="158"/>
                    </a:lnTo>
                    <a:lnTo>
                      <a:pt x="53" y="166"/>
                    </a:lnTo>
                    <a:lnTo>
                      <a:pt x="63" y="169"/>
                    </a:lnTo>
                    <a:lnTo>
                      <a:pt x="74" y="173"/>
                    </a:lnTo>
                    <a:lnTo>
                      <a:pt x="84" y="175"/>
                    </a:lnTo>
                    <a:lnTo>
                      <a:pt x="95" y="177"/>
                    </a:lnTo>
                    <a:lnTo>
                      <a:pt x="105" y="177"/>
                    </a:lnTo>
                    <a:lnTo>
                      <a:pt x="114" y="177"/>
                    </a:lnTo>
                    <a:lnTo>
                      <a:pt x="124" y="175"/>
                    </a:lnTo>
                    <a:lnTo>
                      <a:pt x="135" y="175"/>
                    </a:lnTo>
                    <a:lnTo>
                      <a:pt x="141" y="173"/>
                    </a:lnTo>
                    <a:lnTo>
                      <a:pt x="148" y="171"/>
                    </a:lnTo>
                    <a:lnTo>
                      <a:pt x="156" y="169"/>
                    </a:lnTo>
                    <a:lnTo>
                      <a:pt x="162" y="167"/>
                    </a:lnTo>
                    <a:lnTo>
                      <a:pt x="169" y="164"/>
                    </a:lnTo>
                    <a:lnTo>
                      <a:pt x="173" y="164"/>
                    </a:lnTo>
                    <a:lnTo>
                      <a:pt x="171" y="164"/>
                    </a:lnTo>
                    <a:lnTo>
                      <a:pt x="169" y="164"/>
                    </a:lnTo>
                    <a:lnTo>
                      <a:pt x="163" y="164"/>
                    </a:lnTo>
                    <a:lnTo>
                      <a:pt x="158" y="164"/>
                    </a:lnTo>
                    <a:lnTo>
                      <a:pt x="150" y="162"/>
                    </a:lnTo>
                    <a:lnTo>
                      <a:pt x="143" y="160"/>
                    </a:lnTo>
                    <a:lnTo>
                      <a:pt x="135" y="160"/>
                    </a:lnTo>
                    <a:lnTo>
                      <a:pt x="125" y="160"/>
                    </a:lnTo>
                    <a:lnTo>
                      <a:pt x="116" y="158"/>
                    </a:lnTo>
                    <a:lnTo>
                      <a:pt x="106" y="156"/>
                    </a:lnTo>
                    <a:lnTo>
                      <a:pt x="97" y="152"/>
                    </a:lnTo>
                    <a:lnTo>
                      <a:pt x="89" y="150"/>
                    </a:lnTo>
                    <a:lnTo>
                      <a:pt x="80" y="145"/>
                    </a:lnTo>
                    <a:lnTo>
                      <a:pt x="74" y="141"/>
                    </a:lnTo>
                    <a:lnTo>
                      <a:pt x="66" y="135"/>
                    </a:lnTo>
                    <a:lnTo>
                      <a:pt x="63" y="129"/>
                    </a:lnTo>
                    <a:lnTo>
                      <a:pt x="65" y="129"/>
                    </a:lnTo>
                    <a:lnTo>
                      <a:pt x="74" y="131"/>
                    </a:lnTo>
                    <a:lnTo>
                      <a:pt x="80" y="131"/>
                    </a:lnTo>
                    <a:lnTo>
                      <a:pt x="86" y="131"/>
                    </a:lnTo>
                    <a:lnTo>
                      <a:pt x="93" y="129"/>
                    </a:lnTo>
                    <a:lnTo>
                      <a:pt x="99" y="129"/>
                    </a:lnTo>
                    <a:lnTo>
                      <a:pt x="106" y="126"/>
                    </a:lnTo>
                    <a:lnTo>
                      <a:pt x="112" y="122"/>
                    </a:lnTo>
                    <a:lnTo>
                      <a:pt x="118" y="116"/>
                    </a:lnTo>
                    <a:lnTo>
                      <a:pt x="124" y="110"/>
                    </a:lnTo>
                    <a:lnTo>
                      <a:pt x="127" y="103"/>
                    </a:lnTo>
                    <a:lnTo>
                      <a:pt x="131" y="91"/>
                    </a:lnTo>
                    <a:lnTo>
                      <a:pt x="131" y="80"/>
                    </a:lnTo>
                    <a:lnTo>
                      <a:pt x="133" y="65"/>
                    </a:lnTo>
                    <a:lnTo>
                      <a:pt x="131" y="50"/>
                    </a:lnTo>
                    <a:lnTo>
                      <a:pt x="127" y="36"/>
                    </a:lnTo>
                    <a:lnTo>
                      <a:pt x="124" y="27"/>
                    </a:lnTo>
                    <a:lnTo>
                      <a:pt x="120" y="19"/>
                    </a:lnTo>
                    <a:lnTo>
                      <a:pt x="114" y="12"/>
                    </a:lnTo>
                    <a:lnTo>
                      <a:pt x="108" y="8"/>
                    </a:lnTo>
                    <a:lnTo>
                      <a:pt x="101" y="4"/>
                    </a:lnTo>
                    <a:lnTo>
                      <a:pt x="95" y="2"/>
                    </a:lnTo>
                    <a:lnTo>
                      <a:pt x="87" y="0"/>
                    </a:lnTo>
                    <a:lnTo>
                      <a:pt x="80" y="2"/>
                    </a:lnTo>
                    <a:lnTo>
                      <a:pt x="72" y="2"/>
                    </a:lnTo>
                    <a:lnTo>
                      <a:pt x="65" y="4"/>
                    </a:lnTo>
                    <a:lnTo>
                      <a:pt x="57" y="6"/>
                    </a:lnTo>
                    <a:lnTo>
                      <a:pt x="49" y="8"/>
                    </a:lnTo>
                    <a:lnTo>
                      <a:pt x="44" y="10"/>
                    </a:lnTo>
                    <a:lnTo>
                      <a:pt x="38" y="13"/>
                    </a:lnTo>
                    <a:lnTo>
                      <a:pt x="38" y="1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rot="3149400">
              <a:off x="-138960" y="1123200"/>
              <a:ext cx="304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RITHMETIZ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87680" y="5232240"/>
            <a:ext cx="4132080" cy="16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urthermore, even our best weapons seem to work against one monster but not the other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174440" y="0"/>
            <a:ext cx="1442880" cy="3256920"/>
            <a:chOff x="7174440" y="0"/>
            <a:chExt cx="1442880" cy="3256920"/>
          </a:xfrm>
        </p:grpSpPr>
        <p:grpSp>
          <p:nvGrpSpPr>
            <p:cNvPr id="166" name=""/>
            <p:cNvGrpSpPr/>
            <p:nvPr/>
          </p:nvGrpSpPr>
          <p:grpSpPr>
            <a:xfrm>
              <a:off x="7174440" y="78120"/>
              <a:ext cx="1442880" cy="3178800"/>
              <a:chOff x="7174440" y="78120"/>
              <a:chExt cx="1442880" cy="3178800"/>
            </a:xfrm>
          </p:grpSpPr>
          <p:sp>
            <p:nvSpPr>
              <p:cNvPr id="167" name=""/>
              <p:cNvSpPr/>
              <p:nvPr/>
            </p:nvSpPr>
            <p:spPr>
              <a:xfrm rot="1205400">
                <a:off x="7607880" y="177480"/>
                <a:ext cx="731160" cy="1027800"/>
              </a:xfrm>
              <a:custGeom>
                <a:avLst/>
                <a:gdLst/>
                <a:ahLst/>
                <a:rect l="l" t="t" r="r" b="b"/>
                <a:pathLst>
                  <a:path w="853" h="1200">
                    <a:moveTo>
                      <a:pt x="422" y="1200"/>
                    </a:moveTo>
                    <a:lnTo>
                      <a:pt x="420" y="1196"/>
                    </a:lnTo>
                    <a:lnTo>
                      <a:pt x="416" y="1188"/>
                    </a:lnTo>
                    <a:lnTo>
                      <a:pt x="414" y="1181"/>
                    </a:lnTo>
                    <a:lnTo>
                      <a:pt x="414" y="1175"/>
                    </a:lnTo>
                    <a:lnTo>
                      <a:pt x="412" y="1167"/>
                    </a:lnTo>
                    <a:lnTo>
                      <a:pt x="414" y="1158"/>
                    </a:lnTo>
                    <a:lnTo>
                      <a:pt x="414" y="1148"/>
                    </a:lnTo>
                    <a:lnTo>
                      <a:pt x="418" y="1137"/>
                    </a:lnTo>
                    <a:lnTo>
                      <a:pt x="422" y="1126"/>
                    </a:lnTo>
                    <a:lnTo>
                      <a:pt x="431" y="1114"/>
                    </a:lnTo>
                    <a:lnTo>
                      <a:pt x="441" y="1099"/>
                    </a:lnTo>
                    <a:lnTo>
                      <a:pt x="454" y="1086"/>
                    </a:lnTo>
                    <a:lnTo>
                      <a:pt x="467" y="1070"/>
                    </a:lnTo>
                    <a:lnTo>
                      <a:pt x="488" y="1057"/>
                    </a:lnTo>
                    <a:lnTo>
                      <a:pt x="486" y="1053"/>
                    </a:lnTo>
                    <a:lnTo>
                      <a:pt x="486" y="1046"/>
                    </a:lnTo>
                    <a:lnTo>
                      <a:pt x="484" y="1032"/>
                    </a:lnTo>
                    <a:lnTo>
                      <a:pt x="482" y="1017"/>
                    </a:lnTo>
                    <a:lnTo>
                      <a:pt x="479" y="996"/>
                    </a:lnTo>
                    <a:lnTo>
                      <a:pt x="475" y="975"/>
                    </a:lnTo>
                    <a:lnTo>
                      <a:pt x="471" y="953"/>
                    </a:lnTo>
                    <a:lnTo>
                      <a:pt x="465" y="930"/>
                    </a:lnTo>
                    <a:lnTo>
                      <a:pt x="458" y="903"/>
                    </a:lnTo>
                    <a:lnTo>
                      <a:pt x="448" y="880"/>
                    </a:lnTo>
                    <a:lnTo>
                      <a:pt x="437" y="856"/>
                    </a:lnTo>
                    <a:lnTo>
                      <a:pt x="427" y="837"/>
                    </a:lnTo>
                    <a:lnTo>
                      <a:pt x="412" y="818"/>
                    </a:lnTo>
                    <a:lnTo>
                      <a:pt x="395" y="802"/>
                    </a:lnTo>
                    <a:lnTo>
                      <a:pt x="376" y="789"/>
                    </a:lnTo>
                    <a:lnTo>
                      <a:pt x="357" y="783"/>
                    </a:lnTo>
                    <a:lnTo>
                      <a:pt x="336" y="781"/>
                    </a:lnTo>
                    <a:lnTo>
                      <a:pt x="315" y="783"/>
                    </a:lnTo>
                    <a:lnTo>
                      <a:pt x="292" y="789"/>
                    </a:lnTo>
                    <a:lnTo>
                      <a:pt x="273" y="797"/>
                    </a:lnTo>
                    <a:lnTo>
                      <a:pt x="254" y="808"/>
                    </a:lnTo>
                    <a:lnTo>
                      <a:pt x="235" y="821"/>
                    </a:lnTo>
                    <a:lnTo>
                      <a:pt x="218" y="835"/>
                    </a:lnTo>
                    <a:lnTo>
                      <a:pt x="203" y="850"/>
                    </a:lnTo>
                    <a:lnTo>
                      <a:pt x="188" y="865"/>
                    </a:lnTo>
                    <a:lnTo>
                      <a:pt x="176" y="880"/>
                    </a:lnTo>
                    <a:lnTo>
                      <a:pt x="165" y="894"/>
                    </a:lnTo>
                    <a:lnTo>
                      <a:pt x="155" y="907"/>
                    </a:lnTo>
                    <a:lnTo>
                      <a:pt x="148" y="918"/>
                    </a:lnTo>
                    <a:lnTo>
                      <a:pt x="142" y="928"/>
                    </a:lnTo>
                    <a:lnTo>
                      <a:pt x="138" y="932"/>
                    </a:lnTo>
                    <a:lnTo>
                      <a:pt x="138" y="935"/>
                    </a:lnTo>
                    <a:lnTo>
                      <a:pt x="119" y="825"/>
                    </a:lnTo>
                    <a:lnTo>
                      <a:pt x="117" y="825"/>
                    </a:lnTo>
                    <a:lnTo>
                      <a:pt x="114" y="827"/>
                    </a:lnTo>
                    <a:lnTo>
                      <a:pt x="108" y="827"/>
                    </a:lnTo>
                    <a:lnTo>
                      <a:pt x="100" y="831"/>
                    </a:lnTo>
                    <a:lnTo>
                      <a:pt x="91" y="833"/>
                    </a:lnTo>
                    <a:lnTo>
                      <a:pt x="81" y="837"/>
                    </a:lnTo>
                    <a:lnTo>
                      <a:pt x="70" y="838"/>
                    </a:lnTo>
                    <a:lnTo>
                      <a:pt x="60" y="840"/>
                    </a:lnTo>
                    <a:lnTo>
                      <a:pt x="47" y="842"/>
                    </a:lnTo>
                    <a:lnTo>
                      <a:pt x="38" y="842"/>
                    </a:lnTo>
                    <a:lnTo>
                      <a:pt x="28" y="842"/>
                    </a:lnTo>
                    <a:lnTo>
                      <a:pt x="20" y="842"/>
                    </a:lnTo>
                    <a:lnTo>
                      <a:pt x="11" y="838"/>
                    </a:lnTo>
                    <a:lnTo>
                      <a:pt x="7" y="837"/>
                    </a:lnTo>
                    <a:lnTo>
                      <a:pt x="5" y="829"/>
                    </a:lnTo>
                    <a:lnTo>
                      <a:pt x="5" y="823"/>
                    </a:lnTo>
                    <a:lnTo>
                      <a:pt x="5" y="814"/>
                    </a:lnTo>
                    <a:lnTo>
                      <a:pt x="7" y="808"/>
                    </a:lnTo>
                    <a:lnTo>
                      <a:pt x="11" y="799"/>
                    </a:lnTo>
                    <a:lnTo>
                      <a:pt x="15" y="793"/>
                    </a:lnTo>
                    <a:lnTo>
                      <a:pt x="20" y="787"/>
                    </a:lnTo>
                    <a:lnTo>
                      <a:pt x="26" y="781"/>
                    </a:lnTo>
                    <a:lnTo>
                      <a:pt x="32" y="776"/>
                    </a:lnTo>
                    <a:lnTo>
                      <a:pt x="39" y="770"/>
                    </a:lnTo>
                    <a:lnTo>
                      <a:pt x="43" y="764"/>
                    </a:lnTo>
                    <a:lnTo>
                      <a:pt x="49" y="761"/>
                    </a:lnTo>
                    <a:lnTo>
                      <a:pt x="55" y="757"/>
                    </a:lnTo>
                    <a:lnTo>
                      <a:pt x="60" y="753"/>
                    </a:lnTo>
                    <a:lnTo>
                      <a:pt x="68" y="749"/>
                    </a:lnTo>
                    <a:lnTo>
                      <a:pt x="72" y="749"/>
                    </a:lnTo>
                    <a:lnTo>
                      <a:pt x="0" y="658"/>
                    </a:lnTo>
                    <a:lnTo>
                      <a:pt x="1" y="658"/>
                    </a:lnTo>
                    <a:lnTo>
                      <a:pt x="11" y="658"/>
                    </a:lnTo>
                    <a:lnTo>
                      <a:pt x="24" y="658"/>
                    </a:lnTo>
                    <a:lnTo>
                      <a:pt x="41" y="660"/>
                    </a:lnTo>
                    <a:lnTo>
                      <a:pt x="62" y="660"/>
                    </a:lnTo>
                    <a:lnTo>
                      <a:pt x="87" y="660"/>
                    </a:lnTo>
                    <a:lnTo>
                      <a:pt x="114" y="662"/>
                    </a:lnTo>
                    <a:lnTo>
                      <a:pt x="140" y="662"/>
                    </a:lnTo>
                    <a:lnTo>
                      <a:pt x="169" y="662"/>
                    </a:lnTo>
                    <a:lnTo>
                      <a:pt x="197" y="662"/>
                    </a:lnTo>
                    <a:lnTo>
                      <a:pt x="226" y="660"/>
                    </a:lnTo>
                    <a:lnTo>
                      <a:pt x="254" y="660"/>
                    </a:lnTo>
                    <a:lnTo>
                      <a:pt x="279" y="658"/>
                    </a:lnTo>
                    <a:lnTo>
                      <a:pt x="302" y="656"/>
                    </a:lnTo>
                    <a:lnTo>
                      <a:pt x="323" y="652"/>
                    </a:lnTo>
                    <a:lnTo>
                      <a:pt x="338" y="650"/>
                    </a:lnTo>
                    <a:lnTo>
                      <a:pt x="336" y="645"/>
                    </a:lnTo>
                    <a:lnTo>
                      <a:pt x="334" y="637"/>
                    </a:lnTo>
                    <a:lnTo>
                      <a:pt x="328" y="622"/>
                    </a:lnTo>
                    <a:lnTo>
                      <a:pt x="323" y="603"/>
                    </a:lnTo>
                    <a:lnTo>
                      <a:pt x="313" y="580"/>
                    </a:lnTo>
                    <a:lnTo>
                      <a:pt x="304" y="555"/>
                    </a:lnTo>
                    <a:lnTo>
                      <a:pt x="294" y="527"/>
                    </a:lnTo>
                    <a:lnTo>
                      <a:pt x="283" y="498"/>
                    </a:lnTo>
                    <a:lnTo>
                      <a:pt x="269" y="468"/>
                    </a:lnTo>
                    <a:lnTo>
                      <a:pt x="256" y="439"/>
                    </a:lnTo>
                    <a:lnTo>
                      <a:pt x="241" y="409"/>
                    </a:lnTo>
                    <a:lnTo>
                      <a:pt x="228" y="382"/>
                    </a:lnTo>
                    <a:lnTo>
                      <a:pt x="212" y="357"/>
                    </a:lnTo>
                    <a:lnTo>
                      <a:pt x="197" y="337"/>
                    </a:lnTo>
                    <a:lnTo>
                      <a:pt x="182" y="318"/>
                    </a:lnTo>
                    <a:lnTo>
                      <a:pt x="167" y="306"/>
                    </a:lnTo>
                    <a:lnTo>
                      <a:pt x="152" y="295"/>
                    </a:lnTo>
                    <a:lnTo>
                      <a:pt x="136" y="287"/>
                    </a:lnTo>
                    <a:lnTo>
                      <a:pt x="123" y="278"/>
                    </a:lnTo>
                    <a:lnTo>
                      <a:pt x="110" y="270"/>
                    </a:lnTo>
                    <a:lnTo>
                      <a:pt x="98" y="260"/>
                    </a:lnTo>
                    <a:lnTo>
                      <a:pt x="89" y="253"/>
                    </a:lnTo>
                    <a:lnTo>
                      <a:pt x="81" y="243"/>
                    </a:lnTo>
                    <a:lnTo>
                      <a:pt x="74" y="236"/>
                    </a:lnTo>
                    <a:lnTo>
                      <a:pt x="66" y="224"/>
                    </a:lnTo>
                    <a:lnTo>
                      <a:pt x="60" y="213"/>
                    </a:lnTo>
                    <a:lnTo>
                      <a:pt x="57" y="200"/>
                    </a:lnTo>
                    <a:lnTo>
                      <a:pt x="57" y="186"/>
                    </a:lnTo>
                    <a:lnTo>
                      <a:pt x="55" y="169"/>
                    </a:lnTo>
                    <a:lnTo>
                      <a:pt x="58" y="152"/>
                    </a:lnTo>
                    <a:lnTo>
                      <a:pt x="62" y="131"/>
                    </a:lnTo>
                    <a:lnTo>
                      <a:pt x="70" y="106"/>
                    </a:lnTo>
                    <a:lnTo>
                      <a:pt x="76" y="82"/>
                    </a:lnTo>
                    <a:lnTo>
                      <a:pt x="87" y="61"/>
                    </a:lnTo>
                    <a:lnTo>
                      <a:pt x="102" y="44"/>
                    </a:lnTo>
                    <a:lnTo>
                      <a:pt x="119" y="30"/>
                    </a:lnTo>
                    <a:lnTo>
                      <a:pt x="136" y="17"/>
                    </a:lnTo>
                    <a:lnTo>
                      <a:pt x="157" y="10"/>
                    </a:lnTo>
                    <a:lnTo>
                      <a:pt x="178" y="4"/>
                    </a:lnTo>
                    <a:lnTo>
                      <a:pt x="199" y="2"/>
                    </a:lnTo>
                    <a:lnTo>
                      <a:pt x="220" y="0"/>
                    </a:lnTo>
                    <a:lnTo>
                      <a:pt x="241" y="2"/>
                    </a:lnTo>
                    <a:lnTo>
                      <a:pt x="262" y="6"/>
                    </a:lnTo>
                    <a:lnTo>
                      <a:pt x="281" y="13"/>
                    </a:lnTo>
                    <a:lnTo>
                      <a:pt x="296" y="19"/>
                    </a:lnTo>
                    <a:lnTo>
                      <a:pt x="311" y="29"/>
                    </a:lnTo>
                    <a:lnTo>
                      <a:pt x="325" y="38"/>
                    </a:lnTo>
                    <a:lnTo>
                      <a:pt x="334" y="49"/>
                    </a:lnTo>
                    <a:lnTo>
                      <a:pt x="340" y="63"/>
                    </a:lnTo>
                    <a:lnTo>
                      <a:pt x="344" y="74"/>
                    </a:lnTo>
                    <a:lnTo>
                      <a:pt x="349" y="87"/>
                    </a:lnTo>
                    <a:lnTo>
                      <a:pt x="353" y="101"/>
                    </a:lnTo>
                    <a:lnTo>
                      <a:pt x="353" y="114"/>
                    </a:lnTo>
                    <a:lnTo>
                      <a:pt x="355" y="127"/>
                    </a:lnTo>
                    <a:lnTo>
                      <a:pt x="357" y="141"/>
                    </a:lnTo>
                    <a:lnTo>
                      <a:pt x="359" y="156"/>
                    </a:lnTo>
                    <a:lnTo>
                      <a:pt x="357" y="167"/>
                    </a:lnTo>
                    <a:lnTo>
                      <a:pt x="357" y="181"/>
                    </a:lnTo>
                    <a:lnTo>
                      <a:pt x="357" y="192"/>
                    </a:lnTo>
                    <a:lnTo>
                      <a:pt x="355" y="205"/>
                    </a:lnTo>
                    <a:lnTo>
                      <a:pt x="353" y="217"/>
                    </a:lnTo>
                    <a:lnTo>
                      <a:pt x="351" y="228"/>
                    </a:lnTo>
                    <a:lnTo>
                      <a:pt x="349" y="238"/>
                    </a:lnTo>
                    <a:lnTo>
                      <a:pt x="349" y="249"/>
                    </a:lnTo>
                    <a:lnTo>
                      <a:pt x="345" y="260"/>
                    </a:lnTo>
                    <a:lnTo>
                      <a:pt x="345" y="276"/>
                    </a:lnTo>
                    <a:lnTo>
                      <a:pt x="347" y="297"/>
                    </a:lnTo>
                    <a:lnTo>
                      <a:pt x="349" y="321"/>
                    </a:lnTo>
                    <a:lnTo>
                      <a:pt x="353" y="346"/>
                    </a:lnTo>
                    <a:lnTo>
                      <a:pt x="357" y="375"/>
                    </a:lnTo>
                    <a:lnTo>
                      <a:pt x="364" y="405"/>
                    </a:lnTo>
                    <a:lnTo>
                      <a:pt x="372" y="435"/>
                    </a:lnTo>
                    <a:lnTo>
                      <a:pt x="382" y="466"/>
                    </a:lnTo>
                    <a:lnTo>
                      <a:pt x="389" y="494"/>
                    </a:lnTo>
                    <a:lnTo>
                      <a:pt x="401" y="521"/>
                    </a:lnTo>
                    <a:lnTo>
                      <a:pt x="412" y="549"/>
                    </a:lnTo>
                    <a:lnTo>
                      <a:pt x="425" y="570"/>
                    </a:lnTo>
                    <a:lnTo>
                      <a:pt x="437" y="591"/>
                    </a:lnTo>
                    <a:lnTo>
                      <a:pt x="452" y="607"/>
                    </a:lnTo>
                    <a:lnTo>
                      <a:pt x="467" y="620"/>
                    </a:lnTo>
                    <a:lnTo>
                      <a:pt x="469" y="616"/>
                    </a:lnTo>
                    <a:lnTo>
                      <a:pt x="477" y="612"/>
                    </a:lnTo>
                    <a:lnTo>
                      <a:pt x="486" y="607"/>
                    </a:lnTo>
                    <a:lnTo>
                      <a:pt x="501" y="599"/>
                    </a:lnTo>
                    <a:lnTo>
                      <a:pt x="517" y="588"/>
                    </a:lnTo>
                    <a:lnTo>
                      <a:pt x="536" y="576"/>
                    </a:lnTo>
                    <a:lnTo>
                      <a:pt x="556" y="563"/>
                    </a:lnTo>
                    <a:lnTo>
                      <a:pt x="579" y="549"/>
                    </a:lnTo>
                    <a:lnTo>
                      <a:pt x="600" y="532"/>
                    </a:lnTo>
                    <a:lnTo>
                      <a:pt x="621" y="517"/>
                    </a:lnTo>
                    <a:lnTo>
                      <a:pt x="642" y="498"/>
                    </a:lnTo>
                    <a:lnTo>
                      <a:pt x="663" y="481"/>
                    </a:lnTo>
                    <a:lnTo>
                      <a:pt x="680" y="462"/>
                    </a:lnTo>
                    <a:lnTo>
                      <a:pt x="695" y="445"/>
                    </a:lnTo>
                    <a:lnTo>
                      <a:pt x="709" y="428"/>
                    </a:lnTo>
                    <a:lnTo>
                      <a:pt x="718" y="411"/>
                    </a:lnTo>
                    <a:lnTo>
                      <a:pt x="731" y="489"/>
                    </a:lnTo>
                    <a:lnTo>
                      <a:pt x="731" y="487"/>
                    </a:lnTo>
                    <a:lnTo>
                      <a:pt x="737" y="487"/>
                    </a:lnTo>
                    <a:lnTo>
                      <a:pt x="741" y="485"/>
                    </a:lnTo>
                    <a:lnTo>
                      <a:pt x="748" y="485"/>
                    </a:lnTo>
                    <a:lnTo>
                      <a:pt x="756" y="485"/>
                    </a:lnTo>
                    <a:lnTo>
                      <a:pt x="766" y="483"/>
                    </a:lnTo>
                    <a:lnTo>
                      <a:pt x="775" y="483"/>
                    </a:lnTo>
                    <a:lnTo>
                      <a:pt x="786" y="483"/>
                    </a:lnTo>
                    <a:lnTo>
                      <a:pt x="798" y="483"/>
                    </a:lnTo>
                    <a:lnTo>
                      <a:pt x="807" y="483"/>
                    </a:lnTo>
                    <a:lnTo>
                      <a:pt x="817" y="485"/>
                    </a:lnTo>
                    <a:lnTo>
                      <a:pt x="828" y="487"/>
                    </a:lnTo>
                    <a:lnTo>
                      <a:pt x="836" y="489"/>
                    </a:lnTo>
                    <a:lnTo>
                      <a:pt x="842" y="492"/>
                    </a:lnTo>
                    <a:lnTo>
                      <a:pt x="847" y="498"/>
                    </a:lnTo>
                    <a:lnTo>
                      <a:pt x="853" y="504"/>
                    </a:lnTo>
                    <a:lnTo>
                      <a:pt x="853" y="510"/>
                    </a:lnTo>
                    <a:lnTo>
                      <a:pt x="853" y="517"/>
                    </a:lnTo>
                    <a:lnTo>
                      <a:pt x="849" y="525"/>
                    </a:lnTo>
                    <a:lnTo>
                      <a:pt x="847" y="532"/>
                    </a:lnTo>
                    <a:lnTo>
                      <a:pt x="840" y="540"/>
                    </a:lnTo>
                    <a:lnTo>
                      <a:pt x="834" y="548"/>
                    </a:lnTo>
                    <a:lnTo>
                      <a:pt x="824" y="555"/>
                    </a:lnTo>
                    <a:lnTo>
                      <a:pt x="817" y="563"/>
                    </a:lnTo>
                    <a:lnTo>
                      <a:pt x="807" y="568"/>
                    </a:lnTo>
                    <a:lnTo>
                      <a:pt x="798" y="576"/>
                    </a:lnTo>
                    <a:lnTo>
                      <a:pt x="788" y="580"/>
                    </a:lnTo>
                    <a:lnTo>
                      <a:pt x="781" y="588"/>
                    </a:lnTo>
                    <a:lnTo>
                      <a:pt x="771" y="589"/>
                    </a:lnTo>
                    <a:lnTo>
                      <a:pt x="762" y="593"/>
                    </a:lnTo>
                    <a:lnTo>
                      <a:pt x="754" y="595"/>
                    </a:lnTo>
                    <a:lnTo>
                      <a:pt x="748" y="597"/>
                    </a:lnTo>
                    <a:lnTo>
                      <a:pt x="748" y="599"/>
                    </a:lnTo>
                    <a:lnTo>
                      <a:pt x="748" y="608"/>
                    </a:lnTo>
                    <a:lnTo>
                      <a:pt x="748" y="614"/>
                    </a:lnTo>
                    <a:lnTo>
                      <a:pt x="750" y="622"/>
                    </a:lnTo>
                    <a:lnTo>
                      <a:pt x="752" y="627"/>
                    </a:lnTo>
                    <a:lnTo>
                      <a:pt x="754" y="637"/>
                    </a:lnTo>
                    <a:lnTo>
                      <a:pt x="756" y="643"/>
                    </a:lnTo>
                    <a:lnTo>
                      <a:pt x="758" y="652"/>
                    </a:lnTo>
                    <a:lnTo>
                      <a:pt x="762" y="660"/>
                    </a:lnTo>
                    <a:lnTo>
                      <a:pt x="766" y="667"/>
                    </a:lnTo>
                    <a:lnTo>
                      <a:pt x="769" y="675"/>
                    </a:lnTo>
                    <a:lnTo>
                      <a:pt x="773" y="683"/>
                    </a:lnTo>
                    <a:lnTo>
                      <a:pt x="777" y="688"/>
                    </a:lnTo>
                    <a:lnTo>
                      <a:pt x="783" y="696"/>
                    </a:lnTo>
                    <a:lnTo>
                      <a:pt x="781" y="696"/>
                    </a:lnTo>
                    <a:lnTo>
                      <a:pt x="771" y="696"/>
                    </a:lnTo>
                    <a:lnTo>
                      <a:pt x="760" y="696"/>
                    </a:lnTo>
                    <a:lnTo>
                      <a:pt x="745" y="696"/>
                    </a:lnTo>
                    <a:lnTo>
                      <a:pt x="728" y="694"/>
                    </a:lnTo>
                    <a:lnTo>
                      <a:pt x="707" y="694"/>
                    </a:lnTo>
                    <a:lnTo>
                      <a:pt x="684" y="694"/>
                    </a:lnTo>
                    <a:lnTo>
                      <a:pt x="661" y="696"/>
                    </a:lnTo>
                    <a:lnTo>
                      <a:pt x="636" y="696"/>
                    </a:lnTo>
                    <a:lnTo>
                      <a:pt x="613" y="696"/>
                    </a:lnTo>
                    <a:lnTo>
                      <a:pt x="591" y="698"/>
                    </a:lnTo>
                    <a:lnTo>
                      <a:pt x="570" y="700"/>
                    </a:lnTo>
                    <a:lnTo>
                      <a:pt x="551" y="702"/>
                    </a:lnTo>
                    <a:lnTo>
                      <a:pt x="536" y="705"/>
                    </a:lnTo>
                    <a:lnTo>
                      <a:pt x="524" y="707"/>
                    </a:lnTo>
                    <a:lnTo>
                      <a:pt x="515" y="715"/>
                    </a:lnTo>
                    <a:lnTo>
                      <a:pt x="511" y="721"/>
                    </a:lnTo>
                    <a:lnTo>
                      <a:pt x="509" y="732"/>
                    </a:lnTo>
                    <a:lnTo>
                      <a:pt x="509" y="747"/>
                    </a:lnTo>
                    <a:lnTo>
                      <a:pt x="513" y="766"/>
                    </a:lnTo>
                    <a:lnTo>
                      <a:pt x="517" y="785"/>
                    </a:lnTo>
                    <a:lnTo>
                      <a:pt x="524" y="810"/>
                    </a:lnTo>
                    <a:lnTo>
                      <a:pt x="532" y="835"/>
                    </a:lnTo>
                    <a:lnTo>
                      <a:pt x="541" y="859"/>
                    </a:lnTo>
                    <a:lnTo>
                      <a:pt x="551" y="884"/>
                    </a:lnTo>
                    <a:lnTo>
                      <a:pt x="562" y="909"/>
                    </a:lnTo>
                    <a:lnTo>
                      <a:pt x="575" y="932"/>
                    </a:lnTo>
                    <a:lnTo>
                      <a:pt x="587" y="953"/>
                    </a:lnTo>
                    <a:lnTo>
                      <a:pt x="600" y="972"/>
                    </a:lnTo>
                    <a:lnTo>
                      <a:pt x="612" y="987"/>
                    </a:lnTo>
                    <a:lnTo>
                      <a:pt x="623" y="998"/>
                    </a:lnTo>
                    <a:lnTo>
                      <a:pt x="636" y="1008"/>
                    </a:lnTo>
                    <a:lnTo>
                      <a:pt x="636" y="1006"/>
                    </a:lnTo>
                    <a:lnTo>
                      <a:pt x="640" y="1006"/>
                    </a:lnTo>
                    <a:lnTo>
                      <a:pt x="644" y="1004"/>
                    </a:lnTo>
                    <a:lnTo>
                      <a:pt x="650" y="1004"/>
                    </a:lnTo>
                    <a:lnTo>
                      <a:pt x="655" y="1002"/>
                    </a:lnTo>
                    <a:lnTo>
                      <a:pt x="663" y="1002"/>
                    </a:lnTo>
                    <a:lnTo>
                      <a:pt x="672" y="1002"/>
                    </a:lnTo>
                    <a:lnTo>
                      <a:pt x="682" y="1004"/>
                    </a:lnTo>
                    <a:lnTo>
                      <a:pt x="691" y="1006"/>
                    </a:lnTo>
                    <a:lnTo>
                      <a:pt x="699" y="1010"/>
                    </a:lnTo>
                    <a:lnTo>
                      <a:pt x="709" y="1013"/>
                    </a:lnTo>
                    <a:lnTo>
                      <a:pt x="720" y="1021"/>
                    </a:lnTo>
                    <a:lnTo>
                      <a:pt x="728" y="1029"/>
                    </a:lnTo>
                    <a:lnTo>
                      <a:pt x="735" y="1040"/>
                    </a:lnTo>
                    <a:lnTo>
                      <a:pt x="741" y="1053"/>
                    </a:lnTo>
                    <a:lnTo>
                      <a:pt x="748" y="1070"/>
                    </a:lnTo>
                    <a:lnTo>
                      <a:pt x="748" y="1086"/>
                    </a:lnTo>
                    <a:lnTo>
                      <a:pt x="741" y="1101"/>
                    </a:lnTo>
                    <a:lnTo>
                      <a:pt x="728" y="1114"/>
                    </a:lnTo>
                    <a:lnTo>
                      <a:pt x="709" y="1127"/>
                    </a:lnTo>
                    <a:lnTo>
                      <a:pt x="682" y="1139"/>
                    </a:lnTo>
                    <a:lnTo>
                      <a:pt x="655" y="1148"/>
                    </a:lnTo>
                    <a:lnTo>
                      <a:pt x="625" y="1158"/>
                    </a:lnTo>
                    <a:lnTo>
                      <a:pt x="594" y="1169"/>
                    </a:lnTo>
                    <a:lnTo>
                      <a:pt x="562" y="1175"/>
                    </a:lnTo>
                    <a:lnTo>
                      <a:pt x="530" y="1181"/>
                    </a:lnTo>
                    <a:lnTo>
                      <a:pt x="501" y="1186"/>
                    </a:lnTo>
                    <a:lnTo>
                      <a:pt x="477" y="1190"/>
                    </a:lnTo>
                    <a:lnTo>
                      <a:pt x="454" y="1192"/>
                    </a:lnTo>
                    <a:lnTo>
                      <a:pt x="437" y="1196"/>
                    </a:lnTo>
                    <a:lnTo>
                      <a:pt x="425" y="1198"/>
                    </a:lnTo>
                    <a:lnTo>
                      <a:pt x="422" y="1200"/>
                    </a:lnTo>
                    <a:lnTo>
                      <a:pt x="422" y="120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205400">
                <a:off x="7872120" y="889920"/>
                <a:ext cx="85320" cy="198720"/>
              </a:xfrm>
              <a:custGeom>
                <a:avLst/>
                <a:gdLst/>
                <a:ahLst/>
                <a:rect l="l" t="t" r="r" b="b"/>
                <a:pathLst>
                  <a:path w="101" h="232">
                    <a:moveTo>
                      <a:pt x="101" y="194"/>
                    </a:moveTo>
                    <a:lnTo>
                      <a:pt x="99" y="190"/>
                    </a:lnTo>
                    <a:lnTo>
                      <a:pt x="99" y="184"/>
                    </a:lnTo>
                    <a:lnTo>
                      <a:pt x="97" y="173"/>
                    </a:lnTo>
                    <a:lnTo>
                      <a:pt x="95" y="161"/>
                    </a:lnTo>
                    <a:lnTo>
                      <a:pt x="91" y="144"/>
                    </a:lnTo>
                    <a:lnTo>
                      <a:pt x="87" y="127"/>
                    </a:lnTo>
                    <a:lnTo>
                      <a:pt x="82" y="110"/>
                    </a:lnTo>
                    <a:lnTo>
                      <a:pt x="78" y="93"/>
                    </a:lnTo>
                    <a:lnTo>
                      <a:pt x="70" y="72"/>
                    </a:lnTo>
                    <a:lnTo>
                      <a:pt x="63" y="55"/>
                    </a:lnTo>
                    <a:lnTo>
                      <a:pt x="55" y="38"/>
                    </a:lnTo>
                    <a:lnTo>
                      <a:pt x="46" y="24"/>
                    </a:lnTo>
                    <a:lnTo>
                      <a:pt x="34" y="11"/>
                    </a:lnTo>
                    <a:lnTo>
                      <a:pt x="25" y="3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63" y="232"/>
                    </a:lnTo>
                    <a:lnTo>
                      <a:pt x="101" y="194"/>
                    </a:lnTo>
                    <a:lnTo>
                      <a:pt x="101" y="19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205400">
                <a:off x="8240400" y="700920"/>
                <a:ext cx="57600" cy="3744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7" y="43"/>
                    </a:moveTo>
                    <a:lnTo>
                      <a:pt x="7" y="43"/>
                    </a:lnTo>
                    <a:lnTo>
                      <a:pt x="11" y="43"/>
                    </a:lnTo>
                    <a:lnTo>
                      <a:pt x="15" y="41"/>
                    </a:lnTo>
                    <a:lnTo>
                      <a:pt x="20" y="41"/>
                    </a:lnTo>
                    <a:lnTo>
                      <a:pt x="28" y="39"/>
                    </a:lnTo>
                    <a:lnTo>
                      <a:pt x="36" y="38"/>
                    </a:lnTo>
                    <a:lnTo>
                      <a:pt x="43" y="36"/>
                    </a:lnTo>
                    <a:lnTo>
                      <a:pt x="51" y="34"/>
                    </a:lnTo>
                    <a:lnTo>
                      <a:pt x="57" y="30"/>
                    </a:lnTo>
                    <a:lnTo>
                      <a:pt x="62" y="28"/>
                    </a:lnTo>
                    <a:lnTo>
                      <a:pt x="64" y="24"/>
                    </a:lnTo>
                    <a:lnTo>
                      <a:pt x="66" y="22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55" y="9"/>
                    </a:lnTo>
                    <a:lnTo>
                      <a:pt x="45" y="7"/>
                    </a:lnTo>
                    <a:lnTo>
                      <a:pt x="32" y="1"/>
                    </a:lnTo>
                    <a:lnTo>
                      <a:pt x="24" y="0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1" y="34"/>
                    </a:lnTo>
                    <a:lnTo>
                      <a:pt x="3" y="41"/>
                    </a:lnTo>
                    <a:lnTo>
                      <a:pt x="7" y="43"/>
                    </a:lnTo>
                    <a:lnTo>
                      <a:pt x="7" y="4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205400">
                <a:off x="7587720" y="703440"/>
                <a:ext cx="68040" cy="60120"/>
              </a:xfrm>
              <a:custGeom>
                <a:avLst/>
                <a:gdLst/>
                <a:ahLst/>
                <a:rect l="l" t="t" r="r" b="b"/>
                <a:pathLst>
                  <a:path w="79" h="68">
                    <a:moveTo>
                      <a:pt x="60" y="0"/>
                    </a:moveTo>
                    <a:lnTo>
                      <a:pt x="59" y="0"/>
                    </a:lnTo>
                    <a:lnTo>
                      <a:pt x="57" y="4"/>
                    </a:lnTo>
                    <a:lnTo>
                      <a:pt x="53" y="6"/>
                    </a:lnTo>
                    <a:lnTo>
                      <a:pt x="47" y="11"/>
                    </a:lnTo>
                    <a:lnTo>
                      <a:pt x="40" y="15"/>
                    </a:lnTo>
                    <a:lnTo>
                      <a:pt x="34" y="21"/>
                    </a:lnTo>
                    <a:lnTo>
                      <a:pt x="28" y="27"/>
                    </a:lnTo>
                    <a:lnTo>
                      <a:pt x="22" y="32"/>
                    </a:lnTo>
                    <a:lnTo>
                      <a:pt x="15" y="38"/>
                    </a:lnTo>
                    <a:lnTo>
                      <a:pt x="9" y="44"/>
                    </a:lnTo>
                    <a:lnTo>
                      <a:pt x="5" y="49"/>
                    </a:lnTo>
                    <a:lnTo>
                      <a:pt x="2" y="55"/>
                    </a:lnTo>
                    <a:lnTo>
                      <a:pt x="0" y="59"/>
                    </a:lnTo>
                    <a:lnTo>
                      <a:pt x="0" y="65"/>
                    </a:lnTo>
                    <a:lnTo>
                      <a:pt x="2" y="66"/>
                    </a:lnTo>
                    <a:lnTo>
                      <a:pt x="7" y="68"/>
                    </a:lnTo>
                    <a:lnTo>
                      <a:pt x="13" y="68"/>
                    </a:lnTo>
                    <a:lnTo>
                      <a:pt x="21" y="66"/>
                    </a:lnTo>
                    <a:lnTo>
                      <a:pt x="26" y="65"/>
                    </a:lnTo>
                    <a:lnTo>
                      <a:pt x="32" y="63"/>
                    </a:lnTo>
                    <a:lnTo>
                      <a:pt x="38" y="59"/>
                    </a:lnTo>
                    <a:lnTo>
                      <a:pt x="43" y="57"/>
                    </a:lnTo>
                    <a:lnTo>
                      <a:pt x="51" y="53"/>
                    </a:lnTo>
                    <a:lnTo>
                      <a:pt x="57" y="49"/>
                    </a:lnTo>
                    <a:lnTo>
                      <a:pt x="66" y="42"/>
                    </a:lnTo>
                    <a:lnTo>
                      <a:pt x="72" y="36"/>
                    </a:lnTo>
                    <a:lnTo>
                      <a:pt x="78" y="30"/>
                    </a:lnTo>
                    <a:lnTo>
                      <a:pt x="79" y="28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205400">
                <a:off x="7628400" y="704880"/>
                <a:ext cx="263520" cy="110880"/>
              </a:xfrm>
              <a:custGeom>
                <a:avLst/>
                <a:gdLst/>
                <a:ahLst/>
                <a:rect l="l" t="t" r="r" b="b"/>
                <a:pathLst>
                  <a:path w="310" h="129">
                    <a:moveTo>
                      <a:pt x="0" y="19"/>
                    </a:moveTo>
                    <a:lnTo>
                      <a:pt x="2" y="19"/>
                    </a:lnTo>
                    <a:lnTo>
                      <a:pt x="8" y="19"/>
                    </a:lnTo>
                    <a:lnTo>
                      <a:pt x="19" y="19"/>
                    </a:lnTo>
                    <a:lnTo>
                      <a:pt x="32" y="19"/>
                    </a:lnTo>
                    <a:lnTo>
                      <a:pt x="50" y="19"/>
                    </a:lnTo>
                    <a:lnTo>
                      <a:pt x="69" y="21"/>
                    </a:lnTo>
                    <a:lnTo>
                      <a:pt x="89" y="21"/>
                    </a:lnTo>
                    <a:lnTo>
                      <a:pt x="114" y="21"/>
                    </a:lnTo>
                    <a:lnTo>
                      <a:pt x="139" y="21"/>
                    </a:lnTo>
                    <a:lnTo>
                      <a:pt x="164" y="19"/>
                    </a:lnTo>
                    <a:lnTo>
                      <a:pt x="190" y="17"/>
                    </a:lnTo>
                    <a:lnTo>
                      <a:pt x="217" y="17"/>
                    </a:lnTo>
                    <a:lnTo>
                      <a:pt x="242" y="11"/>
                    </a:lnTo>
                    <a:lnTo>
                      <a:pt x="268" y="9"/>
                    </a:lnTo>
                    <a:lnTo>
                      <a:pt x="310" y="0"/>
                    </a:lnTo>
                    <a:lnTo>
                      <a:pt x="281" y="11"/>
                    </a:lnTo>
                    <a:lnTo>
                      <a:pt x="264" y="17"/>
                    </a:lnTo>
                    <a:lnTo>
                      <a:pt x="247" y="25"/>
                    </a:lnTo>
                    <a:lnTo>
                      <a:pt x="226" y="32"/>
                    </a:lnTo>
                    <a:lnTo>
                      <a:pt x="207" y="42"/>
                    </a:lnTo>
                    <a:lnTo>
                      <a:pt x="185" y="51"/>
                    </a:lnTo>
                    <a:lnTo>
                      <a:pt x="164" y="61"/>
                    </a:lnTo>
                    <a:lnTo>
                      <a:pt x="143" y="70"/>
                    </a:lnTo>
                    <a:lnTo>
                      <a:pt x="122" y="84"/>
                    </a:lnTo>
                    <a:lnTo>
                      <a:pt x="103" y="95"/>
                    </a:lnTo>
                    <a:lnTo>
                      <a:pt x="86" y="106"/>
                    </a:lnTo>
                    <a:lnTo>
                      <a:pt x="72" y="118"/>
                    </a:lnTo>
                    <a:lnTo>
                      <a:pt x="61" y="12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205400">
                <a:off x="7849800" y="502560"/>
                <a:ext cx="126360" cy="207360"/>
              </a:xfrm>
              <a:custGeom>
                <a:avLst/>
                <a:gdLst/>
                <a:ahLst/>
                <a:rect l="l" t="t" r="r" b="b"/>
                <a:pathLst>
                  <a:path w="149" h="241">
                    <a:moveTo>
                      <a:pt x="105" y="241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0" y="3"/>
                    </a:lnTo>
                    <a:lnTo>
                      <a:pt x="14" y="5"/>
                    </a:lnTo>
                    <a:lnTo>
                      <a:pt x="21" y="11"/>
                    </a:lnTo>
                    <a:lnTo>
                      <a:pt x="27" y="17"/>
                    </a:lnTo>
                    <a:lnTo>
                      <a:pt x="37" y="28"/>
                    </a:lnTo>
                    <a:lnTo>
                      <a:pt x="46" y="38"/>
                    </a:lnTo>
                    <a:lnTo>
                      <a:pt x="57" y="53"/>
                    </a:lnTo>
                    <a:lnTo>
                      <a:pt x="69" y="72"/>
                    </a:lnTo>
                    <a:lnTo>
                      <a:pt x="82" y="93"/>
                    </a:lnTo>
                    <a:lnTo>
                      <a:pt x="97" y="119"/>
                    </a:lnTo>
                    <a:lnTo>
                      <a:pt x="113" y="150"/>
                    </a:lnTo>
                    <a:lnTo>
                      <a:pt x="130" y="184"/>
                    </a:lnTo>
                    <a:lnTo>
                      <a:pt x="149" y="226"/>
                    </a:lnTo>
                    <a:lnTo>
                      <a:pt x="105" y="241"/>
                    </a:lnTo>
                    <a:lnTo>
                      <a:pt x="105" y="24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205400">
                <a:off x="7585560" y="176400"/>
                <a:ext cx="757440" cy="1039320"/>
              </a:xfrm>
              <a:custGeom>
                <a:avLst/>
                <a:gdLst/>
                <a:ahLst/>
                <a:rect l="l" t="t" r="r" b="b"/>
                <a:pathLst>
                  <a:path w="884" h="1215">
                    <a:moveTo>
                      <a:pt x="110" y="70"/>
                    </a:moveTo>
                    <a:lnTo>
                      <a:pt x="112" y="68"/>
                    </a:lnTo>
                    <a:lnTo>
                      <a:pt x="116" y="66"/>
                    </a:lnTo>
                    <a:lnTo>
                      <a:pt x="121" y="65"/>
                    </a:lnTo>
                    <a:lnTo>
                      <a:pt x="133" y="63"/>
                    </a:lnTo>
                    <a:lnTo>
                      <a:pt x="144" y="59"/>
                    </a:lnTo>
                    <a:lnTo>
                      <a:pt x="158" y="57"/>
                    </a:lnTo>
                    <a:lnTo>
                      <a:pt x="171" y="55"/>
                    </a:lnTo>
                    <a:lnTo>
                      <a:pt x="186" y="55"/>
                    </a:lnTo>
                    <a:lnTo>
                      <a:pt x="199" y="55"/>
                    </a:lnTo>
                    <a:lnTo>
                      <a:pt x="213" y="57"/>
                    </a:lnTo>
                    <a:lnTo>
                      <a:pt x="228" y="59"/>
                    </a:lnTo>
                    <a:lnTo>
                      <a:pt x="241" y="63"/>
                    </a:lnTo>
                    <a:lnTo>
                      <a:pt x="253" y="70"/>
                    </a:lnTo>
                    <a:lnTo>
                      <a:pt x="262" y="80"/>
                    </a:lnTo>
                    <a:lnTo>
                      <a:pt x="270" y="93"/>
                    </a:lnTo>
                    <a:lnTo>
                      <a:pt x="275" y="108"/>
                    </a:lnTo>
                    <a:lnTo>
                      <a:pt x="275" y="124"/>
                    </a:lnTo>
                    <a:lnTo>
                      <a:pt x="277" y="139"/>
                    </a:lnTo>
                    <a:lnTo>
                      <a:pt x="275" y="152"/>
                    </a:lnTo>
                    <a:lnTo>
                      <a:pt x="274" y="165"/>
                    </a:lnTo>
                    <a:lnTo>
                      <a:pt x="268" y="175"/>
                    </a:lnTo>
                    <a:lnTo>
                      <a:pt x="264" y="182"/>
                    </a:lnTo>
                    <a:lnTo>
                      <a:pt x="256" y="190"/>
                    </a:lnTo>
                    <a:lnTo>
                      <a:pt x="251" y="198"/>
                    </a:lnTo>
                    <a:lnTo>
                      <a:pt x="243" y="201"/>
                    </a:lnTo>
                    <a:lnTo>
                      <a:pt x="237" y="207"/>
                    </a:lnTo>
                    <a:lnTo>
                      <a:pt x="232" y="209"/>
                    </a:lnTo>
                    <a:lnTo>
                      <a:pt x="226" y="213"/>
                    </a:lnTo>
                    <a:lnTo>
                      <a:pt x="217" y="215"/>
                    </a:lnTo>
                    <a:lnTo>
                      <a:pt x="215" y="217"/>
                    </a:lnTo>
                    <a:lnTo>
                      <a:pt x="217" y="217"/>
                    </a:lnTo>
                    <a:lnTo>
                      <a:pt x="224" y="220"/>
                    </a:lnTo>
                    <a:lnTo>
                      <a:pt x="228" y="220"/>
                    </a:lnTo>
                    <a:lnTo>
                      <a:pt x="236" y="222"/>
                    </a:lnTo>
                    <a:lnTo>
                      <a:pt x="241" y="222"/>
                    </a:lnTo>
                    <a:lnTo>
                      <a:pt x="249" y="224"/>
                    </a:lnTo>
                    <a:lnTo>
                      <a:pt x="256" y="224"/>
                    </a:lnTo>
                    <a:lnTo>
                      <a:pt x="264" y="224"/>
                    </a:lnTo>
                    <a:lnTo>
                      <a:pt x="272" y="222"/>
                    </a:lnTo>
                    <a:lnTo>
                      <a:pt x="281" y="220"/>
                    </a:lnTo>
                    <a:lnTo>
                      <a:pt x="289" y="217"/>
                    </a:lnTo>
                    <a:lnTo>
                      <a:pt x="298" y="213"/>
                    </a:lnTo>
                    <a:lnTo>
                      <a:pt x="308" y="207"/>
                    </a:lnTo>
                    <a:lnTo>
                      <a:pt x="317" y="201"/>
                    </a:lnTo>
                    <a:lnTo>
                      <a:pt x="315" y="203"/>
                    </a:lnTo>
                    <a:lnTo>
                      <a:pt x="312" y="213"/>
                    </a:lnTo>
                    <a:lnTo>
                      <a:pt x="308" y="217"/>
                    </a:lnTo>
                    <a:lnTo>
                      <a:pt x="304" y="222"/>
                    </a:lnTo>
                    <a:lnTo>
                      <a:pt x="298" y="228"/>
                    </a:lnTo>
                    <a:lnTo>
                      <a:pt x="294" y="236"/>
                    </a:lnTo>
                    <a:lnTo>
                      <a:pt x="285" y="241"/>
                    </a:lnTo>
                    <a:lnTo>
                      <a:pt x="274" y="249"/>
                    </a:lnTo>
                    <a:lnTo>
                      <a:pt x="262" y="255"/>
                    </a:lnTo>
                    <a:lnTo>
                      <a:pt x="251" y="262"/>
                    </a:lnTo>
                    <a:lnTo>
                      <a:pt x="234" y="268"/>
                    </a:lnTo>
                    <a:lnTo>
                      <a:pt x="215" y="274"/>
                    </a:lnTo>
                    <a:lnTo>
                      <a:pt x="196" y="278"/>
                    </a:lnTo>
                    <a:lnTo>
                      <a:pt x="173" y="281"/>
                    </a:lnTo>
                    <a:lnTo>
                      <a:pt x="243" y="380"/>
                    </a:lnTo>
                    <a:lnTo>
                      <a:pt x="245" y="378"/>
                    </a:lnTo>
                    <a:lnTo>
                      <a:pt x="253" y="376"/>
                    </a:lnTo>
                    <a:lnTo>
                      <a:pt x="256" y="376"/>
                    </a:lnTo>
                    <a:lnTo>
                      <a:pt x="264" y="374"/>
                    </a:lnTo>
                    <a:lnTo>
                      <a:pt x="270" y="374"/>
                    </a:lnTo>
                    <a:lnTo>
                      <a:pt x="277" y="376"/>
                    </a:lnTo>
                    <a:lnTo>
                      <a:pt x="283" y="376"/>
                    </a:lnTo>
                    <a:lnTo>
                      <a:pt x="293" y="376"/>
                    </a:lnTo>
                    <a:lnTo>
                      <a:pt x="298" y="380"/>
                    </a:lnTo>
                    <a:lnTo>
                      <a:pt x="306" y="384"/>
                    </a:lnTo>
                    <a:lnTo>
                      <a:pt x="313" y="388"/>
                    </a:lnTo>
                    <a:lnTo>
                      <a:pt x="319" y="393"/>
                    </a:lnTo>
                    <a:lnTo>
                      <a:pt x="325" y="403"/>
                    </a:lnTo>
                    <a:lnTo>
                      <a:pt x="331" y="412"/>
                    </a:lnTo>
                    <a:lnTo>
                      <a:pt x="334" y="422"/>
                    </a:lnTo>
                    <a:lnTo>
                      <a:pt x="340" y="433"/>
                    </a:lnTo>
                    <a:lnTo>
                      <a:pt x="346" y="445"/>
                    </a:lnTo>
                    <a:lnTo>
                      <a:pt x="353" y="460"/>
                    </a:lnTo>
                    <a:lnTo>
                      <a:pt x="361" y="475"/>
                    </a:lnTo>
                    <a:lnTo>
                      <a:pt x="369" y="490"/>
                    </a:lnTo>
                    <a:lnTo>
                      <a:pt x="376" y="506"/>
                    </a:lnTo>
                    <a:lnTo>
                      <a:pt x="386" y="525"/>
                    </a:lnTo>
                    <a:lnTo>
                      <a:pt x="393" y="538"/>
                    </a:lnTo>
                    <a:lnTo>
                      <a:pt x="403" y="555"/>
                    </a:lnTo>
                    <a:lnTo>
                      <a:pt x="412" y="568"/>
                    </a:lnTo>
                    <a:lnTo>
                      <a:pt x="422" y="586"/>
                    </a:lnTo>
                    <a:lnTo>
                      <a:pt x="431" y="597"/>
                    </a:lnTo>
                    <a:lnTo>
                      <a:pt x="443" y="610"/>
                    </a:lnTo>
                    <a:lnTo>
                      <a:pt x="452" y="622"/>
                    </a:lnTo>
                    <a:lnTo>
                      <a:pt x="464" y="631"/>
                    </a:lnTo>
                    <a:lnTo>
                      <a:pt x="460" y="631"/>
                    </a:lnTo>
                    <a:lnTo>
                      <a:pt x="452" y="633"/>
                    </a:lnTo>
                    <a:lnTo>
                      <a:pt x="437" y="635"/>
                    </a:lnTo>
                    <a:lnTo>
                      <a:pt x="420" y="639"/>
                    </a:lnTo>
                    <a:lnTo>
                      <a:pt x="395" y="641"/>
                    </a:lnTo>
                    <a:lnTo>
                      <a:pt x="369" y="646"/>
                    </a:lnTo>
                    <a:lnTo>
                      <a:pt x="340" y="650"/>
                    </a:lnTo>
                    <a:lnTo>
                      <a:pt x="308" y="654"/>
                    </a:lnTo>
                    <a:lnTo>
                      <a:pt x="272" y="656"/>
                    </a:lnTo>
                    <a:lnTo>
                      <a:pt x="236" y="660"/>
                    </a:lnTo>
                    <a:lnTo>
                      <a:pt x="196" y="662"/>
                    </a:lnTo>
                    <a:lnTo>
                      <a:pt x="158" y="662"/>
                    </a:lnTo>
                    <a:lnTo>
                      <a:pt x="116" y="662"/>
                    </a:lnTo>
                    <a:lnTo>
                      <a:pt x="76" y="660"/>
                    </a:lnTo>
                    <a:lnTo>
                      <a:pt x="36" y="656"/>
                    </a:lnTo>
                    <a:lnTo>
                      <a:pt x="0" y="652"/>
                    </a:lnTo>
                    <a:lnTo>
                      <a:pt x="7" y="656"/>
                    </a:lnTo>
                    <a:lnTo>
                      <a:pt x="23" y="660"/>
                    </a:lnTo>
                    <a:lnTo>
                      <a:pt x="45" y="667"/>
                    </a:lnTo>
                    <a:lnTo>
                      <a:pt x="70" y="673"/>
                    </a:lnTo>
                    <a:lnTo>
                      <a:pt x="102" y="679"/>
                    </a:lnTo>
                    <a:lnTo>
                      <a:pt x="140" y="682"/>
                    </a:lnTo>
                    <a:lnTo>
                      <a:pt x="184" y="688"/>
                    </a:lnTo>
                    <a:lnTo>
                      <a:pt x="232" y="688"/>
                    </a:lnTo>
                    <a:lnTo>
                      <a:pt x="285" y="688"/>
                    </a:lnTo>
                    <a:lnTo>
                      <a:pt x="342" y="684"/>
                    </a:lnTo>
                    <a:lnTo>
                      <a:pt x="407" y="679"/>
                    </a:lnTo>
                    <a:lnTo>
                      <a:pt x="471" y="667"/>
                    </a:lnTo>
                    <a:lnTo>
                      <a:pt x="543" y="652"/>
                    </a:lnTo>
                    <a:lnTo>
                      <a:pt x="619" y="629"/>
                    </a:lnTo>
                    <a:lnTo>
                      <a:pt x="699" y="603"/>
                    </a:lnTo>
                    <a:lnTo>
                      <a:pt x="621" y="633"/>
                    </a:lnTo>
                    <a:lnTo>
                      <a:pt x="559" y="656"/>
                    </a:lnTo>
                    <a:lnTo>
                      <a:pt x="507" y="673"/>
                    </a:lnTo>
                    <a:lnTo>
                      <a:pt x="471" y="688"/>
                    </a:lnTo>
                    <a:lnTo>
                      <a:pt x="441" y="700"/>
                    </a:lnTo>
                    <a:lnTo>
                      <a:pt x="418" y="707"/>
                    </a:lnTo>
                    <a:lnTo>
                      <a:pt x="399" y="713"/>
                    </a:lnTo>
                    <a:lnTo>
                      <a:pt x="386" y="720"/>
                    </a:lnTo>
                    <a:lnTo>
                      <a:pt x="372" y="726"/>
                    </a:lnTo>
                    <a:lnTo>
                      <a:pt x="359" y="734"/>
                    </a:lnTo>
                    <a:lnTo>
                      <a:pt x="342" y="745"/>
                    </a:lnTo>
                    <a:lnTo>
                      <a:pt x="323" y="759"/>
                    </a:lnTo>
                    <a:lnTo>
                      <a:pt x="296" y="776"/>
                    </a:lnTo>
                    <a:lnTo>
                      <a:pt x="262" y="800"/>
                    </a:lnTo>
                    <a:lnTo>
                      <a:pt x="218" y="829"/>
                    </a:lnTo>
                    <a:lnTo>
                      <a:pt x="161" y="869"/>
                    </a:lnTo>
                    <a:lnTo>
                      <a:pt x="167" y="943"/>
                    </a:lnTo>
                    <a:lnTo>
                      <a:pt x="169" y="941"/>
                    </a:lnTo>
                    <a:lnTo>
                      <a:pt x="173" y="935"/>
                    </a:lnTo>
                    <a:lnTo>
                      <a:pt x="178" y="926"/>
                    </a:lnTo>
                    <a:lnTo>
                      <a:pt x="188" y="916"/>
                    </a:lnTo>
                    <a:lnTo>
                      <a:pt x="196" y="903"/>
                    </a:lnTo>
                    <a:lnTo>
                      <a:pt x="209" y="890"/>
                    </a:lnTo>
                    <a:lnTo>
                      <a:pt x="222" y="874"/>
                    </a:lnTo>
                    <a:lnTo>
                      <a:pt x="237" y="861"/>
                    </a:lnTo>
                    <a:lnTo>
                      <a:pt x="253" y="844"/>
                    </a:lnTo>
                    <a:lnTo>
                      <a:pt x="272" y="829"/>
                    </a:lnTo>
                    <a:lnTo>
                      <a:pt x="289" y="816"/>
                    </a:lnTo>
                    <a:lnTo>
                      <a:pt x="308" y="802"/>
                    </a:lnTo>
                    <a:lnTo>
                      <a:pt x="327" y="791"/>
                    </a:lnTo>
                    <a:lnTo>
                      <a:pt x="346" y="781"/>
                    </a:lnTo>
                    <a:lnTo>
                      <a:pt x="365" y="778"/>
                    </a:lnTo>
                    <a:lnTo>
                      <a:pt x="386" y="776"/>
                    </a:lnTo>
                    <a:lnTo>
                      <a:pt x="426" y="833"/>
                    </a:lnTo>
                    <a:lnTo>
                      <a:pt x="428" y="829"/>
                    </a:lnTo>
                    <a:lnTo>
                      <a:pt x="433" y="823"/>
                    </a:lnTo>
                    <a:lnTo>
                      <a:pt x="437" y="817"/>
                    </a:lnTo>
                    <a:lnTo>
                      <a:pt x="441" y="814"/>
                    </a:lnTo>
                    <a:lnTo>
                      <a:pt x="447" y="808"/>
                    </a:lnTo>
                    <a:lnTo>
                      <a:pt x="454" y="806"/>
                    </a:lnTo>
                    <a:lnTo>
                      <a:pt x="458" y="802"/>
                    </a:lnTo>
                    <a:lnTo>
                      <a:pt x="466" y="798"/>
                    </a:lnTo>
                    <a:lnTo>
                      <a:pt x="471" y="797"/>
                    </a:lnTo>
                    <a:lnTo>
                      <a:pt x="477" y="797"/>
                    </a:lnTo>
                    <a:lnTo>
                      <a:pt x="483" y="797"/>
                    </a:lnTo>
                    <a:lnTo>
                      <a:pt x="488" y="800"/>
                    </a:lnTo>
                    <a:lnTo>
                      <a:pt x="492" y="804"/>
                    </a:lnTo>
                    <a:lnTo>
                      <a:pt x="500" y="812"/>
                    </a:lnTo>
                    <a:lnTo>
                      <a:pt x="502" y="821"/>
                    </a:lnTo>
                    <a:lnTo>
                      <a:pt x="507" y="833"/>
                    </a:lnTo>
                    <a:lnTo>
                      <a:pt x="513" y="846"/>
                    </a:lnTo>
                    <a:lnTo>
                      <a:pt x="519" y="861"/>
                    </a:lnTo>
                    <a:lnTo>
                      <a:pt x="526" y="876"/>
                    </a:lnTo>
                    <a:lnTo>
                      <a:pt x="532" y="894"/>
                    </a:lnTo>
                    <a:lnTo>
                      <a:pt x="538" y="909"/>
                    </a:lnTo>
                    <a:lnTo>
                      <a:pt x="545" y="926"/>
                    </a:lnTo>
                    <a:lnTo>
                      <a:pt x="551" y="941"/>
                    </a:lnTo>
                    <a:lnTo>
                      <a:pt x="557" y="956"/>
                    </a:lnTo>
                    <a:lnTo>
                      <a:pt x="562" y="970"/>
                    </a:lnTo>
                    <a:lnTo>
                      <a:pt x="570" y="985"/>
                    </a:lnTo>
                    <a:lnTo>
                      <a:pt x="576" y="994"/>
                    </a:lnTo>
                    <a:lnTo>
                      <a:pt x="581" y="1004"/>
                    </a:lnTo>
                    <a:lnTo>
                      <a:pt x="587" y="1011"/>
                    </a:lnTo>
                    <a:lnTo>
                      <a:pt x="595" y="1017"/>
                    </a:lnTo>
                    <a:lnTo>
                      <a:pt x="604" y="1023"/>
                    </a:lnTo>
                    <a:lnTo>
                      <a:pt x="614" y="1027"/>
                    </a:lnTo>
                    <a:lnTo>
                      <a:pt x="625" y="1028"/>
                    </a:lnTo>
                    <a:lnTo>
                      <a:pt x="635" y="1030"/>
                    </a:lnTo>
                    <a:lnTo>
                      <a:pt x="642" y="1030"/>
                    </a:lnTo>
                    <a:lnTo>
                      <a:pt x="650" y="1032"/>
                    </a:lnTo>
                    <a:lnTo>
                      <a:pt x="656" y="1036"/>
                    </a:lnTo>
                    <a:lnTo>
                      <a:pt x="659" y="1040"/>
                    </a:lnTo>
                    <a:lnTo>
                      <a:pt x="658" y="1044"/>
                    </a:lnTo>
                    <a:lnTo>
                      <a:pt x="654" y="1046"/>
                    </a:lnTo>
                    <a:lnTo>
                      <a:pt x="648" y="1048"/>
                    </a:lnTo>
                    <a:lnTo>
                      <a:pt x="640" y="1049"/>
                    </a:lnTo>
                    <a:lnTo>
                      <a:pt x="629" y="1051"/>
                    </a:lnTo>
                    <a:lnTo>
                      <a:pt x="616" y="1055"/>
                    </a:lnTo>
                    <a:lnTo>
                      <a:pt x="602" y="1059"/>
                    </a:lnTo>
                    <a:lnTo>
                      <a:pt x="587" y="1067"/>
                    </a:lnTo>
                    <a:lnTo>
                      <a:pt x="570" y="1072"/>
                    </a:lnTo>
                    <a:lnTo>
                      <a:pt x="553" y="1082"/>
                    </a:lnTo>
                    <a:lnTo>
                      <a:pt x="534" y="1091"/>
                    </a:lnTo>
                    <a:lnTo>
                      <a:pt x="515" y="1106"/>
                    </a:lnTo>
                    <a:lnTo>
                      <a:pt x="494" y="1122"/>
                    </a:lnTo>
                    <a:lnTo>
                      <a:pt x="475" y="1141"/>
                    </a:lnTo>
                    <a:lnTo>
                      <a:pt x="456" y="1162"/>
                    </a:lnTo>
                    <a:lnTo>
                      <a:pt x="439" y="1190"/>
                    </a:lnTo>
                    <a:lnTo>
                      <a:pt x="445" y="1215"/>
                    </a:lnTo>
                    <a:lnTo>
                      <a:pt x="775" y="1065"/>
                    </a:lnTo>
                    <a:lnTo>
                      <a:pt x="773" y="1063"/>
                    </a:lnTo>
                    <a:lnTo>
                      <a:pt x="773" y="1061"/>
                    </a:lnTo>
                    <a:lnTo>
                      <a:pt x="772" y="1055"/>
                    </a:lnTo>
                    <a:lnTo>
                      <a:pt x="772" y="1051"/>
                    </a:lnTo>
                    <a:lnTo>
                      <a:pt x="768" y="1046"/>
                    </a:lnTo>
                    <a:lnTo>
                      <a:pt x="764" y="1038"/>
                    </a:lnTo>
                    <a:lnTo>
                      <a:pt x="760" y="1032"/>
                    </a:lnTo>
                    <a:lnTo>
                      <a:pt x="754" y="1027"/>
                    </a:lnTo>
                    <a:lnTo>
                      <a:pt x="749" y="1019"/>
                    </a:lnTo>
                    <a:lnTo>
                      <a:pt x="739" y="1013"/>
                    </a:lnTo>
                    <a:lnTo>
                      <a:pt x="730" y="1008"/>
                    </a:lnTo>
                    <a:lnTo>
                      <a:pt x="720" y="1004"/>
                    </a:lnTo>
                    <a:lnTo>
                      <a:pt x="707" y="1000"/>
                    </a:lnTo>
                    <a:lnTo>
                      <a:pt x="692" y="998"/>
                    </a:lnTo>
                    <a:lnTo>
                      <a:pt x="677" y="998"/>
                    </a:lnTo>
                    <a:lnTo>
                      <a:pt x="659" y="1002"/>
                    </a:lnTo>
                    <a:lnTo>
                      <a:pt x="658" y="1000"/>
                    </a:lnTo>
                    <a:lnTo>
                      <a:pt x="652" y="994"/>
                    </a:lnTo>
                    <a:lnTo>
                      <a:pt x="644" y="985"/>
                    </a:lnTo>
                    <a:lnTo>
                      <a:pt x="637" y="975"/>
                    </a:lnTo>
                    <a:lnTo>
                      <a:pt x="625" y="960"/>
                    </a:lnTo>
                    <a:lnTo>
                      <a:pt x="614" y="945"/>
                    </a:lnTo>
                    <a:lnTo>
                      <a:pt x="602" y="926"/>
                    </a:lnTo>
                    <a:lnTo>
                      <a:pt x="591" y="907"/>
                    </a:lnTo>
                    <a:lnTo>
                      <a:pt x="578" y="884"/>
                    </a:lnTo>
                    <a:lnTo>
                      <a:pt x="564" y="863"/>
                    </a:lnTo>
                    <a:lnTo>
                      <a:pt x="553" y="838"/>
                    </a:lnTo>
                    <a:lnTo>
                      <a:pt x="543" y="816"/>
                    </a:lnTo>
                    <a:lnTo>
                      <a:pt x="536" y="789"/>
                    </a:lnTo>
                    <a:lnTo>
                      <a:pt x="530" y="764"/>
                    </a:lnTo>
                    <a:lnTo>
                      <a:pt x="528" y="740"/>
                    </a:lnTo>
                    <a:lnTo>
                      <a:pt x="528" y="715"/>
                    </a:lnTo>
                    <a:lnTo>
                      <a:pt x="530" y="713"/>
                    </a:lnTo>
                    <a:lnTo>
                      <a:pt x="536" y="713"/>
                    </a:lnTo>
                    <a:lnTo>
                      <a:pt x="545" y="711"/>
                    </a:lnTo>
                    <a:lnTo>
                      <a:pt x="559" y="709"/>
                    </a:lnTo>
                    <a:lnTo>
                      <a:pt x="574" y="705"/>
                    </a:lnTo>
                    <a:lnTo>
                      <a:pt x="591" y="701"/>
                    </a:lnTo>
                    <a:lnTo>
                      <a:pt x="612" y="700"/>
                    </a:lnTo>
                    <a:lnTo>
                      <a:pt x="633" y="698"/>
                    </a:lnTo>
                    <a:lnTo>
                      <a:pt x="656" y="694"/>
                    </a:lnTo>
                    <a:lnTo>
                      <a:pt x="678" y="692"/>
                    </a:lnTo>
                    <a:lnTo>
                      <a:pt x="703" y="690"/>
                    </a:lnTo>
                    <a:lnTo>
                      <a:pt x="730" y="690"/>
                    </a:lnTo>
                    <a:lnTo>
                      <a:pt x="753" y="690"/>
                    </a:lnTo>
                    <a:lnTo>
                      <a:pt x="775" y="690"/>
                    </a:lnTo>
                    <a:lnTo>
                      <a:pt x="798" y="694"/>
                    </a:lnTo>
                    <a:lnTo>
                      <a:pt x="819" y="698"/>
                    </a:lnTo>
                    <a:lnTo>
                      <a:pt x="817" y="696"/>
                    </a:lnTo>
                    <a:lnTo>
                      <a:pt x="813" y="688"/>
                    </a:lnTo>
                    <a:lnTo>
                      <a:pt x="810" y="682"/>
                    </a:lnTo>
                    <a:lnTo>
                      <a:pt x="806" y="679"/>
                    </a:lnTo>
                    <a:lnTo>
                      <a:pt x="802" y="671"/>
                    </a:lnTo>
                    <a:lnTo>
                      <a:pt x="798" y="665"/>
                    </a:lnTo>
                    <a:lnTo>
                      <a:pt x="794" y="658"/>
                    </a:lnTo>
                    <a:lnTo>
                      <a:pt x="791" y="650"/>
                    </a:lnTo>
                    <a:lnTo>
                      <a:pt x="785" y="643"/>
                    </a:lnTo>
                    <a:lnTo>
                      <a:pt x="783" y="635"/>
                    </a:lnTo>
                    <a:lnTo>
                      <a:pt x="779" y="625"/>
                    </a:lnTo>
                    <a:lnTo>
                      <a:pt x="777" y="618"/>
                    </a:lnTo>
                    <a:lnTo>
                      <a:pt x="773" y="610"/>
                    </a:lnTo>
                    <a:lnTo>
                      <a:pt x="773" y="603"/>
                    </a:lnTo>
                    <a:lnTo>
                      <a:pt x="773" y="601"/>
                    </a:lnTo>
                    <a:lnTo>
                      <a:pt x="777" y="601"/>
                    </a:lnTo>
                    <a:lnTo>
                      <a:pt x="781" y="599"/>
                    </a:lnTo>
                    <a:lnTo>
                      <a:pt x="789" y="597"/>
                    </a:lnTo>
                    <a:lnTo>
                      <a:pt x="796" y="593"/>
                    </a:lnTo>
                    <a:lnTo>
                      <a:pt x="806" y="589"/>
                    </a:lnTo>
                    <a:lnTo>
                      <a:pt x="813" y="586"/>
                    </a:lnTo>
                    <a:lnTo>
                      <a:pt x="825" y="580"/>
                    </a:lnTo>
                    <a:lnTo>
                      <a:pt x="832" y="574"/>
                    </a:lnTo>
                    <a:lnTo>
                      <a:pt x="844" y="566"/>
                    </a:lnTo>
                    <a:lnTo>
                      <a:pt x="851" y="561"/>
                    </a:lnTo>
                    <a:lnTo>
                      <a:pt x="861" y="553"/>
                    </a:lnTo>
                    <a:lnTo>
                      <a:pt x="867" y="544"/>
                    </a:lnTo>
                    <a:lnTo>
                      <a:pt x="874" y="534"/>
                    </a:lnTo>
                    <a:lnTo>
                      <a:pt x="878" y="527"/>
                    </a:lnTo>
                    <a:lnTo>
                      <a:pt x="884" y="517"/>
                    </a:lnTo>
                    <a:lnTo>
                      <a:pt x="884" y="506"/>
                    </a:lnTo>
                    <a:lnTo>
                      <a:pt x="880" y="498"/>
                    </a:lnTo>
                    <a:lnTo>
                      <a:pt x="876" y="490"/>
                    </a:lnTo>
                    <a:lnTo>
                      <a:pt x="872" y="487"/>
                    </a:lnTo>
                    <a:lnTo>
                      <a:pt x="865" y="483"/>
                    </a:lnTo>
                    <a:lnTo>
                      <a:pt x="857" y="481"/>
                    </a:lnTo>
                    <a:lnTo>
                      <a:pt x="849" y="477"/>
                    </a:lnTo>
                    <a:lnTo>
                      <a:pt x="842" y="477"/>
                    </a:lnTo>
                    <a:lnTo>
                      <a:pt x="832" y="477"/>
                    </a:lnTo>
                    <a:lnTo>
                      <a:pt x="823" y="477"/>
                    </a:lnTo>
                    <a:lnTo>
                      <a:pt x="813" y="477"/>
                    </a:lnTo>
                    <a:lnTo>
                      <a:pt x="808" y="479"/>
                    </a:lnTo>
                    <a:lnTo>
                      <a:pt x="802" y="479"/>
                    </a:lnTo>
                    <a:lnTo>
                      <a:pt x="798" y="481"/>
                    </a:lnTo>
                    <a:lnTo>
                      <a:pt x="794" y="481"/>
                    </a:lnTo>
                    <a:lnTo>
                      <a:pt x="794" y="483"/>
                    </a:lnTo>
                    <a:lnTo>
                      <a:pt x="798" y="483"/>
                    </a:lnTo>
                    <a:lnTo>
                      <a:pt x="802" y="485"/>
                    </a:lnTo>
                    <a:lnTo>
                      <a:pt x="808" y="489"/>
                    </a:lnTo>
                    <a:lnTo>
                      <a:pt x="813" y="490"/>
                    </a:lnTo>
                    <a:lnTo>
                      <a:pt x="819" y="496"/>
                    </a:lnTo>
                    <a:lnTo>
                      <a:pt x="825" y="502"/>
                    </a:lnTo>
                    <a:lnTo>
                      <a:pt x="829" y="508"/>
                    </a:lnTo>
                    <a:lnTo>
                      <a:pt x="830" y="513"/>
                    </a:lnTo>
                    <a:lnTo>
                      <a:pt x="830" y="519"/>
                    </a:lnTo>
                    <a:lnTo>
                      <a:pt x="829" y="525"/>
                    </a:lnTo>
                    <a:lnTo>
                      <a:pt x="825" y="532"/>
                    </a:lnTo>
                    <a:lnTo>
                      <a:pt x="815" y="538"/>
                    </a:lnTo>
                    <a:lnTo>
                      <a:pt x="802" y="546"/>
                    </a:lnTo>
                    <a:lnTo>
                      <a:pt x="785" y="551"/>
                    </a:lnTo>
                    <a:lnTo>
                      <a:pt x="764" y="559"/>
                    </a:lnTo>
                    <a:lnTo>
                      <a:pt x="747" y="412"/>
                    </a:lnTo>
                    <a:lnTo>
                      <a:pt x="496" y="612"/>
                    </a:lnTo>
                    <a:lnTo>
                      <a:pt x="494" y="610"/>
                    </a:lnTo>
                    <a:lnTo>
                      <a:pt x="490" y="606"/>
                    </a:lnTo>
                    <a:lnTo>
                      <a:pt x="485" y="599"/>
                    </a:lnTo>
                    <a:lnTo>
                      <a:pt x="479" y="589"/>
                    </a:lnTo>
                    <a:lnTo>
                      <a:pt x="469" y="578"/>
                    </a:lnTo>
                    <a:lnTo>
                      <a:pt x="462" y="565"/>
                    </a:lnTo>
                    <a:lnTo>
                      <a:pt x="452" y="549"/>
                    </a:lnTo>
                    <a:lnTo>
                      <a:pt x="441" y="534"/>
                    </a:lnTo>
                    <a:lnTo>
                      <a:pt x="429" y="515"/>
                    </a:lnTo>
                    <a:lnTo>
                      <a:pt x="420" y="496"/>
                    </a:lnTo>
                    <a:lnTo>
                      <a:pt x="408" y="475"/>
                    </a:lnTo>
                    <a:lnTo>
                      <a:pt x="399" y="456"/>
                    </a:lnTo>
                    <a:lnTo>
                      <a:pt x="389" y="432"/>
                    </a:lnTo>
                    <a:lnTo>
                      <a:pt x="382" y="411"/>
                    </a:lnTo>
                    <a:lnTo>
                      <a:pt x="374" y="388"/>
                    </a:lnTo>
                    <a:lnTo>
                      <a:pt x="370" y="365"/>
                    </a:lnTo>
                    <a:lnTo>
                      <a:pt x="365" y="344"/>
                    </a:lnTo>
                    <a:lnTo>
                      <a:pt x="363" y="321"/>
                    </a:lnTo>
                    <a:lnTo>
                      <a:pt x="363" y="302"/>
                    </a:lnTo>
                    <a:lnTo>
                      <a:pt x="365" y="285"/>
                    </a:lnTo>
                    <a:lnTo>
                      <a:pt x="365" y="268"/>
                    </a:lnTo>
                    <a:lnTo>
                      <a:pt x="369" y="253"/>
                    </a:lnTo>
                    <a:lnTo>
                      <a:pt x="372" y="238"/>
                    </a:lnTo>
                    <a:lnTo>
                      <a:pt x="376" y="222"/>
                    </a:lnTo>
                    <a:lnTo>
                      <a:pt x="380" y="207"/>
                    </a:lnTo>
                    <a:lnTo>
                      <a:pt x="384" y="194"/>
                    </a:lnTo>
                    <a:lnTo>
                      <a:pt x="386" y="181"/>
                    </a:lnTo>
                    <a:lnTo>
                      <a:pt x="389" y="167"/>
                    </a:lnTo>
                    <a:lnTo>
                      <a:pt x="389" y="152"/>
                    </a:lnTo>
                    <a:lnTo>
                      <a:pt x="391" y="139"/>
                    </a:lnTo>
                    <a:lnTo>
                      <a:pt x="389" y="124"/>
                    </a:lnTo>
                    <a:lnTo>
                      <a:pt x="388" y="110"/>
                    </a:lnTo>
                    <a:lnTo>
                      <a:pt x="382" y="95"/>
                    </a:lnTo>
                    <a:lnTo>
                      <a:pt x="376" y="82"/>
                    </a:lnTo>
                    <a:lnTo>
                      <a:pt x="369" y="68"/>
                    </a:lnTo>
                    <a:lnTo>
                      <a:pt x="361" y="57"/>
                    </a:lnTo>
                    <a:lnTo>
                      <a:pt x="351" y="46"/>
                    </a:lnTo>
                    <a:lnTo>
                      <a:pt x="342" y="34"/>
                    </a:lnTo>
                    <a:lnTo>
                      <a:pt x="329" y="27"/>
                    </a:lnTo>
                    <a:lnTo>
                      <a:pt x="317" y="19"/>
                    </a:lnTo>
                    <a:lnTo>
                      <a:pt x="304" y="11"/>
                    </a:lnTo>
                    <a:lnTo>
                      <a:pt x="291" y="8"/>
                    </a:lnTo>
                    <a:lnTo>
                      <a:pt x="275" y="4"/>
                    </a:lnTo>
                    <a:lnTo>
                      <a:pt x="260" y="2"/>
                    </a:lnTo>
                    <a:lnTo>
                      <a:pt x="243" y="0"/>
                    </a:lnTo>
                    <a:lnTo>
                      <a:pt x="228" y="2"/>
                    </a:lnTo>
                    <a:lnTo>
                      <a:pt x="211" y="6"/>
                    </a:lnTo>
                    <a:lnTo>
                      <a:pt x="194" y="11"/>
                    </a:lnTo>
                    <a:lnTo>
                      <a:pt x="177" y="17"/>
                    </a:lnTo>
                    <a:lnTo>
                      <a:pt x="163" y="21"/>
                    </a:lnTo>
                    <a:lnTo>
                      <a:pt x="150" y="27"/>
                    </a:lnTo>
                    <a:lnTo>
                      <a:pt x="140" y="32"/>
                    </a:lnTo>
                    <a:lnTo>
                      <a:pt x="131" y="38"/>
                    </a:lnTo>
                    <a:lnTo>
                      <a:pt x="125" y="42"/>
                    </a:lnTo>
                    <a:lnTo>
                      <a:pt x="120" y="46"/>
                    </a:lnTo>
                    <a:lnTo>
                      <a:pt x="116" y="51"/>
                    </a:lnTo>
                    <a:lnTo>
                      <a:pt x="112" y="59"/>
                    </a:lnTo>
                    <a:lnTo>
                      <a:pt x="110" y="65"/>
                    </a:lnTo>
                    <a:lnTo>
                      <a:pt x="110" y="68"/>
                    </a:lnTo>
                    <a:lnTo>
                      <a:pt x="110" y="70"/>
                    </a:lnTo>
                    <a:lnTo>
                      <a:pt x="110" y="7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205400">
                <a:off x="7487280" y="1147320"/>
                <a:ext cx="815040" cy="1899360"/>
              </a:xfrm>
              <a:custGeom>
                <a:avLst/>
                <a:gdLst/>
                <a:ahLst/>
                <a:rect l="l" t="t" r="r" b="b"/>
                <a:pathLst>
                  <a:path w="953" h="2217">
                    <a:moveTo>
                      <a:pt x="333" y="2"/>
                    </a:moveTo>
                    <a:lnTo>
                      <a:pt x="327" y="0"/>
                    </a:lnTo>
                    <a:lnTo>
                      <a:pt x="318" y="0"/>
                    </a:lnTo>
                    <a:lnTo>
                      <a:pt x="301" y="0"/>
                    </a:lnTo>
                    <a:lnTo>
                      <a:pt x="280" y="0"/>
                    </a:lnTo>
                    <a:lnTo>
                      <a:pt x="253" y="0"/>
                    </a:lnTo>
                    <a:lnTo>
                      <a:pt x="225" y="4"/>
                    </a:lnTo>
                    <a:lnTo>
                      <a:pt x="194" y="7"/>
                    </a:lnTo>
                    <a:lnTo>
                      <a:pt x="164" y="15"/>
                    </a:lnTo>
                    <a:lnTo>
                      <a:pt x="131" y="23"/>
                    </a:lnTo>
                    <a:lnTo>
                      <a:pt x="101" y="36"/>
                    </a:lnTo>
                    <a:lnTo>
                      <a:pt x="74" y="51"/>
                    </a:lnTo>
                    <a:lnTo>
                      <a:pt x="50" y="70"/>
                    </a:lnTo>
                    <a:lnTo>
                      <a:pt x="29" y="93"/>
                    </a:lnTo>
                    <a:lnTo>
                      <a:pt x="14" y="121"/>
                    </a:lnTo>
                    <a:lnTo>
                      <a:pt x="2" y="154"/>
                    </a:lnTo>
                    <a:lnTo>
                      <a:pt x="0" y="192"/>
                    </a:lnTo>
                    <a:lnTo>
                      <a:pt x="6" y="211"/>
                    </a:lnTo>
                    <a:lnTo>
                      <a:pt x="27" y="262"/>
                    </a:lnTo>
                    <a:lnTo>
                      <a:pt x="57" y="344"/>
                    </a:lnTo>
                    <a:lnTo>
                      <a:pt x="97" y="450"/>
                    </a:lnTo>
                    <a:lnTo>
                      <a:pt x="145" y="578"/>
                    </a:lnTo>
                    <a:lnTo>
                      <a:pt x="202" y="718"/>
                    </a:lnTo>
                    <a:lnTo>
                      <a:pt x="261" y="872"/>
                    </a:lnTo>
                    <a:lnTo>
                      <a:pt x="323" y="1032"/>
                    </a:lnTo>
                    <a:lnTo>
                      <a:pt x="386" y="1194"/>
                    </a:lnTo>
                    <a:lnTo>
                      <a:pt x="451" y="1351"/>
                    </a:lnTo>
                    <a:lnTo>
                      <a:pt x="512" y="1502"/>
                    </a:lnTo>
                    <a:lnTo>
                      <a:pt x="570" y="1640"/>
                    </a:lnTo>
                    <a:lnTo>
                      <a:pt x="622" y="1760"/>
                    </a:lnTo>
                    <a:lnTo>
                      <a:pt x="669" y="1861"/>
                    </a:lnTo>
                    <a:lnTo>
                      <a:pt x="705" y="1935"/>
                    </a:lnTo>
                    <a:lnTo>
                      <a:pt x="734" y="1981"/>
                    </a:lnTo>
                    <a:lnTo>
                      <a:pt x="736" y="1981"/>
                    </a:lnTo>
                    <a:lnTo>
                      <a:pt x="742" y="1987"/>
                    </a:lnTo>
                    <a:lnTo>
                      <a:pt x="749" y="1994"/>
                    </a:lnTo>
                    <a:lnTo>
                      <a:pt x="762" y="2006"/>
                    </a:lnTo>
                    <a:lnTo>
                      <a:pt x="776" y="2017"/>
                    </a:lnTo>
                    <a:lnTo>
                      <a:pt x="791" y="2032"/>
                    </a:lnTo>
                    <a:lnTo>
                      <a:pt x="808" y="2049"/>
                    </a:lnTo>
                    <a:lnTo>
                      <a:pt x="827" y="2066"/>
                    </a:lnTo>
                    <a:lnTo>
                      <a:pt x="844" y="2085"/>
                    </a:lnTo>
                    <a:lnTo>
                      <a:pt x="863" y="2104"/>
                    </a:lnTo>
                    <a:lnTo>
                      <a:pt x="880" y="2123"/>
                    </a:lnTo>
                    <a:lnTo>
                      <a:pt x="899" y="2144"/>
                    </a:lnTo>
                    <a:lnTo>
                      <a:pt x="916" y="2163"/>
                    </a:lnTo>
                    <a:lnTo>
                      <a:pt x="932" y="2182"/>
                    </a:lnTo>
                    <a:lnTo>
                      <a:pt x="943" y="2199"/>
                    </a:lnTo>
                    <a:lnTo>
                      <a:pt x="953" y="2217"/>
                    </a:lnTo>
                    <a:lnTo>
                      <a:pt x="953" y="1901"/>
                    </a:lnTo>
                    <a:lnTo>
                      <a:pt x="810" y="1372"/>
                    </a:lnTo>
                    <a:lnTo>
                      <a:pt x="333" y="2"/>
                    </a:lnTo>
                    <a:lnTo>
                      <a:pt x="333" y="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205400">
                <a:off x="7592400" y="1338120"/>
                <a:ext cx="599040" cy="1462680"/>
              </a:xfrm>
              <a:custGeom>
                <a:avLst/>
                <a:gdLst/>
                <a:ahLst/>
                <a:rect l="l" t="t" r="r" b="b"/>
                <a:pathLst>
                  <a:path w="700" h="1709">
                    <a:moveTo>
                      <a:pt x="36" y="29"/>
                    </a:moveTo>
                    <a:lnTo>
                      <a:pt x="42" y="44"/>
                    </a:lnTo>
                    <a:lnTo>
                      <a:pt x="61" y="89"/>
                    </a:lnTo>
                    <a:lnTo>
                      <a:pt x="88" y="162"/>
                    </a:lnTo>
                    <a:lnTo>
                      <a:pt x="124" y="257"/>
                    </a:lnTo>
                    <a:lnTo>
                      <a:pt x="168" y="369"/>
                    </a:lnTo>
                    <a:lnTo>
                      <a:pt x="217" y="494"/>
                    </a:lnTo>
                    <a:lnTo>
                      <a:pt x="270" y="631"/>
                    </a:lnTo>
                    <a:lnTo>
                      <a:pt x="327" y="776"/>
                    </a:lnTo>
                    <a:lnTo>
                      <a:pt x="384" y="922"/>
                    </a:lnTo>
                    <a:lnTo>
                      <a:pt x="441" y="1069"/>
                    </a:lnTo>
                    <a:lnTo>
                      <a:pt x="496" y="1209"/>
                    </a:lnTo>
                    <a:lnTo>
                      <a:pt x="550" y="1344"/>
                    </a:lnTo>
                    <a:lnTo>
                      <a:pt x="597" y="1462"/>
                    </a:lnTo>
                    <a:lnTo>
                      <a:pt x="639" y="1565"/>
                    </a:lnTo>
                    <a:lnTo>
                      <a:pt x="673" y="1648"/>
                    </a:lnTo>
                    <a:lnTo>
                      <a:pt x="700" y="1709"/>
                    </a:lnTo>
                    <a:lnTo>
                      <a:pt x="698" y="1707"/>
                    </a:lnTo>
                    <a:lnTo>
                      <a:pt x="694" y="1702"/>
                    </a:lnTo>
                    <a:lnTo>
                      <a:pt x="687" y="1694"/>
                    </a:lnTo>
                    <a:lnTo>
                      <a:pt x="679" y="1683"/>
                    </a:lnTo>
                    <a:lnTo>
                      <a:pt x="666" y="1666"/>
                    </a:lnTo>
                    <a:lnTo>
                      <a:pt x="650" y="1645"/>
                    </a:lnTo>
                    <a:lnTo>
                      <a:pt x="633" y="1618"/>
                    </a:lnTo>
                    <a:lnTo>
                      <a:pt x="616" y="1586"/>
                    </a:lnTo>
                    <a:lnTo>
                      <a:pt x="592" y="1546"/>
                    </a:lnTo>
                    <a:lnTo>
                      <a:pt x="569" y="1502"/>
                    </a:lnTo>
                    <a:lnTo>
                      <a:pt x="540" y="1449"/>
                    </a:lnTo>
                    <a:lnTo>
                      <a:pt x="512" y="1392"/>
                    </a:lnTo>
                    <a:lnTo>
                      <a:pt x="479" y="1323"/>
                    </a:lnTo>
                    <a:lnTo>
                      <a:pt x="445" y="1249"/>
                    </a:lnTo>
                    <a:lnTo>
                      <a:pt x="407" y="1166"/>
                    </a:lnTo>
                    <a:lnTo>
                      <a:pt x="369" y="1074"/>
                    </a:lnTo>
                    <a:lnTo>
                      <a:pt x="329" y="977"/>
                    </a:lnTo>
                    <a:lnTo>
                      <a:pt x="291" y="882"/>
                    </a:lnTo>
                    <a:lnTo>
                      <a:pt x="253" y="791"/>
                    </a:lnTo>
                    <a:lnTo>
                      <a:pt x="221" y="705"/>
                    </a:lnTo>
                    <a:lnTo>
                      <a:pt x="187" y="620"/>
                    </a:lnTo>
                    <a:lnTo>
                      <a:pt x="158" y="540"/>
                    </a:lnTo>
                    <a:lnTo>
                      <a:pt x="130" y="464"/>
                    </a:lnTo>
                    <a:lnTo>
                      <a:pt x="105" y="396"/>
                    </a:lnTo>
                    <a:lnTo>
                      <a:pt x="80" y="329"/>
                    </a:lnTo>
                    <a:lnTo>
                      <a:pt x="59" y="270"/>
                    </a:lnTo>
                    <a:lnTo>
                      <a:pt x="42" y="217"/>
                    </a:lnTo>
                    <a:lnTo>
                      <a:pt x="27" y="171"/>
                    </a:lnTo>
                    <a:lnTo>
                      <a:pt x="16" y="131"/>
                    </a:lnTo>
                    <a:lnTo>
                      <a:pt x="6" y="99"/>
                    </a:lnTo>
                    <a:lnTo>
                      <a:pt x="0" y="74"/>
                    </a:lnTo>
                    <a:lnTo>
                      <a:pt x="0" y="59"/>
                    </a:lnTo>
                    <a:lnTo>
                      <a:pt x="0" y="46"/>
                    </a:lnTo>
                    <a:lnTo>
                      <a:pt x="0" y="36"/>
                    </a:lnTo>
                    <a:lnTo>
                      <a:pt x="0" y="25"/>
                    </a:lnTo>
                    <a:lnTo>
                      <a:pt x="2" y="19"/>
                    </a:lnTo>
                    <a:lnTo>
                      <a:pt x="4" y="11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7" y="0"/>
                    </a:lnTo>
                    <a:lnTo>
                      <a:pt x="23" y="4"/>
                    </a:lnTo>
                    <a:lnTo>
                      <a:pt x="27" y="8"/>
                    </a:lnTo>
                    <a:lnTo>
                      <a:pt x="31" y="13"/>
                    </a:lnTo>
                    <a:lnTo>
                      <a:pt x="33" y="19"/>
                    </a:lnTo>
                    <a:lnTo>
                      <a:pt x="36" y="29"/>
                    </a:lnTo>
                    <a:lnTo>
                      <a:pt x="36" y="29"/>
                    </a:lnTo>
                    <a:close/>
                  </a:path>
                </a:pathLst>
              </a:custGeom>
              <a:solidFill>
                <a:srgbClr val="e8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205400">
                <a:off x="7477560" y="1142640"/>
                <a:ext cx="835920" cy="1914840"/>
              </a:xfrm>
              <a:custGeom>
                <a:avLst/>
                <a:gdLst/>
                <a:ahLst/>
                <a:rect l="l" t="t" r="r" b="b"/>
                <a:pathLst>
                  <a:path w="975" h="2238">
                    <a:moveTo>
                      <a:pt x="85" y="365"/>
                    </a:moveTo>
                    <a:lnTo>
                      <a:pt x="85" y="361"/>
                    </a:lnTo>
                    <a:lnTo>
                      <a:pt x="85" y="356"/>
                    </a:lnTo>
                    <a:lnTo>
                      <a:pt x="85" y="344"/>
                    </a:lnTo>
                    <a:lnTo>
                      <a:pt x="85" y="333"/>
                    </a:lnTo>
                    <a:lnTo>
                      <a:pt x="85" y="316"/>
                    </a:lnTo>
                    <a:lnTo>
                      <a:pt x="87" y="299"/>
                    </a:lnTo>
                    <a:lnTo>
                      <a:pt x="87" y="280"/>
                    </a:lnTo>
                    <a:lnTo>
                      <a:pt x="89" y="261"/>
                    </a:lnTo>
                    <a:lnTo>
                      <a:pt x="91" y="242"/>
                    </a:lnTo>
                    <a:lnTo>
                      <a:pt x="93" y="223"/>
                    </a:lnTo>
                    <a:lnTo>
                      <a:pt x="97" y="204"/>
                    </a:lnTo>
                    <a:lnTo>
                      <a:pt x="100" y="185"/>
                    </a:lnTo>
                    <a:lnTo>
                      <a:pt x="104" y="169"/>
                    </a:lnTo>
                    <a:lnTo>
                      <a:pt x="110" y="158"/>
                    </a:lnTo>
                    <a:lnTo>
                      <a:pt x="118" y="147"/>
                    </a:lnTo>
                    <a:lnTo>
                      <a:pt x="125" y="143"/>
                    </a:lnTo>
                    <a:lnTo>
                      <a:pt x="131" y="139"/>
                    </a:lnTo>
                    <a:lnTo>
                      <a:pt x="140" y="141"/>
                    </a:lnTo>
                    <a:lnTo>
                      <a:pt x="150" y="147"/>
                    </a:lnTo>
                    <a:lnTo>
                      <a:pt x="161" y="154"/>
                    </a:lnTo>
                    <a:lnTo>
                      <a:pt x="171" y="164"/>
                    </a:lnTo>
                    <a:lnTo>
                      <a:pt x="182" y="177"/>
                    </a:lnTo>
                    <a:lnTo>
                      <a:pt x="194" y="190"/>
                    </a:lnTo>
                    <a:lnTo>
                      <a:pt x="205" y="205"/>
                    </a:lnTo>
                    <a:lnTo>
                      <a:pt x="215" y="219"/>
                    </a:lnTo>
                    <a:lnTo>
                      <a:pt x="224" y="234"/>
                    </a:lnTo>
                    <a:lnTo>
                      <a:pt x="234" y="245"/>
                    </a:lnTo>
                    <a:lnTo>
                      <a:pt x="241" y="259"/>
                    </a:lnTo>
                    <a:lnTo>
                      <a:pt x="247" y="270"/>
                    </a:lnTo>
                    <a:lnTo>
                      <a:pt x="253" y="278"/>
                    </a:lnTo>
                    <a:lnTo>
                      <a:pt x="256" y="283"/>
                    </a:lnTo>
                    <a:lnTo>
                      <a:pt x="258" y="285"/>
                    </a:lnTo>
                    <a:lnTo>
                      <a:pt x="262" y="301"/>
                    </a:lnTo>
                    <a:lnTo>
                      <a:pt x="279" y="346"/>
                    </a:lnTo>
                    <a:lnTo>
                      <a:pt x="304" y="416"/>
                    </a:lnTo>
                    <a:lnTo>
                      <a:pt x="336" y="508"/>
                    </a:lnTo>
                    <a:lnTo>
                      <a:pt x="374" y="616"/>
                    </a:lnTo>
                    <a:lnTo>
                      <a:pt x="418" y="738"/>
                    </a:lnTo>
                    <a:lnTo>
                      <a:pt x="465" y="867"/>
                    </a:lnTo>
                    <a:lnTo>
                      <a:pt x="515" y="1002"/>
                    </a:lnTo>
                    <a:lnTo>
                      <a:pt x="562" y="1137"/>
                    </a:lnTo>
                    <a:lnTo>
                      <a:pt x="612" y="1270"/>
                    </a:lnTo>
                    <a:lnTo>
                      <a:pt x="657" y="1396"/>
                    </a:lnTo>
                    <a:lnTo>
                      <a:pt x="699" y="1510"/>
                    </a:lnTo>
                    <a:lnTo>
                      <a:pt x="737" y="1609"/>
                    </a:lnTo>
                    <a:lnTo>
                      <a:pt x="768" y="1688"/>
                    </a:lnTo>
                    <a:lnTo>
                      <a:pt x="789" y="1745"/>
                    </a:lnTo>
                    <a:lnTo>
                      <a:pt x="802" y="1774"/>
                    </a:lnTo>
                    <a:lnTo>
                      <a:pt x="798" y="1763"/>
                    </a:lnTo>
                    <a:lnTo>
                      <a:pt x="790" y="1732"/>
                    </a:lnTo>
                    <a:lnTo>
                      <a:pt x="775" y="1683"/>
                    </a:lnTo>
                    <a:lnTo>
                      <a:pt x="758" y="1618"/>
                    </a:lnTo>
                    <a:lnTo>
                      <a:pt x="733" y="1540"/>
                    </a:lnTo>
                    <a:lnTo>
                      <a:pt x="707" y="1449"/>
                    </a:lnTo>
                    <a:lnTo>
                      <a:pt x="678" y="1348"/>
                    </a:lnTo>
                    <a:lnTo>
                      <a:pt x="646" y="1240"/>
                    </a:lnTo>
                    <a:lnTo>
                      <a:pt x="608" y="1124"/>
                    </a:lnTo>
                    <a:lnTo>
                      <a:pt x="574" y="1004"/>
                    </a:lnTo>
                    <a:lnTo>
                      <a:pt x="536" y="880"/>
                    </a:lnTo>
                    <a:lnTo>
                      <a:pt x="496" y="759"/>
                    </a:lnTo>
                    <a:lnTo>
                      <a:pt x="458" y="635"/>
                    </a:lnTo>
                    <a:lnTo>
                      <a:pt x="418" y="517"/>
                    </a:lnTo>
                    <a:lnTo>
                      <a:pt x="380" y="405"/>
                    </a:lnTo>
                    <a:lnTo>
                      <a:pt x="344" y="301"/>
                    </a:lnTo>
                    <a:lnTo>
                      <a:pt x="313" y="215"/>
                    </a:lnTo>
                    <a:lnTo>
                      <a:pt x="298" y="171"/>
                    </a:lnTo>
                    <a:lnTo>
                      <a:pt x="296" y="160"/>
                    </a:lnTo>
                    <a:lnTo>
                      <a:pt x="308" y="177"/>
                    </a:lnTo>
                    <a:lnTo>
                      <a:pt x="327" y="221"/>
                    </a:lnTo>
                    <a:lnTo>
                      <a:pt x="355" y="287"/>
                    </a:lnTo>
                    <a:lnTo>
                      <a:pt x="391" y="373"/>
                    </a:lnTo>
                    <a:lnTo>
                      <a:pt x="433" y="474"/>
                    </a:lnTo>
                    <a:lnTo>
                      <a:pt x="477" y="586"/>
                    </a:lnTo>
                    <a:lnTo>
                      <a:pt x="524" y="707"/>
                    </a:lnTo>
                    <a:lnTo>
                      <a:pt x="572" y="833"/>
                    </a:lnTo>
                    <a:lnTo>
                      <a:pt x="619" y="960"/>
                    </a:lnTo>
                    <a:lnTo>
                      <a:pt x="663" y="1084"/>
                    </a:lnTo>
                    <a:lnTo>
                      <a:pt x="705" y="1202"/>
                    </a:lnTo>
                    <a:lnTo>
                      <a:pt x="741" y="1310"/>
                    </a:lnTo>
                    <a:lnTo>
                      <a:pt x="771" y="1405"/>
                    </a:lnTo>
                    <a:lnTo>
                      <a:pt x="794" y="1489"/>
                    </a:lnTo>
                    <a:lnTo>
                      <a:pt x="817" y="1565"/>
                    </a:lnTo>
                    <a:lnTo>
                      <a:pt x="834" y="1633"/>
                    </a:lnTo>
                    <a:lnTo>
                      <a:pt x="851" y="1696"/>
                    </a:lnTo>
                    <a:lnTo>
                      <a:pt x="863" y="1751"/>
                    </a:lnTo>
                    <a:lnTo>
                      <a:pt x="872" y="1801"/>
                    </a:lnTo>
                    <a:lnTo>
                      <a:pt x="882" y="1844"/>
                    </a:lnTo>
                    <a:lnTo>
                      <a:pt x="889" y="1884"/>
                    </a:lnTo>
                    <a:lnTo>
                      <a:pt x="893" y="1917"/>
                    </a:lnTo>
                    <a:lnTo>
                      <a:pt x="897" y="1945"/>
                    </a:lnTo>
                    <a:lnTo>
                      <a:pt x="899" y="1966"/>
                    </a:lnTo>
                    <a:lnTo>
                      <a:pt x="901" y="1985"/>
                    </a:lnTo>
                    <a:lnTo>
                      <a:pt x="901" y="1998"/>
                    </a:lnTo>
                    <a:lnTo>
                      <a:pt x="901" y="2008"/>
                    </a:lnTo>
                    <a:lnTo>
                      <a:pt x="901" y="2014"/>
                    </a:lnTo>
                    <a:lnTo>
                      <a:pt x="903" y="2015"/>
                    </a:lnTo>
                    <a:lnTo>
                      <a:pt x="901" y="2015"/>
                    </a:lnTo>
                    <a:lnTo>
                      <a:pt x="895" y="2014"/>
                    </a:lnTo>
                    <a:lnTo>
                      <a:pt x="887" y="2012"/>
                    </a:lnTo>
                    <a:lnTo>
                      <a:pt x="880" y="2010"/>
                    </a:lnTo>
                    <a:lnTo>
                      <a:pt x="866" y="2006"/>
                    </a:lnTo>
                    <a:lnTo>
                      <a:pt x="853" y="2000"/>
                    </a:lnTo>
                    <a:lnTo>
                      <a:pt x="838" y="1993"/>
                    </a:lnTo>
                    <a:lnTo>
                      <a:pt x="823" y="1987"/>
                    </a:lnTo>
                    <a:lnTo>
                      <a:pt x="806" y="1975"/>
                    </a:lnTo>
                    <a:lnTo>
                      <a:pt x="789" y="1966"/>
                    </a:lnTo>
                    <a:lnTo>
                      <a:pt x="770" y="1953"/>
                    </a:lnTo>
                    <a:lnTo>
                      <a:pt x="751" y="1939"/>
                    </a:lnTo>
                    <a:lnTo>
                      <a:pt x="732" y="1922"/>
                    </a:lnTo>
                    <a:lnTo>
                      <a:pt x="714" y="1905"/>
                    </a:lnTo>
                    <a:lnTo>
                      <a:pt x="695" y="1886"/>
                    </a:lnTo>
                    <a:lnTo>
                      <a:pt x="680" y="1865"/>
                    </a:lnTo>
                    <a:lnTo>
                      <a:pt x="682" y="1869"/>
                    </a:lnTo>
                    <a:lnTo>
                      <a:pt x="684" y="1873"/>
                    </a:lnTo>
                    <a:lnTo>
                      <a:pt x="688" y="1882"/>
                    </a:lnTo>
                    <a:lnTo>
                      <a:pt x="692" y="1890"/>
                    </a:lnTo>
                    <a:lnTo>
                      <a:pt x="695" y="1899"/>
                    </a:lnTo>
                    <a:lnTo>
                      <a:pt x="701" y="1911"/>
                    </a:lnTo>
                    <a:lnTo>
                      <a:pt x="709" y="1922"/>
                    </a:lnTo>
                    <a:lnTo>
                      <a:pt x="713" y="1934"/>
                    </a:lnTo>
                    <a:lnTo>
                      <a:pt x="720" y="1947"/>
                    </a:lnTo>
                    <a:lnTo>
                      <a:pt x="726" y="1958"/>
                    </a:lnTo>
                    <a:lnTo>
                      <a:pt x="732" y="1970"/>
                    </a:lnTo>
                    <a:lnTo>
                      <a:pt x="737" y="1979"/>
                    </a:lnTo>
                    <a:lnTo>
                      <a:pt x="743" y="1991"/>
                    </a:lnTo>
                    <a:lnTo>
                      <a:pt x="747" y="1998"/>
                    </a:lnTo>
                    <a:lnTo>
                      <a:pt x="754" y="2008"/>
                    </a:lnTo>
                    <a:lnTo>
                      <a:pt x="758" y="2014"/>
                    </a:lnTo>
                    <a:lnTo>
                      <a:pt x="770" y="2025"/>
                    </a:lnTo>
                    <a:lnTo>
                      <a:pt x="781" y="2040"/>
                    </a:lnTo>
                    <a:lnTo>
                      <a:pt x="796" y="2057"/>
                    </a:lnTo>
                    <a:lnTo>
                      <a:pt x="813" y="2074"/>
                    </a:lnTo>
                    <a:lnTo>
                      <a:pt x="832" y="2095"/>
                    </a:lnTo>
                    <a:lnTo>
                      <a:pt x="851" y="2114"/>
                    </a:lnTo>
                    <a:lnTo>
                      <a:pt x="870" y="2135"/>
                    </a:lnTo>
                    <a:lnTo>
                      <a:pt x="889" y="2154"/>
                    </a:lnTo>
                    <a:lnTo>
                      <a:pt x="908" y="2173"/>
                    </a:lnTo>
                    <a:lnTo>
                      <a:pt x="925" y="2190"/>
                    </a:lnTo>
                    <a:lnTo>
                      <a:pt x="941" y="2206"/>
                    </a:lnTo>
                    <a:lnTo>
                      <a:pt x="954" y="2219"/>
                    </a:lnTo>
                    <a:lnTo>
                      <a:pt x="963" y="2228"/>
                    </a:lnTo>
                    <a:lnTo>
                      <a:pt x="969" y="2234"/>
                    </a:lnTo>
                    <a:lnTo>
                      <a:pt x="973" y="2238"/>
                    </a:lnTo>
                    <a:lnTo>
                      <a:pt x="973" y="2234"/>
                    </a:lnTo>
                    <a:lnTo>
                      <a:pt x="973" y="2226"/>
                    </a:lnTo>
                    <a:lnTo>
                      <a:pt x="973" y="2215"/>
                    </a:lnTo>
                    <a:lnTo>
                      <a:pt x="973" y="2198"/>
                    </a:lnTo>
                    <a:lnTo>
                      <a:pt x="973" y="2179"/>
                    </a:lnTo>
                    <a:lnTo>
                      <a:pt x="973" y="2158"/>
                    </a:lnTo>
                    <a:lnTo>
                      <a:pt x="973" y="2133"/>
                    </a:lnTo>
                    <a:lnTo>
                      <a:pt x="975" y="2107"/>
                    </a:lnTo>
                    <a:lnTo>
                      <a:pt x="973" y="2078"/>
                    </a:lnTo>
                    <a:lnTo>
                      <a:pt x="973" y="2050"/>
                    </a:lnTo>
                    <a:lnTo>
                      <a:pt x="971" y="2021"/>
                    </a:lnTo>
                    <a:lnTo>
                      <a:pt x="971" y="1993"/>
                    </a:lnTo>
                    <a:lnTo>
                      <a:pt x="967" y="1962"/>
                    </a:lnTo>
                    <a:lnTo>
                      <a:pt x="965" y="1936"/>
                    </a:lnTo>
                    <a:lnTo>
                      <a:pt x="962" y="1911"/>
                    </a:lnTo>
                    <a:lnTo>
                      <a:pt x="958" y="1888"/>
                    </a:lnTo>
                    <a:lnTo>
                      <a:pt x="952" y="1861"/>
                    </a:lnTo>
                    <a:lnTo>
                      <a:pt x="944" y="1829"/>
                    </a:lnTo>
                    <a:lnTo>
                      <a:pt x="935" y="1793"/>
                    </a:lnTo>
                    <a:lnTo>
                      <a:pt x="927" y="1751"/>
                    </a:lnTo>
                    <a:lnTo>
                      <a:pt x="914" y="1707"/>
                    </a:lnTo>
                    <a:lnTo>
                      <a:pt x="903" y="1660"/>
                    </a:lnTo>
                    <a:lnTo>
                      <a:pt x="889" y="1610"/>
                    </a:lnTo>
                    <a:lnTo>
                      <a:pt x="878" y="1561"/>
                    </a:lnTo>
                    <a:lnTo>
                      <a:pt x="863" y="1508"/>
                    </a:lnTo>
                    <a:lnTo>
                      <a:pt x="849" y="1458"/>
                    </a:lnTo>
                    <a:lnTo>
                      <a:pt x="834" y="1409"/>
                    </a:lnTo>
                    <a:lnTo>
                      <a:pt x="821" y="1363"/>
                    </a:lnTo>
                    <a:lnTo>
                      <a:pt x="808" y="1320"/>
                    </a:lnTo>
                    <a:lnTo>
                      <a:pt x="794" y="1280"/>
                    </a:lnTo>
                    <a:lnTo>
                      <a:pt x="783" y="1245"/>
                    </a:lnTo>
                    <a:lnTo>
                      <a:pt x="771" y="1215"/>
                    </a:lnTo>
                    <a:lnTo>
                      <a:pt x="756" y="1177"/>
                    </a:lnTo>
                    <a:lnTo>
                      <a:pt x="737" y="1122"/>
                    </a:lnTo>
                    <a:lnTo>
                      <a:pt x="711" y="1050"/>
                    </a:lnTo>
                    <a:lnTo>
                      <a:pt x="680" y="966"/>
                    </a:lnTo>
                    <a:lnTo>
                      <a:pt x="646" y="869"/>
                    </a:lnTo>
                    <a:lnTo>
                      <a:pt x="610" y="768"/>
                    </a:lnTo>
                    <a:lnTo>
                      <a:pt x="572" y="664"/>
                    </a:lnTo>
                    <a:lnTo>
                      <a:pt x="536" y="557"/>
                    </a:lnTo>
                    <a:lnTo>
                      <a:pt x="498" y="451"/>
                    </a:lnTo>
                    <a:lnTo>
                      <a:pt x="464" y="348"/>
                    </a:lnTo>
                    <a:lnTo>
                      <a:pt x="431" y="255"/>
                    </a:lnTo>
                    <a:lnTo>
                      <a:pt x="403" y="173"/>
                    </a:lnTo>
                    <a:lnTo>
                      <a:pt x="376" y="103"/>
                    </a:lnTo>
                    <a:lnTo>
                      <a:pt x="359" y="50"/>
                    </a:lnTo>
                    <a:lnTo>
                      <a:pt x="348" y="15"/>
                    </a:lnTo>
                    <a:lnTo>
                      <a:pt x="344" y="4"/>
                    </a:lnTo>
                    <a:lnTo>
                      <a:pt x="342" y="4"/>
                    </a:lnTo>
                    <a:lnTo>
                      <a:pt x="338" y="2"/>
                    </a:lnTo>
                    <a:lnTo>
                      <a:pt x="332" y="0"/>
                    </a:lnTo>
                    <a:lnTo>
                      <a:pt x="327" y="0"/>
                    </a:lnTo>
                    <a:lnTo>
                      <a:pt x="317" y="0"/>
                    </a:lnTo>
                    <a:lnTo>
                      <a:pt x="306" y="0"/>
                    </a:lnTo>
                    <a:lnTo>
                      <a:pt x="294" y="0"/>
                    </a:lnTo>
                    <a:lnTo>
                      <a:pt x="281" y="2"/>
                    </a:lnTo>
                    <a:lnTo>
                      <a:pt x="266" y="2"/>
                    </a:lnTo>
                    <a:lnTo>
                      <a:pt x="249" y="6"/>
                    </a:lnTo>
                    <a:lnTo>
                      <a:pt x="232" y="8"/>
                    </a:lnTo>
                    <a:lnTo>
                      <a:pt x="215" y="13"/>
                    </a:lnTo>
                    <a:lnTo>
                      <a:pt x="195" y="21"/>
                    </a:lnTo>
                    <a:lnTo>
                      <a:pt x="176" y="29"/>
                    </a:lnTo>
                    <a:lnTo>
                      <a:pt x="156" y="38"/>
                    </a:lnTo>
                    <a:lnTo>
                      <a:pt x="135" y="51"/>
                    </a:lnTo>
                    <a:lnTo>
                      <a:pt x="114" y="61"/>
                    </a:lnTo>
                    <a:lnTo>
                      <a:pt x="95" y="74"/>
                    </a:lnTo>
                    <a:lnTo>
                      <a:pt x="80" y="86"/>
                    </a:lnTo>
                    <a:lnTo>
                      <a:pt x="64" y="97"/>
                    </a:lnTo>
                    <a:lnTo>
                      <a:pt x="51" y="105"/>
                    </a:lnTo>
                    <a:lnTo>
                      <a:pt x="42" y="116"/>
                    </a:lnTo>
                    <a:lnTo>
                      <a:pt x="30" y="124"/>
                    </a:lnTo>
                    <a:lnTo>
                      <a:pt x="24" y="133"/>
                    </a:lnTo>
                    <a:lnTo>
                      <a:pt x="17" y="139"/>
                    </a:lnTo>
                    <a:lnTo>
                      <a:pt x="11" y="147"/>
                    </a:lnTo>
                    <a:lnTo>
                      <a:pt x="7" y="150"/>
                    </a:lnTo>
                    <a:lnTo>
                      <a:pt x="4" y="156"/>
                    </a:lnTo>
                    <a:lnTo>
                      <a:pt x="0" y="162"/>
                    </a:lnTo>
                    <a:lnTo>
                      <a:pt x="0" y="166"/>
                    </a:lnTo>
                    <a:lnTo>
                      <a:pt x="85" y="365"/>
                    </a:lnTo>
                    <a:lnTo>
                      <a:pt x="85" y="36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205400">
                <a:off x="7768800" y="138600"/>
                <a:ext cx="279000" cy="286200"/>
              </a:xfrm>
              <a:custGeom>
                <a:avLst/>
                <a:gdLst/>
                <a:ahLst/>
                <a:rect l="l" t="t" r="r" b="b"/>
                <a:pathLst>
                  <a:path w="327" h="334">
                    <a:moveTo>
                      <a:pt x="318" y="186"/>
                    </a:moveTo>
                    <a:lnTo>
                      <a:pt x="316" y="186"/>
                    </a:lnTo>
                    <a:lnTo>
                      <a:pt x="314" y="190"/>
                    </a:lnTo>
                    <a:lnTo>
                      <a:pt x="308" y="195"/>
                    </a:lnTo>
                    <a:lnTo>
                      <a:pt x="302" y="203"/>
                    </a:lnTo>
                    <a:lnTo>
                      <a:pt x="295" y="212"/>
                    </a:lnTo>
                    <a:lnTo>
                      <a:pt x="285" y="220"/>
                    </a:lnTo>
                    <a:lnTo>
                      <a:pt x="276" y="230"/>
                    </a:lnTo>
                    <a:lnTo>
                      <a:pt x="264" y="239"/>
                    </a:lnTo>
                    <a:lnTo>
                      <a:pt x="249" y="249"/>
                    </a:lnTo>
                    <a:lnTo>
                      <a:pt x="234" y="256"/>
                    </a:lnTo>
                    <a:lnTo>
                      <a:pt x="219" y="262"/>
                    </a:lnTo>
                    <a:lnTo>
                      <a:pt x="202" y="266"/>
                    </a:lnTo>
                    <a:lnTo>
                      <a:pt x="181" y="268"/>
                    </a:lnTo>
                    <a:lnTo>
                      <a:pt x="160" y="268"/>
                    </a:lnTo>
                    <a:lnTo>
                      <a:pt x="139" y="264"/>
                    </a:lnTo>
                    <a:lnTo>
                      <a:pt x="116" y="256"/>
                    </a:lnTo>
                    <a:lnTo>
                      <a:pt x="95" y="245"/>
                    </a:lnTo>
                    <a:lnTo>
                      <a:pt x="78" y="231"/>
                    </a:lnTo>
                    <a:lnTo>
                      <a:pt x="63" y="212"/>
                    </a:lnTo>
                    <a:lnTo>
                      <a:pt x="55" y="193"/>
                    </a:lnTo>
                    <a:lnTo>
                      <a:pt x="48" y="171"/>
                    </a:lnTo>
                    <a:lnTo>
                      <a:pt x="46" y="150"/>
                    </a:lnTo>
                    <a:lnTo>
                      <a:pt x="46" y="127"/>
                    </a:lnTo>
                    <a:lnTo>
                      <a:pt x="51" y="106"/>
                    </a:lnTo>
                    <a:lnTo>
                      <a:pt x="59" y="81"/>
                    </a:lnTo>
                    <a:lnTo>
                      <a:pt x="70" y="62"/>
                    </a:lnTo>
                    <a:lnTo>
                      <a:pt x="84" y="45"/>
                    </a:lnTo>
                    <a:lnTo>
                      <a:pt x="103" y="30"/>
                    </a:lnTo>
                    <a:lnTo>
                      <a:pt x="122" y="19"/>
                    </a:lnTo>
                    <a:lnTo>
                      <a:pt x="143" y="11"/>
                    </a:lnTo>
                    <a:lnTo>
                      <a:pt x="169" y="7"/>
                    </a:lnTo>
                    <a:lnTo>
                      <a:pt x="198" y="11"/>
                    </a:lnTo>
                    <a:lnTo>
                      <a:pt x="196" y="9"/>
                    </a:lnTo>
                    <a:lnTo>
                      <a:pt x="190" y="7"/>
                    </a:lnTo>
                    <a:lnTo>
                      <a:pt x="185" y="5"/>
                    </a:lnTo>
                    <a:lnTo>
                      <a:pt x="177" y="3"/>
                    </a:lnTo>
                    <a:lnTo>
                      <a:pt x="167" y="1"/>
                    </a:lnTo>
                    <a:lnTo>
                      <a:pt x="156" y="0"/>
                    </a:lnTo>
                    <a:lnTo>
                      <a:pt x="143" y="0"/>
                    </a:lnTo>
                    <a:lnTo>
                      <a:pt x="131" y="1"/>
                    </a:lnTo>
                    <a:lnTo>
                      <a:pt x="116" y="3"/>
                    </a:lnTo>
                    <a:lnTo>
                      <a:pt x="103" y="9"/>
                    </a:lnTo>
                    <a:lnTo>
                      <a:pt x="88" y="17"/>
                    </a:lnTo>
                    <a:lnTo>
                      <a:pt x="72" y="26"/>
                    </a:lnTo>
                    <a:lnTo>
                      <a:pt x="57" y="39"/>
                    </a:lnTo>
                    <a:lnTo>
                      <a:pt x="44" y="57"/>
                    </a:lnTo>
                    <a:lnTo>
                      <a:pt x="31" y="77"/>
                    </a:lnTo>
                    <a:lnTo>
                      <a:pt x="19" y="102"/>
                    </a:lnTo>
                    <a:lnTo>
                      <a:pt x="10" y="129"/>
                    </a:lnTo>
                    <a:lnTo>
                      <a:pt x="4" y="154"/>
                    </a:lnTo>
                    <a:lnTo>
                      <a:pt x="0" y="174"/>
                    </a:lnTo>
                    <a:lnTo>
                      <a:pt x="0" y="197"/>
                    </a:lnTo>
                    <a:lnTo>
                      <a:pt x="2" y="216"/>
                    </a:lnTo>
                    <a:lnTo>
                      <a:pt x="8" y="235"/>
                    </a:lnTo>
                    <a:lnTo>
                      <a:pt x="15" y="250"/>
                    </a:lnTo>
                    <a:lnTo>
                      <a:pt x="27" y="268"/>
                    </a:lnTo>
                    <a:lnTo>
                      <a:pt x="36" y="279"/>
                    </a:lnTo>
                    <a:lnTo>
                      <a:pt x="51" y="292"/>
                    </a:lnTo>
                    <a:lnTo>
                      <a:pt x="67" y="302"/>
                    </a:lnTo>
                    <a:lnTo>
                      <a:pt x="84" y="311"/>
                    </a:lnTo>
                    <a:lnTo>
                      <a:pt x="103" y="319"/>
                    </a:lnTo>
                    <a:lnTo>
                      <a:pt x="124" y="325"/>
                    </a:lnTo>
                    <a:lnTo>
                      <a:pt x="145" y="330"/>
                    </a:lnTo>
                    <a:lnTo>
                      <a:pt x="169" y="334"/>
                    </a:lnTo>
                    <a:lnTo>
                      <a:pt x="188" y="334"/>
                    </a:lnTo>
                    <a:lnTo>
                      <a:pt x="209" y="334"/>
                    </a:lnTo>
                    <a:lnTo>
                      <a:pt x="226" y="330"/>
                    </a:lnTo>
                    <a:lnTo>
                      <a:pt x="243" y="327"/>
                    </a:lnTo>
                    <a:lnTo>
                      <a:pt x="257" y="321"/>
                    </a:lnTo>
                    <a:lnTo>
                      <a:pt x="270" y="313"/>
                    </a:lnTo>
                    <a:lnTo>
                      <a:pt x="281" y="306"/>
                    </a:lnTo>
                    <a:lnTo>
                      <a:pt x="291" y="298"/>
                    </a:lnTo>
                    <a:lnTo>
                      <a:pt x="299" y="287"/>
                    </a:lnTo>
                    <a:lnTo>
                      <a:pt x="306" y="277"/>
                    </a:lnTo>
                    <a:lnTo>
                      <a:pt x="312" y="268"/>
                    </a:lnTo>
                    <a:lnTo>
                      <a:pt x="318" y="258"/>
                    </a:lnTo>
                    <a:lnTo>
                      <a:pt x="321" y="249"/>
                    </a:lnTo>
                    <a:lnTo>
                      <a:pt x="323" y="239"/>
                    </a:lnTo>
                    <a:lnTo>
                      <a:pt x="325" y="231"/>
                    </a:lnTo>
                    <a:lnTo>
                      <a:pt x="327" y="224"/>
                    </a:lnTo>
                    <a:lnTo>
                      <a:pt x="325" y="218"/>
                    </a:lnTo>
                    <a:lnTo>
                      <a:pt x="325" y="212"/>
                    </a:lnTo>
                    <a:lnTo>
                      <a:pt x="325" y="207"/>
                    </a:lnTo>
                    <a:lnTo>
                      <a:pt x="325" y="203"/>
                    </a:lnTo>
                    <a:lnTo>
                      <a:pt x="323" y="195"/>
                    </a:lnTo>
                    <a:lnTo>
                      <a:pt x="323" y="192"/>
                    </a:lnTo>
                    <a:lnTo>
                      <a:pt x="318" y="186"/>
                    </a:lnTo>
                    <a:lnTo>
                      <a:pt x="318" y="186"/>
                    </a:lnTo>
                    <a:lnTo>
                      <a:pt x="318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205400">
                <a:off x="7984800" y="183600"/>
                <a:ext cx="99360" cy="131760"/>
              </a:xfrm>
              <a:custGeom>
                <a:avLst/>
                <a:gdLst/>
                <a:ahLst/>
                <a:rect l="l" t="t" r="r" b="b"/>
                <a:pathLst>
                  <a:path w="118" h="154">
                    <a:moveTo>
                      <a:pt x="0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15" y="8"/>
                    </a:lnTo>
                    <a:lnTo>
                      <a:pt x="23" y="10"/>
                    </a:lnTo>
                    <a:lnTo>
                      <a:pt x="32" y="17"/>
                    </a:lnTo>
                    <a:lnTo>
                      <a:pt x="42" y="23"/>
                    </a:lnTo>
                    <a:lnTo>
                      <a:pt x="53" y="33"/>
                    </a:lnTo>
                    <a:lnTo>
                      <a:pt x="63" y="42"/>
                    </a:lnTo>
                    <a:lnTo>
                      <a:pt x="72" y="52"/>
                    </a:lnTo>
                    <a:lnTo>
                      <a:pt x="80" y="65"/>
                    </a:lnTo>
                    <a:lnTo>
                      <a:pt x="88" y="80"/>
                    </a:lnTo>
                    <a:lnTo>
                      <a:pt x="95" y="95"/>
                    </a:lnTo>
                    <a:lnTo>
                      <a:pt x="99" y="113"/>
                    </a:lnTo>
                    <a:lnTo>
                      <a:pt x="103" y="132"/>
                    </a:lnTo>
                    <a:lnTo>
                      <a:pt x="105" y="154"/>
                    </a:lnTo>
                    <a:lnTo>
                      <a:pt x="105" y="151"/>
                    </a:lnTo>
                    <a:lnTo>
                      <a:pt x="108" y="145"/>
                    </a:lnTo>
                    <a:lnTo>
                      <a:pt x="110" y="139"/>
                    </a:lnTo>
                    <a:lnTo>
                      <a:pt x="112" y="135"/>
                    </a:lnTo>
                    <a:lnTo>
                      <a:pt x="114" y="128"/>
                    </a:lnTo>
                    <a:lnTo>
                      <a:pt x="116" y="122"/>
                    </a:lnTo>
                    <a:lnTo>
                      <a:pt x="116" y="114"/>
                    </a:lnTo>
                    <a:lnTo>
                      <a:pt x="118" y="107"/>
                    </a:lnTo>
                    <a:lnTo>
                      <a:pt x="116" y="97"/>
                    </a:lnTo>
                    <a:lnTo>
                      <a:pt x="116" y="90"/>
                    </a:lnTo>
                    <a:lnTo>
                      <a:pt x="114" y="78"/>
                    </a:lnTo>
                    <a:lnTo>
                      <a:pt x="112" y="69"/>
                    </a:lnTo>
                    <a:lnTo>
                      <a:pt x="108" y="59"/>
                    </a:lnTo>
                    <a:lnTo>
                      <a:pt x="105" y="50"/>
                    </a:lnTo>
                    <a:lnTo>
                      <a:pt x="97" y="38"/>
                    </a:lnTo>
                    <a:lnTo>
                      <a:pt x="89" y="31"/>
                    </a:lnTo>
                    <a:lnTo>
                      <a:pt x="82" y="23"/>
                    </a:lnTo>
                    <a:lnTo>
                      <a:pt x="74" y="17"/>
                    </a:lnTo>
                    <a:lnTo>
                      <a:pt x="65" y="12"/>
                    </a:lnTo>
                    <a:lnTo>
                      <a:pt x="57" y="8"/>
                    </a:lnTo>
                    <a:lnTo>
                      <a:pt x="48" y="6"/>
                    </a:lnTo>
                    <a:lnTo>
                      <a:pt x="40" y="4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205400">
                <a:off x="7931160" y="380160"/>
                <a:ext cx="131400" cy="320400"/>
              </a:xfrm>
              <a:custGeom>
                <a:avLst/>
                <a:gdLst/>
                <a:ahLst/>
                <a:rect l="l" t="t" r="r" b="b"/>
                <a:pathLst>
                  <a:path w="154" h="374">
                    <a:moveTo>
                      <a:pt x="0" y="64"/>
                    </a:moveTo>
                    <a:lnTo>
                      <a:pt x="0" y="64"/>
                    </a:lnTo>
                    <a:lnTo>
                      <a:pt x="0" y="70"/>
                    </a:lnTo>
                    <a:lnTo>
                      <a:pt x="0" y="80"/>
                    </a:lnTo>
                    <a:lnTo>
                      <a:pt x="2" y="91"/>
                    </a:lnTo>
                    <a:lnTo>
                      <a:pt x="4" y="106"/>
                    </a:lnTo>
                    <a:lnTo>
                      <a:pt x="8" y="123"/>
                    </a:lnTo>
                    <a:lnTo>
                      <a:pt x="12" y="142"/>
                    </a:lnTo>
                    <a:lnTo>
                      <a:pt x="19" y="165"/>
                    </a:lnTo>
                    <a:lnTo>
                      <a:pt x="27" y="188"/>
                    </a:lnTo>
                    <a:lnTo>
                      <a:pt x="36" y="211"/>
                    </a:lnTo>
                    <a:lnTo>
                      <a:pt x="48" y="237"/>
                    </a:lnTo>
                    <a:lnTo>
                      <a:pt x="59" y="264"/>
                    </a:lnTo>
                    <a:lnTo>
                      <a:pt x="74" y="292"/>
                    </a:lnTo>
                    <a:lnTo>
                      <a:pt x="93" y="319"/>
                    </a:lnTo>
                    <a:lnTo>
                      <a:pt x="114" y="346"/>
                    </a:lnTo>
                    <a:lnTo>
                      <a:pt x="137" y="374"/>
                    </a:lnTo>
                    <a:lnTo>
                      <a:pt x="154" y="369"/>
                    </a:lnTo>
                    <a:lnTo>
                      <a:pt x="152" y="365"/>
                    </a:lnTo>
                    <a:lnTo>
                      <a:pt x="148" y="361"/>
                    </a:lnTo>
                    <a:lnTo>
                      <a:pt x="143" y="351"/>
                    </a:lnTo>
                    <a:lnTo>
                      <a:pt x="135" y="340"/>
                    </a:lnTo>
                    <a:lnTo>
                      <a:pt x="124" y="325"/>
                    </a:lnTo>
                    <a:lnTo>
                      <a:pt x="116" y="306"/>
                    </a:lnTo>
                    <a:lnTo>
                      <a:pt x="105" y="285"/>
                    </a:lnTo>
                    <a:lnTo>
                      <a:pt x="95" y="262"/>
                    </a:lnTo>
                    <a:lnTo>
                      <a:pt x="82" y="235"/>
                    </a:lnTo>
                    <a:lnTo>
                      <a:pt x="72" y="207"/>
                    </a:lnTo>
                    <a:lnTo>
                      <a:pt x="61" y="176"/>
                    </a:lnTo>
                    <a:lnTo>
                      <a:pt x="53" y="144"/>
                    </a:lnTo>
                    <a:lnTo>
                      <a:pt x="46" y="110"/>
                    </a:lnTo>
                    <a:lnTo>
                      <a:pt x="40" y="74"/>
                    </a:lnTo>
                    <a:lnTo>
                      <a:pt x="38" y="36"/>
                    </a:lnTo>
                    <a:lnTo>
                      <a:pt x="38" y="0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205400">
                <a:off x="7806240" y="425520"/>
                <a:ext cx="154080" cy="285840"/>
              </a:xfrm>
              <a:custGeom>
                <a:avLst/>
                <a:gdLst/>
                <a:ahLst/>
                <a:rect l="l" t="t" r="r" b="b"/>
                <a:pathLst>
                  <a:path w="178" h="332">
                    <a:moveTo>
                      <a:pt x="178" y="315"/>
                    </a:moveTo>
                    <a:lnTo>
                      <a:pt x="178" y="311"/>
                    </a:lnTo>
                    <a:lnTo>
                      <a:pt x="176" y="304"/>
                    </a:lnTo>
                    <a:lnTo>
                      <a:pt x="173" y="291"/>
                    </a:lnTo>
                    <a:lnTo>
                      <a:pt x="167" y="275"/>
                    </a:lnTo>
                    <a:lnTo>
                      <a:pt x="159" y="256"/>
                    </a:lnTo>
                    <a:lnTo>
                      <a:pt x="152" y="235"/>
                    </a:lnTo>
                    <a:lnTo>
                      <a:pt x="144" y="211"/>
                    </a:lnTo>
                    <a:lnTo>
                      <a:pt x="133" y="186"/>
                    </a:lnTo>
                    <a:lnTo>
                      <a:pt x="119" y="159"/>
                    </a:lnTo>
                    <a:lnTo>
                      <a:pt x="106" y="133"/>
                    </a:lnTo>
                    <a:lnTo>
                      <a:pt x="91" y="106"/>
                    </a:lnTo>
                    <a:lnTo>
                      <a:pt x="76" y="81"/>
                    </a:lnTo>
                    <a:lnTo>
                      <a:pt x="59" y="57"/>
                    </a:lnTo>
                    <a:lnTo>
                      <a:pt x="40" y="36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7"/>
                    </a:lnTo>
                    <a:lnTo>
                      <a:pt x="7" y="17"/>
                    </a:lnTo>
                    <a:lnTo>
                      <a:pt x="15" y="30"/>
                    </a:lnTo>
                    <a:lnTo>
                      <a:pt x="23" y="45"/>
                    </a:lnTo>
                    <a:lnTo>
                      <a:pt x="30" y="62"/>
                    </a:lnTo>
                    <a:lnTo>
                      <a:pt x="40" y="83"/>
                    </a:lnTo>
                    <a:lnTo>
                      <a:pt x="51" y="106"/>
                    </a:lnTo>
                    <a:lnTo>
                      <a:pt x="59" y="131"/>
                    </a:lnTo>
                    <a:lnTo>
                      <a:pt x="70" y="156"/>
                    </a:lnTo>
                    <a:lnTo>
                      <a:pt x="80" y="182"/>
                    </a:lnTo>
                    <a:lnTo>
                      <a:pt x="89" y="211"/>
                    </a:lnTo>
                    <a:lnTo>
                      <a:pt x="99" y="239"/>
                    </a:lnTo>
                    <a:lnTo>
                      <a:pt x="104" y="268"/>
                    </a:lnTo>
                    <a:lnTo>
                      <a:pt x="112" y="296"/>
                    </a:lnTo>
                    <a:lnTo>
                      <a:pt x="116" y="325"/>
                    </a:lnTo>
                    <a:lnTo>
                      <a:pt x="118" y="329"/>
                    </a:lnTo>
                    <a:lnTo>
                      <a:pt x="127" y="332"/>
                    </a:lnTo>
                    <a:lnTo>
                      <a:pt x="131" y="330"/>
                    </a:lnTo>
                    <a:lnTo>
                      <a:pt x="135" y="329"/>
                    </a:lnTo>
                    <a:lnTo>
                      <a:pt x="140" y="329"/>
                    </a:lnTo>
                    <a:lnTo>
                      <a:pt x="148" y="327"/>
                    </a:lnTo>
                    <a:lnTo>
                      <a:pt x="152" y="325"/>
                    </a:lnTo>
                    <a:lnTo>
                      <a:pt x="159" y="323"/>
                    </a:lnTo>
                    <a:lnTo>
                      <a:pt x="163" y="321"/>
                    </a:lnTo>
                    <a:lnTo>
                      <a:pt x="169" y="319"/>
                    </a:lnTo>
                    <a:lnTo>
                      <a:pt x="176" y="315"/>
                    </a:lnTo>
                    <a:lnTo>
                      <a:pt x="178" y="315"/>
                    </a:lnTo>
                    <a:lnTo>
                      <a:pt x="178" y="3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205400">
                <a:off x="7797600" y="459000"/>
                <a:ext cx="491760" cy="315000"/>
              </a:xfrm>
              <a:custGeom>
                <a:avLst/>
                <a:gdLst/>
                <a:ahLst/>
                <a:rect l="l" t="t" r="r" b="b"/>
                <a:pathLst>
                  <a:path w="574" h="367">
                    <a:moveTo>
                      <a:pt x="542" y="15"/>
                    </a:moveTo>
                    <a:lnTo>
                      <a:pt x="540" y="17"/>
                    </a:lnTo>
                    <a:lnTo>
                      <a:pt x="536" y="29"/>
                    </a:lnTo>
                    <a:lnTo>
                      <a:pt x="526" y="44"/>
                    </a:lnTo>
                    <a:lnTo>
                      <a:pt x="517" y="65"/>
                    </a:lnTo>
                    <a:lnTo>
                      <a:pt x="502" y="89"/>
                    </a:lnTo>
                    <a:lnTo>
                      <a:pt x="483" y="118"/>
                    </a:lnTo>
                    <a:lnTo>
                      <a:pt x="460" y="148"/>
                    </a:lnTo>
                    <a:lnTo>
                      <a:pt x="433" y="181"/>
                    </a:lnTo>
                    <a:lnTo>
                      <a:pt x="399" y="211"/>
                    </a:lnTo>
                    <a:lnTo>
                      <a:pt x="361" y="242"/>
                    </a:lnTo>
                    <a:lnTo>
                      <a:pt x="317" y="268"/>
                    </a:lnTo>
                    <a:lnTo>
                      <a:pt x="268" y="295"/>
                    </a:lnTo>
                    <a:lnTo>
                      <a:pt x="209" y="316"/>
                    </a:lnTo>
                    <a:lnTo>
                      <a:pt x="146" y="335"/>
                    </a:lnTo>
                    <a:lnTo>
                      <a:pt x="76" y="346"/>
                    </a:lnTo>
                    <a:lnTo>
                      <a:pt x="0" y="352"/>
                    </a:lnTo>
                    <a:lnTo>
                      <a:pt x="0" y="352"/>
                    </a:lnTo>
                    <a:lnTo>
                      <a:pt x="4" y="354"/>
                    </a:lnTo>
                    <a:lnTo>
                      <a:pt x="11" y="356"/>
                    </a:lnTo>
                    <a:lnTo>
                      <a:pt x="23" y="358"/>
                    </a:lnTo>
                    <a:lnTo>
                      <a:pt x="36" y="361"/>
                    </a:lnTo>
                    <a:lnTo>
                      <a:pt x="53" y="363"/>
                    </a:lnTo>
                    <a:lnTo>
                      <a:pt x="70" y="365"/>
                    </a:lnTo>
                    <a:lnTo>
                      <a:pt x="93" y="367"/>
                    </a:lnTo>
                    <a:lnTo>
                      <a:pt x="116" y="367"/>
                    </a:lnTo>
                    <a:lnTo>
                      <a:pt x="142" y="365"/>
                    </a:lnTo>
                    <a:lnTo>
                      <a:pt x="171" y="361"/>
                    </a:lnTo>
                    <a:lnTo>
                      <a:pt x="203" y="356"/>
                    </a:lnTo>
                    <a:lnTo>
                      <a:pt x="237" y="348"/>
                    </a:lnTo>
                    <a:lnTo>
                      <a:pt x="274" y="337"/>
                    </a:lnTo>
                    <a:lnTo>
                      <a:pt x="312" y="323"/>
                    </a:lnTo>
                    <a:lnTo>
                      <a:pt x="353" y="308"/>
                    </a:lnTo>
                    <a:lnTo>
                      <a:pt x="389" y="287"/>
                    </a:lnTo>
                    <a:lnTo>
                      <a:pt x="426" y="264"/>
                    </a:lnTo>
                    <a:lnTo>
                      <a:pt x="454" y="242"/>
                    </a:lnTo>
                    <a:lnTo>
                      <a:pt x="479" y="217"/>
                    </a:lnTo>
                    <a:lnTo>
                      <a:pt x="500" y="190"/>
                    </a:lnTo>
                    <a:lnTo>
                      <a:pt x="519" y="166"/>
                    </a:lnTo>
                    <a:lnTo>
                      <a:pt x="534" y="139"/>
                    </a:lnTo>
                    <a:lnTo>
                      <a:pt x="545" y="116"/>
                    </a:lnTo>
                    <a:lnTo>
                      <a:pt x="555" y="91"/>
                    </a:lnTo>
                    <a:lnTo>
                      <a:pt x="561" y="70"/>
                    </a:lnTo>
                    <a:lnTo>
                      <a:pt x="566" y="50"/>
                    </a:lnTo>
                    <a:lnTo>
                      <a:pt x="570" y="34"/>
                    </a:lnTo>
                    <a:lnTo>
                      <a:pt x="572" y="19"/>
                    </a:lnTo>
                    <a:lnTo>
                      <a:pt x="572" y="10"/>
                    </a:lnTo>
                    <a:lnTo>
                      <a:pt x="572" y="2"/>
                    </a:lnTo>
                    <a:lnTo>
                      <a:pt x="574" y="0"/>
                    </a:lnTo>
                    <a:lnTo>
                      <a:pt x="542" y="15"/>
                    </a:lnTo>
                    <a:lnTo>
                      <a:pt x="54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205400">
                <a:off x="8244000" y="519840"/>
                <a:ext cx="51120" cy="311400"/>
              </a:xfrm>
              <a:custGeom>
                <a:avLst/>
                <a:gdLst/>
                <a:ahLst/>
                <a:rect l="l" t="t" r="r" b="b"/>
                <a:pathLst>
                  <a:path w="61" h="365">
                    <a:moveTo>
                      <a:pt x="61" y="0"/>
                    </a:moveTo>
                    <a:lnTo>
                      <a:pt x="61" y="2"/>
                    </a:lnTo>
                    <a:lnTo>
                      <a:pt x="59" y="8"/>
                    </a:lnTo>
                    <a:lnTo>
                      <a:pt x="55" y="18"/>
                    </a:lnTo>
                    <a:lnTo>
                      <a:pt x="54" y="31"/>
                    </a:lnTo>
                    <a:lnTo>
                      <a:pt x="50" y="46"/>
                    </a:lnTo>
                    <a:lnTo>
                      <a:pt x="46" y="67"/>
                    </a:lnTo>
                    <a:lnTo>
                      <a:pt x="42" y="88"/>
                    </a:lnTo>
                    <a:lnTo>
                      <a:pt x="40" y="114"/>
                    </a:lnTo>
                    <a:lnTo>
                      <a:pt x="36" y="139"/>
                    </a:lnTo>
                    <a:lnTo>
                      <a:pt x="35" y="168"/>
                    </a:lnTo>
                    <a:lnTo>
                      <a:pt x="33" y="198"/>
                    </a:lnTo>
                    <a:lnTo>
                      <a:pt x="33" y="230"/>
                    </a:lnTo>
                    <a:lnTo>
                      <a:pt x="33" y="263"/>
                    </a:lnTo>
                    <a:lnTo>
                      <a:pt x="35" y="297"/>
                    </a:lnTo>
                    <a:lnTo>
                      <a:pt x="38" y="329"/>
                    </a:lnTo>
                    <a:lnTo>
                      <a:pt x="46" y="365"/>
                    </a:lnTo>
                    <a:lnTo>
                      <a:pt x="44" y="364"/>
                    </a:lnTo>
                    <a:lnTo>
                      <a:pt x="42" y="360"/>
                    </a:lnTo>
                    <a:lnTo>
                      <a:pt x="36" y="354"/>
                    </a:lnTo>
                    <a:lnTo>
                      <a:pt x="33" y="346"/>
                    </a:lnTo>
                    <a:lnTo>
                      <a:pt x="29" y="335"/>
                    </a:lnTo>
                    <a:lnTo>
                      <a:pt x="23" y="322"/>
                    </a:lnTo>
                    <a:lnTo>
                      <a:pt x="17" y="307"/>
                    </a:lnTo>
                    <a:lnTo>
                      <a:pt x="14" y="287"/>
                    </a:lnTo>
                    <a:lnTo>
                      <a:pt x="8" y="267"/>
                    </a:lnTo>
                    <a:lnTo>
                      <a:pt x="4" y="242"/>
                    </a:lnTo>
                    <a:lnTo>
                      <a:pt x="2" y="217"/>
                    </a:lnTo>
                    <a:lnTo>
                      <a:pt x="0" y="187"/>
                    </a:lnTo>
                    <a:lnTo>
                      <a:pt x="0" y="153"/>
                    </a:lnTo>
                    <a:lnTo>
                      <a:pt x="4" y="118"/>
                    </a:lnTo>
                    <a:lnTo>
                      <a:pt x="10" y="80"/>
                    </a:lnTo>
                    <a:lnTo>
                      <a:pt x="17" y="4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205400">
                <a:off x="7543800" y="683640"/>
                <a:ext cx="133560" cy="104400"/>
              </a:xfrm>
              <a:custGeom>
                <a:avLst/>
                <a:gdLst/>
                <a:ahLst/>
                <a:rect l="l" t="t" r="r" b="b"/>
                <a:pathLst>
                  <a:path w="156" h="122">
                    <a:moveTo>
                      <a:pt x="129" y="36"/>
                    </a:moveTo>
                    <a:lnTo>
                      <a:pt x="126" y="36"/>
                    </a:lnTo>
                    <a:lnTo>
                      <a:pt x="118" y="40"/>
                    </a:lnTo>
                    <a:lnTo>
                      <a:pt x="110" y="42"/>
                    </a:lnTo>
                    <a:lnTo>
                      <a:pt x="107" y="44"/>
                    </a:lnTo>
                    <a:lnTo>
                      <a:pt x="101" y="47"/>
                    </a:lnTo>
                    <a:lnTo>
                      <a:pt x="93" y="51"/>
                    </a:lnTo>
                    <a:lnTo>
                      <a:pt x="88" y="55"/>
                    </a:lnTo>
                    <a:lnTo>
                      <a:pt x="80" y="57"/>
                    </a:lnTo>
                    <a:lnTo>
                      <a:pt x="74" y="61"/>
                    </a:lnTo>
                    <a:lnTo>
                      <a:pt x="71" y="66"/>
                    </a:lnTo>
                    <a:lnTo>
                      <a:pt x="65" y="76"/>
                    </a:lnTo>
                    <a:lnTo>
                      <a:pt x="65" y="85"/>
                    </a:lnTo>
                    <a:lnTo>
                      <a:pt x="65" y="87"/>
                    </a:lnTo>
                    <a:lnTo>
                      <a:pt x="69" y="91"/>
                    </a:lnTo>
                    <a:lnTo>
                      <a:pt x="74" y="91"/>
                    </a:lnTo>
                    <a:lnTo>
                      <a:pt x="80" y="93"/>
                    </a:lnTo>
                    <a:lnTo>
                      <a:pt x="86" y="93"/>
                    </a:lnTo>
                    <a:lnTo>
                      <a:pt x="93" y="93"/>
                    </a:lnTo>
                    <a:lnTo>
                      <a:pt x="101" y="93"/>
                    </a:lnTo>
                    <a:lnTo>
                      <a:pt x="109" y="91"/>
                    </a:lnTo>
                    <a:lnTo>
                      <a:pt x="116" y="89"/>
                    </a:lnTo>
                    <a:lnTo>
                      <a:pt x="124" y="89"/>
                    </a:lnTo>
                    <a:lnTo>
                      <a:pt x="129" y="87"/>
                    </a:lnTo>
                    <a:lnTo>
                      <a:pt x="137" y="85"/>
                    </a:lnTo>
                    <a:lnTo>
                      <a:pt x="145" y="84"/>
                    </a:lnTo>
                    <a:lnTo>
                      <a:pt x="148" y="84"/>
                    </a:lnTo>
                    <a:lnTo>
                      <a:pt x="156" y="101"/>
                    </a:lnTo>
                    <a:lnTo>
                      <a:pt x="154" y="101"/>
                    </a:lnTo>
                    <a:lnTo>
                      <a:pt x="148" y="103"/>
                    </a:lnTo>
                    <a:lnTo>
                      <a:pt x="141" y="104"/>
                    </a:lnTo>
                    <a:lnTo>
                      <a:pt x="133" y="106"/>
                    </a:lnTo>
                    <a:lnTo>
                      <a:pt x="120" y="110"/>
                    </a:lnTo>
                    <a:lnTo>
                      <a:pt x="109" y="112"/>
                    </a:lnTo>
                    <a:lnTo>
                      <a:pt x="95" y="116"/>
                    </a:lnTo>
                    <a:lnTo>
                      <a:pt x="82" y="120"/>
                    </a:lnTo>
                    <a:lnTo>
                      <a:pt x="69" y="120"/>
                    </a:lnTo>
                    <a:lnTo>
                      <a:pt x="55" y="122"/>
                    </a:lnTo>
                    <a:lnTo>
                      <a:pt x="42" y="122"/>
                    </a:lnTo>
                    <a:lnTo>
                      <a:pt x="31" y="122"/>
                    </a:lnTo>
                    <a:lnTo>
                      <a:pt x="19" y="120"/>
                    </a:lnTo>
                    <a:lnTo>
                      <a:pt x="12" y="118"/>
                    </a:lnTo>
                    <a:lnTo>
                      <a:pt x="4" y="112"/>
                    </a:lnTo>
                    <a:lnTo>
                      <a:pt x="2" y="108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4" y="84"/>
                    </a:lnTo>
                    <a:lnTo>
                      <a:pt x="10" y="74"/>
                    </a:lnTo>
                    <a:lnTo>
                      <a:pt x="15" y="65"/>
                    </a:lnTo>
                    <a:lnTo>
                      <a:pt x="25" y="57"/>
                    </a:lnTo>
                    <a:lnTo>
                      <a:pt x="33" y="47"/>
                    </a:lnTo>
                    <a:lnTo>
                      <a:pt x="42" y="40"/>
                    </a:lnTo>
                    <a:lnTo>
                      <a:pt x="52" y="30"/>
                    </a:lnTo>
                    <a:lnTo>
                      <a:pt x="61" y="23"/>
                    </a:lnTo>
                    <a:lnTo>
                      <a:pt x="71" y="15"/>
                    </a:lnTo>
                    <a:lnTo>
                      <a:pt x="78" y="9"/>
                    </a:lnTo>
                    <a:lnTo>
                      <a:pt x="88" y="4"/>
                    </a:lnTo>
                    <a:lnTo>
                      <a:pt x="93" y="2"/>
                    </a:lnTo>
                    <a:lnTo>
                      <a:pt x="99" y="0"/>
                    </a:lnTo>
                    <a:lnTo>
                      <a:pt x="105" y="2"/>
                    </a:lnTo>
                    <a:lnTo>
                      <a:pt x="109" y="4"/>
                    </a:lnTo>
                    <a:lnTo>
                      <a:pt x="116" y="8"/>
                    </a:lnTo>
                    <a:lnTo>
                      <a:pt x="120" y="13"/>
                    </a:lnTo>
                    <a:lnTo>
                      <a:pt x="124" y="19"/>
                    </a:lnTo>
                    <a:lnTo>
                      <a:pt x="126" y="25"/>
                    </a:lnTo>
                    <a:lnTo>
                      <a:pt x="128" y="30"/>
                    </a:lnTo>
                    <a:lnTo>
                      <a:pt x="128" y="34"/>
                    </a:lnTo>
                    <a:lnTo>
                      <a:pt x="129" y="36"/>
                    </a:lnTo>
                    <a:lnTo>
                      <a:pt x="129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205400">
                <a:off x="7536600" y="620280"/>
                <a:ext cx="160560" cy="246600"/>
              </a:xfrm>
              <a:custGeom>
                <a:avLst/>
                <a:gdLst/>
                <a:ahLst/>
                <a:rect l="l" t="t" r="r" b="b"/>
                <a:pathLst>
                  <a:path w="188" h="289">
                    <a:moveTo>
                      <a:pt x="0" y="9"/>
                    </a:moveTo>
                    <a:lnTo>
                      <a:pt x="1" y="9"/>
                    </a:lnTo>
                    <a:lnTo>
                      <a:pt x="5" y="13"/>
                    </a:lnTo>
                    <a:lnTo>
                      <a:pt x="15" y="17"/>
                    </a:lnTo>
                    <a:lnTo>
                      <a:pt x="26" y="25"/>
                    </a:lnTo>
                    <a:lnTo>
                      <a:pt x="36" y="32"/>
                    </a:lnTo>
                    <a:lnTo>
                      <a:pt x="51" y="44"/>
                    </a:lnTo>
                    <a:lnTo>
                      <a:pt x="66" y="55"/>
                    </a:lnTo>
                    <a:lnTo>
                      <a:pt x="81" y="72"/>
                    </a:lnTo>
                    <a:lnTo>
                      <a:pt x="95" y="89"/>
                    </a:lnTo>
                    <a:lnTo>
                      <a:pt x="110" y="108"/>
                    </a:lnTo>
                    <a:lnTo>
                      <a:pt x="123" y="131"/>
                    </a:lnTo>
                    <a:lnTo>
                      <a:pt x="136" y="158"/>
                    </a:lnTo>
                    <a:lnTo>
                      <a:pt x="146" y="184"/>
                    </a:lnTo>
                    <a:lnTo>
                      <a:pt x="155" y="217"/>
                    </a:lnTo>
                    <a:lnTo>
                      <a:pt x="159" y="251"/>
                    </a:lnTo>
                    <a:lnTo>
                      <a:pt x="163" y="289"/>
                    </a:lnTo>
                    <a:lnTo>
                      <a:pt x="163" y="287"/>
                    </a:lnTo>
                    <a:lnTo>
                      <a:pt x="165" y="285"/>
                    </a:lnTo>
                    <a:lnTo>
                      <a:pt x="169" y="279"/>
                    </a:lnTo>
                    <a:lnTo>
                      <a:pt x="171" y="276"/>
                    </a:lnTo>
                    <a:lnTo>
                      <a:pt x="174" y="268"/>
                    </a:lnTo>
                    <a:lnTo>
                      <a:pt x="178" y="260"/>
                    </a:lnTo>
                    <a:lnTo>
                      <a:pt x="180" y="249"/>
                    </a:lnTo>
                    <a:lnTo>
                      <a:pt x="186" y="240"/>
                    </a:lnTo>
                    <a:lnTo>
                      <a:pt x="186" y="226"/>
                    </a:lnTo>
                    <a:lnTo>
                      <a:pt x="188" y="211"/>
                    </a:lnTo>
                    <a:lnTo>
                      <a:pt x="186" y="196"/>
                    </a:lnTo>
                    <a:lnTo>
                      <a:pt x="184" y="179"/>
                    </a:lnTo>
                    <a:lnTo>
                      <a:pt x="178" y="158"/>
                    </a:lnTo>
                    <a:lnTo>
                      <a:pt x="171" y="139"/>
                    </a:lnTo>
                    <a:lnTo>
                      <a:pt x="161" y="116"/>
                    </a:lnTo>
                    <a:lnTo>
                      <a:pt x="148" y="93"/>
                    </a:lnTo>
                    <a:lnTo>
                      <a:pt x="133" y="68"/>
                    </a:lnTo>
                    <a:lnTo>
                      <a:pt x="119" y="51"/>
                    </a:lnTo>
                    <a:lnTo>
                      <a:pt x="104" y="36"/>
                    </a:lnTo>
                    <a:lnTo>
                      <a:pt x="93" y="25"/>
                    </a:lnTo>
                    <a:lnTo>
                      <a:pt x="77" y="15"/>
                    </a:lnTo>
                    <a:lnTo>
                      <a:pt x="66" y="8"/>
                    </a:lnTo>
                    <a:lnTo>
                      <a:pt x="53" y="4"/>
                    </a:lnTo>
                    <a:lnTo>
                      <a:pt x="45" y="2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7" y="2"/>
                    </a:lnTo>
                    <a:lnTo>
                      <a:pt x="11" y="4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205400">
                <a:off x="7647480" y="761760"/>
                <a:ext cx="571680" cy="257040"/>
              </a:xfrm>
              <a:custGeom>
                <a:avLst/>
                <a:gdLst/>
                <a:ahLst/>
                <a:rect l="l" t="t" r="r" b="b"/>
                <a:pathLst>
                  <a:path w="667" h="301">
                    <a:moveTo>
                      <a:pt x="6" y="240"/>
                    </a:moveTo>
                    <a:lnTo>
                      <a:pt x="6" y="236"/>
                    </a:lnTo>
                    <a:lnTo>
                      <a:pt x="11" y="227"/>
                    </a:lnTo>
                    <a:lnTo>
                      <a:pt x="21" y="212"/>
                    </a:lnTo>
                    <a:lnTo>
                      <a:pt x="34" y="192"/>
                    </a:lnTo>
                    <a:lnTo>
                      <a:pt x="51" y="170"/>
                    </a:lnTo>
                    <a:lnTo>
                      <a:pt x="74" y="145"/>
                    </a:lnTo>
                    <a:lnTo>
                      <a:pt x="103" y="120"/>
                    </a:lnTo>
                    <a:lnTo>
                      <a:pt x="137" y="96"/>
                    </a:lnTo>
                    <a:lnTo>
                      <a:pt x="177" y="71"/>
                    </a:lnTo>
                    <a:lnTo>
                      <a:pt x="224" y="50"/>
                    </a:lnTo>
                    <a:lnTo>
                      <a:pt x="279" y="29"/>
                    </a:lnTo>
                    <a:lnTo>
                      <a:pt x="342" y="16"/>
                    </a:lnTo>
                    <a:lnTo>
                      <a:pt x="410" y="4"/>
                    </a:lnTo>
                    <a:lnTo>
                      <a:pt x="490" y="0"/>
                    </a:lnTo>
                    <a:lnTo>
                      <a:pt x="578" y="4"/>
                    </a:lnTo>
                    <a:lnTo>
                      <a:pt x="667" y="16"/>
                    </a:lnTo>
                    <a:lnTo>
                      <a:pt x="597" y="14"/>
                    </a:lnTo>
                    <a:lnTo>
                      <a:pt x="557" y="16"/>
                    </a:lnTo>
                    <a:lnTo>
                      <a:pt x="515" y="19"/>
                    </a:lnTo>
                    <a:lnTo>
                      <a:pt x="464" y="25"/>
                    </a:lnTo>
                    <a:lnTo>
                      <a:pt x="412" y="35"/>
                    </a:lnTo>
                    <a:lnTo>
                      <a:pt x="357" y="48"/>
                    </a:lnTo>
                    <a:lnTo>
                      <a:pt x="302" y="65"/>
                    </a:lnTo>
                    <a:lnTo>
                      <a:pt x="245" y="88"/>
                    </a:lnTo>
                    <a:lnTo>
                      <a:pt x="192" y="118"/>
                    </a:lnTo>
                    <a:lnTo>
                      <a:pt x="137" y="151"/>
                    </a:lnTo>
                    <a:lnTo>
                      <a:pt x="87" y="194"/>
                    </a:lnTo>
                    <a:lnTo>
                      <a:pt x="40" y="242"/>
                    </a:lnTo>
                    <a:lnTo>
                      <a:pt x="0" y="301"/>
                    </a:lnTo>
                    <a:lnTo>
                      <a:pt x="6" y="240"/>
                    </a:lnTo>
                    <a:lnTo>
                      <a:pt x="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205400">
                <a:off x="7793640" y="806760"/>
                <a:ext cx="145440" cy="268560"/>
              </a:xfrm>
              <a:custGeom>
                <a:avLst/>
                <a:gdLst/>
                <a:ahLst/>
                <a:rect l="l" t="t" r="r" b="b"/>
                <a:pathLst>
                  <a:path w="171" h="313">
                    <a:moveTo>
                      <a:pt x="0" y="28"/>
                    </a:moveTo>
                    <a:lnTo>
                      <a:pt x="3" y="30"/>
                    </a:lnTo>
                    <a:lnTo>
                      <a:pt x="9" y="34"/>
                    </a:lnTo>
                    <a:lnTo>
                      <a:pt x="17" y="39"/>
                    </a:lnTo>
                    <a:lnTo>
                      <a:pt x="24" y="47"/>
                    </a:lnTo>
                    <a:lnTo>
                      <a:pt x="36" y="57"/>
                    </a:lnTo>
                    <a:lnTo>
                      <a:pt x="47" y="68"/>
                    </a:lnTo>
                    <a:lnTo>
                      <a:pt x="60" y="83"/>
                    </a:lnTo>
                    <a:lnTo>
                      <a:pt x="72" y="100"/>
                    </a:lnTo>
                    <a:lnTo>
                      <a:pt x="87" y="121"/>
                    </a:lnTo>
                    <a:lnTo>
                      <a:pt x="100" y="144"/>
                    </a:lnTo>
                    <a:lnTo>
                      <a:pt x="116" y="171"/>
                    </a:lnTo>
                    <a:lnTo>
                      <a:pt x="131" y="201"/>
                    </a:lnTo>
                    <a:lnTo>
                      <a:pt x="144" y="235"/>
                    </a:lnTo>
                    <a:lnTo>
                      <a:pt x="157" y="271"/>
                    </a:lnTo>
                    <a:lnTo>
                      <a:pt x="171" y="313"/>
                    </a:lnTo>
                    <a:lnTo>
                      <a:pt x="171" y="311"/>
                    </a:lnTo>
                    <a:lnTo>
                      <a:pt x="171" y="306"/>
                    </a:lnTo>
                    <a:lnTo>
                      <a:pt x="171" y="296"/>
                    </a:lnTo>
                    <a:lnTo>
                      <a:pt x="171" y="285"/>
                    </a:lnTo>
                    <a:lnTo>
                      <a:pt x="169" y="268"/>
                    </a:lnTo>
                    <a:lnTo>
                      <a:pt x="167" y="250"/>
                    </a:lnTo>
                    <a:lnTo>
                      <a:pt x="163" y="230"/>
                    </a:lnTo>
                    <a:lnTo>
                      <a:pt x="159" y="209"/>
                    </a:lnTo>
                    <a:lnTo>
                      <a:pt x="154" y="184"/>
                    </a:lnTo>
                    <a:lnTo>
                      <a:pt x="146" y="159"/>
                    </a:lnTo>
                    <a:lnTo>
                      <a:pt x="138" y="133"/>
                    </a:lnTo>
                    <a:lnTo>
                      <a:pt x="129" y="108"/>
                    </a:lnTo>
                    <a:lnTo>
                      <a:pt x="116" y="79"/>
                    </a:lnTo>
                    <a:lnTo>
                      <a:pt x="102" y="53"/>
                    </a:lnTo>
                    <a:lnTo>
                      <a:pt x="85" y="24"/>
                    </a:lnTo>
                    <a:lnTo>
                      <a:pt x="66" y="0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205400">
                <a:off x="7943040" y="803880"/>
                <a:ext cx="140400" cy="273960"/>
              </a:xfrm>
              <a:custGeom>
                <a:avLst/>
                <a:gdLst/>
                <a:ahLst/>
                <a:rect l="l" t="t" r="r" b="b"/>
                <a:pathLst>
                  <a:path w="166" h="319">
                    <a:moveTo>
                      <a:pt x="137" y="306"/>
                    </a:moveTo>
                    <a:lnTo>
                      <a:pt x="135" y="304"/>
                    </a:lnTo>
                    <a:lnTo>
                      <a:pt x="131" y="302"/>
                    </a:lnTo>
                    <a:lnTo>
                      <a:pt x="127" y="298"/>
                    </a:lnTo>
                    <a:lnTo>
                      <a:pt x="120" y="294"/>
                    </a:lnTo>
                    <a:lnTo>
                      <a:pt x="112" y="287"/>
                    </a:lnTo>
                    <a:lnTo>
                      <a:pt x="103" y="277"/>
                    </a:lnTo>
                    <a:lnTo>
                      <a:pt x="93" y="266"/>
                    </a:lnTo>
                    <a:lnTo>
                      <a:pt x="84" y="255"/>
                    </a:lnTo>
                    <a:lnTo>
                      <a:pt x="72" y="237"/>
                    </a:lnTo>
                    <a:lnTo>
                      <a:pt x="61" y="220"/>
                    </a:lnTo>
                    <a:lnTo>
                      <a:pt x="50" y="199"/>
                    </a:lnTo>
                    <a:lnTo>
                      <a:pt x="38" y="177"/>
                    </a:lnTo>
                    <a:lnTo>
                      <a:pt x="27" y="148"/>
                    </a:lnTo>
                    <a:lnTo>
                      <a:pt x="17" y="120"/>
                    </a:lnTo>
                    <a:lnTo>
                      <a:pt x="8" y="85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4" y="24"/>
                    </a:lnTo>
                    <a:lnTo>
                      <a:pt x="6" y="19"/>
                    </a:lnTo>
                    <a:lnTo>
                      <a:pt x="8" y="13"/>
                    </a:lnTo>
                    <a:lnTo>
                      <a:pt x="12" y="7"/>
                    </a:lnTo>
                    <a:lnTo>
                      <a:pt x="17" y="5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36" y="2"/>
                    </a:lnTo>
                    <a:lnTo>
                      <a:pt x="40" y="5"/>
                    </a:lnTo>
                    <a:lnTo>
                      <a:pt x="42" y="9"/>
                    </a:lnTo>
                    <a:lnTo>
                      <a:pt x="46" y="19"/>
                    </a:lnTo>
                    <a:lnTo>
                      <a:pt x="46" y="26"/>
                    </a:lnTo>
                    <a:lnTo>
                      <a:pt x="48" y="40"/>
                    </a:lnTo>
                    <a:lnTo>
                      <a:pt x="51" y="55"/>
                    </a:lnTo>
                    <a:lnTo>
                      <a:pt x="53" y="72"/>
                    </a:lnTo>
                    <a:lnTo>
                      <a:pt x="57" y="89"/>
                    </a:lnTo>
                    <a:lnTo>
                      <a:pt x="61" y="110"/>
                    </a:lnTo>
                    <a:lnTo>
                      <a:pt x="67" y="129"/>
                    </a:lnTo>
                    <a:lnTo>
                      <a:pt x="72" y="150"/>
                    </a:lnTo>
                    <a:lnTo>
                      <a:pt x="76" y="171"/>
                    </a:lnTo>
                    <a:lnTo>
                      <a:pt x="84" y="190"/>
                    </a:lnTo>
                    <a:lnTo>
                      <a:pt x="91" y="209"/>
                    </a:lnTo>
                    <a:lnTo>
                      <a:pt x="101" y="230"/>
                    </a:lnTo>
                    <a:lnTo>
                      <a:pt x="108" y="247"/>
                    </a:lnTo>
                    <a:lnTo>
                      <a:pt x="118" y="264"/>
                    </a:lnTo>
                    <a:lnTo>
                      <a:pt x="129" y="277"/>
                    </a:lnTo>
                    <a:lnTo>
                      <a:pt x="141" y="291"/>
                    </a:lnTo>
                    <a:lnTo>
                      <a:pt x="150" y="298"/>
                    </a:lnTo>
                    <a:lnTo>
                      <a:pt x="158" y="306"/>
                    </a:lnTo>
                    <a:lnTo>
                      <a:pt x="164" y="312"/>
                    </a:lnTo>
                    <a:lnTo>
                      <a:pt x="166" y="315"/>
                    </a:lnTo>
                    <a:lnTo>
                      <a:pt x="166" y="319"/>
                    </a:lnTo>
                    <a:lnTo>
                      <a:pt x="162" y="319"/>
                    </a:lnTo>
                    <a:lnTo>
                      <a:pt x="154" y="313"/>
                    </a:lnTo>
                    <a:lnTo>
                      <a:pt x="147" y="310"/>
                    </a:lnTo>
                    <a:lnTo>
                      <a:pt x="139" y="306"/>
                    </a:lnTo>
                    <a:lnTo>
                      <a:pt x="137" y="306"/>
                    </a:lnTo>
                    <a:lnTo>
                      <a:pt x="137" y="3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205400">
                <a:off x="7811640" y="1040760"/>
                <a:ext cx="251640" cy="159120"/>
              </a:xfrm>
              <a:custGeom>
                <a:avLst/>
                <a:gdLst/>
                <a:ahLst/>
                <a:rect l="l" t="t" r="r" b="b"/>
                <a:pathLst>
                  <a:path w="295" h="187">
                    <a:moveTo>
                      <a:pt x="295" y="21"/>
                    </a:moveTo>
                    <a:lnTo>
                      <a:pt x="291" y="21"/>
                    </a:lnTo>
                    <a:lnTo>
                      <a:pt x="283" y="21"/>
                    </a:lnTo>
                    <a:lnTo>
                      <a:pt x="272" y="23"/>
                    </a:lnTo>
                    <a:lnTo>
                      <a:pt x="259" y="27"/>
                    </a:lnTo>
                    <a:lnTo>
                      <a:pt x="240" y="29"/>
                    </a:lnTo>
                    <a:lnTo>
                      <a:pt x="221" y="35"/>
                    </a:lnTo>
                    <a:lnTo>
                      <a:pt x="198" y="40"/>
                    </a:lnTo>
                    <a:lnTo>
                      <a:pt x="177" y="48"/>
                    </a:lnTo>
                    <a:lnTo>
                      <a:pt x="152" y="58"/>
                    </a:lnTo>
                    <a:lnTo>
                      <a:pt x="127" y="69"/>
                    </a:lnTo>
                    <a:lnTo>
                      <a:pt x="103" y="82"/>
                    </a:lnTo>
                    <a:lnTo>
                      <a:pt x="80" y="97"/>
                    </a:lnTo>
                    <a:lnTo>
                      <a:pt x="55" y="116"/>
                    </a:lnTo>
                    <a:lnTo>
                      <a:pt x="36" y="137"/>
                    </a:lnTo>
                    <a:lnTo>
                      <a:pt x="17" y="160"/>
                    </a:lnTo>
                    <a:lnTo>
                      <a:pt x="2" y="187"/>
                    </a:lnTo>
                    <a:lnTo>
                      <a:pt x="0" y="185"/>
                    </a:lnTo>
                    <a:lnTo>
                      <a:pt x="0" y="183"/>
                    </a:lnTo>
                    <a:lnTo>
                      <a:pt x="0" y="177"/>
                    </a:ln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39"/>
                    </a:lnTo>
                    <a:lnTo>
                      <a:pt x="10" y="128"/>
                    </a:lnTo>
                    <a:lnTo>
                      <a:pt x="15" y="116"/>
                    </a:lnTo>
                    <a:lnTo>
                      <a:pt x="23" y="103"/>
                    </a:lnTo>
                    <a:lnTo>
                      <a:pt x="32" y="90"/>
                    </a:lnTo>
                    <a:lnTo>
                      <a:pt x="46" y="77"/>
                    </a:lnTo>
                    <a:lnTo>
                      <a:pt x="59" y="63"/>
                    </a:lnTo>
                    <a:lnTo>
                      <a:pt x="78" y="50"/>
                    </a:lnTo>
                    <a:lnTo>
                      <a:pt x="99" y="37"/>
                    </a:lnTo>
                    <a:lnTo>
                      <a:pt x="124" y="27"/>
                    </a:lnTo>
                    <a:lnTo>
                      <a:pt x="148" y="18"/>
                    </a:lnTo>
                    <a:lnTo>
                      <a:pt x="171" y="10"/>
                    </a:lnTo>
                    <a:lnTo>
                      <a:pt x="192" y="4"/>
                    </a:lnTo>
                    <a:lnTo>
                      <a:pt x="209" y="2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1" y="0"/>
                    </a:lnTo>
                    <a:lnTo>
                      <a:pt x="262" y="2"/>
                    </a:lnTo>
                    <a:lnTo>
                      <a:pt x="270" y="4"/>
                    </a:lnTo>
                    <a:lnTo>
                      <a:pt x="278" y="8"/>
                    </a:lnTo>
                    <a:lnTo>
                      <a:pt x="281" y="12"/>
                    </a:lnTo>
                    <a:lnTo>
                      <a:pt x="287" y="14"/>
                    </a:lnTo>
                    <a:lnTo>
                      <a:pt x="291" y="19"/>
                    </a:lnTo>
                    <a:lnTo>
                      <a:pt x="295" y="21"/>
                    </a:lnTo>
                    <a:lnTo>
                      <a:pt x="29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205400">
                <a:off x="7799760" y="1096920"/>
                <a:ext cx="254880" cy="141840"/>
              </a:xfrm>
              <a:custGeom>
                <a:avLst/>
                <a:gdLst/>
                <a:ahLst/>
                <a:rect l="l" t="t" r="r" b="b"/>
                <a:pathLst>
                  <a:path w="296" h="167">
                    <a:moveTo>
                      <a:pt x="17" y="167"/>
                    </a:moveTo>
                    <a:lnTo>
                      <a:pt x="17" y="166"/>
                    </a:lnTo>
                    <a:lnTo>
                      <a:pt x="19" y="162"/>
                    </a:lnTo>
                    <a:lnTo>
                      <a:pt x="23" y="154"/>
                    </a:lnTo>
                    <a:lnTo>
                      <a:pt x="28" y="147"/>
                    </a:lnTo>
                    <a:lnTo>
                      <a:pt x="36" y="135"/>
                    </a:lnTo>
                    <a:lnTo>
                      <a:pt x="47" y="124"/>
                    </a:lnTo>
                    <a:lnTo>
                      <a:pt x="59" y="112"/>
                    </a:lnTo>
                    <a:lnTo>
                      <a:pt x="74" y="99"/>
                    </a:lnTo>
                    <a:lnTo>
                      <a:pt x="91" y="86"/>
                    </a:lnTo>
                    <a:lnTo>
                      <a:pt x="110" y="70"/>
                    </a:lnTo>
                    <a:lnTo>
                      <a:pt x="135" y="57"/>
                    </a:lnTo>
                    <a:lnTo>
                      <a:pt x="161" y="44"/>
                    </a:lnTo>
                    <a:lnTo>
                      <a:pt x="188" y="31"/>
                    </a:lnTo>
                    <a:lnTo>
                      <a:pt x="222" y="21"/>
                    </a:lnTo>
                    <a:lnTo>
                      <a:pt x="258" y="10"/>
                    </a:lnTo>
                    <a:lnTo>
                      <a:pt x="296" y="2"/>
                    </a:lnTo>
                    <a:lnTo>
                      <a:pt x="294" y="0"/>
                    </a:lnTo>
                    <a:lnTo>
                      <a:pt x="289" y="0"/>
                    </a:lnTo>
                    <a:lnTo>
                      <a:pt x="279" y="0"/>
                    </a:lnTo>
                    <a:lnTo>
                      <a:pt x="266" y="0"/>
                    </a:lnTo>
                    <a:lnTo>
                      <a:pt x="251" y="0"/>
                    </a:lnTo>
                    <a:lnTo>
                      <a:pt x="234" y="0"/>
                    </a:lnTo>
                    <a:lnTo>
                      <a:pt x="213" y="4"/>
                    </a:lnTo>
                    <a:lnTo>
                      <a:pt x="194" y="8"/>
                    </a:lnTo>
                    <a:lnTo>
                      <a:pt x="169" y="13"/>
                    </a:lnTo>
                    <a:lnTo>
                      <a:pt x="144" y="23"/>
                    </a:lnTo>
                    <a:lnTo>
                      <a:pt x="119" y="32"/>
                    </a:lnTo>
                    <a:lnTo>
                      <a:pt x="95" y="50"/>
                    </a:lnTo>
                    <a:lnTo>
                      <a:pt x="70" y="67"/>
                    </a:lnTo>
                    <a:lnTo>
                      <a:pt x="45" y="88"/>
                    </a:lnTo>
                    <a:lnTo>
                      <a:pt x="23" y="112"/>
                    </a:lnTo>
                    <a:lnTo>
                      <a:pt x="0" y="143"/>
                    </a:lnTo>
                    <a:lnTo>
                      <a:pt x="17" y="167"/>
                    </a:lnTo>
                    <a:lnTo>
                      <a:pt x="17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205400">
                <a:off x="7962840" y="2926440"/>
                <a:ext cx="68040" cy="328680"/>
              </a:xfrm>
              <a:custGeom>
                <a:avLst/>
                <a:gdLst/>
                <a:ahLst/>
                <a:rect l="l" t="t" r="r" b="b"/>
                <a:pathLst>
                  <a:path w="80" h="384">
                    <a:moveTo>
                      <a:pt x="11" y="342"/>
                    </a:moveTo>
                    <a:lnTo>
                      <a:pt x="9" y="340"/>
                    </a:lnTo>
                    <a:lnTo>
                      <a:pt x="9" y="336"/>
                    </a:lnTo>
                    <a:lnTo>
                      <a:pt x="7" y="327"/>
                    </a:lnTo>
                    <a:lnTo>
                      <a:pt x="7" y="315"/>
                    </a:lnTo>
                    <a:lnTo>
                      <a:pt x="6" y="302"/>
                    </a:lnTo>
                    <a:lnTo>
                      <a:pt x="4" y="285"/>
                    </a:lnTo>
                    <a:lnTo>
                      <a:pt x="2" y="266"/>
                    </a:lnTo>
                    <a:lnTo>
                      <a:pt x="2" y="245"/>
                    </a:lnTo>
                    <a:lnTo>
                      <a:pt x="0" y="220"/>
                    </a:lnTo>
                    <a:lnTo>
                      <a:pt x="0" y="194"/>
                    </a:lnTo>
                    <a:lnTo>
                      <a:pt x="0" y="165"/>
                    </a:lnTo>
                    <a:lnTo>
                      <a:pt x="2" y="136"/>
                    </a:lnTo>
                    <a:lnTo>
                      <a:pt x="2" y="102"/>
                    </a:lnTo>
                    <a:lnTo>
                      <a:pt x="6" y="70"/>
                    </a:lnTo>
                    <a:lnTo>
                      <a:pt x="9" y="36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7" y="13"/>
                    </a:lnTo>
                    <a:lnTo>
                      <a:pt x="17" y="26"/>
                    </a:lnTo>
                    <a:lnTo>
                      <a:pt x="21" y="47"/>
                    </a:lnTo>
                    <a:lnTo>
                      <a:pt x="23" y="70"/>
                    </a:lnTo>
                    <a:lnTo>
                      <a:pt x="25" y="98"/>
                    </a:lnTo>
                    <a:lnTo>
                      <a:pt x="28" y="127"/>
                    </a:lnTo>
                    <a:lnTo>
                      <a:pt x="34" y="157"/>
                    </a:lnTo>
                    <a:lnTo>
                      <a:pt x="36" y="188"/>
                    </a:lnTo>
                    <a:lnTo>
                      <a:pt x="42" y="220"/>
                    </a:lnTo>
                    <a:lnTo>
                      <a:pt x="45" y="249"/>
                    </a:lnTo>
                    <a:lnTo>
                      <a:pt x="51" y="277"/>
                    </a:lnTo>
                    <a:lnTo>
                      <a:pt x="57" y="302"/>
                    </a:lnTo>
                    <a:lnTo>
                      <a:pt x="63" y="325"/>
                    </a:lnTo>
                    <a:lnTo>
                      <a:pt x="68" y="342"/>
                    </a:lnTo>
                    <a:lnTo>
                      <a:pt x="74" y="355"/>
                    </a:lnTo>
                    <a:lnTo>
                      <a:pt x="78" y="361"/>
                    </a:lnTo>
                    <a:lnTo>
                      <a:pt x="80" y="368"/>
                    </a:lnTo>
                    <a:lnTo>
                      <a:pt x="80" y="372"/>
                    </a:lnTo>
                    <a:lnTo>
                      <a:pt x="78" y="378"/>
                    </a:lnTo>
                    <a:lnTo>
                      <a:pt x="72" y="380"/>
                    </a:lnTo>
                    <a:lnTo>
                      <a:pt x="68" y="382"/>
                    </a:lnTo>
                    <a:lnTo>
                      <a:pt x="63" y="382"/>
                    </a:lnTo>
                    <a:lnTo>
                      <a:pt x="55" y="384"/>
                    </a:lnTo>
                    <a:lnTo>
                      <a:pt x="47" y="382"/>
                    </a:lnTo>
                    <a:lnTo>
                      <a:pt x="42" y="378"/>
                    </a:lnTo>
                    <a:lnTo>
                      <a:pt x="34" y="374"/>
                    </a:lnTo>
                    <a:lnTo>
                      <a:pt x="28" y="370"/>
                    </a:lnTo>
                    <a:lnTo>
                      <a:pt x="21" y="365"/>
                    </a:lnTo>
                    <a:lnTo>
                      <a:pt x="17" y="357"/>
                    </a:lnTo>
                    <a:lnTo>
                      <a:pt x="13" y="351"/>
                    </a:lnTo>
                    <a:lnTo>
                      <a:pt x="11" y="342"/>
                    </a:lnTo>
                    <a:lnTo>
                      <a:pt x="11" y="3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205400">
                <a:off x="7787880" y="2905560"/>
                <a:ext cx="218880" cy="275760"/>
              </a:xfrm>
              <a:custGeom>
                <a:avLst/>
                <a:gdLst/>
                <a:ahLst/>
                <a:rect l="l" t="t" r="r" b="b"/>
                <a:pathLst>
                  <a:path w="257" h="323">
                    <a:moveTo>
                      <a:pt x="223" y="317"/>
                    </a:moveTo>
                    <a:lnTo>
                      <a:pt x="221" y="313"/>
                    </a:lnTo>
                    <a:lnTo>
                      <a:pt x="219" y="310"/>
                    </a:lnTo>
                    <a:lnTo>
                      <a:pt x="215" y="300"/>
                    </a:lnTo>
                    <a:lnTo>
                      <a:pt x="209" y="291"/>
                    </a:lnTo>
                    <a:lnTo>
                      <a:pt x="204" y="277"/>
                    </a:lnTo>
                    <a:lnTo>
                      <a:pt x="194" y="262"/>
                    </a:lnTo>
                    <a:lnTo>
                      <a:pt x="185" y="245"/>
                    </a:lnTo>
                    <a:lnTo>
                      <a:pt x="173" y="226"/>
                    </a:lnTo>
                    <a:lnTo>
                      <a:pt x="160" y="205"/>
                    </a:lnTo>
                    <a:lnTo>
                      <a:pt x="146" y="184"/>
                    </a:lnTo>
                    <a:lnTo>
                      <a:pt x="129" y="159"/>
                    </a:lnTo>
                    <a:lnTo>
                      <a:pt x="114" y="137"/>
                    </a:lnTo>
                    <a:lnTo>
                      <a:pt x="95" y="112"/>
                    </a:lnTo>
                    <a:lnTo>
                      <a:pt x="76" y="89"/>
                    </a:lnTo>
                    <a:lnTo>
                      <a:pt x="53" y="64"/>
                    </a:lnTo>
                    <a:lnTo>
                      <a:pt x="32" y="40"/>
                    </a:lnTo>
                    <a:lnTo>
                      <a:pt x="13" y="19"/>
                    </a:lnTo>
                    <a:lnTo>
                      <a:pt x="4" y="5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3" y="4"/>
                    </a:lnTo>
                    <a:lnTo>
                      <a:pt x="29" y="13"/>
                    </a:lnTo>
                    <a:lnTo>
                      <a:pt x="46" y="28"/>
                    </a:lnTo>
                    <a:lnTo>
                      <a:pt x="69" y="47"/>
                    </a:lnTo>
                    <a:lnTo>
                      <a:pt x="91" y="66"/>
                    </a:lnTo>
                    <a:lnTo>
                      <a:pt x="114" y="89"/>
                    </a:lnTo>
                    <a:lnTo>
                      <a:pt x="139" y="114"/>
                    </a:lnTo>
                    <a:lnTo>
                      <a:pt x="164" y="140"/>
                    </a:lnTo>
                    <a:lnTo>
                      <a:pt x="186" y="165"/>
                    </a:lnTo>
                    <a:lnTo>
                      <a:pt x="207" y="192"/>
                    </a:lnTo>
                    <a:lnTo>
                      <a:pt x="223" y="216"/>
                    </a:lnTo>
                    <a:lnTo>
                      <a:pt x="238" y="241"/>
                    </a:lnTo>
                    <a:lnTo>
                      <a:pt x="245" y="260"/>
                    </a:lnTo>
                    <a:lnTo>
                      <a:pt x="251" y="277"/>
                    </a:lnTo>
                    <a:lnTo>
                      <a:pt x="255" y="291"/>
                    </a:lnTo>
                    <a:lnTo>
                      <a:pt x="257" y="304"/>
                    </a:lnTo>
                    <a:lnTo>
                      <a:pt x="257" y="310"/>
                    </a:lnTo>
                    <a:lnTo>
                      <a:pt x="255" y="317"/>
                    </a:lnTo>
                    <a:lnTo>
                      <a:pt x="253" y="321"/>
                    </a:lnTo>
                    <a:lnTo>
                      <a:pt x="249" y="323"/>
                    </a:lnTo>
                    <a:lnTo>
                      <a:pt x="240" y="323"/>
                    </a:lnTo>
                    <a:lnTo>
                      <a:pt x="232" y="321"/>
                    </a:lnTo>
                    <a:lnTo>
                      <a:pt x="224" y="317"/>
                    </a:lnTo>
                    <a:lnTo>
                      <a:pt x="223" y="317"/>
                    </a:lnTo>
                    <a:lnTo>
                      <a:pt x="223" y="3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205400">
                <a:off x="7853400" y="2592720"/>
                <a:ext cx="200160" cy="539280"/>
              </a:xfrm>
              <a:custGeom>
                <a:avLst/>
                <a:gdLst/>
                <a:ahLst/>
                <a:rect l="l" t="t" r="r" b="b"/>
                <a:pathLst>
                  <a:path w="234" h="631">
                    <a:moveTo>
                      <a:pt x="0" y="0"/>
                    </a:moveTo>
                    <a:lnTo>
                      <a:pt x="2" y="4"/>
                    </a:lnTo>
                    <a:lnTo>
                      <a:pt x="6" y="17"/>
                    </a:lnTo>
                    <a:lnTo>
                      <a:pt x="12" y="40"/>
                    </a:lnTo>
                    <a:lnTo>
                      <a:pt x="21" y="71"/>
                    </a:lnTo>
                    <a:lnTo>
                      <a:pt x="32" y="107"/>
                    </a:lnTo>
                    <a:lnTo>
                      <a:pt x="46" y="148"/>
                    </a:lnTo>
                    <a:lnTo>
                      <a:pt x="61" y="194"/>
                    </a:lnTo>
                    <a:lnTo>
                      <a:pt x="78" y="244"/>
                    </a:lnTo>
                    <a:lnTo>
                      <a:pt x="93" y="295"/>
                    </a:lnTo>
                    <a:lnTo>
                      <a:pt x="112" y="346"/>
                    </a:lnTo>
                    <a:lnTo>
                      <a:pt x="131" y="398"/>
                    </a:lnTo>
                    <a:lnTo>
                      <a:pt x="152" y="451"/>
                    </a:lnTo>
                    <a:lnTo>
                      <a:pt x="171" y="500"/>
                    </a:lnTo>
                    <a:lnTo>
                      <a:pt x="192" y="548"/>
                    </a:lnTo>
                    <a:lnTo>
                      <a:pt x="213" y="591"/>
                    </a:lnTo>
                    <a:lnTo>
                      <a:pt x="234" y="631"/>
                    </a:lnTo>
                    <a:lnTo>
                      <a:pt x="232" y="628"/>
                    </a:lnTo>
                    <a:lnTo>
                      <a:pt x="232" y="624"/>
                    </a:lnTo>
                    <a:lnTo>
                      <a:pt x="230" y="618"/>
                    </a:lnTo>
                    <a:lnTo>
                      <a:pt x="230" y="609"/>
                    </a:lnTo>
                    <a:lnTo>
                      <a:pt x="226" y="597"/>
                    </a:lnTo>
                    <a:lnTo>
                      <a:pt x="223" y="582"/>
                    </a:lnTo>
                    <a:lnTo>
                      <a:pt x="219" y="565"/>
                    </a:lnTo>
                    <a:lnTo>
                      <a:pt x="217" y="546"/>
                    </a:lnTo>
                    <a:lnTo>
                      <a:pt x="209" y="523"/>
                    </a:lnTo>
                    <a:lnTo>
                      <a:pt x="204" y="498"/>
                    </a:lnTo>
                    <a:lnTo>
                      <a:pt x="196" y="472"/>
                    </a:lnTo>
                    <a:lnTo>
                      <a:pt x="188" y="443"/>
                    </a:lnTo>
                    <a:lnTo>
                      <a:pt x="177" y="409"/>
                    </a:lnTo>
                    <a:lnTo>
                      <a:pt x="167" y="377"/>
                    </a:lnTo>
                    <a:lnTo>
                      <a:pt x="156" y="339"/>
                    </a:lnTo>
                    <a:lnTo>
                      <a:pt x="143" y="301"/>
                    </a:lnTo>
                    <a:lnTo>
                      <a:pt x="127" y="261"/>
                    </a:lnTo>
                    <a:lnTo>
                      <a:pt x="112" y="225"/>
                    </a:lnTo>
                    <a:lnTo>
                      <a:pt x="99" y="192"/>
                    </a:lnTo>
                    <a:lnTo>
                      <a:pt x="88" y="162"/>
                    </a:lnTo>
                    <a:lnTo>
                      <a:pt x="74" y="133"/>
                    </a:lnTo>
                    <a:lnTo>
                      <a:pt x="63" y="109"/>
                    </a:lnTo>
                    <a:lnTo>
                      <a:pt x="51" y="88"/>
                    </a:lnTo>
                    <a:lnTo>
                      <a:pt x="42" y="69"/>
                    </a:lnTo>
                    <a:lnTo>
                      <a:pt x="32" y="51"/>
                    </a:lnTo>
                    <a:lnTo>
                      <a:pt x="23" y="38"/>
                    </a:lnTo>
                    <a:lnTo>
                      <a:pt x="17" y="25"/>
                    </a:lnTo>
                    <a:lnTo>
                      <a:pt x="12" y="15"/>
                    </a:lnTo>
                    <a:lnTo>
                      <a:pt x="6" y="8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205400">
                <a:off x="7762320" y="1158480"/>
                <a:ext cx="364680" cy="962640"/>
              </a:xfrm>
              <a:custGeom>
                <a:avLst/>
                <a:gdLst/>
                <a:ahLst/>
                <a:rect l="l" t="t" r="r" b="b"/>
                <a:pathLst>
                  <a:path w="426" h="1124">
                    <a:moveTo>
                      <a:pt x="0" y="19"/>
                    </a:moveTo>
                    <a:lnTo>
                      <a:pt x="2" y="25"/>
                    </a:lnTo>
                    <a:lnTo>
                      <a:pt x="10" y="48"/>
                    </a:lnTo>
                    <a:lnTo>
                      <a:pt x="21" y="84"/>
                    </a:lnTo>
                    <a:lnTo>
                      <a:pt x="40" y="132"/>
                    </a:lnTo>
                    <a:lnTo>
                      <a:pt x="59" y="191"/>
                    </a:lnTo>
                    <a:lnTo>
                      <a:pt x="84" y="257"/>
                    </a:lnTo>
                    <a:lnTo>
                      <a:pt x="111" y="331"/>
                    </a:lnTo>
                    <a:lnTo>
                      <a:pt x="141" y="415"/>
                    </a:lnTo>
                    <a:lnTo>
                      <a:pt x="171" y="499"/>
                    </a:lnTo>
                    <a:lnTo>
                      <a:pt x="207" y="590"/>
                    </a:lnTo>
                    <a:lnTo>
                      <a:pt x="242" y="681"/>
                    </a:lnTo>
                    <a:lnTo>
                      <a:pt x="278" y="774"/>
                    </a:lnTo>
                    <a:lnTo>
                      <a:pt x="316" y="865"/>
                    </a:lnTo>
                    <a:lnTo>
                      <a:pt x="352" y="955"/>
                    </a:lnTo>
                    <a:lnTo>
                      <a:pt x="388" y="1042"/>
                    </a:lnTo>
                    <a:lnTo>
                      <a:pt x="426" y="1124"/>
                    </a:lnTo>
                    <a:lnTo>
                      <a:pt x="422" y="1118"/>
                    </a:lnTo>
                    <a:lnTo>
                      <a:pt x="417" y="1097"/>
                    </a:lnTo>
                    <a:lnTo>
                      <a:pt x="409" y="1067"/>
                    </a:lnTo>
                    <a:lnTo>
                      <a:pt x="396" y="1025"/>
                    </a:lnTo>
                    <a:lnTo>
                      <a:pt x="380" y="974"/>
                    </a:lnTo>
                    <a:lnTo>
                      <a:pt x="361" y="913"/>
                    </a:lnTo>
                    <a:lnTo>
                      <a:pt x="339" y="843"/>
                    </a:lnTo>
                    <a:lnTo>
                      <a:pt x="316" y="769"/>
                    </a:lnTo>
                    <a:lnTo>
                      <a:pt x="287" y="685"/>
                    </a:lnTo>
                    <a:lnTo>
                      <a:pt x="257" y="597"/>
                    </a:lnTo>
                    <a:lnTo>
                      <a:pt x="225" y="502"/>
                    </a:lnTo>
                    <a:lnTo>
                      <a:pt x="192" y="407"/>
                    </a:lnTo>
                    <a:lnTo>
                      <a:pt x="154" y="307"/>
                    </a:lnTo>
                    <a:lnTo>
                      <a:pt x="116" y="206"/>
                    </a:lnTo>
                    <a:lnTo>
                      <a:pt x="76" y="103"/>
                    </a:lnTo>
                    <a:lnTo>
                      <a:pt x="34" y="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205400">
                <a:off x="7791840" y="1188000"/>
                <a:ext cx="551160" cy="1603440"/>
              </a:xfrm>
              <a:custGeom>
                <a:avLst/>
                <a:gdLst/>
                <a:ahLst/>
                <a:rect l="l" t="t" r="r" b="b"/>
                <a:pathLst>
                  <a:path w="644" h="1872">
                    <a:moveTo>
                      <a:pt x="0" y="7"/>
                    </a:moveTo>
                    <a:lnTo>
                      <a:pt x="3" y="19"/>
                    </a:lnTo>
                    <a:lnTo>
                      <a:pt x="17" y="55"/>
                    </a:lnTo>
                    <a:lnTo>
                      <a:pt x="38" y="112"/>
                    </a:lnTo>
                    <a:lnTo>
                      <a:pt x="66" y="190"/>
                    </a:lnTo>
                    <a:lnTo>
                      <a:pt x="102" y="283"/>
                    </a:lnTo>
                    <a:lnTo>
                      <a:pt x="140" y="393"/>
                    </a:lnTo>
                    <a:lnTo>
                      <a:pt x="186" y="515"/>
                    </a:lnTo>
                    <a:lnTo>
                      <a:pt x="233" y="648"/>
                    </a:lnTo>
                    <a:lnTo>
                      <a:pt x="283" y="790"/>
                    </a:lnTo>
                    <a:lnTo>
                      <a:pt x="338" y="941"/>
                    </a:lnTo>
                    <a:lnTo>
                      <a:pt x="391" y="1095"/>
                    </a:lnTo>
                    <a:lnTo>
                      <a:pt x="444" y="1254"/>
                    </a:lnTo>
                    <a:lnTo>
                      <a:pt x="496" y="1410"/>
                    </a:lnTo>
                    <a:lnTo>
                      <a:pt x="547" y="1568"/>
                    </a:lnTo>
                    <a:lnTo>
                      <a:pt x="596" y="1722"/>
                    </a:lnTo>
                    <a:lnTo>
                      <a:pt x="644" y="1872"/>
                    </a:lnTo>
                    <a:lnTo>
                      <a:pt x="642" y="1867"/>
                    </a:lnTo>
                    <a:lnTo>
                      <a:pt x="640" y="1855"/>
                    </a:lnTo>
                    <a:lnTo>
                      <a:pt x="636" y="1832"/>
                    </a:lnTo>
                    <a:lnTo>
                      <a:pt x="633" y="1800"/>
                    </a:lnTo>
                    <a:lnTo>
                      <a:pt x="621" y="1754"/>
                    </a:lnTo>
                    <a:lnTo>
                      <a:pt x="608" y="1694"/>
                    </a:lnTo>
                    <a:lnTo>
                      <a:pt x="589" y="1617"/>
                    </a:lnTo>
                    <a:lnTo>
                      <a:pt x="566" y="1526"/>
                    </a:lnTo>
                    <a:lnTo>
                      <a:pt x="536" y="1416"/>
                    </a:lnTo>
                    <a:lnTo>
                      <a:pt x="496" y="1285"/>
                    </a:lnTo>
                    <a:lnTo>
                      <a:pt x="448" y="1131"/>
                    </a:lnTo>
                    <a:lnTo>
                      <a:pt x="393" y="956"/>
                    </a:lnTo>
                    <a:lnTo>
                      <a:pt x="326" y="758"/>
                    </a:lnTo>
                    <a:lnTo>
                      <a:pt x="250" y="532"/>
                    </a:lnTo>
                    <a:lnTo>
                      <a:pt x="163" y="279"/>
                    </a:lnTo>
                    <a:lnTo>
                      <a:pt x="62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205400">
                <a:off x="7498800" y="1260360"/>
                <a:ext cx="636840" cy="1529280"/>
              </a:xfrm>
              <a:custGeom>
                <a:avLst/>
                <a:gdLst/>
                <a:ahLst/>
                <a:rect l="l" t="t" r="r" b="b"/>
                <a:pathLst>
                  <a:path w="743" h="1785">
                    <a:moveTo>
                      <a:pt x="45" y="0"/>
                    </a:moveTo>
                    <a:lnTo>
                      <a:pt x="51" y="15"/>
                    </a:lnTo>
                    <a:lnTo>
                      <a:pt x="70" y="65"/>
                    </a:lnTo>
                    <a:lnTo>
                      <a:pt x="95" y="139"/>
                    </a:lnTo>
                    <a:lnTo>
                      <a:pt x="133" y="238"/>
                    </a:lnTo>
                    <a:lnTo>
                      <a:pt x="175" y="356"/>
                    </a:lnTo>
                    <a:lnTo>
                      <a:pt x="224" y="491"/>
                    </a:lnTo>
                    <a:lnTo>
                      <a:pt x="277" y="635"/>
                    </a:lnTo>
                    <a:lnTo>
                      <a:pt x="334" y="787"/>
                    </a:lnTo>
                    <a:lnTo>
                      <a:pt x="391" y="943"/>
                    </a:lnTo>
                    <a:lnTo>
                      <a:pt x="450" y="1097"/>
                    </a:lnTo>
                    <a:lnTo>
                      <a:pt x="509" y="1245"/>
                    </a:lnTo>
                    <a:lnTo>
                      <a:pt x="566" y="1388"/>
                    </a:lnTo>
                    <a:lnTo>
                      <a:pt x="617" y="1515"/>
                    </a:lnTo>
                    <a:lnTo>
                      <a:pt x="667" y="1629"/>
                    </a:lnTo>
                    <a:lnTo>
                      <a:pt x="709" y="1719"/>
                    </a:lnTo>
                    <a:lnTo>
                      <a:pt x="743" y="1785"/>
                    </a:lnTo>
                    <a:lnTo>
                      <a:pt x="741" y="1783"/>
                    </a:lnTo>
                    <a:lnTo>
                      <a:pt x="733" y="1774"/>
                    </a:lnTo>
                    <a:lnTo>
                      <a:pt x="722" y="1757"/>
                    </a:lnTo>
                    <a:lnTo>
                      <a:pt x="707" y="1730"/>
                    </a:lnTo>
                    <a:lnTo>
                      <a:pt x="682" y="1692"/>
                    </a:lnTo>
                    <a:lnTo>
                      <a:pt x="655" y="1641"/>
                    </a:lnTo>
                    <a:lnTo>
                      <a:pt x="621" y="1576"/>
                    </a:lnTo>
                    <a:lnTo>
                      <a:pt x="583" y="1494"/>
                    </a:lnTo>
                    <a:lnTo>
                      <a:pt x="536" y="1392"/>
                    </a:lnTo>
                    <a:lnTo>
                      <a:pt x="481" y="1272"/>
                    </a:lnTo>
                    <a:lnTo>
                      <a:pt x="420" y="1129"/>
                    </a:lnTo>
                    <a:lnTo>
                      <a:pt x="353" y="964"/>
                    </a:lnTo>
                    <a:lnTo>
                      <a:pt x="275" y="770"/>
                    </a:lnTo>
                    <a:lnTo>
                      <a:pt x="194" y="553"/>
                    </a:lnTo>
                    <a:lnTo>
                      <a:pt x="100" y="306"/>
                    </a:lnTo>
                    <a:lnTo>
                      <a:pt x="0" y="30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205400">
                <a:off x="7825680" y="189000"/>
                <a:ext cx="147600" cy="150480"/>
              </a:xfrm>
              <a:custGeom>
                <a:avLst/>
                <a:gdLst/>
                <a:ahLst/>
                <a:rect l="l" t="t" r="r" b="b"/>
                <a:pathLst>
                  <a:path w="173" h="177">
                    <a:moveTo>
                      <a:pt x="38" y="13"/>
                    </a:moveTo>
                    <a:lnTo>
                      <a:pt x="27" y="17"/>
                    </a:lnTo>
                    <a:lnTo>
                      <a:pt x="19" y="23"/>
                    </a:lnTo>
                    <a:lnTo>
                      <a:pt x="11" y="31"/>
                    </a:lnTo>
                    <a:lnTo>
                      <a:pt x="8" y="38"/>
                    </a:lnTo>
                    <a:lnTo>
                      <a:pt x="4" y="48"/>
                    </a:lnTo>
                    <a:lnTo>
                      <a:pt x="2" y="59"/>
                    </a:lnTo>
                    <a:lnTo>
                      <a:pt x="0" y="71"/>
                    </a:lnTo>
                    <a:lnTo>
                      <a:pt x="2" y="84"/>
                    </a:lnTo>
                    <a:lnTo>
                      <a:pt x="4" y="95"/>
                    </a:lnTo>
                    <a:lnTo>
                      <a:pt x="8" y="107"/>
                    </a:lnTo>
                    <a:lnTo>
                      <a:pt x="11" y="118"/>
                    </a:lnTo>
                    <a:lnTo>
                      <a:pt x="19" y="129"/>
                    </a:lnTo>
                    <a:lnTo>
                      <a:pt x="25" y="139"/>
                    </a:lnTo>
                    <a:lnTo>
                      <a:pt x="32" y="150"/>
                    </a:lnTo>
                    <a:lnTo>
                      <a:pt x="42" y="158"/>
                    </a:lnTo>
                    <a:lnTo>
                      <a:pt x="53" y="166"/>
                    </a:lnTo>
                    <a:lnTo>
                      <a:pt x="63" y="169"/>
                    </a:lnTo>
                    <a:lnTo>
                      <a:pt x="74" y="173"/>
                    </a:lnTo>
                    <a:lnTo>
                      <a:pt x="84" y="175"/>
                    </a:lnTo>
                    <a:lnTo>
                      <a:pt x="95" y="177"/>
                    </a:lnTo>
                    <a:lnTo>
                      <a:pt x="105" y="177"/>
                    </a:lnTo>
                    <a:lnTo>
                      <a:pt x="114" y="177"/>
                    </a:lnTo>
                    <a:lnTo>
                      <a:pt x="124" y="175"/>
                    </a:lnTo>
                    <a:lnTo>
                      <a:pt x="135" y="175"/>
                    </a:lnTo>
                    <a:lnTo>
                      <a:pt x="141" y="173"/>
                    </a:lnTo>
                    <a:lnTo>
                      <a:pt x="148" y="171"/>
                    </a:lnTo>
                    <a:lnTo>
                      <a:pt x="156" y="169"/>
                    </a:lnTo>
                    <a:lnTo>
                      <a:pt x="162" y="167"/>
                    </a:lnTo>
                    <a:lnTo>
                      <a:pt x="169" y="164"/>
                    </a:lnTo>
                    <a:lnTo>
                      <a:pt x="173" y="164"/>
                    </a:lnTo>
                    <a:lnTo>
                      <a:pt x="171" y="164"/>
                    </a:lnTo>
                    <a:lnTo>
                      <a:pt x="169" y="164"/>
                    </a:lnTo>
                    <a:lnTo>
                      <a:pt x="163" y="164"/>
                    </a:lnTo>
                    <a:lnTo>
                      <a:pt x="158" y="164"/>
                    </a:lnTo>
                    <a:lnTo>
                      <a:pt x="150" y="162"/>
                    </a:lnTo>
                    <a:lnTo>
                      <a:pt x="143" y="160"/>
                    </a:lnTo>
                    <a:lnTo>
                      <a:pt x="135" y="160"/>
                    </a:lnTo>
                    <a:lnTo>
                      <a:pt x="125" y="160"/>
                    </a:lnTo>
                    <a:lnTo>
                      <a:pt x="116" y="158"/>
                    </a:lnTo>
                    <a:lnTo>
                      <a:pt x="106" y="156"/>
                    </a:lnTo>
                    <a:lnTo>
                      <a:pt x="97" y="152"/>
                    </a:lnTo>
                    <a:lnTo>
                      <a:pt x="89" y="150"/>
                    </a:lnTo>
                    <a:lnTo>
                      <a:pt x="80" y="145"/>
                    </a:lnTo>
                    <a:lnTo>
                      <a:pt x="74" y="141"/>
                    </a:lnTo>
                    <a:lnTo>
                      <a:pt x="66" y="135"/>
                    </a:lnTo>
                    <a:lnTo>
                      <a:pt x="63" y="129"/>
                    </a:lnTo>
                    <a:lnTo>
                      <a:pt x="65" y="129"/>
                    </a:lnTo>
                    <a:lnTo>
                      <a:pt x="74" y="131"/>
                    </a:lnTo>
                    <a:lnTo>
                      <a:pt x="80" y="131"/>
                    </a:lnTo>
                    <a:lnTo>
                      <a:pt x="86" y="131"/>
                    </a:lnTo>
                    <a:lnTo>
                      <a:pt x="93" y="129"/>
                    </a:lnTo>
                    <a:lnTo>
                      <a:pt x="99" y="129"/>
                    </a:lnTo>
                    <a:lnTo>
                      <a:pt x="106" y="126"/>
                    </a:lnTo>
                    <a:lnTo>
                      <a:pt x="112" y="122"/>
                    </a:lnTo>
                    <a:lnTo>
                      <a:pt x="118" y="116"/>
                    </a:lnTo>
                    <a:lnTo>
                      <a:pt x="124" y="110"/>
                    </a:lnTo>
                    <a:lnTo>
                      <a:pt x="127" y="103"/>
                    </a:lnTo>
                    <a:lnTo>
                      <a:pt x="131" y="91"/>
                    </a:lnTo>
                    <a:lnTo>
                      <a:pt x="131" y="80"/>
                    </a:lnTo>
                    <a:lnTo>
                      <a:pt x="133" y="65"/>
                    </a:lnTo>
                    <a:lnTo>
                      <a:pt x="131" y="50"/>
                    </a:lnTo>
                    <a:lnTo>
                      <a:pt x="127" y="36"/>
                    </a:lnTo>
                    <a:lnTo>
                      <a:pt x="124" y="27"/>
                    </a:lnTo>
                    <a:lnTo>
                      <a:pt x="120" y="19"/>
                    </a:lnTo>
                    <a:lnTo>
                      <a:pt x="114" y="12"/>
                    </a:lnTo>
                    <a:lnTo>
                      <a:pt x="108" y="8"/>
                    </a:lnTo>
                    <a:lnTo>
                      <a:pt x="101" y="4"/>
                    </a:lnTo>
                    <a:lnTo>
                      <a:pt x="95" y="2"/>
                    </a:lnTo>
                    <a:lnTo>
                      <a:pt x="87" y="0"/>
                    </a:lnTo>
                    <a:lnTo>
                      <a:pt x="80" y="2"/>
                    </a:lnTo>
                    <a:lnTo>
                      <a:pt x="72" y="2"/>
                    </a:lnTo>
                    <a:lnTo>
                      <a:pt x="65" y="4"/>
                    </a:lnTo>
                    <a:lnTo>
                      <a:pt x="57" y="6"/>
                    </a:lnTo>
                    <a:lnTo>
                      <a:pt x="49" y="8"/>
                    </a:lnTo>
                    <a:lnTo>
                      <a:pt x="44" y="10"/>
                    </a:lnTo>
                    <a:lnTo>
                      <a:pt x="38" y="13"/>
                    </a:lnTo>
                    <a:lnTo>
                      <a:pt x="38" y="1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 rot="5400000">
              <a:off x="6763320" y="1308600"/>
              <a:ext cx="3046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DIAGONALIZ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272880"/>
            <a:ext cx="8964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Yet within the last decade, we’ve seen circuit lower bounds that overcome both b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440" y="1332000"/>
            <a:ext cx="8353440" cy="19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6600"/>
                </a:solidFill>
                <a:latin typeface="Arial"/>
              </a:rPr>
              <a:t>[Buhrman-Fortnow-Thierauf 1998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 MA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P/poly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urthermore, this separation doesn’t relativ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6600"/>
                </a:solidFill>
                <a:latin typeface="Arial"/>
              </a:rPr>
              <a:t>[Vinodchandran 2004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 PP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SIZE(n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) for every fixed k</a:t>
            </a:r>
            <a:br>
              <a:rPr sz="2600"/>
            </a:br>
            <a:r>
              <a:rPr b="0" lang="en-CA" sz="2600" spc="-1" strike="noStrike">
                <a:solidFill>
                  <a:srgbClr val="006600"/>
                </a:solidFill>
                <a:latin typeface="Arial"/>
              </a:rPr>
              <a:t>[A. 2006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 Vinodchandran’s result is non-relativiz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280" y="6058080"/>
            <a:ext cx="7988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6600"/>
                </a:solidFill>
                <a:latin typeface="Arial"/>
              </a:rPr>
              <a:t>[Santhanam 2007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 PromiseMA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SIZE(n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) for fixed 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79560" y="3371760"/>
            <a:ext cx="6702480" cy="2492280"/>
            <a:chOff x="979560" y="3371760"/>
            <a:chExt cx="6702480" cy="2492280"/>
          </a:xfrm>
        </p:grpSpPr>
        <p:sp>
          <p:nvSpPr>
            <p:cNvPr id="202" name=""/>
            <p:cNvSpPr/>
            <p:nvPr/>
          </p:nvSpPr>
          <p:spPr>
            <a:xfrm>
              <a:off x="979560" y="3371760"/>
              <a:ext cx="6408720" cy="2492280"/>
            </a:xfrm>
            <a:prstGeom prst="rect">
              <a:avLst/>
            </a:prstGeom>
            <a:solidFill>
              <a:srgbClr val="e4e4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13000" y="3436920"/>
              <a:ext cx="439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333399"/>
                  </a:solidFill>
                  <a:latin typeface="Arial"/>
                </a:rPr>
                <a:t>Vinodchandran’s Proof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35480" y="3895560"/>
              <a:ext cx="0" cy="194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52360" y="3938400"/>
              <a:ext cx="22528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PP </a:t>
              </a: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P/poly</a:t>
              </a:r>
              <a:br>
                <a:rPr sz="2300"/>
              </a:b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We’re don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87760" y="3970440"/>
              <a:ext cx="4094280" cy="18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PP </a:t>
              </a:r>
              <a:r>
                <a:rPr b="0" lang="en-CA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 P/poly</a:t>
              </a:r>
              <a:br>
                <a:rPr sz="2300"/>
              </a:br>
              <a:r>
                <a:rPr b="0" lang="en-CA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r>
                <a:rPr b="0" lang="en-CA" sz="2300" spc="-1" strike="noStrike" baseline="30000">
                  <a:solidFill>
                    <a:srgbClr val="000000"/>
                  </a:solidFill>
                  <a:latin typeface="Arial"/>
                </a:rPr>
                <a:t>#P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 = MA </a:t>
              </a:r>
              <a:r>
                <a:rPr b="0" lang="en-CA" sz="2300" spc="-1" strike="noStrike">
                  <a:solidFill>
                    <a:srgbClr val="006600"/>
                  </a:solidFill>
                  <a:latin typeface="Arial"/>
                </a:rPr>
                <a:t>[LFKN]</a:t>
              </a:r>
              <a:br>
                <a:rPr sz="2300"/>
              </a:br>
              <a:r>
                <a:rPr b="0" lang="en-CA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r>
                <a:rPr b="0" lang="en-CA" sz="2300" spc="-1" strike="noStrike" baseline="30000">
                  <a:solidFill>
                    <a:srgbClr val="000000"/>
                  </a:solidFill>
                  <a:latin typeface="Arial"/>
                </a:rPr>
                <a:t>#P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 = PP</a:t>
              </a:r>
              <a:br>
                <a:rPr sz="2300"/>
              </a:br>
              <a:r>
                <a:rPr b="0" lang="en-CA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CA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CA" sz="23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CA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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 PP </a:t>
              </a:r>
              <a:r>
                <a:rPr b="0" lang="en-CA" sz="2300" spc="-1" strike="noStrike">
                  <a:solidFill>
                    <a:srgbClr val="006600"/>
                  </a:solidFill>
                  <a:latin typeface="Arial"/>
                </a:rPr>
                <a:t>[Toda]</a:t>
              </a:r>
              <a:br>
                <a:rPr sz="2300"/>
              </a:br>
              <a:r>
                <a:rPr b="0" lang="en-CA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 PP </a:t>
              </a:r>
              <a:r>
                <a:rPr b="0" lang="en-CA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 SIZE(n</a:t>
              </a:r>
              <a:r>
                <a:rPr b="0" lang="en-CA" sz="23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CA" sz="23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CA" sz="2300" spc="-1" strike="noStrike">
                  <a:solidFill>
                    <a:srgbClr val="006600"/>
                  </a:solidFill>
                  <a:latin typeface="Arial"/>
                </a:rPr>
                <a:t>[Kannan]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126040" y="3529080"/>
            <a:ext cx="3809880" cy="1292040"/>
            <a:chOff x="5126040" y="3529080"/>
            <a:chExt cx="3809880" cy="1292040"/>
          </a:xfrm>
        </p:grpSpPr>
        <p:sp>
          <p:nvSpPr>
            <p:cNvPr id="208" name=""/>
            <p:cNvSpPr/>
            <p:nvPr/>
          </p:nvSpPr>
          <p:spPr>
            <a:xfrm>
              <a:off x="5126040" y="4298760"/>
              <a:ext cx="1405080" cy="522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76840" y="3529080"/>
              <a:ext cx="2359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0000"/>
                  </a:solidFill>
                  <a:latin typeface="Arial"/>
                </a:rPr>
                <a:t>Non-Relativiz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6170400" y="3873600"/>
              <a:ext cx="960120" cy="436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918040" y="4670280"/>
            <a:ext cx="3071880" cy="1214640"/>
            <a:chOff x="5918040" y="4670280"/>
            <a:chExt cx="3071880" cy="1214640"/>
          </a:xfrm>
        </p:grpSpPr>
        <p:sp>
          <p:nvSpPr>
            <p:cNvPr id="212" name=""/>
            <p:cNvSpPr/>
            <p:nvPr/>
          </p:nvSpPr>
          <p:spPr>
            <a:xfrm>
              <a:off x="6630840" y="4670280"/>
              <a:ext cx="2359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Non-Naturaliz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18040" y="5362560"/>
              <a:ext cx="1405080" cy="522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940440" y="5025960"/>
              <a:ext cx="795600" cy="382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7160" y="284040"/>
            <a:ext cx="8916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Bottom Line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elativization and natural proofs, even taken together,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are no longer insuperable barriers to circuit lower bou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1611360"/>
            <a:ext cx="8609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0000"/>
                </a:solidFill>
                <a:latin typeface="Arial"/>
              </a:rPr>
              <a:t>Obvious Question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500" spc="-1" strike="noStrike">
                <a:solidFill>
                  <a:srgbClr val="006600"/>
                </a:solidFill>
                <a:latin typeface="Arial"/>
              </a:rPr>
              <a:t>[Santhanam 2007]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: Is there a third barrie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2760" y="2532240"/>
            <a:ext cx="522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This Talk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Unfortunately, y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4200" y="3146400"/>
            <a:ext cx="8675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CA" sz="2500" spc="-1" strike="noStrike">
                <a:solidFill>
                  <a:srgbClr val="ff0000"/>
                </a:solidFill>
                <a:latin typeface="Arial"/>
              </a:rPr>
              <a:t>Algebrization”: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A generalization of relativization where the simulating machine gets access not only to an oracle A, but also a low-degree extension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of A over a finite field or 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00" y="4510080"/>
            <a:ext cx="880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We show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Almost all known techniques in complexity theory algebri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Any proof of P</a:t>
            </a:r>
            <a:r>
              <a:rPr b="0" lang="en-CA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NP—or even P=RP or NEXP</a:t>
            </a:r>
            <a:r>
              <a:rPr b="0" lang="en-CA" sz="25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P/poly—will require </a:t>
            </a:r>
            <a:r>
              <a:rPr b="1" lang="en-CA" sz="2500" spc="-1" strike="noStrike">
                <a:solidFill>
                  <a:srgbClr val="ff3300"/>
                </a:solidFill>
                <a:latin typeface="Arial"/>
              </a:rPr>
              <a:t>non-algebrizing techniq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385920" y="333360"/>
            <a:ext cx="5163840" cy="6048360"/>
            <a:chOff x="385920" y="333360"/>
            <a:chExt cx="5163840" cy="6048360"/>
          </a:xfrm>
        </p:grpSpPr>
        <p:sp>
          <p:nvSpPr>
            <p:cNvPr id="221" name=""/>
            <p:cNvSpPr/>
            <p:nvPr/>
          </p:nvSpPr>
          <p:spPr>
            <a:xfrm>
              <a:off x="385920" y="333360"/>
              <a:ext cx="5163840" cy="6048360"/>
            </a:xfrm>
            <a:prstGeom prst="ellipse">
              <a:avLst/>
            </a:prstGeom>
            <a:solidFill>
              <a:srgbClr val="ffff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30160" y="692280"/>
              <a:ext cx="246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000000"/>
                  </a:solidFill>
                  <a:latin typeface="Arial"/>
                </a:rPr>
                <a:t>Algebriz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826920" y="2492280"/>
            <a:ext cx="4446720" cy="338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73120" y="3068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elativ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87800" y="2349360"/>
            <a:ext cx="4506840" cy="3384720"/>
          </a:xfrm>
          <a:prstGeom prst="ellipse">
            <a:avLst/>
          </a:prstGeom>
          <a:solidFill>
            <a:srgbClr val="ffc9c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84680" y="30700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al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35160" y="3784680"/>
            <a:ext cx="273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6600"/>
                </a:solidFill>
                <a:latin typeface="Arial"/>
              </a:rPr>
              <a:t>[Toda], [Impagliazzo-Wigderson], [Valiant-Vazirani], [Kannan],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hundreds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0440" y="143208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6600"/>
                </a:solidFill>
                <a:latin typeface="Arial"/>
              </a:rPr>
              <a:t>[BFT], [Vinodchandran], [Santhanam]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10160" y="3741840"/>
            <a:ext cx="291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6600"/>
                </a:solidFill>
                <a:latin typeface="Arial"/>
              </a:rPr>
              <a:t>[Furst-Saxe-Sipser], [Razborov-Smolensky], [Raz],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dozens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40320" y="838080"/>
            <a:ext cx="338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[Your result here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77040" y="1557360"/>
            <a:ext cx="33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[GMW?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297000"/>
            <a:ext cx="9144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Defini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4960" y="1128600"/>
            <a:ext cx="86220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he inclusion C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relativize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f C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for all oracles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A[poly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 Polynomial-size queries to A only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A[exp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 Exponential-size queries also allow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9120" y="2787480"/>
            <a:ext cx="858528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iven an oracle A={A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} with A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{0,1}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{0,1}, an 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extensio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of A is a collection of polynomial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Z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Z satisfy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x)=A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x) for all Boolean x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ii) deg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)=O(n),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iii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ize(Ã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x)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p(size(x)) for some polynomial p, 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341440" y="5418000"/>
                <a:ext cx="388152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z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⌈"/>
                            <m:endChr m:val="⌉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374840" y="3025800"/>
            <a:ext cx="6450120" cy="128196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also consider extensions over finite fields instead of the integers.  Will tell you when this distinction matt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46040" y="647640"/>
            <a:ext cx="81360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complexity class inclusion C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algebriz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f C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or all oracles A and all extensions Ã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ing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requires non-algebrizing techn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f there exist A,Ã such that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separation 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algebrizes if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,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v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quires non-algebrizing techniques if there exi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,Ã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uch that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Ã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12880" y="4789440"/>
            <a:ext cx="7280280" cy="94716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  <a:effectLst>
            <a:outerShdw dist="179718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ice we’ve defined things so that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every relativizing result is also algebriz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33336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Related Wor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3680" y="1300320"/>
            <a:ext cx="8218440" cy="48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degree oracles have been studied before for various reasons (recently by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[JKRS0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[Fortnow94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fined a class O of oracles such that I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PSPAC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ll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he wanted the same oracle A on both sides, he had to define A recursively</a:t>
            </a:r>
            <a:br>
              <a:rPr sz="28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(take a low-degree extension, then reinterpret as a Boolean function, then take another low-degree extensio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ng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epar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his model seems extremely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17:28:19Z</dcterms:created>
  <dc:creator>Scott Aaronson</dc:creator>
  <dc:description/>
  <dc:language>en-US</dc:language>
  <cp:lastModifiedBy>Scott Aaronson</cp:lastModifiedBy>
  <dcterms:modified xsi:type="dcterms:W3CDTF">2007-11-12T22:19:13Z</dcterms:modified>
  <cp:revision>135</cp:revision>
  <dc:subject/>
  <dc:title>Wild Idea</dc:title>
</cp:coreProperties>
</file>