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9FA7-E476-4BC7-850C-239ABC360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D397-CA36-445C-A077-66BF0DEDE088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74A1-3E9C-4DFD-8CC5-ABD05779475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2482-F754-4ACE-B664-1E2BD6359A39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E4BE-AE72-46DB-9ECA-1F20FD9CBB8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0C96-E2B0-4E18-B526-41FD0BEB7672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ED87-CAF4-4D22-BC77-B9E02A2B057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513-E4EF-46D8-97CD-6D88EAB6027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7ED0-53BC-4745-ADA3-20E5143C05E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D339-659A-4643-B69F-2E2788D2233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294-B980-4B3B-B49A-7E54FDC09C5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36AB-5FBD-4218-B05E-0429A64682D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786-3C4F-497B-9BF9-9D0F23FB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75A-A768-4805-B13C-941C66D1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020-6027-45A5-BA29-A87D78AD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2B1-0287-4E06-B9B9-E7C3EBF5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51E-3816-4E6D-AF98-489E1101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5A3-9392-49DA-BEC6-76A2B9B9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5AC-1DDB-426A-BD75-BF039BC3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4C0-DA0F-48B5-B416-E744184C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5BB-3DBF-4AE4-AA71-512E569A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088-CE60-4743-8993-4655546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D1C-58B0-40F6-811C-4791E479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2AF-F171-4365-B001-BA6F3DDD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445C-901E-4939-8606-082CCB0DB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2800" y="10296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alibri"/>
                <a:ea typeface="Calibri"/>
              </a:rPr>
              <a:t>AI Safety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513396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T Austin and Open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UT Effective Altruist Club, November 14, 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049560" y="1695600"/>
            <a:ext cx="30099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7"/>
          <p:cNvSpPr/>
          <p:nvPr/>
        </p:nvSpPr>
        <p:spPr>
          <a:xfrm>
            <a:off x="685800" y="16002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tatistical watermarking of GPT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2860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y Projects at Open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85800" y="2622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serting cryptographic backdoors in M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685800" y="364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arning in dangerous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Minesweeper Online"/>
          <p:cNvPicPr/>
          <p:nvPr/>
        </p:nvPicPr>
        <p:blipFill>
          <a:blip r:embed="rId1"/>
          <a:stretch/>
        </p:blipFill>
        <p:spPr>
          <a:xfrm>
            <a:off x="2666880" y="4343400"/>
            <a:ext cx="34290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1371600"/>
            <a:ext cx="8762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ank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estions / Discus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457200" y="79704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 Invention  (by GPT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oney is a thing you earn by the sweat of your bro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nd that’s how it should b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r you can steal it, and go to jail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r inherit it, and be set for life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r win it on the pools, which is luck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r marry it, which is what I did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nd that is how it should be, too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But now this idea’s come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f inventing money, just like tha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 ask you, is nothing sac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4419720" y="14479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66760" y="5943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wo cats playing basketball in outer space, digital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omputing exponential growth"/>
          <p:cNvPicPr/>
          <p:nvPr/>
        </p:nvPicPr>
        <p:blipFill>
          <a:blip r:embed="rId1"/>
          <a:stretch/>
        </p:blipFill>
        <p:spPr>
          <a:xfrm>
            <a:off x="733320" y="154080"/>
            <a:ext cx="767736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Rise of killer robots -- and why we need to stop them | CNN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traight Connector 2"/>
          <p:cNvSpPr/>
          <p:nvPr/>
        </p:nvSpPr>
        <p:spPr>
          <a:xfrm>
            <a:off x="1828800" y="342900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609480" y="3657600"/>
            <a:ext cx="209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I ET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6232680" y="3657600"/>
            <a:ext cx="253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I ALIG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6"/>
          <p:cNvCxnSpPr/>
          <p:nvPr/>
        </p:nvCxnSpPr>
        <p:spPr>
          <a:xfrm flipH="1" flipV="1">
            <a:off x="5104800" y="3428640"/>
            <a:ext cx="229320" cy="1372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8"/>
          <p:cNvSpPr/>
          <p:nvPr/>
        </p:nvSpPr>
        <p:spPr>
          <a:xfrm>
            <a:off x="3327480" y="4876920"/>
            <a:ext cx="4190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Bradley Hand ITC"/>
                <a:ea typeface="Calibri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Bradley Hand ITC"/>
                <a:ea typeface="Calibri"/>
              </a:rPr>
              <a:t>Reform AI Alignm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liezer Yudkowsky (@ESYudkowsky) / Twitter"/>
          <p:cNvPicPr/>
          <p:nvPr/>
        </p:nvPicPr>
        <p:blipFill>
          <a:blip r:embed="rId1"/>
          <a:stretch/>
        </p:blipFill>
        <p:spPr>
          <a:xfrm>
            <a:off x="2209680" y="609480"/>
            <a:ext cx="4724640" cy="4724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266760" y="5638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liezer S. Yudkow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7"/>
          <p:cNvSpPr/>
          <p:nvPr/>
        </p:nvSpPr>
        <p:spPr>
          <a:xfrm>
            <a:off x="380880" y="1676520"/>
            <a:ext cx="8610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ff switch!  (Or backdoors, “corrigibilit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andboxing /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erpre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ultiple competing / debating 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ootstr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l verification / interactive proo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lizing human values / Laws of 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alue learning / Coherent Extrapolated Vol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22860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ajor AI Alignmen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7"/>
          <p:cNvSpPr/>
          <p:nvPr/>
        </p:nvSpPr>
        <p:spPr>
          <a:xfrm>
            <a:off x="380880" y="1676520"/>
            <a:ext cx="8610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ff switch!  (Or backdoors, “corrigibilit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andboxing /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erpre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ultiple competing / debating 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ootstr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l verification / interactive proo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malizing human values / Laws of Rob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alue learning / Coherent Extrapolated Vol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2860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ajor AI Alignmen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 Aaronson</cp:lastModifiedBy>
  <dcterms:modified xsi:type="dcterms:W3CDTF">2022-11-14T20:14:53Z</dcterms:modified>
  <cp:revision>337</cp:revision>
  <dc:subject/>
  <dc:title>The Future of Computer Science</dc:title>
</cp:coreProperties>
</file>