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912-5428-4644-B51A-A8775D328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DD2-740E-4D21-9B8E-D24F54506AF3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90E-39E5-4817-8849-E931ABF6A23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4CF9-ED9D-4DE3-85A1-AF23B66C2B2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9FE-06C8-4EBC-AAA1-815300F0E2A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7A5-B6A9-4D9B-87F1-47C8C636B64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A31D-3A96-4B55-B7C2-EAD6F2C17D7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FEE-8194-4363-ADBF-9398BCF1873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831-94D0-4778-9832-A334486F419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2488-6931-4AF9-AAC5-94D25C27B93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420-3206-4A9E-B26A-5141F49A24D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E3F1-046F-4AB8-8103-300A1C9E323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7B4-582A-4F9B-9309-9CC38CFF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0B9-B730-42AC-BBDC-DED5E17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B02-5A06-47DC-9ABA-6F428052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AE7-82A5-4B37-A0BA-F423AA01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47F-0034-4914-A598-874E7316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1AF-A9B2-4695-82A4-2052634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FBC-A3F6-4AD7-86FC-7BD72B05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CB9-4624-4A1C-9747-FF71BC52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E59-9EB9-4A2A-BD5E-E58E5BF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126-DF46-45F9-8857-A9D4E6F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7B4-3ACF-472A-AF29-BEE1A6C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44A-B6D5-4A86-90EA-749F5DF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E326-FABE-438A-A705-27749294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2800" y="1029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AI Safety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513396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T Austin and Open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UT Effective Altruist Club, November 14, 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049560" y="1695600"/>
            <a:ext cx="30099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685800" y="1600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atistical watermarking of GPT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Projects at Ope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85800" y="2622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serting cryptographic backdoors in M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85800" y="364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arning in dangerous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Minesweeper Online"/>
          <p:cNvPicPr/>
          <p:nvPr/>
        </p:nvPicPr>
        <p:blipFill>
          <a:blip r:embed="rId1"/>
          <a:stretch/>
        </p:blipFill>
        <p:spPr>
          <a:xfrm>
            <a:off x="2666880" y="4343400"/>
            <a:ext cx="3429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1371600"/>
            <a:ext cx="8762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ank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estions / Discu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57200" y="79704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Invention  (by GPT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oney is a thing you earn by the sweat of your br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that’s how it should b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you can steal it, and go to jail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inherit it, and be set for lif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win it on the pools, which is luck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marry it, which is what I did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that is how it should be, too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But now this idea’s come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f inventing money, just like tha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 ask you, is nothing sac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4419720" y="14479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66760" y="5943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wo cats playing basketball in outer space, digital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omputing exponential growth"/>
          <p:cNvPicPr/>
          <p:nvPr/>
        </p:nvPicPr>
        <p:blipFill>
          <a:blip r:embed="rId1"/>
          <a:stretch/>
        </p:blipFill>
        <p:spPr>
          <a:xfrm>
            <a:off x="733320" y="154080"/>
            <a:ext cx="767736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ise of killer robots -- and why we need to stop them | CNN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traight Connector 2"/>
          <p:cNvSpPr/>
          <p:nvPr/>
        </p:nvSpPr>
        <p:spPr>
          <a:xfrm>
            <a:off x="1828800" y="342900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609480" y="3657600"/>
            <a:ext cx="209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I 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232680" y="3657600"/>
            <a:ext cx="253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I AL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6"/>
          <p:cNvCxnSpPr/>
          <p:nvPr/>
        </p:nvCxnSpPr>
        <p:spPr>
          <a:xfrm flipH="1" flipV="1">
            <a:off x="5104800" y="3428640"/>
            <a:ext cx="229320" cy="13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3327480" y="4876920"/>
            <a:ext cx="419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  <a:ea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Bradley Hand ITC"/>
                <a:ea typeface="Calibri"/>
              </a:rPr>
              <a:t>Reform AI Align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liezer Yudkowsky (@ESYudkowsky) / Twitter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66760" y="5638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liezer S. Yudkow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7"/>
          <p:cNvSpPr/>
          <p:nvPr/>
        </p:nvSpPr>
        <p:spPr>
          <a:xfrm>
            <a:off x="380880" y="167652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f switch!  (Or backdoors, “corrigibilit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ndboxing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competing / debating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 verification / interactive pro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izing human values / Laws of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lue learning / Coherent Extrapolated Vo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jor AI Alignm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7"/>
          <p:cNvSpPr/>
          <p:nvPr/>
        </p:nvSpPr>
        <p:spPr>
          <a:xfrm>
            <a:off x="380880" y="167652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f switch!  (Or backdoors, “corrigibilit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ndboxing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competing / debating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 verification / interactive pro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izing human values / Laws of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lue learning / Coherent Extrapolated Vo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jor AI Alignm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2-11-14T20:14:53Z</dcterms:modified>
  <cp:revision>337</cp:revision>
  <dc:subject/>
  <dc:title>The Future of Computer Science</dc:title>
</cp:coreProperties>
</file>