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7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6860-CCE7-487E-A173-A22022421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5064-1905-47C3-B04F-0AEDABAFA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1020-20E8-4402-889B-B08C79081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7CE1-1CA5-45F6-BAE1-A8157898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530E-1778-4BB4-B217-CABD98EDE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03AD-5213-4429-ABEC-AA269F96C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1703-67C7-4494-A9DF-A0F11E9D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AD11-1838-4D46-B652-7CB51C43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252F-7BE1-40FE-AE51-6893DCE7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EE1D-B046-46F9-BB81-C97DAEC9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DFF8-1DE1-482C-BEAB-05C0EED06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CC95-1D1F-4CE8-80D7-4153AC416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00B8-2B8F-4077-990B-8944A1B8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C888-A14F-4778-BE97-27EF8510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A482-7B42-4197-A367-C75E32FC6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D8D3-30A8-46EE-BCAE-A2AD5E19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D275-ADE9-4583-B2BA-F1F0828A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47A7-516B-4CA4-A67E-958A18D59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1CAC-5835-4E8B-A232-0A7326EF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B384-D984-4258-B695-FD560811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0C21-23CE-4D9E-8A24-814D3FA9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A70C-CA46-4271-B6F6-69A838DDC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2A65-EE08-452C-A250-75C40E21F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1E5D-EB82-4611-AB6A-CE786E63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A348-46D4-4F1A-9E54-CC2AF845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2DDA-C3BB-4333-8BA7-1CA4B3F5E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3C91-9ADC-43B0-9359-57592235D88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FFB9-6301-49CF-B0D7-D25C81C8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969-9341-4052-873F-C41861DC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D0A-BC3C-4A33-A3DF-232F0D3F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825-2600-42AA-92AE-2F6B85C5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6FF-9CCA-41FD-A0E3-3020147D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BD81-DEF3-4892-AF01-BA91ADF2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8C51-334C-4262-9757-081E4F5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EAFA-C273-4A62-A88A-A527B272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BD20-BE66-48D4-AA37-F952D0F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5A8D-9D74-4127-B317-C086365E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80AB-0418-4338-9E62-6D8A8495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E15E-968F-4EF7-AEA3-C770DE86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EB8-A267-4839-93E4-AF19C5E9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2CF6-5AA6-4B96-8A00-2AE6A17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9639-9417-4305-B82E-6BB84611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79EC-6247-46CD-B5F3-6239D420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65A6-CA73-43C6-8881-33A7B699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4E00-EFEF-495C-AF2D-B06D7B78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D83-B964-499C-898E-AAE1E2EC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294-F880-487A-955B-C22BBBA2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A0A-B47D-406E-B412-9D683916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59D-72CF-4220-BC22-AC1F32E7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6AB-1009-48FF-924B-48049B17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DA5-7C14-467C-99C0-E26FAF2F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155-D91F-4B6D-8A2E-80721CD4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B449-D4A8-443E-8026-8D8141BF6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4770-FE00-4D76-AC28-66B50C6AB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How Much Information Is In A Quantum State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rew Dru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365760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C:\Users\od user\AppData\Local\Microsoft\Windows\Temporary Internet Files\Content.IE5\N7YD4WXK\MCj04412790000[1].png"/>
          <p:cNvPicPr/>
          <p:nvPr/>
        </p:nvPicPr>
        <p:blipFill>
          <a:blip r:embed="rId1"/>
          <a:stretch/>
        </p:blipFill>
        <p:spPr>
          <a:xfrm rot="19738200">
            <a:off x="1701360" y="2323800"/>
            <a:ext cx="3822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ubble2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-762120" y="-838080"/>
            <a:ext cx="99061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en-US" sz="40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1371600" y="54864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533520" y="5334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 PERFORMABLE USING ≤n</a:t>
            </a:r>
            <a:r>
              <a:rPr b="1" lang="en-US" sz="4000" spc="-1" strike="noStrike" baseline="30000">
                <a:solidFill>
                  <a:srgbClr val="ffd1d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 QUANTUM G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1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the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beginning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maximally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xplosion 2 7"/>
          <p:cNvSpPr/>
          <p:nvPr/>
        </p:nvSpPr>
        <p:spPr>
          <a:xfrm rot="698400">
            <a:off x="6216120" y="3580920"/>
            <a:ext cx="223236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99"/>
          <p:cNvSpPr/>
          <p:nvPr/>
        </p:nvSpPr>
        <p:spPr>
          <a:xfrm>
            <a:off x="304920" y="2209680"/>
            <a:ext cx="861048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quantum state of n spi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measure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n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oose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dependently from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 into your lab and estimate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each 1≤i≤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“hypothesis stat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ch that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all 1≤i≤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Quantum Occam’s Razor Theorem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 20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2"/>
          <p:cNvSpPr/>
          <p:nvPr/>
        </p:nvSpPr>
        <p:spPr>
          <a:xfrm>
            <a:off x="1981080" y="274320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1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Numerical Simul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-Dechte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04920" y="1676520"/>
            <a:ext cx="853416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implemented the “pretty-good tomography” algorithm in MATLAB, using a fast convex programming method developed specifically for this application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[Hazan 2008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then tested it (on simulated data) using MIT’s computing clus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udied how the number of sample measurements m needed for accurate predictions scales with the number of qubits n, for n≤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Result of experimen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y theorem appears to be tr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n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6"/>
          <p:cNvSpPr/>
          <p:nvPr/>
        </p:nvSpPr>
        <p:spPr>
          <a:xfrm>
            <a:off x="380880" y="533520"/>
            <a:ext cx="845820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Recap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an unknown n-qubit entangled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a set S of two-outcome measurement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arning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hypothesis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sistent with a small number of sample poin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on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 particular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produced by postselection)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ream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passes a small number of tes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914400" y="5105520"/>
            <a:ext cx="7315200" cy="550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[A.-Drucker 2009]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dream theorem 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New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04920" y="1143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quantum state can be “simulated,” on all efficient measurements, by the ground state of a local Hamilton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04920" y="2971800"/>
            <a:ext cx="85341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iven any n-qubit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re exists a local Hamiltonian H (indeed, a sum of 2D nearest-neighbor interactions) such tha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ny ground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H, and measuring circuit E with ≤m gates, there’s an efficient measuring circuit E’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2590920" y="4876920"/>
                <a:ext cx="3894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⟨</m:t>
                        </m:r>
                        <m:r>
                          <m:t xml:space="preserve">ψ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'</m:t>
                        </m:r>
                        <m:r>
                          <m:t xml:space="preserve">|</m:t>
                        </m:r>
                        <m:r>
                          <m:t xml:space="preserve">ψ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Text Box 16"/>
          <p:cNvSpPr/>
          <p:nvPr/>
        </p:nvSpPr>
        <p:spPr>
          <a:xfrm>
            <a:off x="457200" y="2362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IN OTHER WOR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380880" y="563868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rthermore, H is on poly(n,m,1/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qubi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380880" y="12952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thout loss of generality, every quantum advice state is the ground state of a local Hamiltoni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380880" y="4419720"/>
            <a:ext cx="8305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Quantum Karp-Lipton Theorem”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 problems are not efficiently solvable using quantum advice, unless som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unifor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mplexity classes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457200" y="2438280"/>
            <a:ext cx="838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Indeed, trusted quantum advice i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 power to trusted classical advice combined with untrusted quantum advic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“Quantum states never need to be trusted”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6"/>
          <p:cNvSpPr/>
          <p:nvPr/>
        </p:nvSpPr>
        <p:spPr>
          <a:xfrm>
            <a:off x="380880" y="2133720"/>
            <a:ext cx="83822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computes some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belonging to a “small” set S (meaning, of size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  Someone wants to prove to us that f equals (say) the all-0 function, by having us check a polynomial number of outputs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…,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380880" y="3049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Intui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e’re given a black box (think: quantum stat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ube 8"/>
          <p:cNvSpPr/>
          <p:nvPr/>
        </p:nvSpPr>
        <p:spPr>
          <a:xfrm>
            <a:off x="3809880" y="9144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3809880" y="1219320"/>
            <a:ext cx="838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0"/>
          <p:cNvCxnSpPr/>
          <p:nvPr/>
        </p:nvCxnSpPr>
        <p:spPr>
          <a:xfrm>
            <a:off x="2819160" y="1600200"/>
            <a:ext cx="9910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33" name="Text Box 16"/>
          <p:cNvSpPr/>
          <p:nvPr/>
        </p:nvSpPr>
        <p:spPr>
          <a:xfrm>
            <a:off x="2438280" y="1295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be0e3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14"/>
          <p:cNvCxnSpPr/>
          <p:nvPr/>
        </p:nvCxnSpPr>
        <p:spPr>
          <a:xfrm>
            <a:off x="4876560" y="1600200"/>
            <a:ext cx="9910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35" name="Text Box 16"/>
          <p:cNvSpPr/>
          <p:nvPr/>
        </p:nvSpPr>
        <p:spPr>
          <a:xfrm>
            <a:off x="5791320" y="129528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be0e3"/>
                </a:solidFill>
                <a:latin typeface="Calibri"/>
              </a:rPr>
              <a:t>f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380880" y="3962520"/>
            <a:ext cx="358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trivially impossib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343400" y="4419720"/>
          <a:ext cx="4495680" cy="2225520"/>
        </p:xfrm>
        <a:graphic>
          <a:graphicData uri="http://schemas.openxmlformats.org/drawingml/2006/table">
            <a:tbl>
              <a:tblPr/>
              <a:tblGrid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8" name="Text Box 16"/>
          <p:cNvSpPr/>
          <p:nvPr/>
        </p:nvSpPr>
        <p:spPr>
          <a:xfrm>
            <a:off x="380880" y="4572000"/>
            <a:ext cx="381024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t … what if we get </a:t>
            </a:r>
            <a:r>
              <a:rPr b="1" lang="en-US" sz="3000" spc="-1" strike="noStrike">
                <a:solidFill>
                  <a:srgbClr val="333399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lack boxes, and are allowed to simulate f=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y taking the point-wise MAJORITY of their outpu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20"/>
          <p:cNvCxnSpPr/>
          <p:nvPr/>
        </p:nvCxnSpPr>
        <p:spPr>
          <a:xfrm flipH="1">
            <a:off x="5331600" y="3887640"/>
            <a:ext cx="3960" cy="5342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arrow" w="lg"/>
          </a:ln>
        </p:spPr>
      </p:cxnSp>
      <p:cxnSp>
        <p:nvCxnSpPr>
          <p:cNvPr id="240" name="Straight Arrow Connector 22"/>
          <p:cNvCxnSpPr/>
          <p:nvPr/>
        </p:nvCxnSpPr>
        <p:spPr>
          <a:xfrm flipH="1">
            <a:off x="5943240" y="3886200"/>
            <a:ext cx="2160" cy="5342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arrow" w="lg"/>
          </a:ln>
        </p:spPr>
      </p:cxnSp>
      <p:cxnSp>
        <p:nvCxnSpPr>
          <p:cNvPr id="241" name="Straight Arrow Connector 23"/>
          <p:cNvCxnSpPr/>
          <p:nvPr/>
        </p:nvCxnSpPr>
        <p:spPr>
          <a:xfrm flipH="1">
            <a:off x="6629040" y="3886200"/>
            <a:ext cx="2160" cy="5342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arrow" w="lg"/>
          </a:ln>
        </p:spPr>
      </p:cxnSp>
      <p:cxnSp>
        <p:nvCxnSpPr>
          <p:cNvPr id="242" name="Straight Arrow Connector 24"/>
          <p:cNvCxnSpPr/>
          <p:nvPr/>
        </p:nvCxnSpPr>
        <p:spPr>
          <a:xfrm flipH="1">
            <a:off x="7238160" y="3886200"/>
            <a:ext cx="2520" cy="5342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arrow" w="lg"/>
          </a:ln>
        </p:spPr>
      </p:cxnSp>
      <p:sp>
        <p:nvSpPr>
          <p:cNvPr id="243" name="Oval 25"/>
          <p:cNvSpPr/>
          <p:nvPr/>
        </p:nvSpPr>
        <p:spPr>
          <a:xfrm>
            <a:off x="5638680" y="4800600"/>
            <a:ext cx="60984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6"/>
          <p:cNvSpPr/>
          <p:nvPr/>
        </p:nvSpPr>
        <p:spPr>
          <a:xfrm>
            <a:off x="6248520" y="5181480"/>
            <a:ext cx="609480" cy="381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7"/>
          <p:cNvSpPr/>
          <p:nvPr/>
        </p:nvSpPr>
        <p:spPr>
          <a:xfrm>
            <a:off x="6934320" y="5562720"/>
            <a:ext cx="60948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jority-Certificates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380880" y="3352680"/>
            <a:ext cx="838224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Lemm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S be a set of Boolean functions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, and let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  Then there exist m=O(n)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each of size k=O(log|S|),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eac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all i, then 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)=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 for all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80880" y="1371600"/>
            <a:ext cx="8382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Definitions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ertific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a partial Boolean function C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,*}.  A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i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onsist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C, if f(x)=C(x) whenever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  Th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C is the number of inputs x such that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9"/>
          <p:cNvSpPr/>
          <p:nvPr/>
        </p:nvSpPr>
        <p:spPr>
          <a:xfrm>
            <a:off x="152280" y="152280"/>
            <a:ext cx="8839440" cy="6477120"/>
          </a:xfrm>
          <a:prstGeom prst="verticalScroll">
            <a:avLst>
              <a:gd name="adj" fmla="val 540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2860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uter Scientist / Physicist Nonaggression 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120" y="236232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tolerate these complexity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NP  coNP  BQP  QMA  BQP/qpoly  QMA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62120" y="3962520"/>
            <a:ext cx="769608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 don’t inflict these on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#P  AM  AWPP  LWPP  MA  PostBQP  PP  CH  PSPACE  QCMA  QIP  SZK  NISZK  EXP  NEXP  UP  PPAD  PPP  PLS  TFNP  </a:t>
            </a:r>
            <a:r>
              <a:rPr b="1" lang="en-US" sz="2800" spc="-1" strike="noStrike">
                <a:solidFill>
                  <a:srgbClr val="990099"/>
                </a:solidFill>
                <a:latin typeface="Symbol"/>
                <a:ea typeface="Symbol"/>
              </a:rPr>
              <a:t>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  Mod</a:t>
            </a:r>
            <a:r>
              <a:rPr b="1" lang="en-US" sz="2800" spc="-1" strike="noStrike" baseline="-25000">
                <a:solidFill>
                  <a:srgbClr val="990099"/>
                </a:solidFill>
                <a:latin typeface="Calibri"/>
              </a:rPr>
              <a:t>k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symmetry, we can assume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all-0 function.  Consider a two-player, zero-sum matrix ga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09880" y="2971800"/>
            <a:ext cx="1828800" cy="182880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eft Brace 8"/>
          <p:cNvSpPr/>
          <p:nvPr/>
        </p:nvSpPr>
        <p:spPr>
          <a:xfrm>
            <a:off x="3200400" y="297180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0" y="3200400"/>
            <a:ext cx="32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picks a certificate C of size k consistent with some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eft Brace 11"/>
          <p:cNvSpPr/>
          <p:nvPr/>
        </p:nvSpPr>
        <p:spPr>
          <a:xfrm rot="5400000">
            <a:off x="4495680" y="175248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4876920" y="213372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b picks an input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457200" y="5105520"/>
            <a:ext cx="777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wins this game if f(x)=0 for all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consistent with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457200" y="579132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Crucial Claim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lice has a mixed strategy that lets her win &gt;90% of the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685800" y="2514600"/>
            <a:ext cx="7696080" cy="2536920"/>
          </a:xfrm>
          <a:prstGeom prst="rect">
            <a:avLst/>
          </a:prstGeom>
          <a:solidFill>
            <a:srgbClr val="edf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lemma follows from this claim!  Just choose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Alice’s winning distribution.  Then by a Chernoff bound, almost certainly 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)=0 for all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and all inputs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So clearly ther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xis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this proper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of Cl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the Minimax Theorem!  Given a distribution D over x, it’s enough to create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fix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ertificate C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66680" y="1905120"/>
                <a:ext cx="690264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∃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consistent with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16"/>
          <p:cNvSpPr/>
          <p:nvPr/>
        </p:nvSpPr>
        <p:spPr>
          <a:xfrm>
            <a:off x="457200" y="3124080"/>
            <a:ext cx="838188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Stage 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hoose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D, for some t=O(log|S|).  Then with high probability, requiring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…=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0 kills off every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3276720" y="4267080"/>
                <a:ext cx="2514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6"/>
          <p:cNvSpPr/>
          <p:nvPr/>
        </p:nvSpPr>
        <p:spPr>
          <a:xfrm>
            <a:off x="457200" y="5334120"/>
            <a:ext cx="83818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Stage I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peatedly add a constraint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at kills at least half the remaining functions.  After ≤ lo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|S| iterations, we’ll have winnowed S down to just a single function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8153280" y="6248520"/>
            <a:ext cx="304920" cy="304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28600" y="22860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Lifting” the Lemma to Quantumlan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600200" y="1143000"/>
          <a:ext cx="6248520" cy="185436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olean Majority-Certif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QP/qpoly=YQP/poly  Pro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Boolean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p(n)-qubit mix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function f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advice state 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st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 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ement 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04920" y="3200400"/>
          <a:ext cx="8686800" cy="3479760"/>
        </p:xfrm>
        <a:graphic>
          <a:graphicData uri="http://schemas.openxmlformats.org/drawingml/2006/table">
            <a:tbl>
              <a:tblPr/>
              <a:tblGrid>
                <a:gridCol w="4576680"/>
                <a:gridCol w="411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Diffi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lass of p(n)-qubit quantum states is infinitely large!  And even if we discretize it, it’s still doubly-exponentially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of A.’06 on learnability of quantum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ead of Boolean functions f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0,1}, now we hav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0,1] representing the expectatio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theory has tools to deal with this: fat-shattering dimension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overs… (Alon et al. 1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do we verify a quantum witness without destroying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Q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QMA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Aharonov &amp; Regev 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f a certificate asks us to verify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≤a, but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is “right at the knife-edge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 Winnowing Lemm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28600" y="380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Majority-Certificates Lemma, Real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80880" y="129528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  <a:ea typeface="Arial"/>
              </a:rPr>
              <a:t>Lemm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Let S be a set of functions f:{0,1}ⁿ→[0,1], let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∗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∈S, and let 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  <a:ea typeface="Arial"/>
              </a:rPr>
              <a:t>ε&gt;0.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Then we can find m=O(n/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  <a:ea typeface="Arial"/>
              </a:rPr>
              <a:t>ε²)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functions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∈S, sets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⊆{0,1}ⁿ each of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for which the following holds.  All functions 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,…,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∈S that satisf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  for all 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[m] also satisf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143000" y="2666880"/>
                <a:ext cx="2770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den>
                            </m:f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5562720" y="2514600"/>
                <a:ext cx="26352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ε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</m:den>
                                </m:f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371600" y="4191120"/>
                <a:ext cx="28494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905120" y="4952880"/>
                <a:ext cx="51069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6"/>
          <p:cNvSpPr/>
          <p:nvPr/>
        </p:nvSpPr>
        <p:spPr>
          <a:xfrm>
            <a:off x="45720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QMA/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457200" y="990720"/>
            <a:ext cx="83818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Proof Sketch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L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Let M be a quantum algorithm that decides L using advice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Def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2590920" y="1981080"/>
                <a:ext cx="3886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ccept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8" name="Text Box 16"/>
          <p:cNvSpPr/>
          <p:nvPr/>
        </p:nvSpPr>
        <p:spPr>
          <a:xfrm>
            <a:off x="457200" y="2590920"/>
            <a:ext cx="838188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 S = {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}.  Then S has fat-shattering dimension at most poly(n), by A.’06.  So we can apply the real analogue of the Majority-Certificates Lemma to S.  This yields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for some m=poly(n)), such that any states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satis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1905120" y="4724280"/>
                <a:ext cx="5429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16"/>
          <p:cNvSpPr/>
          <p:nvPr/>
        </p:nvSpPr>
        <p:spPr>
          <a:xfrm>
            <a:off x="457200" y="5715000"/>
            <a:ext cx="84582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ll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regardless of entanglement).  To check the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s, we use the “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+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per-verifier” of Aharonov &amp; Rege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Karp-Lipt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380880" y="182880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r quantum analog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380880" y="12193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Karp-Lipton 1982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380880" y="3124080"/>
            <a:ext cx="83822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Proof Ide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first guess a local Hamiltonian H whose ground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s us solv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 problems in polynomial time, together with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tself.  Then pass H to th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racle, which reconstruct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guesses the first quantified string of th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ment, and use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find the second quantified st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heck that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ctually works, use the self-reducibility o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 problems (like in the original K-L Theore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04920" y="1447920"/>
            <a:ext cx="853416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any natural scenarios, the “exponentiality” of quantum states is an il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t is, there’s a short (though possibly cryptic) classical string that specifies how a quantum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haves, on any measurement you could actually per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etty-good quantum state tomography, characterization of quantum computers with “magic initial states”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80880" y="1143000"/>
            <a:ext cx="8534520" cy="40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classes of quantum states that can be learned in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omputa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fficient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[A.-Gottesman, in preparation]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Stabilizer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racle separation betwee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QP/qpo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[A.-Kuperberg 2007]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Quantum oracle sepa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ther applications of “isolatability” of Boolean function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erimental demonstration”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99072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infinite amount, of course, if you want to specify the state exactl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90720" y="5943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Life is too short for infinite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4"/>
              <p:cNvSpPr txBox="1"/>
              <p:nvPr/>
            </p:nvSpPr>
            <p:spPr>
              <a:xfrm>
                <a:off x="5486400" y="3276720"/>
                <a:ext cx="280512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0" name="Group 13"/>
          <p:cNvGrpSpPr/>
          <p:nvPr/>
        </p:nvGrpSpPr>
        <p:grpSpPr>
          <a:xfrm>
            <a:off x="1219320" y="2209680"/>
            <a:ext cx="3595680" cy="3657600"/>
            <a:chOff x="1219320" y="2209680"/>
            <a:chExt cx="3595680" cy="3657600"/>
          </a:xfrm>
        </p:grpSpPr>
        <p:sp>
          <p:nvSpPr>
            <p:cNvPr id="101" name="Oval 4"/>
            <p:cNvSpPr/>
            <p:nvPr/>
          </p:nvSpPr>
          <p:spPr>
            <a:xfrm>
              <a:off x="1219320" y="281916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1219320" y="4343400"/>
              <a:ext cx="304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2743200" y="281916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" name="Object 106"/>
            <p:cNvGraphicFramePr/>
            <p:nvPr/>
          </p:nvGraphicFramePr>
          <p:xfrm>
            <a:off x="4267440" y="396216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10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440" y="396216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107"/>
            <p:cNvGraphicFramePr/>
            <p:nvPr/>
          </p:nvGraphicFramePr>
          <p:xfrm>
            <a:off x="2532240" y="2209680"/>
            <a:ext cx="51264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10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2240" y="220968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Group 11"/>
          <p:cNvGrpSpPr/>
          <p:nvPr/>
        </p:nvGrpSpPr>
        <p:grpSpPr>
          <a:xfrm>
            <a:off x="1057320" y="4321080"/>
            <a:ext cx="3209760" cy="46080"/>
            <a:chOff x="1057320" y="4321080"/>
            <a:chExt cx="3209760" cy="46080"/>
          </a:xfrm>
        </p:grpSpPr>
        <p:sp>
          <p:nvSpPr>
            <p:cNvPr id="109" name="Line 12"/>
            <p:cNvSpPr/>
            <p:nvPr/>
          </p:nvSpPr>
          <p:spPr>
            <a:xfrm>
              <a:off x="2743200" y="434340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1057320" y="4321080"/>
              <a:ext cx="18478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"/>
          <p:cNvSpPr/>
          <p:nvPr/>
        </p:nvSpPr>
        <p:spPr>
          <a:xfrm>
            <a:off x="304920" y="228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So, how much informatio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 in a quantum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04920" y="53352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 More Serious Poi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0880" y="167652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, a state of n possibly-entangled qubits tak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 to specify, eve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xim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1066680" y="2971800"/>
                <a:ext cx="4341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" name="Text Box 3"/>
          <p:cNvSpPr/>
          <p:nvPr/>
        </p:nvSpPr>
        <p:spPr>
          <a:xfrm>
            <a:off x="38088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a computer scientist, this is arguabl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central fact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088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y should we worr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7238520" y="304560"/>
            <a:ext cx="909720" cy="1142640"/>
            <a:chOff x="7238520" y="304560"/>
            <a:chExt cx="909720" cy="1142640"/>
          </a:xfrm>
        </p:grpSpPr>
        <p:sp>
          <p:nvSpPr>
            <p:cNvPr id="118" name="Line 5"/>
            <p:cNvSpPr/>
            <p:nvPr/>
          </p:nvSpPr>
          <p:spPr>
            <a:xfrm flipH="1" flipV="1">
              <a:off x="7473240" y="32940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7238520" y="32976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AutoShape 7"/>
            <p:cNvSpPr/>
            <p:nvPr/>
          </p:nvSpPr>
          <p:spPr>
            <a:xfrm flipH="1" flipV="1" rot="16200000">
              <a:off x="7606440" y="82872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8"/>
            <p:cNvGrpSpPr/>
            <p:nvPr/>
          </p:nvGrpSpPr>
          <p:grpSpPr>
            <a:xfrm>
              <a:off x="7716240" y="583920"/>
              <a:ext cx="345240" cy="213480"/>
              <a:chOff x="7716240" y="583920"/>
              <a:chExt cx="345240" cy="213480"/>
            </a:xfrm>
          </p:grpSpPr>
          <p:sp>
            <p:nvSpPr>
              <p:cNvPr id="122" name="Freeform 9"/>
              <p:cNvSpPr/>
              <p:nvPr/>
            </p:nvSpPr>
            <p:spPr>
              <a:xfrm flipH="1">
                <a:off x="771588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0"/>
              <p:cNvSpPr/>
              <p:nvPr/>
            </p:nvSpPr>
            <p:spPr>
              <a:xfrm flipH="1">
                <a:off x="774288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1"/>
              <p:cNvSpPr/>
              <p:nvPr/>
            </p:nvSpPr>
            <p:spPr>
              <a:xfrm flipH="1">
                <a:off x="782100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2"/>
              <p:cNvSpPr/>
              <p:nvPr/>
            </p:nvSpPr>
            <p:spPr>
              <a:xfrm flipH="1">
                <a:off x="785772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3"/>
            <p:cNvGrpSpPr/>
            <p:nvPr/>
          </p:nvGrpSpPr>
          <p:grpSpPr>
            <a:xfrm>
              <a:off x="7292880" y="583920"/>
              <a:ext cx="345240" cy="213480"/>
              <a:chOff x="7292880" y="583920"/>
              <a:chExt cx="345240" cy="213480"/>
            </a:xfrm>
          </p:grpSpPr>
          <p:sp>
            <p:nvSpPr>
              <p:cNvPr id="127" name="Freeform 14"/>
              <p:cNvSpPr/>
              <p:nvPr/>
            </p:nvSpPr>
            <p:spPr>
              <a:xfrm flipH="1">
                <a:off x="729252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5"/>
              <p:cNvSpPr/>
              <p:nvPr/>
            </p:nvSpPr>
            <p:spPr>
              <a:xfrm flipH="1">
                <a:off x="731952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"/>
              <p:cNvSpPr/>
              <p:nvPr/>
            </p:nvSpPr>
            <p:spPr>
              <a:xfrm flipH="1">
                <a:off x="739764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7"/>
              <p:cNvSpPr/>
              <p:nvPr/>
            </p:nvSpPr>
            <p:spPr>
              <a:xfrm flipH="1">
                <a:off x="743436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18"/>
            <p:cNvSpPr/>
            <p:nvPr/>
          </p:nvSpPr>
          <p:spPr>
            <a:xfrm flipH="1" flipV="1">
              <a:off x="7452000" y="30456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9"/>
          <p:cNvGrpSpPr/>
          <p:nvPr/>
        </p:nvGrpSpPr>
        <p:grpSpPr>
          <a:xfrm>
            <a:off x="990720" y="304560"/>
            <a:ext cx="955440" cy="1218600"/>
            <a:chOff x="990720" y="304560"/>
            <a:chExt cx="955440" cy="1218600"/>
          </a:xfrm>
        </p:grpSpPr>
        <p:sp>
          <p:nvSpPr>
            <p:cNvPr id="133" name="Line 20"/>
            <p:cNvSpPr/>
            <p:nvPr/>
          </p:nvSpPr>
          <p:spPr>
            <a:xfrm flipV="1">
              <a:off x="1202040" y="33120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990720" y="33156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22"/>
            <p:cNvSpPr/>
            <p:nvPr/>
          </p:nvSpPr>
          <p:spPr>
            <a:xfrm flipV="1" rot="5400000">
              <a:off x="1376640" y="87084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23"/>
            <p:cNvGrpSpPr/>
            <p:nvPr/>
          </p:nvGrpSpPr>
          <p:grpSpPr>
            <a:xfrm>
              <a:off x="1068840" y="492840"/>
              <a:ext cx="399240" cy="310320"/>
              <a:chOff x="1068840" y="492840"/>
              <a:chExt cx="399240" cy="310320"/>
            </a:xfrm>
          </p:grpSpPr>
          <p:sp>
            <p:nvSpPr>
              <p:cNvPr id="137" name="Freeform 24"/>
              <p:cNvSpPr/>
              <p:nvPr/>
            </p:nvSpPr>
            <p:spPr>
              <a:xfrm>
                <a:off x="108144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5"/>
              <p:cNvSpPr/>
              <p:nvPr/>
            </p:nvSpPr>
            <p:spPr>
              <a:xfrm>
                <a:off x="110952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26"/>
              <p:cNvSpPr/>
              <p:nvPr/>
            </p:nvSpPr>
            <p:spPr>
              <a:xfrm>
                <a:off x="118800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27"/>
              <p:cNvSpPr/>
              <p:nvPr/>
            </p:nvSpPr>
            <p:spPr>
              <a:xfrm>
                <a:off x="127476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8"/>
              <p:cNvSpPr/>
              <p:nvPr/>
            </p:nvSpPr>
            <p:spPr>
              <a:xfrm>
                <a:off x="106884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9"/>
              <p:cNvSpPr/>
              <p:nvPr/>
            </p:nvSpPr>
            <p:spPr>
              <a:xfrm>
                <a:off x="112752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0"/>
              <p:cNvSpPr/>
              <p:nvPr/>
            </p:nvSpPr>
            <p:spPr>
              <a:xfrm>
                <a:off x="119232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1"/>
              <p:cNvSpPr/>
              <p:nvPr/>
            </p:nvSpPr>
            <p:spPr>
              <a:xfrm>
                <a:off x="141480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2"/>
              <p:cNvSpPr/>
              <p:nvPr/>
            </p:nvSpPr>
            <p:spPr>
              <a:xfrm>
                <a:off x="136980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3"/>
              <p:cNvSpPr/>
              <p:nvPr/>
            </p:nvSpPr>
            <p:spPr>
              <a:xfrm>
                <a:off x="131796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4"/>
              <p:cNvSpPr/>
              <p:nvPr/>
            </p:nvSpPr>
            <p:spPr>
              <a:xfrm>
                <a:off x="125496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35"/>
            <p:cNvGrpSpPr/>
            <p:nvPr/>
          </p:nvGrpSpPr>
          <p:grpSpPr>
            <a:xfrm>
              <a:off x="1519920" y="492840"/>
              <a:ext cx="399240" cy="310320"/>
              <a:chOff x="1519920" y="492840"/>
              <a:chExt cx="399240" cy="310320"/>
            </a:xfrm>
          </p:grpSpPr>
          <p:sp>
            <p:nvSpPr>
              <p:cNvPr id="149" name="Freeform 36"/>
              <p:cNvSpPr/>
              <p:nvPr/>
            </p:nvSpPr>
            <p:spPr>
              <a:xfrm>
                <a:off x="153252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7"/>
              <p:cNvSpPr/>
              <p:nvPr/>
            </p:nvSpPr>
            <p:spPr>
              <a:xfrm>
                <a:off x="156060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8"/>
              <p:cNvSpPr/>
              <p:nvPr/>
            </p:nvSpPr>
            <p:spPr>
              <a:xfrm>
                <a:off x="163908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9"/>
              <p:cNvSpPr/>
              <p:nvPr/>
            </p:nvSpPr>
            <p:spPr>
              <a:xfrm>
                <a:off x="172584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40"/>
              <p:cNvSpPr/>
              <p:nvPr/>
            </p:nvSpPr>
            <p:spPr>
              <a:xfrm>
                <a:off x="151992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41"/>
              <p:cNvSpPr/>
              <p:nvPr/>
            </p:nvSpPr>
            <p:spPr>
              <a:xfrm>
                <a:off x="157860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42"/>
              <p:cNvSpPr/>
              <p:nvPr/>
            </p:nvSpPr>
            <p:spPr>
              <a:xfrm>
                <a:off x="164340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3"/>
              <p:cNvSpPr/>
              <p:nvPr/>
            </p:nvSpPr>
            <p:spPr>
              <a:xfrm>
                <a:off x="186588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44"/>
              <p:cNvSpPr/>
              <p:nvPr/>
            </p:nvSpPr>
            <p:spPr>
              <a:xfrm>
                <a:off x="182088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45"/>
              <p:cNvSpPr/>
              <p:nvPr/>
            </p:nvSpPr>
            <p:spPr>
              <a:xfrm>
                <a:off x="176904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46"/>
              <p:cNvSpPr/>
              <p:nvPr/>
            </p:nvSpPr>
            <p:spPr>
              <a:xfrm>
                <a:off x="170604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47"/>
            <p:cNvSpPr/>
            <p:nvPr/>
          </p:nvSpPr>
          <p:spPr>
            <a:xfrm flipV="1">
              <a:off x="1467360" y="30456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nswer 1: 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80880" y="2590920"/>
            <a:ext cx="838224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lots of copies of an unknown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produce an approximate classical description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something I just made up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“As seen in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Scienc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 &amp;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Natur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ell-known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o tomography on an entangled state of n spins, you need ~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Current record: 8 spins / ~656,000 experiments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457200" y="6095880"/>
            <a:ext cx="7924680" cy="489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a conceptual problem—not just a practical on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52280" y="304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Answer 2: Quantum Computing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wolfram"/>
          <p:cNvPicPr/>
          <p:nvPr/>
        </p:nvPicPr>
        <p:blipFill>
          <a:blip r:embed="rId1"/>
          <a:stretch/>
        </p:blipFill>
        <p:spPr>
          <a:xfrm>
            <a:off x="7086600" y="121932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levin"/>
          <p:cNvPicPr/>
          <p:nvPr/>
        </p:nvPicPr>
        <p:blipFill>
          <a:blip r:embed="rId2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1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2" descr=""/>
          <p:cNvPicPr/>
          <p:nvPr/>
        </p:nvPicPr>
        <p:blipFill>
          <a:blip r:embed="rId4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3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Today we’ll tame the exponential b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00"/>
          <p:cNvSpPr/>
          <p:nvPr/>
        </p:nvSpPr>
        <p:spPr>
          <a:xfrm>
            <a:off x="304920" y="3733920"/>
            <a:ext cx="8686800" cy="2494080"/>
          </a:xfrm>
          <a:prstGeom prst="rect">
            <a:avLst/>
          </a:prstGeom>
          <a:solidFill>
            <a:srgbClr val="e4f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ing a state by postselected measurement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 20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good tomography” using far fewer measurement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Numerical simulation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-Dechte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ing quantum states as ground states of simple Hamiltonian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-Drucker 200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00"/>
          <p:cNvSpPr/>
          <p:nvPr/>
        </p:nvSpPr>
        <p:spPr>
          <a:xfrm>
            <a:off x="762120" y="114300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viewing them oper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00"/>
          <p:cNvSpPr/>
          <p:nvPr/>
        </p:nvSpPr>
        <p:spPr>
          <a:xfrm>
            <a:off x="380880" y="2209680"/>
            <a:ext cx="8610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probability distribution over n-bit string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 to specify.  But that fact seems to be “more about the map than the territ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3" name="Straight Arrow Connector 12"/>
          <p:cNvCxnSpPr/>
          <p:nvPr/>
        </p:nvCxnSpPr>
        <p:spPr>
          <a:xfrm>
            <a:off x="3048120" y="1980720"/>
            <a:ext cx="27439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The Absent-Minded Advisor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1001520" cy="144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ay2"/>
          <p:cNvPicPr/>
          <p:nvPr/>
        </p:nvPicPr>
        <p:blipFill>
          <a:blip r:embed="rId2"/>
          <a:srcRect l="51300" t="34202" r="33749" b="43802"/>
          <a:stretch/>
        </p:blipFill>
        <p:spPr>
          <a:xfrm>
            <a:off x="5791320" y="1219320"/>
            <a:ext cx="124272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380880" y="28195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give your graduate student a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n qubits (or 10n, o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)—such that by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uitable basis, the student can learn your answer to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-or-no question of size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380880" y="4724280"/>
            <a:ext cx="838224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[Ambainis, Nayak, Ta-Shma, Vazirani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problem as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(Earlier, Holevo showed you need n qubits to send n bi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28600" y="3124080"/>
            <a:ext cx="86868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she’ll need to send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c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, in the worst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ut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ppose Bob only needs to be able to estimate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for every measurement E in a finite set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3520" y="45720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On the Bright Si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838080" y="5257800"/>
            <a:ext cx="7162920" cy="11300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 (A. 2004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at case, it suffices for Alice to send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n log n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log|S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6" descr="C:\Users\od user\AppData\Local\Microsoft\Windows\Temporary Internet Files\Content.IE5\N7YD4WXK\MCj04382050000[1].wmf"/>
          <p:cNvPicPr/>
          <p:nvPr/>
        </p:nvPicPr>
        <p:blipFill>
          <a:blip r:embed="rId1"/>
          <a:stretch/>
        </p:blipFill>
        <p:spPr>
          <a:xfrm>
            <a:off x="7238880" y="15228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4"/>
          <p:cNvSpPr/>
          <p:nvPr/>
        </p:nvSpPr>
        <p:spPr>
          <a:xfrm>
            <a:off x="228600" y="16002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n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, well enough that for any 2-outcome measurement E, Bob can estimate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9-24T22:26:20Z</dcterms:modified>
  <cp:revision>125</cp:revision>
  <dc:subject/>
  <dc:title>The Learnability of Quantum States</dc:title>
</cp:coreProperties>
</file>