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17.png" ContentType="image/png"/>
  <Override PartName="/ppt/media/image16.wmf" ContentType="image/x-wmf"/>
  <Override PartName="/ppt/media/image8.gif" ContentType="image/gif"/>
  <Override PartName="/ppt/media/image15.png" ContentType="image/png"/>
  <Override PartName="/ppt/media/image9.wmf" ContentType="image/x-wmf"/>
  <Override PartName="/ppt/media/image1.png" ContentType="image/png"/>
  <Override PartName="/ppt/media/image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FA4A-DB56-4F77-AA20-B2556D57A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B4E5-44B9-4D44-ABE9-03DC0A34F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6727-F095-445F-A334-6A4594B4F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0A66-0199-4F10-B741-120A82CCD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C8E4-8CF6-488B-A2A4-8598E4F52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AA0E-79F6-48B6-966F-6EF97D826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A170-D037-48CB-A1C2-358461E8C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286E-0E24-4DEA-AEAD-2737E7F7F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21BA-275E-49F2-BACC-021521EA4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439C-D4EF-42B8-93CD-97FF3CF65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9792-6357-461B-9D5D-84E760949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1E1C-C893-4A17-858B-FF5EE6E11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841B-A28F-4BB0-9D46-1B4A53A3F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09FC-38AC-4DD5-8A3C-D73E5EE8A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FB1B-5CF5-473C-A608-C3C055DF9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4507-EA92-4FA5-940A-A40B6C12B34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05AC-BC7B-4024-AAE5-18CFA6E1E6C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B8D3-8CF1-4590-9853-2E353B3F260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6D41-EBD5-4A71-A7B1-F0B027423DB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C635-573F-4945-A3EF-74F1418C84E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4A4C-0609-4B4C-8E7F-0058A68F95D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1D5A-34AF-4B68-90A9-47CD4C465E1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642D-85A3-4E64-B387-B23819D5CCD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CF9C-E3E5-4E06-97F9-A83B75C82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AA3F-0EAC-45AA-8DB8-738EB25EBC5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F091-2ABB-4D2E-A03D-3CD1F92CCA2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AF54-F236-451E-8207-5A3824DAF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9796-CF29-4AD3-BB9E-E4CD80DDC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B41F-D411-46A3-936F-89A8C438D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09C6-2731-4668-963D-916697235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C91F-3D17-4960-8D29-693F38E5C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D73C-60E1-40AB-8F59-8366DF717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A006-B57D-48CE-9F5A-89E99CD9B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3536-CE91-4581-BD89-4AC3DF1C2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8DD-E43F-4E4C-9BB5-682BF52E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DF9-CA70-4102-B02A-B6619B92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EB7-EA46-4BF9-A74B-0AAE4C9C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113-5494-4C54-B8E5-1D595755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EA9-4EC8-4267-8BA4-B124A9CF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7C0-64EC-4431-A6FF-D66CEF02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5DE-DF32-4C9C-8ECF-4B24B58B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395-C573-4346-A5AF-F0C79593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33E-66C5-460A-9955-3F7D3F51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1B0-2FF7-4E09-B5BC-946D00D2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E96-6DF5-4F64-B13B-F4806EC3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986-47E2-440D-AD8A-F7858CDB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71BA-064F-4CBF-AD16-FD3F18D24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A Theory of Isola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   Andrew Dru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962520" y="2819520"/>
            <a:ext cx="323856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od user\AppData\Local\Microsoft\Windows\Temporary Internet Files\Content.IE5\FU87NPSC\MCj03607880000[1].wmf"/>
          <p:cNvPicPr/>
          <p:nvPr/>
        </p:nvPicPr>
        <p:blipFill>
          <a:blip r:embed="rId2"/>
          <a:stretch/>
        </p:blipFill>
        <p:spPr>
          <a:xfrm>
            <a:off x="1981080" y="1828800"/>
            <a:ext cx="1998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6"/>
          <p:cNvSpPr/>
          <p:nvPr/>
        </p:nvSpPr>
        <p:spPr>
          <a:xfrm>
            <a:off x="1447920" y="228600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Part II: Application to Quantum Ad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6"/>
          <p:cNvSpPr/>
          <p:nvPr/>
        </p:nvSpPr>
        <p:spPr>
          <a:xfrm>
            <a:off x="380880" y="609480"/>
            <a:ext cx="8458200" cy="28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the class of problems solvable in quantum polynomial time, with the help of polynomial-size “quantum advice states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ormally: a language L is in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  <a:ea typeface="Arial"/>
              </a:rPr>
              <a:t>BQP/qpol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if there exists a polynomial time quantum algorithm A, as well as quantum advice states {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}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on poly(n) qubits, such that for every input x of size n, A(x,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) decides whether or not 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L with error probability at most 1/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162920" y="3733920"/>
            <a:ext cx="164772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380880" y="3657600"/>
            <a:ext cx="6858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“Yoda Quantum Polynomial-Time”) is the same, except we also require that for every alleged advice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(x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outputs either the right answer or “FAIL” with probability at least 2/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6"/>
          <p:cNvSpPr/>
          <p:nvPr/>
        </p:nvSpPr>
        <p:spPr>
          <a:xfrm>
            <a:off x="914400" y="914400"/>
            <a:ext cx="8001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Watrous 2000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or any fixed, finit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black-box grou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subgroup 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≤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deciding membership in 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i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br>
              <a:rPr sz="2500"/>
            </a:b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quantum advice state is just an equal superposition |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v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lements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don’t know how to solve the same problem in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BQP/p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914400" y="4191120"/>
            <a:ext cx="784872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 2004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ostBQP/poly 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um advice can be simulated by classical advice, combined with postselection on unlikely measurement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914400" y="5410080"/>
            <a:ext cx="792468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 2006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Heur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HeurYQP/poly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usted quantum advice can be simulate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 mos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 by trusted classical advice combined with untrusted quantum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914400" y="274320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-Kuperberg 2007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here exists a “quantum oracle” separating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52280" y="3049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QUANTUM ADVICE IS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52280" y="3657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NO IT 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New Result: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YQP/p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533520" y="1295280"/>
            <a:ext cx="8381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usted quantum advice is equivalent in power to trusted classical advice combined with untrusted quantum advice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“Quantum states never need to be trusted”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457200" y="3276720"/>
            <a:ext cx="838188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t ρ be any quantum state on n qubits.  Then for all m,ε, there exists a 2-local Hamiltonian H=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+⋯+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n poly(n,m,1/ε) qubits, such that any ground state |φ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f H can be used to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imul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ρ (with error ε) on all quantum circuits of size at most m.  In other words, there exists an efficient mapping C→C′ such that for all circuits C of size m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1033560" y="5867280"/>
                <a:ext cx="6838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|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⟩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accepts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ρ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accepts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16"/>
          <p:cNvSpPr/>
          <p:nvPr/>
        </p:nvSpPr>
        <p:spPr>
          <a:xfrm>
            <a:off x="304920" y="2666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PHYSICS” IM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380880" y="129528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eparing quantum advice states is no harder than preparing ground states of local Hamiltoni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1447920" y="2286000"/>
            <a:ext cx="7238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explains a once-mysterious relationship between quantum proofs and quantum advice: efficient preparability of ground states would imply both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C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380880" y="4038480"/>
            <a:ext cx="8305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Quantum Karp-Lipton Theorem”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complete problems are not efficiently solvable using quantum advice, unless som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unifor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mplexity classes collapse unexpected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380880" y="5486400"/>
            <a:ext cx="861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CMA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classical proofs and quantum advice can be simulated with quantum proofs and classical ad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39"/>
          <p:cNvGrpSpPr/>
          <p:nvPr/>
        </p:nvGrpSpPr>
        <p:grpSpPr>
          <a:xfrm>
            <a:off x="1828800" y="609480"/>
            <a:ext cx="5105520" cy="5809320"/>
            <a:chOff x="1828800" y="609480"/>
            <a:chExt cx="5105520" cy="5809320"/>
          </a:xfrm>
        </p:grpSpPr>
        <p:sp>
          <p:nvSpPr>
            <p:cNvPr id="117" name="TextBox 40"/>
            <p:cNvSpPr/>
            <p:nvPr/>
          </p:nvSpPr>
          <p:spPr>
            <a:xfrm>
              <a:off x="3962520" y="601992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Q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1"/>
            <p:cNvSpPr/>
            <p:nvPr/>
          </p:nvSpPr>
          <p:spPr>
            <a:xfrm>
              <a:off x="3962520" y="510552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Q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42"/>
            <p:cNvSpPr/>
            <p:nvPr/>
          </p:nvSpPr>
          <p:spPr>
            <a:xfrm>
              <a:off x="5715360" y="51055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C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3"/>
            <p:cNvSpPr/>
            <p:nvPr/>
          </p:nvSpPr>
          <p:spPr>
            <a:xfrm>
              <a:off x="1828800" y="51055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QP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44"/>
            <p:cNvSpPr/>
            <p:nvPr/>
          </p:nvSpPr>
          <p:spPr>
            <a:xfrm>
              <a:off x="1828800" y="3886200"/>
              <a:ext cx="16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QP/qpoly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=YQP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45"/>
            <p:cNvSpPr/>
            <p:nvPr/>
          </p:nvSpPr>
          <p:spPr>
            <a:xfrm>
              <a:off x="3581280" y="40384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CMA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46"/>
            <p:cNvSpPr/>
            <p:nvPr/>
          </p:nvSpPr>
          <p:spPr>
            <a:xfrm>
              <a:off x="5791320" y="40384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47"/>
            <p:cNvSpPr/>
            <p:nvPr/>
          </p:nvSpPr>
          <p:spPr>
            <a:xfrm>
              <a:off x="2666880" y="30477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CMA/q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48"/>
            <p:cNvSpPr/>
            <p:nvPr/>
          </p:nvSpPr>
          <p:spPr>
            <a:xfrm>
              <a:off x="3809880" y="23619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MA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50"/>
            <p:cNvSpPr/>
            <p:nvPr/>
          </p:nvSpPr>
          <p:spPr>
            <a:xfrm>
              <a:off x="5791320" y="23619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51"/>
            <p:cNvSpPr/>
            <p:nvPr/>
          </p:nvSpPr>
          <p:spPr>
            <a:xfrm>
              <a:off x="5105520" y="14475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53"/>
            <p:cNvSpPr/>
            <p:nvPr/>
          </p:nvSpPr>
          <p:spPr>
            <a:xfrm>
              <a:off x="2743200" y="14475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MA/q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54"/>
            <p:cNvSpPr/>
            <p:nvPr/>
          </p:nvSpPr>
          <p:spPr>
            <a:xfrm>
              <a:off x="3733920" y="6094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SPACE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19"/>
            <p:cNvSpPr/>
            <p:nvPr/>
          </p:nvSpPr>
          <p:spPr>
            <a:xfrm>
              <a:off x="5029200" y="99036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20"/>
            <p:cNvSpPr/>
            <p:nvPr/>
          </p:nvSpPr>
          <p:spPr>
            <a:xfrm flipH="1">
              <a:off x="3657600" y="990360"/>
              <a:ext cx="457200" cy="45720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traight Connector 21"/>
            <p:cNvSpPr/>
            <p:nvPr/>
          </p:nvSpPr>
          <p:spPr>
            <a:xfrm>
              <a:off x="2895480" y="5486400"/>
              <a:ext cx="121896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traight Connector 22"/>
            <p:cNvSpPr/>
            <p:nvPr/>
          </p:nvSpPr>
          <p:spPr>
            <a:xfrm flipH="1">
              <a:off x="4800600" y="5485680"/>
              <a:ext cx="129528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23"/>
            <p:cNvSpPr/>
            <p:nvPr/>
          </p:nvSpPr>
          <p:spPr>
            <a:xfrm flipH="1">
              <a:off x="4494240" y="5507280"/>
              <a:ext cx="2880" cy="51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24"/>
            <p:cNvSpPr/>
            <p:nvPr/>
          </p:nvSpPr>
          <p:spPr>
            <a:xfrm>
              <a:off x="2666880" y="459432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25"/>
            <p:cNvSpPr/>
            <p:nvPr/>
          </p:nvSpPr>
          <p:spPr>
            <a:xfrm>
              <a:off x="6324840" y="44388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26"/>
            <p:cNvSpPr/>
            <p:nvPr/>
          </p:nvSpPr>
          <p:spPr>
            <a:xfrm>
              <a:off x="3276720" y="4495680"/>
              <a:ext cx="914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27"/>
            <p:cNvSpPr/>
            <p:nvPr/>
          </p:nvSpPr>
          <p:spPr>
            <a:xfrm>
              <a:off x="4876920" y="4419720"/>
              <a:ext cx="11430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28"/>
            <p:cNvSpPr/>
            <p:nvPr/>
          </p:nvSpPr>
          <p:spPr>
            <a:xfrm flipH="1">
              <a:off x="4724640" y="4419720"/>
              <a:ext cx="137160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29"/>
            <p:cNvSpPr/>
            <p:nvPr/>
          </p:nvSpPr>
          <p:spPr>
            <a:xfrm flipH="1">
              <a:off x="2971800" y="4419000"/>
              <a:ext cx="12189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30"/>
            <p:cNvSpPr/>
            <p:nvPr/>
          </p:nvSpPr>
          <p:spPr>
            <a:xfrm>
              <a:off x="6324840" y="2762280"/>
              <a:ext cx="0" cy="125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31"/>
            <p:cNvSpPr/>
            <p:nvPr/>
          </p:nvSpPr>
          <p:spPr>
            <a:xfrm>
              <a:off x="3886200" y="3429000"/>
              <a:ext cx="45720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traight Connector 32"/>
            <p:cNvSpPr/>
            <p:nvPr/>
          </p:nvSpPr>
          <p:spPr>
            <a:xfrm flipH="1">
              <a:off x="4724640" y="2743200"/>
              <a:ext cx="1440" cy="13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33"/>
            <p:cNvSpPr/>
            <p:nvPr/>
          </p:nvSpPr>
          <p:spPr>
            <a:xfrm>
              <a:off x="3657600" y="1847520"/>
              <a:ext cx="761760" cy="51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34"/>
            <p:cNvSpPr/>
            <p:nvPr/>
          </p:nvSpPr>
          <p:spPr>
            <a:xfrm flipH="1">
              <a:off x="5028840" y="1847520"/>
              <a:ext cx="609480" cy="51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35"/>
            <p:cNvSpPr/>
            <p:nvPr/>
          </p:nvSpPr>
          <p:spPr>
            <a:xfrm flipH="1">
              <a:off x="3809880" y="2742480"/>
              <a:ext cx="457200" cy="36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36"/>
            <p:cNvSpPr/>
            <p:nvPr/>
          </p:nvSpPr>
          <p:spPr>
            <a:xfrm flipH="1">
              <a:off x="2666880" y="3428280"/>
              <a:ext cx="45720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37"/>
            <p:cNvSpPr/>
            <p:nvPr/>
          </p:nvSpPr>
          <p:spPr>
            <a:xfrm>
              <a:off x="5943960" y="1828440"/>
              <a:ext cx="38088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38"/>
            <p:cNvSpPr/>
            <p:nvPr/>
          </p:nvSpPr>
          <p:spPr>
            <a:xfrm>
              <a:off x="5181840" y="2743200"/>
              <a:ext cx="91440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54"/>
          <p:cNvSpPr/>
          <p:nvPr/>
        </p:nvSpPr>
        <p:spPr>
          <a:xfrm>
            <a:off x="2819520" y="914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A.’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4"/>
          <p:cNvSpPr/>
          <p:nvPr/>
        </p:nvSpPr>
        <p:spPr>
          <a:xfrm>
            <a:off x="457200" y="2514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traight Arrow Connector 41"/>
          <p:cNvCxnSpPr>
            <a:stCxn id="151" idx="3"/>
          </p:cNvCxnSpPr>
          <p:nvPr/>
        </p:nvCxnSpPr>
        <p:spPr>
          <a:xfrm>
            <a:off x="1752120" y="2714760"/>
            <a:ext cx="2057760" cy="181440"/>
          </a:xfrm>
          <a:prstGeom prst="straightConnector1">
            <a:avLst/>
          </a:prstGeom>
          <a:ln w="19080">
            <a:solidFill>
              <a:srgbClr val="ff0000"/>
            </a:solidFill>
            <a:prstDash val="sysDash"/>
            <a:miter/>
            <a:tailEnd len="lg" type="arrow" w="lg"/>
          </a:ln>
        </p:spPr>
      </p:cxnSp>
      <p:cxnSp>
        <p:nvCxnSpPr>
          <p:cNvPr id="153" name="Straight Arrow Connector 44"/>
          <p:cNvCxnSpPr/>
          <p:nvPr/>
        </p:nvCxnSpPr>
        <p:spPr>
          <a:xfrm>
            <a:off x="1066680" y="2971800"/>
            <a:ext cx="915120" cy="1372320"/>
          </a:xfrm>
          <a:prstGeom prst="straightConnector1">
            <a:avLst/>
          </a:prstGeom>
          <a:ln w="19080">
            <a:solidFill>
              <a:srgbClr val="ff0000"/>
            </a:solidFill>
            <a:prstDash val="sysDash"/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60"/>
          <p:cNvSpPr/>
          <p:nvPr/>
        </p:nvSpPr>
        <p:spPr>
          <a:xfrm>
            <a:off x="7010280" y="5562720"/>
            <a:ext cx="2133720" cy="1295280"/>
          </a:xfrm>
          <a:prstGeom prst="rect">
            <a:avLst/>
          </a:prstGeom>
          <a:solidFill>
            <a:srgbClr val="edf59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8"/>
          <p:cNvSpPr/>
          <p:nvPr/>
        </p:nvSpPr>
        <p:spPr>
          <a:xfrm>
            <a:off x="1447920" y="18288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-Certificate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1"/>
          <p:cNvSpPr/>
          <p:nvPr/>
        </p:nvSpPr>
        <p:spPr>
          <a:xfrm>
            <a:off x="1295280" y="34290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l Majority-Certificate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3"/>
          <p:cNvSpPr/>
          <p:nvPr/>
        </p:nvSpPr>
        <p:spPr>
          <a:xfrm>
            <a:off x="1981080" y="3808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rcuit Learning (Bshouty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4"/>
          <p:cNvSpPr/>
          <p:nvPr/>
        </p:nvSpPr>
        <p:spPr>
          <a:xfrm>
            <a:off x="380880" y="457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Minimax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8"/>
          <p:cNvSpPr/>
          <p:nvPr/>
        </p:nvSpPr>
        <p:spPr>
          <a:xfrm>
            <a:off x="0" y="19810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fe Winnowing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3"/>
          <p:cNvSpPr/>
          <p:nvPr/>
        </p:nvSpPr>
        <p:spPr>
          <a:xfrm>
            <a:off x="6858000" y="152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Holevo’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3"/>
          <p:cNvSpPr/>
          <p:nvPr/>
        </p:nvSpPr>
        <p:spPr>
          <a:xfrm>
            <a:off x="6858000" y="9907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dom Access Code Lower Bound (Ambainis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1"/>
          <p:cNvSpPr/>
          <p:nvPr/>
        </p:nvSpPr>
        <p:spPr>
          <a:xfrm>
            <a:off x="3962520" y="51055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YQP/p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1"/>
          <p:cNvSpPr/>
          <p:nvPr/>
        </p:nvSpPr>
        <p:spPr>
          <a:xfrm>
            <a:off x="5029200" y="426708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HeurBQP/qpo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HeurYQP/po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.’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1"/>
          <p:cNvSpPr/>
          <p:nvPr/>
        </p:nvSpPr>
        <p:spPr>
          <a:xfrm>
            <a:off x="3200400" y="601992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um advice no harder than ground state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3"/>
          <p:cNvSpPr/>
          <p:nvPr/>
        </p:nvSpPr>
        <p:spPr>
          <a:xfrm>
            <a:off x="6705720" y="23623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t-Shattering Bound (A.’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3"/>
          <p:cNvSpPr/>
          <p:nvPr/>
        </p:nvSpPr>
        <p:spPr>
          <a:xfrm>
            <a:off x="4114800" y="4572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ing Lemma (Alon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3"/>
          <p:cNvSpPr/>
          <p:nvPr/>
        </p:nvSpPr>
        <p:spPr>
          <a:xfrm>
            <a:off x="4038480" y="1676520"/>
            <a:ext cx="19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ing of p-Concept Classes (Bartlett &amp;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1"/>
          <p:cNvSpPr/>
          <p:nvPr/>
        </p:nvSpPr>
        <p:spPr>
          <a:xfrm>
            <a:off x="533520" y="51814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HAMILTONIANS is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Kita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1"/>
          <p:cNvSpPr/>
          <p:nvPr/>
        </p:nvSpPr>
        <p:spPr>
          <a:xfrm>
            <a:off x="0" y="4343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Cook-Levin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Straight Arrow Connector 53"/>
          <p:cNvCxnSpPr/>
          <p:nvPr/>
        </p:nvCxnSpPr>
        <p:spPr>
          <a:xfrm>
            <a:off x="1066680" y="2971800"/>
            <a:ext cx="61056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1" name="Straight Arrow Connector 55"/>
          <p:cNvCxnSpPr/>
          <p:nvPr/>
        </p:nvCxnSpPr>
        <p:spPr>
          <a:xfrm>
            <a:off x="1295280" y="1142640"/>
            <a:ext cx="534240" cy="6865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2" name="Straight Arrow Connector 61"/>
          <p:cNvCxnSpPr/>
          <p:nvPr/>
        </p:nvCxnSpPr>
        <p:spPr>
          <a:xfrm flipH="1">
            <a:off x="3047760" y="1066680"/>
            <a:ext cx="1372320" cy="243900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3" name="Straight Arrow Connector 64"/>
          <p:cNvCxnSpPr>
            <a:endCxn id="167" idx="0"/>
          </p:cNvCxnSpPr>
          <p:nvPr/>
        </p:nvCxnSpPr>
        <p:spPr>
          <a:xfrm flipH="1">
            <a:off x="5028840" y="1143000"/>
            <a:ext cx="216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4" name="Straight Arrow Connector 70"/>
          <p:cNvCxnSpPr/>
          <p:nvPr/>
        </p:nvCxnSpPr>
        <p:spPr>
          <a:xfrm flipH="1">
            <a:off x="3276360" y="2666880"/>
            <a:ext cx="915120" cy="10677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5" name="Straight Arrow Connector 75"/>
          <p:cNvCxnSpPr>
            <a:stCxn id="167" idx="2"/>
          </p:cNvCxnSpPr>
          <p:nvPr/>
        </p:nvCxnSpPr>
        <p:spPr>
          <a:xfrm>
            <a:off x="5028120" y="2692440"/>
            <a:ext cx="153000" cy="165168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6" name="Straight Arrow Connector 77"/>
          <p:cNvCxnSpPr/>
          <p:nvPr/>
        </p:nvCxnSpPr>
        <p:spPr>
          <a:xfrm flipH="1">
            <a:off x="7999200" y="3049200"/>
            <a:ext cx="3600" cy="12200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7" name="Straight Arrow Connector 80"/>
          <p:cNvCxnSpPr/>
          <p:nvPr/>
        </p:nvCxnSpPr>
        <p:spPr>
          <a:xfrm flipH="1">
            <a:off x="8000640" y="53352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8" name="Straight Arrow Connector 81"/>
          <p:cNvCxnSpPr/>
          <p:nvPr/>
        </p:nvCxnSpPr>
        <p:spPr>
          <a:xfrm flipH="1">
            <a:off x="8000640" y="198108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79" name="Straight Arrow Connector 83"/>
          <p:cNvCxnSpPr>
            <a:endCxn id="164" idx="0"/>
          </p:cNvCxnSpPr>
          <p:nvPr/>
        </p:nvCxnSpPr>
        <p:spPr>
          <a:xfrm flipH="1">
            <a:off x="4876560" y="5486400"/>
            <a:ext cx="30528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80" name="Straight Arrow Connector 86"/>
          <p:cNvCxnSpPr/>
          <p:nvPr/>
        </p:nvCxnSpPr>
        <p:spPr>
          <a:xfrm>
            <a:off x="2742840" y="5715000"/>
            <a:ext cx="61020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81" name="Straight Arrow Connector 94"/>
          <p:cNvCxnSpPr/>
          <p:nvPr/>
        </p:nvCxnSpPr>
        <p:spPr>
          <a:xfrm>
            <a:off x="3504240" y="4038480"/>
            <a:ext cx="1067400" cy="10677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82" name="Straight Arrow Connector 98"/>
          <p:cNvCxnSpPr>
            <a:stCxn id="157" idx="2"/>
          </p:cNvCxnSpPr>
          <p:nvPr/>
        </p:nvCxnSpPr>
        <p:spPr>
          <a:xfrm flipH="1">
            <a:off x="2514240" y="1088640"/>
            <a:ext cx="381600" cy="8168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83" name="Straight Arrow Connector 102"/>
          <p:cNvCxnSpPr/>
          <p:nvPr/>
        </p:nvCxnSpPr>
        <p:spPr>
          <a:xfrm flipH="1">
            <a:off x="2284200" y="2820600"/>
            <a:ext cx="3600" cy="68652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84" name="Straight Arrow Connector 104"/>
          <p:cNvCxnSpPr/>
          <p:nvPr/>
        </p:nvCxnSpPr>
        <p:spPr>
          <a:xfrm>
            <a:off x="1599120" y="4724280"/>
            <a:ext cx="15300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85" name="Straight Arrow Connector 109"/>
          <p:cNvCxnSpPr/>
          <p:nvPr/>
        </p:nvCxnSpPr>
        <p:spPr>
          <a:xfrm flipH="1">
            <a:off x="6019560" y="4647960"/>
            <a:ext cx="2160" cy="53388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sp>
        <p:nvSpPr>
          <p:cNvPr id="186" name="TextBox 51"/>
          <p:cNvSpPr/>
          <p:nvPr/>
        </p:nvSpPr>
        <p:spPr>
          <a:xfrm>
            <a:off x="5334120" y="32004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haronov &amp; Re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Straight Arrow Connector 136"/>
          <p:cNvCxnSpPr/>
          <p:nvPr/>
        </p:nvCxnSpPr>
        <p:spPr>
          <a:xfrm flipH="1">
            <a:off x="6476760" y="388620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88" name="Straight Arrow Connector 147"/>
          <p:cNvCxnSpPr/>
          <p:nvPr/>
        </p:nvCxnSpPr>
        <p:spPr>
          <a:xfrm flipH="1">
            <a:off x="7238160" y="5791320"/>
            <a:ext cx="2520" cy="38160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89" name="Straight Arrow Connector 150"/>
          <p:cNvCxnSpPr/>
          <p:nvPr/>
        </p:nvCxnSpPr>
        <p:spPr>
          <a:xfrm flipH="1">
            <a:off x="7236720" y="6326280"/>
            <a:ext cx="3960" cy="38160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sp>
        <p:nvSpPr>
          <p:cNvPr id="190" name="TextBox 51"/>
          <p:cNvSpPr/>
          <p:nvPr/>
        </p:nvSpPr>
        <p:spPr>
          <a:xfrm>
            <a:off x="7315200" y="5791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a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1"/>
          <p:cNvSpPr/>
          <p:nvPr/>
        </p:nvSpPr>
        <p:spPr>
          <a:xfrm>
            <a:off x="7315200" y="6248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65"/>
          <p:cNvSpPr/>
          <p:nvPr/>
        </p:nvSpPr>
        <p:spPr>
          <a:xfrm>
            <a:off x="1447920" y="1600200"/>
            <a:ext cx="160020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28600" y="22860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Lifting” the Majority-Certificates Lem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00200" y="1143000"/>
          <a:ext cx="6248520" cy="1854360"/>
        </p:xfrm>
        <a:graphic>
          <a:graphicData uri="http://schemas.openxmlformats.org/drawingml/2006/table">
            <a:tbl>
              <a:tblPr/>
              <a:tblGrid>
                <a:gridCol w="3124080"/>
                <a:gridCol w="3124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olean Majority-Certif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QP/qpoly=YQP/poly  Pro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S of Boolean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S of p(n)-qubit mixed 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” function f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” advice state 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functions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…,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st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…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 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isolate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ement 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isolat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04920" y="3200400"/>
          <a:ext cx="8686800" cy="3479760"/>
        </p:xfrm>
        <a:graphic>
          <a:graphicData uri="http://schemas.openxmlformats.org/drawingml/2006/table">
            <a:tbl>
              <a:tblPr/>
              <a:tblGrid>
                <a:gridCol w="4576680"/>
                <a:gridCol w="4110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Difficul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lass of p(n)-qubit quantum states is infinitely large!  And even if we discretize it, it’s still doubly-exponentially 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 of A.’06 on learnability of quantum states (building on Ambainis et al. 19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ead of Boolean functions f:{0,1}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{0,1}, now we hav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unctions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{0,1}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0,1] representing the expectatio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theory has tools to deal with this: fat-shattering dimension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covers… (Alon et al. 19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do we verify a quantum witness without destroying i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QM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en-US" sz="18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QMA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Aharonov &amp; Regev 20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f a certificate asks us to verify Tr(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≤a, but Tr(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is “right at the knife-edge”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 Winnowing Lemm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28600" y="380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Majority-Certificates Lemma, Real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80880" y="1295280"/>
            <a:ext cx="838224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Lemm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Let S be a set of functions f:{0,1}ⁿ→[0,1], let 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∗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∈S, and let </a:t>
            </a:r>
            <a:r>
              <a:rPr b="0" lang="el-GR" sz="2500" spc="-1" strike="noStrike">
                <a:solidFill>
                  <a:srgbClr val="000000"/>
                </a:solidFill>
                <a:latin typeface="Calibri"/>
              </a:rPr>
              <a:t>ε&gt;0.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n we can find m=O(n/</a:t>
            </a:r>
            <a:r>
              <a:rPr b="0" lang="el-GR" sz="2500" spc="-1" strike="noStrike">
                <a:solidFill>
                  <a:srgbClr val="000000"/>
                </a:solidFill>
                <a:latin typeface="Calibri"/>
              </a:rPr>
              <a:t>ε²)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nctions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∈S, sets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⊆{0,1}ⁿ each of s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which the following holds.  All functions 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∈S that satisf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for all i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m] also satisf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143000" y="2666880"/>
                <a:ext cx="2770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a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ε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</m:den>
                            </m:f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5562720" y="2514600"/>
                <a:ext cx="26352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at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ε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8</m:t>
                                    </m:r>
                                  </m:den>
                                </m:f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1371600" y="4191120"/>
                <a:ext cx="28494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2971800" y="4724280"/>
                <a:ext cx="29829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1600200" y="5715000"/>
                <a:ext cx="3789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6"/>
          <p:cNvSpPr/>
          <p:nvPr/>
        </p:nvSpPr>
        <p:spPr>
          <a:xfrm>
            <a:off x="457200" y="304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457200" y="990720"/>
            <a:ext cx="83818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Proof Sketch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immediate.  For the other direction, let L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Let M be a quantum algorithm that decides L using advice stat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Def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2590920" y="2286000"/>
                <a:ext cx="3886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ρ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ccept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6" name="Text Box 16"/>
          <p:cNvSpPr/>
          <p:nvPr/>
        </p:nvSpPr>
        <p:spPr>
          <a:xfrm>
            <a:off x="457200" y="2895480"/>
            <a:ext cx="838188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t S = {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}.  Then S has “fat-shattering dimension” at most poly(n), by A.’06.  So we can apply the real version of the Majority-Certificates Lemma to S.  This yields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for some m=poly(n)), such that any states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spectively satisf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981080" y="4876920"/>
                <a:ext cx="542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⟩</m:t>
                            </m:r>
                            <m:r>
                              <m:t xml:space="preserve">⟨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16"/>
          <p:cNvSpPr/>
          <p:nvPr/>
        </p:nvSpPr>
        <p:spPr>
          <a:xfrm>
            <a:off x="457200" y="5867280"/>
            <a:ext cx="84582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all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regardless of entanglement).  To check the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s, we use the “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+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uper-verifier” of Aharonov &amp; Rege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reeze-Dried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304920" y="3657600"/>
            <a:ext cx="838188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Motivating Ques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ow much useful computational work can one “store” in (say) an n-qubit quantum state, or a coin whose bias is an arbitrary real numb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tentially a huge amoun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give a new tool—called “isolatability”—for ruling out the possibility of such extravagant encod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Karp-Lipton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380880" y="182880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ur quantum analogu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380880" y="121932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Karp-Lipton 1982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380880" y="3124080"/>
            <a:ext cx="838224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Proof Ide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atement has the form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y R(x,y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 the hypothesis and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re exists an advice string s, such that any quantum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s lets us solv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problems (and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uch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consistent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first guess an s that’s consistent with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Then use the oracle to search for an x and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uch that, if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consistent with s, then R(x,Q(x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) holds, where Q is a quantum algorithm that searches for a y such that R(x,y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6"/>
          <p:cNvSpPr/>
          <p:nvPr/>
        </p:nvSpPr>
        <p:spPr>
          <a:xfrm>
            <a:off x="1447920" y="228600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Part III: Application to Advice Co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62481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Erik Demaine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</a:rPr>
              <a:t>(motivated by a computational genetics problem)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“Suppose a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machine can flip a coin with Bernoulli probability p an unlimited number of times.  Can it extract an exponential amount of information (or even more) about p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Me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“I’m sure whatever the answer is, it’s obvious..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6705720" y="1295280"/>
            <a:ext cx="2104920" cy="2305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7772400" y="5410080"/>
            <a:ext cx="1117440" cy="11145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1414440" y="519588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c0504d"/>
                </a:solidFill>
                <a:latin typeface="Calibri"/>
              </a:rPr>
              <a:t>Didn’t seem too likely there could be superpowerful “Advice Coin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200160" y="5195880"/>
            <a:ext cx="13446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70c0"/>
                </a:solidFill>
                <a:latin typeface="Calibri"/>
              </a:rPr>
              <a:t>Indeed, Hellman &amp; Cover proved the following in 1970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286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uppose a finite automaton M is trying to decide whether a coin has p=½ or p=½+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.  Then even if it can flip the coin an unlimited number of times, M needs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(1/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) states to succeed with probability (say) 2/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57200" y="4191120"/>
            <a:ext cx="8286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is result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</a:rPr>
              <a:t>seems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to imply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/coin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/pol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, since we could take the first poly(n) bits of p as the advice.  But it breaks down if p is close to 0 or 1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c0504d"/>
                </a:solidFill>
                <a:latin typeface="Calibri"/>
              </a:rPr>
              <a:t>Furthermore, quantum mechanics nullifies the Hellman-Cover Theorem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56760" y="1499760"/>
            <a:ext cx="83581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CA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or any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&gt;0, it’s possible to distinguish a coin with p=½ from a coin with p=½+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using a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</a:rPr>
              <a:t>single qubit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of memory, with error probability independent of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11" descr="spinningcoin.gif"/>
          <p:cNvPicPr/>
          <p:nvPr/>
        </p:nvPicPr>
        <p:blipFill>
          <a:blip r:embed="rId1"/>
          <a:stretch/>
        </p:blipFill>
        <p:spPr>
          <a:xfrm>
            <a:off x="285840" y="3357720"/>
            <a:ext cx="952560" cy="93312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7"/>
          <p:cNvGrpSpPr/>
          <p:nvPr/>
        </p:nvGrpSpPr>
        <p:grpSpPr>
          <a:xfrm>
            <a:off x="1428840" y="2928960"/>
            <a:ext cx="3595680" cy="3657600"/>
            <a:chOff x="1428840" y="2928960"/>
            <a:chExt cx="3595680" cy="3657600"/>
          </a:xfrm>
        </p:grpSpPr>
        <p:sp>
          <p:nvSpPr>
            <p:cNvPr id="226" name="Oval 8"/>
            <p:cNvSpPr/>
            <p:nvPr/>
          </p:nvSpPr>
          <p:spPr>
            <a:xfrm>
              <a:off x="1428840" y="353844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>
              <a:off x="1428840" y="5062320"/>
              <a:ext cx="30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>
              <a:off x="2953080" y="353844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9" name="Object 11"/>
            <p:cNvGraphicFramePr/>
            <p:nvPr/>
          </p:nvGraphicFramePr>
          <p:xfrm>
            <a:off x="4476960" y="4681440"/>
            <a:ext cx="547560" cy="68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0" name="Object 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76960" y="468144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1" name="Object 12"/>
            <p:cNvGraphicFramePr/>
            <p:nvPr/>
          </p:nvGraphicFramePr>
          <p:xfrm>
            <a:off x="2741760" y="2928960"/>
            <a:ext cx="513000" cy="685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2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41760" y="2928960"/>
                      <a:ext cx="51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3" name="Object 13"/>
            <p:cNvGraphicFramePr/>
            <p:nvPr/>
          </p:nvGraphicFramePr>
          <p:xfrm>
            <a:off x="3867480" y="3386160"/>
            <a:ext cx="868320" cy="739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34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67480" y="338616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5" name="Line 14"/>
          <p:cNvSpPr/>
          <p:nvPr/>
        </p:nvSpPr>
        <p:spPr>
          <a:xfrm>
            <a:off x="2945880" y="5068800"/>
            <a:ext cx="1555200" cy="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6"/>
          <p:cNvSpPr/>
          <p:nvPr/>
        </p:nvSpPr>
        <p:spPr>
          <a:xfrm flipV="1">
            <a:off x="2942640" y="4857120"/>
            <a:ext cx="1558440" cy="20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6"/>
          <p:cNvSpPr/>
          <p:nvPr/>
        </p:nvSpPr>
        <p:spPr>
          <a:xfrm flipV="1">
            <a:off x="2928600" y="4644000"/>
            <a:ext cx="1501200" cy="427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5286240" y="3143160"/>
            <a:ext cx="37148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Keep flipping the co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henever the coin lands heads, rotate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/100 radians counterclockwise.  Whenever it lands tails, rotate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/100 radians clock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42920" y="3000240"/>
            <a:ext cx="8715240" cy="25624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Halt with probability ~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C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/100 at each time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Expected difference in final angle after halting, in p=½  vs. p=½+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 cases: 1 ra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Standard deviation in ang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4876920" y="4267080"/>
          <a:ext cx="2662200" cy="100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6920" y="4267080"/>
                    <a:ext cx="2662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CA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espite these obstacl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BQPSPACE/coi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/coi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/pol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3" name="Object 5"/>
          <p:cNvGraphicFramePr/>
          <p:nvPr/>
        </p:nvGraphicFramePr>
        <p:xfrm>
          <a:off x="2057400" y="4191120"/>
          <a:ext cx="449748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191120"/>
                    <a:ext cx="44974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3"/>
          <p:cNvSpPr/>
          <p:nvPr/>
        </p:nvSpPr>
        <p:spPr>
          <a:xfrm>
            <a:off x="457200" y="5029200"/>
            <a:ext cx="83581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e’re interested in a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</a:rPr>
              <a:t>fixed-point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: a mixed state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5"/>
          <p:cNvGraphicFramePr/>
          <p:nvPr/>
        </p:nvGraphicFramePr>
        <p:xfrm>
          <a:off x="2714760" y="5929200"/>
          <a:ext cx="23796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760" y="5929200"/>
                    <a:ext cx="23796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8"/>
          <p:cNvSpPr/>
          <p:nvPr/>
        </p:nvSpPr>
        <p:spPr>
          <a:xfrm>
            <a:off x="304920" y="1600200"/>
            <a:ext cx="861048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</a:rPr>
              <a:t>Proof:</a:t>
            </a:r>
            <a:r>
              <a:rPr b="0" lang="en-CA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uffices to show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BQPSPACE/coin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/pol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Let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= quantum operation applied to our memory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qubits whenever coin lands heads,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= operation applied when it lands 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en induced operation at each time ste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286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c0504d"/>
                </a:solidFill>
                <a:latin typeface="Calibri"/>
              </a:rPr>
              <a:t>Fixed-Points of Super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85480" y="1785600"/>
            <a:ext cx="5715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lready studied by</a:t>
            </a:r>
            <a:r>
              <a:rPr b="0" lang="en-CA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b050"/>
                </a:solidFill>
                <a:latin typeface="Calibri"/>
              </a:rPr>
              <a:t>[A.-Watrous 2008]</a:t>
            </a:r>
            <a:r>
              <a:rPr b="0" lang="en-CA" sz="2800" spc="-1" strike="noStrike">
                <a:solidFill>
                  <a:srgbClr val="898989"/>
                </a:solidFill>
                <a:latin typeface="Calibri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n the context of quantum computing with closed timelike cu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142920" y="7143840"/>
            <a:ext cx="900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000000"/>
                </a:solidFill>
                <a:latin typeface="Calibri"/>
              </a:rPr>
              <a:t>0.00000000000000011010111110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5929200" y="1285920"/>
            <a:ext cx="2948040" cy="22114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357120" y="392904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</a:rPr>
              <a:t>Our result there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CA" sz="2800" spc="-1" strike="noStrike" baseline="-25000">
                <a:solidFill>
                  <a:srgbClr val="7030a0"/>
                </a:solidFill>
                <a:latin typeface="Calibri"/>
              </a:rPr>
              <a:t>CTC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CA" sz="2800" spc="-1" strike="noStrike" baseline="-25000">
                <a:solidFill>
                  <a:srgbClr val="7030a0"/>
                </a:solidFill>
                <a:latin typeface="Calibri"/>
              </a:rPr>
              <a:t>CTC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Quantum computers with CTCs have exactly the same power as classical computers with CTCs, namely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(or: “CTCs make time and space equivalent as computational resource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228600" y="380880"/>
            <a:ext cx="842976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</a:rPr>
              <a:t>Key Lemma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Let a(p) be the probability that an S-state quantum finite automaton accepts, if each input bit is 1 with independent probability p.  Then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(p) is a degree-S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rational function of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</a:rPr>
              <a:t>Proof Idea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We can write a(p)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urthermore, each entry of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can be written as a degree-S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rational function of p, by using Cramer’s Rule on S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matr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447920" y="3276720"/>
                <a:ext cx="60577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⟨</m:t>
                        </m:r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  <m:r>
                          <m:t xml:space="preserve">⟩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⟨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⟩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304920" y="5867280"/>
            <a:ext cx="84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ow, by calculus, a degree-S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rational function can cross the line y=½ at most 2S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tim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225360" y="1295280"/>
            <a:ext cx="7772400" cy="3235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5"/>
          <p:cNvSpPr/>
          <p:nvPr/>
        </p:nvSpPr>
        <p:spPr>
          <a:xfrm flipV="1">
            <a:off x="225360" y="291312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6"/>
          <p:cNvSpPr/>
          <p:nvPr/>
        </p:nvSpPr>
        <p:spPr>
          <a:xfrm>
            <a:off x="214200" y="1655640"/>
            <a:ext cx="7774200" cy="2586240"/>
          </a:xfrm>
          <a:prstGeom prst="pi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500280" y="4513320"/>
            <a:ext cx="500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8143920" y="2584440"/>
            <a:ext cx="1000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3"/>
          <p:cNvSpPr/>
          <p:nvPr/>
        </p:nvSpPr>
        <p:spPr>
          <a:xfrm>
            <a:off x="838080" y="2232000"/>
            <a:ext cx="152640" cy="152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4"/>
          <p:cNvSpPr/>
          <p:nvPr/>
        </p:nvSpPr>
        <p:spPr>
          <a:xfrm>
            <a:off x="6781680" y="3908520"/>
            <a:ext cx="152640" cy="152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5"/>
          <p:cNvSpPr/>
          <p:nvPr/>
        </p:nvSpPr>
        <p:spPr>
          <a:xfrm>
            <a:off x="7924680" y="2155680"/>
            <a:ext cx="152640" cy="152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228600" y="228600"/>
            <a:ext cx="842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ence a(p) is itself a degree-S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rational function of p, except possibly at a finite number of singular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80880" y="4876920"/>
            <a:ext cx="8429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 further continuity argument rules out the singularities, except possibly at p=0 and p=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12"/>
          <p:cNvGrpSpPr/>
          <p:nvPr/>
        </p:nvGrpSpPr>
        <p:grpSpPr>
          <a:xfrm>
            <a:off x="214200" y="2816280"/>
            <a:ext cx="8929800" cy="3860640"/>
            <a:chOff x="214200" y="2816280"/>
            <a:chExt cx="8929800" cy="3860640"/>
          </a:xfrm>
        </p:grpSpPr>
        <p:sp>
          <p:nvSpPr>
            <p:cNvPr id="268" name="Rectangle 13"/>
            <p:cNvSpPr/>
            <p:nvPr/>
          </p:nvSpPr>
          <p:spPr>
            <a:xfrm>
              <a:off x="225000" y="2816280"/>
              <a:ext cx="7772760" cy="32353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Straight Connector 15"/>
            <p:cNvSpPr/>
            <p:nvPr/>
          </p:nvSpPr>
          <p:spPr>
            <a:xfrm flipV="1">
              <a:off x="224280" y="4433760"/>
              <a:ext cx="77727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214200" y="3176640"/>
              <a:ext cx="7774200" cy="2585880"/>
            </a:xfrm>
            <a:prstGeom prst="pi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226800" y="3354120"/>
              <a:ext cx="7775640" cy="2335320"/>
            </a:xfrm>
            <a:prstGeom prst="pie">
              <a:avLst/>
            </a:prstGeom>
            <a:noFill/>
            <a:ln w="316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214200" y="2819160"/>
              <a:ext cx="7786800" cy="3211560"/>
            </a:xfrm>
            <a:prstGeom prst="pie">
              <a:avLst/>
            </a:prstGeom>
            <a:noFill/>
            <a:ln w="316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Straight Connector 21"/>
            <p:cNvSpPr/>
            <p:nvPr/>
          </p:nvSpPr>
          <p:spPr>
            <a:xfrm flipH="1">
              <a:off x="3714480" y="2817720"/>
              <a:ext cx="10800" cy="3216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"/>
            <p:cNvSpPr/>
            <p:nvPr/>
          </p:nvSpPr>
          <p:spPr>
            <a:xfrm>
              <a:off x="3500280" y="603396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"/>
            <p:cNvSpPr/>
            <p:nvPr/>
          </p:nvSpPr>
          <p:spPr>
            <a:xfrm>
              <a:off x="8143920" y="4105080"/>
              <a:ext cx="10000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CA" sz="2800" spc="-1" strike="noStrike" baseline="-25000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CA" sz="2800" spc="-1" strike="noStrike">
                  <a:solidFill>
                    <a:srgbClr val="000000"/>
                  </a:solidFill>
                  <a:latin typeface="Calibri"/>
                </a:rPr>
                <a:t>(p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6" name="Object 2"/>
          <p:cNvGraphicFramePr/>
          <p:nvPr/>
        </p:nvGraphicFramePr>
        <p:xfrm>
          <a:off x="3714840" y="8786880"/>
          <a:ext cx="2008080" cy="3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8786880"/>
                    <a:ext cx="2008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3"/>
          <p:cNvSpPr/>
          <p:nvPr/>
        </p:nvSpPr>
        <p:spPr>
          <a:xfrm>
            <a:off x="285840" y="228600"/>
            <a:ext cx="88581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Given a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BQPSPACE/coi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machine M, let 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(p) be its acceptance probability on input 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and a coin with Bernoulli probability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</a:rPr>
              <a:t>Challenge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How can we describe p well enough to compute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(p)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for every x, using only poly(n) b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6"/>
          <p:cNvSpPr/>
          <p:nvPr/>
        </p:nvSpPr>
        <p:spPr>
          <a:xfrm>
            <a:off x="228600" y="1371600"/>
            <a:ext cx="8610480" cy="34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Ide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ake some advice resource (such as a coin or a quantum state), and simulate it using a short classical string, together with a polynomial number of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untrust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dvice resour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other words, all the relevant information in the advice resource gets packed into an ordinary string (which we say “isolates” the resource), and we're left with just a computational search problem—of finding coins, quantum states, etc. that are consistent with the st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70c0"/>
                </a:solidFill>
                <a:latin typeface="Calibri"/>
              </a:rPr>
              <a:t>Finishing the Argument (Sketc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2868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e’ve upper-bounded how many distinct Boolean functions f:{0,1}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{0,1} can be expressed, as we vary p from 0 to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o by the Majority-Certificates Lemma, we can simulate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/coi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using a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/pol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machine, combined with poly(n)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</a:rPr>
              <a:t>untrusted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advice co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e then get a computational search problem: finding coin biases p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,…,p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that are consistent with the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/pol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advice st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e can solve that problem in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PSPACE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, using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</a:rPr>
              <a:t>NC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algorithms for root-finding developed by Neff and P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Object 2"/>
          <p:cNvGraphicFramePr/>
          <p:nvPr/>
        </p:nvGraphicFramePr>
        <p:xfrm>
          <a:off x="3714840" y="8786880"/>
          <a:ext cx="2008080" cy="3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8786880"/>
                    <a:ext cx="2008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Picture 5" descr=""/>
          <p:cNvPicPr/>
          <p:nvPr/>
        </p:nvPicPr>
        <p:blipFill>
          <a:blip r:embed="rId3"/>
          <a:stretch/>
        </p:blipFill>
        <p:spPr>
          <a:xfrm>
            <a:off x="122400" y="2362320"/>
            <a:ext cx="9021600" cy="3429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3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70c0"/>
                </a:solidFill>
                <a:latin typeface="Calibri"/>
              </a:rPr>
              <a:t>When Can An O(1)-State Finite Automaton Detect an </a:t>
            </a:r>
            <a:r>
              <a:rPr b="1" lang="en-CA" sz="4000" spc="-1" strike="noStrike">
                <a:solidFill>
                  <a:srgbClr val="0070c0"/>
                </a:solidFill>
                <a:latin typeface="Symbol"/>
                <a:ea typeface="Symbol"/>
              </a:rPr>
              <a:t></a:t>
            </a:r>
            <a:r>
              <a:rPr b="1" lang="en-CA" sz="4000" spc="-1" strike="noStrike">
                <a:solidFill>
                  <a:srgbClr val="0070c0"/>
                </a:solidFill>
                <a:latin typeface="Calibri"/>
              </a:rPr>
              <a:t> Change to the Bias of a Coi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304920" y="40384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um finite automata: are their limiting acceptance probabilities continuous functions of p, for 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0,1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304920" y="1371600"/>
            <a:ext cx="8381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other applications of isola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it complexity?  Communication complexity?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theory?  Quantum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304920" y="32004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mality of the Majority-Certificates Lem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304920" y="54100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e a classical oracle separation betwee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QP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YQP/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omised Application to “Physic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380880" y="175248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rthermore, in their reduction, the witness is a “history state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380880" y="5029200"/>
            <a:ext cx="8382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 given any language L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we can use the Kitaev et al. reduction to get a local Hamiltonian H whose unique ground state i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We can then us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recover th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nes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 thereby decide 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380880" y="121932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 Kitaev et al., we know LOCAL HAMILTONIANS is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2770200" y="2209680"/>
                <a:ext cx="33163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Φ</m:t>
                    </m:r>
                    <m:r>
                      <m:t xml:space="preserve">⟩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5" name="Text Box 16"/>
          <p:cNvSpPr/>
          <p:nvPr/>
        </p:nvSpPr>
        <p:spPr>
          <a:xfrm>
            <a:off x="457200" y="3352680"/>
            <a:ext cx="838188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easuring this state yields the original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nes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1/poly(n)) probability.  Henc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an be recovered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3200400" y="4267080"/>
                <a:ext cx="2706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Φ</m:t>
                    </m:r>
                    <m:r>
                      <m:t xml:space="preserve">'</m:t>
                    </m:r>
                    <m:r>
                      <m:t xml:space="preserve">⟩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Φ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rPr>
                            <m:lit/>
                            <m:nor/>
                          </m:rPr>
                          <m:t xml:space="preserve">pol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6"/>
          <p:cNvSpPr/>
          <p:nvPr/>
        </p:nvSpPr>
        <p:spPr>
          <a:xfrm>
            <a:off x="838080" y="1447920"/>
            <a:ext cx="662940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Part I: The Majority-Certificates Lem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basic 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Part II: Application to Quantum 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QMA/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Part III: Application to Advice Co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SPACE/coi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SPACE/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6"/>
          <p:cNvSpPr/>
          <p:nvPr/>
        </p:nvSpPr>
        <p:spPr>
          <a:xfrm>
            <a:off x="1447920" y="228600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Part I: The Majority-Certificates 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6"/>
          <p:cNvSpPr/>
          <p:nvPr/>
        </p:nvSpPr>
        <p:spPr>
          <a:xfrm>
            <a:off x="380880" y="2133720"/>
            <a:ext cx="838224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computes some Boolean function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 belonging to a “small” set S (meaning, of size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  Someone wants to prove to us that f equals (say) the all-0 function, by having us check a polynomial number of outputs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,…,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80880" y="30492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Intuition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e’re given a black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ube 8"/>
          <p:cNvSpPr/>
          <p:nvPr/>
        </p:nvSpPr>
        <p:spPr>
          <a:xfrm>
            <a:off x="3809880" y="9144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09880" y="1219320"/>
            <a:ext cx="838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10"/>
          <p:cNvCxnSpPr/>
          <p:nvPr/>
        </p:nvCxnSpPr>
        <p:spPr>
          <a:xfrm>
            <a:off x="2819160" y="1600200"/>
            <a:ext cx="991080" cy="21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sp>
        <p:nvSpPr>
          <p:cNvPr id="63" name="Text Box 16"/>
          <p:cNvSpPr/>
          <p:nvPr/>
        </p:nvSpPr>
        <p:spPr>
          <a:xfrm>
            <a:off x="2438280" y="12952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14"/>
          <p:cNvCxnSpPr/>
          <p:nvPr/>
        </p:nvCxnSpPr>
        <p:spPr>
          <a:xfrm>
            <a:off x="4876560" y="1600200"/>
            <a:ext cx="991080" cy="21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sp>
        <p:nvSpPr>
          <p:cNvPr id="65" name="Text Box 16"/>
          <p:cNvSpPr/>
          <p:nvPr/>
        </p:nvSpPr>
        <p:spPr>
          <a:xfrm>
            <a:off x="5791320" y="129528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f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80880" y="3962520"/>
            <a:ext cx="358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is trivially impossibl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343400" y="4419720"/>
          <a:ext cx="4495680" cy="2225520"/>
        </p:xfrm>
        <a:graphic>
          <a:graphicData uri="http://schemas.openxmlformats.org/drawingml/2006/table">
            <a:tbl>
              <a:tblPr/>
              <a:tblGrid>
                <a:gridCol w="642960"/>
                <a:gridCol w="641160"/>
                <a:gridCol w="642960"/>
                <a:gridCol w="641520"/>
                <a:gridCol w="642960"/>
                <a:gridCol w="641160"/>
                <a:gridCol w="6429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16"/>
          <p:cNvSpPr/>
          <p:nvPr/>
        </p:nvSpPr>
        <p:spPr>
          <a:xfrm>
            <a:off x="380880" y="4572000"/>
            <a:ext cx="381024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t what if we get </a:t>
            </a:r>
            <a:r>
              <a:rPr b="1" lang="en-US" sz="3000" spc="-1" strike="noStrike">
                <a:solidFill>
                  <a:srgbClr val="c0504d"/>
                </a:solidFill>
                <a:latin typeface="Calibri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lack boxes, and are allowed to simulate f=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y taking the point-wise MAJORITY of their outpu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20"/>
          <p:cNvCxnSpPr/>
          <p:nvPr/>
        </p:nvCxnSpPr>
        <p:spPr>
          <a:xfrm flipH="1">
            <a:off x="5331600" y="3887640"/>
            <a:ext cx="39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70" name="Straight Arrow Connector 22"/>
          <p:cNvCxnSpPr/>
          <p:nvPr/>
        </p:nvCxnSpPr>
        <p:spPr>
          <a:xfrm flipH="1">
            <a:off x="5943240" y="3886200"/>
            <a:ext cx="21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71" name="Straight Arrow Connector 23"/>
          <p:cNvCxnSpPr/>
          <p:nvPr/>
        </p:nvCxnSpPr>
        <p:spPr>
          <a:xfrm flipH="1">
            <a:off x="6629040" y="3886200"/>
            <a:ext cx="21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72" name="Straight Arrow Connector 24"/>
          <p:cNvCxnSpPr/>
          <p:nvPr/>
        </p:nvCxnSpPr>
        <p:spPr>
          <a:xfrm flipH="1">
            <a:off x="7238160" y="3886200"/>
            <a:ext cx="252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sp>
        <p:nvSpPr>
          <p:cNvPr id="73" name="Oval 25"/>
          <p:cNvSpPr/>
          <p:nvPr/>
        </p:nvSpPr>
        <p:spPr>
          <a:xfrm>
            <a:off x="5638680" y="4800600"/>
            <a:ext cx="609840" cy="3808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>
            <a:off x="6248520" y="5181480"/>
            <a:ext cx="609480" cy="381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7"/>
          <p:cNvSpPr/>
          <p:nvPr/>
        </p:nvSpPr>
        <p:spPr>
          <a:xfrm>
            <a:off x="6934320" y="5562720"/>
            <a:ext cx="609480" cy="3808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ajority-Certificates 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380880" y="3352680"/>
            <a:ext cx="838224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Lemm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Let S be a set of Boolean functions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, and let 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.  Then there exist m=O(n)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each of size O(log|S|),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is consistent with eac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is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is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 so on, the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J(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where MAJ denotes pointwise majori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380880" y="1371600"/>
            <a:ext cx="8382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Definitions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certific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a partial Boolean function C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,*}.  A Boolean function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 i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consist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C, if f(x)=C(x) whenever C(x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.  Th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f C is the number of inputs x such that C(x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oof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57200" y="11430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 symmetry, we can assume 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the all-0 function.  Consider a two-player, zero-sum matrix ga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3809880" y="2971800"/>
            <a:ext cx="1828800" cy="18288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eft Brace 8"/>
          <p:cNvSpPr/>
          <p:nvPr/>
        </p:nvSpPr>
        <p:spPr>
          <a:xfrm>
            <a:off x="3200400" y="297180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828800"/>
              <a:gd name="textAreaBottom" fmla="*/ 181692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0" y="3200400"/>
            <a:ext cx="3200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ice picks a certificate C of size k consistent with some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eft Brace 11"/>
          <p:cNvSpPr/>
          <p:nvPr/>
        </p:nvSpPr>
        <p:spPr>
          <a:xfrm rot="5400000">
            <a:off x="4495680" y="175248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828800"/>
              <a:gd name="textAreaBottom" fmla="*/ 181692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4876920" y="213372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ob picks an input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457200" y="5105520"/>
            <a:ext cx="777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ice wins this game if f(x)=0 for all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consistent with 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7200" y="5791320"/>
            <a:ext cx="777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Crucial Claim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lice has a mixed strategy that lets her win &gt;90% of the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685800" y="2514600"/>
            <a:ext cx="7696080" cy="2536920"/>
          </a:xfrm>
          <a:prstGeom prst="rect">
            <a:avLst/>
          </a:prstGeom>
          <a:solidFill>
            <a:srgbClr val="edf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lemma follows from this claim!  Just choose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ndependently from Alice’s winning distribution.  Then by a Chernoff bound, almost certainly MAJ(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)=0 for all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spectively and all inputs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So clearly ther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exis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this proper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oof of Cl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457200" y="11430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 the Minimax Theorem!  Given a distribution D over x, it’s enough to create a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fixe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ertificate C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1066680" y="1905120"/>
                <a:ext cx="690264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∃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consistent with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ext Box 16"/>
          <p:cNvSpPr/>
          <p:nvPr/>
        </p:nvSpPr>
        <p:spPr>
          <a:xfrm>
            <a:off x="457200" y="3124080"/>
            <a:ext cx="838188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Stage I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hoose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ndependently from D, for some t=O(log|S|).  Then with high probability, requiring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…=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0 kills off every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3276720" y="4267080"/>
                <a:ext cx="25146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Text Box 16"/>
          <p:cNvSpPr/>
          <p:nvPr/>
        </p:nvSpPr>
        <p:spPr>
          <a:xfrm>
            <a:off x="457200" y="5334120"/>
            <a:ext cx="83818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Stage II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peatedly add a constraint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b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hat kills at least half the remaining functions.  After ≤ lo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|S| iterations, we’ll have winnowed S down to just a single function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7620120" y="6248520"/>
            <a:ext cx="304560" cy="30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3:57:14Z</dcterms:created>
  <dc:creator>Scott Aaronson</dc:creator>
  <dc:description/>
  <dc:language>en-US</dc:language>
  <cp:lastModifiedBy>Scott Aaronson</cp:lastModifiedBy>
  <dcterms:modified xsi:type="dcterms:W3CDTF">2009-04-20T22:20:16Z</dcterms:modified>
  <cp:revision>47</cp:revision>
  <dc:subject/>
  <dc:title>The Power of Quantum Advice</dc:title>
</cp:coreProperties>
</file>