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9.wmf" ContentType="image/x-wmf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8B9-D3C3-470B-83F5-C7E450064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7FA2-6FE1-4C0F-BC44-367A8EEDE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6458-D729-4D2F-813D-F326BE885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24E-3BFD-4136-AEE2-B69B3FD7F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BD8-4D9C-4F26-A301-D4A0D24DC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794B-806B-4B9F-A561-1BDB372F5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DCB-6517-4E64-9504-D1656227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0C8-DECD-4D38-AB50-8F6ED5AC6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4635-74A2-4F1A-B2D7-19B5352CF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99CB-EECB-4C72-9E21-F29638C3A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820E-BFBC-430B-8F74-EB1F1BBCA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912D-91AE-4245-A4D3-1E1C481BB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1CC-248F-4D48-B1E8-3FBD55D0F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D42-C172-4DB5-9FD4-6409AB3E6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24A-7EA0-4949-BBA1-F53B85E55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6293-2FEB-4241-88DF-E02A97375E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77CB-C12A-48A6-8C2C-9349176F27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1D6-BD21-4E4D-93C1-DF9C22ED166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6E7-A6F7-4D72-9096-1C8DFA17DB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76A-D17F-4983-9D03-409CD60427E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4792-F9EB-4FC6-B286-40559902A4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F1B7-5DEB-4B47-BCC8-49F34CEC55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B4F-1C91-4F5C-B4A5-45C179659B2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33B-85B4-4C34-B72E-6AF24074E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15D-227C-45C3-BC24-D354D70D44C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7C4-0DA1-452E-9CD0-9FF18A6C517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8806-B7C7-455F-915C-750677118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8D9-958A-4DEC-8653-0A425527C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89CD-6C61-47D8-B462-B135CE694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58CF-42A4-4C2E-BA7F-8312BE609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B7E4-8FD4-4155-A7B9-8BF87E656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EDDC-CA61-44BC-853F-F8073B084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8205-3AA5-41EF-95E3-81E01C679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F145-46FE-4A43-9E7E-57031E269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834-E765-4F13-ADAA-DE390394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1A9-C713-4C65-A958-00FA45B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765-347F-4FBB-A63D-C9FED43B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D28-5811-46BF-B930-BBC32076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E06-57A7-4918-9F42-B0C615D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448-509E-45FE-A114-CACFBF6D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8C5-B0DF-4933-87AB-3DD5573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67A-B1F6-4B09-A1D7-464E83E0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6EB-C5D7-4D96-AECE-C369FF1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709-3A0B-42C6-BDB3-F1A7C7B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344-57B6-4C33-A052-0AD859A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33-AE64-4351-AE86-FEE9C0C6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7F6-845F-4795-9EA0-7BD085E5F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A Theory of Isola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   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I: Application to Quantum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6"/>
          <p:cNvSpPr/>
          <p:nvPr/>
        </p:nvSpPr>
        <p:spPr>
          <a:xfrm>
            <a:off x="380880" y="6094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647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80880" y="3657600"/>
            <a:ext cx="685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lack-box grou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57200" y="3276720"/>
            <a:ext cx="83818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ρ be any quantum state on n qubits.  Then for all m,ε, there exists a 2-local Hamiltonian H=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+⋯+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n poly(n,m,1/ε) qubits, such that any ground state |φ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 can be used to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mul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ρ (with error ε) on all quantum circuits of size at most m.  In other words, there exists an efficient mapping C→C′ such that for all circuits C of size 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1033560" y="5867280"/>
                <a:ext cx="683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⟩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accepts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ρ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accepts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6"/>
          <p:cNvSpPr/>
          <p:nvPr/>
        </p:nvSpPr>
        <p:spPr>
          <a:xfrm>
            <a:off x="304920" y="2666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PHYSICS” IM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paring quantum advice states is no harder than preparing ground states of local Hamilton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447920" y="228600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xplains a once-mysterious relationship between quantum proofs and quantum advice: efficient preparability of ground states would imply both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80880" y="40384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 unexpected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80880" y="54864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classical proofs and quantum advice can be simulated with quantum proofs and classical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9"/>
          <p:cNvGrpSpPr/>
          <p:nvPr/>
        </p:nvGrpSpPr>
        <p:grpSpPr>
          <a:xfrm>
            <a:off x="1828800" y="609480"/>
            <a:ext cx="5105520" cy="5809320"/>
            <a:chOff x="1828800" y="609480"/>
            <a:chExt cx="5105520" cy="5809320"/>
          </a:xfrm>
        </p:grpSpPr>
        <p:sp>
          <p:nvSpPr>
            <p:cNvPr id="117" name="TextBox 40"/>
            <p:cNvSpPr/>
            <p:nvPr/>
          </p:nvSpPr>
          <p:spPr>
            <a:xfrm>
              <a:off x="3962520" y="6019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1"/>
            <p:cNvSpPr/>
            <p:nvPr/>
          </p:nvSpPr>
          <p:spPr>
            <a:xfrm>
              <a:off x="3962520" y="51055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2"/>
            <p:cNvSpPr/>
            <p:nvPr/>
          </p:nvSpPr>
          <p:spPr>
            <a:xfrm>
              <a:off x="5715360" y="51055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3"/>
            <p:cNvSpPr/>
            <p:nvPr/>
          </p:nvSpPr>
          <p:spPr>
            <a:xfrm>
              <a:off x="182880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4"/>
            <p:cNvSpPr/>
            <p:nvPr/>
          </p:nvSpPr>
          <p:spPr>
            <a:xfrm>
              <a:off x="1828800" y="388620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qpol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=Y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5"/>
            <p:cNvSpPr/>
            <p:nvPr/>
          </p:nvSpPr>
          <p:spPr>
            <a:xfrm>
              <a:off x="358128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46"/>
            <p:cNvSpPr/>
            <p:nvPr/>
          </p:nvSpPr>
          <p:spPr>
            <a:xfrm>
              <a:off x="5791320" y="4038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7"/>
            <p:cNvSpPr/>
            <p:nvPr/>
          </p:nvSpPr>
          <p:spPr>
            <a:xfrm>
              <a:off x="2666880" y="30477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48"/>
            <p:cNvSpPr/>
            <p:nvPr/>
          </p:nvSpPr>
          <p:spPr>
            <a:xfrm>
              <a:off x="3809880" y="236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0"/>
            <p:cNvSpPr/>
            <p:nvPr/>
          </p:nvSpPr>
          <p:spPr>
            <a:xfrm>
              <a:off x="5791320" y="2361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1"/>
            <p:cNvSpPr/>
            <p:nvPr/>
          </p:nvSpPr>
          <p:spPr>
            <a:xfrm>
              <a:off x="5105520" y="1447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3"/>
            <p:cNvSpPr/>
            <p:nvPr/>
          </p:nvSpPr>
          <p:spPr>
            <a:xfrm>
              <a:off x="2743200" y="1447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54"/>
            <p:cNvSpPr/>
            <p:nvPr/>
          </p:nvSpPr>
          <p:spPr>
            <a:xfrm>
              <a:off x="3733920" y="609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SPACE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9"/>
            <p:cNvSpPr/>
            <p:nvPr/>
          </p:nvSpPr>
          <p:spPr>
            <a:xfrm>
              <a:off x="5029200" y="9903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20"/>
            <p:cNvSpPr/>
            <p:nvPr/>
          </p:nvSpPr>
          <p:spPr>
            <a:xfrm flipH="1">
              <a:off x="3657600" y="990360"/>
              <a:ext cx="457200" cy="4572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21"/>
            <p:cNvSpPr/>
            <p:nvPr/>
          </p:nvSpPr>
          <p:spPr>
            <a:xfrm>
              <a:off x="2895480" y="5486400"/>
              <a:ext cx="12189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22"/>
            <p:cNvSpPr/>
            <p:nvPr/>
          </p:nvSpPr>
          <p:spPr>
            <a:xfrm flipH="1">
              <a:off x="4800600" y="5485680"/>
              <a:ext cx="1295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3"/>
            <p:cNvSpPr/>
            <p:nvPr/>
          </p:nvSpPr>
          <p:spPr>
            <a:xfrm flipH="1">
              <a:off x="4494240" y="5507280"/>
              <a:ext cx="2880" cy="51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4"/>
            <p:cNvSpPr/>
            <p:nvPr/>
          </p:nvSpPr>
          <p:spPr>
            <a:xfrm>
              <a:off x="2666880" y="459432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5"/>
            <p:cNvSpPr/>
            <p:nvPr/>
          </p:nvSpPr>
          <p:spPr>
            <a:xfrm>
              <a:off x="6324840" y="4438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26"/>
            <p:cNvSpPr/>
            <p:nvPr/>
          </p:nvSpPr>
          <p:spPr>
            <a:xfrm>
              <a:off x="3276720" y="4495680"/>
              <a:ext cx="914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27"/>
            <p:cNvSpPr/>
            <p:nvPr/>
          </p:nvSpPr>
          <p:spPr>
            <a:xfrm>
              <a:off x="4876920" y="4419720"/>
              <a:ext cx="1143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8"/>
            <p:cNvSpPr/>
            <p:nvPr/>
          </p:nvSpPr>
          <p:spPr>
            <a:xfrm flipH="1">
              <a:off x="4724640" y="4419720"/>
              <a:ext cx="13716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29"/>
            <p:cNvSpPr/>
            <p:nvPr/>
          </p:nvSpPr>
          <p:spPr>
            <a:xfrm flipH="1">
              <a:off x="2971800" y="4419000"/>
              <a:ext cx="12189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30"/>
            <p:cNvSpPr/>
            <p:nvPr/>
          </p:nvSpPr>
          <p:spPr>
            <a:xfrm>
              <a:off x="6324840" y="2762280"/>
              <a:ext cx="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31"/>
            <p:cNvSpPr/>
            <p:nvPr/>
          </p:nvSpPr>
          <p:spPr>
            <a:xfrm>
              <a:off x="3886200" y="3429000"/>
              <a:ext cx="4572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32"/>
            <p:cNvSpPr/>
            <p:nvPr/>
          </p:nvSpPr>
          <p:spPr>
            <a:xfrm flipH="1">
              <a:off x="4724640" y="2743200"/>
              <a:ext cx="1440" cy="13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33"/>
            <p:cNvSpPr/>
            <p:nvPr/>
          </p:nvSpPr>
          <p:spPr>
            <a:xfrm>
              <a:off x="3657600" y="1847520"/>
              <a:ext cx="76176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34"/>
            <p:cNvSpPr/>
            <p:nvPr/>
          </p:nvSpPr>
          <p:spPr>
            <a:xfrm flipH="1">
              <a:off x="5028840" y="1847520"/>
              <a:ext cx="60948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35"/>
            <p:cNvSpPr/>
            <p:nvPr/>
          </p:nvSpPr>
          <p:spPr>
            <a:xfrm flipH="1">
              <a:off x="3809880" y="2742480"/>
              <a:ext cx="4572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36"/>
            <p:cNvSpPr/>
            <p:nvPr/>
          </p:nvSpPr>
          <p:spPr>
            <a:xfrm flipH="1">
              <a:off x="2666880" y="3428280"/>
              <a:ext cx="45720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37"/>
            <p:cNvSpPr/>
            <p:nvPr/>
          </p:nvSpPr>
          <p:spPr>
            <a:xfrm>
              <a:off x="5943960" y="1828440"/>
              <a:ext cx="3808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8"/>
            <p:cNvSpPr/>
            <p:nvPr/>
          </p:nvSpPr>
          <p:spPr>
            <a:xfrm>
              <a:off x="5181840" y="2743200"/>
              <a:ext cx="91440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54"/>
          <p:cNvSpPr/>
          <p:nvPr/>
        </p:nvSpPr>
        <p:spPr>
          <a:xfrm>
            <a:off x="281952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.’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4"/>
          <p:cNvSpPr/>
          <p:nvPr/>
        </p:nvSpPr>
        <p:spPr>
          <a:xfrm>
            <a:off x="4572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1"/>
          <p:cNvCxnSpPr>
            <a:stCxn id="151" idx="3"/>
          </p:cNvCxnSpPr>
          <p:nvPr/>
        </p:nvCxnSpPr>
        <p:spPr>
          <a:xfrm>
            <a:off x="1752120" y="2714760"/>
            <a:ext cx="2057760" cy="18144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  <p:cxnSp>
        <p:nvCxnSpPr>
          <p:cNvPr id="153" name="Straight Arrow Connector 44"/>
          <p:cNvCxnSpPr/>
          <p:nvPr/>
        </p:nvCxnSpPr>
        <p:spPr>
          <a:xfrm>
            <a:off x="1066680" y="2971800"/>
            <a:ext cx="915120" cy="137232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1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2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3" name="Straight Arrow Connector 64"/>
          <p:cNvCxnSpPr>
            <a:endCxn id="167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4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5" name="Straight Arrow Connector 75"/>
          <p:cNvCxnSpPr>
            <a:stCxn id="167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6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7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8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9" name="Straight Arrow Connector 83"/>
          <p:cNvCxnSpPr>
            <a:endCxn id="164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0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1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2" name="Straight Arrow Connector 98"/>
          <p:cNvCxnSpPr>
            <a:stCxn id="157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3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4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5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86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8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9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90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Lifting” the Majority-Certificates Lem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ajority-Certificates Lemma,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80880" y="1295280"/>
            <a:ext cx="838224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functions f:{0,1}ⁿ→[0,1],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, and let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ε&gt;0.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n we can find m=O(n/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ε²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ction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, se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⊆{0,1}ⁿ each of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which the following holds.  All functions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 that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for all 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m] also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143000" y="2666880"/>
                <a:ext cx="277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5562720" y="2514600"/>
                <a:ext cx="26352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den>
                                </m:f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371600" y="4191120"/>
                <a:ext cx="2849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971800" y="4724280"/>
                <a:ext cx="2982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600200" y="5715000"/>
                <a:ext cx="378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57200" y="990720"/>
            <a:ext cx="8381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mmediate.  For the other direction,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590920" y="228600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Text Box 16"/>
          <p:cNvSpPr/>
          <p:nvPr/>
        </p:nvSpPr>
        <p:spPr>
          <a:xfrm>
            <a:off x="457200" y="289548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“fat-shattering dimension” at most poly(n), by A.’06.  So we can apply the real version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981080" y="4876920"/>
                <a:ext cx="542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16"/>
          <p:cNvSpPr/>
          <p:nvPr/>
        </p:nvSpPr>
        <p:spPr>
          <a:xfrm>
            <a:off x="457200" y="586728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04920" y="3657600"/>
            <a:ext cx="83818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(say) an n-qubit quantum state, or a coin whose bias is an arbitrary real numb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tentially a huge amou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give a new tool—called “isolatability”—for ruling out the possibility of such extravagant enco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80880" y="3124080"/>
            <a:ext cx="83822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 has the form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the hypothesis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n advice string s, such that any quantum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s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roblems (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n s that’s consistent wit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Then use the oracle to search for an x an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, i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s, then R(x,Q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) holds, where Q is a quantum algorithm that searches for a y such that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II: Application to Advice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6248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rik Demain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(motivated by a computational genetics problem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“Suppose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 can flip a coin with Bernoulli probability p an unlimited number of times.  Can it extract an exponential amount of information (or even more) about p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M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“I’m sure whatever the answer is, it’s obvious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6705720" y="1295280"/>
            <a:ext cx="2104920" cy="230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1117440" cy="1114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1414440" y="519588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0504d"/>
                </a:solidFill>
                <a:latin typeface="Calibri"/>
              </a:rPr>
              <a:t>Didn’t seem too likely there could be superpowerful “Advice Co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200160" y="5195880"/>
            <a:ext cx="1344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70c0"/>
                </a:solidFill>
                <a:latin typeface="Calibri"/>
              </a:rPr>
              <a:t>Indeed, Hellman &amp; Cover proved the following in 1970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uppose a finite automaton M is trying to decide whether a coin has p=½ or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  Then even if it can flip the coin an unlimited number of times, M need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) states to succeed with probability (say) 2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4191120"/>
            <a:ext cx="8286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result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seem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o imp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 since we could take the first poly(n) bits of p as the advice.  But it breaks down if p is close to 0 or 1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c0504d"/>
                </a:solidFill>
                <a:latin typeface="Calibri"/>
              </a:rPr>
              <a:t>Furthermore, quantum mechanics nullifies the Hellman-Cover Theorem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&gt;0, it’s possible to distinguish a coin with p=½ from a coin with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using a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single qubi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of memory, with error probability independent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3357720"/>
            <a:ext cx="952560" cy="9331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7"/>
          <p:cNvGrpSpPr/>
          <p:nvPr/>
        </p:nvGrpSpPr>
        <p:grpSpPr>
          <a:xfrm>
            <a:off x="1428840" y="2928960"/>
            <a:ext cx="3595680" cy="3657600"/>
            <a:chOff x="1428840" y="2928960"/>
            <a:chExt cx="3595680" cy="3657600"/>
          </a:xfrm>
        </p:grpSpPr>
        <p:sp>
          <p:nvSpPr>
            <p:cNvPr id="226" name="Oval 8"/>
            <p:cNvSpPr/>
            <p:nvPr/>
          </p:nvSpPr>
          <p:spPr>
            <a:xfrm>
              <a:off x="1428840" y="353844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1428840" y="506232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2953080" y="353844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9" name="Object 11"/>
            <p:cNvGraphicFramePr/>
            <p:nvPr/>
          </p:nvGraphicFramePr>
          <p:xfrm>
            <a:off x="4476960" y="4681440"/>
            <a:ext cx="54756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0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6960" y="46814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Object 12"/>
            <p:cNvGraphicFramePr/>
            <p:nvPr/>
          </p:nvGraphicFramePr>
          <p:xfrm>
            <a:off x="2741760" y="2928960"/>
            <a:ext cx="51300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1760" y="292896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3867480" y="3386160"/>
            <a:ext cx="868320" cy="739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67480" y="338616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5" name="Line 14"/>
          <p:cNvSpPr/>
          <p:nvPr/>
        </p:nvSpPr>
        <p:spPr>
          <a:xfrm>
            <a:off x="2945880" y="5068800"/>
            <a:ext cx="155520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 flipV="1">
            <a:off x="2942640" y="4857120"/>
            <a:ext cx="1558440" cy="20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 flipV="1">
            <a:off x="2928600" y="464400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286240" y="3143160"/>
            <a:ext cx="3714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eep flipping the co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henever the coin lands head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/100 radians counterclockwise.  Whenever it lands tail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/100 radians clock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42920" y="3000240"/>
            <a:ext cx="8715240" cy="25624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Halt with probability ~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/100 at each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xpected difference in final angle after halting, in p=½  vs. p=½+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cases: 1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tandard deviation in ang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4876920" y="4267080"/>
          <a:ext cx="266220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4267080"/>
                    <a:ext cx="2662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pite these obstacl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2057400" y="4191120"/>
          <a:ext cx="449748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91120"/>
                    <a:ext cx="4497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457200" y="502920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’re interested in a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fixed-poin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: a mixed s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5"/>
          <p:cNvGraphicFramePr/>
          <p:nvPr/>
        </p:nvGraphicFramePr>
        <p:xfrm>
          <a:off x="2714760" y="5929200"/>
          <a:ext cx="23796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5929200"/>
                    <a:ext cx="2379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304920" y="1600200"/>
            <a:ext cx="861048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uffices to show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quantum operation applied to our memory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bits whenever coin lands head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operation applied when it lands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n induced operation at each time 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504d"/>
                </a:solidFill>
                <a:latin typeface="Calibri"/>
              </a:rPr>
              <a:t>Fixed-Points of Super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85480" y="1785600"/>
            <a:ext cx="5715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lready studied by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b050"/>
                </a:solidFill>
                <a:latin typeface="Calibri"/>
              </a:rPr>
              <a:t>[A.-Watrous 2008]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the context of quantum computing with closed timelike cu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Calibri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5929200" y="128592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57120" y="392904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Our result ther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Calibri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Calibri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antum computers with CTCs have exactly the same power as classical computers with CTCs, name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or: “CTCs make time and space equivalent as computational resourc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228600" y="380880"/>
            <a:ext cx="8429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Key Lemm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t a(p) be the probability that an S-state quantum finite automaton accepts, if each input bit is 1 with independent probability p.  The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(p) is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Proof Ide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We can write a(p)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urthermore, each entry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can be written as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, by using Cramer’s Rule on 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447920" y="3276720"/>
                <a:ext cx="6057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⟨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⟨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⟩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304920" y="5867280"/>
            <a:ext cx="84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ow, by calculus,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can cross the line y=½ at most 2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5360" y="1295280"/>
            <a:ext cx="7772400" cy="3235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 flipV="1">
            <a:off x="225360" y="29131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214200" y="1655640"/>
            <a:ext cx="7774200" cy="258624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500280" y="451332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8143920" y="258444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838080" y="2232000"/>
            <a:ext cx="15264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6781680" y="3908520"/>
            <a:ext cx="15264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7924680" y="2155680"/>
            <a:ext cx="15264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28600" y="228600"/>
            <a:ext cx="842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nce a(p) is itself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, except possibly at a finite number of singular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0880" y="4876920"/>
            <a:ext cx="842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 further continuity argument rules out the singularities, except possibly at p=0 and p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2"/>
          <p:cNvGrpSpPr/>
          <p:nvPr/>
        </p:nvGrpSpPr>
        <p:grpSpPr>
          <a:xfrm>
            <a:off x="214200" y="2816280"/>
            <a:ext cx="8929800" cy="3860640"/>
            <a:chOff x="214200" y="2816280"/>
            <a:chExt cx="8929800" cy="3860640"/>
          </a:xfrm>
        </p:grpSpPr>
        <p:sp>
          <p:nvSpPr>
            <p:cNvPr id="268" name="Rectangle 13"/>
            <p:cNvSpPr/>
            <p:nvPr/>
          </p:nvSpPr>
          <p:spPr>
            <a:xfrm>
              <a:off x="225000" y="2816280"/>
              <a:ext cx="7772760" cy="32353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"/>
            <p:cNvSpPr/>
            <p:nvPr/>
          </p:nvSpPr>
          <p:spPr>
            <a:xfrm flipV="1">
              <a:off x="224280" y="4433760"/>
              <a:ext cx="77727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214200" y="3176640"/>
              <a:ext cx="7774200" cy="2585880"/>
            </a:xfrm>
            <a:prstGeom prst="pi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226800" y="3354120"/>
              <a:ext cx="7775640" cy="2335320"/>
            </a:xfrm>
            <a:prstGeom prst="pie">
              <a:avLst/>
            </a:prstGeom>
            <a:noFill/>
            <a:ln w="316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14200" y="2819160"/>
              <a:ext cx="7786800" cy="3211560"/>
            </a:xfrm>
            <a:prstGeom prst="pie">
              <a:avLst/>
            </a:pr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21"/>
            <p:cNvSpPr/>
            <p:nvPr/>
          </p:nvSpPr>
          <p:spPr>
            <a:xfrm flipH="1">
              <a:off x="3714480" y="2817720"/>
              <a:ext cx="10800" cy="3216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"/>
            <p:cNvSpPr/>
            <p:nvPr/>
          </p:nvSpPr>
          <p:spPr>
            <a:xfrm>
              <a:off x="3500280" y="603396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"/>
            <p:cNvSpPr/>
            <p:nvPr/>
          </p:nvSpPr>
          <p:spPr>
            <a:xfrm>
              <a:off x="8143920" y="4105080"/>
              <a:ext cx="1000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CA" sz="2800" spc="-1" strike="noStrike" baseline="-25000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6" name="Object 2"/>
          <p:cNvGraphicFramePr/>
          <p:nvPr/>
        </p:nvGraphicFramePr>
        <p:xfrm>
          <a:off x="3714840" y="878688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878688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3"/>
          <p:cNvSpPr/>
          <p:nvPr/>
        </p:nvSpPr>
        <p:spPr>
          <a:xfrm>
            <a:off x="285840" y="228600"/>
            <a:ext cx="8858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iven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 M, l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 be its acceptance probability on input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nd a coin with Bernoulli probability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How can we describe p well enough to compu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for every x, using only poly(n)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6"/>
          <p:cNvSpPr/>
          <p:nvPr/>
        </p:nvSpPr>
        <p:spPr>
          <a:xfrm>
            <a:off x="228600" y="1371600"/>
            <a:ext cx="861048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 some advice resource (such as a coin or a quantum state), and simulate it using a short classical string, together with a polynomial number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vice re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, all the relevant information in the advice resource gets packed into an ordinary string (which we say “isolates” the resource), and we're left with just a computational search problem—of finding coins, quantum states, etc. that are consistent with the st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70c0"/>
                </a:solidFill>
                <a:latin typeface="Calibri"/>
              </a:rPr>
              <a:t>Finishing the Argument (Sketc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286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’ve upper-bounded how many distinct Boolean functions f: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{0,1} can be expressed, as we vary p from 0 to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o by the Majority-Certificates Lemma, we can simulat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using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, combined with poly(n)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dvice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then get a computational search problem: finding coin biases 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…,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hat are consistent with th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dvice 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solve that problem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 using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N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lgorithms for root-finding developed by Neff and 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3714840" y="878688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878688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122400" y="236232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70c0"/>
                </a:solidFill>
                <a:latin typeface="Calibri"/>
              </a:rPr>
              <a:t>When Can An O(1)-State Finite Automaton Detect an </a:t>
            </a:r>
            <a:r>
              <a:rPr b="1" lang="en-CA" sz="40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n-CA" sz="4000" spc="-1" strike="noStrike">
                <a:solidFill>
                  <a:srgbClr val="0070c0"/>
                </a:solidFill>
                <a:latin typeface="Calibri"/>
              </a:rPr>
              <a:t> Change to the Bias of a Coi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4038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finite automata: are their limiting acceptance probabilities continuous functions of p, for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0,1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04920" y="137160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ther applications of isol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complexity?  Communication complexity?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eory?  Quantum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4920" y="3200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ality of the Majority-Certificates Lem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4920" y="54100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a classical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mised Application to “Physic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80880" y="17524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in their reduction, the witness is a “history stat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380880" y="50292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given any language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e can use the Kitaev et al. reduction to get a local Hamiltonian H whose unique ground state i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We can the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recover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thereby decide 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380880" y="1219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Kitaev et al., we know LOCAL HAMILTONIANS is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2770200" y="2209680"/>
                <a:ext cx="3316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" name="Text Box 16"/>
          <p:cNvSpPr/>
          <p:nvPr/>
        </p:nvSpPr>
        <p:spPr>
          <a:xfrm>
            <a:off x="457200" y="3352680"/>
            <a:ext cx="8381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asuring this state yields the original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/poly(n)) probability.  Henc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an be recovered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3200400" y="4267080"/>
                <a:ext cx="270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Φ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6"/>
          <p:cNvSpPr/>
          <p:nvPr/>
        </p:nvSpPr>
        <p:spPr>
          <a:xfrm>
            <a:off x="838080" y="1447920"/>
            <a:ext cx="66294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: The Majority-Certificates Le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basic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I: Application to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QMA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II: Application to Advice C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SPACE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: The 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63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65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0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1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2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73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80880" y="3352680"/>
            <a:ext cx="83822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so on, the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here MAJ denotes pointwise major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7620120" y="6248520"/>
            <a:ext cx="3045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09-04-20T22:20:16Z</dcterms:modified>
  <cp:revision>47</cp:revision>
  <dc:subject/>
  <dc:title>The Power of Quantum Advice</dc:title>
</cp:coreProperties>
</file>