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674B-1605-4705-8080-59C7F8977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DDB4-3106-4426-AEF9-8623B1340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60E9-3B30-40CA-ADC6-76D320A90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7E7F-6FDB-4B10-8156-0342F825C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1AAE-CF8F-4B31-9CB2-2FB93CE21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DA62-1BE3-4181-A714-3BFF69B2A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CBF4-1595-4258-AD06-0AA8366DB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D885-6995-45D0-88BD-AEEA0578A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9557-3FEE-4F61-860F-B3E57B815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00F-D945-4396-92EA-57CA899E3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4416-E7B4-4F21-9FF7-EE799F2CE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B732-CDE8-49ED-97AD-392261EEC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6BA-C123-4607-80F7-687668BFB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0D6-23B4-4655-A8AE-F347A223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18E-BFCE-45EF-81C6-99776717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E9B-433E-4080-BEDE-02B86A1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860-F29D-401E-9291-BAAF53DF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0DE-EE67-4EB2-8557-82ACAC94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8C7-B114-4513-9E2D-5EAEA2BF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EFB-6309-4B7B-A3E0-B00D8ECA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C3E-3BF4-4692-B3F0-A700FA8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55A-1CA7-490F-BE91-64455F43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4D7-E168-42FA-AEE1-504ABF48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2ED-DF6B-43A2-8C1D-208398C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0D9-6FD8-412D-B06B-A8B44CEE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D39-22F9-45E8-9F75-43902027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E67B-7AE1-4AE6-B1C3-70E965BD3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A Full Characterization of Quantum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Dr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238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od user\AppData\Local\Microsoft\Windows\Temporary Internet Files\Content.IE5\FU87NPSC\MCj03607880000[1].wmf"/>
          <p:cNvPicPr/>
          <p:nvPr/>
        </p:nvPicPr>
        <p:blipFill>
          <a:blip r:embed="rId2"/>
          <a:stretch/>
        </p:blipFill>
        <p:spPr>
          <a:xfrm>
            <a:off x="1981080" y="1828800"/>
            <a:ext cx="1998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28600" y="2286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Lifting” the Lemma to Quantum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 (building on Ambainis et al. 19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:</a:t>
            </a:r>
            <a:br>
              <a:rPr sz="4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n Unexpected Application of Our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80880" y="24382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380880" y="182880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80880" y="3733920"/>
            <a:ext cx="83822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M be a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machine that solves 3SAT. 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guess the classical advice z to M, and check that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quantum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 with z.  Then,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search for a quantum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z, as well as a 3SAT instance of size n on which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ails.  If no such instance is found, guess the first quantified string of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, and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find the second quantified st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80880" y="1143000"/>
            <a:ext cx="853452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Doe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Can we at least prove (classical) oracle separation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ve the parameters of the majority-certificates lemma, and clarify the connection with boosting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applications of majority-certificat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it possible that every state on n qubits can be simulated by a verifiable state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bits, rather than poly(n)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6"/>
          <p:cNvSpPr/>
          <p:nvPr/>
        </p:nvSpPr>
        <p:spPr>
          <a:xfrm>
            <a:off x="1143000" y="1676520"/>
            <a:ext cx="693432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you can make the following terms comprehensible to a computer scient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queezed stat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rametric downconversion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modyne measurement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ease see me after the 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reeze-Drie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80880" y="3505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Motivating Ques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How much useful computational work can one “store” in a quantum state, for later retriev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80880" y="457200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quantum states are exponentially large objects, then possibly a huge amoun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80880" y="5562720"/>
            <a:ext cx="8534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et we also know, from Holevo’s Theorem, that quantum states have no more “general-purpose storage capacity” than classical strings of the sam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ast of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80880" y="1295280"/>
            <a:ext cx="845820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class of problems solvable in quantum polynomial time, with the help of polynomial-size “quantum advice state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mally: a language L is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  <a:ea typeface="Arial"/>
              </a:rPr>
              <a:t>BQP/qpo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if there exists a polynomial time quantum algorithm A, as well as quantum advice states {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on poly(n) qubits, such that for every input x of size n, A(x,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 decides whether or not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L with error probability at most 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647720" cy="1752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80880" y="4191120"/>
            <a:ext cx="6858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“Yoda Quantum Polynomial-Time”) is the same, except we also require that for every alleged advice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outputs either the right answer or “FAIL” with probability at least 2/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6"/>
          <p:cNvSpPr/>
          <p:nvPr/>
        </p:nvSpPr>
        <p:spPr>
          <a:xfrm>
            <a:off x="91440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Watrous 2000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ny fixed, finite black-box group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subgroup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≤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eciding membership in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br>
              <a:rPr sz="2500"/>
            </a:b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quantum advice state is just an equal superposition |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v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ement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don’t know how to solve the same problem in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914400" y="4191120"/>
            <a:ext cx="78487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4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ostBQP/poly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/poly 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can be simulated by classical advice, combined with postselection on unlikely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914400" y="5410080"/>
            <a:ext cx="79246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6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ed quantum advice can be simulat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 m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by trusted classical advice combined with untrusted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914400" y="27432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-Kuperberg 2007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ere exists a “quantum oracle” separating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522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QUANTUM ADVICE IS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22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 IT 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: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33520" y="129528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ed quantum advice is equivalent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04920" y="3352680"/>
            <a:ext cx="85341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iven any n-qubit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 local Hamiltonian H (indeed, a sum of 2D nearest-neighbor interactions) such th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ny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, and measuring circuit E with ≤m gates, there’s an efficient measuring circuit E’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590920" y="5257800"/>
                <a:ext cx="389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16"/>
          <p:cNvSpPr/>
          <p:nvPr/>
        </p:nvSpPr>
        <p:spPr>
          <a:xfrm>
            <a:off x="457200" y="27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PHYSICS” IM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80880" y="6019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H is on poly(n,m,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qubi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3049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mplication for Quantum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1676520" cy="165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1562040" cy="166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457200" y="3962520"/>
            <a:ext cx="8381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lice can send a poly(n)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 string x to Bob, in such a way th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n be used to simulate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on all small circuits, and Bob can efficiently verify that usin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2933280" y="2887560"/>
            <a:ext cx="2934360" cy="8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lg" type="arrow" w="lg"/>
          </a:ln>
        </p:spPr>
      </p:cxnSp>
      <p:sp>
        <p:nvSpPr>
          <p:cNvPr id="78" name="Text Box 16"/>
          <p:cNvSpPr/>
          <p:nvPr/>
        </p:nvSpPr>
        <p:spPr>
          <a:xfrm>
            <a:off x="4038480" y="23623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60"/>
          <p:cNvSpPr/>
          <p:nvPr/>
        </p:nvSpPr>
        <p:spPr>
          <a:xfrm>
            <a:off x="7010280" y="5562720"/>
            <a:ext cx="2133720" cy="1295280"/>
          </a:xfrm>
          <a:prstGeom prst="rect">
            <a:avLst/>
          </a:prstGeom>
          <a:solidFill>
            <a:srgbClr val="edf59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8"/>
          <p:cNvSpPr/>
          <p:nvPr/>
        </p:nvSpPr>
        <p:spPr>
          <a:xfrm>
            <a:off x="1447920" y="18288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1"/>
          <p:cNvSpPr/>
          <p:nvPr/>
        </p:nvSpPr>
        <p:spPr>
          <a:xfrm>
            <a:off x="129528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3"/>
          <p:cNvSpPr/>
          <p:nvPr/>
        </p:nvSpPr>
        <p:spPr>
          <a:xfrm>
            <a:off x="1981080" y="380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Learning (Bshouty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4"/>
          <p:cNvSpPr/>
          <p:nvPr/>
        </p:nvSpPr>
        <p:spPr>
          <a:xfrm>
            <a:off x="380880" y="457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Minimax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8"/>
          <p:cNvSpPr/>
          <p:nvPr/>
        </p:nvSpPr>
        <p:spPr>
          <a:xfrm>
            <a:off x="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Winnowing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6858000" y="152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Holevo’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3"/>
          <p:cNvSpPr/>
          <p:nvPr/>
        </p:nvSpPr>
        <p:spPr>
          <a:xfrm>
            <a:off x="6858000" y="9907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dom Access Code Lower Bound (Ambaini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1"/>
          <p:cNvSpPr/>
          <p:nvPr/>
        </p:nvSpPr>
        <p:spPr>
          <a:xfrm>
            <a:off x="3962520" y="51055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1"/>
          <p:cNvSpPr/>
          <p:nvPr/>
        </p:nvSpPr>
        <p:spPr>
          <a:xfrm>
            <a:off x="5029200" y="4267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1"/>
          <p:cNvSpPr/>
          <p:nvPr/>
        </p:nvSpPr>
        <p:spPr>
          <a:xfrm>
            <a:off x="3200400" y="60199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no harder than ground state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3"/>
          <p:cNvSpPr/>
          <p:nvPr/>
        </p:nvSpPr>
        <p:spPr>
          <a:xfrm>
            <a:off x="6705720" y="2362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t-Shattering Bound 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3"/>
          <p:cNvSpPr/>
          <p:nvPr/>
        </p:nvSpPr>
        <p:spPr>
          <a:xfrm>
            <a:off x="4114800" y="457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ing Lemma (Alon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3"/>
          <p:cNvSpPr/>
          <p:nvPr/>
        </p:nvSpPr>
        <p:spPr>
          <a:xfrm>
            <a:off x="4038480" y="167652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ing of p-Concept Classes (Bartlett &amp;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1"/>
          <p:cNvSpPr/>
          <p:nvPr/>
        </p:nvSpPr>
        <p:spPr>
          <a:xfrm>
            <a:off x="533520" y="51814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HAMILTONIANS is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Kita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1"/>
          <p:cNvSpPr/>
          <p:nvPr/>
        </p:nvSpPr>
        <p:spPr>
          <a:xfrm>
            <a:off x="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ok-Levin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3"/>
          <p:cNvCxnSpPr/>
          <p:nvPr/>
        </p:nvCxnSpPr>
        <p:spPr>
          <a:xfrm>
            <a:off x="1066680" y="2971800"/>
            <a:ext cx="6105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6" name="Straight Arrow Connector 55"/>
          <p:cNvCxnSpPr/>
          <p:nvPr/>
        </p:nvCxnSpPr>
        <p:spPr>
          <a:xfrm>
            <a:off x="1295280" y="1142640"/>
            <a:ext cx="534240" cy="6865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7" name="Straight Arrow Connector 61"/>
          <p:cNvCxnSpPr/>
          <p:nvPr/>
        </p:nvCxnSpPr>
        <p:spPr>
          <a:xfrm flipH="1">
            <a:off x="3047760" y="1066680"/>
            <a:ext cx="1372320" cy="24390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8" name="Straight Arrow Connector 64"/>
          <p:cNvCxnSpPr>
            <a:endCxn id="92" idx="0"/>
          </p:cNvCxnSpPr>
          <p:nvPr/>
        </p:nvCxnSpPr>
        <p:spPr>
          <a:xfrm flipH="1">
            <a:off x="5028840" y="1143000"/>
            <a:ext cx="21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9" name="Straight Arrow Connector 70"/>
          <p:cNvCxnSpPr/>
          <p:nvPr/>
        </p:nvCxnSpPr>
        <p:spPr>
          <a:xfrm flipH="1">
            <a:off x="3276360" y="2666880"/>
            <a:ext cx="91512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" name="Straight Arrow Connector 75"/>
          <p:cNvCxnSpPr>
            <a:stCxn id="92" idx="2"/>
          </p:cNvCxnSpPr>
          <p:nvPr/>
        </p:nvCxnSpPr>
        <p:spPr>
          <a:xfrm>
            <a:off x="5028120" y="2692440"/>
            <a:ext cx="153000" cy="16516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1" name="Straight Arrow Connector 77"/>
          <p:cNvCxnSpPr/>
          <p:nvPr/>
        </p:nvCxnSpPr>
        <p:spPr>
          <a:xfrm flipH="1">
            <a:off x="7999200" y="3049200"/>
            <a:ext cx="3600" cy="12200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2" name="Straight Arrow Connector 80"/>
          <p:cNvCxnSpPr/>
          <p:nvPr/>
        </p:nvCxnSpPr>
        <p:spPr>
          <a:xfrm flipH="1">
            <a:off x="8000640" y="53352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3" name="Straight Arrow Connector 81"/>
          <p:cNvCxnSpPr/>
          <p:nvPr/>
        </p:nvCxnSpPr>
        <p:spPr>
          <a:xfrm flipH="1">
            <a:off x="8000640" y="198108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4" name="Straight Arrow Connector 83"/>
          <p:cNvCxnSpPr>
            <a:endCxn id="89" idx="0"/>
          </p:cNvCxnSpPr>
          <p:nvPr/>
        </p:nvCxnSpPr>
        <p:spPr>
          <a:xfrm flipH="1">
            <a:off x="4876560" y="5486400"/>
            <a:ext cx="30528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5" name="Straight Arrow Connector 86"/>
          <p:cNvCxnSpPr/>
          <p:nvPr/>
        </p:nvCxnSpPr>
        <p:spPr>
          <a:xfrm>
            <a:off x="2742840" y="5715000"/>
            <a:ext cx="61020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6" name="Straight Arrow Connector 94"/>
          <p:cNvCxnSpPr/>
          <p:nvPr/>
        </p:nvCxnSpPr>
        <p:spPr>
          <a:xfrm>
            <a:off x="3504240" y="4038480"/>
            <a:ext cx="106740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7" name="Straight Arrow Connector 98"/>
          <p:cNvCxnSpPr>
            <a:stCxn id="82" idx="2"/>
          </p:cNvCxnSpPr>
          <p:nvPr/>
        </p:nvCxnSpPr>
        <p:spPr>
          <a:xfrm flipH="1">
            <a:off x="2514240" y="1088640"/>
            <a:ext cx="381600" cy="8168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8" name="Straight Arrow Connector 102"/>
          <p:cNvCxnSpPr/>
          <p:nvPr/>
        </p:nvCxnSpPr>
        <p:spPr>
          <a:xfrm flipH="1">
            <a:off x="2284200" y="2820600"/>
            <a:ext cx="3600" cy="686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9" name="Straight Arrow Connector 104"/>
          <p:cNvCxnSpPr/>
          <p:nvPr/>
        </p:nvCxnSpPr>
        <p:spPr>
          <a:xfrm>
            <a:off x="1599120" y="4724280"/>
            <a:ext cx="15300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10" name="Straight Arrow Connector 109"/>
          <p:cNvCxnSpPr/>
          <p:nvPr/>
        </p:nvCxnSpPr>
        <p:spPr>
          <a:xfrm flipH="1">
            <a:off x="6019560" y="4647960"/>
            <a:ext cx="2160" cy="53388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1" name="TextBox 51"/>
          <p:cNvSpPr/>
          <p:nvPr/>
        </p:nvSpPr>
        <p:spPr>
          <a:xfrm>
            <a:off x="5334120" y="32004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haronov &amp; Re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36"/>
          <p:cNvCxnSpPr/>
          <p:nvPr/>
        </p:nvCxnSpPr>
        <p:spPr>
          <a:xfrm flipH="1">
            <a:off x="6476760" y="388620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13" name="Straight Arrow Connector 147"/>
          <p:cNvCxnSpPr/>
          <p:nvPr/>
        </p:nvCxnSpPr>
        <p:spPr>
          <a:xfrm flipH="1">
            <a:off x="7238160" y="5791320"/>
            <a:ext cx="2520" cy="3816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14" name="Straight Arrow Connector 150"/>
          <p:cNvCxnSpPr/>
          <p:nvPr/>
        </p:nvCxnSpPr>
        <p:spPr>
          <a:xfrm flipH="1">
            <a:off x="7236720" y="6326280"/>
            <a:ext cx="3960" cy="3816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5" name="TextBox 51"/>
          <p:cNvSpPr/>
          <p:nvPr/>
        </p:nvSpPr>
        <p:spPr>
          <a:xfrm>
            <a:off x="7315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a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1"/>
          <p:cNvSpPr/>
          <p:nvPr/>
        </p:nvSpPr>
        <p:spPr>
          <a:xfrm>
            <a:off x="73152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5"/>
          <p:cNvSpPr/>
          <p:nvPr/>
        </p:nvSpPr>
        <p:spPr>
          <a:xfrm>
            <a:off x="1447920" y="1600200"/>
            <a:ext cx="16002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3808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ain Tool: Majority-Certificates Lemma</a:t>
            </a:r>
            <a:br>
              <a:rPr sz="40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Related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oosting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in computational learning the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380880" y="3505320"/>
            <a:ext cx="838224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each of size k=O(log|S|)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a unique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consistent with each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*(x)=MAJORITY(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)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80880" y="1676520"/>
            <a:ext cx="8382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Definition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 (think: quantum stat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26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28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… what if we get </a:t>
            </a: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3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4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5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36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3:57:14Z</dcterms:created>
  <dc:creator>Scott Aaronson</dc:creator>
  <dc:description/>
  <dc:language>en-US</dc:language>
  <cp:lastModifiedBy>Scott Aaronson</cp:lastModifiedBy>
  <dcterms:modified xsi:type="dcterms:W3CDTF">2010-01-19T08:50:19Z</dcterms:modified>
  <cp:revision>47</cp:revision>
  <dc:subject/>
  <dc:title>The Power of Quantum Advice</dc:title>
</cp:coreProperties>
</file>