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BF1A-F12B-43C8-9401-6A4C730A18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7564-B962-49FC-82BB-90A3A08790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B13A-CEC6-4CF8-AE21-CA02FBD7D5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900B-D68D-4440-9A23-B572E4CBB9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EC4E-4752-43B0-88AA-83FC551FBF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44E0-D606-4E00-A198-DB07C53CA3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9B93-A5A2-4582-924D-0A3C41B6A9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3941-EA65-4E1E-8C03-77C3815240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D752-320D-4163-8D10-88C88AB37A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D789-59E6-41F9-80C8-75E7A90EEF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3F39-B92F-482D-87A6-3299A009DE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D304-4564-4652-937D-9C62AB8BEF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EB1A-CD40-45B2-9F84-C9E94AE5E2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D252-31C2-4AE6-9B8A-3395602AA8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C74C-71AF-4DF5-AE10-A3D466BA1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677C-DB22-4F98-96BC-5F97044F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0F84-F3A2-46E4-AF9E-FDE4B5514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97EE-815D-4DA5-B129-2171872C5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1C73-9E2E-40F9-88BA-8CF3400F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3AD6-CD41-48CC-BF9A-2AD9AFE2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BA36-324A-489C-9EDA-9575281F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E0CE-EE92-442E-AFED-24189DF8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EB5E-18F6-4347-830F-982E97D1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AD87-08B3-4F37-AE81-FFE132DB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151B-CA0A-4A1C-8B16-030BA080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94A3-5CAB-4EED-AAE8-A3AF46A7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B6FD-8C86-47C1-A3CF-68AC2B4F48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A Full Characterization of Quantum Adv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486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rew Druc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962520" y="2819520"/>
            <a:ext cx="3238560" cy="1714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od user\AppData\Local\Microsoft\Windows\Temporary Internet Files\Content.IE5\FU87NPSC\MCj03607880000[1].wmf"/>
          <p:cNvPicPr/>
          <p:nvPr/>
        </p:nvPicPr>
        <p:blipFill>
          <a:blip r:embed="rId2"/>
          <a:stretch/>
        </p:blipFill>
        <p:spPr>
          <a:xfrm>
            <a:off x="1981080" y="1828800"/>
            <a:ext cx="199872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228600" y="228600"/>
            <a:ext cx="86868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1" lang="en-US" sz="4300" spc="-1" strike="noStrike">
                <a:solidFill>
                  <a:srgbClr val="0070c0"/>
                </a:solidFill>
                <a:latin typeface="Calibri"/>
              </a:rPr>
              <a:t>Lifting” the Lemma to Quantumland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600200" y="1143000"/>
          <a:ext cx="6248520" cy="1854360"/>
        </p:xfrm>
        <a:graphic>
          <a:graphicData uri="http://schemas.openxmlformats.org/drawingml/2006/table">
            <a:tbl>
              <a:tblPr/>
              <a:tblGrid>
                <a:gridCol w="3124080"/>
                <a:gridCol w="3124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oolean Majority-Certific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QP/qpoly=YQP/poly  Proo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S of Boolean 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S of p(n)-qubit mixed 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e” function f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e” advice state |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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functions 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…,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stat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…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cate 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isolate 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surement E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isolat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04920" y="3200400"/>
          <a:ext cx="8686800" cy="3479760"/>
        </p:xfrm>
        <a:graphic>
          <a:graphicData uri="http://schemas.openxmlformats.org/drawingml/2006/table">
            <a:tbl>
              <a:tblPr/>
              <a:tblGrid>
                <a:gridCol w="4576680"/>
                <a:gridCol w="4110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w Difficul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class of p(n)-qubit quantum states is infinitely large!  And even if we discretize it, it’s still doubly-exponentially l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 of A.’06 on learnability of quantum states (building on Ambainis et al. 19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ead of Boolean functions f:{0,1}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{0,1}, now we hav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unctions 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{0,1}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0,1] representing the expectation val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rning theory has tools to deal with this: fat-shattering dimension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covers… (Alon et al. 199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do we verify a quantum witness without destroying i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QM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1" lang="en-US" sz="1800" spc="-1" strike="noStrike">
                          <a:solidFill>
                            <a:srgbClr val="c0504d"/>
                          </a:solidFill>
                          <a:latin typeface="Calibri"/>
                        </a:rPr>
                        <a:t>QMA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Aharonov &amp; Regev 20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if a certificate asks us to verify Tr(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≤a, but Tr(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 is “right at the knife-edge”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fe Winnowing Lemma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228600" y="304920"/>
            <a:ext cx="8686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Quantum Karp-Lipton Theorem:</a:t>
            </a:r>
            <a:br>
              <a:rPr sz="4400"/>
            </a:b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An Unexpected Application of Our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=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YQP/poly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The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380880" y="2438280"/>
            <a:ext cx="8382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ur quantum analogu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coNP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PromiseQM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380880" y="1828800"/>
            <a:ext cx="838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Karp-Lipton 1982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f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P/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coNP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380880" y="3733920"/>
            <a:ext cx="838224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Idea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Let M be a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YQP/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machine that solves 3SAT.  In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guess the classical advice z to M, and check that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som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quantum witness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s consistent with z.  Then, in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PromiseQM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search for a quantum witness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onsistent with z, as well as a 3SAT instance of size n on which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fails.  If no such instance is found, guess the first quantified string of the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coNP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statement, and use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to find the second quantified str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380880" y="1143000"/>
            <a:ext cx="8534520" cy="36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oes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QCMA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?  Does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BQP/po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?  Can we at least prove (classical) oracle separation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mprove the parameters of the majority-certificates lemma, and clarify the connection with boosting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ther applications of majority-certificate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s it possible that every state on n qubits can be simulated by a verifiable state on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qubits, rather than poly(n)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6"/>
          <p:cNvSpPr/>
          <p:nvPr/>
        </p:nvSpPr>
        <p:spPr>
          <a:xfrm>
            <a:off x="1143000" y="1676520"/>
            <a:ext cx="6934320" cy="34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 you can make the following terms comprehensible to a computer scient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queezed state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arametric downconversion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omodyne measurement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lease see me after the tal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Freeze-Dried Compu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380880" y="3505320"/>
            <a:ext cx="838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Motivating Question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How much useful computational work can one “store” in a quantum state, for later retrieval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80880" y="4572000"/>
            <a:ext cx="8382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f quantum states are exponentially large objects, then possibly a huge amount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380880" y="5562720"/>
            <a:ext cx="85345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Yet we also know, from Holevo’s Theorem, that quantum states have no more “general-purpose storage capacity” than classical strings of the same siz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666880" y="1066680"/>
            <a:ext cx="37148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Cast of Charac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380880" y="1295280"/>
            <a:ext cx="8458200" cy="28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s the class of problems solvable in quantum polynomial time, with the help of polynomial-size “quantum advice states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Formally: a language L is in 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  <a:ea typeface="Arial"/>
              </a:rPr>
              <a:t>BQP/qpol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if there exists a polynomial time quantum algorithm A, as well as quantum advice states {|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}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on poly(n) qubits, such that for every input x of size n, A(x,|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) decides whether or not x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L with error probability at most 1/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7162920" y="4267080"/>
            <a:ext cx="1647720" cy="17528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380880" y="4191120"/>
            <a:ext cx="68580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YQ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(“Yoda Quantum Polynomial-Time”) is the same, except we also require that for every alleged advice state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A(x,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 outputs either the right answer or “FAIL” with probability at least 2/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YQ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QMA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6"/>
          <p:cNvSpPr/>
          <p:nvPr/>
        </p:nvSpPr>
        <p:spPr>
          <a:xfrm>
            <a:off x="914400" y="914400"/>
            <a:ext cx="8001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Watrous 2000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For any fixed, finite black-box group G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nd subgroup 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≤G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deciding membership in 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s in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br>
              <a:rPr sz="2500"/>
            </a:b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quantum advice state is just an equal superposition |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ver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lements of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 don’t know how to solve the same problem in 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BQP/po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914400" y="4191120"/>
            <a:ext cx="784872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A. 2004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PostBQP/poly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P</a:t>
            </a:r>
            <a:r>
              <a:rPr b="1" lang="en-US" sz="2500" spc="-1" strike="noStrike" baseline="30000">
                <a:solidFill>
                  <a:srgbClr val="7030a0"/>
                </a:solidFill>
                <a:latin typeface="Calibri"/>
              </a:rPr>
              <a:t>#P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/poly </a:t>
            </a:r>
            <a:br>
              <a:rPr sz="25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antum advice can be simulated by classical advice, combined with postselection on unlikely measurement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914400" y="5410080"/>
            <a:ext cx="792468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A. 2006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Heur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HeurYQP/poly</a:t>
            </a:r>
            <a:br>
              <a:rPr sz="25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usted quantum advice can be simulate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n mos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s by trusted classical advice combined with untrusted quantum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914400" y="2743200"/>
            <a:ext cx="784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A.-Kuperberg 2007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There exists a “quantum oracle” separating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from </a:t>
            </a:r>
            <a:r>
              <a:rPr b="1" lang="en-US" sz="2500" spc="-1" strike="noStrike">
                <a:solidFill>
                  <a:srgbClr val="7030a0"/>
                </a:solidFill>
                <a:latin typeface="Calibri"/>
              </a:rPr>
              <a:t>BQP/po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152280" y="3049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QUANTUM ADVICE IS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152280" y="36576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NO IT IS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New Result: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YQP/po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533520" y="1295280"/>
            <a:ext cx="83818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usted quantum advice is equivalent in power to trusted classical advice combined with untrusted quantum advice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(“Quantum states never need to be trusted”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304920" y="3352680"/>
            <a:ext cx="853416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iven any n-qubit state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there exists a local Hamiltonian H (indeed, a sum of 2D nearest-neighbor interactions) such tha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r any ground state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of H, and measuring circuit E with ≤m gates, there’s an efficient measuring circuit E’ such th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2590920" y="5257800"/>
                <a:ext cx="38941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⟨</m:t>
                        </m:r>
                        <m:r>
                          <m:t xml:space="preserve">ψ</m:t>
                        </m:r>
                        <m:r>
                          <m:t xml:space="preserve">|</m:t>
                        </m:r>
                        <m:r>
                          <m:t xml:space="preserve">E</m:t>
                        </m:r>
                        <m:r>
                          <m:t xml:space="preserve">'</m:t>
                        </m:r>
                        <m:r>
                          <m:t xml:space="preserve">|</m:t>
                        </m:r>
                        <m:r>
                          <m:t xml:space="preserve">ψ</m:t>
                        </m:r>
                        <m:r>
                          <m:t xml:space="preserve">⟩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ρ</m:t>
                            </m:r>
                          </m:e>
                        </m:d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Text Box 16"/>
          <p:cNvSpPr/>
          <p:nvPr/>
        </p:nvSpPr>
        <p:spPr>
          <a:xfrm>
            <a:off x="457200" y="27432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“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PHYSICS” IMPLI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380880" y="6019920"/>
            <a:ext cx="838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urthermore, H is on poly(n,m,1/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 qubi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228600" y="30492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Implication for Quantum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5867280" y="2133720"/>
            <a:ext cx="1676520" cy="1654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1371600" y="2057400"/>
            <a:ext cx="1562040" cy="1660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6"/>
          <p:cNvSpPr/>
          <p:nvPr/>
        </p:nvSpPr>
        <p:spPr>
          <a:xfrm>
            <a:off x="457200" y="3962520"/>
            <a:ext cx="8381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any n-qubit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lice can send a poly(n)-qubit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a string x to Bob, in such a way tha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an be used to simulate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on all small circuits, and Bob can efficiently verify that usin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12"/>
          <p:cNvCxnSpPr/>
          <p:nvPr/>
        </p:nvCxnSpPr>
        <p:spPr>
          <a:xfrm>
            <a:off x="2933280" y="2887560"/>
            <a:ext cx="2934360" cy="864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lg" type="arrow" w="lg"/>
          </a:ln>
        </p:spPr>
      </p:cxnSp>
      <p:sp>
        <p:nvSpPr>
          <p:cNvPr id="78" name="Text Box 16"/>
          <p:cNvSpPr/>
          <p:nvPr/>
        </p:nvSpPr>
        <p:spPr>
          <a:xfrm>
            <a:off x="4038480" y="23623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60"/>
          <p:cNvSpPr/>
          <p:nvPr/>
        </p:nvSpPr>
        <p:spPr>
          <a:xfrm>
            <a:off x="7010280" y="5562720"/>
            <a:ext cx="2133720" cy="1295280"/>
          </a:xfrm>
          <a:prstGeom prst="rect">
            <a:avLst/>
          </a:prstGeom>
          <a:solidFill>
            <a:srgbClr val="edf59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8"/>
          <p:cNvSpPr/>
          <p:nvPr/>
        </p:nvSpPr>
        <p:spPr>
          <a:xfrm>
            <a:off x="1447920" y="182880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jority-Certificates 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1"/>
          <p:cNvSpPr/>
          <p:nvPr/>
        </p:nvSpPr>
        <p:spPr>
          <a:xfrm>
            <a:off x="1295280" y="34290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l Majority-Certificates 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3"/>
          <p:cNvSpPr/>
          <p:nvPr/>
        </p:nvSpPr>
        <p:spPr>
          <a:xfrm>
            <a:off x="1981080" y="3808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ircuit Learning (Bshouty et a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4"/>
          <p:cNvSpPr/>
          <p:nvPr/>
        </p:nvSpPr>
        <p:spPr>
          <a:xfrm>
            <a:off x="380880" y="45720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Minimax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8"/>
          <p:cNvSpPr/>
          <p:nvPr/>
        </p:nvSpPr>
        <p:spPr>
          <a:xfrm>
            <a:off x="0" y="198108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afe Winnowing 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3"/>
          <p:cNvSpPr/>
          <p:nvPr/>
        </p:nvSpPr>
        <p:spPr>
          <a:xfrm>
            <a:off x="6858000" y="152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Holevo’s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3"/>
          <p:cNvSpPr/>
          <p:nvPr/>
        </p:nvSpPr>
        <p:spPr>
          <a:xfrm>
            <a:off x="6858000" y="990720"/>
            <a:ext cx="213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ndom Access Code Lower Bound (Ambainis et a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1"/>
          <p:cNvSpPr/>
          <p:nvPr/>
        </p:nvSpPr>
        <p:spPr>
          <a:xfrm>
            <a:off x="3962520" y="510552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YQP/po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1"/>
          <p:cNvSpPr/>
          <p:nvPr/>
        </p:nvSpPr>
        <p:spPr>
          <a:xfrm>
            <a:off x="5029200" y="4267080"/>
            <a:ext cx="350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HeurBQP/qpo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HeurYQP/po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.’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1"/>
          <p:cNvSpPr/>
          <p:nvPr/>
        </p:nvSpPr>
        <p:spPr>
          <a:xfrm>
            <a:off x="3200400" y="6019920"/>
            <a:ext cx="33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antum advice no harder than ground state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3"/>
          <p:cNvSpPr/>
          <p:nvPr/>
        </p:nvSpPr>
        <p:spPr>
          <a:xfrm>
            <a:off x="6705720" y="23623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t-Shattering Bound (A.’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3"/>
          <p:cNvSpPr/>
          <p:nvPr/>
        </p:nvSpPr>
        <p:spPr>
          <a:xfrm>
            <a:off x="4114800" y="45720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vering Lemma (Alon et a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3"/>
          <p:cNvSpPr/>
          <p:nvPr/>
        </p:nvSpPr>
        <p:spPr>
          <a:xfrm>
            <a:off x="4038480" y="1676520"/>
            <a:ext cx="198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rning of p-Concept Classes (Bartlett &amp;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1"/>
          <p:cNvSpPr/>
          <p:nvPr/>
        </p:nvSpPr>
        <p:spPr>
          <a:xfrm>
            <a:off x="533520" y="518148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L HAMILTONIANS is 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comple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Kita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1"/>
          <p:cNvSpPr/>
          <p:nvPr/>
        </p:nvSpPr>
        <p:spPr>
          <a:xfrm>
            <a:off x="0" y="43434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Cook-Levin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Arrow Connector 53"/>
          <p:cNvCxnSpPr/>
          <p:nvPr/>
        </p:nvCxnSpPr>
        <p:spPr>
          <a:xfrm>
            <a:off x="1066680" y="2971800"/>
            <a:ext cx="610560" cy="53424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96" name="Straight Arrow Connector 55"/>
          <p:cNvCxnSpPr/>
          <p:nvPr/>
        </p:nvCxnSpPr>
        <p:spPr>
          <a:xfrm>
            <a:off x="1295280" y="1142640"/>
            <a:ext cx="534240" cy="68652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97" name="Straight Arrow Connector 61"/>
          <p:cNvCxnSpPr/>
          <p:nvPr/>
        </p:nvCxnSpPr>
        <p:spPr>
          <a:xfrm flipH="1">
            <a:off x="3047760" y="1066680"/>
            <a:ext cx="1372320" cy="243900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98" name="Straight Arrow Connector 64"/>
          <p:cNvCxnSpPr>
            <a:endCxn id="92" idx="0"/>
          </p:cNvCxnSpPr>
          <p:nvPr/>
        </p:nvCxnSpPr>
        <p:spPr>
          <a:xfrm flipH="1">
            <a:off x="5028840" y="1143000"/>
            <a:ext cx="2160" cy="53424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99" name="Straight Arrow Connector 70"/>
          <p:cNvCxnSpPr/>
          <p:nvPr/>
        </p:nvCxnSpPr>
        <p:spPr>
          <a:xfrm flipH="1">
            <a:off x="3276360" y="2666880"/>
            <a:ext cx="915120" cy="106776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100" name="Straight Arrow Connector 75"/>
          <p:cNvCxnSpPr>
            <a:stCxn id="92" idx="2"/>
          </p:cNvCxnSpPr>
          <p:nvPr/>
        </p:nvCxnSpPr>
        <p:spPr>
          <a:xfrm>
            <a:off x="5028120" y="2692440"/>
            <a:ext cx="153000" cy="165168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101" name="Straight Arrow Connector 77"/>
          <p:cNvCxnSpPr/>
          <p:nvPr/>
        </p:nvCxnSpPr>
        <p:spPr>
          <a:xfrm flipH="1">
            <a:off x="7999200" y="3049200"/>
            <a:ext cx="3600" cy="122004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102" name="Straight Arrow Connector 80"/>
          <p:cNvCxnSpPr/>
          <p:nvPr/>
        </p:nvCxnSpPr>
        <p:spPr>
          <a:xfrm flipH="1">
            <a:off x="8000640" y="533520"/>
            <a:ext cx="2160" cy="45792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103" name="Straight Arrow Connector 81"/>
          <p:cNvCxnSpPr/>
          <p:nvPr/>
        </p:nvCxnSpPr>
        <p:spPr>
          <a:xfrm flipH="1">
            <a:off x="8000640" y="1981080"/>
            <a:ext cx="2160" cy="45792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104" name="Straight Arrow Connector 83"/>
          <p:cNvCxnSpPr>
            <a:endCxn id="89" idx="0"/>
          </p:cNvCxnSpPr>
          <p:nvPr/>
        </p:nvCxnSpPr>
        <p:spPr>
          <a:xfrm flipH="1">
            <a:off x="4876560" y="5486400"/>
            <a:ext cx="305280" cy="53424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105" name="Straight Arrow Connector 86"/>
          <p:cNvCxnSpPr/>
          <p:nvPr/>
        </p:nvCxnSpPr>
        <p:spPr>
          <a:xfrm>
            <a:off x="2742840" y="5715000"/>
            <a:ext cx="610200" cy="53424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106" name="Straight Arrow Connector 94"/>
          <p:cNvCxnSpPr/>
          <p:nvPr/>
        </p:nvCxnSpPr>
        <p:spPr>
          <a:xfrm>
            <a:off x="3504240" y="4038480"/>
            <a:ext cx="1067400" cy="106776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107" name="Straight Arrow Connector 98"/>
          <p:cNvCxnSpPr>
            <a:stCxn id="82" idx="2"/>
          </p:cNvCxnSpPr>
          <p:nvPr/>
        </p:nvCxnSpPr>
        <p:spPr>
          <a:xfrm flipH="1">
            <a:off x="2514240" y="1088640"/>
            <a:ext cx="381600" cy="81684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108" name="Straight Arrow Connector 102"/>
          <p:cNvCxnSpPr/>
          <p:nvPr/>
        </p:nvCxnSpPr>
        <p:spPr>
          <a:xfrm flipH="1">
            <a:off x="2284200" y="2820600"/>
            <a:ext cx="3600" cy="68652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109" name="Straight Arrow Connector 104"/>
          <p:cNvCxnSpPr/>
          <p:nvPr/>
        </p:nvCxnSpPr>
        <p:spPr>
          <a:xfrm>
            <a:off x="1599120" y="4724280"/>
            <a:ext cx="153000" cy="53424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110" name="Straight Arrow Connector 109"/>
          <p:cNvCxnSpPr/>
          <p:nvPr/>
        </p:nvCxnSpPr>
        <p:spPr>
          <a:xfrm flipH="1">
            <a:off x="6019560" y="4647960"/>
            <a:ext cx="2160" cy="53388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111" name="TextBox 51"/>
          <p:cNvSpPr/>
          <p:nvPr/>
        </p:nvSpPr>
        <p:spPr>
          <a:xfrm>
            <a:off x="5334120" y="32004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QMA+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haronov &amp; Reg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Straight Arrow Connector 136"/>
          <p:cNvCxnSpPr/>
          <p:nvPr/>
        </p:nvCxnSpPr>
        <p:spPr>
          <a:xfrm flipH="1">
            <a:off x="6476760" y="3886200"/>
            <a:ext cx="2160" cy="45792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113" name="Straight Arrow Connector 147"/>
          <p:cNvCxnSpPr/>
          <p:nvPr/>
        </p:nvCxnSpPr>
        <p:spPr>
          <a:xfrm flipH="1">
            <a:off x="7238160" y="5791320"/>
            <a:ext cx="2520" cy="38160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114" name="Straight Arrow Connector 150"/>
          <p:cNvCxnSpPr/>
          <p:nvPr/>
        </p:nvCxnSpPr>
        <p:spPr>
          <a:xfrm flipH="1">
            <a:off x="7236720" y="6326280"/>
            <a:ext cx="3960" cy="38160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115" name="TextBox 51"/>
          <p:cNvSpPr/>
          <p:nvPr/>
        </p:nvSpPr>
        <p:spPr>
          <a:xfrm>
            <a:off x="7315200" y="5791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as 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1"/>
          <p:cNvSpPr/>
          <p:nvPr/>
        </p:nvSpPr>
        <p:spPr>
          <a:xfrm>
            <a:off x="7315200" y="6248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al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65"/>
          <p:cNvSpPr/>
          <p:nvPr/>
        </p:nvSpPr>
        <p:spPr>
          <a:xfrm>
            <a:off x="1447920" y="1600200"/>
            <a:ext cx="160020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228600" y="38088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Main Tool: Majority-Certificates Lemma</a:t>
            </a:r>
            <a:br>
              <a:rPr sz="4000"/>
            </a:b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(Related to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boosting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 in computational learning the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380880" y="3505320"/>
            <a:ext cx="838224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Lemma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Let S be a set of Boolean functions f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, and let f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.  Then there exist m=O(n) certificates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each of size k=O(log|S|), such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re’s a unique 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 consistent with each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*(x)=MAJORITY(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x),…,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x)) for all 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380880" y="1676520"/>
            <a:ext cx="8382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Definitions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certificat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s a partial Boolean function C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,*}.  A Boolean function f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 i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consisten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with C, if f(x)=C(x) whenever C(x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.  The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siz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f C is the number of inputs x such that C(x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6"/>
          <p:cNvSpPr/>
          <p:nvPr/>
        </p:nvSpPr>
        <p:spPr>
          <a:xfrm>
            <a:off x="380880" y="2133720"/>
            <a:ext cx="838224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at computes some Boolean function f:{0,1}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{0,1} belonging to a “small” set S (meaning, of size 2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poly(n)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.  Someone wants to prove to us that f equals (say) the all-0 function, by having us check a polynomial number of outputs 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,…,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380880" y="304920"/>
            <a:ext cx="838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504d"/>
                </a:solidFill>
                <a:latin typeface="Calibri"/>
              </a:rPr>
              <a:t>Intuition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We’re given a black box (think: quantum stat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ube 8"/>
          <p:cNvSpPr/>
          <p:nvPr/>
        </p:nvSpPr>
        <p:spPr>
          <a:xfrm>
            <a:off x="3809880" y="91440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3809880" y="1219320"/>
            <a:ext cx="838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alibri"/>
              </a:rPr>
              <a:t>f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Straight Arrow Connector 10"/>
          <p:cNvCxnSpPr/>
          <p:nvPr/>
        </p:nvCxnSpPr>
        <p:spPr>
          <a:xfrm>
            <a:off x="2819160" y="1600200"/>
            <a:ext cx="991080" cy="216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med" type="triangle" w="med"/>
          </a:ln>
        </p:spPr>
      </p:cxnSp>
      <p:sp>
        <p:nvSpPr>
          <p:cNvPr id="126" name="Text Box 16"/>
          <p:cNvSpPr/>
          <p:nvPr/>
        </p:nvSpPr>
        <p:spPr>
          <a:xfrm>
            <a:off x="2438280" y="129528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Straight Arrow Connector 14"/>
          <p:cNvCxnSpPr/>
          <p:nvPr/>
        </p:nvCxnSpPr>
        <p:spPr>
          <a:xfrm>
            <a:off x="4876560" y="1600200"/>
            <a:ext cx="991080" cy="216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med" type="triangle" w="med"/>
          </a:ln>
        </p:spPr>
      </p:cxnSp>
      <p:sp>
        <p:nvSpPr>
          <p:cNvPr id="128" name="Text Box 16"/>
          <p:cNvSpPr/>
          <p:nvPr/>
        </p:nvSpPr>
        <p:spPr>
          <a:xfrm>
            <a:off x="5791320" y="129528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f(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380880" y="3962520"/>
            <a:ext cx="358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is trivially impossible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343400" y="4419720"/>
          <a:ext cx="4495680" cy="2225520"/>
        </p:xfrm>
        <a:graphic>
          <a:graphicData uri="http://schemas.openxmlformats.org/drawingml/2006/table">
            <a:tbl>
              <a:tblPr/>
              <a:tblGrid>
                <a:gridCol w="642960"/>
                <a:gridCol w="641160"/>
                <a:gridCol w="642960"/>
                <a:gridCol w="641520"/>
                <a:gridCol w="642960"/>
                <a:gridCol w="641160"/>
                <a:gridCol w="6429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31" name="Text Box 16"/>
          <p:cNvSpPr/>
          <p:nvPr/>
        </p:nvSpPr>
        <p:spPr>
          <a:xfrm>
            <a:off x="380880" y="4572000"/>
            <a:ext cx="3810240" cy="21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ut … what if we get </a:t>
            </a:r>
            <a:r>
              <a:rPr b="1" lang="en-US" sz="3000" spc="-1" strike="noStrike">
                <a:solidFill>
                  <a:srgbClr val="c0504d"/>
                </a:solidFill>
                <a:latin typeface="Calibri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black boxes, and are allowed to simulate f=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by taking the point-wise MAJORITY of their output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Straight Arrow Connector 20"/>
          <p:cNvCxnSpPr/>
          <p:nvPr/>
        </p:nvCxnSpPr>
        <p:spPr>
          <a:xfrm flipH="1">
            <a:off x="5331600" y="3887640"/>
            <a:ext cx="3960" cy="53424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133" name="Straight Arrow Connector 22"/>
          <p:cNvCxnSpPr/>
          <p:nvPr/>
        </p:nvCxnSpPr>
        <p:spPr>
          <a:xfrm flipH="1">
            <a:off x="5943240" y="3886200"/>
            <a:ext cx="2160" cy="53424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134" name="Straight Arrow Connector 23"/>
          <p:cNvCxnSpPr/>
          <p:nvPr/>
        </p:nvCxnSpPr>
        <p:spPr>
          <a:xfrm flipH="1">
            <a:off x="6629040" y="3886200"/>
            <a:ext cx="2160" cy="53424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135" name="Straight Arrow Connector 24"/>
          <p:cNvCxnSpPr/>
          <p:nvPr/>
        </p:nvCxnSpPr>
        <p:spPr>
          <a:xfrm flipH="1">
            <a:off x="7238160" y="3886200"/>
            <a:ext cx="2520" cy="534240"/>
          </a:xfrm>
          <a:prstGeom prst="straightConnector1">
            <a:avLst/>
          </a:prstGeom>
          <a:ln w="1908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136" name="Oval 25"/>
          <p:cNvSpPr/>
          <p:nvPr/>
        </p:nvSpPr>
        <p:spPr>
          <a:xfrm>
            <a:off x="5638680" y="4800600"/>
            <a:ext cx="609840" cy="3808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6"/>
          <p:cNvSpPr/>
          <p:nvPr/>
        </p:nvSpPr>
        <p:spPr>
          <a:xfrm>
            <a:off x="6248520" y="5181480"/>
            <a:ext cx="609480" cy="3812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27"/>
          <p:cNvSpPr/>
          <p:nvPr/>
        </p:nvSpPr>
        <p:spPr>
          <a:xfrm>
            <a:off x="6934320" y="5562720"/>
            <a:ext cx="609480" cy="3808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03:57:14Z</dcterms:created>
  <dc:creator>Scott Aaronson</dc:creator>
  <dc:description/>
  <dc:language>en-US</dc:language>
  <cp:lastModifiedBy>Scott Aaronson</cp:lastModifiedBy>
  <dcterms:modified xsi:type="dcterms:W3CDTF">2010-01-19T08:50:19Z</dcterms:modified>
  <cp:revision>47</cp:revision>
  <dc:subject/>
  <dc:title>The Power of Quantum Advice</dc:title>
</cp:coreProperties>
</file>