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2.wmf" ContentType="image/x-wmf"/>
  <Override PartName="/ppt/media/image19.wmf" ContentType="image/x-wmf"/>
  <Override PartName="/ppt/media/image17.wmf" ContentType="image/x-wmf"/>
  <Override PartName="/ppt/media/image16.jpeg" ContentType="image/jpeg"/>
  <Override PartName="/ppt/media/image14.png" ContentType="image/pn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18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094-C9E5-419B-A4BF-F7702F7D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2955-537E-4CDF-A0CE-75F1F2C7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F83-D2FA-47E1-B0FD-0256B4B0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9330-0C5D-4ED1-ACA7-D247F51D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BEEB-2756-41F9-8C37-EF1641EC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A2D-5419-488D-AFC0-52074C6A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D281-9428-4CB5-9531-07EC3F4D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3D9-53A7-4DB6-9F10-D257E6F8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99E5-324E-4061-98BC-890EE08C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A8B3-7FF5-47D3-8E88-6161DA24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9C4-946E-4978-839E-7CD7C0DE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0D89-2B52-4B14-9F61-894CE12F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8B59-66D3-4A39-A262-332200B24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1300" t="34202" r="33749" b="43802"/>
          <a:stretch/>
        </p:blipFill>
        <p:spPr>
          <a:xfrm>
            <a:off x="5257800" y="2514600"/>
            <a:ext cx="2001960" cy="2209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imitations of Quantum Advice and One-Way Communicatio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 Berkele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18463" t="12742" r="23078" b="29732"/>
          <a:stretch/>
        </p:blipFill>
        <p:spPr>
          <a:xfrm>
            <a:off x="380880" y="2514600"/>
            <a:ext cx="2070360" cy="2209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38280" y="388620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00400" y="2590920"/>
          <a:ext cx="13050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590920"/>
                    <a:ext cx="1305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6248520" y="1905120"/>
            <a:ext cx="2590560" cy="914400"/>
          </a:xfrm>
          <a:prstGeom prst="cloudCallout">
            <a:avLst>
              <a:gd name="adj1" fmla="val -30513"/>
              <a:gd name="adj2" fmla="val 899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352680" y="4572000"/>
            <a:ext cx="5334120" cy="1714680"/>
            <a:chOff x="3352680" y="4572000"/>
            <a:chExt cx="5334120" cy="1714680"/>
          </a:xfrm>
        </p:grpSpPr>
        <p:sp>
          <p:nvSpPr>
            <p:cNvPr id="181" name=""/>
            <p:cNvSpPr/>
            <p:nvPr/>
          </p:nvSpPr>
          <p:spPr>
            <a:xfrm>
              <a:off x="3352680" y="4572000"/>
              <a:ext cx="5334120" cy="1702440"/>
            </a:xfrm>
            <a:prstGeom prst="rect">
              <a:avLst/>
            </a:prstGeom>
            <a:solidFill>
              <a:srgbClr val="ffe5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Then after the measurement, we can recover a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’ such tha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4952880" y="5562720"/>
            <a:ext cx="2514600" cy="72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5562720"/>
                      <a:ext cx="251460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“Almost As Good As New” Lemma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1981080"/>
            <a:ext cx="4191120" cy="1921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 a 2-outcome measurement of a mixed stat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yields ‘0’ w.p. 1-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‘1’ w.p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1920" y="4434480"/>
            <a:ext cx="2405160" cy="73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1920" y="2029320"/>
            <a:ext cx="732600" cy="2405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11560" y="2117880"/>
            <a:ext cx="1024920" cy="2316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11560" y="2029320"/>
            <a:ext cx="732960" cy="2405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36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f) = O(m Q</a:t>
            </a:r>
            <a:r>
              <a:rPr b="1" lang="en-US" sz="36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f) logQ</a:t>
            </a:r>
            <a:r>
              <a:rPr b="1" lang="en-US" sz="36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f)) for all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 : {0,1}</a:t>
            </a:r>
            <a:r>
              <a:rPr b="1" lang="en-US" sz="36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{0,1}</a:t>
            </a:r>
            <a:r>
              <a:rPr b="1" lang="en-US" sz="3600" spc="-1" strike="noStrike" baseline="30000">
                <a:solidFill>
                  <a:srgbClr val="333399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{0,1}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2514600"/>
            <a:ext cx="28958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15656" t="1787" r="13419" b="36633"/>
          <a:stretch/>
        </p:blipFill>
        <p:spPr>
          <a:xfrm>
            <a:off x="4876920" y="1828800"/>
            <a:ext cx="1193760" cy="1295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1076400" cy="1247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3520" y="190512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1905120"/>
            <a:ext cx="1676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514600"/>
            <a:ext cx="16002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20120" y="220968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,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25909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B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5909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34290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ce can decrease the error probability to 1/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y sending K=O(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log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)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44956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 can then compute f(x,y) for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s of 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multaneous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556272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no communication, he can still do that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.9/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es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362320" y="1523880"/>
          <a:ext cx="220968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523880"/>
                    <a:ext cx="22096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2895480" y="1600200"/>
            <a:ext cx="167652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1905120"/>
            <a:ext cx="990720" cy="533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696080" y="1752480"/>
            <a:ext cx="1219320" cy="2047320"/>
            <a:chOff x="7696080" y="1752480"/>
            <a:chExt cx="1219320" cy="2047320"/>
          </a:xfrm>
        </p:grpSpPr>
        <p:sp>
          <p:nvSpPr>
            <p:cNvPr id="208" name=""/>
            <p:cNvSpPr/>
            <p:nvPr/>
          </p:nvSpPr>
          <p:spPr>
            <a:xfrm>
              <a:off x="7696080" y="1752480"/>
              <a:ext cx="1219320" cy="204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f(x,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f(x,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3000"/>
              </a:b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05560" y="28195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05560" y="3048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05560" y="3276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2057400" y="1523880"/>
            <a:ext cx="609480" cy="1905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 flipH="1" rot="21090000">
            <a:off x="2735640" y="150480"/>
            <a:ext cx="3351240" cy="2057400"/>
          </a:xfrm>
          <a:prstGeom prst="cloudCallout">
            <a:avLst>
              <a:gd name="adj1" fmla="val -19046"/>
              <a:gd name="adj2" fmla="val 573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maximally mixed sta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lice’s Classical Messag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52280" y="4648320"/>
            <a:ext cx="1733760" cy="2009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209680" y="990720"/>
            <a:ext cx="6705720" cy="5638680"/>
          </a:xfrm>
          <a:prstGeom prst="wedgeRoundRectCallout">
            <a:avLst>
              <a:gd name="adj1" fmla="val -58523"/>
              <a:gd name="adj2" fmla="val 2021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ob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t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be the probability you’d guess f(x,y)=1 using I in plac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n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exicographically first y for which |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-f(x,y)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let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reduced state assuming you guessed f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orrectly.  Let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be the probability you’d guess f(x,y)=1 using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plac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n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first y after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which |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-f(x,y)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5943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6172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6400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1066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129528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152388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17524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198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2209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2438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358128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380988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4038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3352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28954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266688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7920" y="312408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19051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0481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152388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266688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4038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6858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arly Alice’s message lets Bob compute f(x,y) for any y in his r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1981080"/>
            <a:ext cx="84582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ai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lice never has to send more than K 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s—so her total message length is O(m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276720"/>
            <a:ext cx="845820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 not.  Then Bob would succeed on 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imultaneously with probabilit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1/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4572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we already know he succeeds with probabilit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0.9/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contradi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QP/qpoly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PP/pol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1219320"/>
            <a:ext cx="205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ce is the “advisor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1752480"/>
            <a:ext cx="25146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15656" t="1787" r="13419" b="36633"/>
          <a:stretch/>
        </p:blipFill>
        <p:spPr>
          <a:xfrm>
            <a:off x="5791320" y="1066680"/>
            <a:ext cx="1193760" cy="12956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209680" y="1143000"/>
            <a:ext cx="1076400" cy="12477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010280" y="990720"/>
            <a:ext cx="1752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b is the PP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2666880"/>
            <a:ext cx="838188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 quantum advice has p(n) qubits.  Then classical advice consists of K = O(p(n) log p(n)) inputs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n which algorithm would make the wrong guess using maximally mixed state in place of advice (as befo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dleman, DeMarrais, Huang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PP, we can decide which of two sequences of measurement outcomes has greater prob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63120" y="2987280"/>
            <a:ext cx="7968600" cy="4304880"/>
            <a:chOff x="663120" y="2987280"/>
            <a:chExt cx="7968600" cy="4304880"/>
          </a:xfrm>
        </p:grpSpPr>
        <p:sp>
          <p:nvSpPr>
            <p:cNvPr id="253" name=""/>
            <p:cNvSpPr/>
            <p:nvPr/>
          </p:nvSpPr>
          <p:spPr>
            <a:xfrm rot="403200">
              <a:off x="837720" y="3421080"/>
              <a:ext cx="7618680" cy="3436920"/>
            </a:xfrm>
            <a:prstGeom prst="irregularSeal2">
              <a:avLst/>
            </a:prstGeom>
            <a:solidFill>
              <a:srgbClr val="ffff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06800" y="4640400"/>
              <a:ext cx="4572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mproves earlier result: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BQP/qpoly </a:t>
              </a: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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EXP/pol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P</a:t>
            </a:r>
            <a:r>
              <a:rPr b="1" lang="en-US" sz="4400" spc="-1" strike="noStrike" baseline="30000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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BQP</a:t>
            </a:r>
            <a:r>
              <a:rPr b="1" lang="en-US" sz="4400" spc="-1" strike="noStrike" baseline="30000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/qpol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4038480"/>
            <a:ext cx="8229600" cy="15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ai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 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Q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qpoly, then using boosted advice, we can find all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/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lements of S w.h.p. using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/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(n) quantum qu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75248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racl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(x)=1 iff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, where 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chosen uniformly at random subject to |S|=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/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57200" y="1219320"/>
            <a:ext cx="8229600" cy="304560"/>
            <a:chOff x="457200" y="1219320"/>
            <a:chExt cx="8229600" cy="304560"/>
          </a:xfrm>
        </p:grpSpPr>
        <p:sp>
          <p:nvSpPr>
            <p:cNvPr id="259" name=""/>
            <p:cNvSpPr/>
            <p:nvPr/>
          </p:nvSpPr>
          <p:spPr>
            <a:xfrm>
              <a:off x="45720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2120" y="12193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6668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7160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76520" y="12193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81080" y="1219320"/>
              <a:ext cx="30492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90920" y="12193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9548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0040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05320" y="1219320"/>
              <a:ext cx="30456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0988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1480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19720" y="12193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2428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2920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34120" y="12193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3868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4360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48520" y="12193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5308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219320"/>
              <a:ext cx="30492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62920" y="12193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6748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77240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77320" y="1219320"/>
              <a:ext cx="30456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38188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57200" y="2895480"/>
            <a:ext cx="83818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Languag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y,z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f there exists an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between y and z lexicographically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(clearly L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P</a:t>
            </a:r>
            <a:r>
              <a:rPr b="1" lang="en-US" sz="2400" spc="-1" strike="noStrike" baseline="30000">
                <a:solidFill>
                  <a:srgbClr val="008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)</a:t>
            </a: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563868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 replace advice by maximally mixed state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ccess probability becomes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O(poly(n)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irect Product Theorem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1066680"/>
            <a:ext cx="8153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Goal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how that with o(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quantum queries, the probability of finding all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/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arked items must b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oub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xponentially small in 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2666880"/>
            <a:ext cx="8153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Beals et al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 a quantum algorithm makes T queries to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n the probability it accepts a random X with |X|=k is a univariate polynomial p(k) of degre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2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21080400">
            <a:off x="1469880" y="1474920"/>
            <a:ext cx="5690160" cy="642600"/>
          </a:xfrm>
          <a:prstGeom prst="rect">
            <a:avLst/>
          </a:prstGeom>
          <a:solidFill>
            <a:srgbClr val="ffffef"/>
          </a:solidFill>
          <a:ln w="572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INTUITIVELY PLAU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04920" y="4724280"/>
            <a:ext cx="8001000" cy="1755720"/>
            <a:chOff x="304920" y="4724280"/>
            <a:chExt cx="8001000" cy="1755720"/>
          </a:xfrm>
        </p:grpSpPr>
        <p:sp>
          <p:nvSpPr>
            <p:cNvPr id="293" name=""/>
            <p:cNvSpPr/>
            <p:nvPr/>
          </p:nvSpPr>
          <p:spPr>
            <a:xfrm>
              <a:off x="304920" y="50292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p(k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47920" y="4876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1447920" y="586728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43000" y="5548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43000" y="47242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5248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860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1952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5268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862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1972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5288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864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1992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5308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66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2012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5328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23880" y="5867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5740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9092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71800" y="579132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 .   .   . 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52880" y="592920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5880" y="579132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 .   .   . 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24680" y="5867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00200" y="4915080"/>
              <a:ext cx="6689880" cy="723600"/>
            </a:xfrm>
            <a:custGeom>
              <a:avLst/>
              <a:gdLst/>
              <a:ahLst/>
              <a:rect l="l" t="t" r="r" b="b"/>
              <a:pathLst>
                <a:path w="4214" h="456">
                  <a:moveTo>
                    <a:pt x="0" y="456"/>
                  </a:moveTo>
                  <a:cubicBezTo>
                    <a:pt x="152" y="252"/>
                    <a:pt x="304" y="48"/>
                    <a:pt x="480" y="24"/>
                  </a:cubicBezTo>
                  <a:cubicBezTo>
                    <a:pt x="656" y="0"/>
                    <a:pt x="768" y="280"/>
                    <a:pt x="1056" y="312"/>
                  </a:cubicBezTo>
                  <a:cubicBezTo>
                    <a:pt x="1344" y="344"/>
                    <a:pt x="1848" y="200"/>
                    <a:pt x="2208" y="216"/>
                  </a:cubicBezTo>
                  <a:cubicBezTo>
                    <a:pt x="2568" y="232"/>
                    <a:pt x="2882" y="429"/>
                    <a:pt x="3216" y="408"/>
                  </a:cubicBezTo>
                  <a:cubicBezTo>
                    <a:pt x="3550" y="387"/>
                    <a:pt x="4006" y="156"/>
                    <a:pt x="4214" y="8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57200" y="228600"/>
            <a:ext cx="81532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the algorithm accept iff it finds |S|=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/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arked items.  T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p(k)=0 for all k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…,|S|–1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) p(|S|)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O(poly(n)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3) p(k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0,1] for all k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…,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80880" y="3200400"/>
            <a:ext cx="8153280" cy="1755720"/>
            <a:chOff x="380880" y="3200400"/>
            <a:chExt cx="8153280" cy="1755720"/>
          </a:xfrm>
        </p:grpSpPr>
        <p:sp>
          <p:nvSpPr>
            <p:cNvPr id="321" name=""/>
            <p:cNvSpPr/>
            <p:nvPr/>
          </p:nvSpPr>
          <p:spPr>
            <a:xfrm>
              <a:off x="380880" y="350532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p(k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23880" y="335304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523880" y="434340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18960" y="40244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18960" y="3200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2844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6196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9548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2864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6216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9568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2884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6236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9588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2904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6256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9608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2924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99840" y="4343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3336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6688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47760" y="42674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 .   .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28840" y="4405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71840" y="426744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 .   .   . 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24680" y="4343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14440" y="4343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|S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22080" y="3273480"/>
              <a:ext cx="6935760" cy="1176480"/>
            </a:xfrm>
            <a:custGeom>
              <a:avLst/>
              <a:gdLst/>
              <a:ahLst/>
              <a:rect l="l" t="t" r="r" b="b"/>
              <a:pathLst>
                <a:path w="4369" h="741">
                  <a:moveTo>
                    <a:pt x="0" y="668"/>
                  </a:moveTo>
                  <a:cubicBezTo>
                    <a:pt x="255" y="669"/>
                    <a:pt x="1224" y="687"/>
                    <a:pt x="1537" y="674"/>
                  </a:cubicBezTo>
                  <a:cubicBezTo>
                    <a:pt x="1850" y="661"/>
                    <a:pt x="1756" y="662"/>
                    <a:pt x="1876" y="590"/>
                  </a:cubicBezTo>
                  <a:cubicBezTo>
                    <a:pt x="1996" y="518"/>
                    <a:pt x="2121" y="223"/>
                    <a:pt x="2257" y="242"/>
                  </a:cubicBezTo>
                  <a:cubicBezTo>
                    <a:pt x="2393" y="261"/>
                    <a:pt x="2513" y="741"/>
                    <a:pt x="2693" y="706"/>
                  </a:cubicBezTo>
                  <a:cubicBezTo>
                    <a:pt x="2873" y="671"/>
                    <a:pt x="3164" y="58"/>
                    <a:pt x="3339" y="29"/>
                  </a:cubicBezTo>
                  <a:cubicBezTo>
                    <a:pt x="3514" y="0"/>
                    <a:pt x="3573" y="526"/>
                    <a:pt x="3745" y="530"/>
                  </a:cubicBezTo>
                  <a:cubicBezTo>
                    <a:pt x="3917" y="534"/>
                    <a:pt x="4153" y="282"/>
                    <a:pt x="4369" y="5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67080" y="4038840"/>
              <a:ext cx="380880" cy="3808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57200" y="4876920"/>
            <a:ext cx="8305920" cy="1371600"/>
            <a:chOff x="457200" y="4876920"/>
            <a:chExt cx="8305920" cy="1371600"/>
          </a:xfrm>
        </p:grpSpPr>
        <p:sp>
          <p:nvSpPr>
            <p:cNvPr id="350" name=""/>
            <p:cNvSpPr/>
            <p:nvPr/>
          </p:nvSpPr>
          <p:spPr>
            <a:xfrm>
              <a:off x="457200" y="5258160"/>
              <a:ext cx="4952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heorem: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Given the above,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51" name=""/>
            <p:cNvGraphicFramePr/>
            <p:nvPr/>
          </p:nvGraphicFramePr>
          <p:xfrm>
            <a:off x="5334120" y="4876920"/>
            <a:ext cx="3429000" cy="13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4876920"/>
                      <a:ext cx="342900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3" name=""/>
          <p:cNvSpPr/>
          <p:nvPr/>
        </p:nvSpPr>
        <p:spPr>
          <a:xfrm>
            <a:off x="1295280" y="6019920"/>
            <a:ext cx="51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(Improved by Klauck et al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09480" y="457200"/>
            <a:ext cx="8153640" cy="22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 V.A. Markov (younger brother of A.A. Markov) showed in 1892 th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43434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d -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for all 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514600" y="304920"/>
          <a:ext cx="2895480" cy="12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04920"/>
                    <a:ext cx="2895480" cy="12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1905120" y="2666880"/>
          <a:ext cx="5391000" cy="14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666880"/>
                    <a:ext cx="5391000" cy="14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685800" y="525780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other hand, one can show by induction on m that r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(m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O(poly(n)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m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pen Ques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160020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we show BQP/pol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QP/qpoly relative to an orac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289548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bout SZK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QP/qpol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3733920"/>
            <a:ext cx="8153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randomized and quantum 1-way communication complexities polynomially related for all total Boolean functions?</a:t>
            </a:r>
            <a:br>
              <a:rPr sz="3000"/>
            </a:b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(No asymptotic gap is know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20329800">
            <a:off x="1067040" y="380520"/>
            <a:ext cx="914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3399"/>
                </a:solidFill>
                <a:latin typeface="Arial"/>
              </a:rPr>
              <a:t>?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676400">
            <a:off x="7390800" y="304560"/>
            <a:ext cx="914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00"/>
                </a:solidFill>
                <a:latin typeface="Arial"/>
              </a:rPr>
              <a:t>?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8837000">
            <a:off x="6828120" y="2468520"/>
            <a:ext cx="914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cc33"/>
                </a:solidFill>
                <a:latin typeface="Arial"/>
              </a:rPr>
              <a:t>?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76400">
            <a:off x="7695360" y="4936680"/>
            <a:ext cx="914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Quantum States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33520" y="1066680"/>
            <a:ext cx="8305560" cy="1419120"/>
            <a:chOff x="533520" y="1066680"/>
            <a:chExt cx="8305560" cy="1419120"/>
          </a:xfrm>
        </p:grpSpPr>
        <p:sp>
          <p:nvSpPr>
            <p:cNvPr id="51" name=""/>
            <p:cNvSpPr/>
            <p:nvPr/>
          </p:nvSpPr>
          <p:spPr>
            <a:xfrm>
              <a:off x="1752480" y="1066680"/>
              <a:ext cx="708660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o many quantum computing skeptics, they’re exponentially long vectors—and therefore a bad description of Nature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33520" y="1143000"/>
              <a:ext cx="97308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"/>
          <p:cNvGrpSpPr/>
          <p:nvPr/>
        </p:nvGrpSpPr>
        <p:grpSpPr>
          <a:xfrm>
            <a:off x="533520" y="2590920"/>
            <a:ext cx="8381880" cy="1419120"/>
            <a:chOff x="533520" y="2590920"/>
            <a:chExt cx="8381880" cy="1419120"/>
          </a:xfrm>
        </p:grpSpPr>
        <p:sp>
          <p:nvSpPr>
            <p:cNvPr id="54" name=""/>
            <p:cNvSpPr/>
            <p:nvPr/>
          </p:nvSpPr>
          <p:spPr>
            <a:xfrm>
              <a:off x="1752480" y="2590920"/>
              <a:ext cx="716292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Yet a classical probability distribution over {0,1}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also takes 2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(n)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bits to specify!</a:t>
              </a:r>
              <a:br>
                <a:rPr sz="2900"/>
              </a:b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“Sure, but each sample is only n bits…”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rcRect l="24001" t="10094" r="31201" b="16823"/>
            <a:stretch/>
          </p:blipFill>
          <p:spPr>
            <a:xfrm>
              <a:off x="533520" y="2743200"/>
              <a:ext cx="982440" cy="114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152280" y="4267080"/>
            <a:ext cx="8991720" cy="947160"/>
            <a:chOff x="152280" y="4267080"/>
            <a:chExt cx="8991720" cy="947160"/>
          </a:xfrm>
        </p:grpSpPr>
        <p:sp>
          <p:nvSpPr>
            <p:cNvPr id="57" name=""/>
            <p:cNvSpPr/>
            <p:nvPr/>
          </p:nvSpPr>
          <p:spPr>
            <a:xfrm>
              <a:off x="152280" y="4267080"/>
              <a:ext cx="2819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istributions over n-bit str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44956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bit str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8120" y="472428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819520" y="3886200"/>
            <a:ext cx="990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008000"/>
                </a:solidFill>
                <a:latin typeface="Symbol"/>
                <a:ea typeface="Symbol"/>
              </a:rPr>
              <a:t>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886200"/>
            <a:ext cx="990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008000"/>
                </a:solidFill>
                <a:latin typeface="Symbol"/>
                <a:ea typeface="Symbol"/>
              </a:rPr>
              <a:t>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5334120"/>
            <a:ext cx="8610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 give </a:t>
            </a: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complexity-theoretic eviden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that quantum states lie to the left end of this spectr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upplements information-theoretic evidence (e.g. Hole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0.0044 L 0.3625 0.0044 E">
                                      <p:cBhvr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Advic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4267080"/>
            <a:ext cx="845820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BQP/qpol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lass of languages decidable by polynomial-size, bounded-error quantum circuits, given a polynomial-siz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quantum advice 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depends only on the input length 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143000"/>
            <a:ext cx="586764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Nielsen &amp; Chuang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We know that many systems in Nature ‘prefer’ to sit in highly entangled states of many systems; might it be possible to exploit this preference to obtain extra computational power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24480" y="1143000"/>
            <a:ext cx="156852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9411" t="0" r="14116" b="0"/>
          <a:stretch/>
        </p:blipFill>
        <p:spPr>
          <a:xfrm>
            <a:off x="7421400" y="2133720"/>
            <a:ext cx="14860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xample (Watrous)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371600"/>
            <a:ext cx="822960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ach n, fix a group 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subgroup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|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but group operations are polytim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Given an element x</a:t>
            </a:r>
            <a:r>
              <a:rPr b="1" lang="en-US" sz="30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G</a:t>
            </a:r>
            <a:r>
              <a:rPr b="1" lang="en-US" sz="3000" spc="-1" strike="noStrike" baseline="-25000">
                <a:solidFill>
                  <a:srgbClr val="008000"/>
                </a:solidFill>
                <a:latin typeface="Arial"/>
              </a:rPr>
              <a:t>n</a:t>
            </a: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 as input, is x</a:t>
            </a:r>
            <a:r>
              <a:rPr b="1" lang="en-US" sz="30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8000"/>
                </a:solidFill>
                <a:latin typeface="Arial"/>
              </a:rPr>
              <a:t>n</a:t>
            </a: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57200" y="3505320"/>
            <a:ext cx="8229600" cy="2442600"/>
            <a:chOff x="457200" y="3505320"/>
            <a:chExt cx="8229600" cy="2442600"/>
          </a:xfrm>
        </p:grpSpPr>
        <p:sp>
          <p:nvSpPr>
            <p:cNvPr id="71" name=""/>
            <p:cNvSpPr/>
            <p:nvPr/>
          </p:nvSpPr>
          <p:spPr>
            <a:xfrm>
              <a:off x="457200" y="3505320"/>
              <a:ext cx="822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Solvable in BQP/qpoly using the advice stat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2" name=""/>
            <p:cNvGraphicFramePr/>
            <p:nvPr/>
          </p:nvGraphicFramePr>
          <p:xfrm>
            <a:off x="2514600" y="4038480"/>
            <a:ext cx="3657600" cy="1352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4038480"/>
                      <a:ext cx="3657600" cy="13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457200" y="5334120"/>
              <a:ext cx="82296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Idea: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Check whether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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|xH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is 1 or 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489320" y="2279520"/>
            <a:ext cx="6317640" cy="5075640"/>
            <a:chOff x="1489320" y="2279520"/>
            <a:chExt cx="6317640" cy="5075640"/>
          </a:xfrm>
        </p:grpSpPr>
        <p:sp>
          <p:nvSpPr>
            <p:cNvPr id="76" name=""/>
            <p:cNvSpPr/>
            <p:nvPr/>
          </p:nvSpPr>
          <p:spPr>
            <a:xfrm rot="1092600">
              <a:off x="1904760" y="3048120"/>
              <a:ext cx="5486400" cy="3538440"/>
            </a:xfrm>
            <a:prstGeom prst="irregularSeal2">
              <a:avLst/>
            </a:prstGeom>
            <a:solidFill>
              <a:srgbClr val="ffff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95840" y="4267080"/>
              <a:ext cx="29718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Not known to be in BQP/pol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6483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ybe BQP/qpoly even contains NP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9907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bvious Challeng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rove an oracle separation between BQP/poly and BQP/qpo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362320"/>
            <a:ext cx="8305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Buhrma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ey Scott—why not try for a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nrelativiz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paration?  After all, if quantum states are like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bit classical strings, then maybe BQP/qpol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EEEEE/pol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58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81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sult #1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9907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3399"/>
                </a:solidFill>
                <a:latin typeface="Arial"/>
              </a:rPr>
              <a:t>BQP/qpoly </a:t>
            </a:r>
            <a:r>
              <a:rPr b="1" lang="en-US" sz="5000" spc="-1" strike="noStrike">
                <a:solidFill>
                  <a:srgbClr val="cc3399"/>
                </a:solidFill>
                <a:latin typeface="Symbol"/>
                <a:ea typeface="Symbol"/>
              </a:rPr>
              <a:t></a:t>
            </a:r>
            <a:r>
              <a:rPr b="1" lang="en-US" sz="5000" spc="-1" strike="noStrike">
                <a:solidFill>
                  <a:srgbClr val="cc3399"/>
                </a:solidFill>
                <a:latin typeface="Arial"/>
              </a:rPr>
              <a:t> PP/pol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886200"/>
            <a:ext cx="8610480" cy="25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roof based on new communication result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f: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 (partial or total),</a:t>
            </a:r>
            <a:br>
              <a:rPr sz="2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99"/>
                </a:solidFill>
                <a:latin typeface="Arial"/>
              </a:rPr>
              <a:t>D</a:t>
            </a:r>
            <a:r>
              <a:rPr b="1" lang="en-US" sz="3400" spc="-1" strike="noStrike" baseline="30000">
                <a:solidFill>
                  <a:srgbClr val="cc3399"/>
                </a:solidFill>
                <a:latin typeface="Arial"/>
              </a:rPr>
              <a:t>1</a:t>
            </a:r>
            <a:r>
              <a:rPr b="1" lang="en-US" sz="3400" spc="-1" strike="noStrike">
                <a:solidFill>
                  <a:srgbClr val="cc3399"/>
                </a:solidFill>
                <a:latin typeface="Arial"/>
              </a:rPr>
              <a:t>(f) = O(m Q</a:t>
            </a:r>
            <a:r>
              <a:rPr b="1" lang="en-US" sz="3400" spc="-1" strike="noStrike" baseline="30000">
                <a:solidFill>
                  <a:srgbClr val="cc3399"/>
                </a:solidFill>
                <a:latin typeface="Arial"/>
              </a:rPr>
              <a:t>1</a:t>
            </a:r>
            <a:r>
              <a:rPr b="1" lang="en-US" sz="3400" spc="-1" strike="noStrike">
                <a:solidFill>
                  <a:srgbClr val="cc3399"/>
                </a:solidFill>
                <a:latin typeface="Arial"/>
              </a:rPr>
              <a:t>(f) logQ</a:t>
            </a:r>
            <a:r>
              <a:rPr b="1" lang="en-US" sz="3400" spc="-1" strike="noStrike" baseline="30000">
                <a:solidFill>
                  <a:srgbClr val="cc3399"/>
                </a:solidFill>
                <a:latin typeface="Arial"/>
              </a:rPr>
              <a:t>1</a:t>
            </a:r>
            <a:r>
              <a:rPr b="1" lang="en-US" sz="3400" spc="-1" strike="noStrike">
                <a:solidFill>
                  <a:srgbClr val="cc3399"/>
                </a:solidFill>
                <a:latin typeface="Arial"/>
              </a:rPr>
              <a:t>(f)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 = deterministic 1-way communication complexity of f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 = bounded-error quantum 1-way complex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0720" y="2005920"/>
            <a:ext cx="8092800" cy="2049120"/>
            <a:chOff x="450720" y="2005920"/>
            <a:chExt cx="8092800" cy="2049120"/>
          </a:xfrm>
        </p:grpSpPr>
        <p:sp>
          <p:nvSpPr>
            <p:cNvPr id="87" name=""/>
            <p:cNvSpPr/>
            <p:nvPr/>
          </p:nvSpPr>
          <p:spPr>
            <a:xfrm>
              <a:off x="1752480" y="2133720"/>
              <a:ext cx="541044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Corollary: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Can’t show BQP/poly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BQP/qpoly without also showing PP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P/pol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 rot="20650800">
              <a:off x="609120" y="2133360"/>
              <a:ext cx="94932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 rot="1275000">
              <a:off x="7391520" y="2133720"/>
              <a:ext cx="94932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sult #2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99072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3399"/>
                </a:solidFill>
                <a:latin typeface="Arial"/>
              </a:rPr>
              <a:t>NP</a:t>
            </a:r>
            <a:r>
              <a:rPr b="1" lang="en-US" sz="5000" spc="-1" strike="noStrike" baseline="30000">
                <a:solidFill>
                  <a:srgbClr val="cc3399"/>
                </a:solidFill>
                <a:latin typeface="Arial"/>
              </a:rPr>
              <a:t>A</a:t>
            </a:r>
            <a:r>
              <a:rPr b="1" lang="en-US" sz="5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5000" spc="-1" strike="noStrike">
                <a:solidFill>
                  <a:srgbClr val="cc3399"/>
                </a:solidFill>
                <a:latin typeface="Symbol"/>
                <a:ea typeface="Symbol"/>
              </a:rPr>
              <a:t></a:t>
            </a:r>
            <a:r>
              <a:rPr b="1" lang="en-US" sz="5000" spc="-1" strike="noStrike">
                <a:solidFill>
                  <a:srgbClr val="cc3399"/>
                </a:solidFill>
                <a:latin typeface="Arial"/>
              </a:rPr>
              <a:t> BQP</a:t>
            </a:r>
            <a:r>
              <a:rPr b="1" lang="en-US" sz="5000" spc="-1" strike="noStrike" baseline="30000">
                <a:solidFill>
                  <a:srgbClr val="cc3399"/>
                </a:solidFill>
                <a:latin typeface="Arial"/>
              </a:rPr>
              <a:t>A</a:t>
            </a:r>
            <a:r>
              <a:rPr b="1" lang="en-US" sz="5000" spc="-1" strike="noStrike">
                <a:solidFill>
                  <a:srgbClr val="cc3399"/>
                </a:solidFill>
                <a:latin typeface="Arial"/>
              </a:rPr>
              <a:t>/qpoly</a:t>
            </a:r>
            <a:br>
              <a:rPr sz="5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some oracle A (actually, a random orac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4920" y="2514600"/>
            <a:ext cx="8381880" cy="3912120"/>
            <a:chOff x="304920" y="2514600"/>
            <a:chExt cx="8381880" cy="3912120"/>
          </a:xfrm>
        </p:grpSpPr>
        <p:sp>
          <p:nvSpPr>
            <p:cNvPr id="93" name=""/>
            <p:cNvSpPr/>
            <p:nvPr/>
          </p:nvSpPr>
          <p:spPr>
            <a:xfrm>
              <a:off x="304920" y="2514600"/>
              <a:ext cx="83818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Proof based on new 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Direct Product Theorem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for quantum search: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20" y="4724280"/>
              <a:ext cx="8381880" cy="17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heorem: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With few (</a:t>
              </a:r>
              <a:r>
                <a:rPr b="0" lang="en-US" sz="3000" spc="-1" strike="noStrike">
                  <a:solidFill>
                    <a:srgbClr val="000000"/>
                  </a:solidFill>
                  <a:latin typeface="tci2"/>
                  <a:ea typeface="tci2"/>
                </a:rPr>
                <a:t>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N) quantum queries, the probability of finding all K marked items is 2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(K)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Fixes a wrong result of Klauck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57200" y="3809880"/>
              <a:ext cx="8229600" cy="304560"/>
              <a:chOff x="457200" y="3809880"/>
              <a:chExt cx="8229600" cy="304560"/>
            </a:xfrm>
          </p:grpSpPr>
          <p:sp>
            <p:nvSpPr>
              <p:cNvPr id="96" name=""/>
              <p:cNvSpPr/>
              <p:nvPr/>
            </p:nvSpPr>
            <p:spPr>
              <a:xfrm>
                <a:off x="45720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2120" y="3809880"/>
                <a:ext cx="30456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06668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7160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676520" y="3809880"/>
                <a:ext cx="30456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981080" y="3809880"/>
                <a:ext cx="304920" cy="304560"/>
              </a:xfrm>
              <a:prstGeom prst="rect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600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90920" y="3809880"/>
                <a:ext cx="30456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9548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20040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505320" y="3809880"/>
                <a:ext cx="304560" cy="304560"/>
              </a:xfrm>
              <a:prstGeom prst="rect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80988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1480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419720" y="3809880"/>
                <a:ext cx="30456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72428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02920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34120" y="3809880"/>
                <a:ext cx="30456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63868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94360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248520" y="3809880"/>
                <a:ext cx="30456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55308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858000" y="3809880"/>
                <a:ext cx="304920" cy="304560"/>
              </a:xfrm>
              <a:prstGeom prst="rect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62920" y="3809880"/>
                <a:ext cx="30456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6748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7240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077320" y="3809880"/>
                <a:ext cx="304560" cy="304560"/>
              </a:xfrm>
              <a:prstGeom prst="rect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38188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057400" y="4114800"/>
              <a:ext cx="502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N items, K of them mark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sult #3</a:t>
            </a:r>
            <a:br>
              <a:rPr sz="4000"/>
            </a:b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(Won’t say any more about this one)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447920"/>
            <a:ext cx="853416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mbaini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ppose Alice has x,y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Bob has a,b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They want to know whether y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x+b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-way quantum communication complexit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124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35053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8862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267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5029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1240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35053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38862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42670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50292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54100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3124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35053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4267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46483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5029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3124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46483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5029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5410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35053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38862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42670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46483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50292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54100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3124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35053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4267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46483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5029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3124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5053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4267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46483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46483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46483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35053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31240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5029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5791320"/>
            <a:ext cx="1447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ce’s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990720" y="472392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5791320"/>
            <a:ext cx="1066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b’s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590560" y="5105520"/>
            <a:ext cx="1522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3048120"/>
            <a:ext cx="52578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lice must se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log p) qubits to B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ed new “trace distance method” to show th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iously, even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andomiz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lexity was unkn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10:55Z</dcterms:created>
  <dc:creator>Scott Aaronson</dc:creator>
  <dc:description/>
  <dc:language>en-US</dc:language>
  <cp:lastModifiedBy>Scott Aaronson</cp:lastModifiedBy>
  <dcterms:modified xsi:type="dcterms:W3CDTF">2004-07-07T00:07:14Z</dcterms:modified>
  <cp:revision>34</cp:revision>
  <dc:subject/>
  <dc:title>Limitations of Quantum Advice and One-Way Communication</dc:title>
</cp:coreProperties>
</file>