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14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660-6017-4D34-B9E2-1C9F5DB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B40-5F28-46D8-869B-DDA1D2E3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E45-4971-40E7-96F5-D8BDBB6F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850-4266-400C-9867-3F1EACC9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E1E-E8CE-472D-BABB-2BB2FD54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F0F-1445-439A-B8DB-066C7BE5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B21-C180-46C2-AF27-53DB766D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D27-AD1C-43F1-AF32-BBC4FCE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2B5-DD05-4A88-903E-7A4A659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704-48BA-495C-8F14-83C05A5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56A-4083-4C23-A523-890CE21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3AF-CFE5-4CCC-A78C-8DD45E1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F919-99B6-4A37-B39A-644AB893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1300" t="34202" r="33749" b="43802"/>
          <a:stretch/>
        </p:blipFill>
        <p:spPr>
          <a:xfrm>
            <a:off x="5257800" y="2514600"/>
            <a:ext cx="2001960" cy="2209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imitations of Quantum Advice and One-Way Communic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8463" t="12742" r="23078" b="29732"/>
          <a:stretch/>
        </p:blipFill>
        <p:spPr>
          <a:xfrm>
            <a:off x="380880" y="2514600"/>
            <a:ext cx="20703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8280" y="3886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00400" y="2590920"/>
          <a:ext cx="13050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90920"/>
                    <a:ext cx="1305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248520" y="1905120"/>
            <a:ext cx="2590560" cy="914400"/>
          </a:xfrm>
          <a:prstGeom prst="cloudCallout">
            <a:avLst>
              <a:gd name="adj1" fmla="val -30513"/>
              <a:gd name="adj2" fmla="val 89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352680" y="4572000"/>
            <a:ext cx="5334120" cy="1714680"/>
            <a:chOff x="3352680" y="4572000"/>
            <a:chExt cx="5334120" cy="1714680"/>
          </a:xfrm>
        </p:grpSpPr>
        <p:sp>
          <p:nvSpPr>
            <p:cNvPr id="181" name=""/>
            <p:cNvSpPr/>
            <p:nvPr/>
          </p:nvSpPr>
          <p:spPr>
            <a:xfrm>
              <a:off x="3352680" y="4572000"/>
              <a:ext cx="5334120" cy="1702440"/>
            </a:xfrm>
            <a:prstGeom prst="rect">
              <a:avLst/>
            </a:prstGeom>
            <a:solidFill>
              <a:srgbClr val="ffe5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 after the measurement, we can recover a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’ such tha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4952880" y="5562720"/>
            <a:ext cx="251460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5562720"/>
                      <a:ext cx="25146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“Almost As Good As New” Lemma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1981080"/>
            <a:ext cx="4191120" cy="1921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a 2-outcome measurement of a mixed stat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ields ‘0’ w.p.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‘1’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1920" y="44344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1920" y="2029320"/>
            <a:ext cx="732600" cy="2405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1560" y="211788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1560" y="202932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) = O(m Q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) logQ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f)) for all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 : {0,1}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{0,1}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{0,1}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2514600"/>
            <a:ext cx="28958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15656" t="1787" r="13419" b="36633"/>
          <a:stretch/>
        </p:blipFill>
        <p:spPr>
          <a:xfrm>
            <a:off x="4876920" y="1828800"/>
            <a:ext cx="11937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190512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1905120"/>
            <a:ext cx="1676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514600"/>
            <a:ext cx="16002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220968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25909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909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429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ce can decrease the error probability to 1/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y sending K=O(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log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)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4495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can then compute f(x,y) for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of 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ultaneous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556272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no communication, he can still do that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9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362320" y="1523880"/>
          <a:ext cx="22096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209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2895480" y="1600200"/>
            <a:ext cx="167652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05120"/>
            <a:ext cx="990720" cy="533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696080" y="1752480"/>
            <a:ext cx="1219320" cy="2047320"/>
            <a:chOff x="7696080" y="1752480"/>
            <a:chExt cx="1219320" cy="2047320"/>
          </a:xfrm>
        </p:grpSpPr>
        <p:sp>
          <p:nvSpPr>
            <p:cNvPr id="208" name=""/>
            <p:cNvSpPr/>
            <p:nvPr/>
          </p:nvSpPr>
          <p:spPr>
            <a:xfrm>
              <a:off x="7696080" y="1752480"/>
              <a:ext cx="1219320" cy="20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(x,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(x,y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3000"/>
              </a:b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0556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556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05560" y="3276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057400" y="1523880"/>
            <a:ext cx="609480" cy="1905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 rot="21090000">
            <a:off x="2735640" y="150480"/>
            <a:ext cx="3351240" cy="2057400"/>
          </a:xfrm>
          <a:prstGeom prst="cloudCallout">
            <a:avLst>
              <a:gd name="adj1" fmla="val -19046"/>
              <a:gd name="adj2" fmla="val 57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maximally mixed sta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ice’s Classical Messag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1733760" cy="2009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09680" y="990720"/>
            <a:ext cx="6705720" cy="5638680"/>
          </a:xfrm>
          <a:prstGeom prst="wedgeRoundRectCallout">
            <a:avLst>
              <a:gd name="adj1" fmla="val -58523"/>
              <a:gd name="adj2" fmla="val 2021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be the probability you’d guess f(x,y)=1 using I in plac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y for which |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-f(x,y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reduced state assuming you guessed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orrectly.  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be the probability you’d guess f(x,y)=1 using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lac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irst y after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|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-f(x,y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5943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6172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6400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66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2952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5238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1752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209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5812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8098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038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3352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2895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6668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312408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1905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523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666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6858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ly Alice’s message lets Bob compute f(x,y) for any y in his r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981080"/>
            <a:ext cx="84582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ice never has to send more than K 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—so her total message length is O(m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276720"/>
            <a:ext cx="84582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not.  Then Bob would succeed on 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imultaneously with probabilit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already know he succeeds with probabilit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.9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ontradi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QP/qpoly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P/pol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219320"/>
            <a:ext cx="205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ce is the “advis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1752480"/>
            <a:ext cx="25146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5656" t="1787" r="13419" b="36633"/>
          <a:stretch/>
        </p:blipFill>
        <p:spPr>
          <a:xfrm>
            <a:off x="5791320" y="1066680"/>
            <a:ext cx="1193760" cy="1295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209680" y="114300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010280" y="990720"/>
            <a:ext cx="175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b is the PP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2666880"/>
            <a:ext cx="838188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quantum advice has p(n) qubits.  Then classical advice consists of K = O(p(n) log p(n))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n which algorithm would make the wrong guess using maximally mixed state in place of advice (as befo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dleman, DeMarrais, Hua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PP, we can decide which of two sequences of measurement outcomes has greater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63120" y="2987280"/>
            <a:ext cx="7968600" cy="4304880"/>
            <a:chOff x="663120" y="2987280"/>
            <a:chExt cx="7968600" cy="4304880"/>
          </a:xfrm>
        </p:grpSpPr>
        <p:sp>
          <p:nvSpPr>
            <p:cNvPr id="253" name=""/>
            <p:cNvSpPr/>
            <p:nvPr/>
          </p:nvSpPr>
          <p:spPr>
            <a:xfrm rot="403200">
              <a:off x="837720" y="3421080"/>
              <a:ext cx="7618680" cy="3436920"/>
            </a:xfrm>
            <a:prstGeom prst="irregularSeal2">
              <a:avLst/>
            </a:prstGeom>
            <a:solidFill>
              <a:srgbClr val="ffff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6800" y="4640400"/>
              <a:ext cx="4572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mproves earlier result: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BQP/qpoly </a:t>
              </a: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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EXP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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BQP</a:t>
            </a:r>
            <a:r>
              <a:rPr b="1" lang="en-US" sz="4400" spc="-1" strike="noStrike" baseline="30000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/qpol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4038480"/>
            <a:ext cx="82296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qpoly, then using boosted advice, we can find 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lements of S w.h.p. using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(n) quantum qu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7524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cl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(x)=1 iff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, where 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chosen uniformly at random subject to |S|=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7200" y="1219320"/>
            <a:ext cx="8229600" cy="304560"/>
            <a:chOff x="457200" y="1219320"/>
            <a:chExt cx="8229600" cy="304560"/>
          </a:xfrm>
        </p:grpSpPr>
        <p:sp>
          <p:nvSpPr>
            <p:cNvPr id="259" name=""/>
            <p:cNvSpPr/>
            <p:nvPr/>
          </p:nvSpPr>
          <p:spPr>
            <a:xfrm>
              <a:off x="4572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1080" y="12193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9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954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004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12193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98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97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242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92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485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21932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21932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674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7240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77320" y="1219320"/>
              <a:ext cx="30456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81880" y="121932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57200" y="2895480"/>
            <a:ext cx="83818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anguag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y,z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f there exists an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between y and z lexicographically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(clearly L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P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63868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replace advice by maximally mixed state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cess probability become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O(poly(n)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rect Product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06668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ow that with o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quantum queries, the probability of finding 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rked items must b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oub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xponentially small in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266688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eals et 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a quantum algorithm makes T queries to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the probability it accepts a random X with |X|=k is a univariate polynomial p(k) of degre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21080400">
            <a:off x="1469880" y="1474920"/>
            <a:ext cx="5690160" cy="642600"/>
          </a:xfrm>
          <a:prstGeom prst="rect">
            <a:avLst/>
          </a:prstGeom>
          <a:solidFill>
            <a:srgbClr val="ffffef"/>
          </a:solidFill>
          <a:ln w="572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NTUITIVELY PLAU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04920" y="4724280"/>
            <a:ext cx="8001000" cy="1755720"/>
            <a:chOff x="304920" y="4724280"/>
            <a:chExt cx="8001000" cy="1755720"/>
          </a:xfrm>
        </p:grpSpPr>
        <p:sp>
          <p:nvSpPr>
            <p:cNvPr id="293" name=""/>
            <p:cNvSpPr/>
            <p:nvPr/>
          </p:nvSpPr>
          <p:spPr>
            <a:xfrm>
              <a:off x="304920" y="50292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(k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7920" y="4876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447920" y="586728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55483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4724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24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860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195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26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62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197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528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864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99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30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2012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53280" y="5791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880" y="586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740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1800" y="57913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52880" y="592920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57913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4680" y="5867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00200" y="4915080"/>
              <a:ext cx="6689880" cy="723600"/>
            </a:xfrm>
            <a:custGeom>
              <a:avLst/>
              <a:gdLst/>
              <a:ahLst/>
              <a:rect l="l" t="t" r="r" b="b"/>
              <a:pathLst>
                <a:path w="4214" h="456">
                  <a:moveTo>
                    <a:pt x="0" y="456"/>
                  </a:moveTo>
                  <a:cubicBezTo>
                    <a:pt x="152" y="252"/>
                    <a:pt x="304" y="48"/>
                    <a:pt x="480" y="24"/>
                  </a:cubicBezTo>
                  <a:cubicBezTo>
                    <a:pt x="656" y="0"/>
                    <a:pt x="768" y="280"/>
                    <a:pt x="1056" y="312"/>
                  </a:cubicBezTo>
                  <a:cubicBezTo>
                    <a:pt x="1344" y="344"/>
                    <a:pt x="1848" y="200"/>
                    <a:pt x="2208" y="216"/>
                  </a:cubicBezTo>
                  <a:cubicBezTo>
                    <a:pt x="2568" y="232"/>
                    <a:pt x="2882" y="429"/>
                    <a:pt x="3216" y="408"/>
                  </a:cubicBezTo>
                  <a:cubicBezTo>
                    <a:pt x="3550" y="387"/>
                    <a:pt x="4006" y="156"/>
                    <a:pt x="4214" y="8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228600"/>
            <a:ext cx="81532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he algorithm accept iff it finds |S|=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rked items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p(k)=0 for all k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…,|S|–1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p(|S|)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O(poly(n)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3) p(k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0,1] for all k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…,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80880" y="3200400"/>
            <a:ext cx="8153280" cy="1755720"/>
            <a:chOff x="380880" y="3200400"/>
            <a:chExt cx="8153280" cy="1755720"/>
          </a:xfrm>
        </p:grpSpPr>
        <p:sp>
          <p:nvSpPr>
            <p:cNvPr id="321" name=""/>
            <p:cNvSpPr/>
            <p:nvPr/>
          </p:nvSpPr>
          <p:spPr>
            <a:xfrm>
              <a:off x="380880" y="350532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(k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3880" y="335304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523880" y="434340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8960" y="40244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896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84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19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86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21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288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623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58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90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56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9608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29240" y="4267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9840" y="4343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36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6688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7760" y="42674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28840" y="4405320"/>
              <a:ext cx="609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1840" y="42674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  .   .   .  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4343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1444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S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080" y="3273480"/>
              <a:ext cx="6935760" cy="1176480"/>
            </a:xfrm>
            <a:custGeom>
              <a:avLst/>
              <a:gdLst/>
              <a:ahLst/>
              <a:rect l="l" t="t" r="r" b="b"/>
              <a:pathLst>
                <a:path w="4369" h="741">
                  <a:moveTo>
                    <a:pt x="0" y="668"/>
                  </a:moveTo>
                  <a:cubicBezTo>
                    <a:pt x="255" y="669"/>
                    <a:pt x="1224" y="687"/>
                    <a:pt x="1537" y="674"/>
                  </a:cubicBezTo>
                  <a:cubicBezTo>
                    <a:pt x="1850" y="661"/>
                    <a:pt x="1756" y="662"/>
                    <a:pt x="1876" y="590"/>
                  </a:cubicBezTo>
                  <a:cubicBezTo>
                    <a:pt x="1996" y="518"/>
                    <a:pt x="2121" y="223"/>
                    <a:pt x="2257" y="242"/>
                  </a:cubicBezTo>
                  <a:cubicBezTo>
                    <a:pt x="2393" y="261"/>
                    <a:pt x="2513" y="741"/>
                    <a:pt x="2693" y="706"/>
                  </a:cubicBezTo>
                  <a:cubicBezTo>
                    <a:pt x="2873" y="671"/>
                    <a:pt x="3164" y="58"/>
                    <a:pt x="3339" y="29"/>
                  </a:cubicBezTo>
                  <a:cubicBezTo>
                    <a:pt x="3514" y="0"/>
                    <a:pt x="3573" y="526"/>
                    <a:pt x="3745" y="530"/>
                  </a:cubicBezTo>
                  <a:cubicBezTo>
                    <a:pt x="3917" y="534"/>
                    <a:pt x="4153" y="282"/>
                    <a:pt x="4369" y="5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67080" y="4038840"/>
              <a:ext cx="380880" cy="3808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57200" y="4876920"/>
            <a:ext cx="8305920" cy="1371600"/>
            <a:chOff x="457200" y="4876920"/>
            <a:chExt cx="8305920" cy="1371600"/>
          </a:xfrm>
        </p:grpSpPr>
        <p:sp>
          <p:nvSpPr>
            <p:cNvPr id="350" name=""/>
            <p:cNvSpPr/>
            <p:nvPr/>
          </p:nvSpPr>
          <p:spPr>
            <a:xfrm>
              <a:off x="457200" y="5258160"/>
              <a:ext cx="4952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Given the above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1" name=""/>
            <p:cNvGraphicFramePr/>
            <p:nvPr/>
          </p:nvGraphicFramePr>
          <p:xfrm>
            <a:off x="5334120" y="4876920"/>
            <a:ext cx="3429000" cy="13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4876920"/>
                      <a:ext cx="34290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3" name=""/>
          <p:cNvSpPr/>
          <p:nvPr/>
        </p:nvSpPr>
        <p:spPr>
          <a:xfrm>
            <a:off x="1295280" y="601992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(Improved by Klauck et al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09480" y="457200"/>
            <a:ext cx="815364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V.A. Markov (younger brother of A.A. Markov) showed in 1892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43434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d -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or all 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514600" y="304920"/>
          <a:ext cx="2895480" cy="12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920"/>
                    <a:ext cx="289548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905120" y="2666880"/>
          <a:ext cx="5391000" cy="14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666880"/>
                    <a:ext cx="539100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685800" y="52578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one can show by induction on m that 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O(poly(n)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m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Ques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6002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show BQP/pol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/qpoly relative to an orac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289548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bout SZK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/qpo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733920"/>
            <a:ext cx="815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randomized and quantum 1-way communication complexities polynomially related for all total Boolean functions?</a:t>
            </a:r>
            <a:br>
              <a:rPr sz="3000"/>
            </a:b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(No asymptotic gap is know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20329800">
            <a:off x="1067040" y="380520"/>
            <a:ext cx="914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cc3399"/>
                </a:solidFill>
                <a:latin typeface="Arial"/>
              </a:rPr>
              <a:t>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76400">
            <a:off x="7390800" y="304560"/>
            <a:ext cx="914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8837000">
            <a:off x="6828120" y="2468520"/>
            <a:ext cx="914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76400">
            <a:off x="7695360" y="4936680"/>
            <a:ext cx="914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Quantum State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1066680"/>
            <a:ext cx="8305560" cy="1419120"/>
            <a:chOff x="533520" y="1066680"/>
            <a:chExt cx="8305560" cy="1419120"/>
          </a:xfrm>
        </p:grpSpPr>
        <p:sp>
          <p:nvSpPr>
            <p:cNvPr id="51" name=""/>
            <p:cNvSpPr/>
            <p:nvPr/>
          </p:nvSpPr>
          <p:spPr>
            <a:xfrm>
              <a:off x="1752480" y="1066680"/>
              <a:ext cx="7086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o many quantum computing skeptics, they’re exponentially long vectors—and therefore a bad description of Natur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33520" y="1143000"/>
              <a:ext cx="97308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533520" y="2590920"/>
            <a:ext cx="8381880" cy="1419120"/>
            <a:chOff x="533520" y="2590920"/>
            <a:chExt cx="8381880" cy="1419120"/>
          </a:xfrm>
        </p:grpSpPr>
        <p:sp>
          <p:nvSpPr>
            <p:cNvPr id="54" name=""/>
            <p:cNvSpPr/>
            <p:nvPr/>
          </p:nvSpPr>
          <p:spPr>
            <a:xfrm>
              <a:off x="1752480" y="2590920"/>
              <a:ext cx="716292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Yet a classical probability distribution over {0,1}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also takes 2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(n)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bits to specify!</a:t>
              </a:r>
              <a:br>
                <a:rPr sz="2900"/>
              </a:br>
              <a:r>
                <a:rPr b="0" lang="en-US" sz="2900" spc="-1" strike="noStrike">
                  <a:solidFill>
                    <a:srgbClr val="008000"/>
                  </a:solidFill>
                  <a:latin typeface="Arial"/>
                </a:rPr>
                <a:t>“Sure, but each sample is only n bits…”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rcRect l="24001" t="10094" r="31201" b="16823"/>
            <a:stretch/>
          </p:blipFill>
          <p:spPr>
            <a:xfrm>
              <a:off x="533520" y="2743200"/>
              <a:ext cx="982440" cy="11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152280" y="4267080"/>
            <a:ext cx="8991720" cy="947160"/>
            <a:chOff x="152280" y="4267080"/>
            <a:chExt cx="8991720" cy="947160"/>
          </a:xfrm>
        </p:grpSpPr>
        <p:sp>
          <p:nvSpPr>
            <p:cNvPr id="57" name=""/>
            <p:cNvSpPr/>
            <p:nvPr/>
          </p:nvSpPr>
          <p:spPr>
            <a:xfrm>
              <a:off x="152280" y="4267080"/>
              <a:ext cx="2819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stributions over n-bit str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44956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bit string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8120" y="47242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819520" y="3886200"/>
            <a:ext cx="990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886200"/>
            <a:ext cx="990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334120"/>
            <a:ext cx="8610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 give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complexity-theoretic eviden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hat quantum states lie to the left end of this spec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upplements information-theoretic evidence (e.g. Hole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44 L 0.3625 0.0044 E">
                                      <p:cBhvr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267080"/>
            <a:ext cx="84582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lass of languages decidable by polynomial-size, bounded-error quantum circuits, given a polynomial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vic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143000"/>
            <a:ext cx="58676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ielsen &amp; Chua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know that many systems in Nature ‘prefer’ to sit in highly entangled states of many systems; might it be possible to exploit this preference to obtain extra computational pow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15685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9411" t="0" r="14116" b="0"/>
          <a:stretch/>
        </p:blipFill>
        <p:spPr>
          <a:xfrm>
            <a:off x="7421400" y="2133720"/>
            <a:ext cx="1486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 (Watrous)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371600"/>
            <a:ext cx="82296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ach n, fix a group 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subgroup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|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but group operations are polyti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Given an element x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G</a:t>
            </a:r>
            <a:r>
              <a:rPr b="1" lang="en-US" sz="30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 as input, is x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3505320"/>
            <a:ext cx="8229600" cy="2442600"/>
            <a:chOff x="457200" y="3505320"/>
            <a:chExt cx="8229600" cy="2442600"/>
          </a:xfrm>
        </p:grpSpPr>
        <p:sp>
          <p:nvSpPr>
            <p:cNvPr id="71" name=""/>
            <p:cNvSpPr/>
            <p:nvPr/>
          </p:nvSpPr>
          <p:spPr>
            <a:xfrm>
              <a:off x="457200" y="3505320"/>
              <a:ext cx="82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olvable in BQP/qpoly using the advice stat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2514600" y="4038480"/>
            <a:ext cx="3657600" cy="135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4038480"/>
                      <a:ext cx="365760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457200" y="5334120"/>
              <a:ext cx="82296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Check whether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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|x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is 1 or 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89320" y="2279520"/>
            <a:ext cx="6317640" cy="5075640"/>
            <a:chOff x="1489320" y="2279520"/>
            <a:chExt cx="6317640" cy="5075640"/>
          </a:xfrm>
        </p:grpSpPr>
        <p:sp>
          <p:nvSpPr>
            <p:cNvPr id="76" name=""/>
            <p:cNvSpPr/>
            <p:nvPr/>
          </p:nvSpPr>
          <p:spPr>
            <a:xfrm rot="1092600">
              <a:off x="1904760" y="3048120"/>
              <a:ext cx="5486400" cy="3538440"/>
            </a:xfrm>
            <a:prstGeom prst="irregularSeal2">
              <a:avLst/>
            </a:prstGeom>
            <a:solidFill>
              <a:srgbClr val="ffff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95840" y="4267080"/>
              <a:ext cx="2971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Not known to be in BQP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6483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be BQP/qpoly even contains NP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99072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bvious Challeng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ve an oracle separation between BQP/poly and BQP/qpo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362320"/>
            <a:ext cx="8305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Buhrma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y Scott—why not try for a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nrelativiz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paration?  After all, if quantum states are lik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bit classical strings, then maybe BQP/qpol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EEEEE/pol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5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 #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99072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BQP/qpoly </a:t>
            </a:r>
            <a:r>
              <a:rPr b="1" lang="en-US" sz="50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 PP/pol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86200"/>
            <a:ext cx="861048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of based on new communication result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(partial or total),</a:t>
            </a:r>
            <a:br>
              <a:rPr sz="2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D</a:t>
            </a:r>
            <a:r>
              <a:rPr b="1" lang="en-US" sz="3400" spc="-1" strike="noStrike" baseline="30000">
                <a:solidFill>
                  <a:srgbClr val="cc33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(f) = O(m Q</a:t>
            </a:r>
            <a:r>
              <a:rPr b="1" lang="en-US" sz="3400" spc="-1" strike="noStrike" baseline="30000">
                <a:solidFill>
                  <a:srgbClr val="cc33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(f) logQ</a:t>
            </a:r>
            <a:r>
              <a:rPr b="1" lang="en-US" sz="3400" spc="-1" strike="noStrike" baseline="30000">
                <a:solidFill>
                  <a:srgbClr val="cc3399"/>
                </a:solidFill>
                <a:latin typeface="Arial"/>
              </a:rPr>
              <a:t>1</a:t>
            </a:r>
            <a:r>
              <a:rPr b="1" lang="en-US" sz="3400" spc="-1" strike="noStrike">
                <a:solidFill>
                  <a:srgbClr val="cc3399"/>
                </a:solidFill>
                <a:latin typeface="Arial"/>
              </a:rPr>
              <a:t>(f)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deterministic 1-way communication complexity of 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= bounded-error quantum 1-way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0720" y="2005920"/>
            <a:ext cx="8092800" cy="2049120"/>
            <a:chOff x="450720" y="2005920"/>
            <a:chExt cx="8092800" cy="2049120"/>
          </a:xfrm>
        </p:grpSpPr>
        <p:sp>
          <p:nvSpPr>
            <p:cNvPr id="87" name=""/>
            <p:cNvSpPr/>
            <p:nvPr/>
          </p:nvSpPr>
          <p:spPr>
            <a:xfrm>
              <a:off x="1752480" y="2133720"/>
              <a:ext cx="541044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rollary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Can’t show BQP/poly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BQP/qpoly without also showing P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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P/pol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rot="20650800">
              <a:off x="609120" y="2133360"/>
              <a:ext cx="9493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rot="1275000">
              <a:off x="7391520" y="2133720"/>
              <a:ext cx="94932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 #2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99072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NP</a:t>
            </a:r>
            <a:r>
              <a:rPr b="1" lang="en-US" sz="5000" spc="-1" strike="noStrike" baseline="30000">
                <a:solidFill>
                  <a:srgbClr val="cc3399"/>
                </a:solidFill>
                <a:latin typeface="Arial"/>
              </a:rPr>
              <a:t>A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 BQP</a:t>
            </a:r>
            <a:r>
              <a:rPr b="1" lang="en-US" sz="5000" spc="-1" strike="noStrike" baseline="30000">
                <a:solidFill>
                  <a:srgbClr val="cc3399"/>
                </a:solidFill>
                <a:latin typeface="Arial"/>
              </a:rPr>
              <a:t>A</a:t>
            </a:r>
            <a:r>
              <a:rPr b="1" lang="en-US" sz="5000" spc="-1" strike="noStrike">
                <a:solidFill>
                  <a:srgbClr val="cc3399"/>
                </a:solidFill>
                <a:latin typeface="Arial"/>
              </a:rPr>
              <a:t>/qpoly</a:t>
            </a:r>
            <a:br>
              <a:rPr sz="5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ome oracle A (actually, a random orac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2514600"/>
            <a:ext cx="8381880" cy="3912120"/>
            <a:chOff x="304920" y="2514600"/>
            <a:chExt cx="8381880" cy="3912120"/>
          </a:xfrm>
        </p:grpSpPr>
        <p:sp>
          <p:nvSpPr>
            <p:cNvPr id="93" name=""/>
            <p:cNvSpPr/>
            <p:nvPr/>
          </p:nvSpPr>
          <p:spPr>
            <a:xfrm>
              <a:off x="304920" y="2514600"/>
              <a:ext cx="8381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roof based on new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Direct Product Theorem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for quantum search: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4724280"/>
              <a:ext cx="838188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heorem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With few (</a:t>
              </a:r>
              <a:r>
                <a:rPr b="0" lang="en-US" sz="3000" spc="-1" strike="noStrike">
                  <a:solidFill>
                    <a:srgbClr val="000000"/>
                  </a:solidFill>
                  <a:latin typeface="tci2"/>
                  <a:ea typeface="tci2"/>
                </a:rPr>
                <a:t>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) quantum queries, the probability of finding all K marked items is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(K)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ixes a wrong result of Klauc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57200" y="3809880"/>
              <a:ext cx="8229600" cy="304560"/>
              <a:chOff x="457200" y="3809880"/>
              <a:chExt cx="8229600" cy="304560"/>
            </a:xfrm>
          </p:grpSpPr>
          <p:sp>
            <p:nvSpPr>
              <p:cNvPr id="96" name=""/>
              <p:cNvSpPr/>
              <p:nvPr/>
            </p:nvSpPr>
            <p:spPr>
              <a:xfrm>
                <a:off x="4572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21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666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716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765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3809880"/>
                <a:ext cx="30492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60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09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954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004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05320" y="3809880"/>
                <a:ext cx="30456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098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197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242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292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41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386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436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85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30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58000" y="3809880"/>
                <a:ext cx="30492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3809880"/>
                <a:ext cx="30456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674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7240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77320" y="3809880"/>
                <a:ext cx="304560" cy="30456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1880" y="380988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057400" y="411480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N items, K of them mark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sult #3</a:t>
            </a:r>
            <a:br>
              <a:rPr sz="4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(Won’t say any more about this one)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447920"/>
            <a:ext cx="853416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mbaini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ppose Alice has x,y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ob has a,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hey want to know whether y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+b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way quantum communication complexit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88620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124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5053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42670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029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124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5410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5053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88620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267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46483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502920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410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4267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46483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3124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42670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648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46483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3886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50532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3124080"/>
            <a:ext cx="3812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5029200"/>
            <a:ext cx="380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54100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791320"/>
            <a:ext cx="144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ce’s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90720" y="472392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579132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’s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590560" y="5105520"/>
            <a:ext cx="1522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3048120"/>
            <a:ext cx="52578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ice must se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og p) qubits to B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ed new “trace distance method” to show t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ly, even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ndomiz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lexity was un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10:55Z</dcterms:created>
  <dc:creator>Scott Aaronson</dc:creator>
  <dc:description/>
  <dc:language>en-US</dc:language>
  <cp:lastModifiedBy>Scott Aaronson</cp:lastModifiedBy>
  <dcterms:modified xsi:type="dcterms:W3CDTF">2004-07-07T00:07:14Z</dcterms:modified>
  <cp:revision>34</cp:revision>
  <dc:subject/>
  <dc:title>Limitations of Quantum Advice and One-Way Communication</dc:title>
</cp:coreProperties>
</file>