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465-1002-4CCB-B131-8D7B382F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7F5-572A-4911-9B98-E89CD8F0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26E-1BBC-4F82-825D-22D6AA52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3C2-1AF6-4E8B-B10D-8FC48958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27A-55A3-4E6B-9732-D315E353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D55-D2A9-40F6-91C8-FB36F85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3E1-A4E5-4CD1-8AB2-3AF4EAD7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A81-D734-4368-869D-3B05FCA6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51C-B1A3-4A25-AD14-82471EBE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7D5-7320-4492-9DEA-AAF13A79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DBD-705C-4756-AB1E-312450E7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FEA-A904-487E-BE55-7638939D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84DD-9F26-401D-8795-8CA8708BC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dvice Co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PSPACE/coin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Class of problems solvable by a PSPACE machine that can flip an “advice coin” (heads with probability p, tails with probability 1-p) as many times as it wa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ear that PSPACE/poly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SPACE/co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irection?  Could PSPACE/coin=ALL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Hellman-Cover 1970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To distinguish a p=1/2 coin from a p=1/2+</a:t>
            </a:r>
            <a:r>
              <a:rPr b="0" lang="en-CA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coin with constant bias, you need a probabilistic finite automaton with </a:t>
            </a:r>
            <a:r>
              <a:rPr b="0" lang="en-CA" sz="31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CA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) st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.e. you can’t detect a less than 1/exp(n) change in p without more than poly(n) bits to record the statistics—regardless of how many times you flip the co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Seems to answer our question!  Except that it doesn’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First problem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p could be unbelievably small (1/Ackermann(n)), and info could be stored in log(1/p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Second problem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Hellman-Cover theorem is </a:t>
            </a:r>
            <a:r>
              <a:rPr b="0" i="1" lang="en-CA" sz="31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for quantum finite automata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 can give a QFA with 2 qubits that distinguishes p=1/2 from p=1/2+</a:t>
            </a:r>
            <a:r>
              <a:rPr b="0" lang="en-CA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CA" sz="31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So question stands: PSPACE/coin=ALL?  BQPSPACE/coin=ALL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Main Result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PSPACE/coin, BQPSPACE/coin are both contained in Something/po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ff0000"/>
                </a:solidFill>
                <a:latin typeface="Arial"/>
              </a:rPr>
              <a:t>Main Idea:</a:t>
            </a: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 Limiting distribution (or quantum state) of an s-state automaton can be expressed in terms of degree-s rational functions of p.  These can oscillate at most s times as p goes from 0 to 1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Need to count and compare roots of real polynomials.  If everything is doable in NC, then a PSPACE/poly upper bound follow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21:09:30Z</dcterms:created>
  <dc:creator>Scott Aaronson</dc:creator>
  <dc:description/>
  <dc:language>en-US</dc:language>
  <cp:lastModifiedBy>Scott Aaronson</cp:lastModifiedBy>
  <dcterms:modified xsi:type="dcterms:W3CDTF">2008-06-23T22:03:38Z</dcterms:modified>
  <cp:revision>4</cp:revision>
  <dc:subject/>
  <dc:title>Advice Coins</dc:title>
</cp:coreProperties>
</file>