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C8B1-607A-407E-8201-935AF9D6B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E390-0CA7-475A-99E1-C2113847B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36B5-4C03-4FB6-B3AA-DD6622B30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CE41-0E70-4FEE-9CF6-8A8EB87B8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D14A-94F6-4948-90B7-0F59B1634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A14B-2653-4999-939B-8E6C47449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4F07-8243-4523-AA7D-C7F3817B8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F104-9EE4-4C9A-8279-989572CC5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36BC-FB7A-4F18-AE95-D051BD7D8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AF50-F009-46E5-86AC-D87D380E6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9D53-F4C5-48F4-9E61-C1CCC63D2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25BC-8680-4117-81D9-60A6A45F5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7815F-4199-4AE3-916E-A524091EF7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Advice Co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tt Aaron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24000" y="764640"/>
            <a:ext cx="84960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Arial"/>
              </a:rPr>
              <a:t>PSPACE/coin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Class of problems solvable by a PSPACE machine that can flip an “advice coin” (heads with probability p, tails with probability 1-p) as many times as it wan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ear that PSPACE/poly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PSPACE/coi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ther direction?  Could PSPACE/coin=ALL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4960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100" spc="-1" strike="noStrike">
                <a:solidFill>
                  <a:srgbClr val="ff0000"/>
                </a:solidFill>
                <a:latin typeface="Arial"/>
              </a:rPr>
              <a:t>Hellman-Cover 1970:</a:t>
            </a:r>
            <a:r>
              <a:rPr b="0" lang="en-CA" sz="3100" spc="-1" strike="noStrike">
                <a:solidFill>
                  <a:srgbClr val="000000"/>
                </a:solidFill>
                <a:latin typeface="Arial"/>
              </a:rPr>
              <a:t> To distinguish a p=1/2 coin from a p=1/2+</a:t>
            </a:r>
            <a:r>
              <a:rPr b="0" lang="en-CA" sz="31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CA" sz="3100" spc="-1" strike="noStrike">
                <a:solidFill>
                  <a:srgbClr val="000000"/>
                </a:solidFill>
                <a:latin typeface="Arial"/>
              </a:rPr>
              <a:t> coin with constant bias, you need a probabilistic finite automaton with </a:t>
            </a:r>
            <a:r>
              <a:rPr b="0" lang="en-CA" sz="31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CA" sz="3100" spc="-1" strike="noStrike">
                <a:solidFill>
                  <a:srgbClr val="000000"/>
                </a:solidFill>
                <a:latin typeface="Arial"/>
              </a:rPr>
              <a:t>(1/</a:t>
            </a:r>
            <a:r>
              <a:rPr b="0" lang="en-CA" sz="31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CA" sz="3100" spc="-1" strike="noStrike">
                <a:solidFill>
                  <a:srgbClr val="000000"/>
                </a:solidFill>
                <a:latin typeface="Arial"/>
              </a:rPr>
              <a:t>) stat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000000"/>
                </a:solidFill>
                <a:latin typeface="Arial"/>
              </a:rPr>
              <a:t>I.e. you can’t detect a less than 1/exp(n) change in p without more than poly(n) bits to record the statistics—regardless of how many times you flip the coi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000000"/>
                </a:solidFill>
                <a:latin typeface="Arial"/>
              </a:rPr>
              <a:t>Seems to answer our question!  Except that it doesn’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4960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100" spc="-1" strike="noStrike">
                <a:solidFill>
                  <a:srgbClr val="ff0000"/>
                </a:solidFill>
                <a:latin typeface="Arial"/>
              </a:rPr>
              <a:t>First problem:</a:t>
            </a:r>
            <a:r>
              <a:rPr b="0" lang="en-CA" sz="3100" spc="-1" strike="noStrike">
                <a:solidFill>
                  <a:srgbClr val="000000"/>
                </a:solidFill>
                <a:latin typeface="Arial"/>
              </a:rPr>
              <a:t> p could be unbelievably small (1/Ackermann(n)), and info could be stored in log(1/p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7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100" spc="-1" strike="noStrike">
                <a:solidFill>
                  <a:srgbClr val="ff0000"/>
                </a:solidFill>
                <a:latin typeface="Arial"/>
              </a:rPr>
              <a:t>Second problem:</a:t>
            </a:r>
            <a:r>
              <a:rPr b="0" lang="en-CA" sz="3100" spc="-1" strike="noStrike">
                <a:solidFill>
                  <a:srgbClr val="000000"/>
                </a:solidFill>
                <a:latin typeface="Arial"/>
              </a:rPr>
              <a:t> Hellman-Cover theorem is </a:t>
            </a:r>
            <a:r>
              <a:rPr b="0" i="1" lang="en-CA" sz="31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en-CA" sz="3100" spc="-1" strike="noStrike">
                <a:solidFill>
                  <a:srgbClr val="000000"/>
                </a:solidFill>
                <a:latin typeface="Arial"/>
              </a:rPr>
              <a:t> for quantum finite automata!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000000"/>
                </a:solidFill>
                <a:latin typeface="Arial"/>
              </a:rPr>
              <a:t>I can give a QFA with 2 qubits that distinguishes p=1/2 from p=1/2+</a:t>
            </a:r>
            <a:r>
              <a:rPr b="0" lang="en-CA" sz="31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CA" sz="31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i="1" lang="en-CA" sz="31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CA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31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CA" sz="3100" spc="-1" strike="noStrike">
                <a:solidFill>
                  <a:srgbClr val="000000"/>
                </a:solidFill>
                <a:latin typeface="Arial"/>
              </a:rPr>
              <a:t>&gt;0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000000"/>
                </a:solidFill>
                <a:latin typeface="Arial"/>
              </a:rPr>
              <a:t>So question stands: PSPACE/coin=ALL?  BQPSPACE/coin=ALL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50920" y="404280"/>
            <a:ext cx="864216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100" spc="-1" strike="noStrike">
                <a:solidFill>
                  <a:srgbClr val="ff0000"/>
                </a:solidFill>
                <a:latin typeface="Arial"/>
              </a:rPr>
              <a:t>Main Result:</a:t>
            </a:r>
            <a:r>
              <a:rPr b="0" lang="en-CA" sz="3100" spc="-1" strike="noStrike">
                <a:solidFill>
                  <a:srgbClr val="000000"/>
                </a:solidFill>
                <a:latin typeface="Arial"/>
              </a:rPr>
              <a:t> PSPACE/coin, BQPSPACE/coin are both contained in Something/pol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100" spc="-1" strike="noStrike">
                <a:solidFill>
                  <a:srgbClr val="ff0000"/>
                </a:solidFill>
                <a:latin typeface="Arial"/>
              </a:rPr>
              <a:t>Main Idea:</a:t>
            </a:r>
            <a:r>
              <a:rPr b="0" lang="en-CA" sz="3100" spc="-1" strike="noStrike">
                <a:solidFill>
                  <a:srgbClr val="000000"/>
                </a:solidFill>
                <a:latin typeface="Arial"/>
              </a:rPr>
              <a:t> Limiting distribution (or quantum state) of an s-state automaton can be expressed in terms of degree-s rational functions of p.  These can oscillate at most s times as p goes from 0 to 1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000000"/>
                </a:solidFill>
                <a:latin typeface="Arial"/>
              </a:rPr>
              <a:t>Need to count and compare roots of real polynomials.  If everything is doable in NC, then a PSPACE/poly upper bound follow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3T21:09:30Z</dcterms:created>
  <dc:creator>Scott Aaronson</dc:creator>
  <dc:description/>
  <dc:language>en-US</dc:language>
  <cp:lastModifiedBy>Scott Aaronson</cp:lastModifiedBy>
  <dcterms:modified xsi:type="dcterms:W3CDTF">2008-06-23T22:03:38Z</dcterms:modified>
  <cp:revision>4</cp:revision>
  <dc:subject/>
  <dc:title>Advice Coins</dc:title>
</cp:coreProperties>
</file>