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6208-A09E-4AD0-8777-F7E19CDA6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5895-DD08-4BB0-AB5F-4FF06A23D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C395-73A1-44ED-A1D1-B1D1E8570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28F1-EEA7-4EE0-937A-A170EC7DD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8D76-59C7-4943-B3C8-C0B38461C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1ECD-7699-46D2-99D2-5E1F0B470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EC67-A906-4DED-9F68-9F5852D5A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A923-1F04-4958-BDA2-23E3B803A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D67C-AC1A-45AA-A1B8-665AB13FC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8786-DC90-4705-B601-5DD99A758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C941-AE70-4F64-BD1A-84FB093F4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25B7-6D38-4957-8495-FCE1E679F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DF98-1AF9-490A-A7AC-7B50D6398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AA97-3453-4119-99DC-F3531A347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5983-EF90-4123-8C4C-3A34BB8D6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BA43-418C-4E03-830A-81ABE50EE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A26F-4AF8-425B-84C2-1D7754EB9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802E-E24A-404D-959C-0234404A5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2EC1-EED6-4D12-8334-FD83BD987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3DA-1D5B-4F7F-8D34-1B9635DF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91C-5724-4199-8071-40561741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E9E-06F7-484F-86CE-B3D5E0C0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42E-394C-434D-A561-0CB5E48A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56D-B37D-4700-9410-5744DC42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4C8-D595-41BA-8C3D-8E5DEDBB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961-0DFA-4776-A349-87D2F38D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898-8955-44D1-A527-E455F24F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BF5-75AC-42A5-9F70-ECAEA527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386-7100-48D0-9DCF-62D1DCFA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6C9-8EDA-4B77-9DAD-D1FA8E10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802-7478-44D0-BC36-48F3FF2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69A1-132E-443F-9BBF-6C15C30EA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The Power of Quantum 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rew Dru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23856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od user\AppData\Local\Microsoft\Windows\Temporary Internet Files\Content.IE5\FU87NPSC\MCj03607880000[1].wmf"/>
          <p:cNvPicPr/>
          <p:nvPr/>
        </p:nvPicPr>
        <p:blipFill>
          <a:blip r:embed="rId2"/>
          <a:stretch/>
        </p:blipFill>
        <p:spPr>
          <a:xfrm>
            <a:off x="1981080" y="1828800"/>
            <a:ext cx="1998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jority-Certificates Le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80880" y="3352680"/>
            <a:ext cx="838224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Lemm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S be a set of Boolean functions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, and let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  Then there exist m=O(n)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each of size k=O(log|S|),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eac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is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all i, then 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)=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 for all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80880" y="1371600"/>
            <a:ext cx="8382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Definitions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ertific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a partial Boolean function C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,*}.  A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i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consist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C, if f(x)=C(x) whenever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  Th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C is the number of inputs x such that C(x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symmetry, we can assume f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all-0 function.  Consider a two-player, zero-sum matrix ga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09880" y="2971800"/>
            <a:ext cx="1828800" cy="18288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eft Brace 8"/>
          <p:cNvSpPr/>
          <p:nvPr/>
        </p:nvSpPr>
        <p:spPr>
          <a:xfrm>
            <a:off x="3200400" y="297180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0" y="3200400"/>
            <a:ext cx="32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picks a certificate C of size k consistent with some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eft Brace 11"/>
          <p:cNvSpPr/>
          <p:nvPr/>
        </p:nvSpPr>
        <p:spPr>
          <a:xfrm rot="5400000">
            <a:off x="4495680" y="175248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1828800"/>
              <a:gd name="textAreaBottom" fmla="*/ 181692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876920" y="2133720"/>
            <a:ext cx="380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ob picks an input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457200" y="5105520"/>
            <a:ext cx="777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ce wins this game if f(x)=0 for all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consistent with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457200" y="579132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Crucial Claim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lice has a mixed strategy that lets her win &gt;90% of the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685800" y="2514600"/>
            <a:ext cx="7696080" cy="2536920"/>
          </a:xfrm>
          <a:prstGeom prst="rect">
            <a:avLst/>
          </a:prstGeom>
          <a:solidFill>
            <a:srgbClr val="edf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lemma follows from this claim!  Just choose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Alice’s winning distribution.  Then by a Chernoff bound, almost certainly MAJ(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x))=0 for all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and all inputs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So clearly ther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exis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this proper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of of Cl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45720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the Minimax Theorem!  Given a distribution D over x, it’s enough to create a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fix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ertificate C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66680" y="1905120"/>
                <a:ext cx="690264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∃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consistent with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16"/>
          <p:cNvSpPr/>
          <p:nvPr/>
        </p:nvSpPr>
        <p:spPr>
          <a:xfrm>
            <a:off x="457200" y="3124080"/>
            <a:ext cx="838188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Stage 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hoose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ndependently from D, for some t=O(log|S|).  Then with high probability, requiring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…=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0 kills off every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276720" y="4267080"/>
                <a:ext cx="25146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Text Box 16"/>
          <p:cNvSpPr/>
          <p:nvPr/>
        </p:nvSpPr>
        <p:spPr>
          <a:xfrm>
            <a:off x="457200" y="5334120"/>
            <a:ext cx="83818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Stage II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peatedly add a constraint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=b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at kills at least half the remaining functions.  After ≤ lo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|S| iterations, we’ll have winnowed S down to just a single function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7620120" y="6248520"/>
            <a:ext cx="304560" cy="30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" y="22860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Lifting” the Lemma to Quantumlan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00200" y="1143000"/>
          <a:ext cx="6248520" cy="185436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olean Majority-Certif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QP/qpoly=YQP/poly  Pro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Boolean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p(n)-qubit mix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function f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advice state 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st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 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ement 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04920" y="3200400"/>
          <a:ext cx="8686800" cy="3479760"/>
        </p:xfrm>
        <a:graphic>
          <a:graphicData uri="http://schemas.openxmlformats.org/drawingml/2006/table">
            <a:tbl>
              <a:tblPr/>
              <a:tblGrid>
                <a:gridCol w="4576680"/>
                <a:gridCol w="411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Diffi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lass of p(n)-qubit quantum states is infinitely large!  And even if we discretize it, it’s still doubly-exponentially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of A.’06 on learnability of quantum states (building on Ambainis et al. 19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ead of Boolean functions f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0,1}, now we hav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0,1] representing the expectatio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theory has tools to deal with this: fat-shattering dimension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overs… (Alon et al. 19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do we verify a quantum witness without destroying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Aharonov &amp; Regev 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f a certificate asks us to verify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≤a, but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is “right at the knife-edge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 Winnowing Lemm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6"/>
          <p:cNvSpPr/>
          <p:nvPr/>
        </p:nvSpPr>
        <p:spPr>
          <a:xfrm>
            <a:off x="457200" y="304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457200" y="990720"/>
            <a:ext cx="83818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Proof Sketch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immediate.  For the other direction, let L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Let M be a quantum algorithm that decides L using advice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Def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2590920" y="2286000"/>
                <a:ext cx="3886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ρ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ccept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Text Box 16"/>
          <p:cNvSpPr/>
          <p:nvPr/>
        </p:nvSpPr>
        <p:spPr>
          <a:xfrm>
            <a:off x="457200" y="2895480"/>
            <a:ext cx="838188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t S = {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}.  Then S has “fat-shattering dimension” at most poly(n), by A.’06.  So we can apply a real analogue of the Majority-Certificates Lemma to S.  This yields certificates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for some m=poly(n)), such that any states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spectively satisf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981080" y="4876920"/>
                <a:ext cx="542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⟩</m:t>
                            </m:r>
                            <m:r>
                              <m:t xml:space="preserve">⟨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 Box 16"/>
          <p:cNvSpPr/>
          <p:nvPr/>
        </p:nvSpPr>
        <p:spPr>
          <a:xfrm>
            <a:off x="457200" y="5867280"/>
            <a:ext cx="84582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all x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regardless of entanglement).  To check the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s, we use the “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+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per-verifier” of Aharonov &amp; Rege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omised Application to “Physic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380880" y="175248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rthermore, in their reduction, the witness is a “history state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80880" y="5029200"/>
            <a:ext cx="8382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 given any language L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we can use the Kitaev et al. reduction to get a local Hamiltonian H whose unique ground state i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We can then us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recover th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nd thereby decide 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80880" y="121932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Kitaev et al., we know LOCAL HAMILTONIANS is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2770200" y="2209680"/>
                <a:ext cx="33163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Φ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6" name="Text Box 16"/>
          <p:cNvSpPr/>
          <p:nvPr/>
        </p:nvSpPr>
        <p:spPr>
          <a:xfrm>
            <a:off x="457200" y="3352680"/>
            <a:ext cx="838188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asuring this state yields the original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1/poly(n)) probability.  Henc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an be recovered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3200400" y="4267080"/>
                <a:ext cx="270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Φ</m:t>
                    </m:r>
                    <m:r>
                      <m:t xml:space="preserve">'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Φ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Karp-Lipt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380880" y="182880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r quantum analogu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80880" y="12193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Karp-Lipton 1982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380880" y="3124080"/>
            <a:ext cx="838224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Proof Ide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ment has the form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 R(x,y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y the hypothesis and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re exists an advice string s, such that any quantum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s lets us solv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roblems (and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ch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consistent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first guess an s that’s consistent with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 Then use the oracle to search for an x and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ch that, if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consistent with s, then R(x,Q(x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) holds, where Q is a quantum algorithm that searches for a y such that R(x,y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 Theory of Isola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838080" y="2971800"/>
            <a:ext cx="784872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Which classes of functions C are “isolatable”—in the sense that for any f</a:t>
            </a:r>
            <a:r>
              <a:rPr b="0" lang="en-US" sz="2500" spc="-1" strike="noStrike">
                <a:solidFill>
                  <a:srgbClr val="00b05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, one can give a small number of conditions such that any f</a:t>
            </a:r>
            <a:r>
              <a:rPr b="0" lang="en-US" sz="2500" spc="-1" strike="noStrike" baseline="-25000">
                <a:solidFill>
                  <a:srgbClr val="00b05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,…,f</a:t>
            </a:r>
            <a:r>
              <a:rPr b="0" lang="en-US" sz="2500" spc="-1" strike="noStrike" baseline="-25000">
                <a:solidFill>
                  <a:srgbClr val="00b05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b05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 satisfying the conditions can be used to compute f efficiently on all inpu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380880" y="114300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can generalize the majority-certificates idea well beyond what we have any application f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380880" y="4800600"/>
            <a:ext cx="8382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other application of the Majority-Certificates Lemma: it substantially simplifies the proof that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SPACE/coi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380880" y="213372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 study the following abstract question, inspired by computational learning theor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04920" y="1447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3520" y="441972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SPACE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533520" y="2438280"/>
            <a:ext cx="838188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nd other applications of the majority-certificates techn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rcuit complexity?  Communication complexity?  Learning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ory?  Quantum inform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533520" y="380988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s the dependence on n, log|S|, and 1/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ptim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533520" y="510552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ve a classical oracle separation betwe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" y="4572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though this work closes off a chapter in the quantum advice story, there are sti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reeze-Dried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80880" y="358128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Motivating Ques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How much useful computational work can one “store” in a quantum state, for later retriev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80880" y="464832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quantum states are exponentially large objects, then possibly a huge amount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80880" y="5638680"/>
            <a:ext cx="853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et we also know that quantum states have no more “general-purpose storage capacity” than classical strings of the same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ast of 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80880" y="1295280"/>
            <a:ext cx="8458200" cy="28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class of problems solvable in quantum polynomial time, with the help of polynomial-size “quantum advice states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ormally: a language L is in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  <a:ea typeface="Arial"/>
              </a:rPr>
              <a:t>BQP/qpo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if there exists a polynomial time quantum algorithm A, as well as quantum advice states {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}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on poly(n) qubits, such that for every input x of size n, A(x,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) decides whether or not 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L with error probability at most 1/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62920" y="4267080"/>
            <a:ext cx="1647720" cy="1752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80880" y="4191120"/>
            <a:ext cx="6858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“Yoda Quantum Polynomial-Time”) is the same, except we also require that for every alleged advice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(x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outputs either the right answer or “FAIL” with probability at least 2/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6"/>
          <p:cNvSpPr/>
          <p:nvPr/>
        </p:nvSpPr>
        <p:spPr>
          <a:xfrm>
            <a:off x="914400" y="91440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Watrous 2000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any fixed, finit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black-box grou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subgroup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≤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eciding membership in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br>
              <a:rPr sz="2500"/>
            </a:b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quantum advice state is just an equal superposition |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v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lements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don’t know how to solve the same problem in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914400" y="4191120"/>
            <a:ext cx="784872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4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ostBQP/poly 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can be simulated by classical advice, combined with postselection on unlikely measuremen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914400" y="5410080"/>
            <a:ext cx="792468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6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sted quantum advice can be simulat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 mos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by trusted classical advice combined with untrusted quantum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914400" y="27432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-Kuperberg 2007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ere exists a “quantum oracle” separating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52280" y="304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QUANTUM ADVICE IS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2280" y="3657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NO IT 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New Result: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33520" y="1295280"/>
            <a:ext cx="8381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usted quantum advice is equivalent in power to trusted classical advice combined with untrusted quantum advic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“Quantum states never need to be trusted”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457200" y="3276720"/>
            <a:ext cx="83818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iven an n-qubit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parameters m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re exists a local Hamiltonian H on poly(n,m,1/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qubits (e.g., a sum of 2-qubit interactions) for which the following hold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ground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H, and any binary measurement E 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erformed by a circuit with ≤m gates, there’s an efficient measurement f(E) that we can perform on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2286000" y="5867280"/>
                <a:ext cx="4334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⟨</m:t>
                        </m:r>
                        <m:r>
                          <m:t xml:space="preserve">ψ</m:t>
                        </m:r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  <m:r>
                          <m:t xml:space="preserve">|</m:t>
                        </m:r>
                        <m:r>
                          <m:t xml:space="preserve">ψ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 Box 16"/>
          <p:cNvSpPr/>
          <p:nvPr/>
        </p:nvSpPr>
        <p:spPr>
          <a:xfrm>
            <a:off x="304920" y="2666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R THE PHYSIC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80880" y="129528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paring quantum advice states is no harder than preparing ground states of local Hamiltoni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1447920" y="2286000"/>
            <a:ext cx="7238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xplains a once-mysterious relationship between quantum proofs and quantum advice: efficient preparability of ground states would imply both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380880" y="4038480"/>
            <a:ext cx="8305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en-US" sz="2500" spc="-1" strike="noStrike">
                <a:solidFill>
                  <a:srgbClr val="c00000"/>
                </a:solidFill>
                <a:latin typeface="Calibri"/>
              </a:rPr>
              <a:t>Quantum Karp-Lipton Theorem”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complete problems are not efficiently solvable using quantum advice, unless some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unifor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mplexity classes collapse unexpected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80880" y="5486400"/>
            <a:ext cx="861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CMA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classical proofs and quantum advice can be simulated with quantum proofs and classical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9"/>
          <p:cNvGrpSpPr/>
          <p:nvPr/>
        </p:nvGrpSpPr>
        <p:grpSpPr>
          <a:xfrm>
            <a:off x="1828800" y="609480"/>
            <a:ext cx="5105520" cy="5809320"/>
            <a:chOff x="1828800" y="609480"/>
            <a:chExt cx="5105520" cy="5809320"/>
          </a:xfrm>
        </p:grpSpPr>
        <p:sp>
          <p:nvSpPr>
            <p:cNvPr id="78" name="TextBox 40"/>
            <p:cNvSpPr/>
            <p:nvPr/>
          </p:nvSpPr>
          <p:spPr>
            <a:xfrm>
              <a:off x="3962520" y="60199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41"/>
            <p:cNvSpPr/>
            <p:nvPr/>
          </p:nvSpPr>
          <p:spPr>
            <a:xfrm>
              <a:off x="3962520" y="51055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Q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2"/>
            <p:cNvSpPr/>
            <p:nvPr/>
          </p:nvSpPr>
          <p:spPr>
            <a:xfrm>
              <a:off x="5715360" y="51055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43"/>
            <p:cNvSpPr/>
            <p:nvPr/>
          </p:nvSpPr>
          <p:spPr>
            <a:xfrm>
              <a:off x="1828800" y="51055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4"/>
            <p:cNvSpPr/>
            <p:nvPr/>
          </p:nvSpPr>
          <p:spPr>
            <a:xfrm>
              <a:off x="1828800" y="388620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QP/qpoly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=YQ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45"/>
            <p:cNvSpPr/>
            <p:nvPr/>
          </p:nvSpPr>
          <p:spPr>
            <a:xfrm>
              <a:off x="3581280" y="4038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46"/>
            <p:cNvSpPr/>
            <p:nvPr/>
          </p:nvSpPr>
          <p:spPr>
            <a:xfrm>
              <a:off x="5791320" y="40384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47"/>
            <p:cNvSpPr/>
            <p:nvPr/>
          </p:nvSpPr>
          <p:spPr>
            <a:xfrm>
              <a:off x="2666880" y="30477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CMA/q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8"/>
            <p:cNvSpPr/>
            <p:nvPr/>
          </p:nvSpPr>
          <p:spPr>
            <a:xfrm>
              <a:off x="3809880" y="23619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50"/>
            <p:cNvSpPr/>
            <p:nvPr/>
          </p:nvSpPr>
          <p:spPr>
            <a:xfrm>
              <a:off x="5791320" y="23619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51"/>
            <p:cNvSpPr/>
            <p:nvPr/>
          </p:nvSpPr>
          <p:spPr>
            <a:xfrm>
              <a:off x="5105520" y="14475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53"/>
            <p:cNvSpPr/>
            <p:nvPr/>
          </p:nvSpPr>
          <p:spPr>
            <a:xfrm>
              <a:off x="2743200" y="14475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MA/q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54"/>
            <p:cNvSpPr/>
            <p:nvPr/>
          </p:nvSpPr>
          <p:spPr>
            <a:xfrm>
              <a:off x="3733920" y="609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SPACE/po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19"/>
            <p:cNvSpPr/>
            <p:nvPr/>
          </p:nvSpPr>
          <p:spPr>
            <a:xfrm>
              <a:off x="5029200" y="99036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traight Connector 20"/>
            <p:cNvSpPr/>
            <p:nvPr/>
          </p:nvSpPr>
          <p:spPr>
            <a:xfrm flipH="1">
              <a:off x="3657600" y="990360"/>
              <a:ext cx="457200" cy="45720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traight Connector 21"/>
            <p:cNvSpPr/>
            <p:nvPr/>
          </p:nvSpPr>
          <p:spPr>
            <a:xfrm>
              <a:off x="2895480" y="5486400"/>
              <a:ext cx="121896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traight Connector 22"/>
            <p:cNvSpPr/>
            <p:nvPr/>
          </p:nvSpPr>
          <p:spPr>
            <a:xfrm flipH="1">
              <a:off x="4800600" y="5485680"/>
              <a:ext cx="129528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23"/>
            <p:cNvSpPr/>
            <p:nvPr/>
          </p:nvSpPr>
          <p:spPr>
            <a:xfrm flipH="1">
              <a:off x="4494240" y="5507280"/>
              <a:ext cx="2880" cy="51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24"/>
            <p:cNvSpPr/>
            <p:nvPr/>
          </p:nvSpPr>
          <p:spPr>
            <a:xfrm>
              <a:off x="2666880" y="4594320"/>
              <a:ext cx="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25"/>
            <p:cNvSpPr/>
            <p:nvPr/>
          </p:nvSpPr>
          <p:spPr>
            <a:xfrm>
              <a:off x="6324840" y="44388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26"/>
            <p:cNvSpPr/>
            <p:nvPr/>
          </p:nvSpPr>
          <p:spPr>
            <a:xfrm>
              <a:off x="3276720" y="4495680"/>
              <a:ext cx="914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traight Connector 27"/>
            <p:cNvSpPr/>
            <p:nvPr/>
          </p:nvSpPr>
          <p:spPr>
            <a:xfrm>
              <a:off x="4876920" y="4419720"/>
              <a:ext cx="11430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traight Connector 28"/>
            <p:cNvSpPr/>
            <p:nvPr/>
          </p:nvSpPr>
          <p:spPr>
            <a:xfrm flipH="1">
              <a:off x="4724640" y="4419720"/>
              <a:ext cx="137160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traight Connector 29"/>
            <p:cNvSpPr/>
            <p:nvPr/>
          </p:nvSpPr>
          <p:spPr>
            <a:xfrm flipH="1">
              <a:off x="2971800" y="4419000"/>
              <a:ext cx="12189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traight Connector 30"/>
            <p:cNvSpPr/>
            <p:nvPr/>
          </p:nvSpPr>
          <p:spPr>
            <a:xfrm>
              <a:off x="6324840" y="2762280"/>
              <a:ext cx="0" cy="125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traight Connector 31"/>
            <p:cNvSpPr/>
            <p:nvPr/>
          </p:nvSpPr>
          <p:spPr>
            <a:xfrm>
              <a:off x="3886200" y="3429000"/>
              <a:ext cx="4572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traight Connector 32"/>
            <p:cNvSpPr/>
            <p:nvPr/>
          </p:nvSpPr>
          <p:spPr>
            <a:xfrm flipH="1">
              <a:off x="4724640" y="2743200"/>
              <a:ext cx="1440" cy="133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33"/>
            <p:cNvSpPr/>
            <p:nvPr/>
          </p:nvSpPr>
          <p:spPr>
            <a:xfrm>
              <a:off x="3657600" y="1847520"/>
              <a:ext cx="761760" cy="51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34"/>
            <p:cNvSpPr/>
            <p:nvPr/>
          </p:nvSpPr>
          <p:spPr>
            <a:xfrm flipH="1">
              <a:off x="5028840" y="1847520"/>
              <a:ext cx="609480" cy="51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35"/>
            <p:cNvSpPr/>
            <p:nvPr/>
          </p:nvSpPr>
          <p:spPr>
            <a:xfrm flipH="1">
              <a:off x="3809880" y="2742480"/>
              <a:ext cx="457200" cy="36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6"/>
            <p:cNvSpPr/>
            <p:nvPr/>
          </p:nvSpPr>
          <p:spPr>
            <a:xfrm flipH="1">
              <a:off x="2666880" y="3428280"/>
              <a:ext cx="45720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37"/>
            <p:cNvSpPr/>
            <p:nvPr/>
          </p:nvSpPr>
          <p:spPr>
            <a:xfrm>
              <a:off x="5943960" y="1828440"/>
              <a:ext cx="3808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38"/>
            <p:cNvSpPr/>
            <p:nvPr/>
          </p:nvSpPr>
          <p:spPr>
            <a:xfrm>
              <a:off x="5181840" y="2743200"/>
              <a:ext cx="91440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54"/>
          <p:cNvSpPr/>
          <p:nvPr/>
        </p:nvSpPr>
        <p:spPr>
          <a:xfrm>
            <a:off x="2819520" y="91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A.’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4"/>
          <p:cNvSpPr/>
          <p:nvPr/>
        </p:nvSpPr>
        <p:spPr>
          <a:xfrm>
            <a:off x="457200" y="2514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41"/>
          <p:cNvCxnSpPr>
            <a:stCxn id="112" idx="3"/>
          </p:cNvCxnSpPr>
          <p:nvPr/>
        </p:nvCxnSpPr>
        <p:spPr>
          <a:xfrm>
            <a:off x="1752120" y="2714760"/>
            <a:ext cx="2057760" cy="18144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lg" type="arrow" w="lg"/>
          </a:ln>
        </p:spPr>
      </p:cxnSp>
      <p:cxnSp>
        <p:nvCxnSpPr>
          <p:cNvPr id="114" name="Straight Arrow Connector 44"/>
          <p:cNvCxnSpPr/>
          <p:nvPr/>
        </p:nvCxnSpPr>
        <p:spPr>
          <a:xfrm>
            <a:off x="1066680" y="2971800"/>
            <a:ext cx="915120" cy="137232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60"/>
          <p:cNvSpPr/>
          <p:nvPr/>
        </p:nvSpPr>
        <p:spPr>
          <a:xfrm>
            <a:off x="7010280" y="5562720"/>
            <a:ext cx="2133720" cy="1295280"/>
          </a:xfrm>
          <a:prstGeom prst="rect">
            <a:avLst/>
          </a:prstGeom>
          <a:solidFill>
            <a:srgbClr val="edf59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1447920" y="18288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1"/>
          <p:cNvSpPr/>
          <p:nvPr/>
        </p:nvSpPr>
        <p:spPr>
          <a:xfrm>
            <a:off x="1295280" y="3429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l 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3"/>
          <p:cNvSpPr/>
          <p:nvPr/>
        </p:nvSpPr>
        <p:spPr>
          <a:xfrm>
            <a:off x="1981080" y="380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Learning (Bshouty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4"/>
          <p:cNvSpPr/>
          <p:nvPr/>
        </p:nvSpPr>
        <p:spPr>
          <a:xfrm>
            <a:off x="380880" y="457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Minimax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8"/>
          <p:cNvSpPr/>
          <p:nvPr/>
        </p:nvSpPr>
        <p:spPr>
          <a:xfrm>
            <a:off x="0" y="19810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fe Winnowing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6858000" y="152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Holevo’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3"/>
          <p:cNvSpPr/>
          <p:nvPr/>
        </p:nvSpPr>
        <p:spPr>
          <a:xfrm>
            <a:off x="6858000" y="9907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dom Access Code Lower Bound (Ambainis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1"/>
          <p:cNvSpPr/>
          <p:nvPr/>
        </p:nvSpPr>
        <p:spPr>
          <a:xfrm>
            <a:off x="3962520" y="51055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1"/>
          <p:cNvSpPr/>
          <p:nvPr/>
        </p:nvSpPr>
        <p:spPr>
          <a:xfrm>
            <a:off x="5029200" y="42670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1"/>
          <p:cNvSpPr/>
          <p:nvPr/>
        </p:nvSpPr>
        <p:spPr>
          <a:xfrm>
            <a:off x="3200400" y="60199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no harder than ground state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6705720" y="23623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t-Shattering Bound 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3"/>
          <p:cNvSpPr/>
          <p:nvPr/>
        </p:nvSpPr>
        <p:spPr>
          <a:xfrm>
            <a:off x="4114800" y="457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ing Lemma (Alon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3"/>
          <p:cNvSpPr/>
          <p:nvPr/>
        </p:nvSpPr>
        <p:spPr>
          <a:xfrm>
            <a:off x="4038480" y="167652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ing of p-Concept Classes (Bartlett &amp;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1"/>
          <p:cNvSpPr/>
          <p:nvPr/>
        </p:nvSpPr>
        <p:spPr>
          <a:xfrm>
            <a:off x="533520" y="51814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HAMILTONIANS is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Kita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Cook-Levin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53"/>
          <p:cNvCxnSpPr/>
          <p:nvPr/>
        </p:nvCxnSpPr>
        <p:spPr>
          <a:xfrm>
            <a:off x="1066680" y="2971800"/>
            <a:ext cx="6105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2" name="Straight Arrow Connector 55"/>
          <p:cNvCxnSpPr/>
          <p:nvPr/>
        </p:nvCxnSpPr>
        <p:spPr>
          <a:xfrm>
            <a:off x="1295280" y="1142640"/>
            <a:ext cx="534240" cy="6865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3" name="Straight Arrow Connector 61"/>
          <p:cNvCxnSpPr/>
          <p:nvPr/>
        </p:nvCxnSpPr>
        <p:spPr>
          <a:xfrm flipH="1">
            <a:off x="3047760" y="1066680"/>
            <a:ext cx="1372320" cy="24390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4" name="Straight Arrow Connector 64"/>
          <p:cNvCxnSpPr>
            <a:endCxn id="128" idx="0"/>
          </p:cNvCxnSpPr>
          <p:nvPr/>
        </p:nvCxnSpPr>
        <p:spPr>
          <a:xfrm flipH="1">
            <a:off x="5028840" y="1143000"/>
            <a:ext cx="21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5" name="Straight Arrow Connector 70"/>
          <p:cNvCxnSpPr/>
          <p:nvPr/>
        </p:nvCxnSpPr>
        <p:spPr>
          <a:xfrm flipH="1">
            <a:off x="3276360" y="2666880"/>
            <a:ext cx="91512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6" name="Straight Arrow Connector 75"/>
          <p:cNvCxnSpPr>
            <a:stCxn id="128" idx="2"/>
          </p:cNvCxnSpPr>
          <p:nvPr/>
        </p:nvCxnSpPr>
        <p:spPr>
          <a:xfrm>
            <a:off x="5028120" y="2692440"/>
            <a:ext cx="153000" cy="165168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7" name="Straight Arrow Connector 77"/>
          <p:cNvCxnSpPr/>
          <p:nvPr/>
        </p:nvCxnSpPr>
        <p:spPr>
          <a:xfrm flipH="1">
            <a:off x="7999200" y="3049200"/>
            <a:ext cx="3600" cy="12200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8" name="Straight Arrow Connector 80"/>
          <p:cNvCxnSpPr/>
          <p:nvPr/>
        </p:nvCxnSpPr>
        <p:spPr>
          <a:xfrm flipH="1">
            <a:off x="8000640" y="53352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39" name="Straight Arrow Connector 81"/>
          <p:cNvCxnSpPr/>
          <p:nvPr/>
        </p:nvCxnSpPr>
        <p:spPr>
          <a:xfrm flipH="1">
            <a:off x="8000640" y="198108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40" name="Straight Arrow Connector 83"/>
          <p:cNvCxnSpPr>
            <a:endCxn id="125" idx="0"/>
          </p:cNvCxnSpPr>
          <p:nvPr/>
        </p:nvCxnSpPr>
        <p:spPr>
          <a:xfrm flipH="1">
            <a:off x="4876560" y="5486400"/>
            <a:ext cx="30528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41" name="Straight Arrow Connector 86"/>
          <p:cNvCxnSpPr/>
          <p:nvPr/>
        </p:nvCxnSpPr>
        <p:spPr>
          <a:xfrm>
            <a:off x="2742840" y="5715000"/>
            <a:ext cx="61020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42" name="Straight Arrow Connector 94"/>
          <p:cNvCxnSpPr/>
          <p:nvPr/>
        </p:nvCxnSpPr>
        <p:spPr>
          <a:xfrm>
            <a:off x="3504240" y="4038480"/>
            <a:ext cx="106740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43" name="Straight Arrow Connector 98"/>
          <p:cNvCxnSpPr>
            <a:stCxn id="118" idx="2"/>
          </p:cNvCxnSpPr>
          <p:nvPr/>
        </p:nvCxnSpPr>
        <p:spPr>
          <a:xfrm flipH="1">
            <a:off x="2514240" y="1088640"/>
            <a:ext cx="381600" cy="8168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44" name="Straight Arrow Connector 102"/>
          <p:cNvCxnSpPr/>
          <p:nvPr/>
        </p:nvCxnSpPr>
        <p:spPr>
          <a:xfrm flipH="1">
            <a:off x="2284200" y="2820600"/>
            <a:ext cx="3600" cy="68652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45" name="Straight Arrow Connector 104"/>
          <p:cNvCxnSpPr/>
          <p:nvPr/>
        </p:nvCxnSpPr>
        <p:spPr>
          <a:xfrm>
            <a:off x="1599120" y="4724280"/>
            <a:ext cx="15300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46" name="Straight Arrow Connector 109"/>
          <p:cNvCxnSpPr/>
          <p:nvPr/>
        </p:nvCxnSpPr>
        <p:spPr>
          <a:xfrm flipH="1">
            <a:off x="6019560" y="4647960"/>
            <a:ext cx="2160" cy="53388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147" name="TextBox 51"/>
          <p:cNvSpPr/>
          <p:nvPr/>
        </p:nvSpPr>
        <p:spPr>
          <a:xfrm>
            <a:off x="5334120" y="32004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haronov &amp; Re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136"/>
          <p:cNvCxnSpPr/>
          <p:nvPr/>
        </p:nvCxnSpPr>
        <p:spPr>
          <a:xfrm flipH="1">
            <a:off x="6476760" y="388620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49" name="Straight Arrow Connector 147"/>
          <p:cNvCxnSpPr/>
          <p:nvPr/>
        </p:nvCxnSpPr>
        <p:spPr>
          <a:xfrm flipH="1">
            <a:off x="7238160" y="5791320"/>
            <a:ext cx="2520" cy="3816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cxnSp>
        <p:nvCxnSpPr>
          <p:cNvPr id="150" name="Straight Arrow Connector 150"/>
          <p:cNvCxnSpPr/>
          <p:nvPr/>
        </p:nvCxnSpPr>
        <p:spPr>
          <a:xfrm flipH="1">
            <a:off x="7236720" y="6326280"/>
            <a:ext cx="3960" cy="38160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151" name="TextBox 51"/>
          <p:cNvSpPr/>
          <p:nvPr/>
        </p:nvSpPr>
        <p:spPr>
          <a:xfrm>
            <a:off x="731520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a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1"/>
          <p:cNvSpPr/>
          <p:nvPr/>
        </p:nvSpPr>
        <p:spPr>
          <a:xfrm>
            <a:off x="7315200" y="6248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65"/>
          <p:cNvSpPr/>
          <p:nvPr/>
        </p:nvSpPr>
        <p:spPr>
          <a:xfrm>
            <a:off x="1447920" y="1600200"/>
            <a:ext cx="16002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6"/>
          <p:cNvSpPr/>
          <p:nvPr/>
        </p:nvSpPr>
        <p:spPr>
          <a:xfrm>
            <a:off x="380880" y="2133720"/>
            <a:ext cx="83822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computes some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belonging to a “small” set S (meaning, of size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  Someone wants to prove to us that f equals (say) the all-0 function, by having us check a polynomial number of outputs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…,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80880" y="3049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Intui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e’re given a black box (think: quantum stat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be 8"/>
          <p:cNvSpPr/>
          <p:nvPr/>
        </p:nvSpPr>
        <p:spPr>
          <a:xfrm>
            <a:off x="3809880" y="9144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809880" y="1219320"/>
            <a:ext cx="838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10"/>
          <p:cNvCxnSpPr/>
          <p:nvPr/>
        </p:nvCxnSpPr>
        <p:spPr>
          <a:xfrm>
            <a:off x="28191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sp>
        <p:nvSpPr>
          <p:cNvPr id="159" name="Text Box 16"/>
          <p:cNvSpPr/>
          <p:nvPr/>
        </p:nvSpPr>
        <p:spPr>
          <a:xfrm>
            <a:off x="2438280" y="12952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traight Arrow Connector 14"/>
          <p:cNvCxnSpPr/>
          <p:nvPr/>
        </p:nvCxnSpPr>
        <p:spPr>
          <a:xfrm>
            <a:off x="48765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lg" type="arrow" w="lg"/>
          </a:ln>
        </p:spPr>
      </p:cxnSp>
      <p:sp>
        <p:nvSpPr>
          <p:cNvPr id="161" name="Text Box 16"/>
          <p:cNvSpPr/>
          <p:nvPr/>
        </p:nvSpPr>
        <p:spPr>
          <a:xfrm>
            <a:off x="5791320" y="129528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f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380880" y="3962520"/>
            <a:ext cx="358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is trivially impossib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343400" y="4419720"/>
          <a:ext cx="4495680" cy="2225520"/>
        </p:xfrm>
        <a:graphic>
          <a:graphicData uri="http://schemas.openxmlformats.org/drawingml/2006/table">
            <a:tbl>
              <a:tblPr/>
              <a:tblGrid>
                <a:gridCol w="642960"/>
                <a:gridCol w="641160"/>
                <a:gridCol w="642960"/>
                <a:gridCol w="641520"/>
                <a:gridCol w="642960"/>
                <a:gridCol w="641160"/>
                <a:gridCol w="6429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16"/>
          <p:cNvSpPr/>
          <p:nvPr/>
        </p:nvSpPr>
        <p:spPr>
          <a:xfrm>
            <a:off x="380880" y="4572000"/>
            <a:ext cx="381024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t … what if we get </a:t>
            </a:r>
            <a:r>
              <a:rPr b="1" lang="en-US" sz="3000" spc="-1" strike="noStrike">
                <a:solidFill>
                  <a:srgbClr val="c0504d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lack boxes, and are allowed to simulate f=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y taking the point-wise MAJORITY of their outpu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20"/>
          <p:cNvCxnSpPr/>
          <p:nvPr/>
        </p:nvCxnSpPr>
        <p:spPr>
          <a:xfrm flipH="1">
            <a:off x="5331600" y="3887640"/>
            <a:ext cx="39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66" name="Straight Arrow Connector 22"/>
          <p:cNvCxnSpPr/>
          <p:nvPr/>
        </p:nvCxnSpPr>
        <p:spPr>
          <a:xfrm flipH="1">
            <a:off x="59432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67" name="Straight Arrow Connector 23"/>
          <p:cNvCxnSpPr/>
          <p:nvPr/>
        </p:nvCxnSpPr>
        <p:spPr>
          <a:xfrm flipH="1">
            <a:off x="66290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cxnSp>
        <p:nvCxnSpPr>
          <p:cNvPr id="168" name="Straight Arrow Connector 24"/>
          <p:cNvCxnSpPr/>
          <p:nvPr/>
        </p:nvCxnSpPr>
        <p:spPr>
          <a:xfrm flipH="1">
            <a:off x="7238160" y="3886200"/>
            <a:ext cx="252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lg" type="arrow" w="lg"/>
          </a:ln>
        </p:spPr>
      </p:cxnSp>
      <p:sp>
        <p:nvSpPr>
          <p:cNvPr id="169" name="Oval 25"/>
          <p:cNvSpPr/>
          <p:nvPr/>
        </p:nvSpPr>
        <p:spPr>
          <a:xfrm>
            <a:off x="5638680" y="4800600"/>
            <a:ext cx="60984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6"/>
          <p:cNvSpPr/>
          <p:nvPr/>
        </p:nvSpPr>
        <p:spPr>
          <a:xfrm>
            <a:off x="6248520" y="5181480"/>
            <a:ext cx="609480" cy="381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7"/>
          <p:cNvSpPr/>
          <p:nvPr/>
        </p:nvSpPr>
        <p:spPr>
          <a:xfrm>
            <a:off x="6934320" y="5562720"/>
            <a:ext cx="60948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3:57:14Z</dcterms:created>
  <dc:creator>Scott Aaronson</dc:creator>
  <dc:description/>
  <dc:language>en-US</dc:language>
  <cp:lastModifiedBy>Scott Aaronson</cp:lastModifiedBy>
  <dcterms:modified xsi:type="dcterms:W3CDTF">2009-04-08T14:27:55Z</dcterms:modified>
  <cp:revision>26</cp:revision>
  <dc:subject/>
  <dc:title>The Power of Quantum Advice</dc:title>
</cp:coreProperties>
</file>