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3F9-B2A7-4F1C-8B10-D4393A264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A85-E8D0-4D54-ABC4-6FCC144D6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5BB-A639-443E-A73A-7F6E300D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320A-F168-4CAC-8D32-3F5D799BC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E7B-466D-4838-9071-E79ECB276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ECA-CC8F-4633-887A-6F278E5F6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869F-FBCD-420D-A0AE-B4C607E7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9DA-E660-4CA3-821A-02C68553C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F56-DD70-49F2-9C12-70B7664E6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E77-1B2A-4B4B-A528-0D65BA6C1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9FC-FDF9-413F-999F-35C5EC902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F778-9D83-4FFB-89A9-772A75F27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5BA-D2FE-455E-95CA-9977CFFB9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963-E33D-4B75-AA45-73BCFF138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A07E-951A-442C-AF50-705178A4F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D11-C86B-44CC-9F7F-9B7524EDD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E53F-7C17-4BA0-BBC7-6761B0C77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003-206C-4D6E-95AB-AA98A350B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42A7-A168-499B-83CB-C7140519D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242-8BCA-44C0-B4F5-2D859709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CB7-E6C3-4BED-BB98-3B09A9D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347-97E9-4657-BA5F-15F31515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F6A-3B07-4CFA-9039-A5C83461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195-0FAA-46AB-86BD-58EDEAB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263-EC99-4498-A78B-22344A2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39F-2455-4E3C-B537-3AE59802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5BD-0805-4E48-B681-A650AB41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A85-8236-4984-8CD3-F1F51D2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750-149C-4DCC-84B6-9521349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C58-FB39-415E-940F-EFC7277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FBE-B956-4631-94BC-4367C91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B57-A2F0-46E9-9F81-F6E830FAC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The Power of Quantum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80880" y="3352680"/>
            <a:ext cx="838224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ll i, then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 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620120" y="6248520"/>
            <a:ext cx="3045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57200" y="990720"/>
            <a:ext cx="8381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mmediate.  For the other direction,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590920" y="228600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Text Box 16"/>
          <p:cNvSpPr/>
          <p:nvPr/>
        </p:nvSpPr>
        <p:spPr>
          <a:xfrm>
            <a:off x="457200" y="289548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“fat-shattering dimension” at most poly(n), by A.’06.  So we can apply a real analogue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981080" y="4876920"/>
                <a:ext cx="542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16"/>
          <p:cNvSpPr/>
          <p:nvPr/>
        </p:nvSpPr>
        <p:spPr>
          <a:xfrm>
            <a:off x="457200" y="586728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mised Application to “Physic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80880" y="17524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in their reduction, the witness is a “history stat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0880" y="50292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given any language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e can use the Kitaev et al. reduction to get a local Hamiltonian H whose unique ground state i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We can the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recover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thereby decide 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80880" y="1219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Kitaev et al., we know LOCAL HAMILTONIANS is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2770200" y="2209680"/>
                <a:ext cx="3316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Text Box 16"/>
          <p:cNvSpPr/>
          <p:nvPr/>
        </p:nvSpPr>
        <p:spPr>
          <a:xfrm>
            <a:off x="457200" y="3352680"/>
            <a:ext cx="8381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asuring this state yields the original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/poly(n)) probability.  Henc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an be recovered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3200400" y="4267080"/>
                <a:ext cx="270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Φ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80880" y="3124080"/>
            <a:ext cx="83822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 has the form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the hypothesis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n advice string s, such that any quantum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s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roblems (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n s that’s consistent wit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Then use the oracle to search for an x an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, i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s, then R(x,Q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) holds, where Q is a quantum algorithm that searches for a y such that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 Theory of Isola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838080" y="2971800"/>
            <a:ext cx="784872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Which classes of functions C are “isolatable”—in the sense that for any f</a:t>
            </a:r>
            <a:r>
              <a:rPr b="0" lang="en-US" sz="25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, one can give a small number of conditions such that any f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 satisfying the conditions can be used to compute f efficiently on all in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380880" y="114300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can generalize the majority-certificates idea well beyond what we have any application 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380880" y="4800600"/>
            <a:ext cx="8382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other application of the Majority-Certificates Lemma: it substantially simplifies the proof tha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80880" y="21337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study the following abstract question, inspired by computational learning theor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04920" y="1447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3520" y="44197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33520" y="2438280"/>
            <a:ext cx="83818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nd other applications of the majority-certificates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rcuit complexity?  Communication complexity?  Learning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ory?  Quantum inform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33520" y="380988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dependence on n, log|S|, and 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ptim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533520" y="51055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e a classical oracle separation betwe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4572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hough this work closes off a chapter in the quantum advice story, there are sti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880" y="35812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a quantum state, for later retriev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80880" y="4648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quantum states are exponentially large objects, then possibly a huge amoun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880" y="56386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et we also know that quantum states have no more “general-purpose storage capacity” than classical strings of the sam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st of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0880" y="12952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647720" cy="175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80880" y="419112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lack-box grou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57200" y="3276720"/>
            <a:ext cx="83818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parameters m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 (e.g., a sum of 2-qubit interactions) for which the following hold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any binary measurement E 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erformed by a circuit with ≤m gates, there’s an efficient measurement f(E) that we can perform on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286000" y="5867280"/>
                <a:ext cx="4334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16"/>
          <p:cNvSpPr/>
          <p:nvPr/>
        </p:nvSpPr>
        <p:spPr>
          <a:xfrm>
            <a:off x="304920" y="2666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R THE PHYS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paring quantum advice states is no harder than preparing ground states of local Hamilton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447920" y="228600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xplains a once-mysterious relationship between quantum proofs and quantum advice: efficient preparability of ground states would imply both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80880" y="40384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 unexpected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80880" y="54864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classical proofs and quantum advice can be simulated with quantum proofs and classical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9"/>
          <p:cNvGrpSpPr/>
          <p:nvPr/>
        </p:nvGrpSpPr>
        <p:grpSpPr>
          <a:xfrm>
            <a:off x="1828800" y="609480"/>
            <a:ext cx="5105520" cy="5809320"/>
            <a:chOff x="1828800" y="609480"/>
            <a:chExt cx="5105520" cy="5809320"/>
          </a:xfrm>
        </p:grpSpPr>
        <p:sp>
          <p:nvSpPr>
            <p:cNvPr id="78" name="TextBox 40"/>
            <p:cNvSpPr/>
            <p:nvPr/>
          </p:nvSpPr>
          <p:spPr>
            <a:xfrm>
              <a:off x="3962520" y="6019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41"/>
            <p:cNvSpPr/>
            <p:nvPr/>
          </p:nvSpPr>
          <p:spPr>
            <a:xfrm>
              <a:off x="3962520" y="51055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2"/>
            <p:cNvSpPr/>
            <p:nvPr/>
          </p:nvSpPr>
          <p:spPr>
            <a:xfrm>
              <a:off x="5715360" y="51055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43"/>
            <p:cNvSpPr/>
            <p:nvPr/>
          </p:nvSpPr>
          <p:spPr>
            <a:xfrm>
              <a:off x="182880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828800" y="388620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qpol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=Y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5"/>
            <p:cNvSpPr/>
            <p:nvPr/>
          </p:nvSpPr>
          <p:spPr>
            <a:xfrm>
              <a:off x="358128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6"/>
            <p:cNvSpPr/>
            <p:nvPr/>
          </p:nvSpPr>
          <p:spPr>
            <a:xfrm>
              <a:off x="5791320" y="4038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7"/>
            <p:cNvSpPr/>
            <p:nvPr/>
          </p:nvSpPr>
          <p:spPr>
            <a:xfrm>
              <a:off x="2666880" y="30477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8"/>
            <p:cNvSpPr/>
            <p:nvPr/>
          </p:nvSpPr>
          <p:spPr>
            <a:xfrm>
              <a:off x="3809880" y="236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50"/>
            <p:cNvSpPr/>
            <p:nvPr/>
          </p:nvSpPr>
          <p:spPr>
            <a:xfrm>
              <a:off x="5791320" y="2361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51"/>
            <p:cNvSpPr/>
            <p:nvPr/>
          </p:nvSpPr>
          <p:spPr>
            <a:xfrm>
              <a:off x="5105520" y="1447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3"/>
            <p:cNvSpPr/>
            <p:nvPr/>
          </p:nvSpPr>
          <p:spPr>
            <a:xfrm>
              <a:off x="2743200" y="1447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4"/>
            <p:cNvSpPr/>
            <p:nvPr/>
          </p:nvSpPr>
          <p:spPr>
            <a:xfrm>
              <a:off x="3733920" y="609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SPACE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19"/>
            <p:cNvSpPr/>
            <p:nvPr/>
          </p:nvSpPr>
          <p:spPr>
            <a:xfrm>
              <a:off x="5029200" y="9903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20"/>
            <p:cNvSpPr/>
            <p:nvPr/>
          </p:nvSpPr>
          <p:spPr>
            <a:xfrm flipH="1">
              <a:off x="3657600" y="990360"/>
              <a:ext cx="457200" cy="4572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21"/>
            <p:cNvSpPr/>
            <p:nvPr/>
          </p:nvSpPr>
          <p:spPr>
            <a:xfrm>
              <a:off x="2895480" y="5486400"/>
              <a:ext cx="12189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22"/>
            <p:cNvSpPr/>
            <p:nvPr/>
          </p:nvSpPr>
          <p:spPr>
            <a:xfrm flipH="1">
              <a:off x="4800600" y="5485680"/>
              <a:ext cx="1295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23"/>
            <p:cNvSpPr/>
            <p:nvPr/>
          </p:nvSpPr>
          <p:spPr>
            <a:xfrm flipH="1">
              <a:off x="4494240" y="5507280"/>
              <a:ext cx="2880" cy="51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24"/>
            <p:cNvSpPr/>
            <p:nvPr/>
          </p:nvSpPr>
          <p:spPr>
            <a:xfrm>
              <a:off x="2666880" y="459432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25"/>
            <p:cNvSpPr/>
            <p:nvPr/>
          </p:nvSpPr>
          <p:spPr>
            <a:xfrm>
              <a:off x="6324840" y="4438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26"/>
            <p:cNvSpPr/>
            <p:nvPr/>
          </p:nvSpPr>
          <p:spPr>
            <a:xfrm>
              <a:off x="3276720" y="4495680"/>
              <a:ext cx="914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27"/>
            <p:cNvSpPr/>
            <p:nvPr/>
          </p:nvSpPr>
          <p:spPr>
            <a:xfrm>
              <a:off x="4876920" y="4419720"/>
              <a:ext cx="1143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28"/>
            <p:cNvSpPr/>
            <p:nvPr/>
          </p:nvSpPr>
          <p:spPr>
            <a:xfrm flipH="1">
              <a:off x="4724640" y="4419720"/>
              <a:ext cx="13716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29"/>
            <p:cNvSpPr/>
            <p:nvPr/>
          </p:nvSpPr>
          <p:spPr>
            <a:xfrm flipH="1">
              <a:off x="2971800" y="4419000"/>
              <a:ext cx="12189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30"/>
            <p:cNvSpPr/>
            <p:nvPr/>
          </p:nvSpPr>
          <p:spPr>
            <a:xfrm>
              <a:off x="6324840" y="2762280"/>
              <a:ext cx="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31"/>
            <p:cNvSpPr/>
            <p:nvPr/>
          </p:nvSpPr>
          <p:spPr>
            <a:xfrm>
              <a:off x="3886200" y="3429000"/>
              <a:ext cx="4572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32"/>
            <p:cNvSpPr/>
            <p:nvPr/>
          </p:nvSpPr>
          <p:spPr>
            <a:xfrm flipH="1">
              <a:off x="4724640" y="2743200"/>
              <a:ext cx="1440" cy="13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33"/>
            <p:cNvSpPr/>
            <p:nvPr/>
          </p:nvSpPr>
          <p:spPr>
            <a:xfrm>
              <a:off x="3657600" y="1847520"/>
              <a:ext cx="76176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34"/>
            <p:cNvSpPr/>
            <p:nvPr/>
          </p:nvSpPr>
          <p:spPr>
            <a:xfrm flipH="1">
              <a:off x="5028840" y="1847520"/>
              <a:ext cx="60948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5"/>
            <p:cNvSpPr/>
            <p:nvPr/>
          </p:nvSpPr>
          <p:spPr>
            <a:xfrm flipH="1">
              <a:off x="3809880" y="2742480"/>
              <a:ext cx="4572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6"/>
            <p:cNvSpPr/>
            <p:nvPr/>
          </p:nvSpPr>
          <p:spPr>
            <a:xfrm flipH="1">
              <a:off x="2666880" y="3428280"/>
              <a:ext cx="45720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37"/>
            <p:cNvSpPr/>
            <p:nvPr/>
          </p:nvSpPr>
          <p:spPr>
            <a:xfrm>
              <a:off x="5943960" y="1828440"/>
              <a:ext cx="3808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38"/>
            <p:cNvSpPr/>
            <p:nvPr/>
          </p:nvSpPr>
          <p:spPr>
            <a:xfrm>
              <a:off x="5181840" y="2743200"/>
              <a:ext cx="91440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54"/>
          <p:cNvSpPr/>
          <p:nvPr/>
        </p:nvSpPr>
        <p:spPr>
          <a:xfrm>
            <a:off x="281952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.’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4"/>
          <p:cNvSpPr/>
          <p:nvPr/>
        </p:nvSpPr>
        <p:spPr>
          <a:xfrm>
            <a:off x="4572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1"/>
          <p:cNvCxnSpPr>
            <a:stCxn id="112" idx="3"/>
          </p:cNvCxnSpPr>
          <p:nvPr/>
        </p:nvCxnSpPr>
        <p:spPr>
          <a:xfrm>
            <a:off x="1752120" y="2714760"/>
            <a:ext cx="2057760" cy="18144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  <p:cxnSp>
        <p:nvCxnSpPr>
          <p:cNvPr id="114" name="Straight Arrow Connector 44"/>
          <p:cNvCxnSpPr/>
          <p:nvPr/>
        </p:nvCxnSpPr>
        <p:spPr>
          <a:xfrm>
            <a:off x="1066680" y="2971800"/>
            <a:ext cx="915120" cy="137232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2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3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4" name="Straight Arrow Connector 64"/>
          <p:cNvCxnSpPr>
            <a:endCxn id="128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5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6" name="Straight Arrow Connector 75"/>
          <p:cNvCxnSpPr>
            <a:stCxn id="128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7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8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9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0" name="Straight Arrow Connector 83"/>
          <p:cNvCxnSpPr>
            <a:endCxn id="125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1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2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3" name="Straight Arrow Connector 98"/>
          <p:cNvCxnSpPr>
            <a:stCxn id="118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4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5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6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47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9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50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51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159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161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6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7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8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69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09-04-08T14:27:55Z</dcterms:modified>
  <cp:revision>26</cp:revision>
  <dc:subject/>
  <dc:title>The Power of Quantum Advice</dc:title>
</cp:coreProperties>
</file>