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29.jpeg" ContentType="image/jpeg"/>
  <Override PartName="/ppt/media/image13.wmf" ContentType="image/x-wmf"/>
  <Override PartName="/ppt/media/image12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32.png" ContentType="image/png"/>
  <Override PartName="/ppt/media/image8.wmf" ContentType="image/x-wmf"/>
  <Override PartName="/ppt/media/image33.jpeg" ContentType="image/jpeg"/>
  <Override PartName="/ppt/media/image34.png" ContentType="image/png"/>
  <Override PartName="/ppt/media/image30.jpeg" ContentType="image/jpeg"/>
  <Override PartName="/ppt/media/image7.wmf" ContentType="image/x-wmf"/>
  <Override PartName="/ppt/media/image26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media/image5.jpeg" ContentType="image/jpeg"/>
  <Override PartName="/ppt/media/image4.wmf" ContentType="image/x-wmf"/>
  <Override PartName="/ppt/media/image27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CFC6-5751-496E-8D62-76BE4B6CD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1D7-EC1E-416E-A32F-3A98D5342C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C09F-B692-4F81-80BB-7D69418379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DDB3-4D5B-48EF-BAC7-D19BE16F21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E13B-1B70-455B-A651-9AA20D1BD42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 FAST GO FAST GO FAST   Thanks so much for inviting me to this beautiful plac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C94-208A-45CF-AAA9-43BA9E73C5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B58-EFF5-4CFB-8BED-0BFE9DA93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19C2-69F6-4801-83E0-2B377E77E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C9D-FDD9-4BA2-96A5-932E82AC1E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8F17-DA58-4C0B-80B5-EC258B5893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3442-1675-48D3-BF90-A8192F8EFB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A553-84EA-42E1-A704-3C6A312BBA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D3C-02E4-4B36-8EF4-3F9F03FEE5F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C45C-5FF7-4170-B37C-52E6A08577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D52-B789-4F3F-8A65-7B7E98A8DA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30A2-6781-434B-BF51-64CDE3F263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396-4511-4ADB-88C9-C4F09002CD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0C2-C5D0-4780-A4FA-5A2421A1DD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9E76-04B8-48FC-808E-304E58B4FF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971-2F73-4549-B1D5-A9E7550C65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619-72EC-4ECA-BED4-F6A985497D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258D-CA3A-4256-9ACC-B01A66FAB6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AB5-A7C1-43F3-BC00-D7D0E1242C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1805-0EE0-4F0D-8331-3A36A93741B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5A8-6487-493B-9936-25D0BF93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265-65F5-49F8-A871-65CD1122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FFD-AFB6-4E14-88B3-99EF7619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19A-5923-4B39-ACC2-41CE60C6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5B9-DF60-4AE8-8B9F-83B72C86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E2C8-723D-4866-9EDF-8E2ED41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A1E4-0714-4FD9-9C4C-2C95F171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C075-29AC-4FCD-82BE-D473A998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A8C6-AAB7-4C72-82CE-32D1D6FC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6A19-E7A4-4CD9-9121-D103D5D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27B9-A252-4407-B66C-83669F5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9BC-8AF7-43B6-AEEF-0AF0A0D3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99D0-0BA0-428B-BB7E-0393442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8BB5-CF0C-4135-8044-A84284F4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48E-6864-421A-860D-EEB46A9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AE6E-4BB7-438E-B677-EE1E4A93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387-A725-42AB-9F14-26FB9B4A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F16E-959A-48E8-958B-4FA88472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4CA1-CB1A-4288-BBDC-14C0C56E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37D77-C601-4A1A-B1A4-330B1CB8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E8D6-840D-4B86-96F3-F823BBC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677F-B2C7-4139-AF23-67962907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71F-2120-448B-90F0-3EC433D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A3E9-892A-4A3B-8A58-E96E9F63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DD0E-54F5-4466-B8E3-6A5E4FD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3841-8939-4740-8995-BEC2B06E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9528-EE25-4138-8E9C-357E9EB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C045-3F21-4B98-A022-D5851EB9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C391-0686-4827-9806-B08EEB9C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FA2B-C538-442A-A07D-69A2DD87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B06-705F-4694-B463-88AD5EF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D12-93CC-4E9F-895A-051F8A12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737-EEDF-4E54-B991-8A4AE6D9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0CC-B42F-4BB4-9E89-3DDC920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096-EA9C-40A9-8E8C-10243A2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BE4-00F5-432F-AD4F-62C0D454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ED1-7BB8-47B4-B936-9F22F4E43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413-9FB9-454B-BA74-FC8DADEE7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A79-2A42-42EF-9D23-5B9DB3C12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83F-7617-46F3-928C-B07EF84AAF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BC7-575A-448B-9160-778CEA404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4038480" y="343080"/>
            <a:ext cx="512136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econd Bonus Talk: Theoretical Foundations of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(Added, of course, because of the leaked news that Google has apparently achieved th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-495360" y="326880"/>
            <a:ext cx="9407520" cy="4854600"/>
            <a:chOff x="-495360" y="326880"/>
            <a:chExt cx="9407520" cy="4854600"/>
          </a:xfrm>
        </p:grpSpPr>
        <p:pic>
          <p:nvPicPr>
            <p:cNvPr id="132" name="Picture 7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-495360" y="2638440"/>
              <a:ext cx="906804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"/>
            <p:cNvPicPr/>
            <p:nvPr/>
          </p:nvPicPr>
          <p:blipFill>
            <a:blip r:embed="rId2"/>
            <a:stretch/>
          </p:blipFill>
          <p:spPr>
            <a:xfrm>
              <a:off x="214920" y="2752920"/>
              <a:ext cx="723924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Subtitle 2"/>
            <p:cNvSpPr/>
            <p:nvPr/>
          </p:nvSpPr>
          <p:spPr>
            <a:xfrm>
              <a:off x="225360" y="4572000"/>
              <a:ext cx="8686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1000"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cott Aaronson (University of Texas at Austi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Joint work with Guy Rothblum (Weizman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imons Foundation Meeting, NYC, Oct 18, 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"/>
            <p:cNvSpPr/>
            <p:nvPr/>
          </p:nvSpPr>
          <p:spPr>
            <a:xfrm>
              <a:off x="304560" y="326880"/>
              <a:ext cx="8528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Gentle Measurement of Quantum States and Differential Privac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"/>
          <p:cNvPicPr/>
          <p:nvPr/>
        </p:nvPicPr>
        <p:blipFill>
          <a:blip r:embed="rId3"/>
          <a:stretch/>
        </p:blipFill>
        <p:spPr>
          <a:xfrm>
            <a:off x="5172120" y="4745160"/>
            <a:ext cx="2819520" cy="192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-0.25 -3.7037E-007 E">
                                      <p:cBhvr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1284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7"/>
          <p:cNvGraphicFramePr/>
          <p:nvPr/>
        </p:nvGraphicFramePr>
        <p:xfrm>
          <a:off x="2008080" y="2097000"/>
          <a:ext cx="51278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97000"/>
                    <a:ext cx="51278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39840" y="1143000"/>
            <a:ext cx="84582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ove the restriction to product measurements in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i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racterize when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preser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  Must it have any log D factor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shadow tomography, we can show that the answer is yes, by porting known results from classical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Theoretical Foundations of Quantum Supremacy Experiment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216" name="Oval Callout 8"/>
          <p:cNvSpPr/>
          <p:nvPr/>
        </p:nvSpPr>
        <p:spPr>
          <a:xfrm>
            <a:off x="4603680" y="24400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022720" y="26431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380880" y="2028960"/>
            <a:ext cx="4572000" cy="2921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"/>
          <p:cNvPicPr/>
          <p:nvPr/>
        </p:nvPicPr>
        <p:blipFill>
          <a:blip r:embed="rId2"/>
          <a:stretch/>
        </p:blipFill>
        <p:spPr>
          <a:xfrm>
            <a:off x="179280" y="303120"/>
            <a:ext cx="6373800" cy="1524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4527720" y="1471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4"/>
          <a:stretch/>
        </p:blipFill>
        <p:spPr>
          <a:xfrm>
            <a:off x="120600" y="3995640"/>
            <a:ext cx="5943600" cy="1936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5"/>
          <a:stretch/>
        </p:blipFill>
        <p:spPr>
          <a:xfrm>
            <a:off x="4108320" y="4519440"/>
            <a:ext cx="4907160" cy="2024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4718160" y="196920"/>
            <a:ext cx="4267080" cy="566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7"/>
          <a:stretch/>
        </p:blipFill>
        <p:spPr>
          <a:xfrm>
            <a:off x="1450800" y="1287360"/>
            <a:ext cx="61534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28600" y="228600"/>
            <a:ext cx="8763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What Is Quantum Computational Supremac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17520" y="1752480"/>
            <a:ext cx="8508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use of a quantum computer to solve a problem much faster than the fastest known classical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blem doesn’t have to be useful, but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have to be mathematically well-defined (no “simulate yourself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ed: an actual observed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theoretical asymptotic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causal connection between 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762120" y="2743200"/>
            <a:ext cx="7548480" cy="3092040"/>
            <a:chOff x="762120" y="2743200"/>
            <a:chExt cx="7548480" cy="3092040"/>
          </a:xfrm>
        </p:grpSpPr>
        <p:sp>
          <p:nvSpPr>
            <p:cNvPr id="228" name="Text Box 3"/>
            <p:cNvSpPr/>
            <p:nvPr/>
          </p:nvSpPr>
          <p:spPr>
            <a:xfrm>
              <a:off x="762120" y="2743200"/>
              <a:ext cx="7548480" cy="309204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#1 Application of a Quantum Computer: Refute those who said it was impossible!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" descr=""/>
            <p:cNvPicPr/>
            <p:nvPr/>
          </p:nvPicPr>
          <p:blipFill>
            <a:blip r:embed="rId1"/>
            <a:stretch/>
          </p:blipFill>
          <p:spPr>
            <a:xfrm>
              <a:off x="1071720" y="3862800"/>
              <a:ext cx="11160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" descr=""/>
            <p:cNvPicPr/>
            <p:nvPr/>
          </p:nvPicPr>
          <p:blipFill>
            <a:blip r:embed="rId2"/>
            <a:stretch/>
          </p:blipFill>
          <p:spPr>
            <a:xfrm>
              <a:off x="2187720" y="3862800"/>
              <a:ext cx="11502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3"/>
            <a:stretch/>
          </p:blipFill>
          <p:spPr>
            <a:xfrm>
              <a:off x="3303720" y="3862800"/>
              <a:ext cx="131724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" descr=""/>
            <p:cNvPicPr/>
            <p:nvPr/>
          </p:nvPicPr>
          <p:blipFill>
            <a:blip r:embed="rId4"/>
            <a:srcRect l="7068" t="0" r="9643" b="0"/>
            <a:stretch/>
          </p:blipFill>
          <p:spPr>
            <a:xfrm>
              <a:off x="4621320" y="3860280"/>
              <a:ext cx="109728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9" descr=""/>
            <p:cNvPicPr/>
            <p:nvPr/>
          </p:nvPicPr>
          <p:blipFill>
            <a:blip r:embed="rId5"/>
            <a:stretch/>
          </p:blipFill>
          <p:spPr>
            <a:xfrm>
              <a:off x="5718960" y="3860280"/>
              <a:ext cx="132264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0" descr=""/>
            <p:cNvPicPr/>
            <p:nvPr/>
          </p:nvPicPr>
          <p:blipFill>
            <a:blip r:embed="rId6"/>
            <a:stretch/>
          </p:blipFill>
          <p:spPr>
            <a:xfrm>
              <a:off x="7015320" y="3860280"/>
              <a:ext cx="1137240" cy="169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90440" y="7632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What Has Google Apparently Don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17520" y="795240"/>
            <a:ext cx="85089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uilt “Sycamore,” a 53-qubit superconducting chip with controllable 2D nearest-neighbor coupl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sed it to output samples from some distribution D over 53-bit strings </a:t>
            </a:r>
            <a:r>
              <a:rPr b="1" lang="en-US" sz="3000" spc="-1" strike="noStrike">
                <a:solidFill>
                  <a:srgbClr val="006600"/>
                </a:solidFill>
                <a:latin typeface="Calibri"/>
                <a:ea typeface="Arial"/>
              </a:rPr>
              <a:t>(or rather, from ~0.998U+0.002D, where U is the uniform distrib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ok 5 million samples in ~3 minutes (~40 microseconds per sample); did statistics on them to extract a signal corresponding to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rgued that the best current classical algorithms, running on 1M cores, would’ve taken ~10,000 years to do the same—so, a quantum speedup by a factor of ~2 billion, or ~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the “number of ga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How to Achieve Quantum Supremac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81160" y="1006560"/>
            <a:ext cx="8673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hor’s factoring algorithm, Grover’s search algorithm, even simulating quantum chemistry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as, too expensive for now.  May require error-correction, incurring a huge overhead—but at any rate, more and better qubits than feasible in the near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63600" y="358128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Idea (Terhal-DiVincenzo 2004, A.-Arkhipov 2011, Bremner-Jozsa-Shepherd 2011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stead of a single right answer, just ask for samples from a target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93560" y="5638680"/>
            <a:ext cx="5678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perimental feasibility, high confidence in classical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270480" y="5208480"/>
            <a:ext cx="272124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?  how to check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7"/>
          <p:cNvSpPr/>
          <p:nvPr/>
        </p:nvSpPr>
        <p:spPr>
          <a:xfrm flipH="1">
            <a:off x="12600" y="3479760"/>
            <a:ext cx="9144000" cy="6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465120" y="149400"/>
            <a:ext cx="83059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Circuit Proposal</a:t>
            </a:r>
            <a:br>
              <a:rPr sz="4400"/>
            </a:b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(A. and Google team, 201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449440" y="138744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254" name="Straight Connector 4"/>
            <p:cNvSpPr/>
            <p:nvPr/>
          </p:nvSpPr>
          <p:spPr>
            <a:xfrm>
              <a:off x="482400" y="149076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23"/>
            <p:cNvSpPr/>
            <p:nvPr/>
          </p:nvSpPr>
          <p:spPr>
            <a:xfrm>
              <a:off x="469800" y="19429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traight Connector 24"/>
            <p:cNvSpPr/>
            <p:nvPr/>
          </p:nvSpPr>
          <p:spPr>
            <a:xfrm>
              <a:off x="458640" y="24336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traight Connector 25"/>
            <p:cNvSpPr/>
            <p:nvPr/>
          </p:nvSpPr>
          <p:spPr>
            <a:xfrm>
              <a:off x="446040" y="28861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267" name="Straight Connector 34"/>
            <p:cNvSpPr/>
            <p:nvPr/>
          </p:nvSpPr>
          <p:spPr>
            <a:xfrm>
              <a:off x="1560600" y="149076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35"/>
            <p:cNvSpPr/>
            <p:nvPr/>
          </p:nvSpPr>
          <p:spPr>
            <a:xfrm>
              <a:off x="1547640" y="19429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36"/>
            <p:cNvSpPr/>
            <p:nvPr/>
          </p:nvSpPr>
          <p:spPr>
            <a:xfrm>
              <a:off x="1536480" y="243360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37"/>
            <p:cNvSpPr/>
            <p:nvPr/>
          </p:nvSpPr>
          <p:spPr>
            <a:xfrm>
              <a:off x="1525680" y="28861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438280" y="2505240"/>
            <a:ext cx="6443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473040" y="4446720"/>
          <a:ext cx="54673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4446720"/>
                    <a:ext cx="54673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277" name="Straight Connector 42"/>
            <p:cNvSpPr/>
            <p:nvPr/>
          </p:nvSpPr>
          <p:spPr>
            <a:xfrm>
              <a:off x="971280" y="15048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43"/>
            <p:cNvSpPr/>
            <p:nvPr/>
          </p:nvSpPr>
          <p:spPr>
            <a:xfrm>
              <a:off x="958680" y="19573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44"/>
            <p:cNvSpPr/>
            <p:nvPr/>
          </p:nvSpPr>
          <p:spPr>
            <a:xfrm>
              <a:off x="947520" y="24462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45"/>
            <p:cNvSpPr/>
            <p:nvPr/>
          </p:nvSpPr>
          <p:spPr>
            <a:xfrm>
              <a:off x="934920" y="28987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282" name="Straight Connector 47"/>
            <p:cNvSpPr/>
            <p:nvPr/>
          </p:nvSpPr>
          <p:spPr>
            <a:xfrm flipV="1">
              <a:off x="479520" y="24987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48"/>
            <p:cNvSpPr/>
            <p:nvPr/>
          </p:nvSpPr>
          <p:spPr>
            <a:xfrm flipV="1">
              <a:off x="1003320" y="25048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49"/>
            <p:cNvSpPr/>
            <p:nvPr/>
          </p:nvSpPr>
          <p:spPr>
            <a:xfrm flipV="1">
              <a:off x="1571760" y="25113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Straight Connector 50"/>
            <p:cNvSpPr/>
            <p:nvPr/>
          </p:nvSpPr>
          <p:spPr>
            <a:xfrm flipV="1">
              <a:off x="2095560" y="25174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287" name="Straight Connector 52"/>
            <p:cNvSpPr/>
            <p:nvPr/>
          </p:nvSpPr>
          <p:spPr>
            <a:xfrm flipV="1">
              <a:off x="490680" y="15458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53"/>
            <p:cNvSpPr/>
            <p:nvPr/>
          </p:nvSpPr>
          <p:spPr>
            <a:xfrm flipV="1">
              <a:off x="1014480" y="15519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54"/>
            <p:cNvSpPr/>
            <p:nvPr/>
          </p:nvSpPr>
          <p:spPr>
            <a:xfrm flipV="1">
              <a:off x="1582920" y="15584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55"/>
            <p:cNvSpPr/>
            <p:nvPr/>
          </p:nvSpPr>
          <p:spPr>
            <a:xfrm flipV="1">
              <a:off x="2106720" y="15645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292" name="Straight Connector 57"/>
            <p:cNvSpPr/>
            <p:nvPr/>
          </p:nvSpPr>
          <p:spPr>
            <a:xfrm flipV="1">
              <a:off x="457200" y="20030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58"/>
            <p:cNvSpPr/>
            <p:nvPr/>
          </p:nvSpPr>
          <p:spPr>
            <a:xfrm flipV="1">
              <a:off x="981000" y="20091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59"/>
            <p:cNvSpPr/>
            <p:nvPr/>
          </p:nvSpPr>
          <p:spPr>
            <a:xfrm flipV="1">
              <a:off x="1549440" y="20156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60"/>
            <p:cNvSpPr/>
            <p:nvPr/>
          </p:nvSpPr>
          <p:spPr>
            <a:xfrm flipV="1">
              <a:off x="2073240" y="20217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3"/>
          <p:cNvSpPr/>
          <p:nvPr/>
        </p:nvSpPr>
        <p:spPr>
          <a:xfrm>
            <a:off x="6391440" y="4629240"/>
            <a:ext cx="2379600" cy="1800360"/>
          </a:xfrm>
          <a:prstGeom prst="rect">
            <a:avLst/>
          </a:prstGeom>
          <a:solidFill>
            <a:srgbClr val="ffffd5"/>
          </a:solidFill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’s “Linear Cross-Entropy Benchma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33440" y="3316320"/>
            <a:ext cx="5059440" cy="31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4160880" y="5403960"/>
                <a:ext cx="676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811080" y="3449520"/>
                <a:ext cx="5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0" name="Text Box 2"/>
          <p:cNvSpPr/>
          <p:nvPr/>
        </p:nvSpPr>
        <p:spPr>
          <a:xfrm>
            <a:off x="419040" y="2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43080" y="987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rings are exponentially unlikely—but some are unlikelier than ot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6400800" y="575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peck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1" descr=""/>
          <p:cNvPicPr/>
          <p:nvPr/>
        </p:nvPicPr>
        <p:blipFill>
          <a:blip r:embed="rId2"/>
          <a:stretch/>
        </p:blipFill>
        <p:spPr>
          <a:xfrm>
            <a:off x="6095880" y="3309840"/>
            <a:ext cx="2438640" cy="2436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365040" y="1987560"/>
            <a:ext cx="85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icking uniformly at random will get samples of average probability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n ideal QC will get 2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ow Hard Is Classical Spoof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992240" y="922320"/>
            <a:ext cx="69310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tate-of-the-art classical metho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Schrödinger-Feynman algorithm” </a:t>
            </a: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(A.-Chen 2017)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 Uses recursion to make best use of available memory.  Can enhance further e.g. by exploiting 2D locality.  Used by Google to produce its 10,000-year est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ossible future competitor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ensor network contraction (cf. Gray 201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1"/>
          <a:stretch/>
        </p:blipFill>
        <p:spPr>
          <a:xfrm>
            <a:off x="243000" y="1017720"/>
            <a:ext cx="1542960" cy="1782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"/>
          <p:cNvPicPr/>
          <p:nvPr/>
        </p:nvPicPr>
        <p:blipFill>
          <a:blip r:embed="rId2"/>
          <a:srcRect l="0" t="0" r="0" b="10671"/>
          <a:stretch/>
        </p:blipFill>
        <p:spPr>
          <a:xfrm>
            <a:off x="220680" y="2782800"/>
            <a:ext cx="1565280" cy="19209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"/>
          <p:cNvSpPr/>
          <p:nvPr/>
        </p:nvSpPr>
        <p:spPr>
          <a:xfrm>
            <a:off x="396720" y="4910040"/>
            <a:ext cx="8442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en 2017, A.-Gunn 2019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 fast classical algorithm to spoof Linear XEB implies a fast algorithm to estimate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utput probability, lik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C|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ligh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than ch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33360" y="35942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"/>
          <p:cNvGraphicFramePr/>
          <p:nvPr/>
        </p:nvGraphicFramePr>
        <p:xfrm>
          <a:off x="3267000" y="51307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51307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"/>
          <p:cNvSpPr/>
          <p:nvPr/>
        </p:nvSpPr>
        <p:spPr>
          <a:xfrm>
            <a:off x="333360" y="6086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uantum mechanics are famous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3200400" y="2157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not always!  If a qubit is known to be either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hecking to see which one doesn’t damage i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Image result for schrodinger's cat"/>
          <p:cNvPicPr/>
          <p:nvPr/>
        </p:nvPicPr>
        <p:blipFill>
          <a:blip r:embed="rId3"/>
          <a:stretch/>
        </p:blipFill>
        <p:spPr>
          <a:xfrm>
            <a:off x="304920" y="1135080"/>
            <a:ext cx="2641320" cy="1986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187200" y="5086440"/>
            <a:ext cx="285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392880" y="47750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, standard metric on quantum st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7"/>
          <p:cNvCxnSpPr/>
          <p:nvPr/>
        </p:nvCxnSpPr>
        <p:spPr>
          <a:xfrm flipH="1" flipV="1">
            <a:off x="5476680" y="5803200"/>
            <a:ext cx="98640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148" name="Straight Arrow Connector 18"/>
          <p:cNvCxnSpPr/>
          <p:nvPr/>
        </p:nvCxnSpPr>
        <p:spPr>
          <a:xfrm>
            <a:off x="2733480" y="55177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23920" y="19512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New Idea (A. 2018): Randomness from Quantum Supremac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46160" y="5638680"/>
            <a:ext cx="892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.e., even a QC would have a hard time generating plausible-looking samples in a secretly deterministic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146160" y="3254400"/>
            <a:ext cx="8818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a QC passes the Linear XEB test for quantum supremacy, it’s proved more than just its quantumness.  Under plausible assumptions, it’s also proved it must have generated the sampl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andom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000"/>
            </a:b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(At least somew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1301760" y="1766880"/>
            <a:ext cx="1369800" cy="1290240"/>
            <a:chOff x="1301760" y="1766880"/>
            <a:chExt cx="1369800" cy="1290240"/>
          </a:xfrm>
        </p:grpSpPr>
        <p:sp>
          <p:nvSpPr>
            <p:cNvPr id="316" name="Freeform 6"/>
            <p:cNvSpPr/>
            <p:nvPr/>
          </p:nvSpPr>
          <p:spPr>
            <a:xfrm>
              <a:off x="1518480" y="17974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1610640" y="1897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1688760" y="2543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1942200" y="2175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"/>
            <p:cNvSpPr/>
            <p:nvPr/>
          </p:nvSpPr>
          <p:spPr>
            <a:xfrm>
              <a:off x="2381760" y="2784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2381760" y="2818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>
              <a:off x="2386080" y="2896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"/>
            <p:cNvSpPr/>
            <p:nvPr/>
          </p:nvSpPr>
          <p:spPr>
            <a:xfrm>
              <a:off x="2388960" y="2832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4"/>
            <p:cNvSpPr/>
            <p:nvPr/>
          </p:nvSpPr>
          <p:spPr>
            <a:xfrm>
              <a:off x="2597760" y="2856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2370960" y="2782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2540520" y="2876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2460960" y="2810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427480" y="2798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2317320" y="2907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320840" y="272808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521000" y="2606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722960" y="2511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2056320" y="1924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690560" y="24159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565640" y="1858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2016360" y="2640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2111760" y="2681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311480" y="287748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509480" y="2576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2267640" y="2583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2009880" y="2647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2018880" y="2635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2106360" y="2679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459800" y="2702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345680" y="285948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2246400" y="2746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2288880" y="2890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327680" y="290916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511640" y="275256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485720" y="2799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2107080" y="2788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2133000" y="2817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2142000" y="2848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1493280" y="17668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2230200" y="1781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2181240" y="18720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2148480" y="1823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492200" y="1968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1643040" y="2495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2100600" y="2496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1688760" y="2501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649880" y="2583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2022840" y="2499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2136240" y="2543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1679760" y="2435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681560" y="2408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2066400" y="2410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984680" y="2429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1910520" y="2428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1824840" y="2426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1750680" y="2430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967400" y="1897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1572120" y="2075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1684800" y="2341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2065680" y="1881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301760" y="2868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571400" y="1877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608120" y="1919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503720" y="2627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178680" y="174312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81" name="Straight Arrow Connector 3"/>
          <p:cNvCxnSpPr/>
          <p:nvPr/>
        </p:nvCxnSpPr>
        <p:spPr>
          <a:xfrm>
            <a:off x="2570040" y="19681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82" name="Straight Arrow Connector 75"/>
          <p:cNvCxnSpPr/>
          <p:nvPr/>
        </p:nvCxnSpPr>
        <p:spPr>
          <a:xfrm>
            <a:off x="2576520" y="22269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83" name="Straight Arrow Connector 76"/>
          <p:cNvCxnSpPr/>
          <p:nvPr/>
        </p:nvCxnSpPr>
        <p:spPr>
          <a:xfrm>
            <a:off x="2561760" y="24886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84" name="Straight Arrow Connector 77"/>
          <p:cNvCxnSpPr/>
          <p:nvPr/>
        </p:nvCxnSpPr>
        <p:spPr>
          <a:xfrm>
            <a:off x="2561760" y="275220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3"/>
          <p:cNvGrpSpPr/>
          <p:nvPr/>
        </p:nvGrpSpPr>
        <p:grpSpPr>
          <a:xfrm>
            <a:off x="1501920" y="1427040"/>
            <a:ext cx="2767320" cy="961560"/>
            <a:chOff x="1501920" y="1427040"/>
            <a:chExt cx="2767320" cy="961560"/>
          </a:xfrm>
        </p:grpSpPr>
        <p:sp>
          <p:nvSpPr>
            <p:cNvPr id="386" name="Straight Connector 17"/>
            <p:cNvSpPr/>
            <p:nvPr/>
          </p:nvSpPr>
          <p:spPr>
            <a:xfrm>
              <a:off x="2111400" y="181116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"/>
            <p:cNvSpPr/>
            <p:nvPr/>
          </p:nvSpPr>
          <p:spPr>
            <a:xfrm>
              <a:off x="2606760" y="1504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49"/>
            <p:cNvGrpSpPr/>
            <p:nvPr/>
          </p:nvGrpSpPr>
          <p:grpSpPr>
            <a:xfrm>
              <a:off x="3458880" y="1427040"/>
              <a:ext cx="810360" cy="961560"/>
              <a:chOff x="3458880" y="1427040"/>
              <a:chExt cx="810360" cy="961560"/>
            </a:xfrm>
          </p:grpSpPr>
          <p:sp>
            <p:nvSpPr>
              <p:cNvPr id="389" name="Chord 38"/>
              <p:cNvSpPr/>
              <p:nvPr/>
            </p:nvSpPr>
            <p:spPr>
              <a:xfrm rot="7220400">
                <a:off x="3560400" y="168732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0" name="Straight Arrow Connector 39"/>
              <p:cNvCxnSpPr>
                <a:stCxn id="389" idx="2"/>
              </p:cNvCxnSpPr>
              <p:nvPr/>
            </p:nvCxnSpPr>
            <p:spPr>
              <a:xfrm flipV="1">
                <a:off x="3861720" y="142704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391" name="Text Box 3"/>
            <p:cNvSpPr/>
            <p:nvPr/>
          </p:nvSpPr>
          <p:spPr>
            <a:xfrm>
              <a:off x="1501920" y="15048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2"/>
          <p:cNvSpPr/>
          <p:nvPr/>
        </p:nvSpPr>
        <p:spPr>
          <a:xfrm>
            <a:off x="339840" y="228600"/>
            <a:ext cx="8494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bviously, there a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uc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sier ways to generate random bi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69720" y="2517840"/>
            <a:ext cx="8494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se are fine if you own your own random number generator.  But what if you need to download random bits off the Internet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ru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at they’re random?  This is exactly the situation with, e.g.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-of-stake cryptocurrenc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other crypto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Image result for geiger counter"/>
          <p:cNvPicPr/>
          <p:nvPr/>
        </p:nvPicPr>
        <p:blipFill>
          <a:blip r:embed="rId1"/>
          <a:stretch/>
        </p:blipFill>
        <p:spPr>
          <a:xfrm>
            <a:off x="5592600" y="1066680"/>
            <a:ext cx="1704960" cy="1400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0" descr=""/>
          <p:cNvPicPr/>
          <p:nvPr/>
        </p:nvPicPr>
        <p:blipFill>
          <a:blip r:embed="rId2"/>
          <a:stretch/>
        </p:blipFill>
        <p:spPr>
          <a:xfrm>
            <a:off x="6789600" y="5218200"/>
            <a:ext cx="1805040" cy="11444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2"/>
          <p:cNvSpPr/>
          <p:nvPr/>
        </p:nvSpPr>
        <p:spPr>
          <a:xfrm>
            <a:off x="369720" y="5052960"/>
            <a:ext cx="622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and NIST are currently working to demonstrate a public randomness beacon based on my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04920" y="1066680"/>
            <a:ext cx="86104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has apparently achieved quantum supremacy, using Random Circuit Sampling on 53 qubits (check next week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atu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)—building on a lot of “useless complexity theory” we did over the past dec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ven if true, this leaves the huge challeng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lready refutes those who said quantum speedups are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t was thought obvious for years that sampling-based supremacy experiments had no applications.  My certified randomness protocol may change that—though challenges remain in making it prac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n unentangled qubits, measuring the number of 1’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number of 1’s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163" name="Block Arc 1"/>
            <p:cNvSpPr/>
            <p:nvPr/>
          </p:nvSpPr>
          <p:spPr>
            <a:xfrm>
              <a:off x="7848720" y="5649840"/>
              <a:ext cx="1076040" cy="1143000"/>
            </a:xfrm>
            <a:custGeom>
              <a:avLst/>
              <a:gdLst/>
              <a:ahLst/>
              <a:rect l="l" t="t" r="r" b="b"/>
              <a:pathLst>
                <a:path w="1075532" h="1143309">
                  <a:moveTo>
                    <a:pt x="0" y="571655"/>
                  </a:moveTo>
                  <a:cubicBezTo>
                    <a:pt x="0" y="369888"/>
                    <a:pt x="100058" y="183064"/>
                    <a:pt x="263275" y="80077"/>
                  </a:cubicBezTo>
                  <a:cubicBezTo>
                    <a:pt x="439845" y="-31335"/>
                    <a:pt x="660686" y="-26140"/>
                    <a:pt x="832446" y="93467"/>
                  </a:cubicBezTo>
                  <a:cubicBezTo>
                    <a:pt x="990611" y="203607"/>
                    <a:pt x="1082742" y="393953"/>
                    <a:pt x="1075092" y="594784"/>
                  </a:cubicBezTo>
                  <a:lnTo>
                    <a:pt x="1009899" y="591977"/>
                  </a:lnTo>
                  <a:cubicBezTo>
                    <a:pt x="1016539" y="414802"/>
                    <a:pt x="936227" y="246811"/>
                    <a:pt x="798168" y="149092"/>
                  </a:cubicBezTo>
                  <a:cubicBezTo>
                    <a:pt x="646578" y="41795"/>
                    <a:pt x="451013" y="37140"/>
                    <a:pt x="295128" y="137119"/>
                  </a:cubicBezTo>
                  <a:cubicBezTo>
                    <a:pt x="152540" y="228569"/>
                    <a:pt x="65254" y="393567"/>
                    <a:pt x="65254" y="571655"/>
                  </a:cubicBezTo>
                  <a:lnTo>
                    <a:pt x="0" y="571655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given n unentangled qubits, measuring the number of 1’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5"/>
          <p:cNvGrpSpPr/>
          <p:nvPr/>
        </p:nvGrpSpPr>
        <p:grpSpPr>
          <a:xfrm>
            <a:off x="4419720" y="2297160"/>
            <a:ext cx="4338360" cy="1127520"/>
            <a:chOff x="4419720" y="2297160"/>
            <a:chExt cx="4338360" cy="1127520"/>
          </a:xfrm>
        </p:grpSpPr>
        <p:sp>
          <p:nvSpPr>
            <p:cNvPr id="186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Straight Arrow Connector 2"/>
            <p:cNvCxnSpPr/>
            <p:nvPr/>
          </p:nvCxnSpPr>
          <p:spPr>
            <a:xfrm>
              <a:off x="7314840" y="3127680"/>
              <a:ext cx="1080" cy="29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88" name="Group 18"/>
          <p:cNvGrpSpPr/>
          <p:nvPr/>
        </p:nvGrpSpPr>
        <p:grpSpPr>
          <a:xfrm>
            <a:off x="372960" y="5257080"/>
            <a:ext cx="4351320" cy="1178280"/>
            <a:chOff x="372960" y="5257080"/>
            <a:chExt cx="4351320" cy="1178280"/>
          </a:xfrm>
        </p:grpSpPr>
        <p:sp>
          <p:nvSpPr>
            <p:cNvPr id="189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Straight Arrow Connector 11"/>
            <p:cNvCxnSpPr/>
            <p:nvPr/>
          </p:nvCxnSpPr>
          <p:spPr>
            <a:xfrm flipV="1">
              <a:off x="2625120" y="5257080"/>
              <a:ext cx="1080" cy="353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91" name="Group 16"/>
          <p:cNvGrpSpPr/>
          <p:nvPr/>
        </p:nvGrpSpPr>
        <p:grpSpPr>
          <a:xfrm>
            <a:off x="5165640" y="4723920"/>
            <a:ext cx="3581640" cy="1669320"/>
            <a:chOff x="5165640" y="4723920"/>
            <a:chExt cx="3581640" cy="1669320"/>
          </a:xfrm>
        </p:grpSpPr>
        <p:sp>
          <p:nvSpPr>
            <p:cNvPr id="192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Straight Arrow Connector 13"/>
            <p:cNvCxnSpPr/>
            <p:nvPr/>
          </p:nvCxnSpPr>
          <p:spPr>
            <a:xfrm flipH="1" flipV="1">
              <a:off x="5714280" y="4723920"/>
              <a:ext cx="533880" cy="84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194" name="TextBox 21"/>
          <p:cNvSpPr/>
          <p:nvPr/>
        </p:nvSpPr>
        <p:spPr>
          <a:xfrm>
            <a:off x="258840" y="2112840"/>
            <a:ext cx="3978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n’t DP and gentlenes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viousl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58920" y="1066680"/>
            <a:ext cx="8404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: Connection between DP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We can safely reuse the same dataset for many scientific studies, </a:t>
            </a:r>
            <a:r>
              <a:rPr b="0" i="1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if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 we’re careful to query the dataset using DP algorithms on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 our term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D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lassical Bayesian gentle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f course, “damage” to a probability distribution is purely internal and mental, whereas damage to a quantum state can be noticed by oth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ne Slide on Proof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52440" y="97776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asy, little to do with QM.  Consider a “converse” statement: if a measurement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very different probabilities, then by Bayes’ Theorem it will damag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.  Then, given a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pply this reasoning to 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04920" y="3429000"/>
            <a:ext cx="85057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 for Product Stat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er direction.  First prove for classical product distribution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following Dwork et al).  Then “lift” to a measurement that QSamples from the output distribution of a classical DP algorithm, on each component of a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Use inequalities that relate KL-divergence, Hellinger distance, and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04920" y="15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“Shadow Tomograph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357120" y="1066680"/>
            <a:ext cx="84582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, 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976320" y="3200400"/>
            <a:ext cx="78249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D</a:t>
            </a:r>
            <a:r>
              <a:rPr b="1" lang="en-US" sz="25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M) suffice (apply each E</a:t>
            </a:r>
            <a:r>
              <a:rPr b="1" lang="en-US" sz="2500" spc="-1" strike="noStrike" baseline="-25000">
                <a:solidFill>
                  <a:srgbClr val="00b050"/>
                </a:solidFill>
                <a:latin typeface="Calibri"/>
                <a:ea typeface="Arial"/>
              </a:rPr>
              <a:t>i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 to separate cop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But in many applications, D and M are both enormou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343080" y="4952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"/>
          <p:cNvGraphicFramePr/>
          <p:nvPr/>
        </p:nvGraphicFramePr>
        <p:xfrm>
          <a:off x="2111400" y="5845320"/>
          <a:ext cx="49496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5845320"/>
                    <a:ext cx="4949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19-10-18T12:50:12Z</dcterms:modified>
  <cp:revision>499</cp:revision>
  <dc:subject/>
  <dc:title>BQP and the Polynomial Hierarchy</dc:title>
</cp:coreProperties>
</file>