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29.jpeg" ContentType="image/jpeg"/>
  <Override PartName="/ppt/media/image13.wmf" ContentType="image/x-wmf"/>
  <Override PartName="/ppt/media/image12.wmf" ContentType="image/x-wmf"/>
  <Override PartName="/ppt/media/image25.png" ContentType="image/png"/>
  <Override PartName="/ppt/media/image10.wmf" ContentType="image/x-wmf"/>
  <Override PartName="/ppt/media/image31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32.png" ContentType="image/png"/>
  <Override PartName="/ppt/media/image8.wmf" ContentType="image/x-wmf"/>
  <Override PartName="/ppt/media/image33.jpeg" ContentType="image/jpeg"/>
  <Override PartName="/ppt/media/image34.png" ContentType="image/png"/>
  <Override PartName="/ppt/media/image30.jpeg" ContentType="image/jpeg"/>
  <Override PartName="/ppt/media/image7.wmf" ContentType="image/x-wmf"/>
  <Override PartName="/ppt/media/image26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1.wmf" ContentType="image/x-wmf"/>
  <Override PartName="/ppt/media/image5.jpeg" ContentType="image/jpeg"/>
  <Override PartName="/ppt/media/image4.wmf" ContentType="image/x-wmf"/>
  <Override PartName="/ppt/media/image27.wmf" ContentType="image/x-wmf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5548-A725-4050-B42A-22F35448C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C704-879A-40DB-9F28-3CF209E0970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F6D2-D389-46CF-94BC-CFCC997F62E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E4E4-4983-4178-B4F1-62D4FD5E340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0FCE-24FD-4AA2-B154-06087BF16AFF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O FAST GO FAST GO FAST   Thanks so much for inviting me to this beautiful place!  When I typed “quantum computer” into Google Image Search, that’s the first picture that came up.  That’s apparently what they look like.  (I should warn you that I’m a theorist rather than an engineer.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1584-BF18-4930-B51C-AAD6D933FE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38BE-C5B6-4D8D-90E1-EBF0A0D131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BD24-8BF6-4FF1-BC32-E6D71CB19A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FA26-14F4-404F-835D-229BC1EEA0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482C-9DFA-45D0-AD5F-DFD6C3216C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AFA9-C442-4985-8647-A237797793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E02C-2054-4427-92DF-45B78B5647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3729-FA61-495F-905D-F3F6D0BC45B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C9DF-D6E9-4A8E-A9C6-9EF03862F1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FF90-DD19-4EB8-BF3F-DF372C3819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393B-467B-44E1-BF2C-9BC1127325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9643-2B0D-406D-BAE7-2C7CEFBC34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B143-56EA-4C55-BD3D-072075DED5A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0F61-5E3B-4111-ACCA-8E978E25BF1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0C22-FCB4-4328-AB0D-D6CBCDB79FF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306D-61CF-4770-A8E7-3EEE19D4083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889A-DA20-41AA-8F90-570400D5E41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8062-DD0C-44A0-A412-A10CE6ADC45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B6DB-B084-4BB0-9EF5-C3A1B50A768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BEC-5E67-40E9-80BE-7BB40557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D10B-8772-4A76-A920-AE1F2015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94CE-5A29-482E-B17C-E53C12F6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9745-329B-4764-887B-78F13AB8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9A61-57C6-4447-B498-3DF232A1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1283-4D45-41EE-901A-E3FDFAE4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552E-E07A-49BB-837C-1A7AEB6A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3839-4C19-483E-9F94-9D8B29F7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5358-3FC8-44C9-BDF2-9E733A88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C98F-BA82-4E67-8A36-E9DC34AE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AD9C-DF82-4F37-8BE8-80FCFFC2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6836-6133-4368-A364-EEBD2002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508E-7EEB-49E5-9511-8E90032A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A835-3B38-41B7-B461-E03097DC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AD03-D2F8-4D22-8293-BDD9C312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4BD7-430A-47CA-90A8-30876D45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A891-6936-408C-AA70-E78EE0E4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11964-D40F-49A5-BC5F-C51628C0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FA6AF-CA12-48E4-8221-A4DC5917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6CF79-A7F0-4344-88AE-72384715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97ED9-2BA0-4D9A-868D-7622CE33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135AA-A684-4784-960C-C52EBE1E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E542-9B3D-41EF-A95C-9CAEF50D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1DD1D-D316-41D2-8C3B-0FDAA0FB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EA6AF-E346-4AA8-823E-98A9A4A5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224B4-7E7C-4E31-930B-ADA5D5BD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F094B-59F8-43D8-9275-732F6B3C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4C7B2-7BC6-4890-9371-44A58C18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D1BC0-579D-4B67-92D3-DBF5C618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B65D7-2DA9-427A-9CB4-30F3C97D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D29-5ECD-4162-B9CE-3ADC1226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0309-1335-49BF-A913-A7894EC1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98A9-6742-422C-BD06-736E75E8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AC3E-78D6-4101-9933-3B8899DB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BB1B-165F-4CAF-BF4B-B4C753AD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416F-5C7D-40D9-92C4-5412EFD6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83D3-0EF7-4DEE-BD92-FBF9919990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D567-D3D8-438A-8C46-3979FEE13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4F72-DCEF-4AC1-A343-1607E37A5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036C-ACBF-453E-9552-116B64E8B3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B0FF-5474-49A5-8C4F-80ADFA789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4038480" y="343080"/>
            <a:ext cx="512136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econd Bonus Talk: Theoretical Foundations of Quantum Suprem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(Added, of course, because of the leaked news that Google has apparently achieved thi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-495360" y="326880"/>
            <a:ext cx="9407520" cy="4854600"/>
            <a:chOff x="-495360" y="326880"/>
            <a:chExt cx="9407520" cy="4854600"/>
          </a:xfrm>
        </p:grpSpPr>
        <p:pic>
          <p:nvPicPr>
            <p:cNvPr id="132" name="Picture 7" descr=""/>
            <p:cNvPicPr/>
            <p:nvPr/>
          </p:nvPicPr>
          <p:blipFill>
            <a:blip r:embed="rId1">
              <a:alphaModFix amt="0"/>
            </a:blip>
            <a:stretch/>
          </p:blipFill>
          <p:spPr>
            <a:xfrm>
              <a:off x="-495360" y="2638440"/>
              <a:ext cx="906804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7" descr=""/>
            <p:cNvPicPr/>
            <p:nvPr/>
          </p:nvPicPr>
          <p:blipFill>
            <a:blip r:embed="rId2"/>
            <a:stretch/>
          </p:blipFill>
          <p:spPr>
            <a:xfrm>
              <a:off x="214920" y="2752920"/>
              <a:ext cx="723924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Subtitle 2"/>
            <p:cNvSpPr/>
            <p:nvPr/>
          </p:nvSpPr>
          <p:spPr>
            <a:xfrm>
              <a:off x="225360" y="4572000"/>
              <a:ext cx="8686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31000"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cott Aaronson (University of Texas at Austin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Joint work with Guy Rothblum (Weizmann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imons Foundation Meeting, NYC, Oct 18, 20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2"/>
            <p:cNvSpPr/>
            <p:nvPr/>
          </p:nvSpPr>
          <p:spPr>
            <a:xfrm>
              <a:off x="304560" y="326880"/>
              <a:ext cx="85280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Calibri"/>
                </a:rPr>
                <a:t>Gentle Measurement of Quantum States and Differential Privac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2" descr=""/>
          <p:cNvPicPr/>
          <p:nvPr/>
        </p:nvPicPr>
        <p:blipFill>
          <a:blip r:embed="rId3"/>
          <a:stretch/>
        </p:blipFill>
        <p:spPr>
          <a:xfrm>
            <a:off x="5172120" y="4745160"/>
            <a:ext cx="2819520" cy="192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7 L -0.25 -3.7037E-007 E">
                                      <p:cBhvr>
                                        <p:cTn id="8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1284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e can do shadow tomography in a way that’s als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on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 sample complexity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7"/>
          <p:cNvGraphicFramePr/>
          <p:nvPr/>
        </p:nvGraphicFramePr>
        <p:xfrm>
          <a:off x="2008080" y="2097000"/>
          <a:ext cx="512784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2097000"/>
                    <a:ext cx="51278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 Box 2"/>
          <p:cNvSpPr/>
          <p:nvPr/>
        </p:nvSpPr>
        <p:spPr>
          <a:xfrm>
            <a:off x="312840" y="3124080"/>
            <a:ext cx="860256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How it works: we take a known procedure from DP,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ivate Multiplicative Weight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(Hardt-Rothblum 2010).  PMW decides whether to update our current hypothesis on each query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using a threshold measurement with Laplace noise a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e give a quantum analogue, “QPMW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ach iteration of QPMW is DP.  Using this fact, our D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gentleness theorem, and a lot more work, we show that we can safely apply all M of the iterations in sequ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304920" y="1522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New Shadow Tomography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339840" y="1143000"/>
            <a:ext cx="8458200" cy="53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move the restriction to product measurements in our D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impl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haracterize when D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preserv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omputatio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fficien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’s the true sample complexity of shadow tomography?  Must it have any log D factor at 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For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gentle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 or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online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 shadow tomography, we can show that the answer is yes, by porting known results from classical 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osition of quantum DP algorith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e quantum to say something new about classical D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28368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Calibri"/>
                <a:ea typeface="Calibri"/>
              </a:rPr>
              <a:t>Theoretical Foundations of Quantum Supremacy Experiments</a:t>
            </a:r>
            <a:endParaRPr b="1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2819520" cy="1920960"/>
          </a:xfrm>
          <a:prstGeom prst="rect">
            <a:avLst/>
          </a:prstGeom>
          <a:ln w="0">
            <a:noFill/>
          </a:ln>
        </p:spPr>
      </p:pic>
      <p:sp>
        <p:nvSpPr>
          <p:cNvPr id="216" name="Oval Callout 8"/>
          <p:cNvSpPr/>
          <p:nvPr/>
        </p:nvSpPr>
        <p:spPr>
          <a:xfrm>
            <a:off x="4603680" y="2440080"/>
            <a:ext cx="3505320" cy="1844640"/>
          </a:xfrm>
          <a:prstGeom prst="wedgeEllipseCallout">
            <a:avLst>
              <a:gd name="adj1" fmla="val -76819"/>
              <a:gd name="adj2" fmla="val 14583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"/>
          <p:cNvSpPr/>
          <p:nvPr/>
        </p:nvSpPr>
        <p:spPr>
          <a:xfrm>
            <a:off x="5022720" y="264312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 HILBERT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380880" y="2028960"/>
            <a:ext cx="4572000" cy="2921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" descr=""/>
          <p:cNvPicPr/>
          <p:nvPr/>
        </p:nvPicPr>
        <p:blipFill>
          <a:blip r:embed="rId2"/>
          <a:stretch/>
        </p:blipFill>
        <p:spPr>
          <a:xfrm>
            <a:off x="179280" y="303120"/>
            <a:ext cx="6373800" cy="1524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3"/>
          <a:stretch/>
        </p:blipFill>
        <p:spPr>
          <a:xfrm>
            <a:off x="4527720" y="1471680"/>
            <a:ext cx="4572000" cy="2786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4"/>
          <a:stretch/>
        </p:blipFill>
        <p:spPr>
          <a:xfrm>
            <a:off x="120600" y="3995640"/>
            <a:ext cx="5943600" cy="1936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5"/>
          <a:stretch/>
        </p:blipFill>
        <p:spPr>
          <a:xfrm>
            <a:off x="4108320" y="4519440"/>
            <a:ext cx="4907160" cy="2024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"/>
          <p:cNvPicPr/>
          <p:nvPr/>
        </p:nvPicPr>
        <p:blipFill>
          <a:blip r:embed="rId6"/>
          <a:stretch/>
        </p:blipFill>
        <p:spPr>
          <a:xfrm>
            <a:off x="4718160" y="196920"/>
            <a:ext cx="4267080" cy="566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"/>
          <p:cNvPicPr/>
          <p:nvPr/>
        </p:nvPicPr>
        <p:blipFill>
          <a:blip r:embed="rId7"/>
          <a:stretch/>
        </p:blipFill>
        <p:spPr>
          <a:xfrm>
            <a:off x="1450800" y="1287360"/>
            <a:ext cx="61534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228600" y="228600"/>
            <a:ext cx="87631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</a:rPr>
              <a:t>What Is Quantum Computational Supremacy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17520" y="1752480"/>
            <a:ext cx="85089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he use of a quantum computer to solve a problem much faster than the fastest known classical algorith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Problem doesn’t have to be useful, but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do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have to be mathematically well-defined (no “simulate yourself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Need: an actual observed speedup,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 theoretical asymptotic speedup,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 causal connection between the tw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1"/>
          <p:cNvGrpSpPr/>
          <p:nvPr/>
        </p:nvGrpSpPr>
        <p:grpSpPr>
          <a:xfrm>
            <a:off x="762120" y="2743200"/>
            <a:ext cx="7548480" cy="3092040"/>
            <a:chOff x="762120" y="2743200"/>
            <a:chExt cx="7548480" cy="3092040"/>
          </a:xfrm>
        </p:grpSpPr>
        <p:sp>
          <p:nvSpPr>
            <p:cNvPr id="228" name="Text Box 3"/>
            <p:cNvSpPr/>
            <p:nvPr/>
          </p:nvSpPr>
          <p:spPr>
            <a:xfrm>
              <a:off x="762120" y="2743200"/>
              <a:ext cx="7548480" cy="3092040"/>
            </a:xfrm>
            <a:prstGeom prst="rect">
              <a:avLst/>
            </a:prstGeom>
            <a:solidFill>
              <a:srgbClr val="ffffd5"/>
            </a:solidFill>
            <a:ln w="1908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“</a:t>
              </a: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#1 Application of a Quantum Computer: Refute those who said it was impossible!”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1" descr=""/>
            <p:cNvPicPr/>
            <p:nvPr/>
          </p:nvPicPr>
          <p:blipFill>
            <a:blip r:embed="rId1"/>
            <a:stretch/>
          </p:blipFill>
          <p:spPr>
            <a:xfrm>
              <a:off x="1071720" y="3862800"/>
              <a:ext cx="1116000" cy="164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2" descr=""/>
            <p:cNvPicPr/>
            <p:nvPr/>
          </p:nvPicPr>
          <p:blipFill>
            <a:blip r:embed="rId2"/>
            <a:stretch/>
          </p:blipFill>
          <p:spPr>
            <a:xfrm>
              <a:off x="2187720" y="3862800"/>
              <a:ext cx="1150200" cy="164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" descr=""/>
            <p:cNvPicPr/>
            <p:nvPr/>
          </p:nvPicPr>
          <p:blipFill>
            <a:blip r:embed="rId3"/>
            <a:stretch/>
          </p:blipFill>
          <p:spPr>
            <a:xfrm>
              <a:off x="3303720" y="3862800"/>
              <a:ext cx="1317240" cy="164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4" descr=""/>
            <p:cNvPicPr/>
            <p:nvPr/>
          </p:nvPicPr>
          <p:blipFill>
            <a:blip r:embed="rId4"/>
            <a:srcRect l="7068" t="0" r="9643" b="0"/>
            <a:stretch/>
          </p:blipFill>
          <p:spPr>
            <a:xfrm>
              <a:off x="4621320" y="3860280"/>
              <a:ext cx="109728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9" descr=""/>
            <p:cNvPicPr/>
            <p:nvPr/>
          </p:nvPicPr>
          <p:blipFill>
            <a:blip r:embed="rId5"/>
            <a:stretch/>
          </p:blipFill>
          <p:spPr>
            <a:xfrm>
              <a:off x="5718960" y="3860280"/>
              <a:ext cx="132264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0" descr=""/>
            <p:cNvPicPr/>
            <p:nvPr/>
          </p:nvPicPr>
          <p:blipFill>
            <a:blip r:embed="rId6"/>
            <a:stretch/>
          </p:blipFill>
          <p:spPr>
            <a:xfrm>
              <a:off x="7015320" y="3860280"/>
              <a:ext cx="1137240" cy="169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190440" y="76320"/>
            <a:ext cx="8763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</a:rPr>
              <a:t>What Has Google Apparently Done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317520" y="795240"/>
            <a:ext cx="850896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Built “Sycamore,” a 53-qubit superconducting chip with controllable 2D nearest-neighbor coupl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Used it to output samples from some distribution D over 53-bit strings </a:t>
            </a:r>
            <a:r>
              <a:rPr b="1" lang="en-US" sz="3000" spc="-1" strike="noStrike">
                <a:solidFill>
                  <a:srgbClr val="006600"/>
                </a:solidFill>
                <a:latin typeface="Calibri"/>
                <a:ea typeface="Arial"/>
              </a:rPr>
              <a:t>(or rather, from ~0.998U+0.002D, where U is the uniform distribu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ook 5 million samples in ~3 minutes (~40 microseconds per sample); did statistics on them to extract a signal corresponding to 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rgued that the best current classical algorithms, running on 1M cores, would’ve taken ~10,000 years to do the same—so, a quantum speedup by a factor of ~2 billion, or ~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5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in the “number of gat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28600" y="228600"/>
            <a:ext cx="8763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</a:rPr>
              <a:t>How to Achieve Quantum Supremac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81160" y="1006560"/>
            <a:ext cx="86738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Shor’s factoring algorithm, Grover’s search algorithm, even simulating quantum chemistry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las, too expensive for now.  May require error-correction, incurring a huge overhead—but at any rate, more and better qubits than feasible in the near fu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63600" y="3581280"/>
            <a:ext cx="8508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alibri"/>
                <a:ea typeface="Arial"/>
              </a:rPr>
              <a:t>Idea (Terhal-DiVincenzo 2004, A.-Arkhipov 2011, Bremner-Jozsa-Shepherd 2011)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Sampling problems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nstead of a single right answer, just ask for samples from a target probability distrib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493560" y="5638680"/>
            <a:ext cx="5678640" cy="947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dvantag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xperimental feasibility, high confidence in classical har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6270480" y="5208480"/>
            <a:ext cx="2721240" cy="1373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isadvantag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useless?  how to check resul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7"/>
          <p:cNvSpPr/>
          <p:nvPr/>
        </p:nvSpPr>
        <p:spPr>
          <a:xfrm flipH="1">
            <a:off x="12600" y="3479760"/>
            <a:ext cx="9144000" cy="64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465120" y="149400"/>
            <a:ext cx="83059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Random Circuit Proposal</a:t>
            </a:r>
            <a:br>
              <a:rPr sz="4400"/>
            </a:b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(A. and Google team, 201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2449440" y="1387440"/>
            <a:ext cx="64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hallenge the QC by sending it a randomly generated quantum circuit C on n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"/>
          <p:cNvSpPr/>
          <p:nvPr/>
        </p:nvSpPr>
        <p:spPr>
          <a:xfrm>
            <a:off x="393840" y="14144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928800" y="14144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8"/>
          <p:cNvSpPr/>
          <p:nvPr/>
        </p:nvSpPr>
        <p:spPr>
          <a:xfrm>
            <a:off x="393840" y="18669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9"/>
          <p:cNvSpPr/>
          <p:nvPr/>
        </p:nvSpPr>
        <p:spPr>
          <a:xfrm>
            <a:off x="928800" y="18669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3"/>
          <p:cNvSpPr/>
          <p:nvPr/>
        </p:nvSpPr>
        <p:spPr>
          <a:xfrm>
            <a:off x="393840" y="23432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4"/>
          <p:cNvSpPr/>
          <p:nvPr/>
        </p:nvSpPr>
        <p:spPr>
          <a:xfrm>
            <a:off x="928800" y="23432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7"/>
          <p:cNvSpPr/>
          <p:nvPr/>
        </p:nvSpPr>
        <p:spPr>
          <a:xfrm>
            <a:off x="393840" y="27957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8"/>
          <p:cNvSpPr/>
          <p:nvPr/>
        </p:nvSpPr>
        <p:spPr>
          <a:xfrm>
            <a:off x="928800" y="27957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6"/>
          <p:cNvGrpSpPr/>
          <p:nvPr/>
        </p:nvGrpSpPr>
        <p:grpSpPr>
          <a:xfrm>
            <a:off x="446040" y="1490760"/>
            <a:ext cx="662040" cy="1407960"/>
            <a:chOff x="446040" y="1490760"/>
            <a:chExt cx="662040" cy="1407960"/>
          </a:xfrm>
        </p:grpSpPr>
        <p:sp>
          <p:nvSpPr>
            <p:cNvPr id="254" name="Straight Connector 4"/>
            <p:cNvSpPr/>
            <p:nvPr/>
          </p:nvSpPr>
          <p:spPr>
            <a:xfrm>
              <a:off x="482400" y="149076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Straight Connector 23"/>
            <p:cNvSpPr/>
            <p:nvPr/>
          </p:nvSpPr>
          <p:spPr>
            <a:xfrm>
              <a:off x="469800" y="194292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Straight Connector 24"/>
            <p:cNvSpPr/>
            <p:nvPr/>
          </p:nvSpPr>
          <p:spPr>
            <a:xfrm>
              <a:off x="458640" y="243360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Straight Connector 25"/>
            <p:cNvSpPr/>
            <p:nvPr/>
          </p:nvSpPr>
          <p:spPr>
            <a:xfrm>
              <a:off x="446040" y="288612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Oval 26"/>
          <p:cNvSpPr/>
          <p:nvPr/>
        </p:nvSpPr>
        <p:spPr>
          <a:xfrm>
            <a:off x="1471680" y="14144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27"/>
          <p:cNvSpPr/>
          <p:nvPr/>
        </p:nvSpPr>
        <p:spPr>
          <a:xfrm>
            <a:off x="2006640" y="14144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8"/>
          <p:cNvSpPr/>
          <p:nvPr/>
        </p:nvSpPr>
        <p:spPr>
          <a:xfrm>
            <a:off x="1471680" y="18669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9"/>
          <p:cNvSpPr/>
          <p:nvPr/>
        </p:nvSpPr>
        <p:spPr>
          <a:xfrm>
            <a:off x="2006640" y="18669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1471680" y="23432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2006640" y="23432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32"/>
          <p:cNvSpPr/>
          <p:nvPr/>
        </p:nvSpPr>
        <p:spPr>
          <a:xfrm>
            <a:off x="1471680" y="27957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33"/>
          <p:cNvSpPr/>
          <p:nvPr/>
        </p:nvSpPr>
        <p:spPr>
          <a:xfrm>
            <a:off x="2006640" y="27957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7"/>
          <p:cNvGrpSpPr/>
          <p:nvPr/>
        </p:nvGrpSpPr>
        <p:grpSpPr>
          <a:xfrm>
            <a:off x="1525680" y="1490760"/>
            <a:ext cx="660240" cy="1407960"/>
            <a:chOff x="1525680" y="1490760"/>
            <a:chExt cx="660240" cy="1407960"/>
          </a:xfrm>
        </p:grpSpPr>
        <p:sp>
          <p:nvSpPr>
            <p:cNvPr id="267" name="Straight Connector 34"/>
            <p:cNvSpPr/>
            <p:nvPr/>
          </p:nvSpPr>
          <p:spPr>
            <a:xfrm>
              <a:off x="1560600" y="1490760"/>
              <a:ext cx="62532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Straight Connector 35"/>
            <p:cNvSpPr/>
            <p:nvPr/>
          </p:nvSpPr>
          <p:spPr>
            <a:xfrm>
              <a:off x="1547640" y="1942920"/>
              <a:ext cx="62532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Straight Connector 36"/>
            <p:cNvSpPr/>
            <p:nvPr/>
          </p:nvSpPr>
          <p:spPr>
            <a:xfrm>
              <a:off x="1536480" y="2433600"/>
              <a:ext cx="62532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Straight Connector 37"/>
            <p:cNvSpPr/>
            <p:nvPr/>
          </p:nvSpPr>
          <p:spPr>
            <a:xfrm>
              <a:off x="1525680" y="2886120"/>
              <a:ext cx="62532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3"/>
          <p:cNvSpPr/>
          <p:nvPr/>
        </p:nvSpPr>
        <p:spPr>
          <a:xfrm>
            <a:off x="369720" y="39625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n, using classical brute force, check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2438280" y="2505240"/>
            <a:ext cx="6443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sk the QC to send back (quickly!) sample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 distribution over n-bit strings obtained by applying C to 0…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2"/>
          <p:cNvGraphicFramePr/>
          <p:nvPr/>
        </p:nvGraphicFramePr>
        <p:xfrm>
          <a:off x="473040" y="4446720"/>
          <a:ext cx="546732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4446720"/>
                    <a:ext cx="54673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Text Box 3"/>
          <p:cNvSpPr/>
          <p:nvPr/>
        </p:nvSpPr>
        <p:spPr>
          <a:xfrm>
            <a:off x="380880" y="60958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some constant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41"/>
          <p:cNvGrpSpPr/>
          <p:nvPr/>
        </p:nvGrpSpPr>
        <p:grpSpPr>
          <a:xfrm>
            <a:off x="934920" y="1504800"/>
            <a:ext cx="662040" cy="1406520"/>
            <a:chOff x="934920" y="1504800"/>
            <a:chExt cx="662040" cy="1406520"/>
          </a:xfrm>
        </p:grpSpPr>
        <p:sp>
          <p:nvSpPr>
            <p:cNvPr id="277" name="Straight Connector 42"/>
            <p:cNvSpPr/>
            <p:nvPr/>
          </p:nvSpPr>
          <p:spPr>
            <a:xfrm>
              <a:off x="971280" y="150480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Straight Connector 43"/>
            <p:cNvSpPr/>
            <p:nvPr/>
          </p:nvSpPr>
          <p:spPr>
            <a:xfrm>
              <a:off x="958680" y="195732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Straight Connector 44"/>
            <p:cNvSpPr/>
            <p:nvPr/>
          </p:nvSpPr>
          <p:spPr>
            <a:xfrm>
              <a:off x="947520" y="244620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Straight Connector 45"/>
            <p:cNvSpPr/>
            <p:nvPr/>
          </p:nvSpPr>
          <p:spPr>
            <a:xfrm>
              <a:off x="934920" y="289872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46"/>
          <p:cNvGrpSpPr/>
          <p:nvPr/>
        </p:nvGrpSpPr>
        <p:grpSpPr>
          <a:xfrm>
            <a:off x="479520" y="2498760"/>
            <a:ext cx="1631880" cy="350640"/>
            <a:chOff x="479520" y="2498760"/>
            <a:chExt cx="1631880" cy="350640"/>
          </a:xfrm>
        </p:grpSpPr>
        <p:sp>
          <p:nvSpPr>
            <p:cNvPr id="282" name="Straight Connector 47"/>
            <p:cNvSpPr/>
            <p:nvPr/>
          </p:nvSpPr>
          <p:spPr>
            <a:xfrm flipV="1">
              <a:off x="479520" y="2498760"/>
              <a:ext cx="15840" cy="33192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Straight Connector 48"/>
            <p:cNvSpPr/>
            <p:nvPr/>
          </p:nvSpPr>
          <p:spPr>
            <a:xfrm flipV="1">
              <a:off x="1003320" y="2504880"/>
              <a:ext cx="15840" cy="33192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Straight Connector 49"/>
            <p:cNvSpPr/>
            <p:nvPr/>
          </p:nvSpPr>
          <p:spPr>
            <a:xfrm flipV="1">
              <a:off x="1571760" y="2511360"/>
              <a:ext cx="15840" cy="33192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Straight Connector 50"/>
            <p:cNvSpPr/>
            <p:nvPr/>
          </p:nvSpPr>
          <p:spPr>
            <a:xfrm flipV="1">
              <a:off x="2095560" y="2517480"/>
              <a:ext cx="15840" cy="33192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51"/>
          <p:cNvGrpSpPr/>
          <p:nvPr/>
        </p:nvGrpSpPr>
        <p:grpSpPr>
          <a:xfrm>
            <a:off x="490680" y="1545840"/>
            <a:ext cx="1631880" cy="351000"/>
            <a:chOff x="490680" y="1545840"/>
            <a:chExt cx="1631880" cy="351000"/>
          </a:xfrm>
        </p:grpSpPr>
        <p:sp>
          <p:nvSpPr>
            <p:cNvPr id="287" name="Straight Connector 52"/>
            <p:cNvSpPr/>
            <p:nvPr/>
          </p:nvSpPr>
          <p:spPr>
            <a:xfrm flipV="1">
              <a:off x="490680" y="154584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Straight Connector 53"/>
            <p:cNvSpPr/>
            <p:nvPr/>
          </p:nvSpPr>
          <p:spPr>
            <a:xfrm flipV="1">
              <a:off x="1014480" y="155196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Straight Connector 54"/>
            <p:cNvSpPr/>
            <p:nvPr/>
          </p:nvSpPr>
          <p:spPr>
            <a:xfrm flipV="1">
              <a:off x="1582920" y="155844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Straight Connector 55"/>
            <p:cNvSpPr/>
            <p:nvPr/>
          </p:nvSpPr>
          <p:spPr>
            <a:xfrm flipV="1">
              <a:off x="2106720" y="156456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56"/>
          <p:cNvGrpSpPr/>
          <p:nvPr/>
        </p:nvGrpSpPr>
        <p:grpSpPr>
          <a:xfrm>
            <a:off x="457200" y="2003040"/>
            <a:ext cx="1631880" cy="351000"/>
            <a:chOff x="457200" y="2003040"/>
            <a:chExt cx="1631880" cy="351000"/>
          </a:xfrm>
        </p:grpSpPr>
        <p:sp>
          <p:nvSpPr>
            <p:cNvPr id="292" name="Straight Connector 57"/>
            <p:cNvSpPr/>
            <p:nvPr/>
          </p:nvSpPr>
          <p:spPr>
            <a:xfrm flipV="1">
              <a:off x="457200" y="200304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Straight Connector 58"/>
            <p:cNvSpPr/>
            <p:nvPr/>
          </p:nvSpPr>
          <p:spPr>
            <a:xfrm flipV="1">
              <a:off x="981000" y="200916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Straight Connector 59"/>
            <p:cNvSpPr/>
            <p:nvPr/>
          </p:nvSpPr>
          <p:spPr>
            <a:xfrm flipV="1">
              <a:off x="1549440" y="201564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Straight Connector 60"/>
            <p:cNvSpPr/>
            <p:nvPr/>
          </p:nvSpPr>
          <p:spPr>
            <a:xfrm flipV="1">
              <a:off x="2073240" y="202176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3"/>
          <p:cNvSpPr/>
          <p:nvPr/>
        </p:nvSpPr>
        <p:spPr>
          <a:xfrm>
            <a:off x="6391440" y="4629240"/>
            <a:ext cx="2379600" cy="1800360"/>
          </a:xfrm>
          <a:prstGeom prst="rect">
            <a:avLst/>
          </a:prstGeom>
          <a:solidFill>
            <a:srgbClr val="ffffd5"/>
          </a:solidFill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oogle’s “Linear Cross-Entropy Benchmar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433440" y="3316320"/>
            <a:ext cx="5059440" cy="313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8" name="Object 10"/>
              <p:cNvSpPr txBox="1"/>
              <p:nvPr/>
            </p:nvSpPr>
            <p:spPr>
              <a:xfrm>
                <a:off x="4160880" y="5403960"/>
                <a:ext cx="676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11"/>
              <p:cNvSpPr txBox="1"/>
              <p:nvPr/>
            </p:nvSpPr>
            <p:spPr>
              <a:xfrm>
                <a:off x="811080" y="3449520"/>
                <a:ext cx="5079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0" name="Text Box 2"/>
          <p:cNvSpPr/>
          <p:nvPr/>
        </p:nvSpPr>
        <p:spPr>
          <a:xfrm>
            <a:off x="419040" y="24300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at’s Going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43080" y="98748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ll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possible output strings are exponentially unlikely—but some are unlikelier than oth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6400800" y="5756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Speck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1" descr=""/>
          <p:cNvPicPr/>
          <p:nvPr/>
        </p:nvPicPr>
        <p:blipFill>
          <a:blip r:embed="rId2"/>
          <a:stretch/>
        </p:blipFill>
        <p:spPr>
          <a:xfrm>
            <a:off x="6095880" y="3309840"/>
            <a:ext cx="2438640" cy="24368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3"/>
          <p:cNvSpPr/>
          <p:nvPr/>
        </p:nvSpPr>
        <p:spPr>
          <a:xfrm>
            <a:off x="365040" y="1987560"/>
            <a:ext cx="8528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Picking uniformly at random will get samples of average probability 1/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, but an ideal QC will get 2/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330120" y="152280"/>
            <a:ext cx="850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How Hard Is Classical Spoof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992240" y="922320"/>
            <a:ext cx="693108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State-of-the-art classical method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“Schrödinger-Feynman algorithm” </a:t>
            </a:r>
            <a:r>
              <a:rPr b="1" lang="en-US" sz="3000" spc="-1" strike="noStrike">
                <a:solidFill>
                  <a:srgbClr val="009900"/>
                </a:solidFill>
                <a:latin typeface="Calibri"/>
                <a:ea typeface="Arial"/>
              </a:rPr>
              <a:t>(A.-Chen 2017)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 Uses recursion to make best use of available memory.  Can enhance further e.g. by exploiting 2D locality.  Used by Google to produce its 10,000-year estim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Possible future competitor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ensor network contraction (cf. Gray 201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"/>
          <p:cNvPicPr/>
          <p:nvPr/>
        </p:nvPicPr>
        <p:blipFill>
          <a:blip r:embed="rId1"/>
          <a:stretch/>
        </p:blipFill>
        <p:spPr>
          <a:xfrm>
            <a:off x="243000" y="1017720"/>
            <a:ext cx="1542960" cy="1782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4" descr=""/>
          <p:cNvPicPr/>
          <p:nvPr/>
        </p:nvPicPr>
        <p:blipFill>
          <a:blip r:embed="rId2"/>
          <a:srcRect l="0" t="0" r="0" b="10671"/>
          <a:stretch/>
        </p:blipFill>
        <p:spPr>
          <a:xfrm>
            <a:off x="220680" y="2782800"/>
            <a:ext cx="1565280" cy="19209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3"/>
          <p:cNvSpPr/>
          <p:nvPr/>
        </p:nvSpPr>
        <p:spPr>
          <a:xfrm>
            <a:off x="396720" y="4910040"/>
            <a:ext cx="8442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Theorem (A.-Chen 2017, A.-Gunn 2019)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 fast classical algorithm to spoof Linear XEB implies a fast algorithm to estimate a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specifi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output probability, like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|C|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slight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better than ch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333360" y="35942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if for every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, and every possible measurement outcome 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1"/>
          <p:cNvGraphicFramePr/>
          <p:nvPr/>
        </p:nvGraphicFramePr>
        <p:xfrm>
          <a:off x="3267000" y="5130720"/>
          <a:ext cx="29764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7000" y="5130720"/>
                    <a:ext cx="29764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2"/>
          <p:cNvSpPr/>
          <p:nvPr/>
        </p:nvSpPr>
        <p:spPr>
          <a:xfrm>
            <a:off x="333360" y="608652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ypical choice for 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duct stat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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3200400" y="1076400"/>
            <a:ext cx="547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s in quantum mechanics are famously de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3200400" y="215748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not always!  If a qubit is known to be either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checking to see which one doesn’t damage it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3" descr="Image result for schrodinger's cat"/>
          <p:cNvPicPr/>
          <p:nvPr/>
        </p:nvPicPr>
        <p:blipFill>
          <a:blip r:embed="rId3"/>
          <a:stretch/>
        </p:blipFill>
        <p:spPr>
          <a:xfrm>
            <a:off x="304920" y="1135080"/>
            <a:ext cx="2641320" cy="19861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"/>
          <p:cNvSpPr/>
          <p:nvPr/>
        </p:nvSpPr>
        <p:spPr>
          <a:xfrm>
            <a:off x="187200" y="5086440"/>
            <a:ext cx="2857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Post-measurement state if outcome is 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6392880" y="4775040"/>
            <a:ext cx="27432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Trace distance, standard metric on quantum sta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7"/>
          <p:cNvCxnSpPr/>
          <p:nvPr/>
        </p:nvCxnSpPr>
        <p:spPr>
          <a:xfrm flipH="1" flipV="1">
            <a:off x="5476680" y="5803200"/>
            <a:ext cx="986400" cy="108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lg" type="arrow" w="lg"/>
          </a:ln>
        </p:spPr>
      </p:cxnSp>
      <p:cxnSp>
        <p:nvCxnSpPr>
          <p:cNvPr id="148" name="Straight Arrow Connector 18"/>
          <p:cNvCxnSpPr/>
          <p:nvPr/>
        </p:nvCxnSpPr>
        <p:spPr>
          <a:xfrm>
            <a:off x="2733480" y="5517720"/>
            <a:ext cx="686520" cy="108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228600" y="228600"/>
            <a:ext cx="868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“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ut even if these sampling-based supremacy experiments work, they’ll just produce mostly-random bits, which is </a:t>
            </a:r>
            <a:r>
              <a:rPr b="1" i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bviously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useless…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33480" y="3602160"/>
            <a:ext cx="1348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Arial"/>
                <a:ea typeface="Arial"/>
              </a:rPr>
              <a:t>1101000011010011110110110011001100010100100110100011111011110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223920" y="195120"/>
            <a:ext cx="8762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New Idea (A. 2018): Randomness from Quantum Supremacy Experi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146160" y="5638680"/>
            <a:ext cx="8920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.e., even a QC would have a hard time generating plausible-looking samples in a secretly deterministic 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146160" y="3254400"/>
            <a:ext cx="88185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Key Insight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f a QC passes the Linear XEB test for quantum supremacy, it’s proved more than just its quantumness.  Under plausible assumptions, it’s also proved it must have generated the sample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random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br>
              <a:rPr sz="3000"/>
            </a:br>
            <a:r>
              <a:rPr b="1" lang="en-US" sz="2400" spc="-1" strike="noStrike">
                <a:solidFill>
                  <a:srgbClr val="009900"/>
                </a:solidFill>
                <a:latin typeface="Calibri"/>
                <a:ea typeface="Arial"/>
              </a:rPr>
              <a:t>(At least somewh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5"/>
          <p:cNvGrpSpPr/>
          <p:nvPr/>
        </p:nvGrpSpPr>
        <p:grpSpPr>
          <a:xfrm>
            <a:off x="1301760" y="1766880"/>
            <a:ext cx="1369800" cy="1290240"/>
            <a:chOff x="1301760" y="1766880"/>
            <a:chExt cx="1369800" cy="1290240"/>
          </a:xfrm>
        </p:grpSpPr>
        <p:sp>
          <p:nvSpPr>
            <p:cNvPr id="316" name="Freeform 6"/>
            <p:cNvSpPr/>
            <p:nvPr/>
          </p:nvSpPr>
          <p:spPr>
            <a:xfrm>
              <a:off x="1518480" y="1797480"/>
              <a:ext cx="752400" cy="71424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"/>
            <p:cNvSpPr/>
            <p:nvPr/>
          </p:nvSpPr>
          <p:spPr>
            <a:xfrm>
              <a:off x="1610640" y="189720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1688760" y="254304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"/>
            <p:cNvSpPr/>
            <p:nvPr/>
          </p:nvSpPr>
          <p:spPr>
            <a:xfrm>
              <a:off x="1942200" y="217512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0"/>
            <p:cNvSpPr/>
            <p:nvPr/>
          </p:nvSpPr>
          <p:spPr>
            <a:xfrm>
              <a:off x="2381760" y="278424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1"/>
            <p:cNvSpPr/>
            <p:nvPr/>
          </p:nvSpPr>
          <p:spPr>
            <a:xfrm>
              <a:off x="2381760" y="281844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2386080" y="289620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3"/>
            <p:cNvSpPr/>
            <p:nvPr/>
          </p:nvSpPr>
          <p:spPr>
            <a:xfrm>
              <a:off x="2388960" y="283248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4"/>
            <p:cNvSpPr/>
            <p:nvPr/>
          </p:nvSpPr>
          <p:spPr>
            <a:xfrm>
              <a:off x="2597760" y="285624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2370960" y="278280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6"/>
            <p:cNvSpPr/>
            <p:nvPr/>
          </p:nvSpPr>
          <p:spPr>
            <a:xfrm>
              <a:off x="2540520" y="287640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2460960" y="281052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8"/>
            <p:cNvSpPr/>
            <p:nvPr/>
          </p:nvSpPr>
          <p:spPr>
            <a:xfrm>
              <a:off x="2427480" y="279828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9"/>
            <p:cNvSpPr/>
            <p:nvPr/>
          </p:nvSpPr>
          <p:spPr>
            <a:xfrm>
              <a:off x="2317320" y="290736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0"/>
            <p:cNvSpPr/>
            <p:nvPr/>
          </p:nvSpPr>
          <p:spPr>
            <a:xfrm>
              <a:off x="1320840" y="2728080"/>
              <a:ext cx="1013400" cy="209160"/>
            </a:xfrm>
            <a:custGeom>
              <a:avLst/>
              <a:gdLst>
                <a:gd name="textAreaLeft" fmla="*/ 0 w 1013400"/>
                <a:gd name="textAreaRight" fmla="*/ 1013760 w 10134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1"/>
            <p:cNvSpPr/>
            <p:nvPr/>
          </p:nvSpPr>
          <p:spPr>
            <a:xfrm>
              <a:off x="1521000" y="260676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1722960" y="251136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3"/>
            <p:cNvSpPr/>
            <p:nvPr/>
          </p:nvSpPr>
          <p:spPr>
            <a:xfrm>
              <a:off x="2056320" y="192492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4"/>
            <p:cNvSpPr/>
            <p:nvPr/>
          </p:nvSpPr>
          <p:spPr>
            <a:xfrm>
              <a:off x="1690560" y="2415960"/>
              <a:ext cx="376560" cy="5940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5"/>
            <p:cNvSpPr/>
            <p:nvPr/>
          </p:nvSpPr>
          <p:spPr>
            <a:xfrm>
              <a:off x="1565640" y="185868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6"/>
            <p:cNvSpPr/>
            <p:nvPr/>
          </p:nvSpPr>
          <p:spPr>
            <a:xfrm>
              <a:off x="2016360" y="264096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7"/>
            <p:cNvSpPr/>
            <p:nvPr/>
          </p:nvSpPr>
          <p:spPr>
            <a:xfrm>
              <a:off x="2111760" y="268164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8"/>
            <p:cNvSpPr/>
            <p:nvPr/>
          </p:nvSpPr>
          <p:spPr>
            <a:xfrm>
              <a:off x="1311480" y="2877480"/>
              <a:ext cx="1010880" cy="619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9"/>
            <p:cNvSpPr/>
            <p:nvPr/>
          </p:nvSpPr>
          <p:spPr>
            <a:xfrm>
              <a:off x="1509480" y="257652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0"/>
            <p:cNvSpPr/>
            <p:nvPr/>
          </p:nvSpPr>
          <p:spPr>
            <a:xfrm>
              <a:off x="2267640" y="258372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1"/>
            <p:cNvSpPr/>
            <p:nvPr/>
          </p:nvSpPr>
          <p:spPr>
            <a:xfrm>
              <a:off x="2009880" y="264744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2"/>
            <p:cNvSpPr/>
            <p:nvPr/>
          </p:nvSpPr>
          <p:spPr>
            <a:xfrm>
              <a:off x="2018880" y="263592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3"/>
            <p:cNvSpPr/>
            <p:nvPr/>
          </p:nvSpPr>
          <p:spPr>
            <a:xfrm>
              <a:off x="2106360" y="267912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4"/>
            <p:cNvSpPr/>
            <p:nvPr/>
          </p:nvSpPr>
          <p:spPr>
            <a:xfrm>
              <a:off x="1459800" y="270288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5"/>
            <p:cNvSpPr/>
            <p:nvPr/>
          </p:nvSpPr>
          <p:spPr>
            <a:xfrm>
              <a:off x="1345680" y="2859480"/>
              <a:ext cx="697680" cy="38880"/>
            </a:xfrm>
            <a:custGeom>
              <a:avLst/>
              <a:gdLst/>
              <a:ahLst/>
              <a:rect l="l" t="t" r="r" b="b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6"/>
            <p:cNvSpPr/>
            <p:nvPr/>
          </p:nvSpPr>
          <p:spPr>
            <a:xfrm>
              <a:off x="2246400" y="274608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7"/>
            <p:cNvSpPr/>
            <p:nvPr/>
          </p:nvSpPr>
          <p:spPr>
            <a:xfrm>
              <a:off x="2288880" y="289044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8"/>
            <p:cNvSpPr/>
            <p:nvPr/>
          </p:nvSpPr>
          <p:spPr>
            <a:xfrm>
              <a:off x="1327680" y="2909160"/>
              <a:ext cx="978120" cy="3816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9"/>
            <p:cNvSpPr/>
            <p:nvPr/>
          </p:nvSpPr>
          <p:spPr>
            <a:xfrm>
              <a:off x="1511640" y="2752560"/>
              <a:ext cx="520920" cy="5292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0"/>
            <p:cNvSpPr/>
            <p:nvPr/>
          </p:nvSpPr>
          <p:spPr>
            <a:xfrm>
              <a:off x="1485720" y="279972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1"/>
            <p:cNvSpPr/>
            <p:nvPr/>
          </p:nvSpPr>
          <p:spPr>
            <a:xfrm>
              <a:off x="2107080" y="278856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42"/>
            <p:cNvSpPr/>
            <p:nvPr/>
          </p:nvSpPr>
          <p:spPr>
            <a:xfrm>
              <a:off x="2133000" y="281700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3"/>
            <p:cNvSpPr/>
            <p:nvPr/>
          </p:nvSpPr>
          <p:spPr>
            <a:xfrm>
              <a:off x="2142000" y="284868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4"/>
            <p:cNvSpPr/>
            <p:nvPr/>
          </p:nvSpPr>
          <p:spPr>
            <a:xfrm>
              <a:off x="1493280" y="1766880"/>
              <a:ext cx="711720" cy="186480"/>
            </a:xfrm>
            <a:custGeom>
              <a:avLst/>
              <a:gdLst>
                <a:gd name="textAreaLeft" fmla="*/ 0 w 711720"/>
                <a:gd name="textAreaRight" fmla="*/ 712080 w 71172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5"/>
            <p:cNvSpPr/>
            <p:nvPr/>
          </p:nvSpPr>
          <p:spPr>
            <a:xfrm>
              <a:off x="2230200" y="178128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6"/>
            <p:cNvSpPr/>
            <p:nvPr/>
          </p:nvSpPr>
          <p:spPr>
            <a:xfrm>
              <a:off x="2181240" y="1872000"/>
              <a:ext cx="123840" cy="620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7"/>
            <p:cNvSpPr/>
            <p:nvPr/>
          </p:nvSpPr>
          <p:spPr>
            <a:xfrm>
              <a:off x="2148480" y="182304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8"/>
            <p:cNvSpPr/>
            <p:nvPr/>
          </p:nvSpPr>
          <p:spPr>
            <a:xfrm>
              <a:off x="1492200" y="196884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49"/>
            <p:cNvSpPr/>
            <p:nvPr/>
          </p:nvSpPr>
          <p:spPr>
            <a:xfrm>
              <a:off x="1643040" y="249552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50"/>
            <p:cNvSpPr/>
            <p:nvPr/>
          </p:nvSpPr>
          <p:spPr>
            <a:xfrm>
              <a:off x="2100600" y="249624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51"/>
            <p:cNvSpPr/>
            <p:nvPr/>
          </p:nvSpPr>
          <p:spPr>
            <a:xfrm>
              <a:off x="1688760" y="250128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2"/>
            <p:cNvSpPr/>
            <p:nvPr/>
          </p:nvSpPr>
          <p:spPr>
            <a:xfrm>
              <a:off x="1649880" y="258372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53"/>
            <p:cNvSpPr/>
            <p:nvPr/>
          </p:nvSpPr>
          <p:spPr>
            <a:xfrm>
              <a:off x="2022840" y="249984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54"/>
            <p:cNvSpPr/>
            <p:nvPr/>
          </p:nvSpPr>
          <p:spPr>
            <a:xfrm>
              <a:off x="2136240" y="254304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55"/>
            <p:cNvSpPr/>
            <p:nvPr/>
          </p:nvSpPr>
          <p:spPr>
            <a:xfrm>
              <a:off x="1679760" y="243540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56"/>
            <p:cNvSpPr/>
            <p:nvPr/>
          </p:nvSpPr>
          <p:spPr>
            <a:xfrm>
              <a:off x="1681560" y="240840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57"/>
            <p:cNvSpPr/>
            <p:nvPr/>
          </p:nvSpPr>
          <p:spPr>
            <a:xfrm>
              <a:off x="2066400" y="241020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58"/>
            <p:cNvSpPr/>
            <p:nvPr/>
          </p:nvSpPr>
          <p:spPr>
            <a:xfrm>
              <a:off x="1984680" y="242964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59"/>
            <p:cNvSpPr/>
            <p:nvPr/>
          </p:nvSpPr>
          <p:spPr>
            <a:xfrm>
              <a:off x="1910520" y="242856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60"/>
            <p:cNvSpPr/>
            <p:nvPr/>
          </p:nvSpPr>
          <p:spPr>
            <a:xfrm>
              <a:off x="1824840" y="242640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61"/>
            <p:cNvSpPr/>
            <p:nvPr/>
          </p:nvSpPr>
          <p:spPr>
            <a:xfrm>
              <a:off x="1750680" y="243036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62"/>
            <p:cNvSpPr/>
            <p:nvPr/>
          </p:nvSpPr>
          <p:spPr>
            <a:xfrm>
              <a:off x="1967400" y="189720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3"/>
            <p:cNvSpPr/>
            <p:nvPr/>
          </p:nvSpPr>
          <p:spPr>
            <a:xfrm>
              <a:off x="1572120" y="207576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4"/>
            <p:cNvSpPr/>
            <p:nvPr/>
          </p:nvSpPr>
          <p:spPr>
            <a:xfrm>
              <a:off x="1684800" y="234180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65"/>
            <p:cNvSpPr/>
            <p:nvPr/>
          </p:nvSpPr>
          <p:spPr>
            <a:xfrm>
              <a:off x="2065680" y="188172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6"/>
            <p:cNvSpPr/>
            <p:nvPr/>
          </p:nvSpPr>
          <p:spPr>
            <a:xfrm>
              <a:off x="1301760" y="286812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67"/>
            <p:cNvSpPr/>
            <p:nvPr/>
          </p:nvSpPr>
          <p:spPr>
            <a:xfrm>
              <a:off x="1571400" y="187740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8"/>
            <p:cNvSpPr/>
            <p:nvPr/>
          </p:nvSpPr>
          <p:spPr>
            <a:xfrm>
              <a:off x="1608120" y="191988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69"/>
            <p:cNvSpPr/>
            <p:nvPr/>
          </p:nvSpPr>
          <p:spPr>
            <a:xfrm>
              <a:off x="1503720" y="262764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6178680" y="1743120"/>
            <a:ext cx="1751040" cy="1287360"/>
          </a:xfrm>
          <a:prstGeom prst="rect">
            <a:avLst/>
          </a:prstGeom>
          <a:ln w="0">
            <a:noFill/>
          </a:ln>
        </p:spPr>
      </p:pic>
      <p:cxnSp>
        <p:nvCxnSpPr>
          <p:cNvPr id="381" name="Straight Arrow Connector 3"/>
          <p:cNvCxnSpPr/>
          <p:nvPr/>
        </p:nvCxnSpPr>
        <p:spPr>
          <a:xfrm>
            <a:off x="2570040" y="196812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382" name="Straight Arrow Connector 75"/>
          <p:cNvCxnSpPr/>
          <p:nvPr/>
        </p:nvCxnSpPr>
        <p:spPr>
          <a:xfrm>
            <a:off x="2576520" y="222696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cxnSp>
        <p:nvCxnSpPr>
          <p:cNvPr id="383" name="Straight Arrow Connector 76"/>
          <p:cNvCxnSpPr/>
          <p:nvPr/>
        </p:nvCxnSpPr>
        <p:spPr>
          <a:xfrm>
            <a:off x="2561760" y="2488680"/>
            <a:ext cx="34585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384" name="Straight Arrow Connector 77"/>
          <p:cNvCxnSpPr/>
          <p:nvPr/>
        </p:nvCxnSpPr>
        <p:spPr>
          <a:xfrm>
            <a:off x="2561760" y="2752200"/>
            <a:ext cx="34585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3"/>
          <p:cNvGrpSpPr/>
          <p:nvPr/>
        </p:nvGrpSpPr>
        <p:grpSpPr>
          <a:xfrm>
            <a:off x="1501920" y="1427040"/>
            <a:ext cx="2767320" cy="961560"/>
            <a:chOff x="1501920" y="1427040"/>
            <a:chExt cx="2767320" cy="961560"/>
          </a:xfrm>
        </p:grpSpPr>
        <p:sp>
          <p:nvSpPr>
            <p:cNvPr id="386" name="Straight Connector 17"/>
            <p:cNvSpPr/>
            <p:nvPr/>
          </p:nvSpPr>
          <p:spPr>
            <a:xfrm>
              <a:off x="2111400" y="1811160"/>
              <a:ext cx="156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4"/>
            <p:cNvSpPr/>
            <p:nvPr/>
          </p:nvSpPr>
          <p:spPr>
            <a:xfrm>
              <a:off x="2606760" y="15048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Group 49"/>
            <p:cNvGrpSpPr/>
            <p:nvPr/>
          </p:nvGrpSpPr>
          <p:grpSpPr>
            <a:xfrm>
              <a:off x="3458880" y="1427040"/>
              <a:ext cx="810360" cy="961560"/>
              <a:chOff x="3458880" y="1427040"/>
              <a:chExt cx="810360" cy="961560"/>
            </a:xfrm>
          </p:grpSpPr>
          <p:sp>
            <p:nvSpPr>
              <p:cNvPr id="389" name="Chord 38"/>
              <p:cNvSpPr/>
              <p:nvPr/>
            </p:nvSpPr>
            <p:spPr>
              <a:xfrm rot="7220400">
                <a:off x="3560400" y="1687320"/>
                <a:ext cx="606600" cy="583920"/>
              </a:xfrm>
              <a:custGeom>
                <a:avLst/>
                <a:gdLst/>
                <a:ahLst/>
                <a:rect l="l" t="t" r="r" b="b"/>
                <a:pathLst>
                  <a:path w="606971" h="584538">
                    <a:moveTo>
                      <a:pt x="496030" y="518184"/>
                    </a:moveTo>
                    <a:cubicBezTo>
                      <a:pt x="405346" y="589865"/>
                      <a:pt x="279884" y="604790"/>
                      <a:pt x="173813" y="556515"/>
                    </a:cubicBezTo>
                    <a:cubicBezTo>
                      <a:pt x="62787" y="505985"/>
                      <a:pt x="-5677" y="396000"/>
                      <a:pt x="367" y="277882"/>
                    </a:cubicBezTo>
                    <a:cubicBezTo>
                      <a:pt x="6378" y="160410"/>
                      <a:pt x="84922" y="57853"/>
                      <a:pt x="199685" y="17626"/>
                    </a:cubicBezTo>
                    <a:lnTo>
                      <a:pt x="496030" y="518184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90" name="Straight Arrow Connector 39"/>
              <p:cNvCxnSpPr>
                <a:stCxn id="389" idx="2"/>
              </p:cNvCxnSpPr>
              <p:nvPr/>
            </p:nvCxnSpPr>
            <p:spPr>
              <a:xfrm flipV="1">
                <a:off x="3861720" y="142704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sp>
          <p:nvSpPr>
            <p:cNvPr id="391" name="Text Box 3"/>
            <p:cNvSpPr/>
            <p:nvPr/>
          </p:nvSpPr>
          <p:spPr>
            <a:xfrm>
              <a:off x="1501920" y="15048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 Box 2"/>
          <p:cNvSpPr/>
          <p:nvPr/>
        </p:nvSpPr>
        <p:spPr>
          <a:xfrm>
            <a:off x="339840" y="228600"/>
            <a:ext cx="8494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Obviously, there ar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muc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easier ways to generate random bit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69720" y="2517840"/>
            <a:ext cx="8494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hese are fine if you own your own random number generator.  But what if you need to download random bits off the Internet an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trus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that they’re random?  This is exactly the situation with, e.g.,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proof-of-stake cryptocurrenci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nd other crypto protoc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Image result for geiger counter"/>
          <p:cNvPicPr/>
          <p:nvPr/>
        </p:nvPicPr>
        <p:blipFill>
          <a:blip r:embed="rId1"/>
          <a:stretch/>
        </p:blipFill>
        <p:spPr>
          <a:xfrm>
            <a:off x="5592600" y="1066680"/>
            <a:ext cx="1704960" cy="14004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0" descr=""/>
          <p:cNvPicPr/>
          <p:nvPr/>
        </p:nvPicPr>
        <p:blipFill>
          <a:blip r:embed="rId2"/>
          <a:stretch/>
        </p:blipFill>
        <p:spPr>
          <a:xfrm>
            <a:off x="6789600" y="5218200"/>
            <a:ext cx="1805040" cy="114444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2"/>
          <p:cNvSpPr/>
          <p:nvPr/>
        </p:nvSpPr>
        <p:spPr>
          <a:xfrm>
            <a:off x="369720" y="5052960"/>
            <a:ext cx="6228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Google and NIST are currently working to demonstrate a public randomness beacon based on my 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304920" y="1066680"/>
            <a:ext cx="86104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Google has apparently achieved quantum supremacy, using Random Circuit Sampling on 53 qubits (check next week’s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Natur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)—building on a lot of “useless complexity theory” we did over the past decad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Even if true, this leaves the huge challenges of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scalabilit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fault-toler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, but already refutes those who said quantum speedups are im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t was thought obvious for years that sampling-based supremacy experiments had no applications.  My certified randomness protocol may change that—though challenges remain in making it pract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38080" y="2743200"/>
            <a:ext cx="9068040" cy="7365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2"/>
          <p:cNvSpPr/>
          <p:nvPr/>
        </p:nvSpPr>
        <p:spPr>
          <a:xfrm>
            <a:off x="34308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n unentangled qubits, measuring the number of 1’s could be extremely de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43080" y="4046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afer Approach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easure the number of 1’s plus deliberately-added noise (of order &gt;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). 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2"/>
          <a:stretch/>
        </p:blipFill>
        <p:spPr>
          <a:xfrm>
            <a:off x="1541520" y="2952720"/>
            <a:ext cx="7238880" cy="90324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11"/>
          <p:cNvSpPr/>
          <p:nvPr/>
        </p:nvSpPr>
        <p:spPr>
          <a:xfrm>
            <a:off x="5372280" y="2952720"/>
            <a:ext cx="152280" cy="8082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808200"/>
              <a:gd name="textAreaBottom" fmla="*/ 801000 h 808200"/>
            </a:gdLst>
            <a:ahLst/>
            <a:rect l="textAreaLeft" t="textAreaTop" r="textAreaRight" b="textAreaBottom"/>
            <a:pathLst>
              <a:path w="21600" h="114419">
                <a:moveTo>
                  <a:pt x="3600" y="0"/>
                </a:moveTo>
                <a:arcTo wR="3600" hR="3600" stAng="16200000" swAng="-5400000"/>
                <a:lnTo>
                  <a:pt x="0" y="110819"/>
                </a:lnTo>
                <a:arcTo wR="3600" hR="3600" stAng="10800000" swAng="-5400000"/>
                <a:lnTo>
                  <a:pt x="18000" y="1144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990720" y="1522440"/>
          <a:ext cx="5451480" cy="12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522440"/>
                    <a:ext cx="545148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3"/>
          <p:cNvGraphicFramePr/>
          <p:nvPr/>
        </p:nvGraphicFramePr>
        <p:xfrm>
          <a:off x="533520" y="5113440"/>
          <a:ext cx="3011400" cy="111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5113440"/>
                    <a:ext cx="3011400" cy="11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8"/>
          <p:cNvGraphicFramePr/>
          <p:nvPr/>
        </p:nvGraphicFramePr>
        <p:xfrm>
          <a:off x="3809880" y="5342040"/>
          <a:ext cx="5234040" cy="118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5342040"/>
                    <a:ext cx="523404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2"/>
          <p:cNvSpPr/>
          <p:nvPr/>
        </p:nvSpPr>
        <p:spPr>
          <a:xfrm>
            <a:off x="6649920" y="1523880"/>
            <a:ext cx="21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omitting normal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465120" y="6221520"/>
            <a:ext cx="30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Laplace noi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5"/>
          <p:cNvGrpSpPr/>
          <p:nvPr/>
        </p:nvGrpSpPr>
        <p:grpSpPr>
          <a:xfrm>
            <a:off x="7848720" y="5257440"/>
            <a:ext cx="1076400" cy="1535400"/>
            <a:chOff x="7848720" y="5257440"/>
            <a:chExt cx="1076400" cy="1535400"/>
          </a:xfrm>
        </p:grpSpPr>
        <p:sp>
          <p:nvSpPr>
            <p:cNvPr id="163" name="Block Arc 1"/>
            <p:cNvSpPr/>
            <p:nvPr/>
          </p:nvSpPr>
          <p:spPr>
            <a:xfrm>
              <a:off x="7848720" y="5649840"/>
              <a:ext cx="1076040" cy="1143000"/>
            </a:xfrm>
            <a:custGeom>
              <a:avLst/>
              <a:gdLst/>
              <a:ahLst/>
              <a:rect l="l" t="t" r="r" b="b"/>
              <a:pathLst>
                <a:path w="1075532" h="1143309">
                  <a:moveTo>
                    <a:pt x="0" y="571655"/>
                  </a:moveTo>
                  <a:cubicBezTo>
                    <a:pt x="0" y="369888"/>
                    <a:pt x="100058" y="183064"/>
                    <a:pt x="263275" y="80077"/>
                  </a:cubicBezTo>
                  <a:cubicBezTo>
                    <a:pt x="439845" y="-31335"/>
                    <a:pt x="660686" y="-26140"/>
                    <a:pt x="832446" y="93467"/>
                  </a:cubicBezTo>
                  <a:cubicBezTo>
                    <a:pt x="990611" y="203607"/>
                    <a:pt x="1082742" y="393953"/>
                    <a:pt x="1075092" y="594784"/>
                  </a:cubicBezTo>
                  <a:lnTo>
                    <a:pt x="1009899" y="591977"/>
                  </a:lnTo>
                  <a:cubicBezTo>
                    <a:pt x="1016539" y="414802"/>
                    <a:pt x="936227" y="246811"/>
                    <a:pt x="798168" y="149092"/>
                  </a:cubicBezTo>
                  <a:cubicBezTo>
                    <a:pt x="646578" y="41795"/>
                    <a:pt x="451013" y="37140"/>
                    <a:pt x="295128" y="137119"/>
                  </a:cubicBezTo>
                  <a:cubicBezTo>
                    <a:pt x="152540" y="228569"/>
                    <a:pt x="65254" y="393567"/>
                    <a:pt x="65254" y="571655"/>
                  </a:cubicBezTo>
                  <a:lnTo>
                    <a:pt x="0" y="571655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" name="Straight Arrow Connector 13"/>
            <p:cNvCxnSpPr/>
            <p:nvPr/>
          </p:nvCxnSpPr>
          <p:spPr>
            <a:xfrm flipV="1">
              <a:off x="8386920" y="5257440"/>
              <a:ext cx="538560" cy="884880"/>
            </a:xfrm>
            <a:prstGeom prst="straightConnector1">
              <a:avLst/>
            </a:prstGeom>
            <a:ln w="50760">
              <a:solidFill>
                <a:srgbClr val="4f81bd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28600" y="152280"/>
            <a:ext cx="8686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ifferential Privacy In One Slide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“CS theory applied to the social world—i.e., as far as you could possibly get from the subatomic worl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43080" y="1905120"/>
            <a:ext cx="84582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n algorithm A that queries a database X=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, we call A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for every two databases X and X’ that differ in only a singl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every possible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"/>
          <p:cNvGraphicFramePr/>
          <p:nvPr/>
        </p:nvGraphicFramePr>
        <p:xfrm>
          <a:off x="1452600" y="3325680"/>
          <a:ext cx="623880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3325680"/>
                    <a:ext cx="62388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2"/>
          <p:cNvSpPr/>
          <p:nvPr/>
        </p:nvSpPr>
        <p:spPr>
          <a:xfrm>
            <a:off x="324000" y="4191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a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 many patients have prostate canc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333360" y="4876920"/>
            <a:ext cx="8458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etter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turn the number of patients with prostate cancer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l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aplace noise of average magnitu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 simple calculation shows this is 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1"/>
          <p:cNvGraphicFramePr/>
          <p:nvPr/>
        </p:nvGraphicFramePr>
        <p:xfrm>
          <a:off x="4495680" y="3753000"/>
          <a:ext cx="114480" cy="11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753000"/>
                    <a:ext cx="114480" cy="1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304920" y="208080"/>
            <a:ext cx="8373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Differential Privacy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“Protecting the Privacy Rights of Quantum St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352440" y="152388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 on n registers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(e.g., product states) if for ever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that differ on only 1 register, and every possible outcome y of 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1"/>
          <p:cNvGraphicFramePr/>
          <p:nvPr/>
        </p:nvGraphicFramePr>
        <p:xfrm>
          <a:off x="1298520" y="3429000"/>
          <a:ext cx="638352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3429000"/>
                    <a:ext cx="63835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2"/>
          <p:cNvSpPr/>
          <p:nvPr/>
        </p:nvSpPr>
        <p:spPr>
          <a:xfrm>
            <a:off x="343080" y="45086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ce again, given n unentangled qubits, measuring the number of 1’s plus a Laplace noise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5519880" y="5637240"/>
            <a:ext cx="31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b050"/>
                </a:solidFill>
                <a:latin typeface="Calibri"/>
                <a:ea typeface="Arial"/>
              </a:rPr>
              <a:t>Hmmmm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0"/>
          <p:cNvSpPr/>
          <p:nvPr/>
        </p:nvSpPr>
        <p:spPr>
          <a:xfrm>
            <a:off x="388800" y="3809880"/>
            <a:ext cx="8298000" cy="914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1447920" y="4724280"/>
            <a:ext cx="2346120" cy="533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6248520" y="3276720"/>
            <a:ext cx="2438280" cy="533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ur Main Result: DP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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343080" y="1066680"/>
            <a:ext cx="85816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(1) Any measurement that’s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-gentle on product states (for small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) is also O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)-DP on product st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372960" y="3276720"/>
            <a:ext cx="85518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(2) Any measurement that’s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-DP on product states, and consists of a classical DP algorithm applied to results of separate measurements on each register, is also O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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n)-gentle on product st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5"/>
          <p:cNvGrpSpPr/>
          <p:nvPr/>
        </p:nvGrpSpPr>
        <p:grpSpPr>
          <a:xfrm>
            <a:off x="4419720" y="2297160"/>
            <a:ext cx="4338360" cy="1127520"/>
            <a:chOff x="4419720" y="2297160"/>
            <a:chExt cx="4338360" cy="1127520"/>
          </a:xfrm>
        </p:grpSpPr>
        <p:sp>
          <p:nvSpPr>
            <p:cNvPr id="186" name="Text Box 2"/>
            <p:cNvSpPr/>
            <p:nvPr/>
          </p:nvSpPr>
          <p:spPr>
            <a:xfrm>
              <a:off x="4419720" y="2297160"/>
              <a:ext cx="4338360" cy="825480"/>
            </a:xfrm>
            <a:prstGeom prst="rect">
              <a:avLst/>
            </a:prstGeom>
            <a:solidFill>
              <a:srgbClr val="f9f8f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Have to restrict the set of states for part (2) to be intere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7" name="Straight Arrow Connector 2"/>
            <p:cNvCxnSpPr/>
            <p:nvPr/>
          </p:nvCxnSpPr>
          <p:spPr>
            <a:xfrm>
              <a:off x="7314840" y="3127680"/>
              <a:ext cx="1080" cy="297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88" name="Group 18"/>
          <p:cNvGrpSpPr/>
          <p:nvPr/>
        </p:nvGrpSpPr>
        <p:grpSpPr>
          <a:xfrm>
            <a:off x="372960" y="5257080"/>
            <a:ext cx="4351320" cy="1178280"/>
            <a:chOff x="372960" y="5257080"/>
            <a:chExt cx="4351320" cy="1178280"/>
          </a:xfrm>
        </p:grpSpPr>
        <p:sp>
          <p:nvSpPr>
            <p:cNvPr id="189" name="Text Box 2"/>
            <p:cNvSpPr/>
            <p:nvPr/>
          </p:nvSpPr>
          <p:spPr>
            <a:xfrm>
              <a:off x="372960" y="5609880"/>
              <a:ext cx="4351320" cy="825480"/>
            </a:xfrm>
            <a:prstGeom prst="rect">
              <a:avLst/>
            </a:prstGeom>
            <a:solidFill>
              <a:srgbClr val="f9f8f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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n factor is tight (the Laplace noise measurement shows thi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0" name="Straight Arrow Connector 11"/>
            <p:cNvCxnSpPr/>
            <p:nvPr/>
          </p:nvCxnSpPr>
          <p:spPr>
            <a:xfrm flipV="1">
              <a:off x="2625120" y="5257080"/>
              <a:ext cx="1080" cy="353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91" name="Group 16"/>
          <p:cNvGrpSpPr/>
          <p:nvPr/>
        </p:nvGrpSpPr>
        <p:grpSpPr>
          <a:xfrm>
            <a:off x="5165640" y="4723920"/>
            <a:ext cx="3581640" cy="1669320"/>
            <a:chOff x="5165640" y="4723920"/>
            <a:chExt cx="3581640" cy="1669320"/>
          </a:xfrm>
        </p:grpSpPr>
        <p:sp>
          <p:nvSpPr>
            <p:cNvPr id="192" name="Text Box 2"/>
            <p:cNvSpPr/>
            <p:nvPr/>
          </p:nvSpPr>
          <p:spPr>
            <a:xfrm>
              <a:off x="5165640" y="5567760"/>
              <a:ext cx="3581640" cy="825480"/>
            </a:xfrm>
            <a:prstGeom prst="rect">
              <a:avLst/>
            </a:prstGeom>
            <a:solidFill>
              <a:srgbClr val="f9f8f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This restriction might just be an artifact of our pro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3" name="Straight Arrow Connector 13"/>
            <p:cNvCxnSpPr/>
            <p:nvPr/>
          </p:nvCxnSpPr>
          <p:spPr>
            <a:xfrm flipH="1" flipV="1">
              <a:off x="5714280" y="4723920"/>
              <a:ext cx="533880" cy="843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  <p:sp>
        <p:nvSpPr>
          <p:cNvPr id="194" name="TextBox 21"/>
          <p:cNvSpPr/>
          <p:nvPr/>
        </p:nvSpPr>
        <p:spPr>
          <a:xfrm>
            <a:off x="258840" y="2112840"/>
            <a:ext cx="397836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n’t DP and gentlenes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bviousl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358920" y="1066680"/>
            <a:ext cx="840420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Dwork et al. (2014): Connection between DP an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daptive data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alibri"/>
                <a:ea typeface="Arial"/>
              </a:rPr>
              <a:t>We can safely reuse the same dataset for many scientific studies, </a:t>
            </a:r>
            <a:r>
              <a:rPr b="0" i="1" lang="en-US" sz="3000" spc="-1" strike="noStrike">
                <a:solidFill>
                  <a:srgbClr val="00b050"/>
                </a:solidFill>
                <a:latin typeface="Calibri"/>
                <a:ea typeface="Arial"/>
              </a:rPr>
              <a:t>if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  <a:ea typeface="Arial"/>
              </a:rPr>
              <a:t> we’re careful to query the dataset using DP algorithms onl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In our terms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DP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“classical Bayesian gentlenes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Of course, “damage” to a probability distribution is purely internal and mental, whereas damage to a quantum state can be noticed by other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ne Slide on Proof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352440" y="977760"/>
            <a:ext cx="8458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entleness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P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asy, little to do with QM.  Consider a “converse” statement: if a measurement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very different probabilities, then by Bayes’ Theorem it will damag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/2.  Then, given a product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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pply this reasoning to eac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304920" y="3429000"/>
            <a:ext cx="85057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entleness for Product Stat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rder direction.  First prove for classical product distributions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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following Dwork et al).  Then “lift” to a measurement that QSamples from the output distribution of a classical DP algorithm, on each component of a superpositio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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Use inequalities that relate KL-divergence, Hellinger distance, and trace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304920" y="15228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pplication: “Shadow Tomograph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357120" y="1066680"/>
            <a:ext cx="84582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n unknown D-dimensional quantum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known 2-outcome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stimate Pr[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]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M], with high probability, by measuring as few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976320" y="3200400"/>
            <a:ext cx="78249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k=O(D</a:t>
            </a:r>
            <a:r>
              <a:rPr b="1" lang="en-US" sz="2500" spc="-1" strike="noStrike" baseline="30000">
                <a:solidFill>
                  <a:srgbClr val="00b050"/>
                </a:solidFill>
                <a:latin typeface="Calibri"/>
                <a:ea typeface="Arial"/>
              </a:rPr>
              <a:t>2</a:t>
            </a: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) copies suffice (do ordinary tomography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k=O(M) suffice (apply each E</a:t>
            </a:r>
            <a:r>
              <a:rPr b="1" lang="en-US" sz="2500" spc="-1" strike="noStrike" baseline="-25000">
                <a:solidFill>
                  <a:srgbClr val="00b050"/>
                </a:solidFill>
                <a:latin typeface="Calibri"/>
                <a:ea typeface="Arial"/>
              </a:rPr>
              <a:t>i</a:t>
            </a: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 to separate copi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But in many applications, D and M are both enormous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343080" y="4952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 (A., STOC’2018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hadow tomography is possible using only this many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1"/>
          <p:cNvGraphicFramePr/>
          <p:nvPr/>
        </p:nvGraphicFramePr>
        <p:xfrm>
          <a:off x="2111400" y="5845320"/>
          <a:ext cx="494964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1400" y="5845320"/>
                    <a:ext cx="49496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 Aaronson</cp:lastModifiedBy>
  <dcterms:modified xsi:type="dcterms:W3CDTF">2019-10-18T12:50:12Z</dcterms:modified>
  <cp:revision>499</cp:revision>
  <dc:subject/>
  <dc:title>BQP and the Polynomial Hierarchy</dc:title>
</cp:coreProperties>
</file>