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D197-A499-4A44-A8A1-B4CA6624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57F5-4B76-4E71-B22A-22399805A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049E-6993-4AA7-B655-4FA719D1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21A6-DE05-465C-9986-2A3460C14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9FB3-2D47-448C-A801-11BA86603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8EA9-ED5C-4724-8B28-FAA9C3E12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895-5215-4FFC-8826-2F4E5895F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C7A7-13A2-4283-BB40-F027C378F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C649-D374-49DA-894D-67798CAD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CE03-1D3B-4927-BBE5-F3949626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20A4-5C9E-47AF-A0EB-D9A757B3A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AE3F-F300-4CFE-AFAF-62B937422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879B-8230-45F2-B50C-BFE07CCD1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7142-EE61-4EDD-AF3D-1BA65078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9B3-F169-4142-A01E-5D7157E3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223-A3DD-46CF-B7C6-CA29B05B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76B-B9C8-41A9-90A3-AABCDDA1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7BF-4FF3-405B-9C4E-84C13D9C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684-2F0C-4248-A8E6-B0CCF1B9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DB9-2B0E-45ED-98A2-10BBCD26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EAC-C3F2-4E3D-AF81-1650AC9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F9C-4345-455A-A6A4-7238BA2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A5D-EB86-49D8-B5B6-97AC1239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9D8-7701-41FD-B316-73550F13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117-BD2A-4AEF-8763-0C911E0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2AD-3087-4B7C-8B89-8E007334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3366-9866-45EC-8691-BA8162AA8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Solving Hard Problems With Ligh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Assoc. Prof., EE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prstGeom prst="pie">
                <a:avLst/>
              </a:pr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prstGeom prst="pie">
                <a:avLst/>
              </a:pr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prstGeom prst="pie">
                <a:avLst/>
              </a:pr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prstGeom prst="pie">
                <a:avLst/>
              </a:pr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prstGeom prst="pie">
                <a:avLst/>
              </a:pr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prstGeom prst="pie">
                <a:avLst/>
              </a:pr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prstGeom prst="pie">
                <a:avLst/>
              </a:pr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prstGeom prst="pie">
                <a:avLst/>
              </a:pr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prstGeom prst="pie">
                <a:avLst/>
              </a:pr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prstGeom prst="pie">
                <a:avLst/>
              </a:pr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prstGeom prst="pie">
                <a:avLst/>
              </a:pr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prstGeom prst="pie">
                <a:avLst/>
              </a:pr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prstGeom prst="pie">
                <a:avLst/>
              </a:pr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prstGeom prst="pie">
                <a:avLst/>
              </a:pr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prstGeom prst="pie">
                <a:avLst/>
              </a:pr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prstGeom prst="pie">
                <a:avLst/>
              </a:pr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prstGeom prst="pie">
                <a:avLst/>
              </a:pr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prstGeom prst="pie">
                <a:avLst/>
              </a:pr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prstGeom prst="pie">
                <a:avLst/>
              </a:pr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prstGeom prst="pie">
                <a:avLst/>
              </a:pr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prstGeom prst="pie">
                <a:avLst/>
              </a:pr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prstGeom prst="pie">
                <a:avLst/>
              </a:pr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prstGeom prst="pie">
                <a:avLst/>
              </a:pr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prstGeom prst="pie">
                <a:avLst/>
              </a:pr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prstGeom prst="pie">
                <a:avLst/>
              </a:pr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prstGeom prst="pie">
                <a:avLst/>
              </a:pr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prstGeom prst="pie">
                <a:avLst/>
              </a:pr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prstGeom prst="pie">
                <a:avLst/>
              </a:pr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prstGeom prst="pie">
                <a:avLst/>
              </a:pr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prstGeom prst="pie">
                <a:avLst/>
              </a:pr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prstGeom prst="pie">
                <a:avLst/>
              </a:pr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prstGeom prst="pie">
                <a:avLst/>
              </a:pr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prstGeom prst="pie">
                <a:avLst/>
              </a:pr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prstGeom prst="pie">
                <a:avLst/>
              </a:pr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prstGeom prst="pie">
                <a:avLst/>
              </a:pr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prstGeom prst="pie">
                <a:avLst/>
              </a:pr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prstGeom prst="pie">
                <a:avLst/>
              </a:pr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prstGeom prst="pie">
                <a:avLst/>
              </a:pr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prstGeom prst="pie">
                <a:avLst/>
              </a:pr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prstGeom prst="pie">
                <a:avLst/>
              </a:pr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prstGeom prst="pie">
                <a:avLst/>
              </a:pr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prstGeom prst="pie">
                <a:avLst/>
              </a:pr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prstGeom prst="pie">
                <a:avLst/>
              </a:pr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prstGeom prst="pie">
                <a:avLst/>
              </a:pr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prstGeom prst="pie">
                <a:avLst/>
              </a:pr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prstGeom prst="pie">
                <a:avLst/>
              </a:pr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prstGeom prst="pie">
                <a:avLst/>
              </a:pr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prstGeom prst="pie">
                <a:avLst/>
              </a:pr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prstGeom prst="pie">
                <a:avLst/>
              </a:pr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prstGeom prst="pie">
                <a:avLst/>
              </a:pr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prstGeom prst="pie">
                <a:avLst/>
              </a:pr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prstGeom prst="pie">
                <a:avLst/>
              </a:pr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prstGeom prst="pie">
                <a:avLst/>
              </a:pr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prstGeom prst="pie">
                <a:avLst/>
              </a:pr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prstGeom prst="pie">
                <a:avLst/>
              </a:pr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prstGeom prst="pie">
                <a:avLst/>
              </a:pr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prstGeom prst="pie">
                <a:avLst/>
              </a:pr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prstGeom prst="pie">
                <a:avLst/>
              </a:pr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prstGeom prst="pie">
                <a:avLst/>
              </a:pr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prstGeom prst="pie">
                <a:avLst/>
              </a:pr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prstGeom prst="pie">
                <a:avLst/>
              </a:pr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prstGeom prst="pie">
                <a:avLst/>
              </a:pr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prstGeom prst="pie">
                <a:avLst/>
              </a:pr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prstGeom prst="pie">
                <a:avLst/>
              </a:pr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prstGeom prst="pie">
                <a:avLst/>
              </a:pr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prstGeom prst="pie">
                <a:avLst/>
              </a:pr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prstGeom prst="pie">
                <a:avLst/>
              </a:pr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prstGeom prst="pie">
                <a:avLst/>
              </a:pr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prstGeom prst="pie">
                <a:avLst/>
              </a:pr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prstGeom prst="pie">
                <a:avLst/>
              </a:pr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prstGeom prst="pie">
                <a:avLst/>
              </a:pr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prstGeom prst="pie">
                <a:avLst/>
              </a:pr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prstGeom prst="pie">
                <a:avLst/>
              </a:pr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prstGeom prst="pie">
                <a:avLst/>
              </a:pr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prstGeom prst="pie">
                <a:avLst/>
              </a:pr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prstGeom prst="pie">
                <a:avLst/>
              </a:pr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prstGeom prst="pie">
                <a:avLst/>
              </a:pr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prstGeom prst="pie">
                <a:avLst/>
              </a:pr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prstGeom prst="pie">
                <a:avLst/>
              </a:pr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prstGeom prst="pie">
                <a:avLst/>
              </a:pr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prstGeom prst="pie">
                <a:avLst/>
              </a:pr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prstGeom prst="pie">
                <a:avLst/>
              </a:pr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prstGeom prst="pie">
                <a:avLst/>
              </a:pr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prstGeom prst="pie">
                <a:avLst/>
              </a:pr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prstGeom prst="pie">
                <a:avLst/>
              </a:pr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prstGeom prst="pie">
                <a:avLst/>
              </a:pr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prstGeom prst="pie">
                <a:avLst/>
              </a:pr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prstGeom prst="pie">
                <a:avLst/>
              </a:pr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prstGeom prst="pie">
                <a:avLst/>
              </a:pr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prstGeom prst="pie">
                <a:avLst/>
              </a:pr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prstGeom prst="pie">
                <a:avLst/>
              </a:pr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prstGeom prst="pie">
                <a:avLst/>
              </a:pr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prstGeom prst="pie">
                <a:avLst/>
              </a:pr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prstGeom prst="pie">
                <a:avLst/>
              </a:pr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prstGeom prst="pie">
                <a:avLst/>
              </a:pr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prstGeom prst="pie">
                <a:avLst/>
              </a:pr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prstGeom prst="pie">
                <a:avLst/>
              </a:pr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prstGeom prst="pie">
                <a:avLst/>
              </a:pr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prstGeom prst="pie">
                <a:avLst/>
              </a:pr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prstGeom prst="pie">
                <a:avLst/>
              </a:pr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prstGeom prst="pie">
                <a:avLst/>
              </a:pr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prstGeom prst="pie">
                <a:avLst/>
              </a:pr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prstGeom prst="pie">
                <a:avLst/>
              </a:pr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prstGeom prst="pie">
                <a:avLst/>
              </a:pr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prstGeom prst="pie">
                <a:avLst/>
              </a:pr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prstGeom prst="pie">
                <a:avLst/>
              </a:pr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prstGeom prst="pie">
                <a:avLst/>
              </a:pr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prstGeom prst="pie">
                <a:avLst/>
              </a:pr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prstGeom prst="pie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prstGeom prst="pie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prstGeom prst="pie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prstGeom prst="pie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prstGeom prst="pie">
                <a:avLst/>
              </a:pr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prstGeom prst="pie">
                <a:avLst/>
              </a:pr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prstGeom prst="pie">
                <a:avLst/>
              </a:pr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prstGeom prst="pie">
                <a:avLst/>
              </a:pr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prstGeom prst="pie">
                <a:avLst/>
              </a:pr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prstGeom prst="pie">
                <a:avLst/>
              </a:pr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prstGeom prst="pie">
                <a:avLst/>
              </a:pr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prstGeom prst="pie">
                <a:avLst/>
              </a:pr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prstGeom prst="pie">
                <a:avLst/>
              </a:pr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prstGeom prst="pie">
                <a:avLst/>
              </a:pr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prstGeom prst="pie">
                <a:avLst/>
              </a:pr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prstGeom prst="pie">
                <a:avLst/>
              </a:pr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prstGeom prst="pie">
                <a:avLst/>
              </a:pr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prstGeom prst="pie">
                <a:avLst/>
              </a:pr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prstGeom prst="pie">
                <a:avLst/>
              </a:pr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prstGeom prst="pie">
                <a:avLst/>
              </a:pr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prstGeom prst="pie">
                <a:avLst/>
              </a:pr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prstGeom prst="pie">
                <a:avLst/>
              </a:pr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prstGeom prst="pie">
                <a:avLst/>
              </a:pr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prstGeom prst="pie">
                <a:avLst/>
              </a:pr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prstGeom prst="pie">
                <a:avLst/>
              </a:pr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prstGeom prst="pie">
                <a:avLst/>
              </a:pr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prstGeom prst="pie">
                <a:avLst/>
              </a:pr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prstGeom prst="pie">
                <a:avLst/>
              </a:pr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prstGeom prst="pie">
                <a:avLst/>
              </a:pr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prstGeom prst="pie">
                <a:avLst/>
              </a:pr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prstGeom prst="pie">
                <a:avLst/>
              </a:pr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prstGeom prst="pie">
                <a:avLst/>
              </a:pr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prstGeom prst="pie">
                <a:avLst/>
              </a:pr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prstGeom prst="pie">
                <a:avLst/>
              </a:pr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prstGeom prst="pie">
                <a:avLst/>
              </a:pr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prstGeom prst="pie">
                <a:avLst/>
              </a:pr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prstGeom prst="pie">
                <a:avLst/>
              </a:pr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prstGeom prst="pie">
                <a:avLst/>
              </a:pr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prstGeom prst="pie">
                <a:avLst/>
              </a:pr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prstGeom prst="pie">
                <a:avLst/>
              </a:pr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prstGeom prst="pie">
                <a:avLst/>
              </a:pr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prstGeom prst="pie">
              <a:avLst/>
            </a:pr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prstGeom prst="pie">
              <a:avLst/>
            </a:pr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prstGeom prst="pie">
              <a:avLst/>
            </a:pr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prstGeom prst="pie">
              <a:avLst/>
            </a:pr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prstGeom prst="pie">
              <a:avLst/>
            </a:pr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prstGeom prst="pie">
              <a:avLst/>
            </a:pr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prstGeom prst="pie">
              <a:avLst/>
            </a:pr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prstGeom prst="pie">
              <a:avLst/>
            </a:pr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prstGeom prst="pie">
              <a:avLst/>
            </a:pr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prstGeom prst="pie">
              <a:avLst/>
            </a:pr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prstGeom prst="pie">
              <a:avLst/>
            </a:pr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prstGeom prst="pie">
              <a:avLst/>
            </a:pr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prstGeom prst="pie">
              <a:avLst/>
            </a:pr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prstGeom prst="pie">
              <a:avLst/>
            </a:pr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prstGeom prst="pie">
              <a:avLst/>
            </a:pr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prstGeom prst="pie">
              <a:avLst/>
            </a:pr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prstGeom prst="pie">
              <a:avLst/>
            </a:pr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819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6"/>
          <p:cNvSpPr/>
          <p:nvPr/>
        </p:nvSpPr>
        <p:spPr>
          <a:xfrm>
            <a:off x="228600" y="167652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s a polynomial p such that for all n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 Concentration Conjecture (P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2481120" y="2209680"/>
                <a:ext cx="46371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e>
                            </m:ra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6"/>
          <p:cNvSpPr/>
          <p:nvPr/>
        </p:nvSpPr>
        <p:spPr>
          <a:xfrm>
            <a:off x="4648320" y="373392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4648320" y="441972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6"/>
          <p:cNvSpPr/>
          <p:nvPr/>
        </p:nvSpPr>
        <p:spPr>
          <a:xfrm>
            <a:off x="533520" y="190512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X be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of independent, N(0,1) complex Gaussian entries.  Then approximating Per(X) to within a 1/poly(n) multiplicative error, for a 1-1/poly(n) fraction of X, is 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proble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-of-Gaussians Conjecture (PG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228600" y="1066680"/>
            <a:ext cx="495288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n arbitrary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hotodetector arrays that can reliably distinguish 0 vs. 1 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05360" cy="28004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6"/>
          <p:cNvSpPr/>
          <p:nvPr/>
        </p:nvSpPr>
        <p:spPr>
          <a:xfrm>
            <a:off x="5257800" y="3657600"/>
            <a:ext cx="3733920" cy="2974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20 photons and m=400 modes, so that classical simulation is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ontrivial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80880" y="1143000"/>
            <a:ext cx="853452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often say that Shor’s algorithm presented us with three choices. 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laws of physics are exponentially hard to simulate on any computer today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xtbook quantum mechanics is false, 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antum computers are easy to simulate classical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4"/>
          <p:cNvSpPr/>
          <p:nvPr/>
        </p:nvSpPr>
        <p:spPr>
          <a:xfrm>
            <a:off x="380880" y="4114800"/>
            <a:ext cx="77724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3200400" y="434340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Bradley Hand ITC"/>
              </a:rPr>
              <a:t>For all intents and purpo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275" name="Freeform 8"/>
          <p:cNvSpPr/>
          <p:nvPr/>
        </p:nvSpPr>
        <p:spPr>
          <a:xfrm>
            <a:off x="2895480" y="2895480"/>
            <a:ext cx="1511280" cy="4636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"/>
          <p:cNvSpPr/>
          <p:nvPr/>
        </p:nvSpPr>
        <p:spPr>
          <a:xfrm>
            <a:off x="4178160" y="2289240"/>
            <a:ext cx="2000520" cy="13777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914400" y="4724280"/>
            <a:ext cx="7696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solvable efficiently (in polynomial time)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281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4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5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6"/>
          <p:cNvSpPr/>
          <p:nvPr/>
        </p:nvSpPr>
        <p:spPr>
          <a:xfrm>
            <a:off x="152280" y="1371600"/>
            <a:ext cx="44960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more “generic” complexity assumptions than the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s evidence that QCs have capabilities outside the entire “polynomial hierarch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quires only a very simple kind of quantum computation: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onadaptive linear optic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testable before I’m dead?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, a different kind of hardness result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4724280" y="1371600"/>
            <a:ext cx="42674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ies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roblems with many possible output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, not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computer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 relevant for the N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6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13"/>
          <p:cNvSpPr/>
          <p:nvPr/>
        </p:nvSpPr>
        <p:spPr>
          <a:xfrm>
            <a:off x="1066680" y="1371600"/>
            <a:ext cx="708660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2057400" y="2438280"/>
            <a:ext cx="3200400" cy="39625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52280" y="7543800"/>
            <a:ext cx="80773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n-bit strings x, does there exist an n-bit string y such that for all n-bit strings z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x,y,z) holds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04920" y="304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stiary of Complexity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152280" y="9296280"/>
            <a:ext cx="807732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ust as they believ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complexity theorists believe that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infin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if you can show “such-and-such is tru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 to a finite level,” it’s damn good evidence that such-and-such is fal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3048120" y="259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388620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6"/>
          <p:cNvSpPr/>
          <p:nvPr/>
        </p:nvSpPr>
        <p:spPr>
          <a:xfrm rot="20263200">
            <a:off x="2265480" y="2889000"/>
            <a:ext cx="5572080" cy="324000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2743200" y="3809880"/>
            <a:ext cx="1752480" cy="23623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30481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 rot="20157600">
            <a:off x="2868120" y="4203720"/>
            <a:ext cx="4232520" cy="146988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9"/>
          <p:cNvSpPr/>
          <p:nvPr/>
        </p:nvSpPr>
        <p:spPr>
          <a:xfrm>
            <a:off x="3200400" y="5257800"/>
            <a:ext cx="838080" cy="7621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327672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5867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6019920" y="2743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8"/>
          <p:cNvSpPr/>
          <p:nvPr/>
        </p:nvSpPr>
        <p:spPr>
          <a:xfrm rot="5400000">
            <a:off x="3782520" y="4539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9"/>
          <p:cNvSpPr/>
          <p:nvPr/>
        </p:nvSpPr>
        <p:spPr>
          <a:xfrm>
            <a:off x="4800600" y="1905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24382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1"/>
          <p:cNvSpPr/>
          <p:nvPr/>
        </p:nvSpPr>
        <p:spPr>
          <a:xfrm>
            <a:off x="5334120" y="4495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2"/>
          <p:cNvSpPr/>
          <p:nvPr/>
        </p:nvSpPr>
        <p:spPr>
          <a:xfrm>
            <a:off x="533412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1676520" y="2666880"/>
            <a:ext cx="6019560" cy="229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omplexity theorists say “such-and-such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m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uch-and-such is true, then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lapses to a finit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6"/>
          <p:cNvSpPr/>
          <p:nvPr/>
        </p:nvSpPr>
        <p:spPr>
          <a:xfrm>
            <a:off x="304920" y="914400"/>
            <a:ext cx="8610480" cy="57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by a classical algorithm.  Then the polynomial hierarchy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by a classical computer with an oracle for the polynomial hierarchy, still the polynomial hierarchy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wo plausible conjectures are true: the permanent of a Gaussian random matrix i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to approximate, a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2) not too concentrated around 0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output distribution of a linear-optics circuit can’t even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efficiently classically, unless the polynomial hierarchy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76520" y="2514600"/>
            <a:ext cx="6095880" cy="2531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ur conjectures hold, then even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i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-optics experiment can sample from a probability distribution that no classical computer can feasibly sampl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5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18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23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6"/>
          <p:cNvSpPr/>
          <p:nvPr/>
        </p:nvSpPr>
        <p:spPr>
          <a:xfrm>
            <a:off x="304920" y="533520"/>
            <a:ext cx="8534160" cy="42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igh-Level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ositive or 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-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ill hard, but known to be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quantum mechanics could be efficiently simulated classically, then these two problems would become equivalent—thereby plac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collaps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228600" y="304920"/>
            <a:ext cx="853452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why aren’t we don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cause real quantum experiments are subject to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uld an efficient classical algorithm that simulated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ptics experiment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 the polynomial hierarch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228600" y="2666880"/>
            <a:ext cx="8534520" cy="132840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ain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Yes, assuming two plausible conjectures about permanents of random matrices (the “PCC” and the “PGC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0"/>
          <p:cNvSpPr/>
          <p:nvPr/>
        </p:nvSpPr>
        <p:spPr>
          <a:xfrm>
            <a:off x="3581280" y="5334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228600" y="37339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rticular experiment we have in mind: Take a system of n identical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.  Put each photon in a known mode, then apply a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transformation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505320" y="5181480"/>
            <a:ext cx="304560" cy="1523880"/>
            <a:chOff x="3505320" y="5181480"/>
            <a:chExt cx="304560" cy="1523880"/>
          </a:xfrm>
        </p:grpSpPr>
        <p:sp>
          <p:nvSpPr>
            <p:cNvPr id="332" name="Rectangle 12"/>
            <p:cNvSpPr/>
            <p:nvPr/>
          </p:nvSpPr>
          <p:spPr>
            <a:xfrm>
              <a:off x="3505320" y="5181480"/>
              <a:ext cx="30456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"/>
            <p:cNvSpPr/>
            <p:nvPr/>
          </p:nvSpPr>
          <p:spPr>
            <a:xfrm>
              <a:off x="3505320" y="5486040"/>
              <a:ext cx="30456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4"/>
            <p:cNvSpPr/>
            <p:nvPr/>
          </p:nvSpPr>
          <p:spPr>
            <a:xfrm>
              <a:off x="3505320" y="5790960"/>
              <a:ext cx="304560" cy="30492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5"/>
            <p:cNvSpPr/>
            <p:nvPr/>
          </p:nvSpPr>
          <p:spPr>
            <a:xfrm>
              <a:off x="3505320" y="6095880"/>
              <a:ext cx="30456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6"/>
            <p:cNvSpPr/>
            <p:nvPr/>
          </p:nvSpPr>
          <p:spPr>
            <a:xfrm>
              <a:off x="3505320" y="6400800"/>
              <a:ext cx="30456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4724280" y="5181480"/>
            <a:ext cx="304920" cy="1523880"/>
            <a:chOff x="4724280" y="5181480"/>
            <a:chExt cx="304920" cy="1523880"/>
          </a:xfrm>
        </p:grpSpPr>
        <p:sp>
          <p:nvSpPr>
            <p:cNvPr id="338" name="Rectangle 17"/>
            <p:cNvSpPr/>
            <p:nvPr/>
          </p:nvSpPr>
          <p:spPr>
            <a:xfrm>
              <a:off x="4724280" y="5181480"/>
              <a:ext cx="30492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8"/>
            <p:cNvSpPr/>
            <p:nvPr/>
          </p:nvSpPr>
          <p:spPr>
            <a:xfrm>
              <a:off x="4724280" y="5486040"/>
              <a:ext cx="30492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9"/>
            <p:cNvSpPr/>
            <p:nvPr/>
          </p:nvSpPr>
          <p:spPr>
            <a:xfrm>
              <a:off x="4724280" y="5790960"/>
              <a:ext cx="304920" cy="30492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0"/>
            <p:cNvSpPr/>
            <p:nvPr/>
          </p:nvSpPr>
          <p:spPr>
            <a:xfrm>
              <a:off x="4724280" y="6095880"/>
              <a:ext cx="30492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2"/>
            <p:cNvSpPr/>
            <p:nvPr/>
          </p:nvSpPr>
          <p:spPr>
            <a:xfrm>
              <a:off x="4724280" y="6400800"/>
              <a:ext cx="30492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23"/>
          <p:cNvSpPr/>
          <p:nvPr/>
        </p:nvSpPr>
        <p:spPr>
          <a:xfrm>
            <a:off x="3505320" y="51814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4"/>
          <p:cNvSpPr/>
          <p:nvPr/>
        </p:nvSpPr>
        <p:spPr>
          <a:xfrm>
            <a:off x="3505320" y="54864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5"/>
          <p:cNvSpPr/>
          <p:nvPr/>
        </p:nvSpPr>
        <p:spPr>
          <a:xfrm>
            <a:off x="3505320" y="5791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5562720" y="5257800"/>
            <a:ext cx="3581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measure which modes have 1 or more photon in th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555 L 0.14584 0.12755 E">
                                      <p:cBhvr>
                                        <p:cTn id="183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185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187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0-05-26T14:43:26Z</dcterms:modified>
  <cp:revision>214</cp:revision>
  <dc:subject/>
  <dc:title>The Learnability of Quantum States</dc:title>
</cp:coreProperties>
</file>