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F5D6-DF8B-4B20-8CC6-A1863C4AD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DEB-BF08-4819-B1FB-D4AD8BE67E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BBD-2AF0-456D-99B1-69C6A2A04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B06-B8A2-4537-AFCA-DF0C5C315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0E7-2277-41E4-9DE1-4687A1642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155-F5EA-49FF-9EBC-069FDCC88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4AA-721A-415B-A540-BFDCF6318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50F-6ACF-47E8-AA13-1DCC31ED74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9BE6-1441-46B6-8440-455BAA8CF9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F918-DE18-4E31-B59F-C7D40C9896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D56-B082-411D-905C-88EDA5437C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70A8-C9E8-4824-AE8C-8425826F91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7E75-9768-4BB8-901E-8F39EFC7F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BD4-4E21-4C5C-9A67-6B0ED01B8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842-2FE1-4C40-A2EC-51584098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3C5-568E-45FC-B85D-D2AEFFE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ED6-E04A-4AF8-87CB-0058149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25D-6EDA-41D2-950A-8CC9CEA2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6D1-0718-4E3C-993B-F02733F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E81-E886-4378-8347-0D8467F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F9E-9606-4E71-A035-58220C3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252-9256-4428-A9FF-DE09369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8F7-5270-4DD2-B404-C6A0E9CC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616-BAD4-4F6A-B170-2E77851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4E6-0207-4211-8265-9EF1C55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845-FF8C-46B7-8010-058B0BC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FC9D-BB3B-4A07-AB75-537170A9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pril 18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6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2012, groups in Brisbane, Oxford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92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citing new idea, proposed by Steve Kolthammer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ssues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reases depth of optical network needed.  Also, if some sources generate ≥2 photons, need a new hardness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0880" y="45720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60360" y="2111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60360" y="3100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83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ev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4-18T18:59:28Z</dcterms:modified>
  <cp:revision>1611</cp:revision>
  <dc:subject/>
  <dc:title>The Learnability of Quantum States</dc:title>
</cp:coreProperties>
</file>