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3A5-AAF0-4E87-9A4C-9C3372E6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5F0-290A-4549-B0E4-CD14A4A1A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CB90-E3F7-4A15-A234-73981A6504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F0B7-B2A0-4C0D-B76E-FD53498AE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A0E0-CB10-4AD0-BE88-A10C987F13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D163-C21A-4529-88F1-370B4CB43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5E34-0A08-47CF-B870-86CE83E658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3862-ED36-424B-8404-74F6F90823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8D9C-276C-44CF-B5C6-42BD030332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266-F43D-4560-9289-C2F59EB79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E80C-2E3F-42CF-A3BB-32ABB51CC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B53-2EC0-40F8-9CCF-4EA3C6E468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569-D64C-4651-99EA-737E743BD0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C9DA-D2EA-4276-9BA9-2788B4A2FC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1AF-6E2D-4D3A-A6A0-1C7B1EB3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EAF-5DD9-4E4C-B145-0EDC008B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326-0E97-4570-9CC1-D8C6A42C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923-43FE-426B-B12E-D3D58567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B84-677B-41E3-9274-8FA5AD4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DED-95CE-4A79-8A90-AED376F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130-A1A7-49E7-8630-F4BF40F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71E-BA08-421A-85DE-B6F0B4C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C46-FC4E-403D-9BC4-115AA111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DB4-38CF-45DF-8A32-BB43B94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EC2-EDFD-4C2E-A2D2-46A0439F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2F9-421A-45EB-9FEA-D6CC011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BD3-8BE3-452F-A52F-B7D02F737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pril 18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6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2012, groups in Brisbane, Oxford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92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citing new idea, proposed by Steve Kolthammer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ssues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reases depth of optical network needed.  Also, if some sources generate ≥2 photons, need a new hardness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0880" y="45720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60360" y="2111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60360" y="3100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83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ev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4-18T18:59:28Z</dcterms:modified>
  <cp:revision>1611</cp:revision>
  <dc:subject/>
  <dc:title>The Learnability of Quantum States</dc:title>
</cp:coreProperties>
</file>