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50B9-0300-4A7B-94C7-D510033AF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8D3F-7737-4F8E-B934-F55840517FC5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2BD4-0CD8-4425-82C7-BDED11DA4E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8CF5-9396-4A73-A7B3-7780520DF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32CF-0848-4ADD-876D-97C60CDA99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6D37-5760-4F3B-87DA-9E0EC9CA3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2B06-91B4-4566-8ABC-FBB0D156AC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38DF-DA85-4C7C-8B42-034F9DCAB4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60F-D050-4BCD-9037-8A43A799F4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9422-6DCB-4B7F-8245-DB98D044C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103-0729-4DDD-9C11-7426AEE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366-AB64-4879-B71D-59AB0777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909-E013-4542-91AC-BEB4115B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6E9-E13E-4099-AD4D-FF769C9B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6B9E-FE9F-4686-8344-6F93FA5D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8E5A-B48D-45A4-96A1-7F4DFB99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4419-0AAC-41B3-B491-39C4698F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0524-DF70-4CF6-872E-E3F4136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073-E3A7-4E83-BE16-E1E3E069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ECA6-6E4E-4C75-9C05-7616C6A8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9C50-96E3-448D-B050-DC2D107C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C2D-5F20-4E32-99E6-3A6DF11C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6BD3-F664-4297-9D97-CD19DA1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CDCB-5667-4FF2-A640-8B384C9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564E-F1CD-495C-8109-938AB944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C525-1C83-4AA4-8418-13C85C19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7B42-D0B8-4426-BA17-9A929390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A2D-747A-46A2-B8AD-24D1AAC7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561-DA06-4009-B459-E4373A8D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313-7F5D-4E78-B537-81E1E87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817-4C66-4F75-B9C6-FF1B443F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D73-D4DE-4D60-89D9-EC59228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CE9-58DD-465D-8E3F-8B4C9C4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BEC-4922-4C87-A1D7-6C40BE8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372F-A418-4273-9129-E64A3E9FA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69CD-BD6C-44A2-A951-A08E1FF27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4608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On Quantum Computational Supremac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45720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International Symposium on Quantum Physics and Quantum Information Sciences (QPQIS-2021), Beijing, China, December 1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590920" y="129852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ere To Go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920" y="914400"/>
            <a:ext cx="8610480" cy="58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ar-term quantum supremacy with efficient classical verification</a:t>
            </a:r>
            <a:br>
              <a:rPr sz="3000"/>
            </a:b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So it’s not just a 2</a:t>
            </a:r>
            <a:r>
              <a:rPr b="0" lang="en-US" sz="26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 vs. 2</a:t>
            </a:r>
            <a:r>
              <a:rPr b="0" lang="en-US" sz="26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 cat-and-mouse game!</a:t>
            </a:r>
            <a:br>
              <a:rPr sz="2600"/>
            </a:b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Proposal by Bremner-Shepherd 2008, unfortunately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now broken (Kahanamoku-Meyer 20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eplicate in other hardware platforms, and with more qubits, higher fidelity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esign new classical simulation algorithm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etter complexity-theoretic evidence for har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enerating more and more certified random bits by running the same circuit C over and o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03120" y="20808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304920" y="995400"/>
            <a:ext cx="861048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supremacy vs. classical spoofing is now an exciting debate!  To stay ahead of the spoofers, experimenters will need to up their g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Higher fidelity is much more important right now than more qubits or pho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esumably QCs will ultimately win this race decisively—but will they do so before or after achieving tru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o near-term quantum supremacy experiments have any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pplica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?  If so, then maybe physics simulations or generating certified random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upremacy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1295280" y="21384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299880" y="3860640"/>
            <a:ext cx="84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Arkhipov 201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thers: Look instead a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76120" y="2279520"/>
            <a:ext cx="849240" cy="11019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6"/>
          <p:cNvSpPr/>
          <p:nvPr/>
        </p:nvSpPr>
        <p:spPr>
          <a:xfrm>
            <a:off x="331920" y="996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me, the #1 application of quantum computing: disprove the people who say it’s not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4878360" y="984240"/>
            <a:ext cx="4255920" cy="2684520"/>
            <a:chOff x="4878360" y="984240"/>
            <a:chExt cx="4255920" cy="2684520"/>
          </a:xfrm>
        </p:grpSpPr>
        <p:pic>
          <p:nvPicPr>
            <p:cNvPr id="9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51520" y="163332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5"/>
            <p:cNvSpPr/>
            <p:nvPr/>
          </p:nvSpPr>
          <p:spPr>
            <a:xfrm>
              <a:off x="4878360" y="98424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Oval Callout 1"/>
          <p:cNvSpPr/>
          <p:nvPr/>
        </p:nvSpPr>
        <p:spPr>
          <a:xfrm>
            <a:off x="1438200" y="1755720"/>
            <a:ext cx="5295960" cy="1474920"/>
          </a:xfrm>
          <a:prstGeom prst="wedgeEllipseCallout">
            <a:avLst>
              <a:gd name="adj1" fmla="val 70564"/>
              <a:gd name="adj2" fmla="val -227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819440" y="2011320"/>
            <a:ext cx="455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it, building a full scalable fault-tolerant QC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69880" y="4687920"/>
            <a:ext cx="2517840" cy="1905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6"/>
          <p:cNvSpPr/>
          <p:nvPr/>
        </p:nvSpPr>
        <p:spPr>
          <a:xfrm>
            <a:off x="3352680" y="4527720"/>
            <a:ext cx="56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osonSampling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enerate n photons, send through a network of beamsplitters, measure where they land.  Under plausible assumptions, takes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to simulate classic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65120" y="108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oogle’s Quantum Supremacy Demo In Fall 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22520" y="14479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ike BosonSampling, but with a random circuit applied to superconducting qubi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22520" y="2401920"/>
            <a:ext cx="645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built a 53-qubit chip called Sycamore, and used it to sample from a probability distribution over 53-bit strings, in a way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ake ~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9 quadrillion steps to simulate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age result for google sycamore quantum"/>
          <p:cNvPicPr/>
          <p:nvPr/>
        </p:nvPicPr>
        <p:blipFill>
          <a:blip r:embed="rId1"/>
          <a:stretch/>
        </p:blipFill>
        <p:spPr>
          <a:xfrm>
            <a:off x="5105520" y="4729320"/>
            <a:ext cx="37335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age result for superconducting quantum dilution fridge"/>
          <p:cNvPicPr/>
          <p:nvPr/>
        </p:nvPicPr>
        <p:blipFill>
          <a:blip r:embed="rId2"/>
          <a:stretch/>
        </p:blipFill>
        <p:spPr>
          <a:xfrm>
            <a:off x="495360" y="1595520"/>
            <a:ext cx="1760400" cy="2554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52280" y="479736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20 layers of gates in the circu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40 microseconds per sa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3 mins for millions of s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0.2% measured circuit fide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5120" y="149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andom Circuit Sampling (R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438280" y="109224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122" name="Straight Connector 4"/>
            <p:cNvSpPr/>
            <p:nvPr/>
          </p:nvSpPr>
          <p:spPr>
            <a:xfrm>
              <a:off x="482400" y="149076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23"/>
            <p:cNvSpPr/>
            <p:nvPr/>
          </p:nvSpPr>
          <p:spPr>
            <a:xfrm>
              <a:off x="469800" y="19429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4"/>
            <p:cNvSpPr/>
            <p:nvPr/>
          </p:nvSpPr>
          <p:spPr>
            <a:xfrm>
              <a:off x="458640" y="24336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25"/>
            <p:cNvSpPr/>
            <p:nvPr/>
          </p:nvSpPr>
          <p:spPr>
            <a:xfrm>
              <a:off x="446040" y="28861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135" name="Straight Connector 34"/>
            <p:cNvSpPr/>
            <p:nvPr/>
          </p:nvSpPr>
          <p:spPr>
            <a:xfrm>
              <a:off x="1560600" y="149076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35"/>
            <p:cNvSpPr/>
            <p:nvPr/>
          </p:nvSpPr>
          <p:spPr>
            <a:xfrm>
              <a:off x="1547640" y="19429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36"/>
            <p:cNvSpPr/>
            <p:nvPr/>
          </p:nvSpPr>
          <p:spPr>
            <a:xfrm>
              <a:off x="1536480" y="243360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37"/>
            <p:cNvSpPr/>
            <p:nvPr/>
          </p:nvSpPr>
          <p:spPr>
            <a:xfrm>
              <a:off x="1525680" y="28861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427120" y="2209680"/>
            <a:ext cx="64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473040" y="4446720"/>
          <a:ext cx="54673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4446720"/>
                    <a:ext cx="54673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145" name="Straight Connector 42"/>
            <p:cNvSpPr/>
            <p:nvPr/>
          </p:nvSpPr>
          <p:spPr>
            <a:xfrm>
              <a:off x="971280" y="15048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43"/>
            <p:cNvSpPr/>
            <p:nvPr/>
          </p:nvSpPr>
          <p:spPr>
            <a:xfrm>
              <a:off x="958680" y="19573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44"/>
            <p:cNvSpPr/>
            <p:nvPr/>
          </p:nvSpPr>
          <p:spPr>
            <a:xfrm>
              <a:off x="947520" y="24462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45"/>
            <p:cNvSpPr/>
            <p:nvPr/>
          </p:nvSpPr>
          <p:spPr>
            <a:xfrm>
              <a:off x="934920" y="28987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150" name="Straight Connector 47"/>
            <p:cNvSpPr/>
            <p:nvPr/>
          </p:nvSpPr>
          <p:spPr>
            <a:xfrm flipV="1">
              <a:off x="479520" y="24987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48"/>
            <p:cNvSpPr/>
            <p:nvPr/>
          </p:nvSpPr>
          <p:spPr>
            <a:xfrm flipV="1">
              <a:off x="1003320" y="25048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49"/>
            <p:cNvSpPr/>
            <p:nvPr/>
          </p:nvSpPr>
          <p:spPr>
            <a:xfrm flipV="1">
              <a:off x="1571760" y="25113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50"/>
            <p:cNvSpPr/>
            <p:nvPr/>
          </p:nvSpPr>
          <p:spPr>
            <a:xfrm flipV="1">
              <a:off x="2095560" y="25174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155" name="Straight Connector 52"/>
            <p:cNvSpPr/>
            <p:nvPr/>
          </p:nvSpPr>
          <p:spPr>
            <a:xfrm flipV="1">
              <a:off x="490680" y="15458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53"/>
            <p:cNvSpPr/>
            <p:nvPr/>
          </p:nvSpPr>
          <p:spPr>
            <a:xfrm flipV="1">
              <a:off x="1014480" y="15519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54"/>
            <p:cNvSpPr/>
            <p:nvPr/>
          </p:nvSpPr>
          <p:spPr>
            <a:xfrm flipV="1">
              <a:off x="1582920" y="15584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55"/>
            <p:cNvSpPr/>
            <p:nvPr/>
          </p:nvSpPr>
          <p:spPr>
            <a:xfrm flipV="1">
              <a:off x="2106720" y="15645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160" name="Straight Connector 57"/>
            <p:cNvSpPr/>
            <p:nvPr/>
          </p:nvSpPr>
          <p:spPr>
            <a:xfrm flipV="1">
              <a:off x="457200" y="20030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58"/>
            <p:cNvSpPr/>
            <p:nvPr/>
          </p:nvSpPr>
          <p:spPr>
            <a:xfrm flipV="1">
              <a:off x="981000" y="20091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59"/>
            <p:cNvSpPr/>
            <p:nvPr/>
          </p:nvSpPr>
          <p:spPr>
            <a:xfrm flipV="1">
              <a:off x="1549440" y="20156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60"/>
            <p:cNvSpPr/>
            <p:nvPr/>
          </p:nvSpPr>
          <p:spPr>
            <a:xfrm flipV="1">
              <a:off x="2073240" y="20217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3"/>
          <p:cNvSpPr/>
          <p:nvPr/>
        </p:nvSpPr>
        <p:spPr>
          <a:xfrm>
            <a:off x="6391440" y="4629240"/>
            <a:ext cx="2379600" cy="1800360"/>
          </a:xfrm>
          <a:prstGeom prst="rect">
            <a:avLst/>
          </a:prstGeom>
          <a:solidFill>
            <a:srgbClr val="ffffd5"/>
          </a:solidFill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Linear Cross-Entropy Benchmark” (LX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17520" y="228600"/>
            <a:ext cx="850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lassical Spoofing of RCS in Theory: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s There A ~2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</a:rPr>
              <a:t>n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Barr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33280" y="4114800"/>
            <a:ext cx="883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en 2017, A.-Gunn 2019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there’s a classical algorithm to spoof Linear XEB in &lt;&l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ime, then ther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fast classical algorithm that estimates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utput probability lik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C|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ligh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variance than always guessing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9360" y="1828800"/>
          <a:ext cx="8610480" cy="1828800"/>
        </p:xfrm>
        <a:graphic>
          <a:graphicData uri="http://schemas.openxmlformats.org/drawingml/2006/table">
            <a:tbl>
              <a:tblPr/>
              <a:tblGrid>
                <a:gridCol w="5010120"/>
                <a:gridCol w="2270160"/>
                <a:gridCol w="133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ical Simulation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n=#qu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yn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=#ga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-Feynman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Calibri"/>
                        </a:rPr>
                        <a:t>(A.-Chen 20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d=dep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44520" y="1810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lassical Spoofing of RC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44520" y="950760"/>
            <a:ext cx="8661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B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Summit, the largest supercomputer currently on earth—which fills 2 basketball courts and has 250 petabytes of hard disk—should be able to simulate Google’s 3-minute calculation in ~2.5 days, rather than the 10,000 years Google estim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https://upload.wikimedia.org/wikipedia/commons/thumb/b/b4/Summit_%28supercomputer%29.jpg/1024px-Summit_%28supercomputer%29.jpg"/>
          <p:cNvPicPr/>
          <p:nvPr/>
        </p:nvPicPr>
        <p:blipFill>
          <a:blip r:embed="rId1"/>
          <a:stretch/>
        </p:blipFill>
        <p:spPr>
          <a:xfrm>
            <a:off x="6356520" y="3002040"/>
            <a:ext cx="2381040" cy="1904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44520" y="3527280"/>
            <a:ext cx="574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an &amp; Zhang, Liu et al.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Can spoof one samp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ly, using t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33360" y="5105520"/>
            <a:ext cx="8520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an, Chen, &amp; Zhang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b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ven millions of samples, using a state-of-the-art supercomp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33360" y="6221520"/>
            <a:ext cx="8810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supremacy in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ootprint rather than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2"/>
          <p:cNvSpPr/>
          <p:nvPr/>
        </p:nvSpPr>
        <p:spPr>
          <a:xfrm>
            <a:off x="419040" y="3049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aussian BosonSampling (GB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63680" y="407052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e first claimed quantum supremacy demo using photonics, and the second 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Has &gt;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ates, escaping “store the entire state vector” spoof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But does it evade other forms of classical spoof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Quantum advantage demonstrated using Gaussian boson sampling – Physics World"/>
          <p:cNvPicPr/>
          <p:nvPr/>
        </p:nvPicPr>
        <p:blipFill>
          <a:blip r:embed="rId1"/>
          <a:stretch/>
        </p:blipFill>
        <p:spPr>
          <a:xfrm>
            <a:off x="3813120" y="1204920"/>
            <a:ext cx="4797360" cy="26989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1247760"/>
            <a:ext cx="3276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Announced in 2020-2021 by the group centered at USTC, China, with &gt;50-100 pho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2"/>
          <p:cNvSpPr/>
          <p:nvPr/>
        </p:nvSpPr>
        <p:spPr>
          <a:xfrm>
            <a:off x="419040" y="196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Great BosonSampling Quantum Supremacy Deba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3520" y="1828800"/>
            <a:ext cx="83055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USTC paper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7-mode correlations show a nontrivial signal; extrapolation suggests that 19-mode correlations would as well, if we had time to coll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7-mode correlations are easy to reproduce with current classical algorithms; 19-mode correlations ar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But, Google paper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you define the BosonSampling task to be getting a good LXEB score, variation distance, etc., then we have a fast classical spoofing algorithm that seems to do better, just by beating the experiment on the 1- and 2-mode cor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 (A. 201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601640" y="2093760"/>
            <a:ext cx="1369800" cy="1290600"/>
            <a:chOff x="1601640" y="2093760"/>
            <a:chExt cx="1369800" cy="1290600"/>
          </a:xfrm>
        </p:grpSpPr>
        <p:sp>
          <p:nvSpPr>
            <p:cNvPr id="182" name="Freeform 6"/>
            <p:cNvSpPr/>
            <p:nvPr/>
          </p:nvSpPr>
          <p:spPr>
            <a:xfrm>
              <a:off x="1818360" y="2124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"/>
            <p:cNvSpPr/>
            <p:nvPr/>
          </p:nvSpPr>
          <p:spPr>
            <a:xfrm>
              <a:off x="1910520" y="2224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"/>
            <p:cNvSpPr/>
            <p:nvPr/>
          </p:nvSpPr>
          <p:spPr>
            <a:xfrm>
              <a:off x="1988640" y="28702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"/>
            <p:cNvSpPr/>
            <p:nvPr/>
          </p:nvSpPr>
          <p:spPr>
            <a:xfrm>
              <a:off x="2242080" y="25023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"/>
            <p:cNvSpPr/>
            <p:nvPr/>
          </p:nvSpPr>
          <p:spPr>
            <a:xfrm>
              <a:off x="2681640" y="31114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"/>
            <p:cNvSpPr/>
            <p:nvPr/>
          </p:nvSpPr>
          <p:spPr>
            <a:xfrm>
              <a:off x="2681640" y="314568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"/>
            <p:cNvSpPr/>
            <p:nvPr/>
          </p:nvSpPr>
          <p:spPr>
            <a:xfrm>
              <a:off x="2685960" y="3223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"/>
            <p:cNvSpPr/>
            <p:nvPr/>
          </p:nvSpPr>
          <p:spPr>
            <a:xfrm>
              <a:off x="2688840" y="31597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"/>
            <p:cNvSpPr/>
            <p:nvPr/>
          </p:nvSpPr>
          <p:spPr>
            <a:xfrm>
              <a:off x="2897640" y="3183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"/>
            <p:cNvSpPr/>
            <p:nvPr/>
          </p:nvSpPr>
          <p:spPr>
            <a:xfrm>
              <a:off x="2670840" y="310968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2840400" y="32036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2760840" y="31377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727360" y="31255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2617200" y="32346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"/>
            <p:cNvSpPr/>
            <p:nvPr/>
          </p:nvSpPr>
          <p:spPr>
            <a:xfrm>
              <a:off x="1620720" y="305532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"/>
            <p:cNvSpPr/>
            <p:nvPr/>
          </p:nvSpPr>
          <p:spPr>
            <a:xfrm>
              <a:off x="1820880" y="2933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2022840" y="2838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3"/>
            <p:cNvSpPr/>
            <p:nvPr/>
          </p:nvSpPr>
          <p:spPr>
            <a:xfrm>
              <a:off x="2356200" y="2251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1990440" y="2742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1865520" y="21855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6"/>
            <p:cNvSpPr/>
            <p:nvPr/>
          </p:nvSpPr>
          <p:spPr>
            <a:xfrm>
              <a:off x="2316240" y="2967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7"/>
            <p:cNvSpPr/>
            <p:nvPr/>
          </p:nvSpPr>
          <p:spPr>
            <a:xfrm>
              <a:off x="2411640" y="3008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"/>
            <p:cNvSpPr/>
            <p:nvPr/>
          </p:nvSpPr>
          <p:spPr>
            <a:xfrm>
              <a:off x="1611360" y="320472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9"/>
            <p:cNvSpPr/>
            <p:nvPr/>
          </p:nvSpPr>
          <p:spPr>
            <a:xfrm>
              <a:off x="1809360" y="29037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0"/>
            <p:cNvSpPr/>
            <p:nvPr/>
          </p:nvSpPr>
          <p:spPr>
            <a:xfrm>
              <a:off x="2567520" y="29109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1"/>
            <p:cNvSpPr/>
            <p:nvPr/>
          </p:nvSpPr>
          <p:spPr>
            <a:xfrm>
              <a:off x="2309760" y="2974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2"/>
            <p:cNvSpPr/>
            <p:nvPr/>
          </p:nvSpPr>
          <p:spPr>
            <a:xfrm>
              <a:off x="2318760" y="29631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3"/>
            <p:cNvSpPr/>
            <p:nvPr/>
          </p:nvSpPr>
          <p:spPr>
            <a:xfrm>
              <a:off x="2406240" y="30063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4"/>
            <p:cNvSpPr/>
            <p:nvPr/>
          </p:nvSpPr>
          <p:spPr>
            <a:xfrm>
              <a:off x="1759680" y="3029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5"/>
            <p:cNvSpPr/>
            <p:nvPr/>
          </p:nvSpPr>
          <p:spPr>
            <a:xfrm>
              <a:off x="1645560" y="318672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2546280" y="30733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2588760" y="3217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627560" y="323640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>
              <a:off x="1811520" y="307980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0"/>
            <p:cNvSpPr/>
            <p:nvPr/>
          </p:nvSpPr>
          <p:spPr>
            <a:xfrm>
              <a:off x="1785600" y="31269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1"/>
            <p:cNvSpPr/>
            <p:nvPr/>
          </p:nvSpPr>
          <p:spPr>
            <a:xfrm>
              <a:off x="2406960" y="3115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2"/>
            <p:cNvSpPr/>
            <p:nvPr/>
          </p:nvSpPr>
          <p:spPr>
            <a:xfrm>
              <a:off x="2432880" y="31442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3"/>
            <p:cNvSpPr/>
            <p:nvPr/>
          </p:nvSpPr>
          <p:spPr>
            <a:xfrm>
              <a:off x="2441880" y="31759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4"/>
            <p:cNvSpPr/>
            <p:nvPr/>
          </p:nvSpPr>
          <p:spPr>
            <a:xfrm>
              <a:off x="1793160" y="2093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5"/>
            <p:cNvSpPr/>
            <p:nvPr/>
          </p:nvSpPr>
          <p:spPr>
            <a:xfrm>
              <a:off x="2530080" y="2108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6"/>
            <p:cNvSpPr/>
            <p:nvPr/>
          </p:nvSpPr>
          <p:spPr>
            <a:xfrm>
              <a:off x="2481120" y="2198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7"/>
            <p:cNvSpPr/>
            <p:nvPr/>
          </p:nvSpPr>
          <p:spPr>
            <a:xfrm>
              <a:off x="2448360" y="2149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8"/>
            <p:cNvSpPr/>
            <p:nvPr/>
          </p:nvSpPr>
          <p:spPr>
            <a:xfrm>
              <a:off x="1792080" y="2295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9"/>
            <p:cNvSpPr/>
            <p:nvPr/>
          </p:nvSpPr>
          <p:spPr>
            <a:xfrm>
              <a:off x="1942920" y="282276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0"/>
            <p:cNvSpPr/>
            <p:nvPr/>
          </p:nvSpPr>
          <p:spPr>
            <a:xfrm>
              <a:off x="2400480" y="28234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1"/>
            <p:cNvSpPr/>
            <p:nvPr/>
          </p:nvSpPr>
          <p:spPr>
            <a:xfrm>
              <a:off x="1988640" y="28285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"/>
            <p:cNvSpPr/>
            <p:nvPr/>
          </p:nvSpPr>
          <p:spPr>
            <a:xfrm>
              <a:off x="1949760" y="29109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3"/>
            <p:cNvSpPr/>
            <p:nvPr/>
          </p:nvSpPr>
          <p:spPr>
            <a:xfrm>
              <a:off x="2322720" y="2826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4"/>
            <p:cNvSpPr/>
            <p:nvPr/>
          </p:nvSpPr>
          <p:spPr>
            <a:xfrm>
              <a:off x="2436120" y="28702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5"/>
            <p:cNvSpPr/>
            <p:nvPr/>
          </p:nvSpPr>
          <p:spPr>
            <a:xfrm>
              <a:off x="1979640" y="2762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6"/>
            <p:cNvSpPr/>
            <p:nvPr/>
          </p:nvSpPr>
          <p:spPr>
            <a:xfrm>
              <a:off x="1981440" y="2735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7"/>
            <p:cNvSpPr/>
            <p:nvPr/>
          </p:nvSpPr>
          <p:spPr>
            <a:xfrm>
              <a:off x="2366280" y="2737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8"/>
            <p:cNvSpPr/>
            <p:nvPr/>
          </p:nvSpPr>
          <p:spPr>
            <a:xfrm>
              <a:off x="2284560" y="27568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9"/>
            <p:cNvSpPr/>
            <p:nvPr/>
          </p:nvSpPr>
          <p:spPr>
            <a:xfrm>
              <a:off x="2210400" y="27558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0"/>
            <p:cNvSpPr/>
            <p:nvPr/>
          </p:nvSpPr>
          <p:spPr>
            <a:xfrm>
              <a:off x="2124720" y="2753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61"/>
            <p:cNvSpPr/>
            <p:nvPr/>
          </p:nvSpPr>
          <p:spPr>
            <a:xfrm>
              <a:off x="2050560" y="27576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2"/>
            <p:cNvSpPr/>
            <p:nvPr/>
          </p:nvSpPr>
          <p:spPr>
            <a:xfrm>
              <a:off x="2267280" y="2224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63"/>
            <p:cNvSpPr/>
            <p:nvPr/>
          </p:nvSpPr>
          <p:spPr>
            <a:xfrm>
              <a:off x="1872000" y="240264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4"/>
            <p:cNvSpPr/>
            <p:nvPr/>
          </p:nvSpPr>
          <p:spPr>
            <a:xfrm>
              <a:off x="1984680" y="2668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5"/>
            <p:cNvSpPr/>
            <p:nvPr/>
          </p:nvSpPr>
          <p:spPr>
            <a:xfrm>
              <a:off x="2365560" y="220860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6"/>
            <p:cNvSpPr/>
            <p:nvPr/>
          </p:nvSpPr>
          <p:spPr>
            <a:xfrm>
              <a:off x="1601640" y="31953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7"/>
            <p:cNvSpPr/>
            <p:nvPr/>
          </p:nvSpPr>
          <p:spPr>
            <a:xfrm>
              <a:off x="1871280" y="2204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8"/>
            <p:cNvSpPr/>
            <p:nvPr/>
          </p:nvSpPr>
          <p:spPr>
            <a:xfrm>
              <a:off x="1908000" y="2246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>
              <a:off x="1803600" y="29548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1"/>
          <p:cNvSpPr/>
          <p:nvPr/>
        </p:nvSpPr>
        <p:spPr>
          <a:xfrm>
            <a:off x="806400" y="127332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6478560" y="207000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86"/>
          <p:cNvCxnSpPr/>
          <p:nvPr/>
        </p:nvCxnSpPr>
        <p:spPr>
          <a:xfrm>
            <a:off x="2870280" y="2295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49" name="Straight Arrow Connector 87"/>
          <p:cNvCxnSpPr/>
          <p:nvPr/>
        </p:nvCxnSpPr>
        <p:spPr>
          <a:xfrm>
            <a:off x="2876400" y="25538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50" name="Straight Arrow Connector 88"/>
          <p:cNvCxnSpPr/>
          <p:nvPr/>
        </p:nvCxnSpPr>
        <p:spPr>
          <a:xfrm>
            <a:off x="2862360" y="28159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51" name="Straight Arrow Connector 89"/>
          <p:cNvCxnSpPr/>
          <p:nvPr/>
        </p:nvCxnSpPr>
        <p:spPr>
          <a:xfrm>
            <a:off x="2862360" y="307944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52" name="TextBox 80"/>
          <p:cNvSpPr/>
          <p:nvPr/>
        </p:nvSpPr>
        <p:spPr>
          <a:xfrm rot="5400000">
            <a:off x="236520" y="217332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a quantum computer repeatedly and quickly passes the Linear XEB test, then under a suitable complexity assumption, we show that its response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 verifiably-random bits using existing QCs—useful for, e.g., proof-of-stake cryptocurrenci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1-12-02T01:34:23Z</dcterms:modified>
  <cp:revision>365</cp:revision>
  <dc:subject/>
  <dc:title>The Future of Computer Science</dc:title>
</cp:coreProperties>
</file>