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A106-9A90-4605-8B84-5BA3FD1BF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0399-76A0-4C57-A461-005B4998F7E5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D5D0-4024-4AE1-8854-034E1C4184F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9BBC-ED4E-4780-9A0C-FC6B42121F54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D8FD-9EBC-4841-994F-923444F614B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3590-0C57-4D0D-8B30-6EA232530A98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297C-71B3-4BFD-B228-6EC9C2502D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836F-9F92-4318-AB0E-4A9438081E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0A25-9C4B-47C9-8B34-192361809D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536-DB51-4A40-BFD4-087FFA4C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BB1-C7F4-4EF1-8DE4-5C2461ED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6B7-6AC1-4730-AFFC-0CFC2042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769-BF1B-473B-8F73-024A9E23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1DD0-D506-40B1-9311-F0B3CA77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1EB0-7792-48B3-97C2-D3A401E2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69E7-D508-47C1-A4BE-8595A03E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57C8-DAA6-4EE5-B68A-3DAA9ED2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FAE8-8868-4351-9ED6-D78B95D1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D09A-D2DC-4F4E-A1AA-7E723398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F3E4-5258-485E-AB6F-68A8F22B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D1D-AC5D-4A53-BC15-662ACD89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5A71-C003-425B-9EB7-80CBFCC1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1D10-E42E-4237-9164-1198BD26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6B72-2F7A-4B25-A0CC-7498A20A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694A-C60B-45EB-AB0F-948AAAFD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00A8-0129-4F9F-B1E7-43DEBDD2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A6EF-F9A3-4C96-A72E-B3625AB4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BD88-B131-4732-BF30-EFE0A7BD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D9E0-B741-467D-B7A2-134B18AF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A7AD-3475-4A93-9338-F691071D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EB28-26B0-478C-B6DA-0FFB366B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078-F3DE-44C5-8C43-5E98A4D7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B5D75-E3D2-4B81-8AC7-E620D56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7FD1-686B-4E94-8019-97CC581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C31C-B67B-4EA3-90F6-E37BC08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92C1-4433-4B2E-AB17-63097F1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CFB7-2253-45DF-9B95-D12C4BC5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ECE1-864C-4756-A015-86E61E32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9484-A4DA-464F-ACF4-76ACB1CC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046-F044-4D59-B384-D952C802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B27-B655-4BF7-AE5A-EF050817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2A7-EF9D-474F-B31E-9156C180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91D-F40E-4F30-B67F-60470053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89C-1419-4242-B2E1-34A76F0C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62E-8BDE-4444-872C-EC6AACC1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45C9-83B6-4B37-8CA1-B1F8A5497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7FC3-75A5-4E1F-A274-4D1D3FD7F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7A6-A23C-4083-96C3-A199736DD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alibri"/>
                <a:ea typeface="Calibri"/>
              </a:rPr>
              <a:t>Quantum Computing: Fact vs. Fiction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hicago Quantum Summit, November 12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32"/>
          <p:cNvSpPr/>
          <p:nvPr/>
        </p:nvSpPr>
        <p:spPr>
          <a:xfrm>
            <a:off x="39996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388800" y="433224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speedups are subtle and depend 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b050"/>
                </a:solidFill>
                <a:latin typeface="Calibri"/>
                <a:ea typeface="Arial"/>
              </a:rPr>
              <a:t>Not just free exponential parallelism—”weirder than a sci-fi writer would have had the imagination to inven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419040" y="1066680"/>
            <a:ext cx="8305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is a particularly exciting time for QC.  After decades of theory and experiment, we’ve finally started to see clear speedups over classical computers for specialized problems, with ~50-70 qubi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b050"/>
                </a:solidFill>
                <a:latin typeface="Calibri"/>
                <a:ea typeface="Arial"/>
              </a:rPr>
              <a:t>Achieving full scalability and fault-tolerance, and threatening public-key crypto, will take l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752480" y="45720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1095480" y="457200"/>
            <a:ext cx="836640" cy="1065960"/>
            <a:chOff x="1095480" y="457200"/>
            <a:chExt cx="836640" cy="1065960"/>
          </a:xfrm>
        </p:grpSpPr>
        <p:sp>
          <p:nvSpPr>
            <p:cNvPr id="136" name="Line 43"/>
            <p:cNvSpPr/>
            <p:nvPr/>
          </p:nvSpPr>
          <p:spPr>
            <a:xfrm flipV="1">
              <a:off x="1280520" y="480240"/>
              <a:ext cx="44496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44" descr="MCDD01775_0000[1]"/>
            <p:cNvPicPr/>
            <p:nvPr/>
          </p:nvPicPr>
          <p:blipFill>
            <a:blip r:embed="rId1"/>
            <a:stretch/>
          </p:blipFill>
          <p:spPr>
            <a:xfrm>
              <a:off x="1095480" y="480600"/>
              <a:ext cx="83664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AutoShape 45"/>
            <p:cNvSpPr/>
            <p:nvPr/>
          </p:nvSpPr>
          <p:spPr>
            <a:xfrm rot="16200000">
              <a:off x="1389960" y="83520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46"/>
            <p:cNvGrpSpPr/>
            <p:nvPr/>
          </p:nvGrpSpPr>
          <p:grpSpPr>
            <a:xfrm>
              <a:off x="1163880" y="621360"/>
              <a:ext cx="349200" cy="271440"/>
              <a:chOff x="1163880" y="621360"/>
              <a:chExt cx="349200" cy="271440"/>
            </a:xfrm>
          </p:grpSpPr>
          <p:sp>
            <p:nvSpPr>
              <p:cNvPr id="140" name="Freeform 47"/>
              <p:cNvSpPr/>
              <p:nvPr/>
            </p:nvSpPr>
            <p:spPr>
              <a:xfrm>
                <a:off x="1174680" y="69552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48"/>
              <p:cNvSpPr/>
              <p:nvPr/>
            </p:nvSpPr>
            <p:spPr>
              <a:xfrm>
                <a:off x="1199520" y="71748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49"/>
              <p:cNvSpPr/>
              <p:nvPr/>
            </p:nvSpPr>
            <p:spPr>
              <a:xfrm>
                <a:off x="1268280" y="72936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0"/>
              <p:cNvSpPr/>
              <p:nvPr/>
            </p:nvSpPr>
            <p:spPr>
              <a:xfrm>
                <a:off x="1344240" y="76860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1"/>
              <p:cNvSpPr/>
              <p:nvPr/>
            </p:nvSpPr>
            <p:spPr>
              <a:xfrm>
                <a:off x="1163880" y="68292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2"/>
              <p:cNvSpPr/>
              <p:nvPr/>
            </p:nvSpPr>
            <p:spPr>
              <a:xfrm>
                <a:off x="1215360" y="65016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3"/>
              <p:cNvSpPr/>
              <p:nvPr/>
            </p:nvSpPr>
            <p:spPr>
              <a:xfrm>
                <a:off x="1272240" y="63000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4"/>
              <p:cNvSpPr/>
              <p:nvPr/>
            </p:nvSpPr>
            <p:spPr>
              <a:xfrm>
                <a:off x="1466640" y="68760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5"/>
              <p:cNvSpPr/>
              <p:nvPr/>
            </p:nvSpPr>
            <p:spPr>
              <a:xfrm>
                <a:off x="1427400" y="65340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6"/>
              <p:cNvSpPr/>
              <p:nvPr/>
            </p:nvSpPr>
            <p:spPr>
              <a:xfrm>
                <a:off x="1382040" y="63144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7"/>
              <p:cNvSpPr/>
              <p:nvPr/>
            </p:nvSpPr>
            <p:spPr>
              <a:xfrm>
                <a:off x="1326960" y="62136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58"/>
            <p:cNvGrpSpPr/>
            <p:nvPr/>
          </p:nvGrpSpPr>
          <p:grpSpPr>
            <a:xfrm>
              <a:off x="1558800" y="621360"/>
              <a:ext cx="349200" cy="271440"/>
              <a:chOff x="1558800" y="621360"/>
              <a:chExt cx="349200" cy="271440"/>
            </a:xfrm>
          </p:grpSpPr>
          <p:sp>
            <p:nvSpPr>
              <p:cNvPr id="152" name="Freeform 59"/>
              <p:cNvSpPr/>
              <p:nvPr/>
            </p:nvSpPr>
            <p:spPr>
              <a:xfrm>
                <a:off x="1569600" y="69552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60"/>
              <p:cNvSpPr/>
              <p:nvPr/>
            </p:nvSpPr>
            <p:spPr>
              <a:xfrm>
                <a:off x="1594440" y="71748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61"/>
              <p:cNvSpPr/>
              <p:nvPr/>
            </p:nvSpPr>
            <p:spPr>
              <a:xfrm>
                <a:off x="1663200" y="72936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62"/>
              <p:cNvSpPr/>
              <p:nvPr/>
            </p:nvSpPr>
            <p:spPr>
              <a:xfrm>
                <a:off x="1739160" y="76860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63"/>
              <p:cNvSpPr/>
              <p:nvPr/>
            </p:nvSpPr>
            <p:spPr>
              <a:xfrm>
                <a:off x="1558800" y="68292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64"/>
              <p:cNvSpPr/>
              <p:nvPr/>
            </p:nvSpPr>
            <p:spPr>
              <a:xfrm>
                <a:off x="1610280" y="65016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65"/>
              <p:cNvSpPr/>
              <p:nvPr/>
            </p:nvSpPr>
            <p:spPr>
              <a:xfrm>
                <a:off x="1667160" y="63000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6"/>
              <p:cNvSpPr/>
              <p:nvPr/>
            </p:nvSpPr>
            <p:spPr>
              <a:xfrm>
                <a:off x="1861560" y="68760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7"/>
              <p:cNvSpPr/>
              <p:nvPr/>
            </p:nvSpPr>
            <p:spPr>
              <a:xfrm>
                <a:off x="1822320" y="65340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8"/>
              <p:cNvSpPr/>
              <p:nvPr/>
            </p:nvSpPr>
            <p:spPr>
              <a:xfrm>
                <a:off x="1776960" y="63144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9"/>
              <p:cNvSpPr/>
              <p:nvPr/>
            </p:nvSpPr>
            <p:spPr>
              <a:xfrm>
                <a:off x="1721880" y="62136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70"/>
            <p:cNvSpPr/>
            <p:nvPr/>
          </p:nvSpPr>
          <p:spPr>
            <a:xfrm flipV="1">
              <a:off x="1512720" y="457200"/>
              <a:ext cx="2322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71"/>
          <p:cNvGrpSpPr/>
          <p:nvPr/>
        </p:nvGrpSpPr>
        <p:grpSpPr>
          <a:xfrm>
            <a:off x="7400880" y="468360"/>
            <a:ext cx="820800" cy="1065960"/>
            <a:chOff x="7400880" y="468360"/>
            <a:chExt cx="820800" cy="1065960"/>
          </a:xfrm>
        </p:grpSpPr>
        <p:sp>
          <p:nvSpPr>
            <p:cNvPr id="165" name="Line 72"/>
            <p:cNvSpPr/>
            <p:nvPr/>
          </p:nvSpPr>
          <p:spPr>
            <a:xfrm flipH="1" flipV="1">
              <a:off x="7612560" y="491400"/>
              <a:ext cx="43020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73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400880" y="491760"/>
              <a:ext cx="820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utoShape 74"/>
            <p:cNvSpPr/>
            <p:nvPr/>
          </p:nvSpPr>
          <p:spPr>
            <a:xfrm flipH="1" rot="5400000">
              <a:off x="7684920" y="955800"/>
              <a:ext cx="244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75"/>
            <p:cNvGrpSpPr/>
            <p:nvPr/>
          </p:nvGrpSpPr>
          <p:grpSpPr>
            <a:xfrm>
              <a:off x="7832160" y="729000"/>
              <a:ext cx="311400" cy="199080"/>
              <a:chOff x="7832160" y="729000"/>
              <a:chExt cx="311400" cy="199080"/>
            </a:xfrm>
          </p:grpSpPr>
          <p:sp>
            <p:nvSpPr>
              <p:cNvPr id="169" name="Freeform 76"/>
              <p:cNvSpPr/>
              <p:nvPr/>
            </p:nvSpPr>
            <p:spPr>
              <a:xfrm flipH="1">
                <a:off x="7831800" y="7290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77"/>
              <p:cNvSpPr/>
              <p:nvPr/>
            </p:nvSpPr>
            <p:spPr>
              <a:xfrm flipH="1">
                <a:off x="7855560" y="7513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78"/>
              <p:cNvSpPr/>
              <p:nvPr/>
            </p:nvSpPr>
            <p:spPr>
              <a:xfrm flipH="1">
                <a:off x="7926480" y="7635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79"/>
              <p:cNvSpPr/>
              <p:nvPr/>
            </p:nvSpPr>
            <p:spPr>
              <a:xfrm flipH="1">
                <a:off x="7959960" y="8020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80"/>
            <p:cNvGrpSpPr/>
            <p:nvPr/>
          </p:nvGrpSpPr>
          <p:grpSpPr>
            <a:xfrm>
              <a:off x="7450560" y="729000"/>
              <a:ext cx="311400" cy="199080"/>
              <a:chOff x="7450560" y="729000"/>
              <a:chExt cx="311400" cy="199080"/>
            </a:xfrm>
          </p:grpSpPr>
          <p:sp>
            <p:nvSpPr>
              <p:cNvPr id="174" name="Freeform 81"/>
              <p:cNvSpPr/>
              <p:nvPr/>
            </p:nvSpPr>
            <p:spPr>
              <a:xfrm flipH="1">
                <a:off x="7450200" y="7290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82"/>
              <p:cNvSpPr/>
              <p:nvPr/>
            </p:nvSpPr>
            <p:spPr>
              <a:xfrm flipH="1">
                <a:off x="7473960" y="7513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83"/>
              <p:cNvSpPr/>
              <p:nvPr/>
            </p:nvSpPr>
            <p:spPr>
              <a:xfrm flipH="1">
                <a:off x="7544880" y="7635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84"/>
              <p:cNvSpPr/>
              <p:nvPr/>
            </p:nvSpPr>
            <p:spPr>
              <a:xfrm flipH="1">
                <a:off x="7578360" y="8020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85"/>
            <p:cNvSpPr/>
            <p:nvPr/>
          </p:nvSpPr>
          <p:spPr>
            <a:xfrm flipH="1" flipV="1">
              <a:off x="7593840" y="468360"/>
              <a:ext cx="224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380880" y="19051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Probability theory with minus sign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0"/>
          <p:cNvGrpSpPr/>
          <p:nvPr/>
        </p:nvGrpSpPr>
        <p:grpSpPr>
          <a:xfrm>
            <a:off x="1828800" y="4191120"/>
            <a:ext cx="2666880" cy="1371600"/>
            <a:chOff x="1828800" y="4191120"/>
            <a:chExt cx="2666880" cy="1371600"/>
          </a:xfrm>
        </p:grpSpPr>
        <p:sp>
          <p:nvSpPr>
            <p:cNvPr id="181" name="Line 12"/>
            <p:cNvSpPr/>
            <p:nvPr/>
          </p:nvSpPr>
          <p:spPr>
            <a:xfrm flipV="1">
              <a:off x="1828800" y="4191120"/>
              <a:ext cx="266688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3"/>
            <p:cNvSpPr/>
            <p:nvPr/>
          </p:nvSpPr>
          <p:spPr>
            <a:xfrm>
              <a:off x="1828800" y="5029200"/>
              <a:ext cx="259092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6"/>
          <p:cNvSpPr/>
          <p:nvPr/>
        </p:nvSpPr>
        <p:spPr>
          <a:xfrm>
            <a:off x="6172200" y="3200400"/>
            <a:ext cx="0" cy="33526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9"/>
          <p:cNvGrpSpPr/>
          <p:nvPr/>
        </p:nvGrpSpPr>
        <p:grpSpPr>
          <a:xfrm>
            <a:off x="4876920" y="3276720"/>
            <a:ext cx="990360" cy="2895480"/>
            <a:chOff x="4876920" y="3276720"/>
            <a:chExt cx="990360" cy="2895480"/>
          </a:xfrm>
        </p:grpSpPr>
        <p:sp>
          <p:nvSpPr>
            <p:cNvPr id="185" name="Line 20"/>
            <p:cNvSpPr/>
            <p:nvPr/>
          </p:nvSpPr>
          <p:spPr>
            <a:xfrm>
              <a:off x="4952880" y="411480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1"/>
            <p:cNvSpPr/>
            <p:nvPr/>
          </p:nvSpPr>
          <p:spPr>
            <a:xfrm>
              <a:off x="4952880" y="434340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2"/>
            <p:cNvSpPr/>
            <p:nvPr/>
          </p:nvSpPr>
          <p:spPr>
            <a:xfrm flipV="1">
              <a:off x="4952880" y="373356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3"/>
            <p:cNvSpPr/>
            <p:nvPr/>
          </p:nvSpPr>
          <p:spPr>
            <a:xfrm flipV="1">
              <a:off x="4876920" y="327672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>
              <a:off x="4952880" y="556272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4952880" y="579132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V="1">
              <a:off x="4952880" y="518148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8"/>
            <p:cNvSpPr/>
            <p:nvPr/>
          </p:nvSpPr>
          <p:spPr>
            <a:xfrm flipV="1">
              <a:off x="4876920" y="472428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17" descr=""/>
          <p:cNvPicPr/>
          <p:nvPr/>
        </p:nvPicPr>
        <p:blipFill>
          <a:blip r:embed="rId3"/>
          <a:srcRect l="0" t="6720" r="0" b="6720"/>
          <a:stretch/>
        </p:blipFill>
        <p:spPr>
          <a:xfrm>
            <a:off x="6248520" y="3048120"/>
            <a:ext cx="1805040" cy="362736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72"/>
          <p:cNvGrpSpPr/>
          <p:nvPr/>
        </p:nvGrpSpPr>
        <p:grpSpPr>
          <a:xfrm>
            <a:off x="4572000" y="3200400"/>
            <a:ext cx="0" cy="3352680"/>
            <a:chOff x="4572000" y="3200400"/>
            <a:chExt cx="0" cy="3352680"/>
          </a:xfrm>
        </p:grpSpPr>
        <p:sp>
          <p:nvSpPr>
            <p:cNvPr id="195" name="Line 9"/>
            <p:cNvSpPr/>
            <p:nvPr/>
          </p:nvSpPr>
          <p:spPr>
            <a:xfrm>
              <a:off x="4572000" y="4419360"/>
              <a:ext cx="0" cy="9144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>
              <a:off x="4572000" y="579132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4572000" y="320040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66"/>
          <p:cNvGrpSpPr/>
          <p:nvPr/>
        </p:nvGrpSpPr>
        <p:grpSpPr>
          <a:xfrm>
            <a:off x="1143000" y="4572000"/>
            <a:ext cx="609480" cy="609480"/>
            <a:chOff x="1143000" y="4572000"/>
            <a:chExt cx="609480" cy="609480"/>
          </a:xfrm>
        </p:grpSpPr>
        <p:pic>
          <p:nvPicPr>
            <p:cNvPr id="199" name="Picture 44" descr="MCDD01775_0000[1]"/>
            <p:cNvPicPr/>
            <p:nvPr/>
          </p:nvPicPr>
          <p:blipFill>
            <a:blip r:embed="rId4"/>
            <a:stretch/>
          </p:blipFill>
          <p:spPr>
            <a:xfrm>
              <a:off x="1143000" y="45720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45"/>
            <p:cNvSpPr/>
            <p:nvPr/>
          </p:nvSpPr>
          <p:spPr>
            <a:xfrm rot="16200000">
              <a:off x="1357200" y="4830840"/>
              <a:ext cx="17892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64"/>
            <p:cNvGrpSpPr/>
            <p:nvPr/>
          </p:nvGrpSpPr>
          <p:grpSpPr>
            <a:xfrm>
              <a:off x="1200960" y="4728960"/>
              <a:ext cx="235800" cy="144000"/>
              <a:chOff x="1200960" y="4728960"/>
              <a:chExt cx="235800" cy="144000"/>
            </a:xfrm>
          </p:grpSpPr>
          <p:sp>
            <p:nvSpPr>
              <p:cNvPr id="202" name="Freeform 47"/>
              <p:cNvSpPr/>
              <p:nvPr/>
            </p:nvSpPr>
            <p:spPr>
              <a:xfrm>
                <a:off x="120096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8"/>
              <p:cNvSpPr/>
              <p:nvPr/>
            </p:nvSpPr>
            <p:spPr>
              <a:xfrm>
                <a:off x="121860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9"/>
              <p:cNvSpPr/>
              <p:nvPr/>
            </p:nvSpPr>
            <p:spPr>
              <a:xfrm>
                <a:off x="126900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0"/>
              <p:cNvSpPr/>
              <p:nvPr/>
            </p:nvSpPr>
            <p:spPr>
              <a:xfrm>
                <a:off x="132444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65"/>
            <p:cNvGrpSpPr/>
            <p:nvPr/>
          </p:nvGrpSpPr>
          <p:grpSpPr>
            <a:xfrm>
              <a:off x="1488600" y="4728960"/>
              <a:ext cx="235800" cy="144000"/>
              <a:chOff x="1488600" y="4728960"/>
              <a:chExt cx="235800" cy="144000"/>
            </a:xfrm>
          </p:grpSpPr>
          <p:sp>
            <p:nvSpPr>
              <p:cNvPr id="207" name="Freeform 59"/>
              <p:cNvSpPr/>
              <p:nvPr/>
            </p:nvSpPr>
            <p:spPr>
              <a:xfrm>
                <a:off x="148860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0"/>
              <p:cNvSpPr/>
              <p:nvPr/>
            </p:nvSpPr>
            <p:spPr>
              <a:xfrm>
                <a:off x="150624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1"/>
              <p:cNvSpPr/>
              <p:nvPr/>
            </p:nvSpPr>
            <p:spPr>
              <a:xfrm>
                <a:off x="155664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2"/>
              <p:cNvSpPr/>
              <p:nvPr/>
            </p:nvSpPr>
            <p:spPr>
              <a:xfrm>
                <a:off x="161208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3"/>
          <p:cNvSpPr/>
          <p:nvPr/>
        </p:nvSpPr>
        <p:spPr>
          <a:xfrm>
            <a:off x="228600" y="464832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In the 1980s, Feynman, Deutsch, and others noticed that a system of n qubits seems to take </a:t>
            </a:r>
            <a:r>
              <a:rPr b="1" lang="en-CA" sz="2600" spc="-1" strike="noStrike">
                <a:solidFill>
                  <a:srgbClr val="ff3300"/>
                </a:solidFill>
                <a:latin typeface="Calibri"/>
                <a:ea typeface="Calibri"/>
              </a:rPr>
              <a:t>~2</a:t>
            </a:r>
            <a:r>
              <a:rPr b="1" lang="en-CA" sz="2600" spc="-1" strike="noStrike" baseline="30000">
                <a:solidFill>
                  <a:srgbClr val="ff3300"/>
                </a:solidFill>
                <a:latin typeface="Calibri"/>
                <a:ea typeface="Calibri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steps to simulate on a classical computer, because of the phenomenon of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entanglement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between the qubits.  They had the amazing idea of building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quantum computer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to overcome that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228600" y="257040"/>
            <a:ext cx="84200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RULES: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If a system can be in two distinguishable states, labeled |0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|1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it can also be in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superposition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wri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1" i="1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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|0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 + 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CA" sz="4000" spc="-1" strike="noStrike">
                <a:solidFill>
                  <a:srgbClr val="008000"/>
                </a:solidFill>
                <a:latin typeface="Calibri"/>
                <a:ea typeface="Calibri"/>
              </a:rPr>
              <a:t>|1</a:t>
            </a:r>
            <a:r>
              <a:rPr b="1" lang="en-CA" sz="40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228600" y="2238480"/>
            <a:ext cx="853452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Here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re complex numbers called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amplitudes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, which satisf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+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=1.  A 2-state superposition is called a </a:t>
            </a:r>
            <a:r>
              <a:rPr b="1" lang="en-CA" sz="2600" spc="-1" strike="noStrike">
                <a:solidFill>
                  <a:srgbClr val="c00000"/>
                </a:solidFill>
                <a:latin typeface="Calibri"/>
                <a:ea typeface="Calibri"/>
              </a:rPr>
              <a:t>qubit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If we observe, we see |0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nd |1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|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.  But if the qubit is isolated, it evolves by rules different from those of classical prob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80880" y="5335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Popularizers Bewar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A quantum computer i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NOT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 like a massively-parallel classical comput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4691160"/>
            <a:ext cx="350496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Exponentially many possible answers, but you only get to observe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038480" y="4691160"/>
            <a:ext cx="487692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Any hope for a speedup rides on choreographing an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interference pattern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boosts the amplitude of the righ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8"/>
          <p:cNvSpPr/>
          <p:nvPr/>
        </p:nvSpPr>
        <p:spPr>
          <a:xfrm flipV="1">
            <a:off x="3276720" y="2189160"/>
            <a:ext cx="1143000" cy="78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0"/>
          <p:cNvSpPr/>
          <p:nvPr/>
        </p:nvSpPr>
        <p:spPr>
          <a:xfrm flipH="1" flipV="1">
            <a:off x="4419360" y="2189160"/>
            <a:ext cx="1066680" cy="78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3"/>
          <p:cNvSpPr/>
          <p:nvPr/>
        </p:nvSpPr>
        <p:spPr>
          <a:xfrm flipV="1">
            <a:off x="2590920" y="2960640"/>
            <a:ext cx="685800" cy="69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5"/>
          <p:cNvSpPr/>
          <p:nvPr/>
        </p:nvSpPr>
        <p:spPr>
          <a:xfrm flipH="1" flipV="1">
            <a:off x="3276720" y="297144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8"/>
          <p:cNvSpPr/>
          <p:nvPr/>
        </p:nvSpPr>
        <p:spPr>
          <a:xfrm flipV="1">
            <a:off x="4778280" y="2960640"/>
            <a:ext cx="685800" cy="69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9"/>
          <p:cNvSpPr/>
          <p:nvPr/>
        </p:nvSpPr>
        <p:spPr>
          <a:xfrm flipH="1" flipV="1">
            <a:off x="5464080" y="297144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20"/>
          <p:cNvSpPr/>
          <p:nvPr/>
        </p:nvSpPr>
        <p:spPr>
          <a:xfrm flipV="1">
            <a:off x="2232000" y="3657240"/>
            <a:ext cx="35892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1"/>
          <p:cNvSpPr/>
          <p:nvPr/>
        </p:nvSpPr>
        <p:spPr>
          <a:xfrm flipH="1" flipV="1">
            <a:off x="2602080" y="3634920"/>
            <a:ext cx="25560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4"/>
          <p:cNvSpPr/>
          <p:nvPr/>
        </p:nvSpPr>
        <p:spPr>
          <a:xfrm flipV="1">
            <a:off x="3363840" y="3657240"/>
            <a:ext cx="35892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5"/>
          <p:cNvSpPr/>
          <p:nvPr/>
        </p:nvSpPr>
        <p:spPr>
          <a:xfrm flipH="1" flipV="1">
            <a:off x="3733920" y="3634920"/>
            <a:ext cx="25560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6"/>
          <p:cNvSpPr/>
          <p:nvPr/>
        </p:nvSpPr>
        <p:spPr>
          <a:xfrm flipV="1">
            <a:off x="4441680" y="3657240"/>
            <a:ext cx="35892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7"/>
          <p:cNvSpPr/>
          <p:nvPr/>
        </p:nvSpPr>
        <p:spPr>
          <a:xfrm flipH="1" flipV="1">
            <a:off x="4811760" y="3634920"/>
            <a:ext cx="25560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8"/>
          <p:cNvSpPr/>
          <p:nvPr/>
        </p:nvSpPr>
        <p:spPr>
          <a:xfrm flipV="1">
            <a:off x="5573880" y="3657240"/>
            <a:ext cx="358560" cy="77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9"/>
          <p:cNvSpPr/>
          <p:nvPr/>
        </p:nvSpPr>
        <p:spPr>
          <a:xfrm flipH="1" flipV="1">
            <a:off x="5943600" y="3634920"/>
            <a:ext cx="255600" cy="79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9"/>
          <p:cNvSpPr/>
          <p:nvPr/>
        </p:nvSpPr>
        <p:spPr>
          <a:xfrm>
            <a:off x="3916440" y="2654280"/>
            <a:ext cx="168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cc"/>
                </a:solidFill>
                <a:latin typeface="Calibri"/>
                <a:ea typeface="Calibri"/>
              </a:rPr>
              <a:t>N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40240" y="1434960"/>
            <a:ext cx="27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cc"/>
                </a:solidFill>
                <a:latin typeface="Calibri"/>
                <a:ea typeface="Calibri"/>
              </a:rPr>
              <a:t>NP-compl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"/>
          <p:cNvSpPr/>
          <p:nvPr/>
        </p:nvSpPr>
        <p:spPr>
          <a:xfrm flipV="1">
            <a:off x="3633840" y="1811160"/>
            <a:ext cx="2512800" cy="843120"/>
          </a:xfrm>
          <a:custGeom>
            <a:avLst/>
            <a:gdLst>
              <a:gd name="textAreaLeft" fmla="*/ 0 w 2512800"/>
              <a:gd name="textAreaRight" fmla="*/ 2513160 w 2512800"/>
              <a:gd name="textAreaTop" fmla="*/ 360 h 843120"/>
              <a:gd name="textAreaBottom" fmla="*/ 843840 h 843120"/>
            </a:gdLst>
            <a:ahLst/>
            <a:rect l="textAreaLeft" t="textAreaTop" r="textAreaRight" b="textAreaBottom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7"/>
          <p:cNvSpPr/>
          <p:nvPr/>
        </p:nvSpPr>
        <p:spPr>
          <a:xfrm>
            <a:off x="2000160" y="3541680"/>
            <a:ext cx="5853240" cy="2811600"/>
          </a:xfrm>
          <a:custGeom>
            <a:avLst/>
            <a:gdLst/>
            <a:ahLst/>
            <a:rect l="l" t="t" r="r" b="b"/>
            <a:pathLst>
              <a:path w="4757867" h="2286211">
                <a:moveTo>
                  <a:pt x="29113" y="1149532"/>
                </a:moveTo>
                <a:cubicBezTo>
                  <a:pt x="37107" y="1109563"/>
                  <a:pt x="52190" y="1024999"/>
                  <a:pt x="68301" y="992777"/>
                </a:cubicBezTo>
                <a:cubicBezTo>
                  <a:pt x="85953" y="957474"/>
                  <a:pt x="128183" y="943242"/>
                  <a:pt x="159741" y="927463"/>
                </a:cubicBezTo>
                <a:cubicBezTo>
                  <a:pt x="250122" y="791895"/>
                  <a:pt x="105524" y="994745"/>
                  <a:pt x="238118" y="862149"/>
                </a:cubicBezTo>
                <a:cubicBezTo>
                  <a:pt x="247855" y="852412"/>
                  <a:pt x="242579" y="833712"/>
                  <a:pt x="251181" y="822960"/>
                </a:cubicBezTo>
                <a:cubicBezTo>
                  <a:pt x="260989" y="810701"/>
                  <a:pt x="278309" y="806886"/>
                  <a:pt x="290370" y="796835"/>
                </a:cubicBezTo>
                <a:cubicBezTo>
                  <a:pt x="304562" y="785008"/>
                  <a:pt x="314779" y="768730"/>
                  <a:pt x="329558" y="757646"/>
                </a:cubicBezTo>
                <a:cubicBezTo>
                  <a:pt x="378916" y="720627"/>
                  <a:pt x="385842" y="721467"/>
                  <a:pt x="434061" y="705395"/>
                </a:cubicBezTo>
                <a:cubicBezTo>
                  <a:pt x="486313" y="709749"/>
                  <a:pt x="539401" y="708174"/>
                  <a:pt x="590816" y="718457"/>
                </a:cubicBezTo>
                <a:cubicBezTo>
                  <a:pt x="606211" y="721536"/>
                  <a:pt x="614344" y="743464"/>
                  <a:pt x="630004" y="744583"/>
                </a:cubicBezTo>
                <a:cubicBezTo>
                  <a:pt x="677977" y="748010"/>
                  <a:pt x="725799" y="735874"/>
                  <a:pt x="773696" y="731520"/>
                </a:cubicBezTo>
                <a:cubicBezTo>
                  <a:pt x="786759" y="718457"/>
                  <a:pt x="798692" y="704158"/>
                  <a:pt x="812884" y="692332"/>
                </a:cubicBezTo>
                <a:cubicBezTo>
                  <a:pt x="824945" y="682281"/>
                  <a:pt x="844284" y="679837"/>
                  <a:pt x="852073" y="666206"/>
                </a:cubicBezTo>
                <a:cubicBezTo>
                  <a:pt x="863089" y="646929"/>
                  <a:pt x="859751" y="622432"/>
                  <a:pt x="865136" y="600892"/>
                </a:cubicBezTo>
                <a:cubicBezTo>
                  <a:pt x="868476" y="587534"/>
                  <a:pt x="874415" y="574943"/>
                  <a:pt x="878198" y="561703"/>
                </a:cubicBezTo>
                <a:cubicBezTo>
                  <a:pt x="883130" y="544441"/>
                  <a:pt x="884189" y="525953"/>
                  <a:pt x="891261" y="509452"/>
                </a:cubicBezTo>
                <a:cubicBezTo>
                  <a:pt x="897446" y="495022"/>
                  <a:pt x="908678" y="483326"/>
                  <a:pt x="917387" y="470263"/>
                </a:cubicBezTo>
                <a:cubicBezTo>
                  <a:pt x="921741" y="448492"/>
                  <a:pt x="927310" y="426928"/>
                  <a:pt x="930450" y="404949"/>
                </a:cubicBezTo>
                <a:cubicBezTo>
                  <a:pt x="942589" y="319977"/>
                  <a:pt x="922700" y="301001"/>
                  <a:pt x="969638" y="248195"/>
                </a:cubicBezTo>
                <a:cubicBezTo>
                  <a:pt x="994185" y="220580"/>
                  <a:pt x="1021890" y="195943"/>
                  <a:pt x="1048016" y="169817"/>
                </a:cubicBezTo>
                <a:lnTo>
                  <a:pt x="1087204" y="130629"/>
                </a:lnTo>
                <a:cubicBezTo>
                  <a:pt x="1135101" y="134983"/>
                  <a:pt x="1184755" y="130121"/>
                  <a:pt x="1230896" y="143692"/>
                </a:cubicBezTo>
                <a:cubicBezTo>
                  <a:pt x="1261019" y="152552"/>
                  <a:pt x="1279485" y="186014"/>
                  <a:pt x="1309273" y="195943"/>
                </a:cubicBezTo>
                <a:lnTo>
                  <a:pt x="1348461" y="209006"/>
                </a:lnTo>
                <a:cubicBezTo>
                  <a:pt x="1381446" y="263980"/>
                  <a:pt x="1381127" y="275416"/>
                  <a:pt x="1426838" y="313509"/>
                </a:cubicBezTo>
                <a:cubicBezTo>
                  <a:pt x="1438899" y="323560"/>
                  <a:pt x="1453966" y="329584"/>
                  <a:pt x="1466027" y="339635"/>
                </a:cubicBezTo>
                <a:cubicBezTo>
                  <a:pt x="1531260" y="393995"/>
                  <a:pt x="1475535" y="368929"/>
                  <a:pt x="1544404" y="391886"/>
                </a:cubicBezTo>
                <a:cubicBezTo>
                  <a:pt x="1557467" y="404949"/>
                  <a:pt x="1567444" y="422103"/>
                  <a:pt x="1583593" y="431075"/>
                </a:cubicBezTo>
                <a:cubicBezTo>
                  <a:pt x="1651419" y="468756"/>
                  <a:pt x="1749321" y="464479"/>
                  <a:pt x="1818724" y="470263"/>
                </a:cubicBezTo>
                <a:cubicBezTo>
                  <a:pt x="1849204" y="478972"/>
                  <a:pt x="1879866" y="487066"/>
                  <a:pt x="1910164" y="496389"/>
                </a:cubicBezTo>
                <a:cubicBezTo>
                  <a:pt x="1936485" y="504488"/>
                  <a:pt x="1961056" y="520797"/>
                  <a:pt x="1988541" y="522515"/>
                </a:cubicBezTo>
                <a:cubicBezTo>
                  <a:pt x="2032216" y="525245"/>
                  <a:pt x="2075627" y="513806"/>
                  <a:pt x="2119170" y="509452"/>
                </a:cubicBezTo>
                <a:cubicBezTo>
                  <a:pt x="2132233" y="505098"/>
                  <a:pt x="2148622" y="506125"/>
                  <a:pt x="2158358" y="496389"/>
                </a:cubicBezTo>
                <a:cubicBezTo>
                  <a:pt x="2168094" y="486652"/>
                  <a:pt x="2165263" y="469516"/>
                  <a:pt x="2171421" y="457200"/>
                </a:cubicBezTo>
                <a:cubicBezTo>
                  <a:pt x="2195055" y="409932"/>
                  <a:pt x="2191538" y="420015"/>
                  <a:pt x="2236736" y="404949"/>
                </a:cubicBezTo>
                <a:cubicBezTo>
                  <a:pt x="2241090" y="387532"/>
                  <a:pt x="2242726" y="369199"/>
                  <a:pt x="2249798" y="352697"/>
                </a:cubicBezTo>
                <a:cubicBezTo>
                  <a:pt x="2255092" y="340344"/>
                  <a:pt x="2312141" y="263733"/>
                  <a:pt x="2315113" y="261257"/>
                </a:cubicBezTo>
                <a:cubicBezTo>
                  <a:pt x="2325691" y="252442"/>
                  <a:pt x="2341238" y="252549"/>
                  <a:pt x="2354301" y="248195"/>
                </a:cubicBezTo>
                <a:cubicBezTo>
                  <a:pt x="2384781" y="202475"/>
                  <a:pt x="2393489" y="178527"/>
                  <a:pt x="2458804" y="156755"/>
                </a:cubicBezTo>
                <a:lnTo>
                  <a:pt x="2537181" y="130629"/>
                </a:lnTo>
                <a:cubicBezTo>
                  <a:pt x="2594652" y="73158"/>
                  <a:pt x="2578722" y="84162"/>
                  <a:pt x="2641684" y="39189"/>
                </a:cubicBezTo>
                <a:cubicBezTo>
                  <a:pt x="2654459" y="30064"/>
                  <a:pt x="2665979" y="18028"/>
                  <a:pt x="2680873" y="13063"/>
                </a:cubicBezTo>
                <a:cubicBezTo>
                  <a:pt x="2706000" y="4687"/>
                  <a:pt x="2733124" y="4354"/>
                  <a:pt x="2759250" y="0"/>
                </a:cubicBezTo>
                <a:cubicBezTo>
                  <a:pt x="2837627" y="4354"/>
                  <a:pt x="2916206" y="5956"/>
                  <a:pt x="2994381" y="13063"/>
                </a:cubicBezTo>
                <a:cubicBezTo>
                  <a:pt x="3012261" y="14688"/>
                  <a:pt x="3032614" y="14911"/>
                  <a:pt x="3046633" y="26126"/>
                </a:cubicBezTo>
                <a:cubicBezTo>
                  <a:pt x="3148444" y="107575"/>
                  <a:pt x="2952714" y="26476"/>
                  <a:pt x="3098884" y="91440"/>
                </a:cubicBezTo>
                <a:cubicBezTo>
                  <a:pt x="3172117" y="123988"/>
                  <a:pt x="3165771" y="101459"/>
                  <a:pt x="3216450" y="143692"/>
                </a:cubicBezTo>
                <a:cubicBezTo>
                  <a:pt x="3316514" y="227079"/>
                  <a:pt x="3197721" y="134281"/>
                  <a:pt x="3281764" y="235132"/>
                </a:cubicBezTo>
                <a:cubicBezTo>
                  <a:pt x="3291815" y="247193"/>
                  <a:pt x="3307890" y="252549"/>
                  <a:pt x="3320953" y="261257"/>
                </a:cubicBezTo>
                <a:cubicBezTo>
                  <a:pt x="3354625" y="258196"/>
                  <a:pt x="3474025" y="264940"/>
                  <a:pt x="3516896" y="222069"/>
                </a:cubicBezTo>
                <a:cubicBezTo>
                  <a:pt x="3530665" y="208299"/>
                  <a:pt x="3523786" y="172854"/>
                  <a:pt x="3543021" y="169817"/>
                </a:cubicBezTo>
                <a:cubicBezTo>
                  <a:pt x="3698096" y="145332"/>
                  <a:pt x="3856530" y="152400"/>
                  <a:pt x="4013284" y="143692"/>
                </a:cubicBezTo>
                <a:cubicBezTo>
                  <a:pt x="4035055" y="152400"/>
                  <a:pt x="4056643" y="161584"/>
                  <a:pt x="4078598" y="169817"/>
                </a:cubicBezTo>
                <a:cubicBezTo>
                  <a:pt x="4091491" y="174652"/>
                  <a:pt x="4105131" y="177456"/>
                  <a:pt x="4117787" y="182880"/>
                </a:cubicBezTo>
                <a:cubicBezTo>
                  <a:pt x="4135685" y="190551"/>
                  <a:pt x="4152621" y="200297"/>
                  <a:pt x="4170038" y="209006"/>
                </a:cubicBezTo>
                <a:cubicBezTo>
                  <a:pt x="4213254" y="338653"/>
                  <a:pt x="4140748" y="140610"/>
                  <a:pt x="4222290" y="287383"/>
                </a:cubicBezTo>
                <a:cubicBezTo>
                  <a:pt x="4235664" y="311456"/>
                  <a:pt x="4248416" y="365760"/>
                  <a:pt x="4248416" y="365760"/>
                </a:cubicBezTo>
                <a:cubicBezTo>
                  <a:pt x="4252770" y="391886"/>
                  <a:pt x="4255733" y="418282"/>
                  <a:pt x="4261478" y="444137"/>
                </a:cubicBezTo>
                <a:cubicBezTo>
                  <a:pt x="4264465" y="457579"/>
                  <a:pt x="4274541" y="469556"/>
                  <a:pt x="4274541" y="483326"/>
                </a:cubicBezTo>
                <a:cubicBezTo>
                  <a:pt x="4274541" y="586138"/>
                  <a:pt x="4267659" y="602292"/>
                  <a:pt x="4248416" y="679269"/>
                </a:cubicBezTo>
                <a:cubicBezTo>
                  <a:pt x="4252770" y="766355"/>
                  <a:pt x="4254791" y="853588"/>
                  <a:pt x="4261478" y="940526"/>
                </a:cubicBezTo>
                <a:cubicBezTo>
                  <a:pt x="4263509" y="966934"/>
                  <a:pt x="4262696" y="995213"/>
                  <a:pt x="4274541" y="1018903"/>
                </a:cubicBezTo>
                <a:cubicBezTo>
                  <a:pt x="4285557" y="1040934"/>
                  <a:pt x="4308256" y="1054935"/>
                  <a:pt x="4326793" y="1071155"/>
                </a:cubicBezTo>
                <a:cubicBezTo>
                  <a:pt x="4329046" y="1073127"/>
                  <a:pt x="4406041" y="1131897"/>
                  <a:pt x="4418233" y="1136469"/>
                </a:cubicBezTo>
                <a:cubicBezTo>
                  <a:pt x="4439022" y="1144265"/>
                  <a:pt x="4461776" y="1145178"/>
                  <a:pt x="4483547" y="1149532"/>
                </a:cubicBezTo>
                <a:cubicBezTo>
                  <a:pt x="4517598" y="1183583"/>
                  <a:pt x="4544845" y="1219369"/>
                  <a:pt x="4588050" y="1240972"/>
                </a:cubicBezTo>
                <a:cubicBezTo>
                  <a:pt x="4600366" y="1247130"/>
                  <a:pt x="4614175" y="1249681"/>
                  <a:pt x="4627238" y="1254035"/>
                </a:cubicBezTo>
                <a:cubicBezTo>
                  <a:pt x="4661487" y="1288283"/>
                  <a:pt x="4692097" y="1316006"/>
                  <a:pt x="4718678" y="1358537"/>
                </a:cubicBezTo>
                <a:cubicBezTo>
                  <a:pt x="4725976" y="1370214"/>
                  <a:pt x="4725583" y="1385410"/>
                  <a:pt x="4731741" y="1397726"/>
                </a:cubicBezTo>
                <a:cubicBezTo>
                  <a:pt x="4738762" y="1411768"/>
                  <a:pt x="4749158" y="1423852"/>
                  <a:pt x="4757867" y="1436915"/>
                </a:cubicBezTo>
                <a:cubicBezTo>
                  <a:pt x="4753513" y="1454332"/>
                  <a:pt x="4749736" y="1471904"/>
                  <a:pt x="4744804" y="1489166"/>
                </a:cubicBezTo>
                <a:cubicBezTo>
                  <a:pt x="4741021" y="1502406"/>
                  <a:pt x="4734204" y="1514808"/>
                  <a:pt x="4731741" y="1528355"/>
                </a:cubicBezTo>
                <a:cubicBezTo>
                  <a:pt x="4726589" y="1556692"/>
                  <a:pt x="4722007" y="1646863"/>
                  <a:pt x="4705616" y="1685109"/>
                </a:cubicBezTo>
                <a:cubicBezTo>
                  <a:pt x="4699432" y="1699539"/>
                  <a:pt x="4688199" y="1711234"/>
                  <a:pt x="4679490" y="1724297"/>
                </a:cubicBezTo>
                <a:cubicBezTo>
                  <a:pt x="4652212" y="1806130"/>
                  <a:pt x="4690137" y="1723146"/>
                  <a:pt x="4614176" y="1789612"/>
                </a:cubicBezTo>
                <a:cubicBezTo>
                  <a:pt x="4440405" y="1941661"/>
                  <a:pt x="4648026" y="1797523"/>
                  <a:pt x="4522736" y="1881052"/>
                </a:cubicBezTo>
                <a:cubicBezTo>
                  <a:pt x="4507700" y="1906111"/>
                  <a:pt x="4477010" y="1969229"/>
                  <a:pt x="4444358" y="1985555"/>
                </a:cubicBezTo>
                <a:cubicBezTo>
                  <a:pt x="4407411" y="2004029"/>
                  <a:pt x="4365348" y="2009914"/>
                  <a:pt x="4326793" y="2024743"/>
                </a:cubicBezTo>
                <a:cubicBezTo>
                  <a:pt x="4308618" y="2031733"/>
                  <a:pt x="4292774" y="2044031"/>
                  <a:pt x="4274541" y="2050869"/>
                </a:cubicBezTo>
                <a:cubicBezTo>
                  <a:pt x="4257731" y="2057173"/>
                  <a:pt x="4239894" y="2060411"/>
                  <a:pt x="4222290" y="2063932"/>
                </a:cubicBezTo>
                <a:cubicBezTo>
                  <a:pt x="4055075" y="2097376"/>
                  <a:pt x="3972579" y="2081574"/>
                  <a:pt x="3752027" y="2090057"/>
                </a:cubicBezTo>
                <a:lnTo>
                  <a:pt x="3464644" y="2103120"/>
                </a:lnTo>
                <a:cubicBezTo>
                  <a:pt x="3403684" y="2111829"/>
                  <a:pt x="3342505" y="2119122"/>
                  <a:pt x="3281764" y="2129246"/>
                </a:cubicBezTo>
                <a:cubicBezTo>
                  <a:pt x="3264055" y="2132198"/>
                  <a:pt x="3247117" y="2138788"/>
                  <a:pt x="3229513" y="2142309"/>
                </a:cubicBezTo>
                <a:cubicBezTo>
                  <a:pt x="3203541" y="2147503"/>
                  <a:pt x="3177262" y="2151018"/>
                  <a:pt x="3151136" y="2155372"/>
                </a:cubicBezTo>
                <a:cubicBezTo>
                  <a:pt x="3082737" y="2223769"/>
                  <a:pt x="3129473" y="2188718"/>
                  <a:pt x="2994381" y="2233749"/>
                </a:cubicBezTo>
                <a:lnTo>
                  <a:pt x="2955193" y="2246812"/>
                </a:lnTo>
                <a:cubicBezTo>
                  <a:pt x="2902941" y="2242458"/>
                  <a:pt x="2850871" y="2233749"/>
                  <a:pt x="2798438" y="2233749"/>
                </a:cubicBezTo>
                <a:cubicBezTo>
                  <a:pt x="2737323" y="2233749"/>
                  <a:pt x="2676579" y="2250202"/>
                  <a:pt x="2615558" y="2246812"/>
                </a:cubicBezTo>
                <a:cubicBezTo>
                  <a:pt x="2596115" y="2245732"/>
                  <a:pt x="2581205" y="2228357"/>
                  <a:pt x="2563307" y="2220686"/>
                </a:cubicBezTo>
                <a:cubicBezTo>
                  <a:pt x="2550651" y="2215262"/>
                  <a:pt x="2537181" y="2211977"/>
                  <a:pt x="2524118" y="2207623"/>
                </a:cubicBezTo>
                <a:cubicBezTo>
                  <a:pt x="2506701" y="2216332"/>
                  <a:pt x="2489765" y="2226078"/>
                  <a:pt x="2471867" y="2233749"/>
                </a:cubicBezTo>
                <a:cubicBezTo>
                  <a:pt x="2349457" y="2286211"/>
                  <a:pt x="2201409" y="2229681"/>
                  <a:pt x="2079981" y="2220686"/>
                </a:cubicBezTo>
                <a:cubicBezTo>
                  <a:pt x="2049501" y="2225040"/>
                  <a:pt x="2019330" y="2233749"/>
                  <a:pt x="1988541" y="2233749"/>
                </a:cubicBezTo>
                <a:cubicBezTo>
                  <a:pt x="1953436" y="2233749"/>
                  <a:pt x="1918577" y="2226966"/>
                  <a:pt x="1884038" y="2220686"/>
                </a:cubicBezTo>
                <a:cubicBezTo>
                  <a:pt x="1870491" y="2218223"/>
                  <a:pt x="1858089" y="2211406"/>
                  <a:pt x="1844850" y="2207623"/>
                </a:cubicBezTo>
                <a:cubicBezTo>
                  <a:pt x="1827587" y="2202691"/>
                  <a:pt x="1810015" y="2198914"/>
                  <a:pt x="1792598" y="2194560"/>
                </a:cubicBezTo>
                <a:cubicBezTo>
                  <a:pt x="1779535" y="2185852"/>
                  <a:pt x="1768896" y="2171016"/>
                  <a:pt x="1753410" y="2168435"/>
                </a:cubicBezTo>
                <a:cubicBezTo>
                  <a:pt x="1739828" y="2166171"/>
                  <a:pt x="1727461" y="2177714"/>
                  <a:pt x="1714221" y="2181497"/>
                </a:cubicBezTo>
                <a:cubicBezTo>
                  <a:pt x="1696959" y="2186429"/>
                  <a:pt x="1679650" y="2191440"/>
                  <a:pt x="1661970" y="2194560"/>
                </a:cubicBezTo>
                <a:cubicBezTo>
                  <a:pt x="1605570" y="2204513"/>
                  <a:pt x="1548759" y="2211977"/>
                  <a:pt x="1492153" y="2220686"/>
                </a:cubicBezTo>
                <a:cubicBezTo>
                  <a:pt x="1479090" y="2216332"/>
                  <a:pt x="1466466" y="2210323"/>
                  <a:pt x="1452964" y="2207623"/>
                </a:cubicBezTo>
                <a:cubicBezTo>
                  <a:pt x="1422772" y="2201585"/>
                  <a:pt x="1391015" y="2203407"/>
                  <a:pt x="1361524" y="2194560"/>
                </a:cubicBezTo>
                <a:cubicBezTo>
                  <a:pt x="1346487" y="2190049"/>
                  <a:pt x="1337482" y="2172566"/>
                  <a:pt x="1322336" y="2168435"/>
                </a:cubicBezTo>
                <a:cubicBezTo>
                  <a:pt x="1288468" y="2159198"/>
                  <a:pt x="1252667" y="2159726"/>
                  <a:pt x="1217833" y="2155372"/>
                </a:cubicBezTo>
                <a:cubicBezTo>
                  <a:pt x="1200416" y="2142309"/>
                  <a:pt x="1186618" y="2121793"/>
                  <a:pt x="1165581" y="2116183"/>
                </a:cubicBezTo>
                <a:cubicBezTo>
                  <a:pt x="936242" y="2055025"/>
                  <a:pt x="1084762" y="2145033"/>
                  <a:pt x="982701" y="2076995"/>
                </a:cubicBezTo>
                <a:cubicBezTo>
                  <a:pt x="908678" y="2085703"/>
                  <a:pt x="834417" y="2092580"/>
                  <a:pt x="760633" y="2103120"/>
                </a:cubicBezTo>
                <a:cubicBezTo>
                  <a:pt x="742860" y="2105659"/>
                  <a:pt x="726322" y="2116847"/>
                  <a:pt x="708381" y="2116183"/>
                </a:cubicBezTo>
                <a:cubicBezTo>
                  <a:pt x="607924" y="2112462"/>
                  <a:pt x="508084" y="2098766"/>
                  <a:pt x="407936" y="2090057"/>
                </a:cubicBezTo>
                <a:cubicBezTo>
                  <a:pt x="354606" y="2079392"/>
                  <a:pt x="319484" y="2079984"/>
                  <a:pt x="277307" y="2037806"/>
                </a:cubicBezTo>
                <a:cubicBezTo>
                  <a:pt x="267570" y="2028069"/>
                  <a:pt x="270402" y="2010933"/>
                  <a:pt x="264244" y="1998617"/>
                </a:cubicBezTo>
                <a:cubicBezTo>
                  <a:pt x="257223" y="1984575"/>
                  <a:pt x="246827" y="1972492"/>
                  <a:pt x="238118" y="1959429"/>
                </a:cubicBezTo>
                <a:cubicBezTo>
                  <a:pt x="233764" y="1942012"/>
                  <a:pt x="230215" y="1924373"/>
                  <a:pt x="225056" y="1907177"/>
                </a:cubicBezTo>
                <a:cubicBezTo>
                  <a:pt x="217143" y="1880799"/>
                  <a:pt x="203457" y="1855964"/>
                  <a:pt x="198930" y="1828800"/>
                </a:cubicBezTo>
                <a:cubicBezTo>
                  <a:pt x="190221" y="1776549"/>
                  <a:pt x="182010" y="1724212"/>
                  <a:pt x="172804" y="1672046"/>
                </a:cubicBezTo>
                <a:cubicBezTo>
                  <a:pt x="168945" y="1650181"/>
                  <a:pt x="163117" y="1628676"/>
                  <a:pt x="159741" y="1606732"/>
                </a:cubicBezTo>
                <a:cubicBezTo>
                  <a:pt x="158108" y="1596118"/>
                  <a:pt x="148207" y="1479160"/>
                  <a:pt x="133616" y="1449977"/>
                </a:cubicBezTo>
                <a:cubicBezTo>
                  <a:pt x="123880" y="1430504"/>
                  <a:pt x="107081" y="1415442"/>
                  <a:pt x="94427" y="1397726"/>
                </a:cubicBezTo>
                <a:cubicBezTo>
                  <a:pt x="85302" y="1384951"/>
                  <a:pt x="80560" y="1368345"/>
                  <a:pt x="68301" y="1358537"/>
                </a:cubicBezTo>
                <a:cubicBezTo>
                  <a:pt x="57549" y="1349935"/>
                  <a:pt x="42176" y="1349829"/>
                  <a:pt x="29113" y="1345475"/>
                </a:cubicBezTo>
                <a:cubicBezTo>
                  <a:pt x="24759" y="1332412"/>
                  <a:pt x="14342" y="1319949"/>
                  <a:pt x="16050" y="1306286"/>
                </a:cubicBezTo>
                <a:cubicBezTo>
                  <a:pt x="18829" y="1284052"/>
                  <a:pt x="57084" y="1211154"/>
                  <a:pt x="68301" y="1188720"/>
                </a:cubicBezTo>
                <a:cubicBezTo>
                  <a:pt x="59593" y="1175657"/>
                  <a:pt x="53277" y="1160633"/>
                  <a:pt x="42176" y="1149532"/>
                </a:cubicBezTo>
                <a:cubicBezTo>
                  <a:pt x="31075" y="1138431"/>
                  <a:pt x="6795" y="1138637"/>
                  <a:pt x="2987" y="1123406"/>
                </a:cubicBezTo>
                <a:cubicBezTo>
                  <a:pt x="0" y="1111458"/>
                  <a:pt x="20404" y="1105989"/>
                  <a:pt x="29113" y="109728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6"/>
          <p:cNvSpPr/>
          <p:nvPr/>
        </p:nvSpPr>
        <p:spPr>
          <a:xfrm>
            <a:off x="3728880" y="4716360"/>
            <a:ext cx="2417760" cy="844560"/>
          </a:xfrm>
          <a:custGeom>
            <a:avLst/>
            <a:gdLst>
              <a:gd name="textAreaLeft" fmla="*/ 0 w 2417760"/>
              <a:gd name="textAreaRight" fmla="*/ 2418120 w 241776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384800" y="4997520"/>
            <a:ext cx="103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  <a:ea typeface="Calibri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4572000" y="4154400"/>
            <a:ext cx="206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Fac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3013200" y="1060560"/>
            <a:ext cx="3697200" cy="515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2322360" y="4435560"/>
            <a:ext cx="196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  <a:ea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287280" y="214776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Bounded-Error Quantum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3"/>
          <p:cNvCxnSpPr/>
          <p:nvPr/>
        </p:nvCxnSpPr>
        <p:spPr>
          <a:xfrm>
            <a:off x="1930320" y="3532320"/>
            <a:ext cx="1083240" cy="10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675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Supremacy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36"/>
          <p:cNvSpPr/>
          <p:nvPr/>
        </p:nvSpPr>
        <p:spPr>
          <a:xfrm>
            <a:off x="1295280" y="21384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hor 199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lly scalable, universal fault-tolerant quantum computers will be able to factor an n-digit integer in only 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299880" y="40417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re immediate way to prove quantum supremacy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pling tasks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st year, Google built a 53-qubit superconducting chip called Bristlecone, and used it to sample a distribution over 53-bit strings, such that w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y classical algorithm would need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 to sample the same distribution.  How do we know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shor"/>
          <p:cNvPicPr/>
          <p:nvPr/>
        </p:nvPicPr>
        <p:blipFill>
          <a:blip r:embed="rId1"/>
          <a:srcRect l="2400" t="1600" r="2400" b="16003"/>
          <a:stretch/>
        </p:blipFill>
        <p:spPr>
          <a:xfrm>
            <a:off x="276120" y="2279520"/>
            <a:ext cx="849240" cy="11019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6"/>
          <p:cNvSpPr/>
          <p:nvPr/>
        </p:nvSpPr>
        <p:spPr>
          <a:xfrm>
            <a:off x="331920" y="996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me, the #1 application of quantum computing: disprove the people who say it’s not 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6"/>
          <p:cNvGrpSpPr/>
          <p:nvPr/>
        </p:nvGrpSpPr>
        <p:grpSpPr>
          <a:xfrm>
            <a:off x="4888080" y="1325520"/>
            <a:ext cx="4255920" cy="2684520"/>
            <a:chOff x="4888080" y="1325520"/>
            <a:chExt cx="4255920" cy="2684520"/>
          </a:xfrm>
        </p:grpSpPr>
        <p:pic>
          <p:nvPicPr>
            <p:cNvPr id="248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61240" y="197460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AutoShape 15"/>
            <p:cNvSpPr/>
            <p:nvPr/>
          </p:nvSpPr>
          <p:spPr>
            <a:xfrm>
              <a:off x="4888080" y="132552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Oval Callout 1"/>
          <p:cNvSpPr/>
          <p:nvPr/>
        </p:nvSpPr>
        <p:spPr>
          <a:xfrm>
            <a:off x="1447920" y="2097000"/>
            <a:ext cx="5295960" cy="1474920"/>
          </a:xfrm>
          <a:prstGeom prst="wedgeEllipseCallout">
            <a:avLst>
              <a:gd name="adj1" fmla="val 70564"/>
              <a:gd name="adj2" fmla="val -227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6"/>
          <p:cNvSpPr/>
          <p:nvPr/>
        </p:nvSpPr>
        <p:spPr>
          <a:xfrm>
            <a:off x="1828800" y="2352600"/>
            <a:ext cx="455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ait, building a full scalable fault-tolerant QC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80880" y="27288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andom Circuit Sampling</a:t>
            </a:r>
            <a:br>
              <a:rPr sz="4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What Google used last year to achieve “quantum supremac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560520" y="19335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7"/>
          <p:cNvSpPr/>
          <p:nvPr/>
        </p:nvSpPr>
        <p:spPr>
          <a:xfrm>
            <a:off x="1017720" y="19335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8"/>
          <p:cNvSpPr/>
          <p:nvPr/>
        </p:nvSpPr>
        <p:spPr>
          <a:xfrm>
            <a:off x="560520" y="2319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1017720" y="2319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>
            <a:off x="560520" y="27255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3"/>
          <p:cNvSpPr/>
          <p:nvPr/>
        </p:nvSpPr>
        <p:spPr>
          <a:xfrm>
            <a:off x="1017720" y="27255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560520" y="3111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5"/>
          <p:cNvSpPr/>
          <p:nvPr/>
        </p:nvSpPr>
        <p:spPr>
          <a:xfrm>
            <a:off x="1017720" y="3111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26"/>
          <p:cNvSpPr/>
          <p:nvPr/>
        </p:nvSpPr>
        <p:spPr>
          <a:xfrm>
            <a:off x="636480" y="199872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7"/>
          <p:cNvSpPr/>
          <p:nvPr/>
        </p:nvSpPr>
        <p:spPr>
          <a:xfrm>
            <a:off x="625320" y="23842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8"/>
          <p:cNvSpPr/>
          <p:nvPr/>
        </p:nvSpPr>
        <p:spPr>
          <a:xfrm>
            <a:off x="615960" y="28018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9"/>
          <p:cNvSpPr/>
          <p:nvPr/>
        </p:nvSpPr>
        <p:spPr>
          <a:xfrm>
            <a:off x="604800" y="318780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0"/>
          <p:cNvSpPr/>
          <p:nvPr/>
        </p:nvSpPr>
        <p:spPr>
          <a:xfrm>
            <a:off x="1479600" y="19335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1"/>
          <p:cNvSpPr/>
          <p:nvPr/>
        </p:nvSpPr>
        <p:spPr>
          <a:xfrm>
            <a:off x="1936800" y="19335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2"/>
          <p:cNvSpPr/>
          <p:nvPr/>
        </p:nvSpPr>
        <p:spPr>
          <a:xfrm>
            <a:off x="1479600" y="2319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3"/>
          <p:cNvSpPr/>
          <p:nvPr/>
        </p:nvSpPr>
        <p:spPr>
          <a:xfrm>
            <a:off x="1936800" y="2319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4"/>
          <p:cNvSpPr/>
          <p:nvPr/>
        </p:nvSpPr>
        <p:spPr>
          <a:xfrm>
            <a:off x="1479600" y="27255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5"/>
          <p:cNvSpPr/>
          <p:nvPr/>
        </p:nvSpPr>
        <p:spPr>
          <a:xfrm>
            <a:off x="1936800" y="27255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6"/>
          <p:cNvSpPr/>
          <p:nvPr/>
        </p:nvSpPr>
        <p:spPr>
          <a:xfrm>
            <a:off x="1479600" y="3111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7"/>
          <p:cNvSpPr/>
          <p:nvPr/>
        </p:nvSpPr>
        <p:spPr>
          <a:xfrm>
            <a:off x="1936800" y="31114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38"/>
          <p:cNvSpPr/>
          <p:nvPr/>
        </p:nvSpPr>
        <p:spPr>
          <a:xfrm>
            <a:off x="1555920" y="199872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39"/>
          <p:cNvSpPr/>
          <p:nvPr/>
        </p:nvSpPr>
        <p:spPr>
          <a:xfrm>
            <a:off x="1544760" y="23842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0"/>
          <p:cNvSpPr/>
          <p:nvPr/>
        </p:nvSpPr>
        <p:spPr>
          <a:xfrm>
            <a:off x="1535040" y="28018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41"/>
          <p:cNvSpPr/>
          <p:nvPr/>
        </p:nvSpPr>
        <p:spPr>
          <a:xfrm>
            <a:off x="1525680" y="318780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https://upload.wikimedia.org/wikipedia/commons/1/19/Objective_speckle.jpg"/>
          <p:cNvPicPr/>
          <p:nvPr/>
        </p:nvPicPr>
        <p:blipFill>
          <a:blip r:embed="rId1"/>
          <a:stretch/>
        </p:blipFill>
        <p:spPr>
          <a:xfrm>
            <a:off x="7178760" y="1812960"/>
            <a:ext cx="1493640" cy="1493640"/>
          </a:xfrm>
          <a:prstGeom prst="rect">
            <a:avLst/>
          </a:prstGeom>
          <a:ln w="0">
            <a:noFill/>
          </a:ln>
        </p:spPr>
      </p:pic>
      <p:sp>
        <p:nvSpPr>
          <p:cNvPr id="278" name="Subtitle 4"/>
          <p:cNvSpPr/>
          <p:nvPr/>
        </p:nvSpPr>
        <p:spPr>
          <a:xfrm>
            <a:off x="369720" y="40114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.-Chen 2017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posed a test to apply to the outputs of a random quantum circuit—a variant of what Google later called Linear XEB (Cross-Entropy Benchmark).  Showed that, under a plausible-looking complexity assumption, there’s no fast classical algorithm to pass this bench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http://images.dailytech.com/nimage/UCSB_Xmon_Chip_Wide.jpg"/>
          <p:cNvPicPr/>
          <p:nvPr/>
        </p:nvPicPr>
        <p:blipFill>
          <a:blip r:embed="rId2"/>
          <a:stretch/>
        </p:blipFill>
        <p:spPr>
          <a:xfrm>
            <a:off x="3200400" y="1724040"/>
            <a:ext cx="24541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80880" y="18576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ness from Quantum Suprem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1601640" y="2093760"/>
            <a:ext cx="1369800" cy="1290600"/>
            <a:chOff x="1601640" y="2093760"/>
            <a:chExt cx="1369800" cy="1290600"/>
          </a:xfrm>
        </p:grpSpPr>
        <p:sp>
          <p:nvSpPr>
            <p:cNvPr id="282" name="Freeform 6"/>
            <p:cNvSpPr/>
            <p:nvPr/>
          </p:nvSpPr>
          <p:spPr>
            <a:xfrm>
              <a:off x="1818360" y="212436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7"/>
            <p:cNvSpPr/>
            <p:nvPr/>
          </p:nvSpPr>
          <p:spPr>
            <a:xfrm>
              <a:off x="1910520" y="222408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1988640" y="28702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>
              <a:off x="2242080" y="25023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681640" y="31114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"/>
            <p:cNvSpPr/>
            <p:nvPr/>
          </p:nvSpPr>
          <p:spPr>
            <a:xfrm>
              <a:off x="2681640" y="3145680"/>
              <a:ext cx="286920" cy="1688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"/>
            <p:cNvSpPr/>
            <p:nvPr/>
          </p:nvSpPr>
          <p:spPr>
            <a:xfrm>
              <a:off x="2685960" y="322308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3"/>
            <p:cNvSpPr/>
            <p:nvPr/>
          </p:nvSpPr>
          <p:spPr>
            <a:xfrm>
              <a:off x="2688840" y="31597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4"/>
            <p:cNvSpPr/>
            <p:nvPr/>
          </p:nvSpPr>
          <p:spPr>
            <a:xfrm>
              <a:off x="2897640" y="318312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5"/>
            <p:cNvSpPr/>
            <p:nvPr/>
          </p:nvSpPr>
          <p:spPr>
            <a:xfrm>
              <a:off x="2670840" y="3109680"/>
              <a:ext cx="244440" cy="2023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2840400" y="32036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2760840" y="31377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2727360" y="31255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2617200" y="32346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1620720" y="3055320"/>
              <a:ext cx="1013400" cy="20952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"/>
            <p:cNvSpPr/>
            <p:nvPr/>
          </p:nvSpPr>
          <p:spPr>
            <a:xfrm>
              <a:off x="1820880" y="293364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2"/>
            <p:cNvSpPr/>
            <p:nvPr/>
          </p:nvSpPr>
          <p:spPr>
            <a:xfrm>
              <a:off x="2022840" y="283824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3"/>
            <p:cNvSpPr/>
            <p:nvPr/>
          </p:nvSpPr>
          <p:spPr>
            <a:xfrm>
              <a:off x="2356200" y="225180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4"/>
            <p:cNvSpPr/>
            <p:nvPr/>
          </p:nvSpPr>
          <p:spPr>
            <a:xfrm>
              <a:off x="1990440" y="274284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"/>
            <p:cNvSpPr/>
            <p:nvPr/>
          </p:nvSpPr>
          <p:spPr>
            <a:xfrm>
              <a:off x="1865520" y="218556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"/>
            <p:cNvSpPr/>
            <p:nvPr/>
          </p:nvSpPr>
          <p:spPr>
            <a:xfrm>
              <a:off x="2316240" y="296784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7"/>
            <p:cNvSpPr/>
            <p:nvPr/>
          </p:nvSpPr>
          <p:spPr>
            <a:xfrm>
              <a:off x="2411640" y="300852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8"/>
            <p:cNvSpPr/>
            <p:nvPr/>
          </p:nvSpPr>
          <p:spPr>
            <a:xfrm>
              <a:off x="1611360" y="320472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9"/>
            <p:cNvSpPr/>
            <p:nvPr/>
          </p:nvSpPr>
          <p:spPr>
            <a:xfrm>
              <a:off x="1809360" y="29037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0"/>
            <p:cNvSpPr/>
            <p:nvPr/>
          </p:nvSpPr>
          <p:spPr>
            <a:xfrm>
              <a:off x="2567520" y="29109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1"/>
            <p:cNvSpPr/>
            <p:nvPr/>
          </p:nvSpPr>
          <p:spPr>
            <a:xfrm>
              <a:off x="2309760" y="297432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2"/>
            <p:cNvSpPr/>
            <p:nvPr/>
          </p:nvSpPr>
          <p:spPr>
            <a:xfrm>
              <a:off x="2318760" y="29631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3"/>
            <p:cNvSpPr/>
            <p:nvPr/>
          </p:nvSpPr>
          <p:spPr>
            <a:xfrm>
              <a:off x="2406240" y="30063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4"/>
            <p:cNvSpPr/>
            <p:nvPr/>
          </p:nvSpPr>
          <p:spPr>
            <a:xfrm>
              <a:off x="1759680" y="302976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5"/>
            <p:cNvSpPr/>
            <p:nvPr/>
          </p:nvSpPr>
          <p:spPr>
            <a:xfrm>
              <a:off x="1645560" y="318672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6"/>
            <p:cNvSpPr/>
            <p:nvPr/>
          </p:nvSpPr>
          <p:spPr>
            <a:xfrm>
              <a:off x="2546280" y="30733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7"/>
            <p:cNvSpPr/>
            <p:nvPr/>
          </p:nvSpPr>
          <p:spPr>
            <a:xfrm>
              <a:off x="2588760" y="321732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8"/>
            <p:cNvSpPr/>
            <p:nvPr/>
          </p:nvSpPr>
          <p:spPr>
            <a:xfrm>
              <a:off x="1627560" y="323640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9"/>
            <p:cNvSpPr/>
            <p:nvPr/>
          </p:nvSpPr>
          <p:spPr>
            <a:xfrm>
              <a:off x="1811520" y="307980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0"/>
            <p:cNvSpPr/>
            <p:nvPr/>
          </p:nvSpPr>
          <p:spPr>
            <a:xfrm>
              <a:off x="1785600" y="31269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1"/>
            <p:cNvSpPr/>
            <p:nvPr/>
          </p:nvSpPr>
          <p:spPr>
            <a:xfrm>
              <a:off x="2406960" y="31154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2"/>
            <p:cNvSpPr/>
            <p:nvPr/>
          </p:nvSpPr>
          <p:spPr>
            <a:xfrm>
              <a:off x="2432880" y="31442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3"/>
            <p:cNvSpPr/>
            <p:nvPr/>
          </p:nvSpPr>
          <p:spPr>
            <a:xfrm>
              <a:off x="2441880" y="31759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4"/>
            <p:cNvSpPr/>
            <p:nvPr/>
          </p:nvSpPr>
          <p:spPr>
            <a:xfrm>
              <a:off x="1793160" y="209376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5"/>
            <p:cNvSpPr/>
            <p:nvPr/>
          </p:nvSpPr>
          <p:spPr>
            <a:xfrm>
              <a:off x="2530080" y="210816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6"/>
            <p:cNvSpPr/>
            <p:nvPr/>
          </p:nvSpPr>
          <p:spPr>
            <a:xfrm>
              <a:off x="2481120" y="219888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7"/>
            <p:cNvSpPr/>
            <p:nvPr/>
          </p:nvSpPr>
          <p:spPr>
            <a:xfrm>
              <a:off x="2448360" y="214992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8"/>
            <p:cNvSpPr/>
            <p:nvPr/>
          </p:nvSpPr>
          <p:spPr>
            <a:xfrm>
              <a:off x="1792080" y="229572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9"/>
            <p:cNvSpPr/>
            <p:nvPr/>
          </p:nvSpPr>
          <p:spPr>
            <a:xfrm>
              <a:off x="1942920" y="2822760"/>
              <a:ext cx="448200" cy="270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50"/>
            <p:cNvSpPr/>
            <p:nvPr/>
          </p:nvSpPr>
          <p:spPr>
            <a:xfrm>
              <a:off x="2400480" y="28234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1"/>
            <p:cNvSpPr/>
            <p:nvPr/>
          </p:nvSpPr>
          <p:spPr>
            <a:xfrm>
              <a:off x="1988640" y="28285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2"/>
            <p:cNvSpPr/>
            <p:nvPr/>
          </p:nvSpPr>
          <p:spPr>
            <a:xfrm>
              <a:off x="1949760" y="29109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3"/>
            <p:cNvSpPr/>
            <p:nvPr/>
          </p:nvSpPr>
          <p:spPr>
            <a:xfrm>
              <a:off x="2322720" y="282672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4"/>
            <p:cNvSpPr/>
            <p:nvPr/>
          </p:nvSpPr>
          <p:spPr>
            <a:xfrm>
              <a:off x="2436120" y="28702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5"/>
            <p:cNvSpPr/>
            <p:nvPr/>
          </p:nvSpPr>
          <p:spPr>
            <a:xfrm>
              <a:off x="1979640" y="276228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6"/>
            <p:cNvSpPr/>
            <p:nvPr/>
          </p:nvSpPr>
          <p:spPr>
            <a:xfrm>
              <a:off x="1981440" y="273528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7"/>
            <p:cNvSpPr/>
            <p:nvPr/>
          </p:nvSpPr>
          <p:spPr>
            <a:xfrm>
              <a:off x="2366280" y="27370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8"/>
            <p:cNvSpPr/>
            <p:nvPr/>
          </p:nvSpPr>
          <p:spPr>
            <a:xfrm>
              <a:off x="2284560" y="27568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9"/>
            <p:cNvSpPr/>
            <p:nvPr/>
          </p:nvSpPr>
          <p:spPr>
            <a:xfrm>
              <a:off x="2210400" y="27558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0"/>
            <p:cNvSpPr/>
            <p:nvPr/>
          </p:nvSpPr>
          <p:spPr>
            <a:xfrm>
              <a:off x="2124720" y="275328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1"/>
            <p:cNvSpPr/>
            <p:nvPr/>
          </p:nvSpPr>
          <p:spPr>
            <a:xfrm>
              <a:off x="2050560" y="27576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2"/>
            <p:cNvSpPr/>
            <p:nvPr/>
          </p:nvSpPr>
          <p:spPr>
            <a:xfrm>
              <a:off x="2267280" y="222408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3"/>
            <p:cNvSpPr/>
            <p:nvPr/>
          </p:nvSpPr>
          <p:spPr>
            <a:xfrm>
              <a:off x="1872000" y="2402640"/>
              <a:ext cx="114480" cy="31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4"/>
            <p:cNvSpPr/>
            <p:nvPr/>
          </p:nvSpPr>
          <p:spPr>
            <a:xfrm>
              <a:off x="1984680" y="266868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65"/>
            <p:cNvSpPr/>
            <p:nvPr/>
          </p:nvSpPr>
          <p:spPr>
            <a:xfrm>
              <a:off x="2365560" y="2208600"/>
              <a:ext cx="84600" cy="4834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6"/>
            <p:cNvSpPr/>
            <p:nvPr/>
          </p:nvSpPr>
          <p:spPr>
            <a:xfrm>
              <a:off x="1601640" y="31953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7"/>
            <p:cNvSpPr/>
            <p:nvPr/>
          </p:nvSpPr>
          <p:spPr>
            <a:xfrm>
              <a:off x="1871280" y="220428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8"/>
            <p:cNvSpPr/>
            <p:nvPr/>
          </p:nvSpPr>
          <p:spPr>
            <a:xfrm>
              <a:off x="1908000" y="224676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9"/>
            <p:cNvSpPr/>
            <p:nvPr/>
          </p:nvSpPr>
          <p:spPr>
            <a:xfrm>
              <a:off x="1803600" y="29548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Box 1"/>
          <p:cNvSpPr/>
          <p:nvPr/>
        </p:nvSpPr>
        <p:spPr>
          <a:xfrm>
            <a:off x="806400" y="1273320"/>
            <a:ext cx="83808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6478560" y="2070000"/>
            <a:ext cx="1751040" cy="1287720"/>
          </a:xfrm>
          <a:prstGeom prst="rect">
            <a:avLst/>
          </a:prstGeom>
          <a:ln w="0">
            <a:noFill/>
          </a:ln>
        </p:spPr>
      </p:pic>
      <p:cxnSp>
        <p:nvCxnSpPr>
          <p:cNvPr id="348" name="Straight Arrow Connector 86"/>
          <p:cNvCxnSpPr/>
          <p:nvPr/>
        </p:nvCxnSpPr>
        <p:spPr>
          <a:xfrm>
            <a:off x="2870280" y="229500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349" name="Straight Arrow Connector 87"/>
          <p:cNvCxnSpPr/>
          <p:nvPr/>
        </p:nvCxnSpPr>
        <p:spPr>
          <a:xfrm>
            <a:off x="2876400" y="25538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350" name="Straight Arrow Connector 88"/>
          <p:cNvCxnSpPr/>
          <p:nvPr/>
        </p:nvCxnSpPr>
        <p:spPr>
          <a:xfrm>
            <a:off x="2862360" y="28159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351" name="Straight Arrow Connector 89"/>
          <p:cNvCxnSpPr/>
          <p:nvPr/>
        </p:nvCxnSpPr>
        <p:spPr>
          <a:xfrm>
            <a:off x="2862360" y="307944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352" name="TextBox 80"/>
          <p:cNvSpPr/>
          <p:nvPr/>
        </p:nvSpPr>
        <p:spPr>
          <a:xfrm rot="5400000">
            <a:off x="236520" y="2173320"/>
            <a:ext cx="185868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ubtitle 4"/>
          <p:cNvSpPr/>
          <p:nvPr/>
        </p:nvSpPr>
        <p:spPr>
          <a:xfrm>
            <a:off x="309600" y="3511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a quantum computer repeatedly and quickly passes the Linear XEB test, then under a suitable complexity assumption, we show that its responses must contain lots of entropy; they can’t b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ubtitle 4"/>
          <p:cNvSpPr/>
          <p:nvPr/>
        </p:nvSpPr>
        <p:spPr>
          <a:xfrm>
            <a:off x="309600" y="5410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s to a scheme to produce public verifiably-random bits using existing QCs—useful for, e.g., proof-of-stake cryptocurrenci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2"/>
          <p:cNvSpPr/>
          <p:nvPr/>
        </p:nvSpPr>
        <p:spPr>
          <a:xfrm>
            <a:off x="419040" y="28404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win Tang’s Breakthrough (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99960" y="1054080"/>
            <a:ext cx="683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Ewin was a junior in my Intro to Quantum Information Science undergrad course at 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390600" y="2120760"/>
            <a:ext cx="839628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For her senior thesis, she “de-quantized” the main example we’d had of a quantum algorithm thought to get exponential speedup for a real-world machine learning problem: the Kerenidis-Prakash algorithm for recommending products in Netflix-lik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I.e., gave a classical randomized algorithm that was only polynomially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390600" y="531972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was the opposite of what we and others expected, and underscores the need for careful theoretical study of quantum speed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Image result for ewin tang"/>
          <p:cNvPicPr/>
          <p:nvPr/>
        </p:nvPicPr>
        <p:blipFill>
          <a:blip r:embed="rId1"/>
          <a:stretch/>
        </p:blipFill>
        <p:spPr>
          <a:xfrm>
            <a:off x="8001000" y="1008000"/>
            <a:ext cx="1143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 Aaronson</cp:lastModifiedBy>
  <dcterms:modified xsi:type="dcterms:W3CDTF">2020-11-13T00:11:10Z</dcterms:modified>
  <cp:revision>311</cp:revision>
  <dc:subject/>
  <dc:title>The Future of Computer Science</dc:title>
</cp:coreProperties>
</file>